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B6AFA-26BF-467F-BF1B-E9EF0477F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E57E-ADC6-4276-9A66-A128672A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03BDD-BF2E-4BA1-90A4-9EEA85D95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0890A-E093-4BC2-BFE6-F8C515CC3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23A93-ECB0-4044-97C7-B4240CA9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85FA-88A9-4348-8D78-5DBC5636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F28C8-E3AA-4A2B-A131-29711E99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432D6-B860-46A6-956B-538EF032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2A394-8D32-4DE2-8A62-691A536B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DF917-638C-4158-9016-E80D0A195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A485E-CB7F-46F4-AAA3-DD567FBCF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5770-BF80-49A8-9DDA-A464B6BFF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7E09-96C2-4C48-A01F-59EB1171DD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1000"/>
            <a:ext cx="77724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000000"/>
                </a:solidFill>
                <a:latin typeface="Arial"/>
              </a:rPr>
              <a:t>Retos para el crecimiento de la economía peruana en el 2017</a:t>
            </a:r>
            <a:endParaRPr b="0" lang="en-US" sz="3600" spc="-1" strike="noStrike">
              <a:solidFill>
                <a:srgbClr val="000000"/>
              </a:solidFill>
              <a:latin typeface="Arial"/>
            </a:endParaRPr>
          </a:p>
        </p:txBody>
      </p:sp>
      <p:sp>
        <p:nvSpPr>
          <p:cNvPr id="42" name="PlaceHolder 2"/>
          <p:cNvSpPr>
            <a:spLocks noGrp="1"/>
          </p:cNvSpPr>
          <p:nvPr>
            <p:ph type="subTitle"/>
          </p:nvPr>
        </p:nvSpPr>
        <p:spPr>
          <a:xfrm>
            <a:off x="899640" y="4221000"/>
            <a:ext cx="7201080" cy="14176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Martín Taype Molin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Máster en Administración de Negocios – MB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Especialización en Dirección de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interno</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宋体"/>
              </a:rPr>
              <a:t>   </a:t>
            </a:r>
            <a:r>
              <a:rPr b="0" lang="es-ES" sz="2800" spc="-1" strike="noStrike">
                <a:solidFill>
                  <a:srgbClr val="000000"/>
                </a:solidFill>
                <a:latin typeface="Arial"/>
                <a:ea typeface="宋体"/>
              </a:rPr>
              <a:t>Un cambio en el accionar del Poder Judicial es clave, t</a:t>
            </a:r>
            <a:r>
              <a:rPr b="0" lang="es-PE" sz="2800" spc="-1" strike="noStrike">
                <a:solidFill>
                  <a:srgbClr val="000000"/>
                </a:solidFill>
                <a:latin typeface="Arial"/>
                <a:ea typeface="宋体"/>
              </a:rPr>
              <a:t>ambién debemos desterrar los planteamientos de pretender limitar o restringir el uso de armas a la población civil para disminuir los actos delincuenciales, porque además de inconstitucionales estos planteamientos están completamente equivocados, dado que los delincuentes se abastecen de armas del mercado negro, por lo que tal medida solo perjudicaría a los ciudadanos honestos que desean ejercer sus derechos constitucionales como el de la legítima defensa, obteniendo legalmente sus licencias para portar y usar armas de fuego.</a:t>
            </a:r>
            <a:r>
              <a:rPr b="0" lang="es-E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    </a:t>
            </a:r>
            <a:r>
              <a:rPr b="0" lang="es-PE" sz="2800" spc="-1" strike="noStrike">
                <a:solidFill>
                  <a:srgbClr val="000000"/>
                </a:solidFill>
                <a:latin typeface="Arial"/>
              </a:rPr>
              <a:t>Por lo expuesto, considero que las proyecciones de crecimiento de nuestra economía basados en algunos datos positivos de crecimiento de la demanda interna de los últimos meses del 2016 y expectativas de inversiones para el 2017, me parecen demasiado optimistas como para afirmar que  en el 2017 la economía peruana crecerá un 3.8% con respecto al PBI, siendo el pronóstico incierto debido a los factores externos e internos que influyen en nuestra econom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4924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    </a:t>
            </a:r>
            <a:r>
              <a:rPr b="0" lang="es-PE" sz="2800" spc="-1" strike="noStrike">
                <a:solidFill>
                  <a:srgbClr val="000000"/>
                </a:solidFill>
                <a:latin typeface="Arial"/>
              </a:rPr>
              <a:t>Es muy común en los ambientes académicos y políticos de un país hacer proyecciones de crecimiento de su economía para cada nuevo año, siendo éstas proyecciones más debatidas en los meses finales de cada año. El Perú no es la excepción, pero considero que se debe tener una proyección más prudente con respecto a las cifras del crecimiento de la economía peruana debido a la influencia de factores externos e internos. Como es de público conocimiento el Gobierno peruano ha proyectado un crecimiento de un 3.8% con respecto al PBI, para el 2017, cifra muy difícil de  cumpl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económico externo</a:t>
            </a:r>
            <a:endParaRPr b="0" lang="en-US" sz="4400" spc="-1" strike="noStrike">
              <a:solidFill>
                <a:srgbClr val="000000"/>
              </a:solidFill>
              <a:latin typeface="Arial"/>
            </a:endParaRPr>
          </a:p>
        </p:txBody>
      </p:sp>
      <p:sp>
        <p:nvSpPr>
          <p:cNvPr id="45" name="PlaceHolder 2"/>
          <p:cNvSpPr>
            <a:spLocks noGrp="1"/>
          </p:cNvSpPr>
          <p:nvPr>
            <p:ph/>
          </p:nvPr>
        </p:nvSpPr>
        <p:spPr>
          <a:xfrm>
            <a:off x="457200" y="1844280"/>
            <a:ext cx="8229600" cy="4753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    </a:t>
            </a:r>
            <a:r>
              <a:rPr b="0" lang="es-PE" sz="2800" spc="-1" strike="noStrike">
                <a:solidFill>
                  <a:srgbClr val="000000"/>
                </a:solidFill>
                <a:latin typeface="Arial"/>
              </a:rPr>
              <a:t>En el factor económico externo, la economía de la zona Euro - que genera casi un 20% de la producción mundial – no da muestras claras aún del inicio de una recuperación sostenible, por otro lado la economía de EE.UU si bien presenta algunos signos de recuperación las políticas proteccionistas de su actual presidente Donald Trump son preocupantes por lo que  todavía no hay señales claras de que la recuperación sea real y sostenible en el tiempo. En cuanto a la economía de China se estima un crecimiento de 6.5% anual, a diferencia de los porcentajes superiores alcanzados en los últimos añ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geopolítico externo</a:t>
            </a:r>
            <a:endParaRPr b="0" lang="en-US" sz="4400" spc="-1" strike="noStrike">
              <a:solidFill>
                <a:srgbClr val="000000"/>
              </a:solidFill>
              <a:latin typeface="Arial"/>
            </a:endParaRPr>
          </a:p>
        </p:txBody>
      </p:sp>
      <p:sp>
        <p:nvSpPr>
          <p:cNvPr id="47" name="PlaceHolder 2"/>
          <p:cNvSpPr>
            <a:spLocks noGrp="1"/>
          </p:cNvSpPr>
          <p:nvPr>
            <p:ph/>
          </p:nvPr>
        </p:nvSpPr>
        <p:spPr>
          <a:xfrm>
            <a:off x="457200" y="1844280"/>
            <a:ext cx="8229600" cy="47530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    </a:t>
            </a:r>
            <a:r>
              <a:rPr b="0" lang="es-PE" sz="2800" spc="-1" strike="noStrike">
                <a:solidFill>
                  <a:srgbClr val="000000"/>
                </a:solidFill>
                <a:latin typeface="Arial"/>
              </a:rPr>
              <a:t>En el plano geopolítico externo el panorama se ha aclarado en el 2016 hay definitivamente una  nueva guerra fría entre EE.UU y las potencias occidentales frente a China y Rusia por desacuerdos en diversos temas como la firme oposición de Rusia y China al despliegue del escudo antimisiles de EE.UU en Europa y Asia, así como el firme respaldo ruso y chino a Siria e Irán en el Medio Oriente, que ha permitido frenar el avance del Daesh en la región y el fortalecimiento militar de estos paí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geopolítico externo</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   </a:t>
            </a:r>
            <a:r>
              <a:rPr b="0" lang="es-PE" sz="2800" spc="-1" strike="noStrike">
                <a:solidFill>
                  <a:srgbClr val="000000"/>
                </a:solidFill>
                <a:latin typeface="Arial"/>
              </a:rPr>
              <a:t>Y también ha servido para mantener el equilibrio estratégico frente a Israel y los estados árabes sunnitas del golfo alineados a Occidente, como lo es en América Latina el apoyo ruso y chino al eje Cuba – Venezuela para mantener presencia en la región e incrementar su influencia comercial y militar, lo mismo sucede en el África donde la presencia e influencia rusa y china es cada vez más fir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geopolítico extern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   </a:t>
            </a:r>
            <a:r>
              <a:rPr b="0" lang="es-PE" sz="2800" spc="-1" strike="noStrike">
                <a:solidFill>
                  <a:srgbClr val="000000"/>
                </a:solidFill>
                <a:latin typeface="Arial"/>
              </a:rPr>
              <a:t>En el extremo oriente el apoyo chino a Corea del Norte y ruso a Vietnam es vital en el diferendo territorial entre China y Japón y la permanente tensión en la península coreana, sumado esto a otros temas de tensión como las acusaciones mutuas de ciberataques entre EE.UU y las potencias occidentales y Rusia y China, entre otros, hacen que el riesgo de una confrontación militar de escalas globales no este del todo descartado y se mantenga la tensión en la Comunidad intern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intern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    </a:t>
            </a:r>
            <a:r>
              <a:rPr b="0" lang="es-PE" sz="2800" spc="-1" strike="noStrike">
                <a:solidFill>
                  <a:srgbClr val="000000"/>
                </a:solidFill>
                <a:latin typeface="Arial"/>
              </a:rPr>
              <a:t>En el factor interno, si bien los fundamentos macroeconómicos son sólidos, los elementos que afectan la demanda interna como son las expectativas con respecto a variables como el tipo de cambio, política monetaria, inflación,  creciente inseguridad ciudadana, denuncias de corrupción en diversos sectores y niveles del Estado, conflictos sociales, entre otros, pueden influir negativamente en los inversionistas tanto locales como extranje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intern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corrupción es uno de los grandes lastres que impiden que una sociedad prospere y se desarrolle, y es deber del Estado el combatirla frontalmente y sancionarla, contando con la participación activa de la prensa y la ciudadanía denunciando los casos de corrupción, a fin de que se aplique la Le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mentablemente la corrupción ha existido y existe en todos los sectores y niveles de nuestra sociedad, sea en el ámbito privado como en el sector público. Ello afecta la credibilidad de los ciudadanos sobre empresas privadas e instituciones públicas, donde se han detectado casos de corrup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Factor interno</a:t>
            </a:r>
            <a:endParaRPr b="0" lang="en-US" sz="4400" spc="-1" strike="noStrike">
              <a:solidFill>
                <a:srgbClr val="000000"/>
              </a:solidFill>
              <a:latin typeface="Arial"/>
            </a:endParaRPr>
          </a:p>
        </p:txBody>
      </p:sp>
      <p:sp>
        <p:nvSpPr>
          <p:cNvPr id="57" name="PlaceHolder 2"/>
          <p:cNvSpPr>
            <a:spLocks noGrp="1"/>
          </p:cNvSpPr>
          <p:nvPr>
            <p:ph/>
          </p:nvPr>
        </p:nvSpPr>
        <p:spPr>
          <a:xfrm>
            <a:off x="468360" y="1341360"/>
            <a:ext cx="8229600" cy="5832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宋体"/>
              </a:rPr>
              <a:t>    </a:t>
            </a:r>
            <a:r>
              <a:rPr b="0" lang="es-ES" sz="2800" spc="-1" strike="noStrike">
                <a:solidFill>
                  <a:srgbClr val="000000"/>
                </a:solidFill>
                <a:latin typeface="Arial"/>
                <a:ea typeface="宋体"/>
              </a:rPr>
              <a:t>En cuanto a la inseguridad ciudadana, </a:t>
            </a:r>
            <a:r>
              <a:rPr b="0" lang="es-PE" sz="2800" spc="-1" strike="noStrike">
                <a:solidFill>
                  <a:srgbClr val="000000"/>
                </a:solidFill>
                <a:latin typeface="Arial"/>
                <a:ea typeface="宋体"/>
              </a:rPr>
              <a:t>debemos entender que la lucha contra la inseguridad ciudadana parte por enfrentar a la corrupción y contar con la participación activa de la población organizada como apoyo a la Policía Nacional, el fortalecimiento del Serenazgo Municipal y la inversión en tecnologías de punta para vigilar las 24 horas del día las calles</a:t>
            </a:r>
            <a:r>
              <a:rPr b="0" lang="es-ES" sz="2800" spc="-1" strike="noStrike">
                <a:solidFill>
                  <a:srgbClr val="000000"/>
                </a:solidFill>
                <a:latin typeface="Arial"/>
                <a:ea typeface="宋体"/>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    </a:t>
            </a:r>
            <a:r>
              <a:rPr b="0" lang="es-PE" sz="2800" spc="-1" strike="noStrike">
                <a:solidFill>
                  <a:srgbClr val="000000"/>
                </a:solidFill>
                <a:latin typeface="Arial"/>
              </a:rPr>
              <a:t>Asimismo, se debe combatir los casos de informalidad del servicio de vigilancia privada, combatir los focos de informalidad  y corrupción en la adquisición ó provisión de armas de fuego a los delincuentes y establecer mecanismos para contar con un poder judicial justo en los casos de actos delincu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30T02:50:23Z</dcterms:created>
  <dc:creator>MARTIN TAYPE</dc:creator>
  <dc:description/>
  <dc:language>en-US</dc:language>
  <cp:lastModifiedBy>Martin</cp:lastModifiedBy>
  <dcterms:modified xsi:type="dcterms:W3CDTF">2017-03-13T00:53:15Z</dcterms:modified>
  <cp:revision>28</cp:revision>
  <dc:subject/>
  <dc:title>Retos para el crecimiento de la economía peruana en el 2017</dc:title>
</cp:coreProperties>
</file>