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44440" y="8932680"/>
            <a:ext cx="3170520" cy="479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F33AB1-339A-445B-A0FF-76CDF924B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E0A33D-44F7-440A-ABCE-C5ECBDD2C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C1FB8D-764B-4754-95A2-A44DDB3E8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C06D9C-C7AB-4BAD-BE7A-59897E882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580491-533E-4BCC-9FC5-72D99A53F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839981-4068-4F35-A523-EB6DC9974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FD795A-27D9-4DD8-82DC-D54558A6A0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2BE34E-90F4-4EC9-8A3A-826ADCF946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10A096-9F53-46B7-ACF6-45A8EB30A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5FC461-EA9E-42E4-901C-5E60BD7F1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E6D1F8-B18D-4FEB-8C0D-3834B1547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C34FB5-1773-4FD3-B222-3CCC0C758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CBDC5C-F641-41DD-BC6A-56D5C37777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4971FF-823C-49FA-818F-8CCE17AE0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13D1EE-16FA-4D8D-A9DE-5D5B15A13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C1DC63-6891-458C-A9A3-9AA6A4C88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BCFE95-E017-44ED-8A2F-CA75BB138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F35251-B80C-4418-A619-7FECAF802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FB3E54-612F-404B-A6A5-557A31FF0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186296-DA04-4001-9CF4-1F9BB4B64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83A1A1-642A-40E7-8817-24F2881E01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2761B4-6F71-4A86-AF38-75E09B26B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AC5E47-42E1-4D1A-8CDF-AB0526B82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0ED361-886D-437C-956C-DE929821F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217C3C-ABB2-43B7-B61F-B6F386E1A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52947A-590D-4C72-8C8E-2BA8B0D576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CC1AF0-C8AE-433C-9DBE-06A5D66FFF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522A5E-3F9B-45FC-B9BA-B04989942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94E947-19B7-4B1D-B547-7025738FA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6D03A0-9898-4AEB-8607-412B94241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DE6CBB-3CE1-481E-8A02-FAE64EABC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56C295-5458-4D2B-87CA-06969E8D33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92F5B3-883E-4862-8355-7D32CA1687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4F0628-4871-4266-9C60-0DDA3A16C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B1F4C0-3E42-4D35-B21D-41F900AB5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150EC7-1777-4296-B429-D72357B888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235080" y="8933040"/>
            <a:ext cx="3170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mánti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4800" y="8933040"/>
            <a:ext cx="3170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AB1BBC-E635-4E49-80DF-17D76EB77D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D2B11-34D9-44FE-BFE5-E884EB3F6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6A12D-112E-468F-889F-049143724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70BD-89B2-47B9-A8D2-600886A3A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30F20-C7B8-41C5-820F-404898CB54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DDA6-31D5-4772-AE11-3D242F6536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D4109-19C0-431F-BD4F-9F15BAD4D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4AE8-07D0-42E5-8105-4CC9D8AE4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62E4F-07A8-4D3D-B135-80CB2E043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08E86-F801-4D86-8DFE-D72CA21C2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E6178-AE41-4A41-BD02-431B51079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F85A4-A661-4196-8C4A-555DD16B9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E69A6-F19A-4768-AADD-E400749D6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AF65-1B6D-402A-ACC0-E18991DA2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gnificado, Pensamiento y Realidad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 pregunta centra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ómo es que podemos usar una lengua para describir el mun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ferencia: expresiones referencial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unas expresiones tienen la posibilidad de usarse para referir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ejemplos más claros son los sustantivos y pronomb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ras expresiones nunca se usan para referir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s: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 tan, muy, posiblemente, si, no, to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ferencia: expresiones referencial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El perro salió corrien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El perro es un animal que se ha adaptado a vivir con las person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4419720" y="1676520"/>
            <a:ext cx="2666880" cy="914400"/>
          </a:xfrm>
          <a:prstGeom prst="wedgeRectCallout">
            <a:avLst>
              <a:gd name="adj1" fmla="val -119287"/>
              <a:gd name="adj2" fmla="val 116319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fiere a un perr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4114800" y="5410080"/>
            <a:ext cx="4495680" cy="914400"/>
          </a:xfrm>
          <a:prstGeom prst="wedgeRectCallout">
            <a:avLst>
              <a:gd name="adj1" fmla="val -88101"/>
              <a:gd name="adj2" fmla="val -157638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 refiere a un perro particular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ne una interpretación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éri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ferencia: expresiones referencial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las expresiones que son de la clase de “expresiones referenciales” (como sustantivos), en algunos casos se refier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El perro salió corrien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 en otros casos, n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El perro es un animal que se ha adaptado a vivir con las person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ferencia constante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y referencia variabl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nte: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El Museo del Prado, La Casa Rosada, El Mar Pací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ble : 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yo, tú, ella, mi ofic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el término “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deixi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 es relevante aquí; los términos déicticos dependen totalmente en el contexto para su interpreta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s menos extremos de referencia variable: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 rey de España, el presidente del Perú, el director del cu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eixi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 expresión “cuyo referente sólo se puede determinar en relación a los interlocutores”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0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Ducrot 1972: 323 &lt; Baylon y Fabre 1994: 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ferencia y extension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Referen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el objeto a que se refiere una expresió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n cierto contex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capital del Ecuador          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Qu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presidente de México         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Vicen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pizarrón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el pizarrón a que me estoy refirie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Extensió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el juego de objetos que posiblemente podrían ser los referentes de la expre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pizarrón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odos los pizarr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876920" y="3200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5181480" y="3657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200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8"/>
          <p:cNvSpPr/>
          <p:nvPr/>
        </p:nvSpPr>
        <p:spPr>
          <a:xfrm>
            <a:off x="3200400" y="609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Nombr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 nombres son etiquetas para personas, lugares, etc., y muchas veces parecen tener poco sentido más que 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y necesidad de algo de contexto, de todos modos (conocimiento de la persona, p.ej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eorías de los nombr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eoría descripcion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Russell, Frege, Searle):  un nombre es una etiqueta para conocimiento acerca del refer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eoría caus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evit y Sterelny, Kripke, Donnellan):  los nombres se heredan, o son prestados; entonces los usuarios del nombre forman un tipo de cadena que lleva a uno a su ba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gl.: “grounding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ustantivos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y Sintagmas/Frase Nominales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N determinantes (o definidos) y no determinantes (o no definidos) pueden usarse para referirse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blé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una profesor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cerca de este mater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blé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la profesor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cerca de este mater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ustantivos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y Sintagmas/Frase Nominales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N determinantes que pueden variar en su refer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an siempre se pone de acuerdo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 alcal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os donde no hay un referente (ejemplo famoso de Bertrand Russell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 rey de Españ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s calv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ferirse” y “Denotar”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ABR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como [</a:t>
            </a:r>
            <a:r>
              <a:rPr b="0" lang="en-US" sz="3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en-US" sz="3000" spc="-1" strike="noStrike">
                <a:solidFill>
                  <a:srgbClr val="000000"/>
                </a:solidFill>
                <a:latin typeface="SILDoulos IPA93"/>
                <a:ea typeface="SILDoulos IPA93"/>
              </a:rPr>
              <a:t>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]) se relaciona con un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n el mund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personas usan una palabra para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eferir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una co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palabras en sí directament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enot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a clase de cosa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ustantivos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y Sintagmas/Frase Nominales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 SN pueden referirse a los individuos en form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istributiv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lectiv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Los estudian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frutaron el fin de semana con sus familias (cada uno con la suy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Los estudian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alieron a comer (juntos)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ustantivos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y Sintagmas/Frase Nominales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 SN pueden referirse 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as 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arí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stancia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af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ione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ormi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al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s abstracta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justic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unos tienen propiedades especiales (los con “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uantificado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):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ningún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perro,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todos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los perros,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algunos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perros,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todo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perro,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cada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per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AB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TO en la re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439360" y="2818440"/>
            <a:ext cx="1832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sentid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43400" y="2513520"/>
            <a:ext cx="4267080" cy="146556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Representación Mental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438280" y="1676520"/>
            <a:ext cx="1676520" cy="7617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 flipH="1">
            <a:off x="2286000" y="4038480"/>
            <a:ext cx="2362320" cy="1295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o ¿cómo son las representaciones menta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Imágenes?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ultad:  las imágenes que tendría cada hablante serían diferentes, a causa de su exper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ultad:  ¿cómo sería la imagen de un “triángulo” que serviría para todos los tipos de triángul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oncept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ultad:  ¿cuáles son los aspectos de los concep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cepto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unos conceptos son descritos por una frase: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una clase de chocolate que no engor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ros conceptos corresponden a una sola palabra — son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lexicaliz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un aparato que cocina la comida mediante usando las microond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se lexicalizó como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horno microond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y luego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microon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exicalizació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 vez más comúnmente uno tiene la idea de que tiene que ser una (sola) palabra si se ha lexicalizado, pero de hecho hay muchas expresiones que son lexicalizadas también, a varios grad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añol:  “pez espada”, “casa de cambio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glés:  “vacuum cleaner”  (aspirado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i:  “ziix xepe iti quiih”  (norteamericano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cosa que está en/sobre el mar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quisición de concepto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 conceptos se adqui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, todos adultos no comparten exactamente el mismo concep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proceso de adquisición muestra que a veces, sobre todo en el habla de un niño durante un período, s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bre-extien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n concepto (“gato” = gato, conejo, etc.) y a veces s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ub-extien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“perro” = el perro de la familia y no de otr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escripción de concepto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 manera:  utilizar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diciones necesarias y sufic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es una mujer si y solamente si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 una lista de atributos,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 adu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 hemb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ún esta perspectiva, los conceptos son listas de pedacitos de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 problema:  ¿cuál(es) de estos atributos es/son necesario(s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cebra”</a:t>
            </a: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   animal, cuatro patas, rayado,</a:t>
            </a:r>
            <a:br>
              <a:rPr sz="2600"/>
            </a:b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 herbívoro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¿Es una cebra si nace sin rayas, o con tres patas?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ro problema:  muchas veces los hablantes usan palabras sin saber mucho de sus referentes (“</a:t>
            </a: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cocodril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uerde la teoría causal de los nombres, que reconoce la ignorancia de los hablantes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ototipo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una propuesta diferente de las defin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 lugar de una definición, hay miembros centrales o típicos de una categoría </a:t>
            </a:r>
            <a:r>
              <a:rPr b="1" lang="en-US" sz="3000" spc="-1" strike="noStrike">
                <a:solidFill>
                  <a:srgbClr val="009900"/>
                </a:solidFill>
                <a:latin typeface="Arial"/>
              </a:rPr>
              <a:t>(prototípicos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y miembros menos central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prototipo 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 abstracción (según ciertas propuest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ejemplo (según otras propuest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enotació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algo es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eferenc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algo que cambia d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mento a mo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edo ver una nube.”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be”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e refie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cierta cosa en el mundo (puede cambiarse de momento a moment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be”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enot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a clase de ob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ocimiento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ha postulado que hay una distinción ent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ocimiento lingüístico/semántico (</a:t>
            </a: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diccionari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ocimiento general / no lingüístico (</a:t>
            </a:r>
            <a:r>
              <a:rPr b="0" lang="en-US" sz="3000" spc="-1" strike="noStrike">
                <a:solidFill>
                  <a:srgbClr val="009900"/>
                </a:solidFill>
                <a:latin typeface="Arial"/>
              </a:rPr>
              <a:t>enciclopédi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un punto sobre el cual ha habido mucha discusión importa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laciones entre concepto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conocimiento conceptual es relacional:  se organizan los conceptos y hay atributos que “se heredan” del gru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lm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v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2362320" y="3886200"/>
            <a:ext cx="2590560" cy="1371600"/>
          </a:xfrm>
          <a:prstGeom prst="downArrowCallout">
            <a:avLst>
              <a:gd name="adj1" fmla="val 47222"/>
              <a:gd name="adj2" fmla="val 47218"/>
              <a:gd name="adj3" fmla="val 16667"/>
              <a:gd name="adj4" fmla="val 6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514600" y="3870000"/>
            <a:ext cx="31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ne agall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ne ale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ve en el a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Niveles que se han propuesto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breordin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E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Bás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L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es un tipo de mue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ordin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LLÓ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es un tipo de sil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todas las lenguas utilizan los mismos conceptos sobreordin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i   </a:t>
            </a:r>
            <a:r>
              <a:rPr b="0" i="1" lang="en-US" sz="2200" spc="-1" strike="noStrike">
                <a:solidFill>
                  <a:srgbClr val="009900"/>
                </a:solidFill>
                <a:latin typeface="Arial"/>
              </a:rPr>
              <a:t>ha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‘agua dulce’   </a:t>
            </a:r>
            <a:r>
              <a:rPr b="0" i="1" lang="en-US" sz="2200" spc="-1" strike="noStrike">
                <a:solidFill>
                  <a:srgbClr val="009900"/>
                </a:solidFill>
                <a:latin typeface="Arial"/>
              </a:rPr>
              <a:t>xep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‘mar, agua salada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hay término que incluya los dos tipos de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i    </a:t>
            </a:r>
            <a:r>
              <a:rPr b="0" i="1" lang="en-US" sz="2200" spc="-1" strike="noStrike">
                <a:solidFill>
                  <a:srgbClr val="009900"/>
                </a:solidFill>
                <a:latin typeface="Arial"/>
              </a:rPr>
              <a:t>mojép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saguaro’  </a:t>
            </a:r>
            <a:r>
              <a:rPr b="0" i="1" lang="en-US" sz="2200" spc="-1" strike="noStrike">
                <a:solidFill>
                  <a:srgbClr val="009900"/>
                </a:solidFill>
                <a:latin typeface="Arial"/>
              </a:rPr>
              <a:t>xaasj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‘cardón’  </a:t>
            </a:r>
            <a:r>
              <a:rPr b="0" i="1" lang="en-US" sz="2200" spc="-1" strike="noStrike">
                <a:solidFill>
                  <a:srgbClr val="009900"/>
                </a:solidFill>
                <a:latin typeface="Arial"/>
              </a:rPr>
              <a:t>sim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biznaga’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200" spc="-1" strike="noStrike">
                <a:solidFill>
                  <a:srgbClr val="009900"/>
                </a:solidFill>
                <a:latin typeface="Arial"/>
              </a:rPr>
              <a:t>tootjöc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cholla’  </a:t>
            </a:r>
            <a:r>
              <a:rPr b="0" i="1" lang="en-US" sz="2200" spc="-1" strike="noStrike">
                <a:solidFill>
                  <a:srgbClr val="009900"/>
                </a:solidFill>
                <a:latin typeface="Arial"/>
              </a:rPr>
              <a:t>oo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pitaya dulce’  </a:t>
            </a:r>
            <a:r>
              <a:rPr b="0" i="1" lang="en-US" sz="2200" spc="-1" strike="noStrike">
                <a:solidFill>
                  <a:srgbClr val="009900"/>
                </a:solidFill>
                <a:latin typeface="Arial"/>
              </a:rPr>
              <a:t>xasáacoj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sina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hay término para ‘cacto en genera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ri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hay término general para araña, para insecto, para árbol, para color, etc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relación entre Palabras y Pensamiento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s posiciones opuest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 Relatividad lingüís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 Lenguaje de pensami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latividad Lingüística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as, Sapir, Whorf, etc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lengu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etermin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l pens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manera en que pensamos acerca del mundo e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eterminad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r nuestro transfondo cultural y lingüís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mundos en que viven las distintas sociedades son mundos distintos, no meramente el mismo con etiquetas diferentes...”  (Sapir 194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85800" y="571500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yons 1981:445 — En general se está de acuerdo en que el determinismo lingüístico, entendido de esta manera rigurosa, no es una hipótesis sostenibl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enguaje de Pensamiento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rechaza la relatividad lingüís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 Hay evidencia de pensamiento sin palab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 La lengua subespecifica el significad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umento: el significado es mucho más de lo que 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ifica con palabras; entonces la lengua misma no puede estar determinando todo pensamiento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os puntos de vista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orías semánticas referen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orías semánticas represent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eorías semánticas referencial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usar palabras para relacionarse con el mund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ignifi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onces, para proveer una descripción semántica de una lengua es necesario mostrar cómo las expresiones de la lengua se relacionan con el mu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 clave:  cómo se relacionan las palabras con las situ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eorías semánticas representacional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habilidad de hablar acerca del mundo depende de nuestro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odelos mental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erca de é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énfasis de estas teorías es la manera en que nuestras expresiones son influenciadas por las estructuras conceptuales convencionalizados de las lengu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 las 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teorías referencia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el significado se deriva del hecho de que la lengua está conectada a la real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 las 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teorías representaciona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el significado se deriva del hecho de que la lengua refleja nuestras estructuras conceptu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teoría referenci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la semántic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ferencia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unas palabras no son referenciales: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“ta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unas expresiones no tienen referentes rea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rcera Guerra Mundi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está por empe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ye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una siren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me habl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y de Canadá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salió de vacaciones 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09480" y="5029200"/>
            <a:ext cx="762012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un hablante que usa estas expresiones no se refi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nada que existe en la realidad, y si tal referencia 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do, ¿cómo es que estas oraciones tienen 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 posible solución (Frege):  hacer una distinción entr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entid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alemán “Sinn”, ingl. “sense”) y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eferenc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presidente de México” tiene un sentido, pero los referentes pueden cambi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ente F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los Salinas de Gort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is Echever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ázaro Cárd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0:35:52Z</dcterms:created>
  <dc:creator>Pablo Turmero</dc:creator>
  <dc:description/>
  <dc:language>en-US</dc:language>
  <cp:lastModifiedBy>Pablo Turmero</cp:lastModifiedBy>
  <cp:lastPrinted>2003-07-12T19:28:37Z</cp:lastPrinted>
  <dcterms:modified xsi:type="dcterms:W3CDTF">2017-05-07T15:44:21Z</dcterms:modified>
  <cp:revision>127</cp:revision>
  <dc:subject/>
  <dc:title>Significado, Pensamiento y Realidad</dc:title>
</cp:coreProperties>
</file>