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6.png" ContentType="image/png"/>
  <Override PartName="/ppt/media/image15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DB47-2B4D-4788-8168-7F2A8187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0749-FCE2-44A5-85CA-611187CF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7BD80-667D-4A78-A14C-E7BDEC5F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BA261-80CE-4C2B-81D1-7335008A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86A5C-AE98-4F1C-9F47-291BDFD4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F0AAA-C165-4379-B415-B5D68EC7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1ADC9-7793-44E5-A837-24E132AE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E8FC3-A28B-4C68-8465-2673F8A6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498FA-2C82-47A5-A507-60D7570E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2F51A-6F5B-4A1E-AF6B-A3C2ECDC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B0625-785E-4E57-9E11-0BC3554E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C8142-2D08-4B27-9E73-61EFF7B3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546-09BE-48BE-9D6C-C0940648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1F5EC-3C2A-471E-AB33-0B1C2733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2D7D4-E6E0-418A-9A90-A8E77B5E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6DD70-DB4C-447C-86BF-0C3CD5F7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A7F59-D8AA-45A4-A689-F85938BB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C4DFB-716D-44E8-9D00-D49003D1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423C6-82BE-4539-9013-8B95FC16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76B8D-7B0D-4B7A-844F-85F3C63E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98CB9-4254-452F-99E4-0C22AB40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83FB5-21D7-48B8-8EF0-C6E46BBE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1454A-AF97-4A52-B76F-7C3990FB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9CC9-010F-4BB0-9493-E6A945F9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95EF5-2916-450A-81EC-7034F27C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E27C6-5E16-4761-BF64-97EC427F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038A5-A968-4D73-AA82-3E581CB9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3B48F-281E-46F7-AC30-2C88C589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B312E-4F47-4F10-81BF-CF30923E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A6435-30DD-4FCF-BE1E-E05CECF7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E6E66-33B4-401D-94FB-800E7F17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AB950-C31F-4CFB-AECF-C915DD58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5F710-204B-4EF0-93DE-D585EAA9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429E6-BCE6-471A-80ED-16621772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C7B6-5451-4196-B41B-514DFAE6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595DB-049B-4E26-981F-8FADA2BA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39D93-2D64-48EF-AB79-8419CF00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9EADB-D94A-43C8-81B7-9A55CFB3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1A8CC-8EB7-405A-8781-95C250CE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17459-065D-4FCC-B2F7-AE91CD9A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BD665-00CA-447E-82B8-3144C811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09F75-22FD-4BD6-B3B8-58D6250D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7C3D8-E7E7-4719-AF2C-A305B308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76A9A-09B3-4418-B64F-987C446A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30F25-43BB-4FC9-B6C8-BB0A7FE5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729C-B82F-491C-B88A-63E47B29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57A7C-82B0-4791-80B8-561D7FF6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0C856-0E38-411B-9A59-08B6351A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9422B-2717-4D02-9CBB-62DBE1BD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AAA84-AD6B-4C28-BD6C-529E41EC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F9351-1CBC-4675-811C-2012202E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FCB6-DE2A-40BD-9706-FD89AA0C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2DF6-9433-43C9-A03E-98333DFB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82AB-A886-4853-B3B1-242685BF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8552-FE7A-4163-94E4-682563AD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DF05-6C48-486D-B9B5-C853D850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1D3-CA27-47FC-A63A-ED306270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0286-A852-41DD-ACC3-666AD4C9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E977-356B-424E-B383-733C4B70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006F-929A-47FD-ABDD-5712C4EA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B957-73DD-4081-A195-293C3706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D5D0-F4C4-42E9-A3A4-25B7E07F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A2049-D04A-450F-B16B-51C9ACEC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650E4-DD39-438C-89D6-B0601CE7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59507-981D-43D3-AAFF-19F79970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728B5-BC21-4D6A-B60C-4198FDCA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C38E7-9500-437D-B681-2BE66A48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3B9-303B-4C60-9042-0E43D9E3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A9560-96AB-4292-86EE-3DEC9852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754A8-2690-4A9B-802E-6B92522A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B501E-C7DE-44ED-B677-49C2EE92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E44D3-96E3-4CA5-BFDA-C1238B57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E18EB-EA4C-4646-A700-EC1538E2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56D44-CC77-473C-882D-CE8F52A2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3D0DB-957A-4EDC-98FF-1979A939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04542-BD53-4C95-BACC-1FDD0CF6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14D8C-4F71-47A7-A579-E43475B2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0EEC0-45E4-403D-89C0-26F2B00D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12F-D915-4735-96D3-1C37C238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F9946-A9F7-4F8F-AD72-28F41B0E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64F9F-0B69-40DB-A18D-6CA67AFE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AAAA0-49A7-4AA7-BF6D-C59D5532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E5F2D-6E62-4859-95E7-02F8DA27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29F9B-0F79-4516-9BF5-3C9B7A0B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0A6A6-C080-4263-8B0F-943C504B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9C668-D2C2-4F3B-8359-495E2706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5E751-2682-4EA1-BCB6-7967E092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DAC8A-867E-435B-9891-4CC2E2F3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C97A1-C555-4D99-9E5F-1319CADB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962A-9D11-4FBC-98BE-4DCD8A9E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6DB03-5602-4331-B4EA-A773EA6F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80E72-F974-4845-97EF-65EA4D3F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D36CA-46E4-4763-ADF4-DF0C14CA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1702A-A1E3-416A-AD5C-157B1FE5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03D84-6AC1-4EC6-8E9C-6AD1BE20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91D62-91A9-4820-9BD4-9C3AFF2D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BCA27-B297-48EE-BD29-D232C1BA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9DB4E-130E-4C56-9D0C-AB0B9E04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CFFE6-3A08-4E38-ACDE-643E5C45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D75BC-4629-4421-B4BE-0949F1D7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3788-BDCC-4203-BAD4-D388388E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A0FF8-F77B-42FE-A796-5E9EC267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129E6-1245-41A1-AB78-E7BB5C0C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02B48-3F49-4006-95BB-0D8482EA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DF10D-6A8E-4BA2-AF0C-C0F7F4FA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C2168-C0D0-487E-8905-728D2663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344EE-80BD-4B6C-A849-1631C0AE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03077-7455-4AB9-9BDD-BB753594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95EDA-5AC8-4B32-B696-EDA314EE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AB7F0-D026-4F6E-B8B6-1ACCF693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2871C-399B-43A6-96CA-B247CB76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79EF-1C7A-4E89-907C-69A6FF57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D8A9B-14F8-459C-B4D6-464CD663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B12A4-2410-46F1-9700-38209AC8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2DD10-21EA-40B7-9F95-7CA1BFAB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474E3-2FC0-436D-B6C2-A9E83BD0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F848B-F3F7-46ED-8EB4-4DB4E272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C51B8-9450-4CCA-9AC5-F2BB9EDE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46594-237E-49EF-8201-B454D743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143A3-40C9-48BF-9241-EEA75F14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C310D-1F45-4D2A-90EF-2A70094E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7511C-ECFC-4CF4-B469-9FF3043C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8EA4-09FA-48B0-88AF-02C0D6EB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4FC8B-31C2-4EC5-889E-55610164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7B042-E5D1-4F48-940F-E9A1B01F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27C6F-1FAC-40B3-944D-67B6BA40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61EB2-F852-4AD0-BB64-DF730137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38405-169A-41A7-9E9D-DA9EAC65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091A9-66D6-4429-9F88-5532F8CF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71019-E4F7-4E97-8947-F6A6772C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8E357-772A-4943-8F27-96EE3E4E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99EF7-0F35-4E8C-9FA9-B0D80D7F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98A12-290C-443B-9FDC-3E2E9F7B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9668-146E-48CA-BB1E-2F4E6874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2C826-1C4D-4F2E-A2C2-004A232E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AF332-9568-4B38-8FEF-3EFEF250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C99AD-2E92-4A85-934D-93396AD3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9DEBD-BC66-4B88-9617-7F413E68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69A23-CAED-4C13-AAF6-EACA12DF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18440-9D16-4096-80C7-F96E20F0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64BE5-F287-4C7F-B860-25FFD138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3555A-4CCA-4D20-AC96-A5AF52B9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018E1-CC29-4C86-AED0-2EBE8F4B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85632-4710-4DCE-9F6A-922A4D28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B967-D536-4924-9B3C-CEB441D88A70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4FC1-A8C3-44A2-BCEC-8BC64293F0DA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ABAB-A0EB-4BE1-BD93-4518A04EDDF6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E64A-9ACE-493E-9B41-9FAF3EA65AF7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828D-6CEA-401F-829A-0DF3E4467FE9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6 Image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A3C5-BDB6-416C-A5B3-2DE6AFA426C6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9190-D8E4-4FF2-91C8-4FD262A69B8C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840E-C555-4DC4-8D96-4A0ADF381088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62A1-C4BA-4F9E-B17F-F8A8451FB469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B3C2-5719-4AA2-96D5-767089B327D2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F7A9-BE73-4DC7-92B7-DBB15060C6D2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7970-7CA9-4572-875D-3B93E789D13D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4"/>
          <p:cNvSpPr/>
          <p:nvPr/>
        </p:nvSpPr>
        <p:spPr>
          <a:xfrm>
            <a:off x="539640" y="2349360"/>
            <a:ext cx="80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ampaña de Valo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1 Título"/>
          <p:cNvSpPr/>
          <p:nvPr/>
        </p:nvSpPr>
        <p:spPr>
          <a:xfrm>
            <a:off x="250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STRATEGI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75" name="Diagram 15"/>
          <p:cNvGrpSpPr/>
          <p:nvPr/>
        </p:nvGrpSpPr>
        <p:grpSpPr>
          <a:xfrm>
            <a:off x="914040" y="1280520"/>
            <a:ext cx="6036120" cy="3979080"/>
            <a:chOff x="914040" y="1280520"/>
            <a:chExt cx="6036120" cy="3979080"/>
          </a:xfrm>
        </p:grpSpPr>
        <p:sp>
          <p:nvSpPr>
            <p:cNvPr id="576" name="_s4100"/>
            <p:cNvSpPr/>
            <p:nvPr/>
          </p:nvSpPr>
          <p:spPr>
            <a:xfrm flipV="1">
              <a:off x="914040" y="4264200"/>
              <a:ext cx="6036120" cy="994680"/>
            </a:xfrm>
            <a:custGeom>
              <a:avLst/>
              <a:gdLst>
                <a:gd name="textAreaLeft" fmla="*/ 907920 w 6036120"/>
                <a:gd name="textAreaRight" fmla="*/ 5128200 w 6036120"/>
                <a:gd name="textAreaTop" fmla="*/ 149400 h 994680"/>
                <a:gd name="textAreaBottom" fmla="*/ 845280 h 99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98000"/>
                </a:lnSpc>
                <a:spcAft>
                  <a:spcPts val="14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404040"/>
                  </a:solidFill>
                  <a:latin typeface="Arial Black"/>
                  <a:ea typeface="宋体"/>
                </a:rPr>
                <a:t>ORGANISMOS DE LOS DIVERSOS </a:t>
              </a:r>
              <a:endParaRPr b="0" lang="en-US" sz="14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98000"/>
                </a:lnSpc>
                <a:spcAft>
                  <a:spcPts val="14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404040"/>
                  </a:solidFill>
                  <a:latin typeface="Arial Black"/>
                  <a:ea typeface="宋体"/>
                </a:rPr>
                <a:t>SECTORES SOCIALES </a:t>
              </a:r>
              <a:endParaRPr b="0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77" name="_s4101"/>
            <p:cNvSpPr/>
            <p:nvPr/>
          </p:nvSpPr>
          <p:spPr>
            <a:xfrm flipV="1">
              <a:off x="1669320" y="3270600"/>
              <a:ext cx="4524840" cy="994320"/>
            </a:xfrm>
            <a:custGeom>
              <a:avLst/>
              <a:gdLst>
                <a:gd name="textAreaLeft" fmla="*/ 785520 w 4524840"/>
                <a:gd name="textAreaRight" fmla="*/ 3739320 w 4524840"/>
                <a:gd name="textAreaTop" fmla="*/ 172440 h 994320"/>
                <a:gd name="textAreaBottom" fmla="*/ 821880 h 99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404040"/>
                  </a:solidFill>
                  <a:latin typeface="Arial Black"/>
                  <a:ea typeface="宋体"/>
                </a:rPr>
                <a:t>INSTITUCIONES PÚBLICAS </a:t>
              </a:r>
              <a:endParaRPr b="0" lang="en-US" sz="14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404040"/>
                  </a:solidFill>
                  <a:latin typeface="Arial Black"/>
                  <a:ea typeface="宋体"/>
                </a:rPr>
                <a:t>Y PRIVADAS</a:t>
              </a:r>
              <a:endParaRPr b="0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78" name="_s4102"/>
            <p:cNvSpPr/>
            <p:nvPr/>
          </p:nvSpPr>
          <p:spPr>
            <a:xfrm flipV="1">
              <a:off x="2422800" y="2274840"/>
              <a:ext cx="3017880" cy="994680"/>
            </a:xfrm>
            <a:custGeom>
              <a:avLst/>
              <a:gdLst>
                <a:gd name="textAreaLeft" fmla="*/ 663480 w 3017880"/>
                <a:gd name="textAreaRight" fmla="*/ 2354400 w 3017880"/>
                <a:gd name="textAreaTop" fmla="*/ 218520 h 994680"/>
                <a:gd name="textAreaBottom" fmla="*/ 776160 h 99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 Black"/>
                </a:rPr>
                <a:t>SISTEMAS</a:t>
              </a:r>
              <a:endParaRPr b="0" lang="en-US" sz="14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 Black"/>
                </a:rPr>
                <a:t>MUNICIPALES</a:t>
              </a:r>
              <a:endParaRPr b="0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79" name="_s4103"/>
            <p:cNvSpPr/>
            <p:nvPr/>
          </p:nvSpPr>
          <p:spPr>
            <a:xfrm flipV="1">
              <a:off x="3176640" y="1279800"/>
              <a:ext cx="1510920" cy="994680"/>
            </a:xfrm>
            <a:custGeom>
              <a:avLst/>
              <a:gdLst>
                <a:gd name="textAreaLeft" fmla="*/ 542160 w 1510920"/>
                <a:gd name="textAreaRight" fmla="*/ 968760 w 1510920"/>
                <a:gd name="textAreaTop" fmla="*/ 356760 h 994680"/>
                <a:gd name="textAreaBottom" fmla="*/ 637920 h 99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 Black"/>
                </a:rPr>
                <a:t>AULAS </a:t>
              </a:r>
              <a:endParaRPr b="0" lang="en-US" sz="14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 Black"/>
                </a:rPr>
                <a:t>ESCOLARES</a:t>
              </a:r>
              <a:endParaRPr b="0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580" name="AutoShape 22"/>
          <p:cNvSpPr/>
          <p:nvPr/>
        </p:nvSpPr>
        <p:spPr>
          <a:xfrm>
            <a:off x="395280" y="836640"/>
            <a:ext cx="2376360" cy="1800360"/>
          </a:xfrm>
          <a:prstGeom prst="rightArrow">
            <a:avLst>
              <a:gd name="adj1" fmla="val 50000"/>
              <a:gd name="adj2" fmla="val 32998"/>
            </a:avLst>
          </a:prstGeom>
          <a:solidFill>
            <a:srgbClr val="4f81bd">
              <a:alpha val="7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LEGAR A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VÉS DE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1 Título"/>
          <p:cNvSpPr/>
          <p:nvPr/>
        </p:nvSpPr>
        <p:spPr>
          <a:xfrm>
            <a:off x="250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f497d"/>
                </a:solidFill>
                <a:latin typeface="Calibri"/>
              </a:rPr>
              <a:t>POBLACIÓN OBJETIV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1116000" y="1268280"/>
            <a:ext cx="6551640" cy="44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NIÑOS Y NIÑAS DE EDAD PREESCOLA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3984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NIÑOS Y NIÑAS DE EDAD PRIMARI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3984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JÓVENES DE SECUNDARIA 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3984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JÓVENES DE PREPARATORI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3984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MADRES Y PADRES DE FAMILI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3984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FAMILIA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3984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POBLACIÓN ABIERT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3984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Arial Black"/>
              </a:rPr>
              <a:t>MATERIAL DE APOYO (KI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4360" indent="-411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UADERNILLO  “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VA POR LOS VALORE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4360" indent="-411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UÍA PARA REFLEXIONAR, COMPARTIR Y EXPERIMENTAR LOS VAL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4360" indent="-411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ENDONES DE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“VALORE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4360" indent="-411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ICHERO DE FRASES Y ACTIVIDAD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4360" indent="-411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IDEO DE SENSIBILIZ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4360" indent="-411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RTÍCULOS DE PROMOCIÓN ( MUESTRA DE ARTÍCULOS PROMOCIONALES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4360" indent="-411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NUAL DE OPERACIÓN DE LA CAMPAÑ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4360" indent="-411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NUAL DE IDENT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f497d"/>
                </a:solidFill>
                <a:latin typeface="Calibri"/>
              </a:rPr>
              <a:t>CUADERNIL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457200" y="1600200"/>
            <a:ext cx="749952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044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CUADERNILLO :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VA POR LOS VALOR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46044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OBJETIV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: CONOCER Y APRENDER MÁS DE LOS VALORES, A TRAVÉS DE ACTIVIDADES QUE PERMITAN IDENTIFICAR DÓNDE Y CÓMO LOS APLICAN, ASÍ COMO NUEVAS FORMAS DE VIVIRLO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46044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DIRIGIDO 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: NIÑOS, NIÑAS Y ADOLESCENT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46044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CON EL CUADERNILLO DE ACTIVIDADES CONOCERÁN DE UNA MANERA DIVERTIDA LO QUE SON LOS VALORES, A TRAVÉS DE REFLEXIONES, CONCEPTOS, CRUCIGRAMAS, SOPA DE LETRAS, ETC.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APLICACIÓN Y UTILID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272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EL CUADERNILLO SE PODRÁ UTILIZAR EN ACTIVIDADES ENFOCADAS A NIÑOS, NIÑAS Y ADOLESCENT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(DÍA DEL NIÑO, POSADAS, DÍA DE LA FAMILIA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f497d"/>
                </a:solidFill>
                <a:latin typeface="Calibri"/>
              </a:rPr>
              <a:t>GUÍA DE VAL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572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GUÍ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ARA REFLEXIONAR, COMPARTIR Y EXPERIMENTAR LOS VAL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0440" indent="-4572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OBJETIVO: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ROMOVER LOS VALORES Y VIRTUDES A TRAVÉS DE ACTIVIDADES SENCILLAS Y PRÁCTICAS PARA SENSIBILIZAR EN EL ADULTO EL ENTENDIMIENTO Y LA EXPERIENCIA PRÁCTICA DE LOS VAL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0440" indent="-4572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IRIGIDO A: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ADULTOS, PADRES DE FAMILIA, PROMOTORES SOCIALES, BENEFICIARIOS DE LOS PROGRAMAS, MAESTRO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f497d"/>
                </a:solidFill>
                <a:latin typeface="Calibri"/>
              </a:rPr>
              <a:t>APLICACIÓN Y UTIL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2720" indent="-60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宋体"/>
              </a:rPr>
              <a:t>LAS ACTIVIDADES  ESTÁN DISEÑADAS PARA REFLEXIONAR, COMPARTIR Y EXPERIMENTAR EN GRUPO DIVERSAS EXPERIENCIAS QUE RESCATAN LA VIVENCIA COTIDIANA DE LOS VAL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宋体"/>
              </a:rPr>
              <a:t>PUEDE SERVIR COMO PREÁMBULO DE REUNIONES DIVERSAS CON SUS COLABORADORES. (REUNIONES DE TRABAJO, SOCIALES, INTEGRACIÓN, CAPACITACIONES, CURSOS DE INDUCCIÓN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PENDONES DE VAL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272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宋体"/>
              </a:rPr>
              <a:t>SE ENTREGARÁ UN JUEGO DE 5 PENDONES CON LA OPCIÓN DE PODER REPRODUCIRLOS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宋体"/>
              </a:rPr>
              <a:t>OBJETIV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宋体"/>
              </a:rPr>
              <a:t>: CONTAR CON UNA HERRAMIENTA PARA LA REFLEXIÓN CONTINUA ACERCA DE LOS VAL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宋体"/>
              </a:rPr>
              <a:t>DIRIGIDO A: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宋体"/>
              </a:rPr>
              <a:t> COLABORADORES DE INSTITUCIONES PÚBLICAS, PRIVADAS Y ORGANISMOS DE LOS DIVERSOS SECTORES SOCI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27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272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COLOCAR EN UN LUGAR VISIBLE DE CADA UNA DE LAS ÁREAS DE LA INSTITUCIÓN EL PENDÓN QUE CORRESPONDA AL VALOR DEL DÍ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SELECCIONAR UNA FRASE DE ACUERDO AL VALOR Y SE ESCRIBIRÁ EN EL ESPACIO DESTINADO PARA ELLO DENTRO DEL PEND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DESIGNAR A UN RESPONSABLE DE CADA ÁREA PARA DARLE LECTURA A LA FRASE DEL DÍ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INVITAR A LOS COLABORADORES A EXTERNAR SU OPINIÓN ACERCA DE LA FRASE LEÍ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APLICACIÓN Y UTILID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FICHERO DE FRASES Y ACTIVIDAD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272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宋体"/>
              </a:rPr>
              <a:t>SE ENTREGARÁ UN FICHERO CON OPCIÓN A REPRODUCIRL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宋体"/>
              </a:rPr>
              <a:t>OBJETIVO: CONTAR CON UNA HERRAMIENTA PARA LA REFLEXIÓN CONTINUA ACERCA DE LOS VALORES Y REALIZAR ACCIONES PARA LA PRÁCTICA DE LOS MISM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宋体"/>
              </a:rPr>
              <a:t>DIRIGIDO A: COLABORADORES Y VISITANTES DE INSTITUCIONES PÚBLICAS Y PRIVADAS, ORGANISMOS DE LOS DIFERENTES SECTORES SOCIAL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Diagram 46"/>
          <p:cNvGrpSpPr/>
          <p:nvPr/>
        </p:nvGrpSpPr>
        <p:grpSpPr>
          <a:xfrm>
            <a:off x="375840" y="1172160"/>
            <a:ext cx="7674120" cy="5744160"/>
            <a:chOff x="375840" y="1172160"/>
            <a:chExt cx="7674120" cy="5744160"/>
          </a:xfrm>
        </p:grpSpPr>
        <p:sp>
          <p:nvSpPr>
            <p:cNvPr id="495" name="_s1028"/>
            <p:cNvSpPr/>
            <p:nvPr/>
          </p:nvSpPr>
          <p:spPr>
            <a:xfrm>
              <a:off x="1653480" y="1333800"/>
              <a:ext cx="5119200" cy="3676320"/>
            </a:xfrm>
            <a:custGeom>
              <a:avLst/>
              <a:gdLst>
                <a:gd name="textAreaLeft" fmla="*/ 0 w 5119200"/>
                <a:gd name="textAreaRight" fmla="*/ 5119560 w 5119200"/>
                <a:gd name="textAreaTop" fmla="*/ 0 h 3676320"/>
                <a:gd name="textAreaBottom" fmla="*/ 3676680 h 36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96" name="_s1029"/>
            <p:cNvSpPr/>
            <p:nvPr/>
          </p:nvSpPr>
          <p:spPr>
            <a:xfrm rot="7200000">
              <a:off x="3075480" y="1484280"/>
              <a:ext cx="3677040" cy="5119200"/>
            </a:xfrm>
            <a:custGeom>
              <a:avLst/>
              <a:gdLst>
                <a:gd name="textAreaLeft" fmla="*/ 0 w 3677040"/>
                <a:gd name="textAreaRight" fmla="*/ 3677400 w 3677040"/>
                <a:gd name="textAreaTop" fmla="*/ 0 h 5119200"/>
                <a:gd name="textAreaBottom" fmla="*/ 5119560 h 511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97" name="_s1030"/>
            <p:cNvSpPr/>
            <p:nvPr/>
          </p:nvSpPr>
          <p:spPr>
            <a:xfrm rot="14400000">
              <a:off x="1672920" y="1484640"/>
              <a:ext cx="3677040" cy="5119200"/>
            </a:xfrm>
            <a:custGeom>
              <a:avLst/>
              <a:gdLst>
                <a:gd name="textAreaLeft" fmla="*/ 0 w 3677040"/>
                <a:gd name="textAreaRight" fmla="*/ 3677400 w 3677040"/>
                <a:gd name="textAreaTop" fmla="*/ 0 h 5119200"/>
                <a:gd name="textAreaBottom" fmla="*/ 5119560 h 511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98" name="_s1031"/>
            <p:cNvSpPr/>
            <p:nvPr/>
          </p:nvSpPr>
          <p:spPr>
            <a:xfrm>
              <a:off x="5613840" y="2006640"/>
              <a:ext cx="2053800" cy="14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 Black"/>
                </a:rPr>
                <a:t>INSTRUMENTA</a:t>
              </a:r>
              <a:endParaRPr b="0" lang="en-US" sz="2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99" name="_s1032"/>
            <p:cNvSpPr/>
            <p:nvPr/>
          </p:nvSpPr>
          <p:spPr>
            <a:xfrm>
              <a:off x="3188880" y="5031000"/>
              <a:ext cx="2053080" cy="14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0" name="_s1033"/>
            <p:cNvSpPr/>
            <p:nvPr/>
          </p:nvSpPr>
          <p:spPr>
            <a:xfrm>
              <a:off x="755280" y="2008800"/>
              <a:ext cx="2053800" cy="14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Arial Black"/>
                </a:rPr>
                <a:t>FORMACIÓN EDUCADORA </a:t>
              </a:r>
              <a:endParaRPr b="0" lang="en-US" sz="17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Arial Black"/>
                </a:rPr>
                <a:t>DE LAS FAMILIAS</a:t>
              </a:r>
              <a:endParaRPr b="0" lang="en-US" sz="17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501" name="Diagram 37"/>
          <p:cNvGrpSpPr/>
          <p:nvPr/>
        </p:nvGrpSpPr>
        <p:grpSpPr>
          <a:xfrm>
            <a:off x="884160" y="1908000"/>
            <a:ext cx="6292800" cy="3384360"/>
            <a:chOff x="884160" y="1908000"/>
            <a:chExt cx="6292800" cy="3384360"/>
          </a:xfrm>
        </p:grpSpPr>
        <p:sp>
          <p:nvSpPr>
            <p:cNvPr id="502" name="_s1036"/>
            <p:cNvSpPr/>
            <p:nvPr/>
          </p:nvSpPr>
          <p:spPr>
            <a:xfrm>
              <a:off x="3179880" y="2503440"/>
              <a:ext cx="1701720" cy="170172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3" name="_s1037"/>
            <p:cNvSpPr/>
            <p:nvPr/>
          </p:nvSpPr>
          <p:spPr>
            <a:xfrm>
              <a:off x="3179880" y="1908000"/>
              <a:ext cx="17017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 Black"/>
                </a:rPr>
                <a:t>DIF ESTATAL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4" name="_s1038"/>
            <p:cNvSpPr/>
            <p:nvPr/>
          </p:nvSpPr>
          <p:spPr>
            <a:xfrm>
              <a:off x="3740040" y="3475080"/>
              <a:ext cx="1702080" cy="170172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5" name="_s1039"/>
            <p:cNvSpPr/>
            <p:nvPr/>
          </p:nvSpPr>
          <p:spPr>
            <a:xfrm>
              <a:off x="5475240" y="4835520"/>
              <a:ext cx="17017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 Black"/>
                </a:rPr>
                <a:t>ESTRATEGIA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6" name="_s1040"/>
            <p:cNvSpPr/>
            <p:nvPr/>
          </p:nvSpPr>
          <p:spPr>
            <a:xfrm>
              <a:off x="2617920" y="3473280"/>
              <a:ext cx="1701720" cy="1701720"/>
            </a:xfrm>
            <a:prstGeom prst="ellipse">
              <a:avLst/>
            </a:prstGeom>
            <a:solidFill>
              <a:srgbClr val="4f81bd">
                <a:alpha val="50000"/>
              </a:srgbClr>
            </a:solidFill>
            <a:ln w="468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7" name="_s1041"/>
            <p:cNvSpPr/>
            <p:nvPr/>
          </p:nvSpPr>
          <p:spPr>
            <a:xfrm>
              <a:off x="884160" y="4835520"/>
              <a:ext cx="17017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Arial Black"/>
                </a:rPr>
                <a:t>ACOMPAÑAMIENTO</a:t>
              </a:r>
              <a:endParaRPr b="0" lang="en-US" sz="13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8" name="Rectangle 55"/>
            <p:cNvSpPr/>
            <p:nvPr/>
          </p:nvSpPr>
          <p:spPr>
            <a:xfrm>
              <a:off x="2843280" y="2854080"/>
              <a:ext cx="2736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 Black"/>
                </a:rPr>
                <a:t>LA DINÁMICA DEL NÚCLEO FAMILIAR DEMANDA OTRAS PRIORIDADES Y SE DEJAN APARTADOS ASPECTOS COMO TRANSMITIR PRINCIPIOS Y VALORES A LAS NUEVAS GENERACIONES, POR LO QUE NO SE CUMPLE CON ESTA TAREA COMO TAL.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509" name="1 Título"/>
          <p:cNvSpPr/>
          <p:nvPr/>
        </p:nvSpPr>
        <p:spPr>
          <a:xfrm>
            <a:off x="539640" y="1268280"/>
            <a:ext cx="748836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38040" indent="-338040" algn="ctr">
              <a:lnSpc>
                <a:spcPct val="78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0" name="1 Título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f497d"/>
                </a:solidFill>
                <a:latin typeface="Calibri"/>
              </a:rPr>
              <a:t>CAMPAÑA DE VALOR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APLICACIÓN Y UTILID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272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DESIGNAR A UN RESPONSABLE DE CADA ÁREA PARA DARLE LECTURA A LA FRASE Y ACTIVIDAD SUGERIDA DEL FICH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INVITAR A LOS COLABORADORES A EXTERNAR SU OPINIÓN ACERCA DE LA FRASE Y ACTIVIDAD  SUGERIDA DEL FICHERO  Y QUE SE PRACTIQUE DURANTE EL DÍ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COLOCAR EN SALAS DE ESPERA PARA LECTURA DE LAS PERSONAS QUE VISITAN SU INSTITU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SI CUENTAN CON SISTEMA DE SONIDO AMBIENTAL AL INTERIOR DE LA INSTITUCIÓN, APLICAR EL PUNTO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LAS FRASES PODRÁN SER COLOCADAS EN ÁREAS COMUNES, COMEDORES, VESTIDORES, BAÑOS, LOCKERS, ETC., PARA REFLEXIÓN DE LOS COLABORADORES.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VIDEO DE SENSIBILIZ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272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OBJETIV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: REFORZAR LOS VALORES DE COLABORADORES Y VISITANTES, QUE CONTRIBUYEN EN EL DESARROLLO DE LA INSTITUCIÓ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DIRIGIDO A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 COLABORADORES Y VISITANTES DE INSTITUCIONES PÚBLICAS Y PRIVADAS, ORGANISMOS DE LOS DIFERENTES SECTORES SOCIALE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2720" indent="0" algn="ctr">
              <a:lnSpc>
                <a:spcPct val="98000"/>
              </a:lnSpc>
              <a:spcAft>
                <a:spcPts val="1426"/>
              </a:spcAft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272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EL VIDEO DE LA CAMPAÑA DE VALORES SE PODRÁ UTILIZAR PARA TRANSMITIRLO EN SALAS DE ESPERA, COMEDORES O CAFETERÍAS, AUDITORIOS, SALA DE JUNTA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PARA CURSOS DE INDUCCIÓN,  CAPACITACIÓN, SENSIBILIZACIÓN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UTILIZARLO EN LA INTRANET DE LA INSTITU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APLICACIÓN Y UTILID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Calibri"/>
              </a:rPr>
              <a:t>ACCIONES PARA REFORZAR LA CAMPAÑ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272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OBJETIV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: REFORZAR DE MANERA ESPECIAL A LOS  COLABORADORES, LA PRÁCTICA CONTINUA DE LOS VALORES EN LAS ACTIVIDADES Y ACCIONES DIARI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DIRIGIDO A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 COLABORADORES Y VISITANTES DE INSTITUCIONES PÚBLICAS Y PRIVADAS, ORGANISMOS DE LOS DIFERENTES SECTORES SOCIALE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27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27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27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2720" indent="0" algn="just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f497d"/>
                </a:solidFill>
                <a:latin typeface="Calibri"/>
              </a:rPr>
              <a:t>ACTIVACIÓN Y SOCIALIZ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2720" indent="-60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宋体"/>
              </a:rPr>
              <a:t>INSERTAR LAS FRASES DE REFLEXIÓN LISTADAS, EN LA DOCUMENTACIÓN INSTITUCIONAL GENERADA DE CADA DÍ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宋体"/>
              </a:rPr>
              <a:t>UTILIZAR PROTECTORES O FONDOS DE PANTALLA EN PC CON  LA CAMPAÑA DE VALOR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宋体"/>
              </a:rPr>
              <a:t>DISEÑAR GAFETE DE IDENTIFICACIÓN DEL PERSONAL CON UN DISTINTIVO DE LA CAMPAÑ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f497d"/>
                </a:solidFill>
                <a:latin typeface="Calibri"/>
              </a:rPr>
              <a:t>DIFU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272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COLOCAR CALCOMANÍAS AUTO ADHERIBLE O VINIL MICROPERFORADO (FACILITA LA TRANSMISIÓN DE LUZ Y PERMITE LA VISIBILIDAD DESDE EL INTERIOR) PARA VEHÍCULOS INSTITUCIONALES U OFICI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INSTALAR  LONA CON EL LEM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ESTA INSTITUCIÓ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….. VA POR LOS VALORES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ENTREGAR ARTÍCULOS PROMOCIONALES (SOUVENIRS): PARA USO DIARIO COMO; BOTONES, BOLÍGRAFOS, LÁPICES, BORRADORES, LLAVEROS, PULSERAS, GORRAS, PLAYERAS, LIBRETAS, FOLDERS, CARPETAS DE ARGOLLAS, CILINDROS, MOUSE PAD, POST IT, LAPICERA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APLICACIÓN Y UTILID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7354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272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LAS ACCIONES PARA REFORZAR LA CAMPAÑA, ACTIVACIÓN, SOCIALIZACIÓN Y DIFUSIÓN SON REFORZADORES DIARIOS QUE INVITAN A LA PRÁCTICA CONTINUA DE LOS VALORES EN SU VI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27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27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2720" indent="0" algn="just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COLABORADOR CON VAL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272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A TRAVÉS DE VOTACIÓN, ENCUESTA O DESIGNACIÓN, SE SELECCIONARÁ A UN COLABORADOR POR ÁREA O INSTITUCIONAL QUE SE CONSIDERE QUE A TRAVÉS DE SUS ACCIONES, DESEMPEÑO O ACTITUDES, DEMUESTRE EJERCER LOS VALORES SOBRE LOS CUALES ES EVALU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SE PODRÁ COLOCAR LA FOTO DEL COLABORADOR SELECCIONADO, EN UN LUGAR VISIBLE DURANTE UNA SEMANA O UN MES CON UNA FRASE QUE ALIENTE A CONTINUAR CON LA PRÁCTICA DE LOS VAL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EN FIESTAS O REUNIONES SOCIALES DE LA INSTITUCIÓN SE PODRÁ ENTREGAR UN RECONOCIMIENTO FÍSICO O EN ESPECIE (DÍA LIBRE, DESPENSA, ECONÓMICO, ETC.) A LOS COLABORADORES ELEGIDOS DURANTE EL PERÍO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f497d"/>
                </a:solidFill>
                <a:latin typeface="Calibri"/>
              </a:rPr>
              <a:t>MANUAL DE IDENT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272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OBJETIV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: CONOCER LAS DIRECTRICES DE IMAGEN Y DISEÑO DE LA CAMPAÑA DE VALORES Y EL USO CORRECTO EN LAS INSTITUCI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27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DIRIGIDO A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 COLABORADORES Y VISITANTES DE INSTITUCIONES PÚBLICAS Y PRIVADAS, ORGANISMOS DE LOS DIFERENTES SECTORES SOCIALE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2720" indent="0" algn="ctr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APLICACIÓN Y UTILID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272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宋体"/>
              </a:rPr>
              <a:t>EN ESTE DOCUMENTO SE ENCONTRARAN LAS ESPECIFICACIONES TÉCNICAS E INSTRUCCIONES DE USO DE IMAGEN PARA LOS MATERIALES DE LA CAMPAÑ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宋体"/>
              </a:rPr>
              <a:t>ESTE MANUAL PERMITIRÁ DAR UNA IDENTIDAD A LA INSTITUCIÓN APEGADA A LA CAMPAÑA DE VAL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宋体"/>
              </a:rPr>
              <a:t>SE ENTREGARÁN LAS RECOMENDACIONES DE USO DE COLORES, DISTINTIVOS, DISEÑOS Y LOGOTIPOS DE LA CAMPAÑA DI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宋体"/>
              </a:rPr>
              <a:t>PODRÁ INSERTAR EN LOS MATERIALES QUE DESEEN EL LOGO DE SU INSTITU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f497d"/>
                </a:solidFill>
                <a:latin typeface="Calibri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11280" y="1413000"/>
            <a:ext cx="7227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20" bIns="0" anchor="t">
            <a:normAutofit/>
          </a:bodyPr>
          <a:p>
            <a:pPr marL="343080" indent="-339840" algn="just">
              <a:lnSpc>
                <a:spcPct val="78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404040"/>
                </a:solidFill>
                <a:latin typeface="Calibri"/>
              </a:rPr>
              <a:t>NUESTRO PAÍS HA SUFRIDO PROFUNDOS CAMBIOS DURANTE LOS ÚLTIMOS AÑOS EN LO ECONÓMICO, SOCIAL, POLÍTICO Y CULTURAL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39840" algn="just">
              <a:lnSpc>
                <a:spcPct val="78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39840" algn="just">
              <a:lnSpc>
                <a:spcPct val="78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404040"/>
                </a:solidFill>
                <a:latin typeface="Calibri"/>
              </a:rPr>
              <a:t>TRANSFORMACIONES QUE INFLUYEN EN LA CONFORMACIÓN DE ACTITUDES, NORMAS, VALORES Y PRINCIPIOS FUNDAMENTALES DE LA POBLACIÓN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f497d"/>
                </a:solidFill>
                <a:latin typeface="Calibri"/>
              </a:rPr>
              <a:t>ANEX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2720" indent="0" algn="just">
              <a:spcBef>
                <a:spcPts val="799"/>
              </a:spcBef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FRASES VARI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ENCUESTA DE ELECCIÓN DEL COLABORADOR CON VAL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ENCUESTA DE MEDICIÓN DE LA CAMPAÑ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f497d"/>
                </a:solidFill>
                <a:latin typeface="Calibri"/>
              </a:rPr>
              <a:t>APLICACIÓN Y UTILID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272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SE PROPORCIONARÁ UN INSTRUMENTO DE MEDICIÓN DE ACTITUDES COMO PARÁMETRO DE VALORES PARA QUE SE APLIQUE ANTES DE INICIAR LA CAMPAÑA Y AL TÉRMINO DE LA MISMA, DE ACUERDO AL PERIODO QUE SE DETERM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1272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宋体"/>
              </a:rPr>
              <a:t>SI LA INSTITUCIÓN CUENTA CON LOS MEDIOS Y RECURSOS NECESARIOS PARA LA APLICACIÓN Y EVALUACIÓN DEL INSTRUMENTO, UNA VEZ APLICADO, LOS RESULTADOS DEBERÁN ENVIARSE A LA DIRECCIÓN DE ACCIONES EN FAVOR DE LA INFANCIA. EN CASO CONTRARIO, DEBERÁ GESTIONAR CON DIF ESTATAL PARA QUE PERSONAL DEL ÁREA PUEDA APLICAR EL INSTRUM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f497d"/>
                </a:solidFill>
                <a:latin typeface="Calibri"/>
              </a:rPr>
              <a:t>QUÉ SON LOS VALOR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4" name="Diagram 5"/>
          <p:cNvGrpSpPr/>
          <p:nvPr/>
        </p:nvGrpSpPr>
        <p:grpSpPr>
          <a:xfrm>
            <a:off x="163080" y="1617840"/>
            <a:ext cx="7591680" cy="3870720"/>
            <a:chOff x="163080" y="1617840"/>
            <a:chExt cx="7591680" cy="3870720"/>
          </a:xfrm>
        </p:grpSpPr>
        <p:sp>
          <p:nvSpPr>
            <p:cNvPr id="515" name="_s2052"/>
            <p:cNvSpPr/>
            <p:nvPr/>
          </p:nvSpPr>
          <p:spPr>
            <a:xfrm flipV="1">
              <a:off x="163080" y="4842360"/>
              <a:ext cx="7591680" cy="645480"/>
            </a:xfrm>
            <a:custGeom>
              <a:avLst/>
              <a:gdLst>
                <a:gd name="textAreaLeft" fmla="*/ 966240 w 7591680"/>
                <a:gd name="textAreaRight" fmla="*/ 6625440 w 7591680"/>
                <a:gd name="textAreaTop" fmla="*/ 82080 h 645480"/>
                <a:gd name="textAreaBottom" fmla="*/ 563400 h 64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78000"/>
                </a:lnSpc>
                <a:spcAft>
                  <a:spcPts val="14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404040"/>
                  </a:solidFill>
                  <a:latin typeface="Arial Black"/>
                </a:rPr>
                <a:t>ORIENTAN Y GUÍAN EL COMPORTAMIENTO HUMANO </a:t>
              </a:r>
              <a:endParaRPr b="0" lang="en-US" sz="14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78000"/>
                </a:lnSpc>
                <a:spcAft>
                  <a:spcPts val="142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404040"/>
                  </a:solidFill>
                  <a:latin typeface="Arial Black"/>
                </a:rPr>
                <a:t>PARA UN BIEN PERSONAL Y SOCIAL.</a:t>
              </a:r>
              <a:endParaRPr b="0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16" name="_s2053"/>
            <p:cNvSpPr/>
            <p:nvPr/>
          </p:nvSpPr>
          <p:spPr>
            <a:xfrm flipV="1">
              <a:off x="797040" y="4196520"/>
              <a:ext cx="6323760" cy="645480"/>
            </a:xfrm>
            <a:custGeom>
              <a:avLst/>
              <a:gdLst>
                <a:gd name="textAreaLeft" fmla="*/ 863640 w 6323760"/>
                <a:gd name="textAreaRight" fmla="*/ 5460120 w 6323760"/>
                <a:gd name="textAreaTop" fmla="*/ 88200 h 645480"/>
                <a:gd name="textAreaBottom" fmla="*/ 557280 h 64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00"/>
                  </a:solidFill>
                  <a:latin typeface="Arial Black"/>
                </a:rPr>
                <a:t>ACTITUDES</a:t>
              </a:r>
              <a:endParaRPr b="0" lang="en-US" sz="15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17" name="_s2054"/>
            <p:cNvSpPr/>
            <p:nvPr/>
          </p:nvSpPr>
          <p:spPr>
            <a:xfrm flipV="1">
              <a:off x="1427760" y="3552840"/>
              <a:ext cx="5062320" cy="644040"/>
            </a:xfrm>
            <a:custGeom>
              <a:avLst/>
              <a:gdLst>
                <a:gd name="textAreaLeft" fmla="*/ 761400 w 5062320"/>
                <a:gd name="textAreaRight" fmla="*/ 4300920 w 5062320"/>
                <a:gd name="textAreaTop" fmla="*/ 96840 h 644040"/>
                <a:gd name="textAreaBottom" fmla="*/ 547200 h 64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Arial Black"/>
                </a:rPr>
                <a:t>LINEAMIENTOS</a:t>
              </a:r>
              <a:endParaRPr b="0" lang="en-US" sz="13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18" name="_s2055"/>
            <p:cNvSpPr/>
            <p:nvPr/>
          </p:nvSpPr>
          <p:spPr>
            <a:xfrm flipV="1">
              <a:off x="2061720" y="2907000"/>
              <a:ext cx="3794040" cy="645480"/>
            </a:xfrm>
            <a:custGeom>
              <a:avLst/>
              <a:gdLst>
                <a:gd name="textAreaLeft" fmla="*/ 658440 w 3794040"/>
                <a:gd name="textAreaRight" fmla="*/ 3135600 w 3794040"/>
                <a:gd name="textAreaTop" fmla="*/ 111960 h 645480"/>
                <a:gd name="textAreaBottom" fmla="*/ 533520 h 64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Arial Black"/>
                </a:rPr>
                <a:t>EMOCIONES</a:t>
              </a:r>
              <a:endParaRPr b="0" lang="en-US" sz="13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19" name="_s2056"/>
            <p:cNvSpPr/>
            <p:nvPr/>
          </p:nvSpPr>
          <p:spPr>
            <a:xfrm flipV="1">
              <a:off x="2693160" y="2262960"/>
              <a:ext cx="2531880" cy="644040"/>
            </a:xfrm>
            <a:custGeom>
              <a:avLst/>
              <a:gdLst>
                <a:gd name="textAreaLeft" fmla="*/ 556560 w 2531880"/>
                <a:gd name="textAreaRight" fmla="*/ 1975320 w 2531880"/>
                <a:gd name="textAreaTop" fmla="*/ 141480 h 644040"/>
                <a:gd name="textAreaBottom" fmla="*/ 502560 h 64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 Black"/>
                </a:rPr>
                <a:t>CONJUNTO DE</a:t>
              </a:r>
              <a:endParaRPr b="0" lang="en-US" sz="14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 Black"/>
                </a:rPr>
                <a:t>CREENCIAS</a:t>
              </a:r>
              <a:endParaRPr b="0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20" name="_s2057"/>
            <p:cNvSpPr/>
            <p:nvPr/>
          </p:nvSpPr>
          <p:spPr>
            <a:xfrm flipV="1">
              <a:off x="3326400" y="1617480"/>
              <a:ext cx="1264680" cy="645480"/>
            </a:xfrm>
            <a:custGeom>
              <a:avLst/>
              <a:gdLst>
                <a:gd name="textAreaLeft" fmla="*/ 453600 w 1264680"/>
                <a:gd name="textAreaRight" fmla="*/ 811080 w 1264680"/>
                <a:gd name="textAreaTop" fmla="*/ 231480 h 645480"/>
                <a:gd name="textAreaBottom" fmla="*/ 414000 h 64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Calibri"/>
                </a:rPr>
                <a:t>VALORES</a:t>
              </a:r>
              <a:endParaRPr b="0" lang="en-US" sz="13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f497d"/>
                </a:solidFill>
                <a:latin typeface="Calibri"/>
              </a:rPr>
              <a:t>OBJETIVO DE LA CAMPAÑ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Diagram 14"/>
          <p:cNvGrpSpPr/>
          <p:nvPr/>
        </p:nvGrpSpPr>
        <p:grpSpPr>
          <a:xfrm>
            <a:off x="631800" y="1063080"/>
            <a:ext cx="7481880" cy="4349520"/>
            <a:chOff x="631800" y="1063080"/>
            <a:chExt cx="7481880" cy="4349520"/>
          </a:xfrm>
        </p:grpSpPr>
        <p:sp>
          <p:nvSpPr>
            <p:cNvPr id="523" name="_s3076"/>
            <p:cNvSpPr/>
            <p:nvPr/>
          </p:nvSpPr>
          <p:spPr>
            <a:xfrm>
              <a:off x="3012120" y="1835640"/>
              <a:ext cx="2720520" cy="2207520"/>
            </a:xfrm>
            <a:prstGeom prst="ellipse">
              <a:avLst/>
            </a:prstGeom>
            <a:solidFill>
              <a:srgbClr val="c0504d">
                <a:alpha val="50000"/>
              </a:srgbClr>
            </a:solidFill>
            <a:ln w="4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24" name="_s3077"/>
            <p:cNvSpPr/>
            <p:nvPr/>
          </p:nvSpPr>
          <p:spPr>
            <a:xfrm>
              <a:off x="3656880" y="1063080"/>
              <a:ext cx="143136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Black"/>
                </a:rPr>
                <a:t>COORDINAR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25" name="_s3078"/>
            <p:cNvSpPr/>
            <p:nvPr/>
          </p:nvSpPr>
          <p:spPr>
            <a:xfrm>
              <a:off x="3908520" y="3096000"/>
              <a:ext cx="2720520" cy="220752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26" name="_s3079"/>
            <p:cNvSpPr/>
            <p:nvPr/>
          </p:nvSpPr>
          <p:spPr>
            <a:xfrm>
              <a:off x="6681960" y="4861080"/>
              <a:ext cx="143172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Black"/>
                </a:rPr>
                <a:t>GESTIONAR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27" name="_s3080"/>
            <p:cNvSpPr/>
            <p:nvPr/>
          </p:nvSpPr>
          <p:spPr>
            <a:xfrm>
              <a:off x="2113920" y="3093840"/>
              <a:ext cx="2720520" cy="220752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28" name="_s3081"/>
            <p:cNvSpPr/>
            <p:nvPr/>
          </p:nvSpPr>
          <p:spPr>
            <a:xfrm>
              <a:off x="631800" y="4861080"/>
              <a:ext cx="143136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Black"/>
                </a:rPr>
                <a:t>ARTICULAR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529" name="Rectangle 12"/>
          <p:cNvSpPr/>
          <p:nvPr/>
        </p:nvSpPr>
        <p:spPr>
          <a:xfrm>
            <a:off x="3348000" y="2060640"/>
            <a:ext cx="1944720" cy="9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404040"/>
                </a:solidFill>
                <a:latin typeface="Arial"/>
              </a:rPr>
              <a:t>CAMBIAR PARADIGMAS EN LA FAMILIA Y SU ENTORNO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Text Box 22"/>
          <p:cNvSpPr/>
          <p:nvPr/>
        </p:nvSpPr>
        <p:spPr>
          <a:xfrm>
            <a:off x="2484360" y="3429000"/>
            <a:ext cx="1871640" cy="9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PROPICIAR SOCIALMENTE UN TRABAJO DE SENSIBILIZACIÓN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Text Box 23"/>
          <p:cNvSpPr/>
          <p:nvPr/>
        </p:nvSpPr>
        <p:spPr>
          <a:xfrm>
            <a:off x="4427640" y="3429000"/>
            <a:ext cx="1871640" cy="9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AMBIAR PARADIGMAS EN LA FAMILIA Y SU ENTORNO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1 Imagen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1942920" cy="2071800"/>
          </a:xfrm>
          <a:prstGeom prst="rect">
            <a:avLst/>
          </a:prstGeom>
          <a:ln w="0">
            <a:noFill/>
          </a:ln>
        </p:spPr>
      </p:pic>
      <p:pic>
        <p:nvPicPr>
          <p:cNvPr id="533" name="1 Imagen" descr=""/>
          <p:cNvPicPr/>
          <p:nvPr/>
        </p:nvPicPr>
        <p:blipFill>
          <a:blip r:embed="rId2"/>
          <a:stretch/>
        </p:blipFill>
        <p:spPr>
          <a:xfrm>
            <a:off x="3276720" y="260280"/>
            <a:ext cx="1885680" cy="2001960"/>
          </a:xfrm>
          <a:prstGeom prst="rect">
            <a:avLst/>
          </a:prstGeom>
          <a:ln w="0">
            <a:noFill/>
          </a:ln>
        </p:spPr>
      </p:pic>
      <p:pic>
        <p:nvPicPr>
          <p:cNvPr id="534" name="1 Imagen" descr=""/>
          <p:cNvPicPr/>
          <p:nvPr/>
        </p:nvPicPr>
        <p:blipFill>
          <a:blip r:embed="rId3"/>
          <a:stretch/>
        </p:blipFill>
        <p:spPr>
          <a:xfrm>
            <a:off x="6012000" y="1557360"/>
            <a:ext cx="1928520" cy="2021040"/>
          </a:xfrm>
          <a:prstGeom prst="rect">
            <a:avLst/>
          </a:prstGeom>
          <a:ln w="0">
            <a:noFill/>
          </a:ln>
        </p:spPr>
      </p:pic>
      <p:pic>
        <p:nvPicPr>
          <p:cNvPr id="535" name="1 Imagen" descr=""/>
          <p:cNvPicPr/>
          <p:nvPr/>
        </p:nvPicPr>
        <p:blipFill>
          <a:blip r:embed="rId4"/>
          <a:stretch/>
        </p:blipFill>
        <p:spPr>
          <a:xfrm>
            <a:off x="5435640" y="4437000"/>
            <a:ext cx="1928880" cy="2158920"/>
          </a:xfrm>
          <a:prstGeom prst="rect">
            <a:avLst/>
          </a:prstGeom>
          <a:ln w="0">
            <a:noFill/>
          </a:ln>
        </p:spPr>
      </p:pic>
      <p:pic>
        <p:nvPicPr>
          <p:cNvPr id="536" name="1 Imagen" descr=""/>
          <p:cNvPicPr/>
          <p:nvPr/>
        </p:nvPicPr>
        <p:blipFill>
          <a:blip r:embed="rId5"/>
          <a:stretch/>
        </p:blipFill>
        <p:spPr>
          <a:xfrm>
            <a:off x="1835280" y="4437000"/>
            <a:ext cx="2000160" cy="214308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7"/>
          <p:cNvSpPr/>
          <p:nvPr/>
        </p:nvSpPr>
        <p:spPr>
          <a:xfrm>
            <a:off x="2700360" y="2273400"/>
            <a:ext cx="3168720" cy="172872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Arial"/>
              </a:rPr>
              <a:t>VALORES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Arial"/>
              </a:rPr>
              <a:t>DE LA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Arial"/>
              </a:rPr>
              <a:t>CAMPAÑ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16"/>
          <p:cNvGrpSpPr/>
          <p:nvPr/>
        </p:nvGrpSpPr>
        <p:grpSpPr>
          <a:xfrm>
            <a:off x="2843280" y="96840"/>
            <a:ext cx="5209920" cy="3238200"/>
            <a:chOff x="2843280" y="96840"/>
            <a:chExt cx="5209920" cy="3238200"/>
          </a:xfrm>
        </p:grpSpPr>
        <p:sp>
          <p:nvSpPr>
            <p:cNvPr id="539" name="AutoShape 15"/>
            <p:cNvSpPr/>
            <p:nvPr/>
          </p:nvSpPr>
          <p:spPr>
            <a:xfrm>
              <a:off x="2843280" y="96840"/>
              <a:ext cx="5209920" cy="3238200"/>
            </a:xfrm>
            <a:prstGeom prst="horizontalScroll">
              <a:avLst>
                <a:gd name="adj" fmla="val 12500"/>
              </a:avLst>
            </a:prstGeom>
            <a:solidFill>
              <a:srgbClr val="4f81bd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40" name="Text Box 12"/>
            <p:cNvSpPr/>
            <p:nvPr/>
          </p:nvSpPr>
          <p:spPr>
            <a:xfrm>
              <a:off x="3738600" y="631800"/>
              <a:ext cx="3744000" cy="21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S UN ACTO DE  VOLUNTAD POR EL QUE LIBREMENTE SE DESEA 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L BIEN DE OTRA PERSONA. ES DONACIÓN DEL PROPIO SER: 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NTREGA TOTAL, GRAN FIRMEZA EN LA INTENCIÓN DE CONSERVAR EL AFECTO VIVIDO, 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541" name="1 Imagen" descr=""/>
          <p:cNvPicPr/>
          <p:nvPr/>
        </p:nvPicPr>
        <p:blipFill>
          <a:blip r:embed="rId1"/>
          <a:stretch/>
        </p:blipFill>
        <p:spPr>
          <a:xfrm>
            <a:off x="458640" y="711360"/>
            <a:ext cx="2025720" cy="2012760"/>
          </a:xfrm>
          <a:prstGeom prst="rect">
            <a:avLst/>
          </a:prstGeom>
          <a:ln w="0">
            <a:noFill/>
          </a:ln>
        </p:spPr>
      </p:pic>
      <p:pic>
        <p:nvPicPr>
          <p:cNvPr id="542" name="1 Imagen" descr=""/>
          <p:cNvPicPr/>
          <p:nvPr/>
        </p:nvPicPr>
        <p:blipFill>
          <a:blip r:embed="rId2"/>
          <a:stretch/>
        </p:blipFill>
        <p:spPr>
          <a:xfrm>
            <a:off x="6372360" y="3954600"/>
            <a:ext cx="1681200" cy="174276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18"/>
          <p:cNvGrpSpPr/>
          <p:nvPr/>
        </p:nvGrpSpPr>
        <p:grpSpPr>
          <a:xfrm>
            <a:off x="684360" y="3216240"/>
            <a:ext cx="5401800" cy="3238200"/>
            <a:chOff x="684360" y="3216240"/>
            <a:chExt cx="5401800" cy="3238200"/>
          </a:xfrm>
        </p:grpSpPr>
        <p:grpSp>
          <p:nvGrpSpPr>
            <p:cNvPr id="544" name="Group 19"/>
            <p:cNvGrpSpPr/>
            <p:nvPr/>
          </p:nvGrpSpPr>
          <p:grpSpPr>
            <a:xfrm>
              <a:off x="684360" y="3216240"/>
              <a:ext cx="5401800" cy="3238200"/>
              <a:chOff x="684360" y="3216240"/>
              <a:chExt cx="5401800" cy="3238200"/>
            </a:xfrm>
          </p:grpSpPr>
          <p:sp>
            <p:nvSpPr>
              <p:cNvPr id="545" name="AutoShape 20"/>
              <p:cNvSpPr/>
              <p:nvPr/>
            </p:nvSpPr>
            <p:spPr>
              <a:xfrm>
                <a:off x="684360" y="3216240"/>
                <a:ext cx="5401800" cy="3238200"/>
              </a:xfrm>
              <a:prstGeom prst="horizontalScroll">
                <a:avLst>
                  <a:gd name="adj" fmla="val 12500"/>
                </a:avLst>
              </a:prstGeom>
              <a:solidFill>
                <a:srgbClr val="4f81bd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46" name="Text Box 21"/>
              <p:cNvSpPr/>
              <p:nvPr/>
            </p:nvSpPr>
            <p:spPr>
              <a:xfrm>
                <a:off x="1612800" y="3848400"/>
                <a:ext cx="38818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547" name="Text Box 22"/>
            <p:cNvSpPr/>
            <p:nvPr/>
          </p:nvSpPr>
          <p:spPr>
            <a:xfrm>
              <a:off x="1405080" y="3865680"/>
              <a:ext cx="4392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MIENZA EN NOSOTROS MISMOS Y ES LA BASE DE LA CONVIVENCIA. EXIGE ACTUAR O DEJAR ACTUAR, PROCURANDO NO PERJUDICAR NI DEJAR DE BENEFICIARSE A SÍ MISMO NI A LOS DEMÁS.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13"/>
          <p:cNvGrpSpPr/>
          <p:nvPr/>
        </p:nvGrpSpPr>
        <p:grpSpPr>
          <a:xfrm>
            <a:off x="395280" y="2997360"/>
            <a:ext cx="5425560" cy="3237840"/>
            <a:chOff x="395280" y="2997360"/>
            <a:chExt cx="5425560" cy="3237840"/>
          </a:xfrm>
        </p:grpSpPr>
        <p:grpSp>
          <p:nvGrpSpPr>
            <p:cNvPr id="549" name="Group 14"/>
            <p:cNvGrpSpPr/>
            <p:nvPr/>
          </p:nvGrpSpPr>
          <p:grpSpPr>
            <a:xfrm>
              <a:off x="395280" y="2997360"/>
              <a:ext cx="5401800" cy="3237840"/>
              <a:chOff x="395280" y="2997360"/>
              <a:chExt cx="5401800" cy="3237840"/>
            </a:xfrm>
          </p:grpSpPr>
          <p:sp>
            <p:nvSpPr>
              <p:cNvPr id="550" name="AutoShape 15"/>
              <p:cNvSpPr/>
              <p:nvPr/>
            </p:nvSpPr>
            <p:spPr>
              <a:xfrm>
                <a:off x="395280" y="2997360"/>
                <a:ext cx="5401800" cy="3237840"/>
              </a:xfrm>
              <a:prstGeom prst="horizontalScroll">
                <a:avLst>
                  <a:gd name="adj" fmla="val 12500"/>
                </a:avLst>
              </a:prstGeom>
              <a:solidFill>
                <a:srgbClr val="4f81bd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51" name="Text Box 16"/>
              <p:cNvSpPr/>
              <p:nvPr/>
            </p:nvSpPr>
            <p:spPr>
              <a:xfrm>
                <a:off x="1323720" y="3629160"/>
                <a:ext cx="38818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52" name="Group 17"/>
            <p:cNvGrpSpPr/>
            <p:nvPr/>
          </p:nvGrpSpPr>
          <p:grpSpPr>
            <a:xfrm>
              <a:off x="923760" y="3735360"/>
              <a:ext cx="4897080" cy="773640"/>
              <a:chOff x="923760" y="3735360"/>
              <a:chExt cx="4897080" cy="773640"/>
            </a:xfrm>
          </p:grpSpPr>
          <p:sp>
            <p:nvSpPr>
              <p:cNvPr id="553" name="AutoShape 18"/>
              <p:cNvSpPr/>
              <p:nvPr/>
            </p:nvSpPr>
            <p:spPr>
              <a:xfrm>
                <a:off x="923760" y="3735360"/>
                <a:ext cx="4897080" cy="773640"/>
              </a:xfrm>
              <a:prstGeom prst="horizontalScroll">
                <a:avLst>
                  <a:gd name="adj" fmla="val 125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Black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54" name="Text Box 19"/>
              <p:cNvSpPr/>
              <p:nvPr/>
            </p:nvSpPr>
            <p:spPr>
              <a:xfrm>
                <a:off x="1515600" y="4057200"/>
                <a:ext cx="3882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555" name="Rectangle 20"/>
            <p:cNvSpPr/>
            <p:nvPr/>
          </p:nvSpPr>
          <p:spPr>
            <a:xfrm>
              <a:off x="1114560" y="3573360"/>
              <a:ext cx="4176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RMITIRÁ QUE AQUELLAS PERSONAS QUE NOS RODEAN RECONOZCAN EN NOSOTROS A UN SER CONFIABLE Y ARMONIOSO, CAPAZ DE SER DEPOSITARIO DE SENTIMIENTOS TAN GRANDES COMO LA AMISTAD Y EL CARIÑO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556" name="Group 12"/>
          <p:cNvGrpSpPr/>
          <p:nvPr/>
        </p:nvGrpSpPr>
        <p:grpSpPr>
          <a:xfrm>
            <a:off x="2732040" y="44280"/>
            <a:ext cx="5511240" cy="3237840"/>
            <a:chOff x="2732040" y="44280"/>
            <a:chExt cx="5511240" cy="3237840"/>
          </a:xfrm>
        </p:grpSpPr>
        <p:grpSp>
          <p:nvGrpSpPr>
            <p:cNvPr id="557" name="Group 9"/>
            <p:cNvGrpSpPr/>
            <p:nvPr/>
          </p:nvGrpSpPr>
          <p:grpSpPr>
            <a:xfrm>
              <a:off x="2732040" y="44280"/>
              <a:ext cx="5401800" cy="3237840"/>
              <a:chOff x="2732040" y="44280"/>
              <a:chExt cx="5401800" cy="3237840"/>
            </a:xfrm>
          </p:grpSpPr>
          <p:sp>
            <p:nvSpPr>
              <p:cNvPr id="558" name="AutoShape 10"/>
              <p:cNvSpPr/>
              <p:nvPr/>
            </p:nvSpPr>
            <p:spPr>
              <a:xfrm>
                <a:off x="2732040" y="44280"/>
                <a:ext cx="5401800" cy="3237840"/>
              </a:xfrm>
              <a:prstGeom prst="horizontalScroll">
                <a:avLst>
                  <a:gd name="adj" fmla="val 12500"/>
                </a:avLst>
              </a:prstGeom>
              <a:solidFill>
                <a:srgbClr val="4f81bd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59" name="Text Box 11"/>
              <p:cNvSpPr/>
              <p:nvPr/>
            </p:nvSpPr>
            <p:spPr>
              <a:xfrm>
                <a:off x="3660480" y="676080"/>
                <a:ext cx="38818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60" name="Group 2"/>
            <p:cNvGrpSpPr/>
            <p:nvPr/>
          </p:nvGrpSpPr>
          <p:grpSpPr>
            <a:xfrm>
              <a:off x="3092400" y="691920"/>
              <a:ext cx="5150880" cy="2071800"/>
              <a:chOff x="3092400" y="691920"/>
              <a:chExt cx="5150880" cy="2071800"/>
            </a:xfrm>
          </p:grpSpPr>
          <p:sp>
            <p:nvSpPr>
              <p:cNvPr id="561" name="AutoShape 3"/>
              <p:cNvSpPr/>
              <p:nvPr/>
            </p:nvSpPr>
            <p:spPr>
              <a:xfrm>
                <a:off x="3092400" y="691920"/>
                <a:ext cx="5150880" cy="2071800"/>
              </a:xfrm>
              <a:prstGeom prst="horizontalScroll">
                <a:avLst>
                  <a:gd name="adj" fmla="val 125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RADICA FUNDAMENTALMENTE EN HABLAR BIEN DE LOS DEMÁS, INVITA A SER ASERTIVO CON LOS ERRORES Y DEFECTOS DEL PRÓJIMO, ASÍ COMO TAMBIÉN A RESALTAR SUS CUALIDADES Y VIRTUDES.</a:t>
                </a:r>
                <a:endParaRPr b="0" lang="en-US" sz="1600" spc="-1" strike="noStrike">
                  <a:solidFill>
                    <a:srgbClr val="000000"/>
                  </a:solidFill>
                  <a:latin typeface="Arial Black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62" name="Text Box 4"/>
              <p:cNvSpPr/>
              <p:nvPr/>
            </p:nvSpPr>
            <p:spPr>
              <a:xfrm>
                <a:off x="3853080" y="1175040"/>
                <a:ext cx="38822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pic>
        <p:nvPicPr>
          <p:cNvPr id="563" name="1 Imagen" descr=""/>
          <p:cNvPicPr/>
          <p:nvPr/>
        </p:nvPicPr>
        <p:blipFill>
          <a:blip r:embed="rId1"/>
          <a:stretch/>
        </p:blipFill>
        <p:spPr>
          <a:xfrm>
            <a:off x="484200" y="696960"/>
            <a:ext cx="2063880" cy="1944720"/>
          </a:xfrm>
          <a:prstGeom prst="rect">
            <a:avLst/>
          </a:prstGeom>
          <a:ln w="0">
            <a:noFill/>
          </a:ln>
        </p:spPr>
      </p:pic>
      <p:pic>
        <p:nvPicPr>
          <p:cNvPr id="564" name="1 Imagen" descr=""/>
          <p:cNvPicPr/>
          <p:nvPr/>
        </p:nvPicPr>
        <p:blipFill>
          <a:blip r:embed="rId2"/>
          <a:stretch/>
        </p:blipFill>
        <p:spPr>
          <a:xfrm>
            <a:off x="5973840" y="3556080"/>
            <a:ext cx="216036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2"/>
          <p:cNvGrpSpPr/>
          <p:nvPr/>
        </p:nvGrpSpPr>
        <p:grpSpPr>
          <a:xfrm>
            <a:off x="1619280" y="3303720"/>
            <a:ext cx="5425560" cy="3237840"/>
            <a:chOff x="1619280" y="3303720"/>
            <a:chExt cx="5425560" cy="3237840"/>
          </a:xfrm>
        </p:grpSpPr>
        <p:grpSp>
          <p:nvGrpSpPr>
            <p:cNvPr id="566" name="Group 3"/>
            <p:cNvGrpSpPr/>
            <p:nvPr/>
          </p:nvGrpSpPr>
          <p:grpSpPr>
            <a:xfrm>
              <a:off x="1619280" y="3303720"/>
              <a:ext cx="5401800" cy="3237840"/>
              <a:chOff x="1619280" y="3303720"/>
              <a:chExt cx="5401800" cy="3237840"/>
            </a:xfrm>
          </p:grpSpPr>
          <p:sp>
            <p:nvSpPr>
              <p:cNvPr id="567" name="AutoShape 4"/>
              <p:cNvSpPr/>
              <p:nvPr/>
            </p:nvSpPr>
            <p:spPr>
              <a:xfrm>
                <a:off x="1619280" y="3303720"/>
                <a:ext cx="5401800" cy="3237840"/>
              </a:xfrm>
              <a:prstGeom prst="horizontalScroll">
                <a:avLst>
                  <a:gd name="adj" fmla="val 12500"/>
                </a:avLst>
              </a:prstGeom>
              <a:solidFill>
                <a:srgbClr val="4f81bd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68" name="Text Box 5"/>
              <p:cNvSpPr/>
              <p:nvPr/>
            </p:nvSpPr>
            <p:spPr>
              <a:xfrm>
                <a:off x="2547720" y="3935520"/>
                <a:ext cx="38818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69" name="Group 6"/>
            <p:cNvGrpSpPr/>
            <p:nvPr/>
          </p:nvGrpSpPr>
          <p:grpSpPr>
            <a:xfrm>
              <a:off x="2147760" y="4041720"/>
              <a:ext cx="4897080" cy="773640"/>
              <a:chOff x="2147760" y="4041720"/>
              <a:chExt cx="4897080" cy="773640"/>
            </a:xfrm>
          </p:grpSpPr>
          <p:sp>
            <p:nvSpPr>
              <p:cNvPr id="570" name="AutoShape 7"/>
              <p:cNvSpPr/>
              <p:nvPr/>
            </p:nvSpPr>
            <p:spPr>
              <a:xfrm>
                <a:off x="2147760" y="4041720"/>
                <a:ext cx="4897080" cy="773640"/>
              </a:xfrm>
              <a:prstGeom prst="horizontalScroll">
                <a:avLst>
                  <a:gd name="adj" fmla="val 125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Black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71" name="Text Box 8"/>
              <p:cNvSpPr/>
              <p:nvPr/>
            </p:nvSpPr>
            <p:spPr>
              <a:xfrm>
                <a:off x="2739600" y="4363560"/>
                <a:ext cx="3882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572" name="Rectangle 9"/>
            <p:cNvSpPr/>
            <p:nvPr/>
          </p:nvSpPr>
          <p:spPr>
            <a:xfrm>
              <a:off x="2338560" y="3879720"/>
              <a:ext cx="4176720" cy="19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MPLICA TOMAR DECISIONES LIBREMENTE, ACEPTANDO LAS CONSECUENCIAS, DEBERES Y OBLIGACIONES. SOMOS AUTÉNTICAMENTE LIBRES Y DUEÑOS DE NUESTRO PROYECTO DE VIDA Y DE TODAS LAS DECISIONES PASADAS Y FUTURAS.</a:t>
              </a:r>
              <a:endParaRPr b="0" lang="en-US" sz="1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pic>
        <p:nvPicPr>
          <p:cNvPr id="573" name="1 Imagen" descr=""/>
          <p:cNvPicPr/>
          <p:nvPr/>
        </p:nvPicPr>
        <p:blipFill>
          <a:blip r:embed="rId1"/>
          <a:stretch/>
        </p:blipFill>
        <p:spPr>
          <a:xfrm>
            <a:off x="2736720" y="836640"/>
            <a:ext cx="29512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18:10:25Z</dcterms:created>
  <dc:creator>Pablo Turmero</dc:creator>
  <dc:description/>
  <dc:language>en-US</dc:language>
  <cp:lastModifiedBy>Pablo Turmero</cp:lastModifiedBy>
  <dcterms:modified xsi:type="dcterms:W3CDTF">2017-07-02T14:38:17Z</dcterms:modified>
  <cp:revision>36</cp:revision>
  <dc:subject/>
  <dc:title>Campaña de Valores</dc:title>
</cp:coreProperties>
</file>