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64C-F0F6-470C-ADE3-395DE717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B81-60FE-4C38-B6A5-80FF6C39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2F446-D4F1-4040-ACFE-480EE1EF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5BE0D-14B3-4829-B804-234673B3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96FCA-0EF2-46D9-80C4-D49DD52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7D457-B095-4C47-9A10-7439D4DF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8F6B7-5356-401B-95E5-BB01175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541DB-34CA-4CE8-99D8-FD6CC5D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BE804-C6DF-4FF6-B5F4-A7A545DD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1D552-5123-49B1-8B2E-66D4B202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A765E-33D7-423B-95C6-C82309CA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B7491-15AE-4FDB-ACFE-780450BB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30C-3178-477A-AD47-0E47BB61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29054-3EC2-4781-8956-678A8565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5800F-4331-4860-A3FC-9265143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2449B-557D-4A4A-BA73-40335F93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B32AE-BF22-4EC7-A4C4-3EEE501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DF9D3-3EF9-4EB3-B686-4841105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4B9D6-D02D-4B6A-9E1A-449167C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43DA5-786B-4C00-A235-CD7AD2B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C2533-DD35-441C-9693-5751B25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F875D-214B-4D67-ACD8-DE3E8641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DFDAD-8155-4BBC-8F40-F5207D5E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DCA-E629-456E-8483-CFF764CF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C7C17-B87C-4D52-A841-2A894C80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DBB8F-BAF2-4FA6-AF60-09EABEF3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F9035-162E-4DC4-A997-F1E0B343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38487-0202-40CF-A2F8-54E31A6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B6FB8-2986-4EF3-92FD-AAB4461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818A2-7297-481C-B049-8012E2A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D804D-AA27-429D-85A6-54C5BC5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5928E-E42E-4F16-BBBF-D150DE5E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B4C79-E75E-4BF6-B856-96ECE5A4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45CD2-6E3C-45C4-A599-77FAE8B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0C74-C7A7-4103-8350-29240254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ACCF1-76E9-469F-9E05-BE439C81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75355-876B-4DAC-9923-4E7C9B95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C253B-15EA-40B3-A865-50E9C318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7B379-E399-4CA0-8AED-5EF07FE2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AFD67-931A-4406-BCC9-F40D3D13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A8AF3-DFF4-4D9E-AF71-17C731A2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4D7B7-EADD-475D-B153-0EBA601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7DA8A-B448-4113-81A5-C62E27D9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A1319-8006-463B-92E3-B5AE2415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0407B-BF8C-410E-94B8-5AB874E3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3B61-2ADC-4922-8B8F-1617A61C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9AE35-FB17-4941-A14C-259741D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A61C4-F69D-4C3C-B437-6FF314F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1DC31-9241-4867-854F-25B8CDB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71A94-E10B-49AE-BB57-35082B97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5E117-1D1F-4F9C-9F2E-73DCE10D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0AE7-EC28-4153-AEF8-605FD94E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C3B5-0CBC-4935-839A-E80E1A3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92F2-3602-41D2-963C-60079105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E786-157F-4DD8-B47B-78B48918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8D20-2439-4A51-B079-BF5BB30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4BE-AC8F-481E-BC72-9A111E8D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0707-3B6C-406A-9BEF-3D5F748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C29B-BE6E-43AB-A519-A513703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6ACD-B89B-4486-9545-1CF287C5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E263-BE1B-4894-8439-071B6A5A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BCC0-B477-4641-9912-AD446984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0B19-7D8B-4726-93CE-07A27491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7622-3926-4345-97A1-34926CA9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1020-BB74-4F4D-A160-4B7B5E0A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E198-1EC4-4E88-9469-1FF4B8F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0699-C3D2-491D-8A26-0E4378B3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01E-D89E-4D9E-84EC-FBB908F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F6C8-BE1C-4998-B9AD-AC006C8B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4ED4-3E81-4158-A5C2-CCD87E1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D7A4-0014-488F-A1C5-3721E228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089C-BE05-4549-A05D-A0B9A25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FFDE-4CFD-45A3-AB28-80FE773D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B1CD-B6D6-4A08-86DA-C34527E1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1A19-2CCF-4F85-AC26-4E9402B9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6A23-6EE7-4C9C-97FF-15B8ABC5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CAF6-D25F-43E4-8739-3BAC564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7BC1-6375-46A7-AF19-8A5BB870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008-FC8A-4808-9062-30CE109C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FEEB-F916-4B12-A3E8-F4DEBFE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12D9-DEFF-4F26-9D69-9ADAF8F5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C79E-833C-44BC-ACB9-53995E4B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2115-B844-4D5A-9CD2-08AC392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57C9-9AD6-4876-8633-03B67E6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A024-9E1B-43E0-8364-B895B8F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30A4-CB63-4E07-9703-00B3A02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344A-7E69-4F24-9B6A-A89090F1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A035-ABF2-4D63-B526-FDDDE5A5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61CC0-BE1F-427B-AAF9-796A3257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351-D6E4-4C5C-9438-89AC69B6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31A0-7125-4E6F-A533-660CA096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7621-1DBC-47E6-8C11-99259E64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798F-A1B4-48C1-B81D-14F9278C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3B5F-43E0-45ED-8D91-B5992AD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AE9FA-869C-4F00-A0C4-C2821088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2B31-F951-4219-A03F-DD16B70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013A-6FF8-40F2-A68D-A883993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DCC4-E9D0-4D03-9A37-DE21BF77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5EB7-AA3B-4F76-90E4-7FA599C2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A8CB-9583-4788-A15F-7490C50E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739-871A-4786-8245-FBED7C90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E04A2-FB87-4A33-A5F6-3BB9AE9A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48B9-0485-4B1E-8B7C-9FCFF1EA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F74F2-D253-463C-875D-3929D9AB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9647B-8E07-4FB1-AB07-3F7741D0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CBCE1-1BB0-4A1D-9EA5-576E8C8C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11AA5-EC2B-4781-B32B-81CE67CE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1A26-AC22-47A1-B2C3-ABC6D07F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7CA1C-E3D1-4B64-AE90-17F15D35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0FBB-D05B-4232-9832-03FB466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AC0C6-BCAF-4452-A8BA-05C6FE4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0E9-BADE-4C84-A595-25932AB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CDC29-39CD-47F1-B0FC-894A5F2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00C8-151C-4275-9A47-CEEC6F8A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B92EA-6103-4FBD-9FCD-B3B77643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C3767-23DB-4232-9A83-BE0F7104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E5C2-DAE1-4E78-AD06-6F6E04A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565FD-9981-4E20-AC05-9DB00C6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2BC7-6EC6-40D6-A198-C559AA71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A4A56-C201-45BC-ACEC-EB292FC5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A548-5296-4DFB-A380-D9363C9C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F4E6-5497-4E80-9583-FAC8831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521-F955-4B93-B686-D5CFE34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8BD48-2835-43CE-87D5-32F7E7E1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7519-A90B-4836-99B8-2C58A97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14345-E758-4876-826F-286C9E72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0889-37E1-4622-A8A2-02513C50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3789-2C8A-4D2A-9AD4-C6D245C5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E8EC-D14D-46E1-8AE3-F09FAC40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AD03-1E6D-47B8-952B-B69A911A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5612D-B35A-4669-B4B1-4FE49275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968B-3419-4C1F-8076-D135F1BA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5F10F-C418-40BE-816D-6EB08625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064-EDC4-4E9F-9485-AE58282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131640" y="115920"/>
            <a:ext cx="5761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C72D7-A938-4BA3-8C6A-11152C7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5878-91BC-49B7-9063-FF01D164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194C-9062-4B75-8521-CC26FFA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6C7A-6CD9-4F87-A79C-72B560A1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87A2A-D10D-453A-8448-A8424620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876AE-6183-41D3-AAAF-38B53EB5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FBAE-9951-4818-93F4-4FA0AEC9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EA79D-4138-4449-9928-96E1612D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DB2E0-DB85-4691-BAFF-B7648B38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3CEAC-75FB-46A8-BEB7-EA95427E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B71F7E79-A684-4D75-8445-BAE9E34D15E1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971640" y="692280"/>
            <a:ext cx="71280" cy="71280"/>
          </a:xfrm>
          <a:prstGeom prst="ellipse">
            <a:avLst/>
          </a:prstGeom>
          <a:gradFill rotWithShape="0">
            <a:gsLst>
              <a:gs pos="0">
                <a:srgbClr val="ff7c33">
                  <a:alpha val="71372"/>
                </a:srgbClr>
              </a:gs>
              <a:gs pos="100000">
                <a:srgbClr val="ffcdb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157320" y="1197000"/>
            <a:ext cx="8591400" cy="3960720"/>
          </a:xfrm>
          <a:custGeom>
            <a:avLst/>
            <a:gdLst/>
            <a:ahLst/>
            <a:rect l="l" t="t" r="r" b="b"/>
            <a:pathLst>
              <a:path w="5488" h="2495">
                <a:moveTo>
                  <a:pt x="0" y="2495"/>
                </a:moveTo>
                <a:lnTo>
                  <a:pt x="0" y="0"/>
                </a:lnTo>
                <a:lnTo>
                  <a:pt x="5488" y="0"/>
                </a:lnTo>
              </a:path>
            </a:pathLst>
          </a:custGeom>
          <a:noFill/>
          <a:ln w="22320">
            <a:solidFill>
              <a:srgbClr val="8f5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1332000" y="157320"/>
            <a:ext cx="1712880" cy="1039680"/>
          </a:xfrm>
          <a:custGeom>
            <a:avLst/>
            <a:gdLst/>
            <a:ahLst/>
            <a:rect l="l" t="t" r="r" b="b"/>
            <a:pathLst>
              <a:path w="1088" h="635">
                <a:moveTo>
                  <a:pt x="0" y="0"/>
                </a:moveTo>
                <a:lnTo>
                  <a:pt x="1088" y="0"/>
                </a:lnTo>
                <a:lnTo>
                  <a:pt x="1088" y="635"/>
                </a:lnTo>
              </a:path>
            </a:pathLst>
          </a:custGeom>
          <a:noFill/>
          <a:ln w="22320">
            <a:solidFill>
              <a:srgbClr val="8f5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DF1706BC-CD09-4FEF-8B81-C0DA918CE433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B1C36851-E095-43F5-B91A-2AA6ED88B179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4A493FAA-76D2-4489-9351-0D994ED96186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AEC59B5A-BD1F-4CEA-BE6B-4974FE941CBD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B1D99679-932B-4122-89EC-396E98CF08B5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0DD31A6F-F1FA-4974-89CE-54D03A1A387B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FD2A4924-FC68-4519-92AE-531BF4EAED6C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7B2822D3-CF02-4A16-9483-E7EFE9807260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27B94C48-1CE9-4E48-BEC0-AD070D0CA1BE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06E59539-DD74-4DB2-A608-FE93A870CD65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fd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b4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178920" y="6434280"/>
            <a:ext cx="1019160" cy="279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22/11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2124000" y="6381720"/>
            <a:ext cx="5616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783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783b"/>
                </a:solidFill>
                <a:latin typeface="Times New Roman"/>
              </a:rPr>
              <a:t>E.T.S de Ingenieros de Telecomunicación - U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852120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6d38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.</a:t>
            </a:r>
            <a:fld id="{1CF24FD8-CDE0-4777-A7AC-B9FAF8866A60}" type="slidenum">
              <a:rPr b="0" lang="es-ES" sz="1200" spc="-1" strike="noStrike">
                <a:solidFill>
                  <a:srgbClr val="e6d38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5fda9"/>
                </a:solidFill>
                <a:latin typeface="Arial"/>
              </a:rPr>
              <a:t>Introducción a JAVA</a:t>
            </a:r>
            <a:endParaRPr b="1" lang="en-US" sz="4800" spc="-1" strike="noStrike">
              <a:solidFill>
                <a:srgbClr val="f5fda9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Marcador de número de diapositiva 6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C27339CB-B612-43A6-98C2-1A8D0C11E8E3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Interpretado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7b481"/>
                </a:solidFill>
                <a:latin typeface="Arial"/>
              </a:rPr>
              <a:t>Compilador tradicional</a:t>
            </a: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raslada sentencias alto-nivel a múltiples instruc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reación de librerías como resultado de compilaciones previ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Juntando, se crea programa ejecutab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7b481"/>
                </a:solidFill>
                <a:latin typeface="Arial"/>
              </a:rPr>
              <a:t>Intérprete de ByteCodes</a:t>
            </a: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ilador J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raduce código fuente a código intermed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terprete de J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Virtual Machine(JV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(ByteCodes interpretados (ejecutados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913040" cy="34002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cap2-9"/>
          <p:cNvPicPr/>
          <p:nvPr/>
        </p:nvPicPr>
        <p:blipFill>
          <a:blip r:embed="rId2"/>
          <a:stretch/>
        </p:blipFill>
        <p:spPr>
          <a:xfrm>
            <a:off x="4932360" y="2133720"/>
            <a:ext cx="1590840" cy="3543120"/>
          </a:xfrm>
          <a:prstGeom prst="rect">
            <a:avLst/>
          </a:prstGeom>
          <a:ln w="0">
            <a:noFill/>
          </a:ln>
        </p:spPr>
      </p:pic>
      <p:sp>
        <p:nvSpPr>
          <p:cNvPr id="531" name="Line 8"/>
          <p:cNvSpPr/>
          <p:nvPr/>
        </p:nvSpPr>
        <p:spPr>
          <a:xfrm>
            <a:off x="7524720" y="2565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9"/>
          <p:cNvSpPr/>
          <p:nvPr/>
        </p:nvSpPr>
        <p:spPr>
          <a:xfrm>
            <a:off x="752472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DA8E4953-548D-42FB-AFFC-FB92D94206C0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Robusto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No se interrumpe fácilmente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Evita sobreescribir o corromper memoria mediante punteros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Manejo de excepciones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Verificación de ByteCodes (por ejemplo no acceso ilegal de memoria)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A7CC610C-5658-4AE7-A527-B962DAD21F63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Seguro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Aplicaciones seguras ya que no acceden a zonas delicadas de memoria o de sistema 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existen punteros, no acceso a zonas delicadas de memo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applet no puede acceder al sistema, a los archivos de la persona que lo está vie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AE8F3064-3707-43F1-B555-CC26DAEC725E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fda9"/>
                </a:solidFill>
                <a:latin typeface="Arial"/>
              </a:rPr>
              <a:t>Características: Arquitectura neutra</a:t>
            </a:r>
            <a:endParaRPr b="1" lang="en-US" sz="24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Java compila el código a un fichero objeto de formato independiente de la arquitectura de la máquina en que se ejecutará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Cualquier plataforma donde exista una JVM se puede ejecutar el código objeto independientemente de la máquina en el que ha sido generado. 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7C806224-35E0-4124-A21D-0952D64303AA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fda9"/>
                </a:solidFill>
                <a:latin typeface="Arial"/>
              </a:rPr>
              <a:t>Características: Arquitectura neutra</a:t>
            </a:r>
            <a:endParaRPr b="1" lang="en-US" sz="24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Código fuente se compila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a un código de bytes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independientemente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de la máquina.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Los ByteCodes se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ejecutan en una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máquina hipotética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que se implementa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por un sistema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run-time, que es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dependiente 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de la máquina.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5587920" cy="3284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3203640" y="2205000"/>
            <a:ext cx="23763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5fda9"/>
                </a:solidFill>
                <a:latin typeface="Arial"/>
              </a:rPr>
              <a:t>Tiempo de compi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189840" y="2060640"/>
            <a:ext cx="23763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5fda9"/>
                </a:solidFill>
                <a:latin typeface="Arial"/>
              </a:rPr>
              <a:t>Tiempo de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812B2183-D032-46AC-A830-15AD278C07A4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fda9"/>
                </a:solidFill>
                <a:latin typeface="Arial"/>
              </a:rPr>
              <a:t>Características: Arquitectura neutra</a:t>
            </a:r>
            <a:endParaRPr b="1" lang="en-US" sz="24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7b481"/>
                </a:solidFill>
                <a:latin typeface="Arial"/>
              </a:rPr>
              <a:t>Elementos que forman parte de arquitectura de Java sobre una plataforma genérica.</a:t>
            </a: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Dependiente del sistema: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V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ibrerías fundam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Is de Java q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tren en conta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to con el hardw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7b481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4067280" y="2708280"/>
            <a:ext cx="4181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D008D91E-772E-4788-A1E2-5722010815A7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Portable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7b481"/>
                </a:solidFill>
                <a:latin typeface="Arial"/>
              </a:rPr>
              <a:t>Más allá de la portabilidad básica por ser de arquitectura independiente.</a:t>
            </a:r>
            <a:endParaRPr b="0" lang="en-US" sz="40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5B43B96D-606F-4C6E-947B-D27CA912D24E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fda9"/>
                </a:solidFill>
                <a:latin typeface="Arial"/>
              </a:rPr>
              <a:t>Características: Altas prestaciones</a:t>
            </a:r>
            <a:endParaRPr b="1" lang="en-US" sz="24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Compiladores JIT (Just in time): Compilan en el momento de ejecución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slada los bytecodes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ódigo máquina de la platafo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ún los va leyendo, realiza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erto grado de optim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IT no pierde tiempo 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ptimizar código que no se ejecut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b481"/>
              </a:solidFill>
              <a:latin typeface="Arial"/>
            </a:endParaRPr>
          </a:p>
        </p:txBody>
      </p:sp>
      <p:pic>
        <p:nvPicPr>
          <p:cNvPr id="558" name="Picture 5" descr="cap2-10"/>
          <p:cNvPicPr/>
          <p:nvPr/>
        </p:nvPicPr>
        <p:blipFill>
          <a:blip r:embed="rId1"/>
          <a:stretch/>
        </p:blipFill>
        <p:spPr>
          <a:xfrm>
            <a:off x="6948360" y="2349360"/>
            <a:ext cx="1171800" cy="3057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85EBF790-2C7D-4E92-A5B5-5CD1F280138A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fda9"/>
                </a:solidFill>
                <a:latin typeface="Arial"/>
              </a:rPr>
              <a:t>Características: Altas prestaciones</a:t>
            </a:r>
            <a:endParaRPr b="1" lang="en-US" sz="24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Se introdujo un nuevo JIT: HotSpot.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cluye compilador diná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una máquina virtual p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rpretar bytec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jor soporte para orden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 varios procesado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 escal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98152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BE455BAD-6F6E-4C17-98CF-E7D8968E7076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Multithread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Ejecución de varias tareas a la vez. Permite muchas actividades simultáneas en un programa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Posee una serie de clases que facilitan su utilización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Mejor rendimiento interactivo y mejor comportamiento en tiempo real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F011DCD5-0CDA-4F0F-BBF9-DB7F4D491888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Índice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¿Qué es Java?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La plataforma Java 2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La Máquina Virtual de Java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Características principales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¿Qué ventajas tengo como desarrollador?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EFB23C41-09BE-480A-AF6A-52264BA47664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Dinámico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No conecta todos los módulos que comprenden una aplicación hasta el mismo tiempo de ejecución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Las librerías nuevas o actualizadas no paralizan la ejecución de las aplicaciones siempre que mantengan la API anterior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A9C0752A-81BE-45BE-B6F3-C7BF9A3DDA55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Dinámico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Capaz de traer automáticamente cualquier pieza que el sistema necesite para funcionar.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979640" y="2997360"/>
            <a:ext cx="552276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637FE702-5929-4A19-9F8D-F972E52723A4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fda9"/>
                </a:solidFill>
                <a:latin typeface="Arial"/>
              </a:rPr>
              <a:t>¿Qué ventajas tengo como desarrollador?</a:t>
            </a:r>
            <a:endParaRPr b="1" lang="en-US" sz="24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Comenzar rápidamente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Escribir menos código, 4 veces menos que en C++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Escribir mejor código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Desarrollar programas más rápidamente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Eliminar dependencias de la plataforma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Escribir una vez, ejecutar en cualquier parte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5C28DCC2-29AE-4CFF-8DE1-7147D1D078AB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5fda9"/>
                </a:solidFill>
                <a:latin typeface="Arial"/>
              </a:rPr>
              <a:t>¿Qué es Java?</a:t>
            </a:r>
            <a:endParaRPr b="1" lang="en-US" sz="36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7b481"/>
                </a:solidFill>
                <a:latin typeface="Arial"/>
              </a:rPr>
              <a:t>La tecnología Java es un lenguaje de programación y una plataforma.</a:t>
            </a:r>
            <a:endParaRPr b="0" lang="en-US" sz="48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369ECFF7-3FC0-4F1B-8F16-26706FFA7D83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La plataforma Java 2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Una plataforma software que se ejecuta sobre otra plataforma hardware/software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La Máquina Virtual Java 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La interfaz de Programación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(JVM)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de Aplicaciones (API)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Intérprete de Java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e7b481"/>
                </a:solidFill>
                <a:latin typeface="Arial"/>
              </a:rPr>
              <a:t>Conjunto de clases ya desarrolladas</a:t>
            </a:r>
            <a:endParaRPr b="0" lang="en-US" sz="20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05" name="Line 4"/>
          <p:cNvSpPr/>
          <p:nvPr/>
        </p:nvSpPr>
        <p:spPr>
          <a:xfrm flipH="1">
            <a:off x="2987280" y="2637000"/>
            <a:ext cx="151308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4500720" y="2637000"/>
            <a:ext cx="151128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2268360" y="3933720"/>
            <a:ext cx="0" cy="432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6588000" y="3933720"/>
            <a:ext cx="0" cy="432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26CA74C1-A505-4C72-AC86-AEDDAD812299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La plataforma Java 2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263600" y="1600200"/>
            <a:ext cx="66150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Marcador de número de diapositiva 6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B217D912-59DA-4E5A-AA4B-F2509A04CD1A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 Principales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Sencillo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Orientado a objetos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Distribuido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Interpretado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Robusto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Seguro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Arquitectura neutra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Portable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Altas prestaciones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Multithread (multihilo)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Dinámico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57125BC0-9D0B-4F16-850F-A0ED83795224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Sencillo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7b481"/>
                </a:solidFill>
                <a:latin typeface="Arial"/>
              </a:rPr>
              <a:t>Elimina algunas de las características de C y C++:</a:t>
            </a:r>
            <a:endParaRPr b="0" lang="en-US" sz="28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aritmética de punt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existen referen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existe typedef ni #def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sobrecarga oper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herencia múlti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ee clase St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necesidad de asignar y liberar memoria (Garbage Collect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116A8FCE-2F11-49B2-B860-78C708E61DEC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fda9"/>
                </a:solidFill>
                <a:latin typeface="Arial"/>
              </a:rPr>
              <a:t>Características: Orientado a objetos</a:t>
            </a:r>
            <a:endParaRPr b="1" lang="en-US" sz="24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Java trabaja con sus datos como objetos y con interfaces a esos objetos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Implementa: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capsulación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erencia simple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Paque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bs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util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morfis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Marcador de número de diapositiva 5"/>
          <p:cNvSpPr/>
          <p:nvPr/>
        </p:nvSpPr>
        <p:spPr>
          <a:xfrm>
            <a:off x="8521560" y="6434280"/>
            <a:ext cx="443160" cy="2793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6d382"/>
                </a:solidFill>
                <a:latin typeface="Arial"/>
              </a:rPr>
              <a:t>.</a:t>
            </a:r>
            <a:fld id="{2DC9D0D4-E25F-459D-BE44-88B2C53517CE}" type="slidenum">
              <a:rPr b="0" lang="es-ES" sz="1200" spc="-1" strike="noStrike">
                <a:solidFill>
                  <a:srgbClr val="e6d3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761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5fda9"/>
                </a:solidFill>
                <a:latin typeface="Arial"/>
              </a:rPr>
              <a:t>Características: Distribuido</a:t>
            </a:r>
            <a:endParaRPr b="1" lang="en-US" sz="2800" spc="-1" strike="noStrike">
              <a:solidFill>
                <a:srgbClr val="f5fda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Concebido para trabajar en un entorno conectado en red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7b4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7b481"/>
                </a:solidFill>
                <a:latin typeface="Arial"/>
              </a:rPr>
              <a:t>En sí no es distribuido, proporciona librerías y herramientas para que los programas puedan ser distribuidos, que los programas corran en varias máquinas interactuando.</a:t>
            </a:r>
            <a:endParaRPr b="0" lang="en-US" sz="3200" spc="-1" strike="noStrike">
              <a:solidFill>
                <a:srgbClr val="e7b481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9:29:50Z</dcterms:created>
  <dc:creator>Pablo Turmero</dc:creator>
  <dc:description/>
  <dc:language>en-US</dc:language>
  <cp:lastModifiedBy>Pablo Turmero</cp:lastModifiedBy>
  <dcterms:modified xsi:type="dcterms:W3CDTF">2017-06-01T18:52:14Z</dcterms:modified>
  <cp:revision>51</cp:revision>
  <dc:subject/>
  <dc:title>Introducción a JAVA</dc:title>
</cp:coreProperties>
</file>