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D85-73F1-4A98-A450-1F443D98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075-9DC8-4EAA-9822-A2BF0267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9DA91-2EF7-43C9-A392-B2A442E7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CA7E9-3256-487D-A46D-A731FA7C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F9228-1524-4A32-98A3-23ED5E27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95776-4886-4026-8F21-84D6E59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64C13-769E-4A3A-BA05-E58D276F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A2BD1-9FA0-42CF-99F2-3B8D5E87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CA00E-9FD0-4E49-8821-241A8C9A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AB134-9734-40A9-8950-9C446FA5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581B0-EE41-4659-81D0-22BD93F1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4BB26-ABA9-48A1-9E1A-9CE99A50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EFB-3695-4F5C-AC4C-A9C0BB84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68EC4-8F7D-4B79-95F4-93E1D299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342FD-8DA7-4180-B7E3-D94385EB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B7DEF-F3C8-453D-9051-F69F269E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ED959-B1CC-464B-98BB-38A638FC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2CBFF-78BF-4124-AABD-7A921B04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1649E-5F65-4414-93F5-DC426F27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75428-4594-42B8-8190-F3E9786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D67FB-A116-4D9F-AE7C-313831D8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1AE95-D7CC-4F9C-B69E-FC369606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C49CA-1114-445D-9F53-6429C350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FEC-BE6B-4D25-A49F-17EA551A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4BDEB-3C09-4F24-9BBB-B28C249A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3B460-B42E-4F9B-94BF-DE9B800D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01DE5-7730-4655-A26F-D3EF5BBD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AC4BB-07E9-4804-AD0D-9A1CD357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AF745-C2DD-4135-AD98-227F7A71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3B67A-4F32-47E5-A1B3-4680B117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FA6D8-5E0A-4076-A948-16B89DF9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5E22C-CA01-41FA-891D-71E46C9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91810-F57B-4DDC-999B-D9E943A3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24289-9EF8-49B1-8CAE-DF3D3CC4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CC66-6CF7-41C1-8CA5-5FE15CA1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B337C-2F1A-414A-8881-682874AE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43F03-03B8-425F-B7F7-B4D19238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4D67E-0722-42CF-8C13-A41CAD68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1CAFA-8849-41EC-AFD2-1B636DC4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B78F3-CB66-424A-997C-61DD7B7C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26B5E-EA7B-4F6C-8381-B12D799F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BDD1B-2686-4376-8CD1-BACCA88A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1A3CE-5C33-4FCF-BDAD-4B155C9F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D428F-FF12-4CB7-9B46-00ED52A9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55C18-63A1-4145-B63E-B33F63B3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D3E0-44A0-4951-BA54-5AB2B165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E58BD-0B67-4E21-8614-8D8C497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98C22-C217-4060-BE2D-024DC0EC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A082C-C2FD-4712-8781-DF2B144E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1D212-B816-4D0E-8DEB-60333000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77B6F-AD34-4A95-B9D3-62893447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AF4C1-62C9-4207-8108-B286D98B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3AA25-0B5F-4645-8892-5AE5C143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088C0-70D7-4B55-ABC1-359874BE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3AC31-BEBE-4D34-9DFB-C7F4CD39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4CA3F-255D-4D56-9AED-61821BDE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9A2C-EB0B-43B9-B1A4-3D5BCAE2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C254B-30C9-4960-9D9C-6A35F84D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ED626-01BD-4035-9421-FCD90D44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D2463-8024-4773-BBB6-1527126A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EB573-030A-4342-981F-0887ECD0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D4BF0-9A42-4B38-8D60-9B5A186E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F3EC4-C294-44BA-BE33-4681A94A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F4DD8-A0D5-4637-9B9D-3789F9B8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E8E5-D4D2-4D91-A66D-0C01B806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6C12-565A-4F16-B1DE-1B0473FE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0AF0-2666-4CF4-B714-C2439C41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A71B-C9B2-4739-908F-2DFBF99C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551-E720-423C-9368-EF267A6E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0A6E-8141-4E82-86A1-395E536B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C3B0-4D88-406A-A1AC-377464C3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8621-B2F6-40A9-A84B-FFD8BCBC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5EAD-8B26-4130-9291-E38AD4DE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0B71-85D2-4AF9-85E6-65EB97D0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7CA82-5211-47B9-8BEC-4129AABD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0644-1E32-468A-B9CA-95F471D9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5170-755B-46F2-9A92-A43A6DA4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347A-0C92-4B81-B718-A410E2EB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E3FB-25C2-4D76-9887-864F16A1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5B6-BD0E-4F4C-8C1A-01B9A775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6528A-5504-4E0E-85F5-4870C50D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B8C8-86A4-4985-A014-B0248876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44D2F-8FDA-45B0-B7C3-A5027256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634C7-29CB-441B-A767-101C84BB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5A84E-412A-4620-9F3E-3E6D333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D0B6-D042-4AFB-83E9-C2406BDE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A0D4-B917-41C6-B372-60D986A9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1C2D0-3329-49A0-BD55-7AD0397B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F8361-A586-47FE-B0F8-CC6B6110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0798-D3BA-4BE8-BA3A-C99E83FB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D93-25E0-45F6-AE4E-87B7DCCA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2F5A0-1281-4B82-A101-148C8D46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14F98-14F8-4316-9047-2902E77E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E8678-B818-47BE-890E-8A6EFBD8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86A74-ADD7-4F46-A6C8-3C0D7CBD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F1C93-889F-456F-BE84-43E9FBD8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C0D08-27BD-4101-8F58-D0EEA3F9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5C2F9-8BF8-44F6-8D71-3D3D026E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51B1-DF26-4A06-9138-420D5021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72D6A-26A6-49A2-85DA-76D9F062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AE327-FEE7-4428-BE6A-93BB663D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FE4-7776-4F50-891D-9AFF5A9F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00ED-267B-4A5F-BFD8-AC563BFC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29C54-54EE-465B-AC46-12541798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5F435-A0B0-4687-9AC8-C5B0156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9E1FF-A298-4E35-B4D6-A290162E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6B14E-E565-4234-902E-CB3AA588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BF062-0CF4-4B79-8C8F-248E69FD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2C143-C49A-4862-A204-63C5995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98BA-91EE-4AB7-816B-6A3CAD5E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D71DC-13C6-4B00-8D43-54E2FEC0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7D30A-257B-4B4D-9532-E3A65C20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DE4-C629-4E74-85C2-DF501F4C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52191-F753-461D-8679-861FA096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2835B-B62D-401A-9367-1DEBA85F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04C91-82AD-4165-A7B0-3066D91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7E141-826D-411F-8335-39C78733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9C10D-D653-418D-B7E1-056B55D9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F8DDA-B959-4EBE-8E34-7E8717C0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FE00F-59AB-4D7D-B363-D2026B35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B6AC5-5FDD-4CE9-86C4-B6CE640C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A89AE-7B89-437C-BCD7-3BD6CF27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68087-9970-4F06-B604-7D166FB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60A-AA68-427B-8923-E1BB76B2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6FDF1-224E-484A-B3B9-8148832C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B98D3-A81B-452A-91A3-3698CC46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B395A-F5ED-443E-9DDD-2C878257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B1B6-368D-4059-8541-88E0D22A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BF5D9-4C24-4C78-B6C1-FADEAA45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3F22A-3A0C-4F23-9333-730DEB5C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3059A-D318-4020-AFCF-FCE3ED47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1EFE9-295D-4659-BA12-7A3C734B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DCA63-3F98-4159-A68C-5617339C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110A0-6861-44CB-8740-D7F8069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856-6CF6-45C9-8894-ED3F1D48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6D591-5C7E-478E-9AD2-603120B3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976B3-A43C-4BFA-802A-8F39C3AF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3B03E-AF6F-4879-A973-15F92F6C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76814-9FEC-48C1-859D-C2EFC02E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28D55-C231-4555-BB06-294DD1A7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18F86-69B7-4A88-A13F-EE2A6F2D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29D12-C080-4581-939D-87E5E02C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2DFCD-2801-4D05-939A-F9FC20EE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A26AE-4549-4CAA-82DD-AD1ACBB7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4F26-2F8F-44CC-A2A1-54A2E57D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869-1930-411D-B70A-C591FAEE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F366F-DE27-4D5E-B43E-D8074446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35EEE-1CF3-4A80-89D7-FB86C991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896AA-BC4A-40D5-8EC6-92475693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E340D-B6F3-4C08-84E5-621AFD6A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EE912-83AD-44D0-93DB-66D28903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CC600-9BC1-492E-A076-D63BFCE9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BBB8D-D5E9-440D-BD77-344B9911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26A20-ED2A-49C4-B6F8-3251E375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7FE5B-C6F0-4ECD-B21A-BE9FD437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22AB1-E6C1-4E1B-AF45-FC8B663E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0048-E6B4-4DB9-928F-1A551B495D62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E6E6-DEAE-4434-BBCE-A34987525E2B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5878-5157-43B2-AFCB-03ACD0AB2C17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141F-0AB0-48E8-99E3-84F060DE4DBC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6F40-B06D-4BF4-BD3E-50EC8F3D305B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396F-5CBA-4C61-933D-763FF9590657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D14D-E976-45F2-8D63-97983C5D59B9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BC8E-840B-4237-AF52-8C181494FC41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B5CF-1A13-42EB-8874-8C365CB34EBB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1685-0405-469D-A76E-BE5F060B88EF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4BC5-C073-4924-8A08-DFC77606E41B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5E08-F338-472C-96B0-DE31B5E12558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F59F-1F0D-4A93-B15D-6C8509400BA1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5"/>
          <p:cNvSpPr/>
          <p:nvPr/>
        </p:nvSpPr>
        <p:spPr>
          <a:xfrm>
            <a:off x="1116000" y="260280"/>
            <a:ext cx="6769080" cy="180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62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Niveles de Mayor Escala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11280" y="2349000"/>
            <a:ext cx="8208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Organización top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Procesamiento distribuido, serial y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Integración y jerarqu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apas, láminas y colum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Organización celular, conexiones y funcionamiento de la corteza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ere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Areas corticales primarias, secundarias y de as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Integración entre S. Sensorial y 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468360" y="5516640"/>
            <a:ext cx="3240000" cy="431640"/>
          </a:xfrm>
          <a:prstGeom prst="rect">
            <a:avLst/>
          </a:prstGeom>
          <a:solidFill>
            <a:srgbClr val="e4bad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68360" y="4581360"/>
            <a:ext cx="3240000" cy="432000"/>
          </a:xfrm>
          <a:prstGeom prst="rect">
            <a:avLst/>
          </a:prstGeom>
          <a:solidFill>
            <a:srgbClr val="e4bad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468360" y="3645000"/>
            <a:ext cx="3240000" cy="431640"/>
          </a:xfrm>
          <a:prstGeom prst="rect">
            <a:avLst/>
          </a:prstGeom>
          <a:solidFill>
            <a:srgbClr val="e4bad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468360" y="2708280"/>
            <a:ext cx="3240000" cy="431640"/>
          </a:xfrm>
          <a:prstGeom prst="rect">
            <a:avLst/>
          </a:prstGeom>
          <a:solidFill>
            <a:srgbClr val="e4bad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468360" y="1844640"/>
            <a:ext cx="3240000" cy="432000"/>
          </a:xfrm>
          <a:prstGeom prst="rect">
            <a:avLst/>
          </a:prstGeom>
          <a:solidFill>
            <a:srgbClr val="e4bad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odelo serial y jerárquico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odelo serial, paralelo y jerárquico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rteza de As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rteza Sensorial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rteza Sensorial Pri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ál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3995640" y="1916280"/>
            <a:ext cx="79236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5292720" y="1916280"/>
            <a:ext cx="79200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1"/>
          <p:cNvSpPr/>
          <p:nvPr/>
        </p:nvSpPr>
        <p:spPr>
          <a:xfrm>
            <a:off x="6588000" y="1916280"/>
            <a:ext cx="79236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7956720" y="1916280"/>
            <a:ext cx="79200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3"/>
          <p:cNvSpPr/>
          <p:nvPr/>
        </p:nvSpPr>
        <p:spPr>
          <a:xfrm>
            <a:off x="7812000" y="3716280"/>
            <a:ext cx="79236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4"/>
          <p:cNvSpPr/>
          <p:nvPr/>
        </p:nvSpPr>
        <p:spPr>
          <a:xfrm>
            <a:off x="6012000" y="3716280"/>
            <a:ext cx="79200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5"/>
          <p:cNvSpPr/>
          <p:nvPr/>
        </p:nvSpPr>
        <p:spPr>
          <a:xfrm>
            <a:off x="4211640" y="3716280"/>
            <a:ext cx="79200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6"/>
          <p:cNvSpPr/>
          <p:nvPr/>
        </p:nvSpPr>
        <p:spPr>
          <a:xfrm>
            <a:off x="7020000" y="4797360"/>
            <a:ext cx="79200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7"/>
          <p:cNvSpPr/>
          <p:nvPr/>
        </p:nvSpPr>
        <p:spPr>
          <a:xfrm>
            <a:off x="5219640" y="4797360"/>
            <a:ext cx="79236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8"/>
          <p:cNvSpPr/>
          <p:nvPr/>
        </p:nvSpPr>
        <p:spPr>
          <a:xfrm>
            <a:off x="6300720" y="5661000"/>
            <a:ext cx="79236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9"/>
          <p:cNvSpPr/>
          <p:nvPr/>
        </p:nvSpPr>
        <p:spPr>
          <a:xfrm>
            <a:off x="5076720" y="2781360"/>
            <a:ext cx="289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0"/>
          <p:cNvSpPr/>
          <p:nvPr/>
        </p:nvSpPr>
        <p:spPr>
          <a:xfrm>
            <a:off x="4284720" y="2781360"/>
            <a:ext cx="28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1"/>
          <p:cNvSpPr/>
          <p:nvPr/>
        </p:nvSpPr>
        <p:spPr>
          <a:xfrm>
            <a:off x="8244000" y="2781360"/>
            <a:ext cx="28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2"/>
          <p:cNvSpPr/>
          <p:nvPr/>
        </p:nvSpPr>
        <p:spPr>
          <a:xfrm>
            <a:off x="5867280" y="2781360"/>
            <a:ext cx="289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3"/>
          <p:cNvSpPr/>
          <p:nvPr/>
        </p:nvSpPr>
        <p:spPr>
          <a:xfrm>
            <a:off x="6659640" y="2781360"/>
            <a:ext cx="28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4"/>
          <p:cNvSpPr/>
          <p:nvPr/>
        </p:nvSpPr>
        <p:spPr>
          <a:xfrm>
            <a:off x="7451640" y="2781360"/>
            <a:ext cx="289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>
            <a:off x="4788000" y="1989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26"/>
          <p:cNvSpPr/>
          <p:nvPr/>
        </p:nvSpPr>
        <p:spPr>
          <a:xfrm>
            <a:off x="7451640" y="1989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7"/>
          <p:cNvSpPr/>
          <p:nvPr/>
        </p:nvSpPr>
        <p:spPr>
          <a:xfrm>
            <a:off x="6084720" y="1989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8"/>
          <p:cNvSpPr/>
          <p:nvPr/>
        </p:nvSpPr>
        <p:spPr>
          <a:xfrm>
            <a:off x="5364000" y="292428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9"/>
          <p:cNvSpPr/>
          <p:nvPr/>
        </p:nvSpPr>
        <p:spPr>
          <a:xfrm>
            <a:off x="4572000" y="2924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0"/>
          <p:cNvSpPr/>
          <p:nvPr/>
        </p:nvSpPr>
        <p:spPr>
          <a:xfrm>
            <a:off x="7740720" y="2924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1"/>
          <p:cNvSpPr/>
          <p:nvPr/>
        </p:nvSpPr>
        <p:spPr>
          <a:xfrm>
            <a:off x="6948360" y="292428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2"/>
          <p:cNvSpPr/>
          <p:nvPr/>
        </p:nvSpPr>
        <p:spPr>
          <a:xfrm>
            <a:off x="6156360" y="2924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3"/>
          <p:cNvSpPr/>
          <p:nvPr/>
        </p:nvSpPr>
        <p:spPr>
          <a:xfrm>
            <a:off x="5003640" y="378936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4"/>
          <p:cNvSpPr/>
          <p:nvPr/>
        </p:nvSpPr>
        <p:spPr>
          <a:xfrm>
            <a:off x="6804000" y="3789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5"/>
          <p:cNvSpPr/>
          <p:nvPr/>
        </p:nvSpPr>
        <p:spPr>
          <a:xfrm>
            <a:off x="6012000" y="4869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36"/>
          <p:cNvCxnSpPr>
            <a:stCxn id="583" idx="0"/>
            <a:endCxn id="581" idx="2"/>
          </p:cNvCxnSpPr>
          <p:nvPr/>
        </p:nvCxnSpPr>
        <p:spPr>
          <a:xfrm flipH="1" flipV="1" rot="5400000">
            <a:off x="6733800" y="4977720"/>
            <a:ext cx="646920" cy="719640"/>
          </a:xfrm>
          <a:prstGeom prst="curvedConnector5">
            <a:avLst>
              <a:gd name="adj1" fmla="val 50111"/>
              <a:gd name="adj2" fmla="val 50000"/>
              <a:gd name="adj3" fmla="val 501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37"/>
          <p:cNvCxnSpPr>
            <a:stCxn id="583" idx="0"/>
            <a:endCxn id="582" idx="2"/>
          </p:cNvCxnSpPr>
          <p:nvPr/>
        </p:nvCxnSpPr>
        <p:spPr>
          <a:xfrm flipV="1" rot="16200000">
            <a:off x="5833440" y="4796640"/>
            <a:ext cx="646920" cy="1081800"/>
          </a:xfrm>
          <a:prstGeom prst="curvedConnector5">
            <a:avLst>
              <a:gd name="adj1" fmla="val 50111"/>
              <a:gd name="adj2" fmla="val 50000"/>
              <a:gd name="adj3" fmla="val 501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AutoShape 38"/>
          <p:cNvCxnSpPr>
            <a:stCxn id="581" idx="0"/>
            <a:endCxn id="578" idx="2"/>
          </p:cNvCxnSpPr>
          <p:nvPr/>
        </p:nvCxnSpPr>
        <p:spPr>
          <a:xfrm flipH="1" flipV="1" rot="5400000">
            <a:off x="7380720" y="3968640"/>
            <a:ext cx="864360" cy="793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AutoShape 39"/>
          <p:cNvCxnSpPr>
            <a:stCxn id="581" idx="0"/>
            <a:endCxn id="579" idx="2"/>
          </p:cNvCxnSpPr>
          <p:nvPr/>
        </p:nvCxnSpPr>
        <p:spPr>
          <a:xfrm flipV="1" rot="16200000">
            <a:off x="6480360" y="3860640"/>
            <a:ext cx="864360" cy="100872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AutoShape 40"/>
          <p:cNvCxnSpPr>
            <a:stCxn id="582" idx="0"/>
            <a:endCxn id="579" idx="2"/>
          </p:cNvCxnSpPr>
          <p:nvPr/>
        </p:nvCxnSpPr>
        <p:spPr>
          <a:xfrm flipH="1" flipV="1" rot="5400000">
            <a:off x="5580720" y="3969000"/>
            <a:ext cx="864360" cy="792720"/>
          </a:xfrm>
          <a:prstGeom prst="curvedConnector5">
            <a:avLst>
              <a:gd name="adj1" fmla="val 50000"/>
              <a:gd name="adj2" fmla="val 4997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41"/>
          <p:cNvCxnSpPr>
            <a:stCxn id="582" idx="0"/>
            <a:endCxn id="580" idx="2"/>
          </p:cNvCxnSpPr>
          <p:nvPr/>
        </p:nvCxnSpPr>
        <p:spPr>
          <a:xfrm flipV="1" rot="16200000">
            <a:off x="4680000" y="3860640"/>
            <a:ext cx="864360" cy="100872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AutoShape 42"/>
          <p:cNvCxnSpPr>
            <a:stCxn id="582" idx="0"/>
            <a:endCxn id="587" idx="2"/>
          </p:cNvCxnSpPr>
          <p:nvPr/>
        </p:nvCxnSpPr>
        <p:spPr>
          <a:xfrm flipH="1" flipV="1" rot="5400000">
            <a:off x="4949640" y="3735000"/>
            <a:ext cx="1729440" cy="396000"/>
          </a:xfrm>
          <a:prstGeom prst="curvedConnector5">
            <a:avLst>
              <a:gd name="adj1" fmla="val 50031"/>
              <a:gd name="adj2" fmla="val 49954"/>
              <a:gd name="adj3" fmla="val 50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AutoShape 43"/>
          <p:cNvCxnSpPr>
            <a:stCxn id="581" idx="0"/>
            <a:endCxn id="588" idx="2"/>
          </p:cNvCxnSpPr>
          <p:nvPr/>
        </p:nvCxnSpPr>
        <p:spPr>
          <a:xfrm flipV="1" rot="16200000">
            <a:off x="6245640" y="3625920"/>
            <a:ext cx="1729440" cy="613440"/>
          </a:xfrm>
          <a:prstGeom prst="curvedConnector5">
            <a:avLst>
              <a:gd name="adj1" fmla="val 50031"/>
              <a:gd name="adj2" fmla="val 49970"/>
              <a:gd name="adj3" fmla="val 50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AutoShape 44"/>
          <p:cNvCxnSpPr>
            <a:stCxn id="580" idx="0"/>
            <a:endCxn id="585" idx="2"/>
          </p:cNvCxnSpPr>
          <p:nvPr/>
        </p:nvCxnSpPr>
        <p:spPr>
          <a:xfrm flipH="1" flipV="1">
            <a:off x="4428720" y="3067920"/>
            <a:ext cx="1800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AutoShape 45"/>
          <p:cNvCxnSpPr>
            <a:stCxn id="580" idx="0"/>
            <a:endCxn id="584" idx="2"/>
          </p:cNvCxnSpPr>
          <p:nvPr/>
        </p:nvCxnSpPr>
        <p:spPr>
          <a:xfrm flipV="1">
            <a:off x="4608000" y="3067920"/>
            <a:ext cx="613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1" name="AutoShape 46"/>
          <p:cNvCxnSpPr>
            <a:stCxn id="579" idx="0"/>
            <a:endCxn id="587" idx="2"/>
          </p:cNvCxnSpPr>
          <p:nvPr/>
        </p:nvCxnSpPr>
        <p:spPr>
          <a:xfrm flipH="1" flipV="1">
            <a:off x="6011640" y="3067920"/>
            <a:ext cx="397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47"/>
          <p:cNvCxnSpPr>
            <a:stCxn id="579" idx="0"/>
            <a:endCxn id="588" idx="2"/>
          </p:cNvCxnSpPr>
          <p:nvPr/>
        </p:nvCxnSpPr>
        <p:spPr>
          <a:xfrm flipV="1">
            <a:off x="6408720" y="3067920"/>
            <a:ext cx="3960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48"/>
          <p:cNvCxnSpPr>
            <a:stCxn id="578" idx="0"/>
            <a:endCxn id="586" idx="2"/>
          </p:cNvCxnSpPr>
          <p:nvPr/>
        </p:nvCxnSpPr>
        <p:spPr>
          <a:xfrm flipV="1">
            <a:off x="8209080" y="3067920"/>
            <a:ext cx="1800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AutoShape 49"/>
          <p:cNvCxnSpPr>
            <a:stCxn id="578" idx="0"/>
            <a:endCxn id="589" idx="2"/>
          </p:cNvCxnSpPr>
          <p:nvPr/>
        </p:nvCxnSpPr>
        <p:spPr>
          <a:xfrm flipH="1" flipV="1">
            <a:off x="7596000" y="3067920"/>
            <a:ext cx="613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5" name="Freeform 50"/>
          <p:cNvSpPr/>
          <p:nvPr/>
        </p:nvSpPr>
        <p:spPr>
          <a:xfrm>
            <a:off x="4572000" y="2133720"/>
            <a:ext cx="204840" cy="1581120"/>
          </a:xfrm>
          <a:custGeom>
            <a:avLst/>
            <a:gdLst/>
            <a:ahLst/>
            <a:rect l="l" t="t" r="r" b="b"/>
            <a:pathLst>
              <a:path w="129" h="951">
                <a:moveTo>
                  <a:pt x="38" y="951"/>
                </a:moveTo>
                <a:cubicBezTo>
                  <a:pt x="59" y="888"/>
                  <a:pt x="43" y="910"/>
                  <a:pt x="74" y="877"/>
                </a:cubicBezTo>
                <a:cubicBezTo>
                  <a:pt x="86" y="841"/>
                  <a:pt x="99" y="804"/>
                  <a:pt x="111" y="768"/>
                </a:cubicBezTo>
                <a:cubicBezTo>
                  <a:pt x="114" y="759"/>
                  <a:pt x="117" y="749"/>
                  <a:pt x="120" y="740"/>
                </a:cubicBezTo>
                <a:cubicBezTo>
                  <a:pt x="123" y="731"/>
                  <a:pt x="129" y="713"/>
                  <a:pt x="129" y="713"/>
                </a:cubicBezTo>
                <a:cubicBezTo>
                  <a:pt x="126" y="536"/>
                  <a:pt x="128" y="360"/>
                  <a:pt x="120" y="183"/>
                </a:cubicBezTo>
                <a:cubicBezTo>
                  <a:pt x="118" y="138"/>
                  <a:pt x="107" y="133"/>
                  <a:pt x="83" y="109"/>
                </a:cubicBezTo>
                <a:cubicBezTo>
                  <a:pt x="74" y="81"/>
                  <a:pt x="62" y="55"/>
                  <a:pt x="38" y="36"/>
                </a:cubicBezTo>
                <a:cubicBezTo>
                  <a:pt x="0" y="5"/>
                  <a:pt x="18" y="33"/>
                  <a:pt x="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51"/>
          <p:cNvSpPr/>
          <p:nvPr/>
        </p:nvSpPr>
        <p:spPr>
          <a:xfrm>
            <a:off x="7885080" y="2133720"/>
            <a:ext cx="439920" cy="1625400"/>
          </a:xfrm>
          <a:custGeom>
            <a:avLst/>
            <a:gdLst/>
            <a:ahLst/>
            <a:rect l="l" t="t" r="r" b="b"/>
            <a:pathLst>
              <a:path w="277" h="1024">
                <a:moveTo>
                  <a:pt x="277" y="0"/>
                </a:moveTo>
                <a:cubicBezTo>
                  <a:pt x="274" y="9"/>
                  <a:pt x="273" y="19"/>
                  <a:pt x="268" y="28"/>
                </a:cubicBezTo>
                <a:cubicBezTo>
                  <a:pt x="257" y="47"/>
                  <a:pt x="231" y="82"/>
                  <a:pt x="231" y="82"/>
                </a:cubicBezTo>
                <a:cubicBezTo>
                  <a:pt x="208" y="153"/>
                  <a:pt x="242" y="68"/>
                  <a:pt x="194" y="128"/>
                </a:cubicBezTo>
                <a:cubicBezTo>
                  <a:pt x="188" y="136"/>
                  <a:pt x="190" y="147"/>
                  <a:pt x="185" y="156"/>
                </a:cubicBezTo>
                <a:cubicBezTo>
                  <a:pt x="160" y="201"/>
                  <a:pt x="158" y="201"/>
                  <a:pt x="130" y="229"/>
                </a:cubicBezTo>
                <a:cubicBezTo>
                  <a:pt x="117" y="268"/>
                  <a:pt x="98" y="298"/>
                  <a:pt x="85" y="338"/>
                </a:cubicBezTo>
                <a:cubicBezTo>
                  <a:pt x="82" y="347"/>
                  <a:pt x="76" y="366"/>
                  <a:pt x="76" y="366"/>
                </a:cubicBezTo>
                <a:cubicBezTo>
                  <a:pt x="79" y="500"/>
                  <a:pt x="0" y="745"/>
                  <a:pt x="149" y="841"/>
                </a:cubicBezTo>
                <a:cubicBezTo>
                  <a:pt x="163" y="885"/>
                  <a:pt x="181" y="992"/>
                  <a:pt x="213" y="10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AutoShape 52"/>
          <p:cNvCxnSpPr>
            <a:stCxn id="585" idx="0"/>
            <a:endCxn id="574" idx="2"/>
          </p:cNvCxnSpPr>
          <p:nvPr/>
        </p:nvCxnSpPr>
        <p:spPr>
          <a:xfrm flipH="1" flipV="1">
            <a:off x="4392000" y="2133000"/>
            <a:ext cx="37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Line 53"/>
          <p:cNvSpPr/>
          <p:nvPr/>
        </p:nvSpPr>
        <p:spPr>
          <a:xfrm>
            <a:off x="521964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AutoShape 54"/>
          <p:cNvCxnSpPr>
            <a:stCxn id="584" idx="0"/>
            <a:endCxn id="575" idx="2"/>
          </p:cNvCxnSpPr>
          <p:nvPr/>
        </p:nvCxnSpPr>
        <p:spPr>
          <a:xfrm flipV="1">
            <a:off x="5221440" y="2133000"/>
            <a:ext cx="4687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AutoShape 55"/>
          <p:cNvCxnSpPr>
            <a:stCxn id="587" idx="0"/>
            <a:endCxn id="587" idx="0"/>
          </p:cNvCxnSpPr>
          <p:nvPr/>
        </p:nvCxnSpPr>
        <p:spPr>
          <a:xfrm>
            <a:off x="6011640" y="2781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AutoShape 56"/>
          <p:cNvCxnSpPr>
            <a:stCxn id="587" idx="0"/>
            <a:endCxn id="575" idx="2"/>
          </p:cNvCxnSpPr>
          <p:nvPr/>
        </p:nvCxnSpPr>
        <p:spPr>
          <a:xfrm flipH="1" flipV="1">
            <a:off x="5689440" y="2133000"/>
            <a:ext cx="3229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AutoShape 57"/>
          <p:cNvCxnSpPr>
            <a:stCxn id="588" idx="0"/>
            <a:endCxn id="576" idx="2"/>
          </p:cNvCxnSpPr>
          <p:nvPr/>
        </p:nvCxnSpPr>
        <p:spPr>
          <a:xfrm flipV="1">
            <a:off x="6803640" y="2133000"/>
            <a:ext cx="181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AutoShape 58"/>
          <p:cNvCxnSpPr>
            <a:stCxn id="589" idx="0"/>
            <a:endCxn id="576" idx="2"/>
          </p:cNvCxnSpPr>
          <p:nvPr/>
        </p:nvCxnSpPr>
        <p:spPr>
          <a:xfrm flipH="1" flipV="1">
            <a:off x="6984720" y="2133000"/>
            <a:ext cx="6120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AutoShape 59"/>
          <p:cNvCxnSpPr>
            <a:stCxn id="586" idx="0"/>
            <a:endCxn id="577" idx="2"/>
          </p:cNvCxnSpPr>
          <p:nvPr/>
        </p:nvCxnSpPr>
        <p:spPr>
          <a:xfrm flipH="1" flipV="1">
            <a:off x="8352720" y="2133000"/>
            <a:ext cx="356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AutoShape 60"/>
          <p:cNvCxnSpPr>
            <a:stCxn id="584" idx="0"/>
            <a:endCxn id="574" idx="2"/>
          </p:cNvCxnSpPr>
          <p:nvPr/>
        </p:nvCxnSpPr>
        <p:spPr>
          <a:xfrm flipH="1" flipV="1">
            <a:off x="4392360" y="2133000"/>
            <a:ext cx="829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6" name="Freeform 61"/>
          <p:cNvSpPr/>
          <p:nvPr/>
        </p:nvSpPr>
        <p:spPr>
          <a:xfrm>
            <a:off x="6012000" y="2133720"/>
            <a:ext cx="653760" cy="652320"/>
          </a:xfrm>
          <a:custGeom>
            <a:avLst/>
            <a:gdLst/>
            <a:ahLst/>
            <a:rect l="l" t="t" r="r" b="b"/>
            <a:pathLst>
              <a:path w="412" h="366">
                <a:moveTo>
                  <a:pt x="412" y="366"/>
                </a:moveTo>
                <a:cubicBezTo>
                  <a:pt x="391" y="360"/>
                  <a:pt x="364" y="363"/>
                  <a:pt x="348" y="347"/>
                </a:cubicBezTo>
                <a:cubicBezTo>
                  <a:pt x="299" y="299"/>
                  <a:pt x="383" y="335"/>
                  <a:pt x="311" y="311"/>
                </a:cubicBezTo>
                <a:cubicBezTo>
                  <a:pt x="289" y="288"/>
                  <a:pt x="258" y="269"/>
                  <a:pt x="229" y="256"/>
                </a:cubicBezTo>
                <a:cubicBezTo>
                  <a:pt x="211" y="248"/>
                  <a:pt x="192" y="244"/>
                  <a:pt x="174" y="238"/>
                </a:cubicBezTo>
                <a:cubicBezTo>
                  <a:pt x="165" y="235"/>
                  <a:pt x="146" y="228"/>
                  <a:pt x="146" y="228"/>
                </a:cubicBezTo>
                <a:cubicBezTo>
                  <a:pt x="122" y="192"/>
                  <a:pt x="98" y="163"/>
                  <a:pt x="73" y="128"/>
                </a:cubicBezTo>
                <a:cubicBezTo>
                  <a:pt x="59" y="85"/>
                  <a:pt x="62" y="77"/>
                  <a:pt x="37" y="46"/>
                </a:cubicBezTo>
                <a:cubicBezTo>
                  <a:pt x="31" y="39"/>
                  <a:pt x="24" y="34"/>
                  <a:pt x="18" y="27"/>
                </a:cubicBezTo>
                <a:cubicBezTo>
                  <a:pt x="11" y="1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62"/>
          <p:cNvSpPr/>
          <p:nvPr/>
        </p:nvSpPr>
        <p:spPr>
          <a:xfrm>
            <a:off x="6168960" y="2133720"/>
            <a:ext cx="490680" cy="637920"/>
          </a:xfrm>
          <a:custGeom>
            <a:avLst/>
            <a:gdLst/>
            <a:ahLst/>
            <a:rect l="l" t="t" r="r" b="b"/>
            <a:pathLst>
              <a:path w="301" h="256">
                <a:moveTo>
                  <a:pt x="0" y="256"/>
                </a:moveTo>
                <a:cubicBezTo>
                  <a:pt x="91" y="245"/>
                  <a:pt x="50" y="255"/>
                  <a:pt x="128" y="229"/>
                </a:cubicBezTo>
                <a:cubicBezTo>
                  <a:pt x="137" y="226"/>
                  <a:pt x="155" y="220"/>
                  <a:pt x="155" y="220"/>
                </a:cubicBezTo>
                <a:cubicBezTo>
                  <a:pt x="178" y="196"/>
                  <a:pt x="191" y="175"/>
                  <a:pt x="219" y="156"/>
                </a:cubicBezTo>
                <a:cubicBezTo>
                  <a:pt x="236" y="102"/>
                  <a:pt x="276" y="52"/>
                  <a:pt x="30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63"/>
          <p:cNvSpPr/>
          <p:nvPr/>
        </p:nvSpPr>
        <p:spPr>
          <a:xfrm>
            <a:off x="7591320" y="2176560"/>
            <a:ext cx="449280" cy="625320"/>
          </a:xfrm>
          <a:custGeom>
            <a:avLst/>
            <a:gdLst/>
            <a:ahLst/>
            <a:rect l="l" t="t" r="r" b="b"/>
            <a:pathLst>
              <a:path w="283" h="394">
                <a:moveTo>
                  <a:pt x="0" y="394"/>
                </a:moveTo>
                <a:cubicBezTo>
                  <a:pt x="24" y="369"/>
                  <a:pt x="16" y="372"/>
                  <a:pt x="55" y="357"/>
                </a:cubicBezTo>
                <a:cubicBezTo>
                  <a:pt x="73" y="350"/>
                  <a:pt x="109" y="339"/>
                  <a:pt x="109" y="339"/>
                </a:cubicBezTo>
                <a:cubicBezTo>
                  <a:pt x="115" y="333"/>
                  <a:pt x="120" y="325"/>
                  <a:pt x="128" y="320"/>
                </a:cubicBezTo>
                <a:cubicBezTo>
                  <a:pt x="136" y="315"/>
                  <a:pt x="148" y="317"/>
                  <a:pt x="155" y="311"/>
                </a:cubicBezTo>
                <a:cubicBezTo>
                  <a:pt x="213" y="265"/>
                  <a:pt x="132" y="297"/>
                  <a:pt x="201" y="275"/>
                </a:cubicBezTo>
                <a:cubicBezTo>
                  <a:pt x="218" y="224"/>
                  <a:pt x="227" y="159"/>
                  <a:pt x="265" y="119"/>
                </a:cubicBezTo>
                <a:cubicBezTo>
                  <a:pt x="269" y="83"/>
                  <a:pt x="283" y="37"/>
                  <a:pt x="2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4"/>
          <p:cNvSpPr/>
          <p:nvPr/>
        </p:nvSpPr>
        <p:spPr>
          <a:xfrm flipV="1">
            <a:off x="2124000" y="508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5"/>
          <p:cNvSpPr/>
          <p:nvPr/>
        </p:nvSpPr>
        <p:spPr>
          <a:xfrm flipV="1">
            <a:off x="2050920" y="2276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6"/>
          <p:cNvSpPr/>
          <p:nvPr/>
        </p:nvSpPr>
        <p:spPr>
          <a:xfrm flipV="1">
            <a:off x="2050920" y="3212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7"/>
          <p:cNvSpPr/>
          <p:nvPr/>
        </p:nvSpPr>
        <p:spPr>
          <a:xfrm flipV="1">
            <a:off x="2050920" y="41493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8"/>
          <p:cNvSpPr/>
          <p:nvPr/>
        </p:nvSpPr>
        <p:spPr>
          <a:xfrm>
            <a:off x="539640" y="1125360"/>
            <a:ext cx="3095640" cy="0"/>
          </a:xfrm>
          <a:prstGeom prst="line">
            <a:avLst/>
          </a:prstGeom>
          <a:ln w="57240">
            <a:solidFill>
              <a:srgbClr val="e5b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69"/>
          <p:cNvSpPr/>
          <p:nvPr/>
        </p:nvSpPr>
        <p:spPr>
          <a:xfrm>
            <a:off x="4356000" y="1125360"/>
            <a:ext cx="4248360" cy="0"/>
          </a:xfrm>
          <a:prstGeom prst="line">
            <a:avLst/>
          </a:prstGeom>
          <a:ln w="57240">
            <a:solidFill>
              <a:srgbClr val="a0d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4076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euronas de 1er. Orde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pos receptivos (superficie de la piel)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&gt;  un estímulo activa a la neurona. </a:t>
            </a:r>
            <a:br>
              <a:rPr sz="2400"/>
            </a:br>
            <a:br>
              <a:rPr sz="1200"/>
            </a:br>
            <a:br>
              <a:rPr sz="12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eurona de 2do. Orde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po receptivo más amplio (convergencia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neuronas de primer o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3" descr="fig 02 Campos receptores"/>
          <p:cNvPicPr/>
          <p:nvPr/>
        </p:nvPicPr>
        <p:blipFill>
          <a:blip r:embed="rId1"/>
          <a:stretch/>
        </p:blipFill>
        <p:spPr>
          <a:xfrm>
            <a:off x="1835280" y="333360"/>
            <a:ext cx="561636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cc"/>
                </a:solidFill>
                <a:latin typeface="Arial"/>
              </a:rPr>
              <a:t>3.  Áreas corti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más específ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combinación de la información para la representación de atributos + compl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1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Arial"/>
              </a:rPr>
              <a:t>Áreas prim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Arial"/>
              </a:rPr>
              <a:t>Áreas de asociación secu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cc00"/>
                </a:solidFill>
                <a:latin typeface="Arial"/>
              </a:rPr>
              <a:t>Áreas de asociación terci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cc00"/>
                </a:solidFill>
                <a:uFillTx/>
                <a:latin typeface="Arial"/>
              </a:rPr>
              <a:t>ÁREAS PRIM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incipio general:  Neuronas adyacentes en la corteza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erebral tienen campos receptivos adya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ganización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isposición en mapas topográ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rdenamiento de conexiones en láminas y colum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reas corticales en las que terminan las vías sensori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(Areas de proyección prim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. Visual de PP (de retina a lóbulo occipi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. Auditiva de PP (de oído a lóbulo tempo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. Somatosensitiva de PP (lóbulo parie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Area cortical en que se inicia la vía moto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(Areas motora prim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rteza motora pri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684360" y="1052640"/>
            <a:ext cx="7632720" cy="86364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sensacio1"/>
          <p:cNvPicPr/>
          <p:nvPr/>
        </p:nvPicPr>
        <p:blipFill>
          <a:blip r:embed="rId1"/>
          <a:stretch/>
        </p:blipFill>
        <p:spPr>
          <a:xfrm>
            <a:off x="826920" y="189000"/>
            <a:ext cx="7632720" cy="6408720"/>
          </a:xfrm>
          <a:prstGeom prst="rect">
            <a:avLst/>
          </a:prstGeom>
          <a:ln w="0">
            <a:noFill/>
          </a:ln>
        </p:spPr>
      </p:pic>
      <p:sp>
        <p:nvSpPr>
          <p:cNvPr id="642" name="Freeform 3"/>
          <p:cNvSpPr/>
          <p:nvPr/>
        </p:nvSpPr>
        <p:spPr>
          <a:xfrm>
            <a:off x="12600" y="-171360"/>
            <a:ext cx="5880240" cy="3527280"/>
          </a:xfrm>
          <a:custGeom>
            <a:avLst/>
            <a:gdLst/>
            <a:ahLst/>
            <a:rect l="l" t="t" r="r" b="b"/>
            <a:pathLst>
              <a:path w="3704" h="2328">
                <a:moveTo>
                  <a:pt x="559" y="1966"/>
                </a:moveTo>
                <a:cubicBezTo>
                  <a:pt x="623" y="1996"/>
                  <a:pt x="687" y="2026"/>
                  <a:pt x="967" y="1966"/>
                </a:cubicBezTo>
                <a:cubicBezTo>
                  <a:pt x="1247" y="1906"/>
                  <a:pt x="1995" y="1731"/>
                  <a:pt x="2237" y="1603"/>
                </a:cubicBezTo>
                <a:cubicBezTo>
                  <a:pt x="2479" y="1475"/>
                  <a:pt x="2252" y="1256"/>
                  <a:pt x="2418" y="1195"/>
                </a:cubicBezTo>
                <a:cubicBezTo>
                  <a:pt x="2584" y="1134"/>
                  <a:pt x="3099" y="1384"/>
                  <a:pt x="3235" y="1240"/>
                </a:cubicBezTo>
                <a:cubicBezTo>
                  <a:pt x="3371" y="1096"/>
                  <a:pt x="3704" y="492"/>
                  <a:pt x="3235" y="333"/>
                </a:cubicBezTo>
                <a:cubicBezTo>
                  <a:pt x="2766" y="174"/>
                  <a:pt x="846" y="0"/>
                  <a:pt x="423" y="287"/>
                </a:cubicBezTo>
                <a:cubicBezTo>
                  <a:pt x="0" y="574"/>
                  <a:pt x="642" y="1784"/>
                  <a:pt x="695" y="2056"/>
                </a:cubicBezTo>
                <a:cubicBezTo>
                  <a:pt x="748" y="2328"/>
                  <a:pt x="744" y="2124"/>
                  <a:pt x="740" y="19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5076720" y="189000"/>
            <a:ext cx="338292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Disposición en mapas topo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incipio que  rige las áreas de proyección primaria de las vías sensori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euronas adyacentes en corteza tienen cam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ceptivos adyac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Ordenamiento de conexiones en láminas y colum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organización laminar ordena las conexiones de entrada y de 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                      otras ca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II                    areas =  y = hemisfe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V                     g. de la base, tronco y méd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VI                     tála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1763640" y="1484280"/>
            <a:ext cx="684072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6"/>
          <p:cNvSpPr/>
          <p:nvPr/>
        </p:nvSpPr>
        <p:spPr>
          <a:xfrm>
            <a:off x="1547640" y="5084640"/>
            <a:ext cx="648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>
            <a:off x="2771640" y="407664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2771640" y="436572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2771640" y="472428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0"/>
          <p:cNvSpPr/>
          <p:nvPr/>
        </p:nvSpPr>
        <p:spPr>
          <a:xfrm>
            <a:off x="2771640" y="544500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2771640" y="573408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3"/>
          <p:cNvSpPr/>
          <p:nvPr/>
        </p:nvSpPr>
        <p:spPr>
          <a:xfrm flipH="1">
            <a:off x="5076360" y="4581360"/>
            <a:ext cx="35892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á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image3231"/>
          <p:cNvPicPr/>
          <p:nvPr/>
        </p:nvPicPr>
        <p:blipFill>
          <a:blip r:embed="rId1"/>
          <a:stretch/>
        </p:blipFill>
        <p:spPr>
          <a:xfrm>
            <a:off x="1979640" y="1552680"/>
            <a:ext cx="5472000" cy="432432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5"/>
          <p:cNvSpPr/>
          <p:nvPr/>
        </p:nvSpPr>
        <p:spPr>
          <a:xfrm>
            <a:off x="1547640" y="1341360"/>
            <a:ext cx="6696360" cy="49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lum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Unidad funcional básica:  afinidad anatómica y funcional de las células encolumnadas, por lo que tienden a comunicarse entre s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4" descr="v33s1a08fig1"/>
          <p:cNvPicPr/>
          <p:nvPr/>
        </p:nvPicPr>
        <p:blipFill>
          <a:blip r:embed="rId1"/>
          <a:stretch/>
        </p:blipFill>
        <p:spPr>
          <a:xfrm>
            <a:off x="2411280" y="2349360"/>
            <a:ext cx="5248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MAPAS  TOPOGRA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homunculus_and_brain_engelsk_image_300_w"/>
          <p:cNvPicPr/>
          <p:nvPr/>
        </p:nvPicPr>
        <p:blipFill>
          <a:blip r:embed="rId1"/>
          <a:stretch/>
        </p:blipFill>
        <p:spPr>
          <a:xfrm>
            <a:off x="2411280" y="1844640"/>
            <a:ext cx="43704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Mapas topo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posición ordenada de neuronas y axones, que respeta la disposición espacial de recep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HOMÚNCUL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tribución espacial: respeta relaciones de proximidad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1" lang="es-AR" sz="2400" spc="-1" strike="noStrike">
                <a:solidFill>
                  <a:srgbClr val="00cc00"/>
                </a:solidFill>
                <a:latin typeface="Arial"/>
              </a:rPr>
              <a:t>N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su tamaño rel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sproporción: Depende de la importancia fun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(y por tanto de la cantidad de recept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324000" y="1413000"/>
            <a:ext cx="8496000" cy="115236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3059280" y="404640"/>
            <a:ext cx="2952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njunto de componentes localizados en varias regiones del SN enlazados funcionalmente por fibras de proyección (o de asociació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GRANDES SISTEMAS FUN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stemas sensoriales (1 x modalidad senso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stema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stemas reguladores (atención, emo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stemas de almacenamiento (Memo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RTEZA SOMATOSENSORIAL PRIMARIA (SI), SECUNDARIA (SII) Y DE ASOCIACIÓN (PARIETAL POSTERIOR)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Vista lateral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3" descr="fig 03 S1 S2 y parietal posterior"/>
          <p:cNvPicPr/>
          <p:nvPr/>
        </p:nvPicPr>
        <p:blipFill>
          <a:blip r:embed="rId1"/>
          <a:stretch/>
        </p:blipFill>
        <p:spPr>
          <a:xfrm>
            <a:off x="2627280" y="1268280"/>
            <a:ext cx="4032360" cy="44658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4"/>
          <p:cNvSpPr/>
          <p:nvPr/>
        </p:nvSpPr>
        <p:spPr>
          <a:xfrm>
            <a:off x="684360" y="59500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E:  ÁREAS 3A, 3B, 1 Y 2 DE SI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ambién el área 5 parietal posterior y por delante el área 4 motor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rganización en láminas y columnas de SI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3" descr="fig 08 láminas y columnas de SI"/>
          <p:cNvPicPr/>
          <p:nvPr/>
        </p:nvPicPr>
        <p:blipFill>
          <a:blip r:embed="rId1"/>
          <a:stretch/>
        </p:blipFill>
        <p:spPr>
          <a:xfrm>
            <a:off x="1835280" y="765000"/>
            <a:ext cx="5184720" cy="501336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4"/>
          <p:cNvSpPr/>
          <p:nvPr/>
        </p:nvSpPr>
        <p:spPr>
          <a:xfrm>
            <a:off x="395280" y="5702400"/>
            <a:ext cx="842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lumnas que pertenecen a las regiones 3a, 3b, 1 y 2 reciben en su lámina 4 una modalidad de sensibilidad somática dominante. Las conexiones hacia otras regiones somatosensitivas (SII y parietal posterior) y hacia el área motora salen desde otras capas (láminas 2 y 3). También hay conexiones de retorno al tálamo desde la capa 6 y proyecciones largas hacia los núcleos del tronco y la médula que parten de la capa 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exiones entre las áreas 3a, 3b, 1 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" descr="fig 09 Convergencia cortical"/>
          <p:cNvPicPr/>
          <p:nvPr/>
        </p:nvPicPr>
        <p:blipFill>
          <a:blip r:embed="rId1"/>
          <a:stretch/>
        </p:blipFill>
        <p:spPr>
          <a:xfrm>
            <a:off x="1116000" y="1550880"/>
            <a:ext cx="7416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cc00"/>
                </a:solidFill>
                <a:uFillTx/>
                <a:latin typeface="Arial"/>
              </a:rPr>
              <a:t>AREAS DE AS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reas de mayor desarrollo en la evolución filo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Funciones especializadas (+ de 1 función cogni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efrontal: Planificación y ejecución de movimientos volu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le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arieto-Temporo-Occipital: Integración sensorial comple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ngu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ímbica: Memoria, aspectos emocionales y motivacional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du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000000"/>
                </a:solidFill>
                <a:uFillTx/>
                <a:latin typeface="Arial"/>
              </a:rPr>
              <a:t>Sistema somato-sensi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ímulos externos (Pi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ímulos internos (Cuerpo: postura, movimi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odalidades de sensibilidad somá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opio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Ta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xtura de objetos y desplazamiento sobre la 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ceptores periféricos en capas superficiales y profundas de la 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Vía Lemniscal: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ceptor a 1ª. Neu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ª. N Sensorial ingresa a  Méd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2ª. N en Tronco cere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ruce de fibra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3ª. N en tál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óbulo parietal contralat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(área S1 circ. Parietal asce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Propioce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osición y desplazamiento de segmentos corpo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ceptores en articulaciones, tendones y músc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Vía lemn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cidencia de no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ceptores en la 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Vía espino-talámica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Receptor a 1ª.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ª. N ingresa a méd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nápsis en médula con 2ª.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ruce de fi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3ª. N en tál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óbulo parietal contra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(Area S! circ. Parietal ascend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cidencia de no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ceptores en la 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Vía espino-tal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fig 05 sistema somatosensitivo"/>
          <p:cNvPicPr/>
          <p:nvPr/>
        </p:nvPicPr>
        <p:blipFill>
          <a:blip r:embed="rId1"/>
          <a:stretch/>
        </p:blipFill>
        <p:spPr>
          <a:xfrm>
            <a:off x="684360" y="476280"/>
            <a:ext cx="5472000" cy="608184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3"/>
          <p:cNvSpPr/>
          <p:nvPr/>
        </p:nvSpPr>
        <p:spPr>
          <a:xfrm>
            <a:off x="324000" y="189000"/>
            <a:ext cx="8569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SISTEMA SOMATOSENS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ía Lemnis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. Espinotalám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apa somato-sensitivo humano.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Circunvolución parie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" descr="fig 04 mapa somatosensitivo humano"/>
          <p:cNvPicPr/>
          <p:nvPr/>
        </p:nvPicPr>
        <p:blipFill>
          <a:blip r:embed="rId1"/>
          <a:stretch/>
        </p:blipFill>
        <p:spPr>
          <a:xfrm>
            <a:off x="1547640" y="1871640"/>
            <a:ext cx="60469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DETERMINACIÓN GENÉTICA Y EXPE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DUCCIONES Y EXTENSIONES DE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PRESENTACIONES CORTIC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odificaciones de tamaño (pocos mm) dentro de áreas origi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traspasa límites de modalidad especí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invade regiones de otra 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nformación grosera (electrodos de 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&gt;  100.000 neur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-&gt;   millones de sinápsis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AREAS DE ALTO 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ocesamiento + complejo de c/modalidad recombinando sub mod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000000"/>
                </a:solidFill>
                <a:uFillTx/>
                <a:latin typeface="Arial"/>
              </a:rPr>
              <a:t>Sistemas senso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oporcionan una representación actualizada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anal de entrada de información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no pasivo ni unidirec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tracción de elementos de información de estím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mbinación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(ej: táctil + propiocep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terpretación / 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teracción de mecani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scendentes y desc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nsación / 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1-33"/>
          <p:cNvPicPr/>
          <p:nvPr/>
        </p:nvPicPr>
        <p:blipFill>
          <a:blip r:embed="rId1"/>
          <a:stretch/>
        </p:blipFill>
        <p:spPr>
          <a:xfrm>
            <a:off x="5940360" y="3068640"/>
            <a:ext cx="2735280" cy="35290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6"/>
          <p:cNvSpPr/>
          <p:nvPr/>
        </p:nvSpPr>
        <p:spPr>
          <a:xfrm>
            <a:off x="5940360" y="2997360"/>
            <a:ext cx="273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Organización de los S. 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Arial"/>
              </a:rPr>
              <a:t>Rece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Arial"/>
              </a:rPr>
              <a:t>Vías sens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taciones de rel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Fibras de conex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Arial"/>
              </a:rPr>
              <a:t>Áreas cort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incipios estructurales de vías y regiones cort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ganización top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egregación fu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ocesamiento s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ocesamiento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tructura jerárqu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403280" y="4005360"/>
            <a:ext cx="7272360" cy="4316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cc"/>
                </a:solidFill>
                <a:latin typeface="Arial"/>
              </a:rPr>
              <a:t>Recep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ructuras celulares especializadas en captar una forma específica de energía, para su transducción al código del S.N.: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PATRONES DE DESCARGA NEURONALES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(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TRIBUTOS DEL ESTÍMULO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odalidad (Tipo de ener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calización (Topografía de recept. activos e inac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ntensidad (potencial &gt; o &l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uración (Frecuencia de descar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395280" y="5877000"/>
            <a:ext cx="8209080" cy="647640"/>
          </a:xfrm>
          <a:prstGeom prst="rect">
            <a:avLst/>
          </a:prstGeom>
          <a:solidFill>
            <a:srgbClr val="a3fb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95280" y="5157720"/>
            <a:ext cx="8209080" cy="647640"/>
          </a:xfrm>
          <a:prstGeom prst="rect">
            <a:avLst/>
          </a:prstGeom>
          <a:solidFill>
            <a:srgbClr val="eaee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395280" y="2637000"/>
            <a:ext cx="8209080" cy="2520720"/>
          </a:xfrm>
          <a:prstGeom prst="rect">
            <a:avLst/>
          </a:prstGeom>
          <a:solidFill>
            <a:srgbClr val="e5b9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395280" y="2060640"/>
            <a:ext cx="8137440" cy="576360"/>
          </a:xfrm>
          <a:prstGeom prst="rect">
            <a:avLst/>
          </a:prstGeom>
          <a:solidFill>
            <a:srgbClr val="c0e4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395280" y="1484280"/>
            <a:ext cx="8209080" cy="576360"/>
          </a:xfrm>
          <a:prstGeom prst="rect">
            <a:avLst/>
          </a:prstGeom>
          <a:solidFill>
            <a:srgbClr val="d8b9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5280" y="981000"/>
            <a:ext cx="8209080" cy="503280"/>
          </a:xfrm>
          <a:prstGeom prst="rect">
            <a:avLst/>
          </a:prstGeom>
          <a:solidFill>
            <a:srgbClr val="e6e5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395280" y="189000"/>
            <a:ext cx="82090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95280" y="189000"/>
          <a:ext cx="8229600" cy="6316560"/>
        </p:xfrm>
        <a:graphic>
          <a:graphicData uri="http://schemas.openxmlformats.org/drawingml/2006/table">
            <a:tbl>
              <a:tblPr/>
              <a:tblGrid>
                <a:gridCol w="1601640"/>
                <a:gridCol w="1474920"/>
                <a:gridCol w="1762200"/>
                <a:gridCol w="1658880"/>
                <a:gridCol w="1731960"/>
              </a:tblGrid>
              <a:tr h="35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A 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torrecep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, bast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anorrece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lulas ciliadas de la cócle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tib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lib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anorrece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lulas ciliadas del laberi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anorrece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anorrecept. cután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ioce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anorrece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e músculos y tend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mica/Mecá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-Quimio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iceptores polimod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í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miorrece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ciceptor quím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st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í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miorrece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ones gusta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fa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f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í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miorrecep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nas olfativ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Rectangle 83"/>
          <p:cNvSpPr/>
          <p:nvPr/>
        </p:nvSpPr>
        <p:spPr>
          <a:xfrm>
            <a:off x="8459640" y="2060640"/>
            <a:ext cx="144720" cy="576360"/>
          </a:xfrm>
          <a:prstGeom prst="rect">
            <a:avLst/>
          </a:prstGeom>
          <a:solidFill>
            <a:srgbClr val="bde3bb"/>
          </a:solidFill>
          <a:ln w="9360">
            <a:solidFill>
              <a:srgbClr val="bde3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84"/>
          <p:cNvSpPr/>
          <p:nvPr/>
        </p:nvSpPr>
        <p:spPr>
          <a:xfrm>
            <a:off x="838836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86"/>
          <p:cNvSpPr/>
          <p:nvPr/>
        </p:nvSpPr>
        <p:spPr>
          <a:xfrm>
            <a:off x="838836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8"/>
          <p:cNvSpPr/>
          <p:nvPr/>
        </p:nvSpPr>
        <p:spPr>
          <a:xfrm>
            <a:off x="838836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9"/>
          <p:cNvSpPr/>
          <p:nvPr/>
        </p:nvSpPr>
        <p:spPr>
          <a:xfrm>
            <a:off x="8388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1"/>
          <p:cNvSpPr/>
          <p:nvPr/>
        </p:nvSpPr>
        <p:spPr>
          <a:xfrm>
            <a:off x="838836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cc"/>
                </a:solidFill>
                <a:latin typeface="Arial"/>
              </a:rPr>
              <a:t>2.  Vías sensoria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Conducción a través de distintas porciones del SN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. de 1er. Orden (bipo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. de 2do. Orden (dentro del S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. de 3er. Orden (Tálamo)  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      corteza sensorial 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Sinapsis en estaciones de rel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tapas de procesamiento y elaboración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ganización topográfica (orden y den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ocesamiento serial (análisis en etapas sucesi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egregación funcional (especialización funcional de la cortez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ocesamiento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ganización jerárqu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4427640" y="2852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fig 05 sistema somatosensitivo"/>
          <p:cNvPicPr/>
          <p:nvPr/>
        </p:nvPicPr>
        <p:blipFill>
          <a:blip r:embed="rId1"/>
          <a:stretch/>
        </p:blipFill>
        <p:spPr>
          <a:xfrm>
            <a:off x="1547640" y="404640"/>
            <a:ext cx="547236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Segregación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/parte del SNC no tiene homogeneidad funcional, sino partes especializadas en 1 tipo específico de procesami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OCESAMIENTO EN PARALELO </a:t>
            </a: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(color-forma-movimie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ROCESAMIENTO SE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RGANIZACIÓN JERÁRQU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ambios en campos receptiv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idad de la respu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Decus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9:52:03Z</dcterms:created>
  <dc:creator>Pablo Turmero</dc:creator>
  <dc:description/>
  <dc:language>en-US</dc:language>
  <cp:lastModifiedBy>Pablo Turmero</cp:lastModifiedBy>
  <dcterms:modified xsi:type="dcterms:W3CDTF">2017-08-11T16:32:03Z</dcterms:modified>
  <cp:revision>30</cp:revision>
  <dc:subject/>
  <dc:title>Niveles de Mayor Escala Espacial</dc:title>
</cp:coreProperties>
</file>