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0.png" ContentType="image/png"/>
  <Override PartName="/ppt/media/glass.wav" ContentType="audio/x-wav"/>
  <Override PartName="/ppt/media/image11.png" ContentType="image/png"/>
  <Override PartName="/ppt/media/explode.wav" ContentType="audio/x-wav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3.png" ContentType="image/png"/>
  <Override PartName="/ppt/media/image12.png" ContentType="image/png"/>
  <Override PartName="/ppt/media/image1.png" ContentType="image/png"/>
  <Override PartName="/ppt/media/image19.gif" ContentType="image/gif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0F6-0225-401E-BBCD-5F90DC69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E08-1006-4539-8D81-32C6D9F8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C6F70-55A1-4BAE-BBC1-8E3B32A3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B05FA-7362-4E95-8069-769C884B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C0844-DE49-439F-9A7B-3C5691DE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D845C-0B19-43A1-A7E0-F3BB0C78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B99CA-6094-4528-AAF6-374697A9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B76D3-9FE6-495B-BF59-6A9EE88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23842-8425-4A88-BF93-A8612621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BFAD2-F665-403B-9FF2-F44DA139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9DECE-ED50-41AD-9803-E0FB9E29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7917E-6254-4A52-B553-613895D6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66A-0985-4FC4-8C44-50FB5E04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34BCC-5D57-4FA2-9E24-73A5E5D8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683C6-BBAE-4D51-AB59-51C94C3A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007CB-5B1D-46E1-B744-163BA203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3CC2E-7288-4412-B989-6A95053E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54199-60A2-48F2-8C5A-CD5A8759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33BC2-2FBC-4E09-A44A-50969F7F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2D273-85BB-44D3-BC18-C412934B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47511-A512-40AC-9E69-3AEBB3ED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3F60E-D7DE-446B-9689-A08EE0B6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0E6A0-E057-4C71-82E8-DA9C27F7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332-8BFF-456F-BAC1-3ECBD4D9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89AE8D-E393-4383-A320-9C342179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392F5-F44F-4257-AD2A-827D09FC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A1804-60A0-48CD-BE34-EF411DC9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F61A6-EE0D-4E04-820D-8525867F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32DDF-673C-4635-975F-374CF89F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5E565-A148-4B6D-BD0B-5B2EAC2D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5EC6E-529A-4286-885E-9F5CDFAA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44957-3F6F-4F53-93D2-05D5E98D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360C8-8F11-4090-A481-A23768FF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CCE9D-3EA5-4C8D-AA3F-3B1A6E4A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4BC5-902D-4603-BE35-A8224B82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1D366-ECC7-4A26-8779-B16CADFE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A787A-BC75-488D-A7C8-D3B49C0E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CCEAA-BED4-4EA0-BAFB-E42281D6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880A3-9F3D-43E6-802E-9831CF7F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12D1E-48DB-4718-B15D-43823AB6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D8E6F-A94B-4965-9414-CCC99528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E2387-444E-4014-A11A-A88882F8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7B720-4D75-4A87-86F2-325F3CFC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3FBCB-DDE8-48D4-85A5-DDE46735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109FB-D12D-44F3-9287-7469D381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362A-D9BC-46D9-A865-A0F6B73D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6FE72-43D0-498D-8A90-4D4F9034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99731-1565-4D62-BC7F-5E8783E9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55EC5-70D5-45E2-8FB1-5D34C5E2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A0445-AE17-46E5-80C8-5B4856AF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0D711-93BC-43AC-872D-79594956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304A0-3798-4B0C-B5E4-371CA05E5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3A381-B7B9-41AC-A4DA-17589A37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27001-AA8D-41A9-A2B7-175D07C3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C6BE9-8C4D-476F-826C-02A01D2F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7B0B4-11A0-48B9-B0E4-C46CB47F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7CE9-F225-44CC-A0C6-82E25E38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80002-F320-45AB-BB4E-8E1DA9E2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B28F68-E031-4367-BE54-952BD386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238BC-CB98-4EE1-BD49-0CE32AF3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8343C-0B15-4EA2-A718-DA3A1C9E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5A694-1F8F-4898-848C-B2AB5BA4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76F80-6EB0-4529-BBC4-AA917ED0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4A975-9DBD-48D5-98EE-E819E3ED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6AAC2A-21EB-47BE-88B0-1C31530B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95390D1-1A64-44D9-B003-03953C57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E34069-0DEF-4958-81F3-5D728B44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C262-E09D-4399-B3E5-84B49216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703221-8323-436E-AC17-7A7D87B1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13AC57-2534-4965-B372-D12C97D9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7B837D-B6E1-4F8A-B213-9F68EB01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25987A-2141-4079-9D3E-455A2833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AFFDBF-6FEA-487B-9097-BCDC72D5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E545CC5-7703-49CC-960A-5FD4ADC0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C79A93-45B6-4DC4-98C8-D3F69767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14F2A4-EC8E-4132-A7FC-C006C6E0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7F9387-7E27-4F4E-BAFB-6CA88AA3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0EFC-C7BB-4D6F-8895-D57C9D67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EDDA-AE19-47F7-ADCB-6968C884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6022-306E-4F20-BB8D-AD473737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9BB-6026-41B8-AE8B-EE5F5F97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A4BF-42EE-4404-ABAB-1D2C3D16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27EC-EAA7-4CFA-B32E-12D5B6F5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C81E-E320-49EE-A734-DC54E185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6F7C-C8DF-4F54-86B6-A479A2D4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7244-6A51-42CF-9C0D-EC2F7EF3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CDEFD-EE09-4C06-9AEB-7B88B17A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8992E-55DC-4743-9D49-E23EE939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3F3FE-D5E5-4473-9F89-1A062A26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2073C-05F5-46BC-9D73-4F64B8BC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2291-7B3D-49D4-9F5A-98400BAA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A2C-0161-449F-84FD-15B31F37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CF514-14B5-47CD-BD4E-5BB78C84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9329B-1A9E-48CC-B1E3-EA7C18B3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156E5-36F9-4154-AD3D-98F4C027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82CB-2EC1-4C60-B33A-E8EE1F0B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7F2E-882F-42A4-B651-C61D6C01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61B57-1AC6-4DF2-8CBC-B226A581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E6BD-EBA7-4D4D-A2C2-73ABA084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3D60B-DC52-4988-8152-34C1E0E4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143B8-9D82-4235-91B9-E810BA7D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A6BA1-31C6-430A-A667-B8CB2122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A53-958F-4F66-B476-C954F4CF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53B35-07F4-4CEA-AB6E-40470426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9F157-F47B-4EAE-B9FF-31D90C91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CE338-2B4D-4C43-897A-7B1D3CCD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CCC1E-1866-4220-ABFA-6AC2B3E4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9052-2AB1-4047-922B-92FA2CA6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50A84-19F1-4D60-A2D2-D0ED1634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2ADC-4F0B-48A0-8697-12CC6A14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3DD9C-8E0D-4E7F-96CA-049C4021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0B0A3-C318-4767-8029-5F75AE0A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C7A8C-F198-44C0-B074-6F893FB2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C08-E766-4BFC-97F9-91EB558F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1A637-E939-4563-B67C-D0EB59A6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9599B-1AC7-48C0-B875-4284F208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58E5C-44F6-4B2A-A159-C23AC426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F4B69-4569-4D49-9126-10DDEC10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79F5B-E8CF-4836-B2E5-C8C12C03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4255C-DC8C-41AD-95A7-3EEC7776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BB2CD-2E1D-4C2A-BD8D-8CA6083B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FDD75-0770-4C2C-A0DC-7F5033CC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36F4D-EDED-4563-825C-E97F6D1C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7DCA4-637A-4BFB-9FEC-495F0675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3EA-46B4-4512-97D9-5496A869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4D899-0718-4541-A18B-3A72CA62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3A975-6AAA-4DB9-8C20-B6B38608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06672-1146-48DB-9DA3-3A02B01A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CE71F-79ED-4C0B-B630-E13798BF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23562-007D-4A02-A19B-B268BD16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D6EF2-6EE7-4B24-A5F6-795109F5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F4CA3-EFA7-4C0C-96DA-265653B6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DAC9C-0800-44B2-BD73-A4B92B67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FB4AA-29C0-4E18-8BAD-6570EF95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BFFE7-D009-4A33-8702-0BC19332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7A1-919F-4420-8486-E3D4E193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50E09-37C1-4B67-BF4E-75E0B764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42B88-4270-4B60-BEF3-AE3B73EF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C4999-D681-41ED-8B10-B8B8A3BB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A8D3C-5DE7-4922-84AD-C0F8F726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C7580-C14E-4BA0-84CC-4F2697BB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DBB70-C4D4-4A42-BC85-A1A3D358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0AB86-7B94-4BA9-923C-0B1FEC32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831C2-7206-47CD-A249-16AF33EB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000CA-88F8-428F-8857-FA6F5A58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2EA31-5C50-4ECE-8D97-671C07F3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BBB-9B12-46B9-85D2-0A2B4EFB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4070F-F3BC-40CE-8E56-230DFD9C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67559-F849-4D9B-89CD-637CB95E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9F802-A009-44A5-A897-FD91D0BE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1ED9D-F528-4DA1-BF09-7201B7BC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0E4A8-D6B3-439F-8C2C-596677A9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2A8D2-FBF5-4E57-9689-655C244B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0F3EB-6D08-4030-976F-CD3A4010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48D55-C080-4EF6-BA86-BA1433EE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72354-285A-4DAC-8EFA-D656AE8D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9D1CD-90D8-4FD2-ACAD-48F5AB4F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84A-87E0-45C8-A72C-AA60E85D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7767E-F893-4C5D-9E12-B2A98472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D93F2-3203-4223-8C96-71A57733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94EA5-B894-4238-B31A-B6990B96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E38E4-3BCD-4085-A370-295F54A6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56475-1571-410F-B82A-EA0281C9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AFF6C-CFB8-4443-9F4F-DC68D7C9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9FB5E-D530-40AF-8FF0-4B2198A2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5AEEE-906D-429F-802E-2DEAE8CF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A4B50-84D9-45EB-83AE-A4CB8BD7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87422-F26B-4104-87EC-24012A60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A4F3-4DEE-4D5F-AB6B-A13325F47C12}" type="slidenum"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88E5-1D97-4B82-980D-19E9F3B047B2}" type="slidenum"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DD08-74AE-473B-9951-FCC170DCC506}" type="slidenum"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D0D6-F702-4800-B78E-CD2955CEA8E6}" type="slidenum"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108A-98E9-41B9-835B-8BE2C06A09FF}" type="slidenum"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Num" idx="4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39AF-B10D-42D2-8168-A976AB672CFD}" type="slidenum"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6029-47E9-4317-A001-3157CCC13F66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D3E1-091B-426E-8BA9-44C4DC97826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CC89-CE02-440F-BA6C-90D5180134D6}" type="slidenum"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011D-68A5-4F9D-853F-D9B953F8C5C7}" type="slidenum"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071E-B93D-4EBD-A8BF-87B6A7B63082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D663-A688-4F60-A8D2-2A1B18A6E3F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66E5-4601-409C-9880-432D96272B75}" type="slidenum"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3EA8-ECEE-4004-AD9A-0541DBB0CEA4}" type="slidenum"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A318-3B30-40DA-8F77-3E310929FC96}" type="slidenum"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536b"/>
            </a:gs>
            <a:gs pos="100000">
              <a:srgbClr val="6fb7d7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C774-D059-4DE0-88D8-778E3196CB63}" type="slidenum"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structura_social" TargetMode="External"/><Relationship Id="rId2" Type="http://schemas.openxmlformats.org/officeDocument/2006/relationships/hyperlink" Target="http://es.wikipedia.org/wiki/Agente_social" TargetMode="External"/><Relationship Id="rId3" Type="http://schemas.openxmlformats.org/officeDocument/2006/relationships/hyperlink" Target="http://es.wikipedia.org/wiki/Individuo" TargetMode="External"/><Relationship Id="rId4" Type="http://schemas.openxmlformats.org/officeDocument/2006/relationships/hyperlink" Target="http://es.wikipedia.org/wiki/Familia" TargetMode="External"/><Relationship Id="rId5" Type="http://schemas.openxmlformats.org/officeDocument/2006/relationships/hyperlink" Target="http://es.wikipedia.org/wiki/Escuela" TargetMode="Externa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d5edf4"/>
                </a:solidFill>
                <a:latin typeface="Arial"/>
                <a:ea typeface="Arial"/>
              </a:rPr>
              <a:t>El ser humano como ser social y cultural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G. Rocher: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ceso por medio del cual una persona aprende e interioriza, en el transcurso de su vida, los elementos socioculturales de su medio ambiente, los integra a la estructura de su personalidad, bajo la influencia de experiencias de agentes sociales significativos, y se adapta así al entorno social en cuyo seno debe vivir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(Rocher, G. 1980: 133-134).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grpSp>
        <p:nvGrpSpPr>
          <p:cNvPr id="612" name="Rectangle 9"/>
          <p:cNvGrpSpPr/>
          <p:nvPr/>
        </p:nvGrpSpPr>
        <p:grpSpPr>
          <a:xfrm>
            <a:off x="189000" y="171360"/>
            <a:ext cx="8918640" cy="1224000"/>
            <a:chOff x="189000" y="171360"/>
            <a:chExt cx="8918640" cy="1224000"/>
          </a:xfrm>
        </p:grpSpPr>
        <p:pic>
          <p:nvPicPr>
            <p:cNvPr id="613" name="Rectangle 9" descr=""/>
            <p:cNvPicPr/>
            <p:nvPr/>
          </p:nvPicPr>
          <p:blipFill>
            <a:blip r:embed="rId1"/>
            <a:stretch/>
          </p:blipFill>
          <p:spPr>
            <a:xfrm>
              <a:off x="189000" y="171360"/>
              <a:ext cx="8918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304920" y="228600"/>
              <a:ext cx="86868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CIALIZACIÓ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olución madurativa necesaria, en todo individuo, con el fin de dotarle de las actitudes, hábitos, ideas, conductas, etc., requeridos para su adecuada integración y adaptación en la sociedad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s disposición natural del individuo a vivir con otros debe formarse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pacidad efectiva y práctica de saber convivir en sociedad, que hay que saber utilizarla plenamente.</a:t>
            </a:r>
            <a:br>
              <a:rPr sz="3200"/>
            </a:br>
            <a:br>
              <a:rPr sz="3200"/>
            </a:b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grpSp>
        <p:nvGrpSpPr>
          <p:cNvPr id="616" name="Rectangle 3"/>
          <p:cNvGrpSpPr/>
          <p:nvPr/>
        </p:nvGrpSpPr>
        <p:grpSpPr>
          <a:xfrm>
            <a:off x="341280" y="92160"/>
            <a:ext cx="8766360" cy="1255680"/>
            <a:chOff x="341280" y="92160"/>
            <a:chExt cx="8766360" cy="1255680"/>
          </a:xfrm>
        </p:grpSpPr>
        <p:pic>
          <p:nvPicPr>
            <p:cNvPr id="617" name="Rectangle 3" descr=""/>
            <p:cNvPicPr/>
            <p:nvPr/>
          </p:nvPicPr>
          <p:blipFill>
            <a:blip r:embed="rId1"/>
            <a:stretch/>
          </p:blipFill>
          <p:spPr>
            <a:xfrm>
              <a:off x="341280" y="92160"/>
              <a:ext cx="87663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457200" y="152280"/>
              <a:ext cx="853452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CIALIZACIÓ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152388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grpSp>
        <p:nvGrpSpPr>
          <p:cNvPr id="621" name="Group 5"/>
          <p:cNvGrpSpPr/>
          <p:nvPr/>
        </p:nvGrpSpPr>
        <p:grpSpPr>
          <a:xfrm>
            <a:off x="228600" y="228600"/>
            <a:ext cx="8914680" cy="6340320"/>
            <a:chOff x="228600" y="228600"/>
            <a:chExt cx="8914680" cy="6340320"/>
          </a:xfrm>
        </p:grpSpPr>
        <p:sp>
          <p:nvSpPr>
            <p:cNvPr id="622" name="AutoShape 4"/>
            <p:cNvSpPr/>
            <p:nvPr/>
          </p:nvSpPr>
          <p:spPr>
            <a:xfrm>
              <a:off x="228600" y="228600"/>
              <a:ext cx="8914680" cy="634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3" name="_s103436"/>
            <p:cNvCxnSpPr>
              <a:stCxn id="624" idx="0"/>
              <a:endCxn id="625" idx="2"/>
            </p:cNvCxnSpPr>
            <p:nvPr/>
          </p:nvCxnSpPr>
          <p:spPr>
            <a:xfrm flipV="1" rot="16200000">
              <a:off x="5253480" y="2207160"/>
              <a:ext cx="1265040" cy="2400120"/>
            </a:xfrm>
            <a:prstGeom prst="bentConnector3">
              <a:avLst>
                <a:gd name="adj1" fmla="val 89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6" name="_s103434"/>
            <p:cNvCxnSpPr>
              <a:stCxn id="627" idx="0"/>
              <a:endCxn id="625" idx="2"/>
            </p:cNvCxnSpPr>
            <p:nvPr/>
          </p:nvCxnSpPr>
          <p:spPr>
            <a:xfrm flipH="1" flipV="1" rot="5400000">
              <a:off x="2857680" y="2193480"/>
              <a:ext cx="1256760" cy="2401200"/>
            </a:xfrm>
            <a:prstGeom prst="bentConnector3">
              <a:avLst>
                <a:gd name="adj1" fmla="val 90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25" name="_s103430"/>
            <p:cNvSpPr/>
            <p:nvPr/>
          </p:nvSpPr>
          <p:spPr>
            <a:xfrm>
              <a:off x="2147400" y="228600"/>
              <a:ext cx="5076360" cy="2529000"/>
            </a:xfrm>
            <a:prstGeom prst="roundRect">
              <a:avLst>
                <a:gd name="adj" fmla="val 16667"/>
              </a:avLst>
            </a:prstGeom>
            <a:solidFill>
              <a:srgbClr val="a62b1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Arial"/>
                </a:rPr>
                <a:t>Tipos de socializ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103431"/>
            <p:cNvSpPr/>
            <p:nvPr/>
          </p:nvSpPr>
          <p:spPr>
            <a:xfrm>
              <a:off x="228600" y="4021920"/>
              <a:ext cx="4114440" cy="2529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Prima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(núcleo familia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iene una fuer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arga afectiv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103433"/>
            <p:cNvSpPr/>
            <p:nvPr/>
          </p:nvSpPr>
          <p:spPr>
            <a:xfrm>
              <a:off x="5028480" y="4039920"/>
              <a:ext cx="4114440" cy="2529000"/>
            </a:xfrm>
            <a:prstGeom prst="roundRect">
              <a:avLst>
                <a:gd name="adj" fmla="val 16667"/>
              </a:avLst>
            </a:prstGeom>
            <a:solidFill>
              <a:srgbClr val="2c7c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Arial"/>
                </a:rPr>
                <a:t>Secundaria (cualqui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Arial"/>
                </a:rPr>
                <a:t>proceso posterior que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Arial"/>
                </a:rPr>
                <a:t>induce al individuo y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Arial"/>
                </a:rPr>
                <a:t>socializado a nuevo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Arial"/>
                </a:rPr>
                <a:t>ámbitos del mundo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Arial"/>
                </a:rPr>
                <a:t>objetivo de s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Arial"/>
                </a:rPr>
                <a:t>sociedad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6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4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 algn="just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os conceptos se refieren a fenómenos de naturaleza semejante. El aprendizaje se refiere a la adquisición de nuevos recursos al repertorio de respuestas del individuo y en este sentido su alcance es más amplio, ya que no todo aprendizaje supone una socializació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 algn="just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socialización es un proceso temporal y avanza a lo largo del progreso evolutivo individual. Para que ésta resulte efectiva, el punto de partida se inicia en la edad temprana con la asimilación de las estructuras cognitivas y las habilidades lingüísticas y comunicativas para, a través de las pautas de valores, normas y significados reconocidos, aprender la realidad y capacitar al sujeto para alcanzar contenidos significativos más extensos y lograr un proceso de interacción plen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grpSp>
        <p:nvGrpSpPr>
          <p:cNvPr id="630" name="Rectangle 5"/>
          <p:cNvGrpSpPr/>
          <p:nvPr/>
        </p:nvGrpSpPr>
        <p:grpSpPr>
          <a:xfrm>
            <a:off x="189000" y="171360"/>
            <a:ext cx="8742240" cy="1309680"/>
            <a:chOff x="189000" y="171360"/>
            <a:chExt cx="8742240" cy="1309680"/>
          </a:xfrm>
        </p:grpSpPr>
        <p:pic>
          <p:nvPicPr>
            <p:cNvPr id="631" name="Rectangle 5" descr=""/>
            <p:cNvPicPr/>
            <p:nvPr/>
          </p:nvPicPr>
          <p:blipFill>
            <a:blip r:embed="rId1"/>
            <a:stretch/>
          </p:blipFill>
          <p:spPr>
            <a:xfrm>
              <a:off x="189000" y="171360"/>
              <a:ext cx="874224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228600"/>
              <a:ext cx="85104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PRENDIZAJE Y SOCIALIZA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Rectangle 4"/>
          <p:cNvGrpSpPr/>
          <p:nvPr/>
        </p:nvGrpSpPr>
        <p:grpSpPr>
          <a:xfrm>
            <a:off x="433440" y="55440"/>
            <a:ext cx="8272440" cy="1035000"/>
            <a:chOff x="433440" y="55440"/>
            <a:chExt cx="8272440" cy="1035000"/>
          </a:xfrm>
        </p:grpSpPr>
        <p:pic>
          <p:nvPicPr>
            <p:cNvPr id="634" name="Rectangle 4" descr=""/>
            <p:cNvPicPr/>
            <p:nvPr/>
          </p:nvPicPr>
          <p:blipFill>
            <a:blip r:embed="rId1"/>
            <a:stretch/>
          </p:blipFill>
          <p:spPr>
            <a:xfrm>
              <a:off x="433440" y="55440"/>
              <a:ext cx="827244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549360" y="108000"/>
              <a:ext cx="804204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000000"/>
                  </a:solidFill>
                  <a:latin typeface="Calibri"/>
                </a:rPr>
                <a:t>APRENDIZAJE Y SOCIALIZA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 txBox="1"/>
          <p:nvPr/>
        </p:nvSpPr>
        <p:spPr>
          <a:xfrm>
            <a:off x="2282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Dentro de las perspectivas del análisis de la socialización cabe mencionar las dos fundamentales: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1. La primera se interesa por el fenómeno como elemento mantenedor y reproductor de la estructura y del orden social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2. La segunda mirada se orienta hacia el desarrollo de la personalidad individual enmarcada en los usos y valores del grupo con los que va a interactuar (su interés se centra en el desarrollo afectivo, cognitivo y conductual)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Rectangle 5"/>
          <p:cNvGrpSpPr/>
          <p:nvPr/>
        </p:nvGrpSpPr>
        <p:grpSpPr>
          <a:xfrm>
            <a:off x="115920" y="176040"/>
            <a:ext cx="8918640" cy="1140120"/>
            <a:chOff x="115920" y="176040"/>
            <a:chExt cx="8918640" cy="1140120"/>
          </a:xfrm>
        </p:grpSpPr>
        <p:pic>
          <p:nvPicPr>
            <p:cNvPr id="638" name="Rectangle 5" descr=""/>
            <p:cNvPicPr/>
            <p:nvPr/>
          </p:nvPicPr>
          <p:blipFill>
            <a:blip r:embed="rId1"/>
            <a:stretch/>
          </p:blipFill>
          <p:spPr>
            <a:xfrm>
              <a:off x="115920" y="176040"/>
              <a:ext cx="891864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228600" y="228600"/>
              <a:ext cx="86868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000" spc="-1" strike="noStrike">
                  <a:solidFill>
                    <a:srgbClr val="000000"/>
                  </a:solidFill>
                  <a:latin typeface="Calibri"/>
                </a:rPr>
                <a:t>APRENDIZAJE Y SOCIALIZACIÓ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 txBox="1"/>
          <p:nvPr/>
        </p:nvSpPr>
        <p:spPr>
          <a:xfrm>
            <a:off x="304920" y="1628640"/>
            <a:ext cx="853416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Calibri"/>
              </a:rPr>
              <a:t>1. Se concibe como</a:t>
            </a:r>
            <a:r>
              <a:rPr b="0" lang="es-MX" sz="3300" spc="-1" strike="noStrike">
                <a:solidFill>
                  <a:srgbClr val="000000"/>
                </a:solidFill>
                <a:latin typeface="Calibri"/>
              </a:rPr>
              <a:t> secuencia</a:t>
            </a:r>
            <a:r>
              <a:rPr b="0" lang="es-ES" sz="3300" spc="-1" strike="noStrike">
                <a:solidFill>
                  <a:srgbClr val="000000"/>
                </a:solidFill>
                <a:latin typeface="Calibri"/>
              </a:rPr>
              <a:t> de aprendizaje</a:t>
            </a:r>
            <a:r>
              <a:rPr b="0" lang="es-MX" sz="33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s-ES" sz="3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Calibri"/>
              </a:rPr>
              <a:t>2. S</a:t>
            </a:r>
            <a:r>
              <a:rPr b="0" lang="es-MX" sz="3300" spc="-1" strike="noStrike">
                <a:solidFill>
                  <a:srgbClr val="000000"/>
                </a:solidFill>
                <a:latin typeface="Calibri"/>
              </a:rPr>
              <a:t>e transmiten</a:t>
            </a:r>
            <a:r>
              <a:rPr b="0" lang="es-ES" sz="3300" spc="-1" strike="noStrike">
                <a:solidFill>
                  <a:srgbClr val="000000"/>
                </a:solidFill>
                <a:latin typeface="Calibri"/>
              </a:rPr>
              <a:t> contenidos relevantes: el idioma, los valores y las normas.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Calibri"/>
              </a:rPr>
              <a:t>3. Tales contenidos están referidos a las expectativas sociales y a sus influencias.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Rectangle 5"/>
          <p:cNvGrpSpPr/>
          <p:nvPr/>
        </p:nvGrpSpPr>
        <p:grpSpPr>
          <a:xfrm>
            <a:off x="115920" y="244440"/>
            <a:ext cx="8918640" cy="1303200"/>
            <a:chOff x="115920" y="244440"/>
            <a:chExt cx="8918640" cy="1303200"/>
          </a:xfrm>
        </p:grpSpPr>
        <p:pic>
          <p:nvPicPr>
            <p:cNvPr id="642" name="Rectangle 5" descr=""/>
            <p:cNvPicPr/>
            <p:nvPr/>
          </p:nvPicPr>
          <p:blipFill>
            <a:blip r:embed="rId1"/>
            <a:stretch/>
          </p:blipFill>
          <p:spPr>
            <a:xfrm>
              <a:off x="115920" y="244440"/>
              <a:ext cx="891864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228600" y="304920"/>
              <a:ext cx="8686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00"/>
                  </a:solidFill>
                  <a:latin typeface="Arial"/>
                </a:rPr>
                <a:t>AGENTES O CONTEXTOS DE SOCIALIZ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8915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tendemos por tales los grupos y contextos sociales dentro de los cuales se producen importantes procesos de socializació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on: la familia, la escuela, el grupo de iguales y también a los medios de comunicación de masa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Rectangle 4"/>
          <p:cNvGrpSpPr/>
          <p:nvPr/>
        </p:nvGrpSpPr>
        <p:grpSpPr>
          <a:xfrm>
            <a:off x="341280" y="249120"/>
            <a:ext cx="8613720" cy="914400"/>
            <a:chOff x="341280" y="249120"/>
            <a:chExt cx="8613720" cy="914400"/>
          </a:xfrm>
        </p:grpSpPr>
        <p:pic>
          <p:nvPicPr>
            <p:cNvPr id="646" name="Rectangle 4" descr=""/>
            <p:cNvPicPr/>
            <p:nvPr/>
          </p:nvPicPr>
          <p:blipFill>
            <a:blip r:embed="rId1"/>
            <a:stretch/>
          </p:blipFill>
          <p:spPr>
            <a:xfrm>
              <a:off x="341280" y="249120"/>
              <a:ext cx="86137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457200" y="304920"/>
              <a:ext cx="83818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000" spc="-1" strike="noStrike">
                  <a:solidFill>
                    <a:srgbClr val="000000"/>
                  </a:solidFill>
                  <a:latin typeface="Arial"/>
                </a:rPr>
                <a:t>A) LA FAMILI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 ella ha tenido un lugar especial los aspectos más importantes de los procesos de socialización, en particular la primaria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 ella tienen que ver aspectos como afectividad y los procesos de identificació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familia es una institución de formas muy variables según las culturas, las épocas y los contextos social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familia en la que nace un individuo, afecta profundamente a los modelos de socialización (Giddens, 1991: 109)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 la actualidad, la familia ha trasvasado sus funciones de socialización a otras instituciones formales: a la escuela y los medios de comunicació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Rectangle 4"/>
          <p:cNvGrpSpPr/>
          <p:nvPr/>
        </p:nvGrpSpPr>
        <p:grpSpPr>
          <a:xfrm>
            <a:off x="268200" y="401760"/>
            <a:ext cx="8766360" cy="914400"/>
            <a:chOff x="268200" y="401760"/>
            <a:chExt cx="8766360" cy="914400"/>
          </a:xfrm>
        </p:grpSpPr>
        <p:pic>
          <p:nvPicPr>
            <p:cNvPr id="650" name="Rectangle 4" descr=""/>
            <p:cNvPicPr/>
            <p:nvPr/>
          </p:nvPicPr>
          <p:blipFill>
            <a:blip r:embed="rId1"/>
            <a:stretch/>
          </p:blipFill>
          <p:spPr>
            <a:xfrm>
              <a:off x="268200" y="401760"/>
              <a:ext cx="87663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380880" y="457200"/>
              <a:ext cx="8534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600" spc="-1" strike="noStrike">
                  <a:solidFill>
                    <a:srgbClr val="000000"/>
                  </a:solidFill>
                  <a:latin typeface="Calibri"/>
                </a:rPr>
                <a:t>A) LA FAMILIA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la familia moderna se están produciendo nuevas formas de convivencia y se están generando nuevos tipos de hogare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) Cambios en el rol de la muj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2) Nuevos modelos familiar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3) el divorci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53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1676520"/>
            <a:ext cx="822960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ctr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s TIC expiden numerosos mensajes dirigidos a individuos en general y para situaciones generales, pero acaban configurando marcos de referencia enormemente influyentes en la socialización y en el comportamiento de las persona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s TIC fusionan en un mismo medio la imagen, el sonido y la escritura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grpSp>
        <p:nvGrpSpPr>
          <p:cNvPr id="655" name="Rectangle 7"/>
          <p:cNvGrpSpPr/>
          <p:nvPr/>
        </p:nvGrpSpPr>
        <p:grpSpPr>
          <a:xfrm>
            <a:off x="268200" y="396720"/>
            <a:ext cx="8766360" cy="1303560"/>
            <a:chOff x="268200" y="396720"/>
            <a:chExt cx="8766360" cy="1303560"/>
          </a:xfrm>
        </p:grpSpPr>
        <p:pic>
          <p:nvPicPr>
            <p:cNvPr id="656" name="Rectangle 7" descr=""/>
            <p:cNvPicPr/>
            <p:nvPr/>
          </p:nvPicPr>
          <p:blipFill>
            <a:blip r:embed="rId1"/>
            <a:stretch/>
          </p:blipFill>
          <p:spPr>
            <a:xfrm>
              <a:off x="268200" y="396720"/>
              <a:ext cx="876636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380880" y="457200"/>
              <a:ext cx="8534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) LAS TIC COMO AGENTES DE SOCIALIZ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Rectangle 2"/>
          <p:cNvGrpSpPr/>
          <p:nvPr/>
        </p:nvGrpSpPr>
        <p:grpSpPr>
          <a:xfrm>
            <a:off x="268200" y="176040"/>
            <a:ext cx="8534520" cy="914400"/>
            <a:chOff x="268200" y="176040"/>
            <a:chExt cx="8534520" cy="914400"/>
          </a:xfrm>
        </p:grpSpPr>
        <p:pic>
          <p:nvPicPr>
            <p:cNvPr id="577" name="Rectangle 2" descr=""/>
            <p:cNvPicPr/>
            <p:nvPr/>
          </p:nvPicPr>
          <p:blipFill>
            <a:blip r:embed="rId1"/>
            <a:stretch/>
          </p:blipFill>
          <p:spPr>
            <a:xfrm>
              <a:off x="268200" y="176040"/>
              <a:ext cx="8534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380880" y="228600"/>
              <a:ext cx="8305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Calibri"/>
                </a:rPr>
                <a:t>CULTURA, SOCIEDAD Y EDUCA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 txBox="1"/>
          <p:nvPr/>
        </p:nvSpPr>
        <p:spPr>
          <a:xfrm>
            <a:off x="38052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1. La cultura como sustrato de los modelos educativ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. La economía como factor determinante en la educació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3. Concepciones de la vida y de la sociedad y su implicación en la filosofía de los modelos educativ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4. ¿Intereses políticos en el currículum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Rectangle 4"/>
          <p:cNvGrpSpPr/>
          <p:nvPr/>
        </p:nvGrpSpPr>
        <p:grpSpPr>
          <a:xfrm>
            <a:off x="433440" y="49320"/>
            <a:ext cx="8272440" cy="1493640"/>
            <a:chOff x="433440" y="49320"/>
            <a:chExt cx="8272440" cy="1493640"/>
          </a:xfrm>
        </p:grpSpPr>
        <p:pic>
          <p:nvPicPr>
            <p:cNvPr id="659" name="Rectangle 4" descr=""/>
            <p:cNvPicPr/>
            <p:nvPr/>
          </p:nvPicPr>
          <p:blipFill>
            <a:blip r:embed="rId1"/>
            <a:stretch/>
          </p:blipFill>
          <p:spPr>
            <a:xfrm>
              <a:off x="433440" y="49320"/>
              <a:ext cx="827244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549360" y="108000"/>
              <a:ext cx="804204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000" spc="-1" strike="noStrike">
                  <a:solidFill>
                    <a:srgbClr val="000000"/>
                  </a:solidFill>
                  <a:latin typeface="Calibri"/>
                </a:rPr>
                <a:t>B) LAS TIC COMO AGENTES DE SOCIALIZACIÓ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desarrollo de las TIC supone un profundo cambio en la dinámica social y en la vida de las personas. Plantea una situación nueva a la escuela, al menos en dos aspecto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upone una fuente de acceso a la información y al conocimiento más eficaz y sobre todo más cómodo y atractivo, por apoyarse en la image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frece modelos de comportamiento diferentes a los de la escuela y más atractivos y seductor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Rectangle 4"/>
          <p:cNvGrpSpPr/>
          <p:nvPr/>
        </p:nvGrpSpPr>
        <p:grpSpPr>
          <a:xfrm>
            <a:off x="341280" y="96840"/>
            <a:ext cx="8693280" cy="1165320"/>
            <a:chOff x="341280" y="96840"/>
            <a:chExt cx="8693280" cy="1165320"/>
          </a:xfrm>
        </p:grpSpPr>
        <p:pic>
          <p:nvPicPr>
            <p:cNvPr id="663" name="Rectangle 4" descr=""/>
            <p:cNvPicPr/>
            <p:nvPr/>
          </p:nvPicPr>
          <p:blipFill>
            <a:blip r:embed="rId1"/>
            <a:stretch/>
          </p:blipFill>
          <p:spPr>
            <a:xfrm>
              <a:off x="341280" y="96840"/>
              <a:ext cx="869328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457200" y="152280"/>
              <a:ext cx="845820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900" spc="-1" strike="noStrike">
                  <a:solidFill>
                    <a:srgbClr val="000000"/>
                  </a:solidFill>
                  <a:latin typeface="Arial"/>
                </a:rPr>
                <a:t>C) EL GRUPO DE PARES O EL GRUPO DE IGUALE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"/>
          <p:cNvSpPr txBox="1"/>
          <p:nvPr/>
        </p:nvSpPr>
        <p:spPr>
          <a:xfrm>
            <a:off x="151920" y="15238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 uno de los agentes de socialización clásico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grupo de pares comprende a personas que tienen aproximadamente la misma eda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Harris, J. R. (1999: 193):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humanos jóvenes sienten una profunda inclinación hacia otros de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u clase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y ésta se define, en primer lugar, por la edad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juego, comportamiento típico en la infancia y en todas la culturas, sería una de las situaciones que expresarían esta necesidad que tenemos de los iguales, de manera que se convierte en una actividad básica en el desarrollo y en la socialización porque permite el acceso, a través de sus distintas etapas y tipos, a capacidades de relación social y al descubrimiento e interiorización de muchos significados cultural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Rectangle 4"/>
          <p:cNvGrpSpPr/>
          <p:nvPr/>
        </p:nvGrpSpPr>
        <p:grpSpPr>
          <a:xfrm>
            <a:off x="433440" y="49320"/>
            <a:ext cx="8272440" cy="1493640"/>
            <a:chOff x="433440" y="49320"/>
            <a:chExt cx="8272440" cy="1493640"/>
          </a:xfrm>
        </p:grpSpPr>
        <p:pic>
          <p:nvPicPr>
            <p:cNvPr id="667" name="Rectangle 4" descr=""/>
            <p:cNvPicPr/>
            <p:nvPr/>
          </p:nvPicPr>
          <p:blipFill>
            <a:blip r:embed="rId1"/>
            <a:stretch/>
          </p:blipFill>
          <p:spPr>
            <a:xfrm>
              <a:off x="433440" y="49320"/>
              <a:ext cx="827244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549360" y="108000"/>
              <a:ext cx="804204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000" spc="-1" strike="noStrike">
                  <a:solidFill>
                    <a:srgbClr val="000000"/>
                  </a:solidFill>
                  <a:latin typeface="Arial"/>
                </a:rPr>
                <a:t>C) EL GRUPO DE PARES O EL GRUPO DE IGUAL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 diferencia de la familia, que mantiene objetivos de largo alcance para el niño, los intereses del grupo de pares son inmediatos y temporarios.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670" name="Picture 5" descr="616"/>
          <p:cNvPicPr/>
          <p:nvPr/>
        </p:nvPicPr>
        <p:blipFill>
          <a:blip r:embed="rId2"/>
          <a:stretch/>
        </p:blipFill>
        <p:spPr>
          <a:xfrm>
            <a:off x="3581280" y="1828800"/>
            <a:ext cx="18576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179280" y="620280"/>
            <a:ext cx="89647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457200" y="182880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l grupo de pares tiene costumbres y una organiz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os roles de los miembros están menos definidos y pueden cambiar frecuente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Los niños van cambiando su participación en grupos de pares a medida que recorren diferentes etapas de su desarroll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Con frecuencia pertenecen a un número de grupos simultáneamente (puede pertenecer a un grupo de la vecindad, de la organización  juvenil, el campamento, la escuela y la iglesi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Rectangle 6"/>
          <p:cNvGrpSpPr/>
          <p:nvPr/>
        </p:nvGrpSpPr>
        <p:grpSpPr>
          <a:xfrm>
            <a:off x="268200" y="365040"/>
            <a:ext cx="8686800" cy="1305000"/>
            <a:chOff x="268200" y="365040"/>
            <a:chExt cx="8686800" cy="1305000"/>
          </a:xfrm>
        </p:grpSpPr>
        <p:pic>
          <p:nvPicPr>
            <p:cNvPr id="674" name="Rectangle 6" descr=""/>
            <p:cNvPicPr/>
            <p:nvPr/>
          </p:nvPicPr>
          <p:blipFill>
            <a:blip r:embed="rId1"/>
            <a:stretch/>
          </p:blipFill>
          <p:spPr>
            <a:xfrm>
              <a:off x="268200" y="365040"/>
              <a:ext cx="868680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380880" y="426960"/>
              <a:ext cx="8458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) EL GRUPO DE PARES O EL GRUPO DE IGUAL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Rectangle 4"/>
          <p:cNvGrpSpPr/>
          <p:nvPr/>
        </p:nvGrpSpPr>
        <p:grpSpPr>
          <a:xfrm>
            <a:off x="433440" y="49320"/>
            <a:ext cx="8272440" cy="1493640"/>
            <a:chOff x="433440" y="49320"/>
            <a:chExt cx="8272440" cy="1493640"/>
          </a:xfrm>
        </p:grpSpPr>
        <p:pic>
          <p:nvPicPr>
            <p:cNvPr id="677" name="Rectangle 4" descr=""/>
            <p:cNvPicPr/>
            <p:nvPr/>
          </p:nvPicPr>
          <p:blipFill>
            <a:blip r:embed="rId1"/>
            <a:stretch/>
          </p:blipFill>
          <p:spPr>
            <a:xfrm>
              <a:off x="433440" y="49320"/>
              <a:ext cx="827244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549360" y="108000"/>
              <a:ext cx="804204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000000"/>
                  </a:solidFill>
                  <a:latin typeface="Arial"/>
                </a:rPr>
                <a:t>C) EL GRUPO DE PARES O EL GRUPO DE IGUAL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 cada grupo, el niño tiene cierto estatus y en cada uno se espera de él que piense y se comporte de determinada manera. 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 causa de las expectaciones de los grupos de pares, y de la tendencia de los miembros a conformarse a esas expectaciones, la influencia sobre el niño es grande, tanto en la escuela como fuera de ésta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Rectangle 4"/>
          <p:cNvGrpSpPr/>
          <p:nvPr/>
        </p:nvGrpSpPr>
        <p:grpSpPr>
          <a:xfrm>
            <a:off x="341280" y="244440"/>
            <a:ext cx="8766360" cy="1303200"/>
            <a:chOff x="341280" y="244440"/>
            <a:chExt cx="8766360" cy="1303200"/>
          </a:xfrm>
        </p:grpSpPr>
        <p:pic>
          <p:nvPicPr>
            <p:cNvPr id="681" name="Rectangle 4" descr=""/>
            <p:cNvPicPr/>
            <p:nvPr/>
          </p:nvPicPr>
          <p:blipFill>
            <a:blip r:embed="rId1"/>
            <a:stretch/>
          </p:blipFill>
          <p:spPr>
            <a:xfrm>
              <a:off x="341280" y="244440"/>
              <a:ext cx="876636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457200" y="304920"/>
              <a:ext cx="8534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00"/>
                  </a:solidFill>
                  <a:latin typeface="Arial"/>
                </a:rPr>
                <a:t>FUNCIONES SOCIALES DE LA EDUC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 txBox="1"/>
          <p:nvPr/>
        </p:nvSpPr>
        <p:spPr>
          <a:xfrm>
            <a:off x="304920" y="1600200"/>
            <a:ext cx="85881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nciones manifiestas: conocidas e intencionada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nciones latentes: consecuencias de dicha actividad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on las funciones latentes de las actividades e instituciones sociales las que ofrecen gran parte de las explicaciones que rodean los fenómenos social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Rectangle 4"/>
          <p:cNvGrpSpPr/>
          <p:nvPr/>
        </p:nvGrpSpPr>
        <p:grpSpPr>
          <a:xfrm>
            <a:off x="115920" y="19080"/>
            <a:ext cx="8839080" cy="1224000"/>
            <a:chOff x="115920" y="19080"/>
            <a:chExt cx="8839080" cy="1224000"/>
          </a:xfrm>
        </p:grpSpPr>
        <p:pic>
          <p:nvPicPr>
            <p:cNvPr id="685" name="Rectangle 4" descr=""/>
            <p:cNvPicPr/>
            <p:nvPr/>
          </p:nvPicPr>
          <p:blipFill>
            <a:blip r:embed="rId1"/>
            <a:stretch/>
          </p:blipFill>
          <p:spPr>
            <a:xfrm>
              <a:off x="115920" y="19080"/>
              <a:ext cx="88390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228600" y="76320"/>
              <a:ext cx="86104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00"/>
                  </a:solidFill>
                  <a:latin typeface="Arial"/>
                </a:rPr>
                <a:t>FUNCIONES SOCIALES DE LA EDUC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"/>
          <p:cNvSpPr txBox="1"/>
          <p:nvPr/>
        </p:nvSpPr>
        <p:spPr>
          <a:xfrm>
            <a:off x="228600" y="119664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daptación del individuo a las exigencias del grupo social: vivir es estar integrado en la sociedad y esta integración tiene sus exigencias: la educación le facilita tales aprendizaj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segurar una continuidad social: la educación transmite toda la herencia cultural, con usos y costumbres, ideas y creencias, temores y deseos. Con esto asegura la cohesión social, condición primaria de la existencia de una socieda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Rectangle 4"/>
          <p:cNvGrpSpPr/>
          <p:nvPr/>
        </p:nvGrpSpPr>
        <p:grpSpPr>
          <a:xfrm>
            <a:off x="341280" y="92160"/>
            <a:ext cx="8766360" cy="1528560"/>
            <a:chOff x="341280" y="92160"/>
            <a:chExt cx="8766360" cy="1528560"/>
          </a:xfrm>
        </p:grpSpPr>
        <p:pic>
          <p:nvPicPr>
            <p:cNvPr id="689" name="Rectangle 4" descr=""/>
            <p:cNvPicPr/>
            <p:nvPr/>
          </p:nvPicPr>
          <p:blipFill>
            <a:blip r:embed="rId1"/>
            <a:stretch/>
          </p:blipFill>
          <p:spPr>
            <a:xfrm>
              <a:off x="341280" y="92160"/>
              <a:ext cx="876636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457200" y="152280"/>
              <a:ext cx="85345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000000"/>
                  </a:solidFill>
                  <a:latin typeface="Arial"/>
                </a:rPr>
                <a:t>FUNCIONES SOCIALES DE LA EDUCA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555120" y="836280"/>
            <a:ext cx="85885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Introducir el cambio social: la educación promueve las innovaciones, fomenta la capacidad crítica, estimula la creatividad individu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unción económica: promueve el progreso material de la socieda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0">
              <a:lnSpc>
                <a:spcPct val="6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0" algn="just">
              <a:lnSpc>
                <a:spcPct val="6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0" algn="just">
              <a:lnSpc>
                <a:spcPct val="6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0" algn="just">
              <a:lnSpc>
                <a:spcPct val="6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 algn="just">
              <a:lnSpc>
                <a:spcPct val="6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unción política: la preocupación por la vida pública constituye una dimensión inalienable de la persona humana, por tanto la educación debe formarla, orientarla y darle cuerpo, en especial a través del cultivo del sentido cívico de los individuos y de darles la instrucción que los capacite para la participación democrática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0" algn="just">
              <a:lnSpc>
                <a:spcPct val="6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 algn="just">
              <a:lnSpc>
                <a:spcPct val="6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unción de control social: la educación promueve en los individuos las ideas y actitudes que interesan a los dirigentes de la misma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0" algn="just">
              <a:lnSpc>
                <a:spcPct val="6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0" algn="just">
              <a:lnSpc>
                <a:spcPct val="6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595959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grpSp>
        <p:nvGrpSpPr>
          <p:cNvPr id="693" name="Rectangle 4"/>
          <p:cNvGrpSpPr/>
          <p:nvPr/>
        </p:nvGrpSpPr>
        <p:grpSpPr>
          <a:xfrm>
            <a:off x="268200" y="171360"/>
            <a:ext cx="8382240" cy="1376280"/>
            <a:chOff x="268200" y="171360"/>
            <a:chExt cx="8382240" cy="1376280"/>
          </a:xfrm>
        </p:grpSpPr>
        <p:pic>
          <p:nvPicPr>
            <p:cNvPr id="694" name="Rectangle 4" descr=""/>
            <p:cNvPicPr/>
            <p:nvPr/>
          </p:nvPicPr>
          <p:blipFill>
            <a:blip r:embed="rId1"/>
            <a:stretch/>
          </p:blipFill>
          <p:spPr>
            <a:xfrm>
              <a:off x="268200" y="171360"/>
              <a:ext cx="8382240" cy="13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380880" y="228600"/>
              <a:ext cx="8153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00"/>
                  </a:solidFill>
                  <a:latin typeface="News Gothic MT"/>
                  <a:ea typeface="Arial"/>
                </a:rPr>
                <a:t>FUNCIONES SOCIALES DE LA EDUC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2"/>
          <p:cNvSpPr/>
          <p:nvPr/>
        </p:nvSpPr>
        <p:spPr>
          <a:xfrm>
            <a:off x="0" y="3333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Función de selec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Aspecto positivo: la educación va encauzando los elementos más capaces de la población hacia puestos de él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  <a:ea typeface="Arial"/>
              </a:rPr>
              <a:t>Aspecto negativo: selectividad económica y social operada por la enseñanza escolar, o la diferenciación cultural y personal engendrada por 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  <a:ea typeface="Arial"/>
              </a:rPr>
              <a:t>Promover el progreso humano en la sociedad: al perfeccionar a los individuos, perfecciona también al grupo, mejorando su calidad humana y el nivel social.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Rectangle 4"/>
          <p:cNvGrpSpPr/>
          <p:nvPr/>
        </p:nvGrpSpPr>
        <p:grpSpPr>
          <a:xfrm>
            <a:off x="189000" y="96840"/>
            <a:ext cx="8461440" cy="1066680"/>
            <a:chOff x="189000" y="96840"/>
            <a:chExt cx="8461440" cy="1066680"/>
          </a:xfrm>
        </p:grpSpPr>
        <p:pic>
          <p:nvPicPr>
            <p:cNvPr id="698" name="Rectangle 4" descr=""/>
            <p:cNvPicPr/>
            <p:nvPr/>
          </p:nvPicPr>
          <p:blipFill>
            <a:blip r:embed="rId1"/>
            <a:stretch/>
          </p:blipFill>
          <p:spPr>
            <a:xfrm>
              <a:off x="189000" y="96840"/>
              <a:ext cx="84614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304920" y="152280"/>
              <a:ext cx="8229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00"/>
                  </a:solidFill>
                  <a:latin typeface="Calibri"/>
                </a:rPr>
                <a:t>FUNCIONES SOCIALES DE LA EDUC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Rectangle 4"/>
          <p:cNvGrpSpPr/>
          <p:nvPr/>
        </p:nvGrpSpPr>
        <p:grpSpPr>
          <a:xfrm>
            <a:off x="189000" y="176040"/>
            <a:ext cx="8766000" cy="987480"/>
            <a:chOff x="189000" y="176040"/>
            <a:chExt cx="8766000" cy="987480"/>
          </a:xfrm>
        </p:grpSpPr>
        <p:pic>
          <p:nvPicPr>
            <p:cNvPr id="581" name="Rectangle 4" descr=""/>
            <p:cNvPicPr/>
            <p:nvPr/>
          </p:nvPicPr>
          <p:blipFill>
            <a:blip r:embed="rId1"/>
            <a:stretch/>
          </p:blipFill>
          <p:spPr>
            <a:xfrm>
              <a:off x="189000" y="176040"/>
              <a:ext cx="87660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304920" y="228600"/>
              <a:ext cx="8534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Calibri"/>
                </a:rPr>
                <a:t>CULTUR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-36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njunto de todas las formas y expresiones de una sociedad determinada. Como tal incluye costumbres, prácticas, códigos, normas y reglas de la manera de ser, religión, normas de comportamiento, creencias, etc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nguaje, normas morales, organizaciones sociales, políticas, profesiones, técnicas, fiestas, artes, ciencias, celebraciones, ideas, creencias, religiones..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790560" y="1600200"/>
            <a:ext cx="835344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595959"/>
                </a:solidFill>
                <a:latin typeface="Bookman Old Style"/>
              </a:rPr>
              <a:t>	</a:t>
            </a:r>
            <a:r>
              <a:rPr b="1" lang="ca-ES" sz="4000" spc="-1" strike="noStrike">
                <a:solidFill>
                  <a:srgbClr val="000000"/>
                </a:solidFill>
                <a:latin typeface="Arial Black"/>
              </a:rPr>
              <a:t>La educación prepara al individuo para que asuma con eficiencia sus diversos roles sociale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701" name="Picture 3" descr="j0301252"/>
          <p:cNvPicPr/>
          <p:nvPr/>
        </p:nvPicPr>
        <p:blipFill>
          <a:blip r:embed="rId1"/>
          <a:stretch/>
        </p:blipFill>
        <p:spPr>
          <a:xfrm>
            <a:off x="4211640" y="443700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Rectangle 4"/>
          <p:cNvGrpSpPr/>
          <p:nvPr/>
        </p:nvGrpSpPr>
        <p:grpSpPr>
          <a:xfrm>
            <a:off x="341280" y="219240"/>
            <a:ext cx="8693280" cy="871200"/>
            <a:chOff x="341280" y="219240"/>
            <a:chExt cx="8693280" cy="871200"/>
          </a:xfrm>
        </p:grpSpPr>
        <p:pic>
          <p:nvPicPr>
            <p:cNvPr id="703" name="Rectangle 4" descr=""/>
            <p:cNvPicPr/>
            <p:nvPr/>
          </p:nvPicPr>
          <p:blipFill>
            <a:blip r:embed="rId1"/>
            <a:stretch/>
          </p:blipFill>
          <p:spPr>
            <a:xfrm>
              <a:off x="341280" y="219240"/>
              <a:ext cx="8693280" cy="8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57200" y="274680"/>
              <a:ext cx="84582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000000"/>
                  </a:solidFill>
                  <a:latin typeface="Calibri"/>
                </a:rPr>
                <a:t>LAS RELACIONES ESCUELA-SOCIEDA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 txBox="1"/>
          <p:nvPr/>
        </p:nvSpPr>
        <p:spPr>
          <a:xfrm>
            <a:off x="179280" y="1523880"/>
            <a:ext cx="8964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escuela es una unidad social dentro de una sociedad más amplia. Representa para el individuo un momento de transición entre esa sociedad minúscula (familia) y la sociedad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mpersonal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en el seno de la cual vivimos. 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laciones entre ambas: 1) la comunidad debe ofrecer el ambiente requerido y los medios para que la escuela pueda funcionar 2) la escuela tiene una misión específica respecto de su comunidad: la de poner a su servicio los medios de la cultura, en la medida en que puedan servir para el mejoramiento de la comunidad, fortaleciendo lo que tenga razón de existir y modificando aquellas condiciones de vida y trabajo que no tengan justificación suficiente.</a:t>
            </a:r>
            <a:r>
              <a:rPr b="1" lang="es-E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 algn="just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100" spc="-1" strike="noStrike">
                <a:solidFill>
                  <a:srgbClr val="000000"/>
                </a:solidFill>
                <a:latin typeface="Calibri"/>
              </a:rPr>
              <a:t>Olsen señala cinco aspectos básicos de sus relaciones con la comunidad: </a:t>
            </a:r>
            <a:endParaRPr b="0" lang="en-US" sz="3100" spc="-1" strike="noStrike">
              <a:solidFill>
                <a:srgbClr val="595959"/>
              </a:solidFill>
              <a:latin typeface="News Gothic MT"/>
            </a:endParaRPr>
          </a:p>
          <a:p>
            <a:pPr marL="179280" indent="-17928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alibri"/>
              </a:rPr>
              <a:t>debe actuar como centro educativo y cultural </a:t>
            </a:r>
            <a:endParaRPr b="0" lang="en-US" sz="3100" spc="-1" strike="noStrike">
              <a:solidFill>
                <a:srgbClr val="595959"/>
              </a:solidFill>
              <a:latin typeface="News Gothic MT"/>
            </a:endParaRPr>
          </a:p>
          <a:p>
            <a:pPr marL="179280" indent="-17928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alibri"/>
              </a:rPr>
              <a:t>ha de utilizar los recursos de la comunidad para vitalizar sus programas y métodos de enseñanza </a:t>
            </a:r>
            <a:endParaRPr b="0" lang="en-US" sz="3100" spc="-1" strike="noStrike">
              <a:solidFill>
                <a:srgbClr val="595959"/>
              </a:solidFill>
              <a:latin typeface="News Gothic MT"/>
            </a:endParaRPr>
          </a:p>
          <a:p>
            <a:pPr marL="179280" indent="-17928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alibri"/>
              </a:rPr>
              <a:t>organizará sus estudios y tareas en torno a la vida de la comunidad </a:t>
            </a:r>
            <a:endParaRPr b="0" lang="en-US" sz="3100" spc="-1" strike="noStrike">
              <a:solidFill>
                <a:srgbClr val="595959"/>
              </a:solidFill>
              <a:latin typeface="News Gothic MT"/>
            </a:endParaRPr>
          </a:p>
          <a:p>
            <a:pPr marL="179280" indent="-17928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000000"/>
                </a:solidFill>
                <a:latin typeface="Calibri"/>
              </a:rPr>
              <a:t>debe contribuir al mejoramiento de la comunidad  y 5. ha de servir de agente coordinador de los esfuerzos educacionales de la comunidad</a:t>
            </a:r>
            <a:endParaRPr b="0" lang="en-US" sz="3100" spc="-1" strike="noStrike">
              <a:solidFill>
                <a:srgbClr val="595959"/>
              </a:solidFill>
              <a:latin typeface="News Gothic MT"/>
            </a:endParaRPr>
          </a:p>
        </p:txBody>
      </p:sp>
      <p:grpSp>
        <p:nvGrpSpPr>
          <p:cNvPr id="707" name="Rectangle 4"/>
          <p:cNvGrpSpPr/>
          <p:nvPr/>
        </p:nvGrpSpPr>
        <p:grpSpPr>
          <a:xfrm>
            <a:off x="115920" y="244440"/>
            <a:ext cx="8991720" cy="1303200"/>
            <a:chOff x="115920" y="244440"/>
            <a:chExt cx="8991720" cy="1303200"/>
          </a:xfrm>
        </p:grpSpPr>
        <p:pic>
          <p:nvPicPr>
            <p:cNvPr id="708" name="Rectangle 4" descr=""/>
            <p:cNvPicPr/>
            <p:nvPr/>
          </p:nvPicPr>
          <p:blipFill>
            <a:blip r:embed="rId1"/>
            <a:stretch/>
          </p:blipFill>
          <p:spPr>
            <a:xfrm>
              <a:off x="115920" y="244440"/>
              <a:ext cx="899172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228600" y="304920"/>
              <a:ext cx="8763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LAS RELACIONES ESCUELA-SOCIEDA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Arial"/>
              </a:rPr>
              <a:t>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33520" y="692280"/>
            <a:ext cx="86104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actores económicos: En cuanto existan mayores esfuerzos por invertir en educación, mayor será el desarrollo del país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actores culturales: los componentes culturales de la sociedad dependen de la educación que se imparta. La educación es un proceso de transmisión de valores culturales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actores políticos: la educación suele estar dominada por la política. Es un agente de cambio, de mejora social e incluso de permanencia en el poder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  <p:grpSp>
        <p:nvGrpSpPr>
          <p:cNvPr id="712" name="Rectangle 4"/>
          <p:cNvGrpSpPr/>
          <p:nvPr/>
        </p:nvGrpSpPr>
        <p:grpSpPr>
          <a:xfrm>
            <a:off x="115920" y="244440"/>
            <a:ext cx="8991720" cy="1303200"/>
            <a:chOff x="115920" y="244440"/>
            <a:chExt cx="8991720" cy="1303200"/>
          </a:xfrm>
        </p:grpSpPr>
        <p:pic>
          <p:nvPicPr>
            <p:cNvPr id="713" name="Rectangle 4" descr=""/>
            <p:cNvPicPr/>
            <p:nvPr/>
          </p:nvPicPr>
          <p:blipFill>
            <a:blip r:embed="rId1"/>
            <a:stretch/>
          </p:blipFill>
          <p:spPr>
            <a:xfrm>
              <a:off x="115920" y="244440"/>
              <a:ext cx="899172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228600" y="304920"/>
              <a:ext cx="8763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ACTORES SOCIALES CONDICIONANTES DE LA EDUC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Rectangle 4"/>
          <p:cNvGrpSpPr/>
          <p:nvPr/>
        </p:nvGrpSpPr>
        <p:grpSpPr>
          <a:xfrm>
            <a:off x="189000" y="176040"/>
            <a:ext cx="8845560" cy="1140120"/>
            <a:chOff x="189000" y="176040"/>
            <a:chExt cx="8845560" cy="1140120"/>
          </a:xfrm>
        </p:grpSpPr>
        <p:pic>
          <p:nvPicPr>
            <p:cNvPr id="585" name="Rectangle 4" descr=""/>
            <p:cNvPicPr/>
            <p:nvPr/>
          </p:nvPicPr>
          <p:blipFill>
            <a:blip r:embed="rId1"/>
            <a:stretch/>
          </p:blipFill>
          <p:spPr>
            <a:xfrm>
              <a:off x="189000" y="176040"/>
              <a:ext cx="884556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04920" y="228600"/>
              <a:ext cx="86104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600" spc="-1" strike="noStrike">
                  <a:solidFill>
                    <a:srgbClr val="000000"/>
                  </a:solidFill>
                  <a:latin typeface="Calibri"/>
                </a:rPr>
                <a:t>ENCULTURACIÓN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 txBox="1"/>
          <p:nvPr/>
        </p:nvSpPr>
        <p:spPr>
          <a:xfrm>
            <a:off x="108000" y="1268280"/>
            <a:ext cx="8928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prendizaje de la cultura: de los contenidos, símbolos, prácticas, normas y actitudes de la cultura correspondiente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ceso por el cual la generación más antigua transmite sus formas de pensar, conocimientos, costumbres y reglas a la generación más joven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a asociado al proceso de socialización de los niño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n el proceso de apropiación cultural, el receptor de la cultura (sujeto) recibe esas pautas y las decodifica. Por lo tanto, la cultura recibida puede ser modificada. La modificación de esas pautas puede relacionarse con el abismo generacional y factores socioeconómicos, políticos y coyunturale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7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68000" y="1981080"/>
            <a:ext cx="828036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S.E. consiste en una enculturación sistemática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plan de estudios es la abstracción de la cultura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grpSp>
        <p:nvGrpSpPr>
          <p:cNvPr id="590" name="Rectangle 4"/>
          <p:cNvGrpSpPr/>
          <p:nvPr/>
        </p:nvGrpSpPr>
        <p:grpSpPr>
          <a:xfrm>
            <a:off x="189000" y="171360"/>
            <a:ext cx="8766000" cy="1376280"/>
            <a:chOff x="189000" y="171360"/>
            <a:chExt cx="8766000" cy="1376280"/>
          </a:xfrm>
        </p:grpSpPr>
        <p:pic>
          <p:nvPicPr>
            <p:cNvPr id="591" name="Rectangle 4" descr=""/>
            <p:cNvPicPr/>
            <p:nvPr/>
          </p:nvPicPr>
          <p:blipFill>
            <a:blip r:embed="rId1"/>
            <a:stretch/>
          </p:blipFill>
          <p:spPr>
            <a:xfrm>
              <a:off x="189000" y="171360"/>
              <a:ext cx="8766000" cy="13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04920" y="228600"/>
              <a:ext cx="85341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News Gothic MT"/>
                  <a:ea typeface="Arial"/>
                </a:rPr>
                <a:t>SISTEMA EDUCATIVO Y CULTUR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3" name="Picture 5" descr="Torre"/>
          <p:cNvPicPr/>
          <p:nvPr/>
        </p:nvPicPr>
        <p:blipFill>
          <a:blip r:embed="rId2"/>
          <a:stretch/>
        </p:blipFill>
        <p:spPr>
          <a:xfrm>
            <a:off x="3581280" y="4648320"/>
            <a:ext cx="24480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4360" y="380520"/>
            <a:ext cx="777528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Calibri"/>
              </a:rPr>
              <a:t>Parte de la enculturación en la que se aprenden valores y normas de la sociedad a la que se pertenece. Está ligada al desempeño de roles.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300" spc="-1" strike="noStrike">
                <a:solidFill>
                  <a:srgbClr val="000000"/>
                </a:solidFill>
                <a:latin typeface="Calibri"/>
              </a:rPr>
              <a:t>Proceso imitativo, interactivo, por el cual un individuo adquiere o perfecciona su comportamiento con relación al desenvolvimiento habitual, según su adecuación a grupos de referencia.</a:t>
            </a:r>
            <a:endParaRPr b="0" lang="en-US" sz="3300" spc="-1" strike="noStrike">
              <a:solidFill>
                <a:srgbClr val="595959"/>
              </a:solidFill>
              <a:latin typeface="News Gothic MT"/>
            </a:endParaRPr>
          </a:p>
        </p:txBody>
      </p:sp>
      <p:grpSp>
        <p:nvGrpSpPr>
          <p:cNvPr id="596" name="Rectangle 4"/>
          <p:cNvGrpSpPr/>
          <p:nvPr/>
        </p:nvGrpSpPr>
        <p:grpSpPr>
          <a:xfrm>
            <a:off x="189000" y="171360"/>
            <a:ext cx="8742240" cy="1309680"/>
            <a:chOff x="189000" y="171360"/>
            <a:chExt cx="8742240" cy="1309680"/>
          </a:xfrm>
        </p:grpSpPr>
        <p:pic>
          <p:nvPicPr>
            <p:cNvPr id="597" name="Rectangle 4" descr=""/>
            <p:cNvPicPr/>
            <p:nvPr/>
          </p:nvPicPr>
          <p:blipFill>
            <a:blip r:embed="rId1"/>
            <a:stretch/>
          </p:blipFill>
          <p:spPr>
            <a:xfrm>
              <a:off x="189000" y="171360"/>
              <a:ext cx="874224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304920" y="228600"/>
              <a:ext cx="85104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CIALIZACIÓ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324000" y="1529640"/>
            <a:ext cx="85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 la asunción o toma de conciencia de la </a:t>
            </a:r>
            <a:r>
              <a:rPr b="0" lang="es-ES" sz="3200" spc="-1" strike="noStrike" u="sng">
                <a:solidFill>
                  <a:srgbClr val="7030a0"/>
                </a:solidFill>
                <a:uFillTx/>
                <a:latin typeface="Calibri"/>
                <a:hlinkClick r:id="rId1"/>
              </a:rPr>
              <a:t>estructura socia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en la que un individuo nace. Es factible gracias a los </a:t>
            </a:r>
            <a:r>
              <a:rPr b="0" lang="es-ES" sz="3200" spc="-1" strike="noStrike" u="sng">
                <a:solidFill>
                  <a:srgbClr val="7030a0"/>
                </a:solidFill>
                <a:uFillTx/>
                <a:latin typeface="Calibri"/>
                <a:hlinkClick r:id="rId2"/>
              </a:rPr>
              <a:t>agentes sociale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, que son las instituciones e </a:t>
            </a:r>
            <a:r>
              <a:rPr b="0" lang="es-ES" sz="3200" spc="-1" strike="noStrike" u="sng">
                <a:solidFill>
                  <a:srgbClr val="7030a0"/>
                </a:solidFill>
                <a:uFillTx/>
                <a:latin typeface="Calibri"/>
                <a:hlinkClick r:id="rId3"/>
              </a:rPr>
              <a:t>individuos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representativos con capacidad para transmitir e imponer los elementos culturales apropia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agentes sociales más representativos son la </a:t>
            </a:r>
            <a:r>
              <a:rPr b="0" lang="es-ES" sz="3200" spc="-1" strike="noStrike" u="sng">
                <a:solidFill>
                  <a:srgbClr val="7030a0"/>
                </a:solidFill>
                <a:uFillTx/>
                <a:latin typeface="Calibri"/>
                <a:hlinkClick r:id="rId4"/>
              </a:rPr>
              <a:t>famili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y la </a:t>
            </a:r>
            <a:r>
              <a:rPr b="0" lang="es-ES" sz="3200" spc="-1" strike="noStrike" u="sng">
                <a:solidFill>
                  <a:srgbClr val="7030a0"/>
                </a:solidFill>
                <a:uFillTx/>
                <a:latin typeface="Calibri"/>
                <a:hlinkClick r:id="rId5"/>
              </a:rPr>
              <a:t>escuela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Rectangle 4"/>
          <p:cNvGrpSpPr/>
          <p:nvPr/>
        </p:nvGrpSpPr>
        <p:grpSpPr>
          <a:xfrm>
            <a:off x="115920" y="249120"/>
            <a:ext cx="8918640" cy="1098720"/>
            <a:chOff x="115920" y="249120"/>
            <a:chExt cx="8918640" cy="1098720"/>
          </a:xfrm>
        </p:grpSpPr>
        <p:pic>
          <p:nvPicPr>
            <p:cNvPr id="601" name="Rectangle 4" descr=""/>
            <p:cNvPicPr/>
            <p:nvPr/>
          </p:nvPicPr>
          <p:blipFill>
            <a:blip r:embed="rId6"/>
            <a:stretch/>
          </p:blipFill>
          <p:spPr>
            <a:xfrm>
              <a:off x="115920" y="249120"/>
              <a:ext cx="891864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28600" y="304920"/>
              <a:ext cx="868680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600" spc="-1" strike="noStrike">
                  <a:solidFill>
                    <a:srgbClr val="000000"/>
                  </a:solidFill>
                  <a:latin typeface="Calibri"/>
                </a:rPr>
                <a:t>SOCIALIZACIÓN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991720" cy="58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ceso de interacción entre la sociedad y el individuo, mediante el cual este asimila las pautas, normas y costumbres compartidas por los miembros de la sociedad y aprende a conducirse en la forma más común a ella, adaptándose y abriéndose a los demá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se limita a la infancia, cuando actúan los actores primarios como la familia y la escuela, sino que prosigue, aunque con menor intensidad, durante toda la vida</a:t>
            </a:r>
            <a:r>
              <a:rPr b="0" lang="es-ES" sz="2800" spc="-1" strike="noStrike">
                <a:solidFill>
                  <a:srgbClr val="59595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grpSp>
        <p:nvGrpSpPr>
          <p:cNvPr id="604" name="Rectangle 5"/>
          <p:cNvGrpSpPr/>
          <p:nvPr/>
        </p:nvGrpSpPr>
        <p:grpSpPr>
          <a:xfrm>
            <a:off x="189000" y="171360"/>
            <a:ext cx="8742240" cy="1309680"/>
            <a:chOff x="189000" y="171360"/>
            <a:chExt cx="8742240" cy="1309680"/>
          </a:xfrm>
        </p:grpSpPr>
        <p:pic>
          <p:nvPicPr>
            <p:cNvPr id="605" name="Rectangle 5" descr=""/>
            <p:cNvPicPr/>
            <p:nvPr/>
          </p:nvPicPr>
          <p:blipFill>
            <a:blip r:embed="rId1"/>
            <a:stretch/>
          </p:blipFill>
          <p:spPr>
            <a:xfrm>
              <a:off x="189000" y="171360"/>
              <a:ext cx="874224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304920" y="228600"/>
              <a:ext cx="85104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4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CIALIZACIÓ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uchos autores han considerado qu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os humanos cuando nacen tiene una mente completamente abierta a los estímulos externos de manera que las conductas concretas, a partir de unas potencialidades generales vinculadas a la especie, son totalmente el resultado de la socialización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(Fernández Palomares, 2003:40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ceso social por el cual aprendemos a ser miembros de una comunidad humana y a interiorizar los valores y roles de la sociedad en que hemos nacido y habremos de vivir. Aprendemos a ser miembros competent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grpSp>
        <p:nvGrpSpPr>
          <p:cNvPr id="608" name="Rectangle 4"/>
          <p:cNvGrpSpPr/>
          <p:nvPr/>
        </p:nvGrpSpPr>
        <p:grpSpPr>
          <a:xfrm>
            <a:off x="268200" y="96840"/>
            <a:ext cx="8534520" cy="1152360"/>
            <a:chOff x="268200" y="96840"/>
            <a:chExt cx="8534520" cy="1152360"/>
          </a:xfrm>
        </p:grpSpPr>
        <p:pic>
          <p:nvPicPr>
            <p:cNvPr id="609" name="Rectangle 4" descr=""/>
            <p:cNvPicPr/>
            <p:nvPr/>
          </p:nvPicPr>
          <p:blipFill>
            <a:blip r:embed="rId1"/>
            <a:stretch/>
          </p:blipFill>
          <p:spPr>
            <a:xfrm>
              <a:off x="268200" y="96840"/>
              <a:ext cx="85345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380880" y="152280"/>
              <a:ext cx="83059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OCIALIZACIÓ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1:39:23Z</dcterms:created>
  <dc:creator>Pablo Turmero</dc:creator>
  <dc:description/>
  <dc:language>en-US</dc:language>
  <cp:lastModifiedBy>Pablo Turmero</cp:lastModifiedBy>
  <dcterms:modified xsi:type="dcterms:W3CDTF">2017-07-13T19:58:08Z</dcterms:modified>
  <cp:revision>136</cp:revision>
  <dc:subject/>
  <dc:title>El ser humano como ser social y cultur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