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49280" y="964800"/>
            <a:ext cx="5067360" cy="34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6904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1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717480" y="83880"/>
            <a:ext cx="86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496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5584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7408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496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5584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717480" y="83880"/>
            <a:ext cx="86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96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84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08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96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84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6496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5584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7408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6496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5584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717480" y="83880"/>
            <a:ext cx="86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6496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5584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408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6496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5584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717480" y="83880"/>
            <a:ext cx="86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6496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5584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7408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6496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5584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717480" y="83880"/>
            <a:ext cx="86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6496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5584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7408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6496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5584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17480" y="83880"/>
            <a:ext cx="86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496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584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408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496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584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17480" y="83880"/>
            <a:ext cx="86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496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584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408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6496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584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17480" y="83880"/>
            <a:ext cx="86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6496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584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408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6496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584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717480" y="83880"/>
            <a:ext cx="86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7480" y="83880"/>
            <a:ext cx="86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96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584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408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496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584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717480" y="83880"/>
            <a:ext cx="86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6496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584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7408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6496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5584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717480" y="83880"/>
            <a:ext cx="86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6496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5584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7408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6496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5584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717480" y="83880"/>
            <a:ext cx="86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40880" y="4931280"/>
            <a:ext cx="860292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49080" y="230832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408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149080" y="4931280"/>
            <a:ext cx="419796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6496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558480" y="230832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408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6496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558480" y="4931280"/>
            <a:ext cx="2769840" cy="23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0"/>
            <a:ext cx="10080720" cy="1519200"/>
          </a:xfrm>
          <a:prstGeom prst="roundRect">
            <a:avLst>
              <a:gd name="adj" fmla="val 102"/>
            </a:avLst>
          </a:prstGeom>
          <a:solidFill>
            <a:srgbClr val="689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28584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292400" indent="-21456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724040" indent="-21276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155680" indent="-2142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1419120"/>
            <a:ext cx="10080720" cy="303480"/>
          </a:xfrm>
          <a:prstGeom prst="roundRect">
            <a:avLst>
              <a:gd name="adj" fmla="val 523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28584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292400" indent="-21456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724040" indent="-21276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155680" indent="-2142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28584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292400" indent="-21456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724040" indent="-21276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155680" indent="-2142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28584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292400" indent="-21456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724040" indent="-21276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155680" indent="-2142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28584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292400" indent="-21456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724040" indent="-21276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155680" indent="-2142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28584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292400" indent="-21456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724040" indent="-21276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155680" indent="-2142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28584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292400" indent="-21456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724040" indent="-21276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155680" indent="-2142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28584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292400" indent="-21456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724040" indent="-21276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155680" indent="-2142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28584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292400" indent="-21456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724040" indent="-21276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155680" indent="-2142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28584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292400" indent="-21456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724040" indent="-21276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155680" indent="-2142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28584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292400" indent="-21456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724040" indent="-21276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155680" indent="-2142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28584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292400" indent="-21456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724040" indent="-21276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155680" indent="-2142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40880" y="2308320"/>
            <a:ext cx="86029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28584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292400" indent="-21456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724040" indent="-21276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155680" indent="-2142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155680" indent="-214200"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2920" y="2451240"/>
            <a:ext cx="907236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estión de Configuracione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 cfeng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cción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specifica qué debe hacer el agente y cóm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 no existe esta acción, nada ocurre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Define ciertas variables, configura valores por defecto y define el orden en que se han de ejecutar las acciones definidas en otras partes de la configuració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a variable de control más importante es </a:t>
            </a: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actionseque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cción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2"/>
          <p:cNvSpPr/>
          <p:nvPr/>
        </p:nvSpPr>
        <p:spPr>
          <a:xfrm>
            <a:off x="620640" y="2235240"/>
            <a:ext cx="8094600" cy="4622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control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site       = ( walc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domain     = ( localdomain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sysadm     = ( walcadmin@localdomain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smtpserver = ( mail.localdomain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SplayTime = ( 1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schedule = ( Min00_05 Min15_20 Min30_35 Min45_50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actionsequence =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(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links.so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mount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links.oth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fi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ctionsequen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cciones permitidas en esta variabl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914400" y="2514600"/>
            <a:ext cx="7343640" cy="45104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actionsequence =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(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mountall               # mount filesystems in fstab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mountinfo              # scan mounted filesystem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checktimezone          # check timezon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netconfig              # check net interface confi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resolve                # check resolver setup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unmount                # unmount any filesystem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packages               # check for required packag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shellcommands          # execute shell command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editfiles              # edit fil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addmounts              # add new filesystems to syste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directories            # make any directori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links                  # check and maintain links (single and chil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mailcheck              # check mail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mountall               # (again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required               # check required filesystem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tidy                   # tidy fil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disable                # disable fil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files                  # check file permiss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copy                   # make a copy/image of a master fil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processes              # signal / check process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module:name            # execute a user-defined modul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Arial"/>
              </a:rPr>
              <a:t>)</a:t>
            </a:r>
            <a:r>
              <a:rPr b="0" lang="ar-SA" sz="1300" spc="-1" strike="noStrike">
                <a:solidFill>
                  <a:srgbClr val="000000"/>
                </a:solidFill>
                <a:latin typeface="Courier New"/>
                <a:ea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30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copy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pia archivos de un directorio a otro, o del servidor al cliente.  Manipula permisos, chequea integridad, etc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l servidor debe estar ejecutando 'cfservd'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l cliente debe ser admitido en la configuración del servido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liente y servidor deben tener la misma hor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liente y servidor deben tener la clave pública del otro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914400" y="5029200"/>
            <a:ext cx="7823160" cy="16182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cop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any: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$(cfmaster) dest=$(cfworkd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r=inf mode=o-rw type=checksum server=$(policyhos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Arial"/>
              </a:rPr>
              <a:t>trustkey=true exclude=*~ exclude=#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31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editfil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vee múltiples comandos para editar archivo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2906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ppendIfNoSuchLine, LocateLineMatching, RepaceWith, etc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343160" y="4800600"/>
            <a:ext cx="7115040" cy="15620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editfi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redhat: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{ /etc/sysconfig/rhn/up2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LocateLineMatching '^forceInstall=[1-9]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ReplaceLineWith 'forceInstall=0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DefineClasses 'up2date_forceinstall'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21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Manipula procesos.  Puede enviar señales (kill, hup, etc), reiniciar, definir clases, etc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914400" y="4343400"/>
            <a:ext cx="8448840" cy="1301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proces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ntp_conf_modified: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"ntpd" signal=kill restart "/etc/init.d/ntpd restart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2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2640" indent="-3189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tidy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:  Borra archivos del sistema que no son necesarios, por ejemplo archivos temporales, etc.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22640" indent="-3189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disable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: Renombra archivos que no son necesarios, pero que no se quiere borrar necesariament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22640" indent="-3189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directories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: Crea directori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22640" indent="-3189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links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:  Crea enlac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22640" indent="-3189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shellcommands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: Permite ejecutar scrip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22640" indent="-3189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ackages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: Instala software empaquetado por la distribución (se puede definir el empaquetador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stalación (en breve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5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finir una máquina que funcionará como servidor (policyhost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oner todas las configuraciones en un directorio maestr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2906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j. /var/lib/cfengine2/master/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nfigurar el servidor en /var/lib/cfengine2/inputs/cfservd.conf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jecutar </a:t>
            </a: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cfserv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figuración del Agen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1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n Ubuntu: /var/lib/cfengine2/inpu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Dos etapa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update.conf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: Copia todos los demás archivos de configuración desde el servid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2906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nfiguración muy simple y estátic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cfagent.conf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: Controla toda la funcionalidad del agente cfengi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2906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 puede separar en varios archivos, usando </a:t>
            </a: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17480" y="128160"/>
            <a:ext cx="86695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stalación (en breve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41240" y="1798560"/>
            <a:ext cx="8607600" cy="54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rear un </a:t>
            </a: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update.conf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básico que copie las configuraciones e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2696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/var/lib/cfengine2/inpu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26960" indent="-322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rear un </a:t>
            </a: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cfagent.conf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definiendo las polític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26960" indent="-322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nstalar cfengine en las máquinas clien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piar la clave pública del cliente en el servidor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90600" indent="-21276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/var/lib/cfengine2/ppkeys (localhost.pub → root-192.168.1.10.pub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piar la clave pública del servidor en el cliente (o utilizar trustkey=tru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piar el archivo </a:t>
            </a: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update.conf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en /var/lib/cfengine2/inpu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jecutar </a:t>
            </a: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cfexecd (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/etc/init.d/cfexecd start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ecesida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l estado de configuración de los sistemas tiende a la divergenci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os humanos tenemos no somos consisten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3225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liminación de las tareas repetitiv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celerar el tiempo de puesta a punto de un sistema nuev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 medida que la red crece y el número de sistemas y servicios aumenta,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 Narrow"/>
              </a:rPr>
              <a:t>la administración manual se vuelve una pesadill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26960"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ueba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jecutar cfservd en modo debu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fservd -d2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26960" indent="-322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jecutar cfagent directament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fagent -Kqv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26960" indent="-322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Definir una clase de prueba que restrinja el dominio de acció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1828800" y="5943600"/>
            <a:ext cx="2514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914400" y="5557680"/>
            <a:ext cx="6858000" cy="1041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642960" indent="-212760">
              <a:lnSpc>
                <a:spcPct val="95000"/>
              </a:lnSpc>
              <a:tabLst>
                <a:tab algn="l" pos="0"/>
                <a:tab algn="l" pos="642960"/>
                <a:tab algn="l" pos="1100160"/>
                <a:tab algn="l" pos="1557360"/>
                <a:tab algn="l" pos="2014560"/>
                <a:tab algn="l" pos="2471760"/>
                <a:tab algn="l" pos="2928960"/>
                <a:tab algn="l" pos="3386160"/>
                <a:tab algn="l" pos="3843360"/>
                <a:tab algn="l" pos="4300560"/>
                <a:tab algn="l" pos="4757760"/>
                <a:tab algn="l" pos="5214960"/>
                <a:tab algn="l" pos="5672160"/>
                <a:tab algn="l" pos="6129360"/>
                <a:tab algn="l" pos="6586560"/>
                <a:tab algn="l" pos="7043760"/>
                <a:tab algn="l" pos="7500960"/>
                <a:tab algn="l" pos="7958160"/>
                <a:tab algn="l" pos="8415360"/>
                <a:tab algn="l" pos="8872560"/>
                <a:tab algn="l" pos="9329760"/>
                <a:tab algn="l" pos="97869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testhosts = ( host1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2960" indent="-212760">
              <a:lnSpc>
                <a:spcPct val="95000"/>
              </a:lnSpc>
              <a:tabLst>
                <a:tab algn="l" pos="0"/>
                <a:tab algn="l" pos="642960"/>
                <a:tab algn="l" pos="1100160"/>
                <a:tab algn="l" pos="1557360"/>
                <a:tab algn="l" pos="2014560"/>
                <a:tab algn="l" pos="2471760"/>
                <a:tab algn="l" pos="2928960"/>
                <a:tab algn="l" pos="3386160"/>
                <a:tab algn="l" pos="3843360"/>
                <a:tab algn="l" pos="4300560"/>
                <a:tab algn="l" pos="4757760"/>
                <a:tab algn="l" pos="5214960"/>
                <a:tab algn="l" pos="5672160"/>
                <a:tab algn="l" pos="6129360"/>
                <a:tab algn="l" pos="6586560"/>
                <a:tab algn="l" pos="7043760"/>
                <a:tab algn="l" pos="7500960"/>
                <a:tab algn="l" pos="7958160"/>
                <a:tab algn="l" pos="8415360"/>
                <a:tab algn="l" pos="8872560"/>
                <a:tab algn="l" pos="9329760"/>
                <a:tab algn="l" pos="97869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42960" indent="-212760">
              <a:lnSpc>
                <a:spcPct val="95000"/>
              </a:lnSpc>
              <a:tabLst>
                <a:tab algn="l" pos="0"/>
                <a:tab algn="l" pos="642960"/>
                <a:tab algn="l" pos="1100160"/>
                <a:tab algn="l" pos="1557360"/>
                <a:tab algn="l" pos="2014560"/>
                <a:tab algn="l" pos="2471760"/>
                <a:tab algn="l" pos="2928960"/>
                <a:tab algn="l" pos="3386160"/>
                <a:tab algn="l" pos="3843360"/>
                <a:tab algn="l" pos="4300560"/>
                <a:tab algn="l" pos="4757760"/>
                <a:tab algn="l" pos="5214960"/>
                <a:tab algn="l" pos="5672160"/>
                <a:tab algn="l" pos="6129360"/>
                <a:tab algn="l" pos="6586560"/>
                <a:tab algn="l" pos="7043760"/>
                <a:tab algn="l" pos="7500960"/>
                <a:tab algn="l" pos="7958160"/>
                <a:tab algn="l" pos="8415360"/>
                <a:tab algn="l" pos="8872560"/>
                <a:tab algn="l" pos="9329760"/>
                <a:tab algn="l" pos="97869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testhosts: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858960" indent="-212760">
              <a:lnSpc>
                <a:spcPct val="95000"/>
              </a:lnSpc>
              <a:tabLst>
                <a:tab algn="l" pos="0"/>
                <a:tab algn="l" pos="642960"/>
                <a:tab algn="l" pos="1100160"/>
                <a:tab algn="l" pos="1557360"/>
                <a:tab algn="l" pos="2014560"/>
                <a:tab algn="l" pos="2471760"/>
                <a:tab algn="l" pos="2928960"/>
                <a:tab algn="l" pos="3386160"/>
                <a:tab algn="l" pos="3843360"/>
                <a:tab algn="l" pos="4300560"/>
                <a:tab algn="l" pos="4757760"/>
                <a:tab algn="l" pos="5214960"/>
                <a:tab algn="l" pos="5672160"/>
                <a:tab algn="l" pos="6129360"/>
                <a:tab algn="l" pos="6586560"/>
                <a:tab algn="l" pos="7043760"/>
                <a:tab algn="l" pos="7500960"/>
                <a:tab algn="l" pos="7958160"/>
                <a:tab algn="l" pos="8415360"/>
                <a:tab algn="l" pos="8872560"/>
                <a:tab algn="l" pos="9329760"/>
                <a:tab algn="l" pos="97869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&lt;acciones nuevas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ás prueba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bar las configuraciones de servicios antes de instalarl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ndispensable para servicios al público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90600" indent="-2142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(Apache, Sendmail, Bind, etc)</a:t>
            </a:r>
            <a:r>
              <a:rPr b="0" lang="ar-SA" sz="2000" spc="-1" strike="noStrike">
                <a:solidFill>
                  <a:srgbClr val="000000"/>
                </a:solidFill>
                <a:latin typeface="Arial Narrow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 logra haciendo las copias en dos etap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90600" indent="-2142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Etapa1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722600" indent="-2113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piar del servidor al cliente en un directorio tempora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722600" indent="-2113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jecutar un script que chequee el archivo de configuració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290600" indent="-2142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Etapa2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722600" indent="-2113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i la prueba es satisfactoria, copiar el archivo en el lugar definitivo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722600" indent="-2113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iniciar el servicio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trol de version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l directorio maestro en el servidor debería mantenerse bajo un sistema de control de versiones (ej. Subversio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ólo deben guardarse los cambios una vez se hayan probad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Qué es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cfengin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f = configuración, engine = mo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nsiste en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Un lenguaje de muy alto nivel para defini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Narrow"/>
              </a:rPr>
              <a:t>políticas de configuració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Varias herramienta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2906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fagent – Un agente que ejecuta las política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906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fexecd – Un </a:t>
            </a: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daemon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que gestiona el agent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906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fservd – Un servidor de archivos y de acciones remota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90600" indent="-21276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frun – Ejecuta agentes externo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426960" indent="-3222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 un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medicina contra la repetició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17480" y="128160"/>
            <a:ext cx="86695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fengine + Control de Version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927520" y="2476440"/>
            <a:ext cx="438768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istribución del Paque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2"/>
          <p:cNvSpPr/>
          <p:nvPr/>
        </p:nvSpPr>
        <p:spPr>
          <a:xfrm>
            <a:off x="914400" y="1817640"/>
            <a:ext cx="8229600" cy="1980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bin/       Bin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inputs/    Configu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modules/   Exten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outputs/   Mensaj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ppkeys/    Claves privadas y públ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state/     Información del entor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18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La configuración consta de: 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acciones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condiciones</a:t>
            </a: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declaracion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426960" indent="0">
              <a:lnSpc>
                <a:spcPct val="95000"/>
              </a:lnSpc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426960" indent="0">
              <a:lnSpc>
                <a:spcPct val="95000"/>
              </a:lnSpc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914400" y="5943600"/>
            <a:ext cx="8001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984240" y="3857760"/>
            <a:ext cx="6789600" cy="27795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26960" indent="-216000">
              <a:lnSpc>
                <a:spcPct val="95000"/>
              </a:lnSpc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# comen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6960" indent="-216000">
              <a:lnSpc>
                <a:spcPct val="95000"/>
              </a:lnSpc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ac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6960" indent="-216000">
              <a:lnSpc>
                <a:spcPct val="95000"/>
              </a:lnSpc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clase1: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6960" indent="-216000">
              <a:lnSpc>
                <a:spcPct val="95000"/>
              </a:lnSpc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6960" indent="-216000">
              <a:lnSpc>
                <a:spcPct val="95000"/>
              </a:lnSpc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6960" indent="-216000">
              <a:lnSpc>
                <a:spcPct val="95000"/>
              </a:lnSpc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clase2|clase3: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6960" indent="-216000">
              <a:lnSpc>
                <a:spcPct val="95000"/>
              </a:lnSpc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6960" indent="-216000">
              <a:lnSpc>
                <a:spcPct val="95000"/>
              </a:lnSpc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17480" y="83880"/>
            <a:ext cx="866448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740880" y="1951200"/>
            <a:ext cx="86029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as condiciones en cfengine se componen de clases (classes) o grupos (groups), con operadores lógico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28584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'.'  o '&amp;'  equivale al 'AND' lógic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28584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'|'  equivale al 'OR' lógic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28584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'!' equivale al 'NOT' lógic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28760" indent="-324000">
              <a:lnSpc>
                <a:spcPct val="102000"/>
              </a:lnSpc>
              <a:buClr>
                <a:srgbClr val="6893a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os paréntesis sirven para modificar la precedenci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285840">
              <a:lnSpc>
                <a:spcPct val="102000"/>
              </a:lnSpc>
              <a:buClr>
                <a:srgbClr val="6893ad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!Hr00.(parche_disponible|Tuesday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285840">
              <a:lnSpc>
                <a:spcPct val="102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Verdadero si NO es medianoche Y hay un parche o es martes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lases predeterminada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or defecto, cfengine define una serie de clases asociadas a la máquina donde se ejecu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5896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Verificar con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fagent -pv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269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961920" y="3886200"/>
            <a:ext cx="7496280" cy="1737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10_1_1 10_1_1_1 ipv4_10 ipv4_10_1 ipv4_10_1_1 ipv4_10_1_1_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192_168_1 192_168_1_1 ipv4_192 ipv4_192_168 ipv4_192_168_1 ipv4_192_168_1_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net_iface_eth0 net_iface_eth1 net_iface_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host1 host1_example_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lases definidas por el administrado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2"/>
          <p:cNvSpPr/>
          <p:nvPr/>
        </p:nvSpPr>
        <p:spPr>
          <a:xfrm>
            <a:off x="849240" y="3246480"/>
            <a:ext cx="8686800" cy="14475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clas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any: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servidor_mx      = ( servidor1 servidor2 servidor3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servidor_mail    = ( servidor4 servidor5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Arial"/>
              </a:rPr>
              <a:t>cliente_cfengine = ( any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Definir bajo la acción </a:t>
            </a: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1:00:55Z</dcterms:created>
  <dc:creator>Pablo Turmero</dc:creator>
  <dc:description/>
  <dc:language>en-US</dc:language>
  <cp:lastModifiedBy>Pablo Turmero</cp:lastModifiedBy>
  <dcterms:modified xsi:type="dcterms:W3CDTF">2017-11-12T19:01:46Z</dcterms:modified>
  <cp:revision>16</cp:revision>
  <dc:subject/>
  <dc:title>Gestión de Configuraciones con cfengine</dc:title>
</cp:coreProperties>
</file>