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dt" idx="3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ftr" idx="4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 type="sldNum" idx="4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35DE-D6FD-4493-A2C1-E8B851FB1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EEB1-B62A-493B-AA00-76A09D85F4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4EF6-713B-47BA-AAFA-30D3E51384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A2DA-594F-4103-88A5-F7CC1382DE8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E516-BBA9-4419-B105-90DA3EAE9B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5635F-FF0B-4BF6-AC02-4A452DC61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68AC-A48E-4413-B950-09FC9E6C02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BD86-2DE7-44D9-B219-545D4D6EE3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2753-ECA6-446D-B079-251D6C0826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604F-6F52-4AB3-9D47-95DC9390F3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940D-237D-4DDB-AB91-143BDE4684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7229-6100-4136-9334-E973D2B3A76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7577-6B1A-48BD-BE61-0BFC28AA29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7B1B-60F5-43E7-B704-BFAA5EB6DE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AE97-54F5-407C-BE67-A86D91565D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DCDB0-664B-4F93-B67F-5113D109CC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9996-B34F-46C0-AF3B-4EBFDCAFFB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B289D-414A-4E3F-B3C6-E6F7243AB3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324C-05EE-4EDC-9B5C-4D4AE11685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1574-A0BF-4956-83F5-2D37DD46786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B926F-22F1-42B3-AA4F-E0A077DCF8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E837-6DFA-4C4F-9086-2338FB6A0F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AE45-3D84-4EDE-87E3-63AA3F758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DFF9-CF52-49B7-9A25-F6232DD6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1FF8A6-09D5-4182-AF24-F859702B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E0E4D04-09DE-4E45-B6FE-B81791E8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7AB51A-BAE2-4492-A129-181AE6B2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162CB6-A9A1-4773-AADC-4AA0F5141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3986D-568F-4C27-9E0E-52261C40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D2759D-34CC-463C-AD5C-5022F60C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B01E8B-BB2D-4AEE-9DC4-5759AEC3C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5E813E-FF47-4EDD-9C23-A8D9D2D0E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A5548E-83CE-45FC-8DE1-EBE20083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ABEE07-2BE4-4FB1-9986-36A74CF7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CE98-3C7A-4E43-8A04-9F9493C6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684D913-19F3-4207-BF22-0F2B073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6A8BB2-CC82-47B1-95A9-3C85C7A70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2E9992-7BC8-4FAD-A76A-74C1B68F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8E85B9-12BE-49F8-AE5A-E84C41FB5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B5BD18D-E79C-4CD8-B628-545B1B7A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D96890-EDAD-4E10-BC44-1A8DA86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280CD1-3DAB-40DB-AF61-034C54E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5FA8A0-F8CB-4F7A-A7B0-903C1653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C9C06A-BD60-470E-B506-4D358DE5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BA9F00-492E-493C-8FD4-BA386767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87AC-C690-4CEA-A346-F1F6844C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2C30BD-7972-46F5-9C3D-AE2340F7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9F0166-A4CD-4BD0-AAC5-A0E1EB21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1B2A7E8-3B51-4A6F-AADD-1CAF7B6C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9741B1-81DA-4404-9E7D-570EEBD0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432B82-FB9B-4EF6-95F8-27676DA0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402058-2E4B-46F3-BEA8-A301DCF7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6E118E-E4B8-45F3-8AEC-60330ABD2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0BCA2C-C6EC-4260-8C10-BA278984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8CA1A2E-61B6-47DD-A9D2-7B3A59A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5BEC38-EE32-443C-A2D8-E2C0A698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E77166-0DBB-40F9-B1BF-20640CB96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861105-DA47-4CB1-AE79-E11BD7DEC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E1D7C96-B73B-4B7A-8E42-CA989A3E3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68FDA0-B234-40AC-B210-9DF46967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4E3213A-7233-4EC2-8C1E-2F395ABE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D8E30D-DC30-4D29-80C8-9AE1CDA6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5A8E19-4F6B-4D46-876F-F8C67FDC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8C1283A-7F75-4F6B-BDEF-28E609B1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73A9245-3011-453B-9E34-3149ABF7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E0A75F5-30F3-4C88-96DD-09767B97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88DDC57-6F66-430E-99A8-430DADAC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2931D2-2C46-42BE-80BC-7EA77B0E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A6E0E3-7CD8-4520-A558-A400E086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51E91F-6022-4C34-9E4F-BD92807D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6EBE00-EF24-48EB-9D53-E92B717F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B84F3E9-6BF3-4EE4-9307-F1D6A685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11ED3D-A3F8-4618-BE1F-7E000A93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D7C3E65-DA8D-479B-9EE0-584B407E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3C3DD4-785A-4C5D-A493-E475762E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3BF6BE-E8A3-407C-AE64-C78DFA93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173051-919C-4FD4-8AFE-3690EB14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A1F3D5-73EE-4D7C-84BC-E969F416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66BF57-E3D4-4F6E-8EAD-1C3485E7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85DC16E-77C8-46DF-B76F-893C4443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A0EB2D-9020-44E6-AA26-5B2C50DD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02452D-CABA-4257-9385-6F0F7E3C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17DB92-5549-4DDE-8A79-B25E98ACE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C8FF-CB55-4DBC-A3E2-968F50AF6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F96A6-ED76-47F9-BE40-D402C1E4A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B26D4-1001-4ECB-AA9A-633F5EB81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F3B94B-B5AE-4B46-9DA1-B8A2FE7CD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F82CCC-37AA-43DA-BD0A-CF067805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C08368-B60B-49E0-9B41-4C727109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8A76-05CA-4B18-811D-8CC5FBB7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5FEA4-86CA-4951-ACF6-E871AE8BF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B2F3DF-968D-49C6-A1F5-17EA2B8A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151FDA-8114-4D64-A3C2-2C45F255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39C91B-DC7A-4D7A-AEDA-0025BD4D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5CE95-5975-4C8B-B77D-F147678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D27BCC-BFB9-450B-A043-5376B548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3E2E1B-FD31-4BA2-92B1-5C5C8F96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392127-6809-4B37-AECE-0F0497F7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F18F57-3A2F-4BEC-8E52-ABABAE6D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F57120-61F2-4625-99E1-D0E493FF1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4D11-4808-42E7-B8D9-8C4404A60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5B1FE6-D672-45E3-9971-DD57FF3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99410-809B-4135-9E80-3D6F75D2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C1E69-0BBE-46BA-AE76-AEF36A9F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A3721-1E2C-40BB-B9FB-6F33AF68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25FCB1-3E98-45F5-AD1A-F6AB1392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D8B21-42AA-497C-ACEC-B057D8FE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2529DB-16F7-4090-B93A-CEAA92EB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EEBB1A-36E0-4C07-945B-90026B7A2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C2A265-CD7D-4845-938A-11761B3D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0A5A74-659C-4842-BACB-5A68CF712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F53E-9C46-4AF9-89F4-2E6DCA2A6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87DAEB-D85E-4C3D-A54D-74138E39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73619-9F15-4B55-8B1E-7532AD75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1EB4DF-EB52-4088-86AF-DEED1F34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38C26-BEE7-4E65-B20C-5D0C54FA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E970C4-A40F-4F69-BBC9-A96A323F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81501A-4E03-4D5E-BE5E-9DDAB5D4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C42DA-4CF1-41AC-A372-181164AC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FFE3B0-8D94-4231-8399-B80BD6A8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BA6773-665B-4E9E-9B59-8E0614D8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56F146-AE4F-4C00-AA28-BEAB9C79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C32-7949-4659-9A18-DFC60131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45A3D-2320-4A87-8BBA-F77D1FE3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014E58-FA71-4046-AA23-A1896A25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761E1-BE32-4232-ABA0-0764F030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125F8-3475-4816-9639-0DA579A6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4E6F59-7900-4193-91E6-DF71F69D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A3D27C-9FDC-4917-B80C-5B0BE7D2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170770-476F-46AB-AD40-6761C031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834222-5290-4D97-91F8-C61DE55F9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3FDB1F-2CE0-4DC6-805D-21A6A927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1EE940-1489-4020-AB1A-134E79A3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7BF-CEA8-4F45-98CE-6B2301FD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AC2AF0-D24A-48FD-A996-1D10802E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521966-DCF3-40E7-B8EC-0DF32500B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0739A6-A063-46FC-A1FE-C032BA25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8CB2E-1B94-4DAE-8E3A-6389486B7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4D429E-697C-4C8B-B244-7648A281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234845-5D82-42D0-810C-CE2B7874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9CA8E9-A4D9-4186-ABF9-BE48DE4C9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F07070-DF0F-46D8-AB90-9FB093F35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4DDD82-F41D-402C-9ADE-28C3A39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46EA0-07E3-42A0-8FBA-AFD57DDB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ECE-837E-4680-AE09-257115D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F0615F-1A68-4A84-800E-B46ED74E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6BF873-C74F-410A-8859-48A47394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6A86FE-1AB9-42AA-814B-5476A1B8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E04FB-D15B-4435-9753-F791AE525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BB98BD-87D9-43B4-902B-720A80D9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5379964-3F88-4DDC-A017-6DDD41C1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6F6B84-1EE8-4287-B70C-15C2A3C2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00BBC5-6194-4EAB-B7EA-CE1A9FAB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AA284-28D3-4E36-B81E-A2680DFB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E69F7-15B7-4B7C-94C3-8EF2EB38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EF5D-116F-42CE-BFD6-375D5958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113F1C-6C7C-4205-A1B9-F5E5E7C8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39DAD60-3EA8-4F75-9830-6C22807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87174A-1695-445F-982F-00A3E57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59BEC6-A4F7-4917-9CC6-14A7380F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5E2E13-D380-43E9-AB39-D3CDE016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8732A3-B94D-4A50-943B-CCF4CF5B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58053B-9102-440C-8EB7-E17E63D0D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E4741F-0AFE-4E44-8A52-921E62EE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0016DF-C06C-4F1C-9519-64C6E3AF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BD460E-8967-49D0-BA41-6BC0A836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98E7-471F-4E2D-BBB7-54852C4092E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de 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2F0D-F4CE-46E8-ACDE-9B4C0B23314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3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3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3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6DE-D596-4956-BE88-6DCFAC1009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36221-6E68-4282-9E55-E09B772C60D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F9DC3-5849-400E-90EB-75BF21FDA5C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234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6248160" y="6237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Jornadas de Producción - Comodoro Rivadavia - </a:t>
            </a: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gosto</a:t>
            </a: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6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7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8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5232-1CF2-43E6-BE0D-960631923AC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9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0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5FF5-B893-49CB-9C62-3E221DF9242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2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3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4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7770-FE60-4A38-8FE8-C435967700B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5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6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7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3952E-2717-4C80-9E8A-0E5A7EC101C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8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19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D658C-171D-4499-B44A-B773F6A1EB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39F8-5A17-4110-86D9-71D515FC1D0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arcelo Crotti – Inlab S.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Jornadas de Producción - Comodoro Rivadavia - Agosto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BC5B-BCC6-49C0-B9FE-22D498113D9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4320" y="1974600"/>
            <a:ext cx="878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Arial"/>
                <a:ea typeface="Arial"/>
              </a:rPr>
              <a:t>Secundarias Avanzadas – Necesidades y Posibilidad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Siguiendo el ejemplo de W. Rose (II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1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"Scaling Up of Laboratory Relative Permeability Curves. An Advantageous Approach Based on Realistic Average Water Saturations", SPE 69394 – LACPEC – Buenos Ai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che” exitos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: Reemplazo de KR por curvas de producción en función de Sw media…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¡en medios lineales homogéne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"Upscaling of Relative Permeability Curves for Reservoir Simulation: An Extension to Areal Simulations Based on Realistic Average Water Saturations", SPE 81038 – LACPEC – Trin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Fracaso en la extensión del “parche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a geometrías bidimensionales homogén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4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Libro “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OVIMIENTO DE FLUIDO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en reservorios de hidrocarburo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lanteo del problema 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98903-6DBA-4077-A967-95AE61EB43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Mi “Solución” en 2004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edir </a:t>
            </a: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puntos extremos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bajo todos los mecanismos de desplazamientos previst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Construir las curvas de modelado</a:t>
            </a: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 teniendo en cuenta, geometría de celdas, ubicación, equilibrio de fuerzas, heterogeneidad e historia de satura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Aumentar el grillado vertical a expensas del horizo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Times New Roman"/>
              </a:rPr>
              <a:t>Muchas menos celdas pero </a:t>
            </a: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…¡Una curva para cada cara de cada celda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00"/>
                </a:solidFill>
                <a:latin typeface="Times New Roman"/>
              </a:rPr>
              <a:t>¡DEMASIADO COMPLEJO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50F5-D594-46BB-91D1-2C3B9633B9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Alternativas de Modelad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mulación Numérica convencional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 basada en curvas KR que no modelan adecuadamente la física del desplazamiento pero aproximan la realidad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en base a potencia de cálcu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Usar los mismos principios pero disminuyendo el número de celdas y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agregando una descripción física más adecuada (pero más complej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66640" indent="-566640">
              <a:spcBef>
                <a:spcPts val="799"/>
              </a:spcBef>
              <a:buClr>
                <a:srgbClr val="00ffff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¿Hay otras Alternativa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D654-7842-4B39-A1B6-747A05D253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Mi Planteo Ho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Modelado físico: Cada parámetro o algoritmo debe tener un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correlato geológico o físico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Tratar de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evitar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los “grillados” de detalle, cuando se los emplea sólo como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herramientas matemá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Anclar el modelado en los puntos que tienen historia de Inyección/Producción (los poz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 tomar la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historia de producción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como una curva descriptiva sino como una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curva inform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ada cambio de tendencia debe tener una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interpretación 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Usar </a:t>
            </a:r>
            <a:r>
              <a:rPr b="1" lang="es-AR" sz="2400" spc="-1" strike="noStrike">
                <a:solidFill>
                  <a:srgbClr val="ffff00"/>
                </a:solidFill>
                <a:latin typeface="Times New Roman"/>
              </a:rPr>
              <a:t>el reservorio como laboratorio de excel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laboratorio convencional: PB, heterogeneidad, PE, fuerzas capilares, mojabilidad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n el reservorio: Equilibrio de fuerzas (generar y estudiar los transitorios), trazadores, 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4913-AEC8-4F34-84BE-FE3C253937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Ejempl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Desplazamiento de laboratorio en una </a:t>
            </a: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celda bidimensional, heterogénea, a caudales variables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y con efectos comparables de fuerzas “viscosas” y “capilare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Se trata de un escenario mucho más complejo que el analizado (sin éxito) en 200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1F3-5787-4C52-B9B0-BE4E6C0B77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IMG_18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4" name="Group 13"/>
          <p:cNvGrpSpPr/>
          <p:nvPr/>
        </p:nvGrpSpPr>
        <p:grpSpPr>
          <a:xfrm>
            <a:off x="2411280" y="1125360"/>
            <a:ext cx="6337440" cy="3598920"/>
            <a:chOff x="2411280" y="1125360"/>
            <a:chExt cx="6337440" cy="3598920"/>
          </a:xfrm>
        </p:grpSpPr>
        <p:sp>
          <p:nvSpPr>
            <p:cNvPr id="645" name="Text Box 4"/>
            <p:cNvSpPr/>
            <p:nvPr/>
          </p:nvSpPr>
          <p:spPr>
            <a:xfrm>
              <a:off x="5724360" y="1125360"/>
              <a:ext cx="3024360" cy="398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Medio Homogéneo K=10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Freeform 10"/>
            <p:cNvSpPr/>
            <p:nvPr/>
          </p:nvSpPr>
          <p:spPr>
            <a:xfrm>
              <a:off x="2411280" y="2133720"/>
              <a:ext cx="4392720" cy="2590560"/>
            </a:xfrm>
            <a:custGeom>
              <a:avLst/>
              <a:gdLst>
                <a:gd name="textAreaLeft" fmla="*/ 0 w 4392720"/>
                <a:gd name="textAreaRight" fmla="*/ 4393080 w 4392720"/>
                <a:gd name="textAreaTop" fmla="*/ 0 h 2590560"/>
                <a:gd name="textAreaBottom" fmla="*/ 2590560 h 2590560"/>
              </a:gdLst>
              <a:ahLst/>
              <a:rect l="textAreaLeft" t="textAreaTop" r="textAreaRight" b="textAreaBottom"/>
              <a:pathLst>
                <a:path w="2767" h="1587">
                  <a:moveTo>
                    <a:pt x="0" y="45"/>
                  </a:moveTo>
                  <a:lnTo>
                    <a:pt x="0" y="1587"/>
                  </a:lnTo>
                  <a:lnTo>
                    <a:pt x="2767" y="1451"/>
                  </a:lnTo>
                  <a:lnTo>
                    <a:pt x="1996" y="0"/>
                  </a:lnTo>
                  <a:lnTo>
                    <a:pt x="0" y="45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Line 11"/>
            <p:cNvSpPr/>
            <p:nvPr/>
          </p:nvSpPr>
          <p:spPr>
            <a:xfrm flipH="1">
              <a:off x="6084720" y="1916280"/>
              <a:ext cx="865440" cy="1079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48" name="Group 14"/>
          <p:cNvGrpSpPr/>
          <p:nvPr/>
        </p:nvGrpSpPr>
        <p:grpSpPr>
          <a:xfrm>
            <a:off x="324000" y="333360"/>
            <a:ext cx="2376360" cy="4608360"/>
            <a:chOff x="324000" y="333360"/>
            <a:chExt cx="2376360" cy="4608360"/>
          </a:xfrm>
        </p:grpSpPr>
        <p:sp>
          <p:nvSpPr>
            <p:cNvPr id="649" name="Text Box 3"/>
            <p:cNvSpPr/>
            <p:nvPr/>
          </p:nvSpPr>
          <p:spPr>
            <a:xfrm>
              <a:off x="324000" y="333360"/>
              <a:ext cx="2376360" cy="10087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ff"/>
                  </a:solidFill>
                  <a:latin typeface="Arial"/>
                </a:rPr>
                <a:t>Canal de alta Permeabilidad K=100</a:t>
              </a:r>
              <a:endParaRPr b="1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Oval 5"/>
            <p:cNvSpPr/>
            <p:nvPr/>
          </p:nvSpPr>
          <p:spPr>
            <a:xfrm>
              <a:off x="2050920" y="2133720"/>
              <a:ext cx="505080" cy="280800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Line 12"/>
            <p:cNvSpPr/>
            <p:nvPr/>
          </p:nvSpPr>
          <p:spPr>
            <a:xfrm>
              <a:off x="1547640" y="1413000"/>
              <a:ext cx="720720" cy="79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2" name="10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9DF85-59D8-4144-A8ED-A96C1BF5E9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Modelo Emplead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54" name="Rectangle 3"/>
          <p:cNvSpPr/>
          <p:nvPr/>
        </p:nvSpPr>
        <p:spPr>
          <a:xfrm>
            <a:off x="539640" y="1557360"/>
            <a:ext cx="5256360" cy="453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4"/>
          <p:cNvSpPr/>
          <p:nvPr/>
        </p:nvSpPr>
        <p:spPr>
          <a:xfrm>
            <a:off x="684360" y="1700280"/>
            <a:ext cx="287280" cy="42498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Oval 5"/>
          <p:cNvSpPr/>
          <p:nvPr/>
        </p:nvSpPr>
        <p:spPr>
          <a:xfrm>
            <a:off x="708120" y="5757840"/>
            <a:ext cx="16812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Oval 6"/>
          <p:cNvSpPr/>
          <p:nvPr/>
        </p:nvSpPr>
        <p:spPr>
          <a:xfrm>
            <a:off x="708120" y="1724040"/>
            <a:ext cx="16812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Oval 7"/>
          <p:cNvSpPr/>
          <p:nvPr/>
        </p:nvSpPr>
        <p:spPr>
          <a:xfrm>
            <a:off x="5456160" y="5757840"/>
            <a:ext cx="16848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Oval 8"/>
          <p:cNvSpPr/>
          <p:nvPr/>
        </p:nvSpPr>
        <p:spPr>
          <a:xfrm>
            <a:off x="5456160" y="1724040"/>
            <a:ext cx="168480" cy="166680"/>
          </a:xfrm>
          <a:prstGeom prst="ellipse">
            <a:avLst/>
          </a:prstGeom>
          <a:solidFill>
            <a:srgbClr val="5f5f5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Text Box 9"/>
          <p:cNvSpPr/>
          <p:nvPr/>
        </p:nvSpPr>
        <p:spPr>
          <a:xfrm>
            <a:off x="6227640" y="1700280"/>
            <a:ext cx="29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da “homogénea” con un canal de alta permeabilidad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Text Box 11"/>
          <p:cNvSpPr/>
          <p:nvPr/>
        </p:nvSpPr>
        <p:spPr>
          <a:xfrm>
            <a:off x="6243480" y="40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udal Variable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Group 17"/>
          <p:cNvGrpSpPr/>
          <p:nvPr/>
        </p:nvGrpSpPr>
        <p:grpSpPr>
          <a:xfrm>
            <a:off x="-12960" y="2924280"/>
            <a:ext cx="8904600" cy="2867760"/>
            <a:chOff x="-12960" y="2924280"/>
            <a:chExt cx="8904600" cy="2867760"/>
          </a:xfrm>
        </p:grpSpPr>
        <p:sp>
          <p:nvSpPr>
            <p:cNvPr id="663" name="Text Box 10"/>
            <p:cNvSpPr/>
            <p:nvPr/>
          </p:nvSpPr>
          <p:spPr>
            <a:xfrm>
              <a:off x="6227640" y="29242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 Inyector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Line 13"/>
            <p:cNvSpPr/>
            <p:nvPr/>
          </p:nvSpPr>
          <p:spPr>
            <a:xfrm>
              <a:off x="-12960" y="5172840"/>
              <a:ext cx="780120" cy="619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65" name="Group 18"/>
          <p:cNvGrpSpPr/>
          <p:nvPr/>
        </p:nvGrpSpPr>
        <p:grpSpPr>
          <a:xfrm>
            <a:off x="813960" y="1140480"/>
            <a:ext cx="8077680" cy="2819520"/>
            <a:chOff x="813960" y="1140480"/>
            <a:chExt cx="8077680" cy="2819520"/>
          </a:xfrm>
        </p:grpSpPr>
        <p:sp>
          <p:nvSpPr>
            <p:cNvPr id="666" name="Text Box 12"/>
            <p:cNvSpPr/>
            <p:nvPr/>
          </p:nvSpPr>
          <p:spPr>
            <a:xfrm>
              <a:off x="6227640" y="35002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Un Productor</a:t>
              </a: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Line 15"/>
            <p:cNvSpPr/>
            <p:nvPr/>
          </p:nvSpPr>
          <p:spPr>
            <a:xfrm flipV="1">
              <a:off x="813960" y="1140480"/>
              <a:ext cx="780120" cy="619200"/>
            </a:xfrm>
            <a:prstGeom prst="line">
              <a:avLst/>
            </a:prstGeom>
            <a:ln w="7632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8" name="Text Box 19"/>
          <p:cNvSpPr/>
          <p:nvPr/>
        </p:nvSpPr>
        <p:spPr>
          <a:xfrm>
            <a:off x="6227640" y="450864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erzas “viscosas” y Fuerzas Capilare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17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7DD6-661A-495B-ABF8-57B8E761170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 Experiment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1" name="Picture 13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99480" cy="4788000"/>
          </a:xfrm>
          <a:prstGeom prst="rect">
            <a:avLst/>
          </a:prstGeom>
          <a:ln w="0">
            <a:noFill/>
          </a:ln>
        </p:spPr>
      </p:pic>
      <p:sp>
        <p:nvSpPr>
          <p:cNvPr id="67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A9D8-C162-4EC1-9D22-BD11502A6D5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 Experiment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4" name="Picture 7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7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6922-5C5D-4A5E-A3C6-FDE1490FCA4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 Experiment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77" name="Picture 5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5440" cy="4786560"/>
          </a:xfrm>
          <a:prstGeom prst="rect">
            <a:avLst/>
          </a:prstGeom>
          <a:ln w="0">
            <a:noFill/>
          </a:ln>
        </p:spPr>
      </p:pic>
      <p:sp>
        <p:nvSpPr>
          <p:cNvPr id="67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30EE-7AA9-4ABE-BEA3-FA1CB3DBB8F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Definición Arbitraria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e habla de “Yacimientos Maduros” en general o de “Secundarias Avanzadas” en particular, cuando no se puede seguir haciendo “Más de lo Mism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 partir de ese momento se dejan de hacer “ampliaciones” directas y se comienzan a tomar medidas “correctivas” o “reactiva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hace más difícil imponer “nuestra voluntad” al reservo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F26F-1131-475C-8D47-FBE8F2398A8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ffff"/>
                </a:solidFill>
                <a:latin typeface="Times New Roman"/>
              </a:rPr>
              <a:t>Metodología de Modelado y Ajus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80" name="Picture 3" descr=""/>
          <p:cNvPicPr/>
          <p:nvPr/>
        </p:nvPicPr>
        <p:blipFill>
          <a:blip r:embed="rId1"/>
          <a:stretch/>
        </p:blipFill>
        <p:spPr>
          <a:xfrm>
            <a:off x="878040" y="912960"/>
            <a:ext cx="3217680" cy="2881080"/>
          </a:xfrm>
          <a:prstGeom prst="rect">
            <a:avLst/>
          </a:prstGeom>
          <a:ln w="0">
            <a:noFill/>
          </a:ln>
        </p:spPr>
      </p:pic>
      <p:pic>
        <p:nvPicPr>
          <p:cNvPr id="681" name="Picture 4" descr=""/>
          <p:cNvPicPr/>
          <p:nvPr/>
        </p:nvPicPr>
        <p:blipFill>
          <a:blip r:embed="rId2"/>
          <a:stretch/>
        </p:blipFill>
        <p:spPr>
          <a:xfrm>
            <a:off x="868320" y="911160"/>
            <a:ext cx="3235320" cy="2879640"/>
          </a:xfrm>
          <a:prstGeom prst="rect">
            <a:avLst/>
          </a:prstGeom>
          <a:ln w="0">
            <a:noFill/>
          </a:ln>
        </p:spPr>
      </p:pic>
      <p:grpSp>
        <p:nvGrpSpPr>
          <p:cNvPr id="682" name="Group 6"/>
          <p:cNvGrpSpPr/>
          <p:nvPr/>
        </p:nvGrpSpPr>
        <p:grpSpPr>
          <a:xfrm>
            <a:off x="4356000" y="1557360"/>
            <a:ext cx="1224000" cy="1224000"/>
            <a:chOff x="4356000" y="1557360"/>
            <a:chExt cx="1224000" cy="1224000"/>
          </a:xfrm>
        </p:grpSpPr>
        <p:sp>
          <p:nvSpPr>
            <p:cNvPr id="683" name="Rectangle 7"/>
            <p:cNvSpPr/>
            <p:nvPr/>
          </p:nvSpPr>
          <p:spPr>
            <a:xfrm>
              <a:off x="4861080" y="155736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Rectangle 8"/>
            <p:cNvSpPr/>
            <p:nvPr/>
          </p:nvSpPr>
          <p:spPr>
            <a:xfrm rot="16200000">
              <a:off x="4860000" y="155592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5" name="Picture 9" descr=""/>
          <p:cNvPicPr/>
          <p:nvPr/>
        </p:nvPicPr>
        <p:blipFill>
          <a:blip r:embed="rId3"/>
          <a:stretch/>
        </p:blipFill>
        <p:spPr>
          <a:xfrm>
            <a:off x="3708360" y="4052880"/>
            <a:ext cx="3456000" cy="2685960"/>
          </a:xfrm>
          <a:prstGeom prst="rect">
            <a:avLst/>
          </a:prstGeom>
          <a:ln w="0">
            <a:noFill/>
          </a:ln>
        </p:spPr>
      </p:pic>
      <p:grpSp>
        <p:nvGrpSpPr>
          <p:cNvPr id="686" name="Group 10"/>
          <p:cNvGrpSpPr/>
          <p:nvPr/>
        </p:nvGrpSpPr>
        <p:grpSpPr>
          <a:xfrm>
            <a:off x="1763640" y="4724280"/>
            <a:ext cx="1224000" cy="1224000"/>
            <a:chOff x="1763640" y="4724280"/>
            <a:chExt cx="1224000" cy="1224000"/>
          </a:xfrm>
        </p:grpSpPr>
        <p:sp>
          <p:nvSpPr>
            <p:cNvPr id="687" name="Rectangle 11"/>
            <p:cNvSpPr/>
            <p:nvPr/>
          </p:nvSpPr>
          <p:spPr>
            <a:xfrm>
              <a:off x="2268720" y="472428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Rectangle 12"/>
            <p:cNvSpPr/>
            <p:nvPr/>
          </p:nvSpPr>
          <p:spPr>
            <a:xfrm rot="16200000">
              <a:off x="2267640" y="4722840"/>
              <a:ext cx="215640" cy="1224000"/>
            </a:xfrm>
            <a:prstGeom prst="rect">
              <a:avLst/>
            </a:prstGeom>
            <a:solidFill>
              <a:srgbClr val="00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689" name="Picture 14" descr=""/>
          <p:cNvPicPr/>
          <p:nvPr/>
        </p:nvPicPr>
        <p:blipFill>
          <a:blip r:embed="rId4"/>
          <a:stretch/>
        </p:blipFill>
        <p:spPr>
          <a:xfrm>
            <a:off x="5775480" y="909720"/>
            <a:ext cx="3260520" cy="2881080"/>
          </a:xfrm>
          <a:prstGeom prst="rect">
            <a:avLst/>
          </a:prstGeom>
          <a:ln w="0">
            <a:noFill/>
          </a:ln>
        </p:spPr>
      </p:pic>
      <p:sp>
        <p:nvSpPr>
          <p:cNvPr id="690" name="1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F98F-BEC5-48F5-A063-7A0CE9DAF0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92" name="Picture 5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93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47B6B-A0E6-4A5E-80EF-52C10FAA3E1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95" name="Picture 8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96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679D-FC07-4486-80A7-2CDD85F06E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187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Resultad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179280" y="1438200"/>
            <a:ext cx="8788680" cy="4788000"/>
          </a:xfrm>
          <a:prstGeom prst="rect">
            <a:avLst/>
          </a:prstGeom>
          <a:ln w="0">
            <a:noFill/>
          </a:ln>
        </p:spPr>
      </p:pic>
      <p:sp>
        <p:nvSpPr>
          <p:cNvPr id="69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3BF9-0B2D-4E87-9F52-E8611761FD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Resume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En el ejemplo se tomó toda el área cómo </a:t>
            </a:r>
            <a:r>
              <a:rPr b="1" lang="es-AR" sz="2600" spc="-1" strike="noStrike">
                <a:solidFill>
                  <a:srgbClr val="ffff66"/>
                </a:solidFill>
                <a:latin typeface="Times New Roman"/>
              </a:rPr>
              <a:t>un único bloque con propiedades globales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de;</a:t>
            </a:r>
            <a:r>
              <a:rPr b="0" lang="es-AR" sz="2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Capacidad de flujo (</a:t>
            </a: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KR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Heterogeneidades (</a:t>
            </a: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canales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Factores geométricos (</a:t>
            </a: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forma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 del área de drenaj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ffff00"/>
                </a:solidFill>
                <a:latin typeface="Times New Roman"/>
              </a:rPr>
              <a:t>Efectos capilares</a:t>
            </a:r>
            <a:r>
              <a:rPr b="0" lang="es-AR" sz="1800" spc="-1" strike="noStrike">
                <a:solidFill>
                  <a:srgbClr val="ffffff"/>
                </a:solidFill>
                <a:latin typeface="Times New Roman"/>
              </a:rPr>
              <a:t> (dependientes del intervalo de tiempo y del petróleo remanent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Cambiando los factores de mezcla </a:t>
            </a: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se pudo reproducir una compleja historia de produc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análisis inverso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permitiría deducir las propiedades del área de drenaje a partir de los ajustes y realizar </a:t>
            </a: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pronósticos fiables</a:t>
            </a:r>
            <a:r>
              <a:rPr b="0" lang="es-AR" sz="2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ante cambios futur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ffff00"/>
                </a:solidFill>
                <a:latin typeface="Times New Roman"/>
              </a:rPr>
              <a:t>Falta incluir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efectos gravitatorios, cambios de Patterns (inversiones, pozos “in fill”), producción multicapa, etc.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6137-277E-44F6-AB22-9E81C4E8ED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1224000" y="1341360"/>
            <a:ext cx="7920000" cy="525960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Las “Celdas” Re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117000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6" name="Group 36"/>
          <p:cNvGrpSpPr/>
          <p:nvPr/>
        </p:nvGrpSpPr>
        <p:grpSpPr>
          <a:xfrm>
            <a:off x="1187280" y="2924280"/>
            <a:ext cx="8064720" cy="3314520"/>
            <a:chOff x="1187280" y="2924280"/>
            <a:chExt cx="8064720" cy="3314520"/>
          </a:xfrm>
        </p:grpSpPr>
        <p:sp>
          <p:nvSpPr>
            <p:cNvPr id="707" name="Line 6"/>
            <p:cNvSpPr/>
            <p:nvPr/>
          </p:nvSpPr>
          <p:spPr>
            <a:xfrm>
              <a:off x="1763640" y="4292640"/>
              <a:ext cx="0" cy="187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Line 7"/>
            <p:cNvSpPr/>
            <p:nvPr/>
          </p:nvSpPr>
          <p:spPr>
            <a:xfrm>
              <a:off x="2178000" y="414972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Line 8"/>
            <p:cNvSpPr/>
            <p:nvPr/>
          </p:nvSpPr>
          <p:spPr>
            <a:xfrm>
              <a:off x="3008160" y="4005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Line 9"/>
            <p:cNvSpPr/>
            <p:nvPr/>
          </p:nvSpPr>
          <p:spPr>
            <a:xfrm flipH="1">
              <a:off x="2555640" y="4292640"/>
              <a:ext cx="36360" cy="18003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Line 10"/>
            <p:cNvSpPr/>
            <p:nvPr/>
          </p:nvSpPr>
          <p:spPr>
            <a:xfrm>
              <a:off x="3419640" y="3789360"/>
              <a:ext cx="2880" cy="244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Line 11"/>
            <p:cNvSpPr/>
            <p:nvPr/>
          </p:nvSpPr>
          <p:spPr>
            <a:xfrm>
              <a:off x="4668840" y="3573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Line 12"/>
            <p:cNvSpPr/>
            <p:nvPr/>
          </p:nvSpPr>
          <p:spPr>
            <a:xfrm flipH="1">
              <a:off x="3838320" y="3716280"/>
              <a:ext cx="12600" cy="2306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Line 13"/>
            <p:cNvSpPr/>
            <p:nvPr/>
          </p:nvSpPr>
          <p:spPr>
            <a:xfrm flipH="1">
              <a:off x="4252680" y="3546360"/>
              <a:ext cx="14040" cy="24037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Line 14"/>
            <p:cNvSpPr/>
            <p:nvPr/>
          </p:nvSpPr>
          <p:spPr>
            <a:xfrm>
              <a:off x="5083200" y="364500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Line 15"/>
            <p:cNvSpPr/>
            <p:nvPr/>
          </p:nvSpPr>
          <p:spPr>
            <a:xfrm>
              <a:off x="5499000" y="3500280"/>
              <a:ext cx="0" cy="208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Line 16"/>
            <p:cNvSpPr/>
            <p:nvPr/>
          </p:nvSpPr>
          <p:spPr>
            <a:xfrm>
              <a:off x="6329520" y="314172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Line 17"/>
            <p:cNvSpPr/>
            <p:nvPr/>
          </p:nvSpPr>
          <p:spPr>
            <a:xfrm>
              <a:off x="5913360" y="328464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Line 18"/>
            <p:cNvSpPr/>
            <p:nvPr/>
          </p:nvSpPr>
          <p:spPr>
            <a:xfrm>
              <a:off x="7574040" y="3070080"/>
              <a:ext cx="0" cy="2089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Line 19"/>
            <p:cNvSpPr/>
            <p:nvPr/>
          </p:nvSpPr>
          <p:spPr>
            <a:xfrm>
              <a:off x="6732720" y="2997360"/>
              <a:ext cx="11160" cy="252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Line 20"/>
            <p:cNvSpPr/>
            <p:nvPr/>
          </p:nvSpPr>
          <p:spPr>
            <a:xfrm flipH="1">
              <a:off x="7159320" y="2924280"/>
              <a:ext cx="4680" cy="252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Line 21"/>
            <p:cNvSpPr/>
            <p:nvPr/>
          </p:nvSpPr>
          <p:spPr>
            <a:xfrm>
              <a:off x="7989840" y="314172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Line 22"/>
            <p:cNvSpPr/>
            <p:nvPr/>
          </p:nvSpPr>
          <p:spPr>
            <a:xfrm>
              <a:off x="8404200" y="2997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Line 23"/>
            <p:cNvSpPr/>
            <p:nvPr/>
          </p:nvSpPr>
          <p:spPr>
            <a:xfrm>
              <a:off x="8820000" y="2997360"/>
              <a:ext cx="0" cy="2089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Line 24"/>
            <p:cNvSpPr/>
            <p:nvPr/>
          </p:nvSpPr>
          <p:spPr>
            <a:xfrm>
              <a:off x="5867280" y="3141720"/>
              <a:ext cx="3384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Line 25"/>
            <p:cNvSpPr/>
            <p:nvPr/>
          </p:nvSpPr>
          <p:spPr>
            <a:xfrm>
              <a:off x="4932360" y="3429000"/>
              <a:ext cx="42116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3564000" y="3716280"/>
              <a:ext cx="5580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Line 28"/>
            <p:cNvSpPr/>
            <p:nvPr/>
          </p:nvSpPr>
          <p:spPr>
            <a:xfrm>
              <a:off x="2843280" y="4005360"/>
              <a:ext cx="63007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Line 30"/>
            <p:cNvSpPr/>
            <p:nvPr/>
          </p:nvSpPr>
          <p:spPr>
            <a:xfrm>
              <a:off x="1547640" y="4365720"/>
              <a:ext cx="6661440" cy="7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Line 31"/>
            <p:cNvSpPr/>
            <p:nvPr/>
          </p:nvSpPr>
          <p:spPr>
            <a:xfrm>
              <a:off x="1258920" y="4652280"/>
              <a:ext cx="7165800" cy="28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Line 32"/>
            <p:cNvSpPr/>
            <p:nvPr/>
          </p:nvSpPr>
          <p:spPr>
            <a:xfrm>
              <a:off x="1258920" y="4941000"/>
              <a:ext cx="7381800" cy="47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Line 33"/>
            <p:cNvSpPr/>
            <p:nvPr/>
          </p:nvSpPr>
          <p:spPr>
            <a:xfrm>
              <a:off x="1187280" y="5300640"/>
              <a:ext cx="6337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Line 34"/>
            <p:cNvSpPr/>
            <p:nvPr/>
          </p:nvSpPr>
          <p:spPr>
            <a:xfrm>
              <a:off x="1332000" y="5589720"/>
              <a:ext cx="4392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Line 35"/>
            <p:cNvSpPr/>
            <p:nvPr/>
          </p:nvSpPr>
          <p:spPr>
            <a:xfrm>
              <a:off x="1187280" y="5877000"/>
              <a:ext cx="432144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5" name="Text Box 37"/>
          <p:cNvSpPr/>
          <p:nvPr/>
        </p:nvSpPr>
        <p:spPr>
          <a:xfrm>
            <a:off x="1332000" y="1382760"/>
            <a:ext cx="763416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da celda con sus propios coeficientes de mezcla para los diferentes algoritmos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34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6032-EB8D-4EEC-A157-1983A6965F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30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120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Flujo de Trabajo Actua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738" name="Group 3"/>
          <p:cNvGrpSpPr/>
          <p:nvPr/>
        </p:nvGrpSpPr>
        <p:grpSpPr>
          <a:xfrm>
            <a:off x="684360" y="1197000"/>
            <a:ext cx="3746520" cy="5484240"/>
            <a:chOff x="684360" y="1197000"/>
            <a:chExt cx="3746520" cy="5484240"/>
          </a:xfrm>
        </p:grpSpPr>
        <p:sp>
          <p:nvSpPr>
            <p:cNvPr id="739" name="Text Box 4"/>
            <p:cNvSpPr/>
            <p:nvPr/>
          </p:nvSpPr>
          <p:spPr>
            <a:xfrm>
              <a:off x="1908360" y="4292640"/>
              <a:ext cx="1368360" cy="91692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400" spc="-1" strike="noStrike">
                  <a:solidFill>
                    <a:srgbClr val="ffffff"/>
                  </a:solidFill>
                  <a:latin typeface="Arial"/>
                </a:rPr>
                <a:t>KR</a:t>
              </a:r>
              <a:endParaRPr b="1" lang="en-US" sz="5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Text Box 5"/>
            <p:cNvSpPr/>
            <p:nvPr/>
          </p:nvSpPr>
          <p:spPr>
            <a:xfrm>
              <a:off x="1044720" y="2781360"/>
              <a:ext cx="302400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Mediciones de Laboratorio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Text Box 6"/>
            <p:cNvSpPr/>
            <p:nvPr/>
          </p:nvSpPr>
          <p:spPr>
            <a:xfrm>
              <a:off x="757440" y="1197000"/>
              <a:ext cx="360036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Modelo Geológico: Rock Types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Text Box 7"/>
            <p:cNvSpPr/>
            <p:nvPr/>
          </p:nvSpPr>
          <p:spPr>
            <a:xfrm>
              <a:off x="1405080" y="5734080"/>
              <a:ext cx="2158920" cy="9471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Arial"/>
                </a:rPr>
                <a:t>Historia de Producción</a:t>
              </a:r>
              <a:endParaRPr b="1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AutoShape 8"/>
            <p:cNvSpPr/>
            <p:nvPr/>
          </p:nvSpPr>
          <p:spPr>
            <a:xfrm>
              <a:off x="684360" y="4797360"/>
              <a:ext cx="576360" cy="1366920"/>
            </a:xfrm>
            <a:custGeom>
              <a:avLst/>
              <a:gdLst>
                <a:gd name="textAreaLeft" fmla="*/ 77040 w 576360"/>
                <a:gd name="textAreaRight" fmla="*/ 499320 w 576360"/>
                <a:gd name="textAreaTop" fmla="*/ 239040 h 1366920"/>
                <a:gd name="textAreaBottom" fmla="*/ 991080 h 136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AutoShape 9"/>
            <p:cNvSpPr/>
            <p:nvPr/>
          </p:nvSpPr>
          <p:spPr>
            <a:xfrm flipV="1">
              <a:off x="3781440" y="4653000"/>
              <a:ext cx="649440" cy="1440000"/>
            </a:xfrm>
            <a:custGeom>
              <a:avLst/>
              <a:gdLst>
                <a:gd name="textAreaLeft" fmla="*/ 86760 w 649440"/>
                <a:gd name="textAreaRight" fmla="*/ 562680 w 649440"/>
                <a:gd name="textAreaTop" fmla="*/ 252000 h 1440000"/>
                <a:gd name="textAreaBottom" fmla="*/ 104400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Line 10"/>
            <p:cNvSpPr/>
            <p:nvPr/>
          </p:nvSpPr>
          <p:spPr>
            <a:xfrm>
              <a:off x="2484360" y="2205000"/>
              <a:ext cx="0" cy="503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Line 11"/>
            <p:cNvSpPr/>
            <p:nvPr/>
          </p:nvSpPr>
          <p:spPr>
            <a:xfrm>
              <a:off x="2484360" y="3789360"/>
              <a:ext cx="0" cy="43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Line 12"/>
            <p:cNvSpPr/>
            <p:nvPr/>
          </p:nvSpPr>
          <p:spPr>
            <a:xfrm>
              <a:off x="2484360" y="52293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8" name="Text Box 13"/>
          <p:cNvSpPr/>
          <p:nvPr/>
        </p:nvSpPr>
        <p:spPr>
          <a:xfrm>
            <a:off x="5292720" y="1341360"/>
            <a:ext cx="345600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s curvas KR son una variable clave para el ajuste de S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o… estas curvas, no se respaldan  con un modelo físico (geológico)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1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D834-633D-49A5-9441-065B56AFB8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120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ffff"/>
                </a:solidFill>
                <a:latin typeface="Times New Roman"/>
              </a:rPr>
              <a:t>Flujo de Trabajo Propuesto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51" name="Text Box 3"/>
          <p:cNvSpPr/>
          <p:nvPr/>
        </p:nvSpPr>
        <p:spPr>
          <a:xfrm>
            <a:off x="3203640" y="4365720"/>
            <a:ext cx="2303280" cy="8254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Capacidad de Producción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Text Box 4"/>
          <p:cNvSpPr/>
          <p:nvPr/>
        </p:nvSpPr>
        <p:spPr>
          <a:xfrm>
            <a:off x="5148360" y="2460600"/>
            <a:ext cx="3024000" cy="1008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ciones de Laboratorio. PE, Pc,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Heterog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., Mojab.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468360" y="1197000"/>
            <a:ext cx="2808360" cy="1312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odelo Geológico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Estático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Text Box 6"/>
          <p:cNvSpPr/>
          <p:nvPr/>
        </p:nvSpPr>
        <p:spPr>
          <a:xfrm>
            <a:off x="468360" y="5589720"/>
            <a:ext cx="3024000" cy="10688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Historia de Producción</a:t>
            </a:r>
            <a:endParaRPr b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Text Box 7"/>
          <p:cNvSpPr/>
          <p:nvPr/>
        </p:nvSpPr>
        <p:spPr>
          <a:xfrm>
            <a:off x="6588000" y="4440240"/>
            <a:ext cx="237672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Estrategi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Explotació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Text Box 8"/>
          <p:cNvSpPr/>
          <p:nvPr/>
        </p:nvSpPr>
        <p:spPr>
          <a:xfrm>
            <a:off x="6084720" y="5278320"/>
            <a:ext cx="2700360" cy="459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OIS,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PI, Tiempo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9"/>
          <p:cNvSpPr/>
          <p:nvPr/>
        </p:nvSpPr>
        <p:spPr>
          <a:xfrm>
            <a:off x="5292720" y="5877000"/>
            <a:ext cx="2951280" cy="398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00"/>
                </a:solidFill>
                <a:latin typeface="Arial"/>
              </a:rPr>
              <a:t>Trazadore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419640" y="1197000"/>
            <a:ext cx="3313080" cy="11304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odelo Dinámic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Mec. de Desplazamiento / Equil. de Fuerzas)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5940360" y="3603600"/>
            <a:ext cx="3024360" cy="703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dición de </a:t>
            </a: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Transitori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de Corte de Agua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60" name="Group 22"/>
          <p:cNvGrpSpPr/>
          <p:nvPr/>
        </p:nvGrpSpPr>
        <p:grpSpPr>
          <a:xfrm>
            <a:off x="2411280" y="2492280"/>
            <a:ext cx="4105080" cy="3673440"/>
            <a:chOff x="2411280" y="2492280"/>
            <a:chExt cx="4105080" cy="3673440"/>
          </a:xfrm>
        </p:grpSpPr>
        <p:sp>
          <p:nvSpPr>
            <p:cNvPr id="761" name="Line 12"/>
            <p:cNvSpPr/>
            <p:nvPr/>
          </p:nvSpPr>
          <p:spPr>
            <a:xfrm>
              <a:off x="2411280" y="2708280"/>
              <a:ext cx="1152720" cy="1368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Line 13"/>
            <p:cNvSpPr/>
            <p:nvPr/>
          </p:nvSpPr>
          <p:spPr>
            <a:xfrm flipH="1">
              <a:off x="4068360" y="2492280"/>
              <a:ext cx="358920" cy="180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Line 14"/>
            <p:cNvSpPr/>
            <p:nvPr/>
          </p:nvSpPr>
          <p:spPr>
            <a:xfrm flipH="1">
              <a:off x="4427640" y="3429000"/>
              <a:ext cx="576000" cy="863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Line 15"/>
            <p:cNvSpPr/>
            <p:nvPr/>
          </p:nvSpPr>
          <p:spPr>
            <a:xfrm flipH="1">
              <a:off x="5148000" y="3860640"/>
              <a:ext cx="71892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Line 16"/>
            <p:cNvSpPr/>
            <p:nvPr/>
          </p:nvSpPr>
          <p:spPr>
            <a:xfrm flipH="1">
              <a:off x="5651280" y="4724280"/>
              <a:ext cx="865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Line 17"/>
            <p:cNvSpPr/>
            <p:nvPr/>
          </p:nvSpPr>
          <p:spPr>
            <a:xfrm flipH="1" flipV="1">
              <a:off x="5580000" y="5229360"/>
              <a:ext cx="287280" cy="71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Line 18"/>
            <p:cNvSpPr/>
            <p:nvPr/>
          </p:nvSpPr>
          <p:spPr>
            <a:xfrm flipH="1" flipV="1">
              <a:off x="4571640" y="5373720"/>
              <a:ext cx="647640" cy="79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8" name="Line 19"/>
          <p:cNvSpPr/>
          <p:nvPr/>
        </p:nvSpPr>
        <p:spPr>
          <a:xfrm flipH="1">
            <a:off x="3564000" y="5445000"/>
            <a:ext cx="504720" cy="64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0"/>
          <p:cNvSpPr/>
          <p:nvPr/>
        </p:nvSpPr>
        <p:spPr>
          <a:xfrm>
            <a:off x="1619280" y="2708280"/>
            <a:ext cx="288720" cy="2736720"/>
          </a:xfrm>
          <a:prstGeom prst="upArrow">
            <a:avLst>
              <a:gd name="adj1" fmla="val 50000"/>
              <a:gd name="adj2" fmla="val 23697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AutoShape 21"/>
          <p:cNvSpPr/>
          <p:nvPr/>
        </p:nvSpPr>
        <p:spPr>
          <a:xfrm rot="2199000">
            <a:off x="2627280" y="2276640"/>
            <a:ext cx="289080" cy="3438360"/>
          </a:xfrm>
          <a:prstGeom prst="upArrow">
            <a:avLst>
              <a:gd name="adj1" fmla="val 50000"/>
              <a:gd name="adj2" fmla="val 297354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22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1975-22EF-4EC2-8F9A-919FE1AC14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116000" y="620640"/>
            <a:ext cx="7848720" cy="22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5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69BF-E872-4E7A-A166-3B04E87501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116000" y="1916280"/>
            <a:ext cx="7848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 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Text Box 6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6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E9E26-11F9-4F53-A152-AC0BF09C25B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nodeType="clickEffect" fill="hold">
                      <p:stCondLst>
                        <p:cond delay="0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2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2" dur="1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Más rápido se inyecta, más rápido se produc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72DA-3B7D-4E5A-8968-4EB2EC14A7E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1116000" y="2992320"/>
            <a:ext cx="78487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1619280" y="328464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 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7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1D2C-70D4-4CA0-9075-30B951FD44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0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2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Text Box 6"/>
          <p:cNvSpPr/>
          <p:nvPr/>
        </p:nvSpPr>
        <p:spPr>
          <a:xfrm>
            <a:off x="1619280" y="328464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1116000" y="4278240"/>
            <a:ext cx="78487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cundarias avanzadas existe un caudal óptimo de Inyección/Producción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1619280" y="4365720"/>
            <a:ext cx="7524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ecundarias avanzadas existe un caudal óptimo de Inyección/Producció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7" name="8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F55F-764A-4236-9395-69DA3A1E265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8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ffff"/>
                </a:solidFill>
                <a:latin typeface="Times New Roman"/>
              </a:rPr>
              <a:t>Revisando los Conceptos Primario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187280" y="119700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desplazamiento multifásico se modela con curvas de Permeabilidades Relativ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Los sistemas heterogéneos pueden modelarse con sistemas homogéneos “Equivalentes”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Petróleo se desplaza hacia donde lo empuja el agua inyectad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Más rápido se inyecta, más rápido se produce</a:t>
            </a:r>
            <a:br>
              <a:rPr sz="3000"/>
            </a:b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El agua se “canaliza” por las zonas más permeabl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0" name="Text Box 4"/>
          <p:cNvSpPr/>
          <p:nvPr/>
        </p:nvSpPr>
        <p:spPr>
          <a:xfrm>
            <a:off x="1619280" y="119700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inguna curva que modele la capacidad de producción  únicamente como función de la Sw puede describir correctamente desplazamientos multifásicos en sistemas reales tridimensionales y heterogéne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1" name="Text Box 5"/>
          <p:cNvSpPr/>
          <p:nvPr/>
        </p:nvSpPr>
        <p:spPr>
          <a:xfrm>
            <a:off x="1619280" y="2349360"/>
            <a:ext cx="7524720" cy="82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sistemas homogéneos no pueden modelar muchas de las características de los sistemas heterogéne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2" name="Text Box 6"/>
          <p:cNvSpPr/>
          <p:nvPr/>
        </p:nvSpPr>
        <p:spPr>
          <a:xfrm>
            <a:off x="1619280" y="3284640"/>
            <a:ext cx="75247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fuerzas “viscosas” no siempre trabajan en el mismo sentido que las fuerzas espontáneas. El petróleo puede reacomodarse por efectos capilares y gravitatorios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1619280" y="4365720"/>
            <a:ext cx="7524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secundarias avanzadas existe un Caudal óptimo de Inyección/Producción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4" name="Text Box 8"/>
          <p:cNvSpPr/>
          <p:nvPr/>
        </p:nvSpPr>
        <p:spPr>
          <a:xfrm>
            <a:off x="1116000" y="4581360"/>
            <a:ext cx="78487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canales de alta permeabilidad pueden favorecer la acción de las fuerzas capilares, aumentando la velocidad de recuperación de petróleo</a:t>
            </a:r>
            <a:endParaRPr b="1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1619280" y="5141880"/>
            <a:ext cx="7524720" cy="87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canales de alta permeabilidad pueden favorecer la acción de las fuerzas capilares, aumentando la velocidad de recuperación de petróleo</a:t>
            </a: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6" name="9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51350-8C63-4E44-A807-E734244CE35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9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1300320" y="-360"/>
            <a:ext cx="7843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1170000" y="1052640"/>
            <a:ext cx="7974000" cy="50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drían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reemplazarse los millones de celdas de la SN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actual por el modelado directo de los pozos usando algoritmos simpl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a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olución analítica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permitiría la 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interacción directa del “History Matching”con el modelado físico y geológico</a:t>
            </a:r>
            <a:r>
              <a:rPr b="1" lang="es-E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 la tram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solución de cada pozo individual y del conjunto debe ser compatible con el modelo estáti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415-76C6-4D55-BF9E-E4267D9E42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2000"/>
                                        <p:tgtEl>
                                          <p:spTgt spid="8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L. Dake. “ The Practice ...”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Las </a:t>
            </a:r>
            <a:r>
              <a:rPr b="1" i="1" lang="es-AR" sz="3400" spc="-1" strike="noStrike">
                <a:solidFill>
                  <a:srgbClr val="ffff00"/>
                </a:solidFill>
                <a:latin typeface="Times New Roman"/>
              </a:rPr>
              <a:t>curvas de permeabilidad relativa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 parecen haber sido tratadas siempre con </a:t>
            </a:r>
            <a:r>
              <a:rPr b="1" i="1" lang="es-AR" sz="3400" spc="-1" strike="noStrike">
                <a:solidFill>
                  <a:srgbClr val="ffff00"/>
                </a:solidFill>
                <a:latin typeface="Times New Roman"/>
              </a:rPr>
              <a:t>gran veneración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 a lo largo de la historia de la ingeniería de reservorios”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Se asume que estas curvas son </a:t>
            </a:r>
            <a:r>
              <a:rPr b="1" i="1" lang="es-AR" sz="3400" spc="-1" strike="noStrike">
                <a:solidFill>
                  <a:srgbClr val="ffff00"/>
                </a:solidFill>
                <a:latin typeface="Times New Roman"/>
              </a:rPr>
              <a:t>intrínsecamente correctas</a:t>
            </a:r>
            <a:r>
              <a:rPr b="0" i="1" lang="es-AR" sz="3400" spc="-1" strike="noStrike">
                <a:solidFill>
                  <a:srgbClr val="ffffff"/>
                </a:solidFill>
                <a:latin typeface="Times New Roman"/>
              </a:rPr>
              <a:t> y toda la teoría y la práctica se ha ensamblado para acomodarse a esta visión generalizada”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49796-DACE-44DC-9D3B-E4E72E5B132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. Rose - SPE 57442 - 1999.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De una u otra forma, y actualmente por casi una centuria, la voluminosa literatura sobre este tema ha sido notoriamente influenciada por la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cambiante interpretación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del significado y aplicabilidad del concepto de permeabilidad relativa que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continúa causando perplejidad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pese a su difundido emple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... el foco de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mayor importancia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tiene que estar relacionado a </a:t>
            </a:r>
            <a:r>
              <a:rPr b="1" i="1" lang="es-AR" sz="3200" spc="-1" strike="noStrike">
                <a:solidFill>
                  <a:srgbClr val="ffff00"/>
                </a:solidFill>
                <a:latin typeface="Times New Roman"/>
              </a:rPr>
              <a:t>cómo medir y aplicar</a:t>
            </a:r>
            <a:r>
              <a:rPr b="0" i="1" lang="es-AR" sz="2800" spc="-1" strike="noStrike">
                <a:solidFill>
                  <a:srgbClr val="ffffff"/>
                </a:solidFill>
                <a:latin typeface="Times New Roman"/>
              </a:rPr>
              <a:t> los datos de permeabilidad relativa cuando se emprenden estudios de simulación de los procesos de transporte en reservorio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3BA5-1433-42CE-9BA9-66DF3E8C2C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Buckley &amp; Leverett. “</a:t>
            </a:r>
            <a:r>
              <a:rPr b="0" i="1" lang="en-US" sz="2400" spc="-1" strike="noStrike">
                <a:solidFill>
                  <a:srgbClr val="00ffff"/>
                </a:solidFill>
                <a:latin typeface="Times New Roman"/>
              </a:rPr>
              <a:t>Mechanism of Fluid Displacement ...</a:t>
            </a:r>
            <a:r>
              <a:rPr b="0" lang="en-US" sz="2400" spc="-1" strike="noStrike">
                <a:solidFill>
                  <a:srgbClr val="00ffff"/>
                </a:solidFill>
                <a:latin typeface="Times New Roman"/>
              </a:rPr>
              <a:t>” Trans AIME 1942 p. 107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i="1" lang="es-AR" sz="3600" spc="-1" strike="noStrike">
                <a:solidFill>
                  <a:srgbClr val="ffff66"/>
                </a:solidFill>
                <a:latin typeface="Times New Roman"/>
              </a:rPr>
              <a:t>En ausencia de efectos capilares y gravitatorios</a:t>
            </a:r>
            <a:r>
              <a:rPr b="0" i="1" lang="es-AR" sz="3600" spc="-1" strike="noStrike">
                <a:solidFill>
                  <a:srgbClr val="ffffff"/>
                </a:solidFill>
                <a:latin typeface="Times New Roman"/>
              </a:rPr>
              <a:t>,  fw - para una dada arena y juego de fluidos - varía sólo ligeramente con factores diferentes a Sw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En este supuesto se basa el empleo de las curvas de </a:t>
            </a:r>
            <a:r>
              <a:rPr b="1" lang="es-AR" sz="3600" spc="-1" strike="noStrike">
                <a:solidFill>
                  <a:srgbClr val="ffff00"/>
                </a:solidFill>
                <a:latin typeface="Times New Roman"/>
              </a:rPr>
              <a:t>Permeabilidad Relativa</a:t>
            </a:r>
            <a:r>
              <a:rPr b="0" lang="es-AR" sz="3600" spc="-1" strike="noStrike">
                <a:solidFill>
                  <a:srgbClr val="ffffff"/>
                </a:solidFill>
                <a:latin typeface="Times New Roman"/>
              </a:rPr>
              <a:t> y la curva asociada de Flujo Fracciona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DB86-D64A-42D6-8562-5C43E63805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Necesidades y Posibilidade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1170000" y="1197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Necesida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Modelar la </a:t>
            </a:r>
            <a:r>
              <a:rPr b="1" lang="es-AR" sz="3200" spc="-1" strike="noStrike">
                <a:solidFill>
                  <a:srgbClr val="ffff66"/>
                </a:solidFill>
                <a:latin typeface="Times New Roman"/>
              </a:rPr>
              <a:t>produc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de fluidos en función de los balances Inyección-Producción y del tiempo,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para sistemas tridimensionales y heterogéneos, bajo el cambiante equilibrio de fuerzas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, en diferentes partes de la estructu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ffffff"/>
                </a:solidFill>
                <a:uFillTx/>
                <a:latin typeface="Times New Roman"/>
              </a:rPr>
              <a:t>Posibilidad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: Con las curvas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KR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se modela la capacidad de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conducción</a:t>
            </a: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 de fluidos en función de la Sw en cada punto, para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sistemas lineales y homogéneos, en ausencia de fuerzas capilares y gravitatorias</a:t>
            </a:r>
            <a:r>
              <a:rPr b="0" lang="es-AR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F457-AAA9-4014-BEBC-A4EF65D7D30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Resultado Hasta Ho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Medición de más y más curvas KR para mejorar la descripción po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Simulación Numérica con más y más celd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Al reservorio se lo trata fundamentalmente como un ente “matemático”. Se “fuerza” a la física a responder a las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herramientas matemáticas disponi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En resumen: </a:t>
            </a:r>
            <a:r>
              <a:rPr b="1" lang="es-AR" sz="3200" spc="-1" strike="noStrike">
                <a:solidFill>
                  <a:srgbClr val="ffff00"/>
                </a:solidFill>
                <a:latin typeface="Times New Roman"/>
              </a:rPr>
              <a:t>¡Más y más de lo mismo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15B-4BD0-479A-BEA3-5790E2A9BE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ffff"/>
                </a:solidFill>
                <a:latin typeface="Times New Roman"/>
              </a:rPr>
              <a:t>Siguiendo el ejemplo de W. Rose (I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170000" y="1196640"/>
            <a:ext cx="7772400" cy="48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1988 - "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Método de Ajuste Numérico para la Obtención de curvas de Permeabilidad Relativa a partir de experiencias de desplazamiento a presión constante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". Simposio de Producción de Hidrocarburos. IAPG -Bariloch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¡Puras Matemáticas!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1998 - "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Relative Permeability Curves: The Influence of Flow Direction and Heterogeneities. Dependence of End Point Saturations on Displacement Mechanisms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". SPE 39657 – Tuls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rimeras “anomalías” físi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5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1999 - "</a:t>
            </a:r>
            <a:r>
              <a:rPr b="0" i="1" lang="es-ES_tradnl" sz="2200" spc="-1" strike="noStrike">
                <a:solidFill>
                  <a:srgbClr val="ffffff"/>
                </a:solidFill>
                <a:latin typeface="Times New Roman"/>
              </a:rPr>
              <a:t>Pseudo Relative Permeability Functions. Limitations in the Use of thr Frontal Advance Theory for 2-Dimensional Systems</a:t>
            </a:r>
            <a:r>
              <a:rPr b="0" lang="es-ES_tradnl" sz="2200" spc="-1" strike="noStrike">
                <a:solidFill>
                  <a:srgbClr val="ffffff"/>
                </a:solidFill>
                <a:latin typeface="Times New Roman"/>
              </a:rPr>
              <a:t>". SPE 54004 - LACPEC –Carac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rimeras “anomalías” teór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3 Marcador de número de diapositiva"/>
          <p:cNvSpPr/>
          <p:nvPr/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5E7E1-24F4-4699-A5FE-68D6482AE0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1T16:45:04Z</dcterms:created>
  <dc:creator>Pablo Turmero</dc:creator>
  <dc:description/>
  <dc:language>en-US</dc:language>
  <cp:lastModifiedBy>Pablo Turmero</cp:lastModifiedBy>
  <dcterms:modified xsi:type="dcterms:W3CDTF">2017-10-01T15:54:37Z</dcterms:modified>
  <cp:revision>167</cp:revision>
  <dc:subject/>
  <dc:title>Secundarias Avanzadas – Necesidades y Posibilidades</dc:title>
</cp:coreProperties>
</file>