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62463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624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750840" y="-360"/>
            <a:ext cx="2870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848880" y="738000"/>
            <a:ext cx="4924440" cy="369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62040" y="4678200"/>
            <a:ext cx="52992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9354960"/>
            <a:ext cx="287028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750840" y="9354960"/>
            <a:ext cx="2870280" cy="4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DA42-07C3-4CE9-9135-D1FD663531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09640" y="717480"/>
            <a:ext cx="5003640" cy="3754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2040" y="4678200"/>
            <a:ext cx="52992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751200" y="9354960"/>
            <a:ext cx="28702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236-FE22-43C5-9468-F2671601D324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09640" y="717480"/>
            <a:ext cx="5003640" cy="3754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2040" y="4678200"/>
            <a:ext cx="52992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751200" y="9354960"/>
            <a:ext cx="28702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ABE6-1B0A-41C6-B8AD-DC64BDDF9386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36C-4469-4AD8-9DDF-56B4CE93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33C-99F1-4786-BA10-ECB7652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603-0C9A-4FAD-A035-8348199A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149-9B81-4370-ADF0-CC7097E7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7827-E532-45C1-8C91-319E4BFC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25A1-5454-435C-9AE3-028A241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6AAB-55E6-4DFE-8AA2-F16CB5B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F39-ECBA-4CFF-8EF8-BE7A14F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FF19-CDB0-4DBE-B450-BFE4BFE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70B-8371-4CD7-9A74-FD27B40F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9B5-F820-4048-BC45-366AAD2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2E6-D605-4F3C-918C-72EBAA13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DFB1-6A02-409D-B94C-1BB0CD0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631-013F-497A-8BDD-B0A31BE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0D1B-A321-4C77-9A32-5D49D3B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732-233B-41E6-98C2-700F26BA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AB4-F1DB-4444-99C6-821929EA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3740-ED2D-4AE5-A662-59F99148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FDA0-8426-4C4A-8CC5-5465C5D8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1DE1-8081-46C7-9247-310CED0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9BF5-6D20-4633-930E-19D9BF4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C250-EE4F-4936-968D-2F7F956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384-7287-4901-9BD3-CD7FABD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F5D8-CCD8-41B8-A20E-02ECEA0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4767-0A8B-4CA1-B527-7C4AEC4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DEAD-943D-479A-A6E4-D2E0106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F840-2A92-4329-818C-3B5FCF9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544B-A038-49DF-AAF0-F638C24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B9D9-9CBC-42E9-90DF-78B97236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893A-17DD-41AC-84AA-5CE4141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3D8-EDFB-4252-96E2-4C202D7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8F4-0A58-47C2-A3C6-DABF0BE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CF4-8ECC-4644-8B3F-E13C404A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4F2-5BDF-45EE-B57E-4F692679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7D0-ED48-4519-914D-E8897DE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B7E-9571-4780-BEF4-AC6979E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CEF-E782-49CF-82E6-8BD9120D810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39D-05C0-4B60-A3E7-2881B5BFDE1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3D3-2527-4D31-B7AA-2A4B4ACF42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investigación preliminar en el nuevo proceso pe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ido Ojeda Tor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aot30@hot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1760" y="277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0640" indent="-62064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163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vanta los planos, toma fotografías, grabaciones en vide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tura de autores y partícipes en caso de flagra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formar de sus derechos a las personas deteni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segurar los documentos privados útiles para la investig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lanar locales de uso públ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cuestro e incautación de docu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797480" indent="-434160">
              <a:lnSpc>
                <a:spcPct val="120000"/>
              </a:lnSpc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ibir la declaración de la persona denunciada con presencia obligatoria de su abog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3840" y="2296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0640" indent="-62064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4760" y="150804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835280" indent="-443160">
              <a:spcBef>
                <a:spcPts val="75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unir la información complementa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75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investigación complementaria que sea necesar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Informe (Atestado) Policial completo, pero sin conclu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misión del Informe Policial a la Fiscal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1049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Intervención de la Defe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vención amplía, comprende al imputado y agravi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apersona a la investigación prelimin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oce de los cargos de incrimin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000" y="277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0" indent="-71280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180080" indent="-501480">
              <a:lnSpc>
                <a:spcPct val="105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viene en las declaraciones de su patroc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80080" indent="-501480">
              <a:lnSpc>
                <a:spcPct val="105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oce de las diligencias realiz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80080" indent="-501480">
              <a:lnSpc>
                <a:spcPct val="105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de tener copia de las diligencias que favorezcan su defen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80080" indent="-501480">
              <a:lnSpc>
                <a:spcPct val="105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Tahoma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ide la realización de diligencias que favorezcan su defen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105000"/>
              </a:lnSpc>
              <a:spcBef>
                <a:spcPts val="876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La intervención del órgano Jurisdic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80080" indent="-501480">
              <a:lnSpc>
                <a:spcPct val="105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vención en la expedición de resoluciones sobre medidas coercitiv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150"/>
                            </p:stCondLst>
                            <p:childTnLst>
                              <p:par>
                                <p:cTn id="5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250"/>
                            </p:stCondLst>
                            <p:childTnLst>
                              <p:par>
                                <p:cTn id="5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400"/>
                            </p:stCondLst>
                            <p:childTnLst>
                              <p:par>
                                <p:cTn id="5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800"/>
                            </p:stCondLst>
                            <p:childTnLst>
                              <p:par>
                                <p:cTn id="5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buClr>
                <a:srgbClr val="ccff99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ccff99"/>
                </a:solidFill>
                <a:latin typeface="Arial"/>
              </a:rPr>
              <a:t>CONCLUSIONES</a:t>
            </a:r>
            <a:endParaRPr b="0" lang="en-US" sz="3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749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uidado en la investigación requiere del trabajo debido, objetivo y reservado de las autoridades encargadas de la persecución pe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1749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 garantizar los derechos que asisten al justiciable, a la víctima y también se debe respetar el debido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 de la present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337760"/>
            <a:ext cx="8353440" cy="266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ccff99"/>
                </a:solidFill>
                <a:latin typeface="Arial"/>
              </a:rPr>
              <a:t>LA INVESTIGACIÓN PRELIMINAR EN EL NUEVO PROCESO PENAL</a:t>
            </a:r>
            <a:endParaRPr b="0" lang="en-US" sz="5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771640" y="4941720"/>
            <a:ext cx="626436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r. Pablo Sánchez Velar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Profesor de Derecho Procesal Penal UNM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Fiscal S</a:t>
            </a:r>
            <a:r>
              <a:rPr b="0" i="1" lang="es-PE" sz="16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PE" sz="1600" spc="-1" strike="noStrike">
                <a:solidFill>
                  <a:srgbClr val="ffffff"/>
                </a:solidFill>
                <a:latin typeface="Tahoma"/>
              </a:rPr>
              <a:t>remo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Titu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11280" y="333360"/>
            <a:ext cx="6264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uido Andrey Ojeda Tor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n aporte a los estudiantes de Derecho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99736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1117440" indent="-1117440">
              <a:buClr>
                <a:srgbClr val="cc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0" indent="-712800">
              <a:buClr>
                <a:srgbClr val="ccff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L NUEVO PROCESO PENAL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roceso Penal de corte acusatorio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predomin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roceso Penal en cinco etap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vestigación Prelimin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vestigación Prepar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tapa Inter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tapa de Juzg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tapa de Ejec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ol Investigador del Ministeri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50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0880" y="277560"/>
            <a:ext cx="885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0" indent="-71280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49976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225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Inicio de la Investig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1049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Oficio, por noticia crimin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1049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Instancia de la parte denunci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1225"/>
              </a:spcBef>
              <a:spcAft>
                <a:spcPts val="700"/>
              </a:spcAft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in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1049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ción de actos urgentes para verificar si han tenido lugar los hechos denunci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1049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egurar los elementos probatorios de su comi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1049"/>
              </a:spcBef>
              <a:spcAft>
                <a:spcPts val="60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vidualizar a las personas involucradas, imputados y agravi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2800" indent="-71280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r las pericias perti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tar de impedir las consecuencias ul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egurar la presencia de las personas investigadas, si fuera el ca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876"/>
              </a:spcBef>
              <a:spcAft>
                <a:spcPts val="876"/>
              </a:spcAft>
              <a:buClr>
                <a:srgbClr val="ddd800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Pla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lazo ordinario es de 20 dí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casos complejos: el Fiscal fija el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caso de persona detenida el plazo es de 24 ho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160" y="2775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0640" indent="-62064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5000"/>
              </a:lnSpc>
              <a:spcBef>
                <a:spcPts val="1400"/>
              </a:spcBef>
              <a:spcAft>
                <a:spcPts val="1049"/>
              </a:spcAft>
              <a:buClr>
                <a:srgbClr val="ddd800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Investigación a cargo del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 inicio a la investigación directa, por su despa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pone la realización de las diligencias que considere necesarias, con apoyo policial, si fuere el ca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5000"/>
              </a:lnSpc>
              <a:spcBef>
                <a:spcPts val="1001"/>
              </a:spcBef>
              <a:spcAft>
                <a:spcPts val="751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ibe declaraci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5000"/>
              </a:lnSpc>
              <a:spcBef>
                <a:spcPts val="1001"/>
              </a:spcBef>
              <a:spcAft>
                <a:spcPts val="751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ide informes a entidades públicas y priv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5000"/>
              </a:lnSpc>
              <a:spcBef>
                <a:spcPts val="1001"/>
              </a:spcBef>
              <a:spcAft>
                <a:spcPts val="751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pone la practica de peri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4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0640" indent="-62064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92160" indent="-45720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áctica de reconocimiento de lug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92160" indent="-45720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pone el aseguramiento de las prueb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92160" indent="-45720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rganiza o coordina operativos con la polic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92160" indent="-45720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icita al juez penal medidas coercitivas preven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92160" indent="-45720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tras, según caso a investig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255680" indent="-533520">
              <a:lnSpc>
                <a:spcPct val="11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SzPct val="65000"/>
              <a:buFont typeface="Tahoma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término de la investigación decide el paso a la Investigación Preparatori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876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0640" indent="-620640">
              <a:buClr>
                <a:srgbClr val="ccff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99"/>
                </a:solidFill>
                <a:latin typeface="Arial"/>
              </a:rPr>
              <a:t>CARACTERÍSTICAS GENERALES DE LA INVESTIGACIÓN PRELIMINAR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876"/>
              </a:spcBef>
              <a:spcAft>
                <a:spcPts val="876"/>
              </a:spcAft>
              <a:buClr>
                <a:srgbClr val="ddd8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Investigación a cargo de la Policía, bajo control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17880" indent="-5173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SzPct val="6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ones de Investig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ibe las denuncias escritas y verb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stodia y vigila la escena del crim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actica el registro de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sta auxilio a la víct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oge y conserva los objetos vinculados al deli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erifica la identidad física de los autores y partícip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835280" indent="-443160">
              <a:spcBef>
                <a:spcPts val="624"/>
              </a:spcBef>
              <a:spcAft>
                <a:spcPts val="624"/>
              </a:spcAft>
              <a:buClr>
                <a:srgbClr val="ccff99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cibe la declaración de los testig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58:07Z</dcterms:created>
  <dc:creator>MINISTERIO PUBLICO</dc:creator>
  <dc:description/>
  <dc:language>en-US</dc:language>
  <cp:lastModifiedBy>fernandap</cp:lastModifiedBy>
  <dcterms:modified xsi:type="dcterms:W3CDTF">2009-01-15T18:25:35Z</dcterms:modified>
  <cp:revision>24</cp:revision>
  <dc:subject/>
  <dc:title>LA INVESTIGACIÓN PRELIMINAR EN EL NUEVO PROCESO PENAL</dc:title>
</cp:coreProperties>
</file>