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applause.wav" ContentType="audio/x-wav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A2A5-5C85-4D57-A028-8830C1FD8B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1B92-6530-4E4F-BEC9-B7D69197D999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B9BF-0FFF-45A7-90DF-D09443AE2C45}" type="slidenum">
              <a:rPr b="0" lang="es-ES_trad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EEE-D5B5-491B-AFA2-2B0C4D8A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2FE-2824-40E7-847C-3CCB4EDF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AFD-795C-46F0-A68E-D4143D81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2D0-478D-4971-91EA-A6AFEBE0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E785-0AC9-484D-A61D-B054D16C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A123-6C0C-48E2-A523-0086E332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B261-3492-4BA3-8669-CA77B869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745E-E107-4EF9-9A7A-2FDBD2FD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6FF9-987C-4F49-AC1F-82ABB363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EF69-3E12-457E-9839-CE59F9BF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9F76-6107-4B62-80EB-FECB0576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1DF-5480-4227-9971-E8FE1F39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7045-153C-46A2-BA28-1DA6BC49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1E6B-08D6-440A-88A2-F780C4BA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2E19-1157-42CF-AD7D-835DEE1F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2EA2-87D7-41BB-972C-2F57E9EF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7417-5BB4-4D49-A109-B81490A2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E2D7-8C47-454B-BC14-87CC6F3E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1EF-E7DF-404E-858B-BEEE3B39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C37-9240-4B5E-9F9B-220598E9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305-7196-4669-9955-5C34F6AC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E986-6D88-4496-8840-2D575BD6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0EAD-A0F4-4EB7-82F8-C8E0DE30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FD9-5FFC-42AA-BC2B-67159F75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ECDB-4A3D-4B39-A360-AA569C75779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62A2-2DC2-498D-8365-31BB13A7C0A3}" type="slidenum">
              <a:rPr b="0" lang="es-ES_trad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google.com.mx/imgres?imgurl=http://www.saboreandoelmundo.com.ar/wp-content/uploads/2009/05/ratonpontevedra.jpg&amp;imgrefurl=http://www.saboreandoelmundo.com.ar/%3Fcat%3D18&amp;usg=__3fVBUnuGgkVclyYB_KDAoC-krok=&amp;h=315&amp;w=600&amp;sz=78&amp;hl=es&amp;start=31&amp;zoom=1&amp;tbnid=WWgGZgB8SHEWAM:&amp;tbnh=71&amp;tbnw=135&amp;prev=/images%3Fq%3Danimales%2Bmuertos%26start%3D20%26um%3D1%26hl%3Des%26sa%3DN%26tbs%3Disch:1&amp;um=1&amp;itbs=1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mx/imgres?imgurl=http://1.bp.blogspot.com/_EdiSPJX1jg8/SXH7wNcVeuI/AAAAAAAABYc/ccanyFXE4Cw/s400/zigomiceto.jpg&amp;imgrefurl=http://benitobios.blogspot.com/2009_01_11_archive.html&amp;usg=__45viev5VdXsbwnDMoX7XcglD5Cg=&amp;h=300&amp;w=400&amp;sz=57&amp;hl=es&amp;start=26&amp;zoom=1&amp;tbnid=RB0Wz16jUn1fDM:&amp;tbnh=93&amp;tbnw=124&amp;prev=/images%3Fq%3Dhongos%2Bmicroscopicos%26start%3D20%26hl%3Des%26sa%3DN%26tbs%3Disch:1&amp;itbs=1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oogle.com.mx/imgres?imgurl=http://www.monografias.com/trabajos65/obtencion-levadura/obtencion-levadura_image001.jpg&amp;imgrefurl=http://www.monografias.com/trabajos65/obtencion-levadura/obtencion-levadura.shtml&amp;usg=__lmHJfE2eK3ERIwBhao2b3IxWgbs=&amp;h=194&amp;w=238&amp;sz=9&amp;hl=es&amp;start=5&amp;zoom=1&amp;tbnid=l21ym5VX1U6k7M:&amp;tbnh=89&amp;tbnw=109&amp;prev=/images%3Fq%3Dhongos%2Bmicroscopicos%26hl%3Des%26sa%3DX%26tbs%3Disch:1&amp;itbs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mx/imgres?imgurl=http://tolweb.org/tree/ToLimages/Rhizopus_mycelium.jpg&amp;imgrefurl=http://www.phpwebquest.org/wq25/webquest/soporte_derecha_w.php%3Fid_actividad%3D47506%26id_pagina%3D1&amp;usg=__1zYLWnVpKTWsAH2utTq8jWJ_zIE=&amp;h=250&amp;w=375&amp;sz=42&amp;hl=es&amp;start=8&amp;zoom=1&amp;tbnid=OfDDMFWLJqyI5M:&amp;tbnh=81&amp;tbnw=122&amp;prev=/images%3Fq%3Dhongos%2Bparasitos%26um%3D1%26hl%3Des%26tbs%3Disch:1&amp;um=1&amp;itbs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google.com.mx/imgres?imgurl=http://www.banrepcultural.org/blaavirtual/faunayflora/fen/imagenes/hongos/fmycena.jpg&amp;imgrefurl=http://www.banrepcultural.org/blaavirtual/faunayflora/fen/texto/hongos/hongos10.htm&amp;usg=__8lIiEZaCc6w3J5PxwVOMFJ9kgvk=&amp;h=655&amp;w=425&amp;sz=56&amp;hl=es&amp;start=1&amp;zoom=1&amp;tbnid=yC7vqhAQ45HVBM:&amp;tbnh=138&amp;tbnw=90&amp;prev=/images%3Fq%3Dhongos%2Bsaprofitos%26um%3D1%26hl%3Des%26tbs%3Disch:1&amp;um=1&amp;itbs=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.mx/imgres?imgurl=http://galeon.hispavista.com/hongos3/img/hongo%25204.jpg&amp;imgrefurl=http://hongos3.galeon.com/&amp;usg=__bbE7f3Koc9o4RnDbaOF9aqY4nUc=&amp;h=500&amp;w=464&amp;sz=23&amp;hl=es&amp;start=5&amp;zoom=1&amp;tbnid=scQwDwTpPrO6kM:&amp;tbnh=130&amp;tbnw=121&amp;prev=/images%3Fq%3Dhongos%2Bzygomycetes%26um%3D1%26hl%3Des%26tbs%3Disch:1&amp;um=1&amp;itbs=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google.com.mx/imgres?imgurl=http://www.plantasnet.com/images/plantas/l/levadura_cerveza/levadura_cerveza.jpg&amp;imgrefurl=http://www.plantasnet.com/l/levadura_cerveza/levadura_cerveza.htm&amp;usg=__nPV_8KlDDXZkT0vJWnDfUmEHlrQ=&amp;h=308&amp;w=335&amp;sz=12&amp;hl=es&amp;start=6&amp;zoom=1&amp;tbnid=NSiPBWp7hoRX0M:&amp;tbnh=109&amp;tbnw=119&amp;prev=/images%3Fq%3Dlevadura%2Bde%2Bcerveza%26um%3D1%26hl%3Des%26tbs%3Disch:1&amp;um=1&amp;itbs=1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google.com.mx/imgres?imgurl=http://www.planetamario.com/wp-content/uploads/2010/03/Champi&#241;on-verde.jpg&amp;imgrefurl=http://www.planetamario.com/pagina/2911&amp;usg=__9jDwRuN6qWl5DBvbXD-fGsvt4oI=&amp;h=1024&amp;w=1280&amp;sz=286&amp;hl=es&amp;start=19&amp;zoom=1&amp;tbnid=TPVKPei6b8CAsM:&amp;tbnh=120&amp;tbnw=150&amp;prev=/images%3Fq%3Dchampi%25C3%25B1on%26um%3D1%26hl%3Des%26tbs%3Disch:1&amp;um=1&amp;itbs=1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google.com.mx/imgres?imgurl=http://www.viarural.com.ar/viarural.com.ar/agricultura/aa-enfermedades/penicillium-italicum-01.jpg&amp;imgrefurl=http://www.viarural.com.ar/viarural.com.ar/agricultura/aa-enfermedades/penicillium-italicum-01.htm&amp;usg=__6lB830AmefyO23skGxn1aIeLdUM=&amp;h=217&amp;w=250&amp;sz=10&amp;hl=es&amp;start=39&amp;zoom=1&amp;tbnid=SLVCO0oKUEERxM:&amp;tbnh=96&amp;tbnw=111&amp;prev=/images%3Fq%3Dpenicillium%26start%3D20%26um%3D1%26hl%3Des%26sa%3DN%26tbs%3Disch:1&amp;um=1&amp;itbs=1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google.com.mx/imgres?imgurl=http://www.scielo.org.ve/img/fbpe/ic/v42n3/PP%2520candidiasis%2520pseudomembranosa%2520aguda%25201.jpg&amp;imgrefurl=http://www.scielo.org.ve/img/fbpe/ic/v42n3/&amp;usg=__KUcu1gi2JVm4EPL_LIPUNNQdmbo=&amp;h=886&amp;w=591&amp;sz=187&amp;hl=es&amp;start=3&amp;zoom=1&amp;tbnid=MF4NDPDavrxyNM:&amp;tbnh=146&amp;tbnw=97&amp;prev=/images%3Fq%3Dcandidiasis%26um%3D1%26hl%3Des%26tbs%3Disch:1&amp;um=1&amp;itbs=1" TargetMode="External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424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Reino fung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00120" y="4429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Au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Juan Raygo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abra78@hotmail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714840" y="714240"/>
            <a:ext cx="16477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empeñan un papel vital como descomponedores de todos los ecosistemas terrestres, degradando restos vegetales y animales detal modo que sus constituyentes pueden ser recicl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ratonpontevedr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4076640"/>
            <a:ext cx="3889440" cy="2232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9" name="Picture 7" descr="chupacabra"/>
          <p:cNvPicPr/>
          <p:nvPr/>
        </p:nvPicPr>
        <p:blipFill>
          <a:blip r:embed="rId4"/>
          <a:stretch/>
        </p:blipFill>
        <p:spPr>
          <a:xfrm>
            <a:off x="5364000" y="4076640"/>
            <a:ext cx="3240360" cy="2220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0" name="WordArt 8"/>
          <p:cNvSpPr txBox="1"/>
          <p:nvPr/>
        </p:nvSpPr>
        <p:spPr>
          <a:xfrm rot="467400">
            <a:off x="1328400" y="231840"/>
            <a:ext cx="619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45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mportancia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45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380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38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5800"/>
                            </p:stCondLst>
                            <p:childTnLst>
                              <p:par>
                                <p:cTn id="206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rman asociaciones intimas con las raíces de las plantas ayudando a la absorción de nutrientes a cambio recibe azucares conocido como micorriza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Ver imagen en tamaño completo"/>
          <p:cNvPicPr/>
          <p:nvPr/>
        </p:nvPicPr>
        <p:blipFill>
          <a:blip r:embed="rId1"/>
          <a:stretch/>
        </p:blipFill>
        <p:spPr>
          <a:xfrm>
            <a:off x="2916360" y="3833640"/>
            <a:ext cx="3024000" cy="2691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WordArt 6"/>
          <p:cNvSpPr txBox="1"/>
          <p:nvPr/>
        </p:nvSpPr>
        <p:spPr>
          <a:xfrm>
            <a:off x="1042920" y="692280"/>
            <a:ext cx="73454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biosis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220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650"/>
                            </p:stCondLst>
                            <p:childTnLst>
                              <p:par>
                                <p:cTn id="22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22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ociación mutalisticas con alga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Ver imagen en tamaño completo"/>
          <p:cNvPicPr/>
          <p:nvPr/>
        </p:nvPicPr>
        <p:blipFill>
          <a:blip r:embed="rId2"/>
          <a:stretch/>
        </p:blipFill>
        <p:spPr>
          <a:xfrm>
            <a:off x="3327480" y="2349360"/>
            <a:ext cx="2717640" cy="410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WordArt 6"/>
          <p:cNvSpPr txBox="1"/>
          <p:nvPr/>
        </p:nvSpPr>
        <p:spPr>
          <a:xfrm rot="21114000">
            <a:off x="2273040" y="635040"/>
            <a:ext cx="511164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666000"/>
                </a:gradFill>
                <a:latin typeface="Impact"/>
              </a:rPr>
              <a:t>Líquen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666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6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alizado por: Alumnos Bis 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e Centro Med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rales Ramírez Elisa Guadalup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ega Gómez Is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o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429000" y="1214280"/>
            <a:ext cx="2471760" cy="1143000"/>
          </a:xfrm>
          <a:prstGeom prst="rect">
            <a:avLst/>
          </a:prstGeom>
          <a:ln w="0">
            <a:noFill/>
          </a:ln>
        </p:spPr>
      </p:pic>
      <p:sp>
        <p:nvSpPr>
          <p:cNvPr id="130" name="6 CuadroTexto"/>
          <p:cNvSpPr/>
          <p:nvPr/>
        </p:nvSpPr>
        <p:spPr>
          <a:xfrm>
            <a:off x="2071800" y="478620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n de la presen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zigomice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836640"/>
            <a:ext cx="6048360" cy="453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WordArt 6"/>
          <p:cNvSpPr txBox="1"/>
          <p:nvPr/>
        </p:nvSpPr>
        <p:spPr>
          <a:xfrm>
            <a:off x="1476360" y="5516640"/>
            <a:ext cx="575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INO FUNG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  <p:sndAc>
      <p:stSnd>
        <p:snd r:embed="rId3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organismos eucario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celulares y pluricel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heterótrof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Phalloid"/>
          <p:cNvPicPr/>
          <p:nvPr/>
        </p:nvPicPr>
        <p:blipFill>
          <a:blip r:embed="rId1"/>
          <a:stretch/>
        </p:blipFill>
        <p:spPr>
          <a:xfrm>
            <a:off x="3033720" y="549360"/>
            <a:ext cx="1382760" cy="1871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obtencion-levadura_image0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4276800"/>
            <a:ext cx="2664000" cy="2174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38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Rhizopus_mycel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1546200"/>
            <a:ext cx="6048360" cy="4765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9" name="WordArt 6"/>
          <p:cNvSpPr txBox="1"/>
          <p:nvPr/>
        </p:nvSpPr>
        <p:spPr>
          <a:xfrm>
            <a:off x="2340000" y="620640"/>
            <a:ext cx="532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rasito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alimenta de materia orgánica en descompos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fmycen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2708280"/>
            <a:ext cx="3313080" cy="3816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2" name="WordArt 6"/>
          <p:cNvSpPr txBox="1"/>
          <p:nvPr/>
        </p:nvSpPr>
        <p:spPr>
          <a:xfrm>
            <a:off x="1619280" y="549360"/>
            <a:ext cx="6624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APROFIT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hongo%252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25600" y="1268280"/>
            <a:ext cx="4627800" cy="4969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Arial"/>
              </a:rPr>
              <a:t>Zygomyc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7c80"/>
                </a:solidFill>
                <a:latin typeface="Arial"/>
              </a:rPr>
              <a:t>Presentan reproducción sexual y asexual esto ultimo se caracteriza por la formación de zigosporas de gruesas pare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6"/>
          <p:cNvSpPr txBox="1"/>
          <p:nvPr/>
        </p:nvSpPr>
        <p:spPr>
          <a:xfrm>
            <a:off x="395280" y="189000"/>
            <a:ext cx="676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LASIFICACION SEGÚN SU FILU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xit" presetID="21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wheel(3)" transition="out">
                                      <p:cBhvr additive="repl">
                                        <p:cTn id="9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Arial"/>
              </a:rPr>
              <a:t>Ifas separ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Arial"/>
              </a:rPr>
              <a:t>Reproducción sexual y asex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Arial"/>
              </a:rPr>
              <a:t>Ejemplo. Saccharomyces cerevisiae (levadura de cervez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levadura_cervez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27280" y="4005360"/>
            <a:ext cx="3168720" cy="2387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8" name="WordArt 6"/>
          <p:cNvSpPr txBox="1"/>
          <p:nvPr/>
        </p:nvSpPr>
        <p:spPr>
          <a:xfrm>
            <a:off x="1042920" y="476280"/>
            <a:ext cx="69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ilum Ascomycota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cc33"/>
                </a:solidFill>
                <a:latin typeface="Arial"/>
              </a:rPr>
              <a:t>Se reproducen sexualmente mediante espo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cc33"/>
                </a:solidFill>
                <a:latin typeface="Arial"/>
              </a:rPr>
              <a:t>Las setas comestibles y los hongos venenosos son ejemplo de 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cc33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33cc33"/>
                </a:solidFill>
                <a:latin typeface="Arial"/>
              </a:rPr>
              <a:t>El Champiñ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hampi%25C3%25B1on-verd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7280" y="3789360"/>
            <a:ext cx="3241440" cy="2903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1" name="WordArt 6"/>
          <p:cNvSpPr txBox="1"/>
          <p:nvPr/>
        </p:nvSpPr>
        <p:spPr>
          <a:xfrm>
            <a:off x="1042920" y="692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ilum Basidiomycot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0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4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ongos imperfec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desconoce su tipo de reproducción sexu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re las levaduras imperfectas se encuentran la cand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hos comunes como el penicil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penicillium-italicum-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4797360"/>
            <a:ext cx="1513080" cy="151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14" name="Picture 8" descr="PP%2520candidiasis%2520pseudomembranosa%2520aguda%252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27280" y="3068640"/>
            <a:ext cx="1014480" cy="1297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5" name="WordArt 9"/>
          <p:cNvSpPr txBox="1"/>
          <p:nvPr/>
        </p:nvSpPr>
        <p:spPr>
          <a:xfrm>
            <a:off x="684360" y="260280"/>
            <a:ext cx="799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ilum Deuteromycot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8850"/>
                            </p:stCondLst>
                            <p:childTnLst>
                              <p:par>
                                <p:cTn id="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985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177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02:19:14Z</dcterms:created>
  <dc:creator>Alumno</dc:creator>
  <dc:description/>
  <dc:language>en-US</dc:language>
  <cp:lastModifiedBy>Fernanda P</cp:lastModifiedBy>
  <dcterms:modified xsi:type="dcterms:W3CDTF">2011-01-25T13:09:54Z</dcterms:modified>
  <cp:revision>5</cp:revision>
  <dc:subject/>
  <dc:title>Diapositiva 1</dc:title>
</cp:coreProperties>
</file>