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89080" y="10666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89080" y="3807360"/>
            <a:ext cx="853416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2000" y="175212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908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2000" y="3807360"/>
            <a:ext cx="41644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748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60240" y="175212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8908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748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60240" y="3807360"/>
            <a:ext cx="274788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797200" y="1600200"/>
            <a:ext cx="3581280" cy="328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Logo FCE"/>
          <p:cNvPicPr/>
          <p:nvPr/>
        </p:nvPicPr>
        <p:blipFill>
          <a:blip r:embed="rId4"/>
          <a:stretch/>
        </p:blipFill>
        <p:spPr>
          <a:xfrm>
            <a:off x="8389800" y="0"/>
            <a:ext cx="7542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Line 9"/>
          <p:cNvSpPr/>
          <p:nvPr/>
        </p:nvSpPr>
        <p:spPr>
          <a:xfrm>
            <a:off x="87480" y="990720"/>
            <a:ext cx="89154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0"/>
          <p:cNvSpPr/>
          <p:nvPr/>
        </p:nvSpPr>
        <p:spPr>
          <a:xfrm>
            <a:off x="106200" y="6172200"/>
            <a:ext cx="89154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5715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Página </a:t>
            </a:r>
            <a:fld id="{288C4D29-470F-40B5-9A3D-7BAB6DF1E53E}" type="slidenum">
              <a:rPr b="0" lang="es-MX" sz="10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24/04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Text Box 17"/>
          <p:cNvSpPr/>
          <p:nvPr/>
        </p:nvSpPr>
        <p:spPr>
          <a:xfrm>
            <a:off x="295560" y="19224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elecomunicaciones y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0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1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2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797200" y="1600200"/>
            <a:ext cx="3581280" cy="3289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29" descr="Logo FCE"/>
          <p:cNvPicPr/>
          <p:nvPr/>
        </p:nvPicPr>
        <p:blipFill>
          <a:blip r:embed="rId4"/>
          <a:stretch/>
        </p:blipFill>
        <p:spPr>
          <a:xfrm>
            <a:off x="8389800" y="0"/>
            <a:ext cx="75420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Line 1030"/>
          <p:cNvSpPr/>
          <p:nvPr/>
        </p:nvSpPr>
        <p:spPr>
          <a:xfrm>
            <a:off x="87480" y="990720"/>
            <a:ext cx="89154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31"/>
          <p:cNvSpPr/>
          <p:nvPr/>
        </p:nvSpPr>
        <p:spPr>
          <a:xfrm>
            <a:off x="106200" y="6172200"/>
            <a:ext cx="89154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32"/>
          <p:cNvSpPr/>
          <p:nvPr/>
        </p:nvSpPr>
        <p:spPr>
          <a:xfrm>
            <a:off x="5715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Página </a:t>
            </a:r>
            <a:fld id="{63A94AF7-02C1-463A-91D7-A84151220AAF}" type="slidenum">
              <a:rPr b="0" lang="es-MX" sz="10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24/04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152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3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6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7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8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289080" y="1752120"/>
            <a:ext cx="853416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286000" indent="-457200">
              <a:lnSpc>
                <a:spcPct val="2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2860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9"/>
          </p:nvPr>
        </p:nvSpPr>
        <p:spPr>
          <a:xfrm>
            <a:off x="3049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Materia: 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333cc"/>
                </a:solidFill>
                <a:latin typeface="Arial"/>
              </a:rPr>
              <a:t>Curso: Profesora Ariana Rosent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image" Target="../media/image8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7.wmf"/><Relationship Id="rId13" Type="http://schemas.openxmlformats.org/officeDocument/2006/relationships/image" Target="../media/image5.wmf"/><Relationship Id="rId14" Type="http://schemas.openxmlformats.org/officeDocument/2006/relationships/image" Target="../media/image8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9.wmf"/><Relationship Id="rId18" Type="http://schemas.openxmlformats.org/officeDocument/2006/relationships/image" Target="../media/image4.wmf"/><Relationship Id="rId19" Type="http://schemas.openxmlformats.org/officeDocument/2006/relationships/image" Target="../media/image7.wmf"/><Relationship Id="rId20" Type="http://schemas.openxmlformats.org/officeDocument/2006/relationships/image" Target="../media/image5.wmf"/><Relationship Id="rId21" Type="http://schemas.openxmlformats.org/officeDocument/2006/relationships/image" Target="../media/image8.wmf"/><Relationship Id="rId22" Type="http://schemas.openxmlformats.org/officeDocument/2006/relationships/image" Target="../media/image6.wmf"/><Relationship Id="rId23" Type="http://schemas.openxmlformats.org/officeDocument/2006/relationships/image" Target="../media/image9.wmf"/><Relationship Id="rId24" Type="http://schemas.openxmlformats.org/officeDocument/2006/relationships/image" Target="../media/image6.wmf"/><Relationship Id="rId25" Type="http://schemas.openxmlformats.org/officeDocument/2006/relationships/image" Target="../media/image4.wmf"/><Relationship Id="rId26" Type="http://schemas.openxmlformats.org/officeDocument/2006/relationships/image" Target="../media/image7.wmf"/><Relationship Id="rId27" Type="http://schemas.openxmlformats.org/officeDocument/2006/relationships/image" Target="../media/image5.wmf"/><Relationship Id="rId28" Type="http://schemas.openxmlformats.org/officeDocument/2006/relationships/image" Target="../media/image8.wmf"/><Relationship Id="rId29" Type="http://schemas.openxmlformats.org/officeDocument/2006/relationships/image" Target="../media/image6.wmf"/><Relationship Id="rId30" Type="http://schemas.openxmlformats.org/officeDocument/2006/relationships/image" Target="../media/image4.wmf"/><Relationship Id="rId31" Type="http://schemas.openxmlformats.org/officeDocument/2006/relationships/image" Target="../media/image7.wmf"/><Relationship Id="rId32" Type="http://schemas.openxmlformats.org/officeDocument/2006/relationships/image" Target="../media/image5.wmf"/><Relationship Id="rId33" Type="http://schemas.openxmlformats.org/officeDocument/2006/relationships/image" Target="../media/image8.wmf"/><Relationship Id="rId34" Type="http://schemas.openxmlformats.org/officeDocument/2006/relationships/image" Target="../media/image6.wmf"/><Relationship Id="rId35" Type="http://schemas.openxmlformats.org/officeDocument/2006/relationships/image" Target="../media/image7.wmf"/><Relationship Id="rId36" Type="http://schemas.openxmlformats.org/officeDocument/2006/relationships/image" Target="../media/image9.wmf"/><Relationship Id="rId37" Type="http://schemas.openxmlformats.org/officeDocument/2006/relationships/image" Target="../media/image4.wmf"/><Relationship Id="rId38" Type="http://schemas.openxmlformats.org/officeDocument/2006/relationships/image" Target="../media/image7.wmf"/><Relationship Id="rId39" Type="http://schemas.openxmlformats.org/officeDocument/2006/relationships/image" Target="../media/image5.wmf"/><Relationship Id="rId40" Type="http://schemas.openxmlformats.org/officeDocument/2006/relationships/image" Target="../media/image8.wmf"/><Relationship Id="rId41" Type="http://schemas.openxmlformats.org/officeDocument/2006/relationships/image" Target="../media/image6.wmf"/><Relationship Id="rId42" Type="http://schemas.openxmlformats.org/officeDocument/2006/relationships/image" Target="../media/image9.wmf"/><Relationship Id="rId43" Type="http://schemas.openxmlformats.org/officeDocument/2006/relationships/image" Target="../media/image6.wmf"/><Relationship Id="rId44" Type="http://schemas.openxmlformats.org/officeDocument/2006/relationships/image" Target="../media/image10.wmf"/><Relationship Id="rId45" Type="http://schemas.openxmlformats.org/officeDocument/2006/relationships/image" Target="../media/image11.wmf"/><Relationship Id="rId4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9652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800" spc="-1" strike="noStrike">
                <a:solidFill>
                  <a:srgbClr val="3333cc"/>
                </a:solidFill>
                <a:latin typeface="Arial"/>
              </a:rPr>
              <a:t>Telecomunicaciones y </a:t>
            </a:r>
            <a:br>
              <a:rPr sz="4800"/>
            </a:br>
            <a:r>
              <a:rPr b="0" lang="es-MX" sz="4800" spc="-1" strike="noStrike">
                <a:solidFill>
                  <a:srgbClr val="3333cc"/>
                </a:solidFill>
                <a:latin typeface="Arial"/>
              </a:rPr>
              <a:t>Redes</a:t>
            </a:r>
            <a:br>
              <a:rPr sz="4800"/>
            </a:b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lasificación de Redes – Por su Form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289080" y="1219320"/>
            <a:ext cx="1539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25"/>
          <p:cNvGrpSpPr/>
          <p:nvPr/>
        </p:nvGrpSpPr>
        <p:grpSpPr>
          <a:xfrm>
            <a:off x="761400" y="2209680"/>
            <a:ext cx="7772400" cy="2743200"/>
            <a:chOff x="761400" y="2209680"/>
            <a:chExt cx="7772400" cy="2743200"/>
          </a:xfrm>
        </p:grpSpPr>
        <p:pic>
          <p:nvPicPr>
            <p:cNvPr id="510" name="Picture 6" descr="j0239159"/>
            <p:cNvPicPr/>
            <p:nvPr/>
          </p:nvPicPr>
          <p:blipFill>
            <a:blip r:embed="rId1"/>
            <a:stretch/>
          </p:blipFill>
          <p:spPr>
            <a:xfrm>
              <a:off x="1117440" y="2465280"/>
              <a:ext cx="911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7" descr="j0238675"/>
            <p:cNvPicPr/>
            <p:nvPr/>
          </p:nvPicPr>
          <p:blipFill>
            <a:blip r:embed="rId2"/>
            <a:stretch/>
          </p:blipFill>
          <p:spPr>
            <a:xfrm>
              <a:off x="2489040" y="2465280"/>
              <a:ext cx="100836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8" descr="j0350584"/>
            <p:cNvPicPr/>
            <p:nvPr/>
          </p:nvPicPr>
          <p:blipFill>
            <a:blip r:embed="rId3"/>
            <a:stretch/>
          </p:blipFill>
          <p:spPr>
            <a:xfrm>
              <a:off x="5562720" y="3809880"/>
              <a:ext cx="121896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9" descr="j0290140"/>
            <p:cNvPicPr/>
            <p:nvPr/>
          </p:nvPicPr>
          <p:blipFill>
            <a:blip r:embed="rId4"/>
            <a:stretch/>
          </p:blipFill>
          <p:spPr>
            <a:xfrm>
              <a:off x="5970600" y="2209680"/>
              <a:ext cx="9637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0" descr="j0239159"/>
            <p:cNvPicPr/>
            <p:nvPr/>
          </p:nvPicPr>
          <p:blipFill>
            <a:blip r:embed="rId5"/>
            <a:stretch/>
          </p:blipFill>
          <p:spPr>
            <a:xfrm>
              <a:off x="3860640" y="2514600"/>
              <a:ext cx="911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j0238675"/>
            <p:cNvPicPr/>
            <p:nvPr/>
          </p:nvPicPr>
          <p:blipFill>
            <a:blip r:embed="rId6"/>
            <a:stretch/>
          </p:blipFill>
          <p:spPr>
            <a:xfrm>
              <a:off x="914400" y="3809880"/>
              <a:ext cx="100800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2" descr="j0290140"/>
            <p:cNvPicPr/>
            <p:nvPr/>
          </p:nvPicPr>
          <p:blipFill>
            <a:blip r:embed="rId7"/>
            <a:stretch/>
          </p:blipFill>
          <p:spPr>
            <a:xfrm>
              <a:off x="7391520" y="3809880"/>
              <a:ext cx="9633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13" descr="j0350584"/>
            <p:cNvPicPr/>
            <p:nvPr/>
          </p:nvPicPr>
          <p:blipFill>
            <a:blip r:embed="rId8"/>
            <a:stretch/>
          </p:blipFill>
          <p:spPr>
            <a:xfrm>
              <a:off x="2438280" y="3809880"/>
              <a:ext cx="121932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4" descr="j0239159"/>
            <p:cNvPicPr/>
            <p:nvPr/>
          </p:nvPicPr>
          <p:blipFill>
            <a:blip r:embed="rId9"/>
            <a:stretch/>
          </p:blipFill>
          <p:spPr>
            <a:xfrm>
              <a:off x="4041720" y="3809880"/>
              <a:ext cx="911160" cy="74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19" name="AutoShape 15"/>
            <p:cNvCxnSpPr>
              <a:stCxn id="510" idx="2"/>
              <a:endCxn id="513" idx="2"/>
            </p:cNvCxnSpPr>
            <p:nvPr/>
          </p:nvCxnSpPr>
          <p:spPr>
            <a:xfrm flipH="1" rot="16200000">
              <a:off x="3943440" y="842400"/>
              <a:ext cx="140400" cy="4880880"/>
            </a:xfrm>
            <a:prstGeom prst="bentConnector3">
              <a:avLst>
                <a:gd name="adj1" fmla="val 263496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0" name="AutoShape 16"/>
            <p:cNvCxnSpPr>
              <a:stCxn id="511" idx="2"/>
              <a:endCxn id="513" idx="2"/>
            </p:cNvCxnSpPr>
            <p:nvPr/>
          </p:nvCxnSpPr>
          <p:spPr>
            <a:xfrm flipH="1" rot="16200000">
              <a:off x="4637160" y="1537200"/>
              <a:ext cx="172080" cy="3459960"/>
            </a:xfrm>
            <a:prstGeom prst="bentConnector3">
              <a:avLst>
                <a:gd name="adj1" fmla="val 233333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1" name="AutoShape 17"/>
            <p:cNvCxnSpPr>
              <a:stCxn id="514" idx="2"/>
              <a:endCxn id="513" idx="2"/>
            </p:cNvCxnSpPr>
            <p:nvPr/>
          </p:nvCxnSpPr>
          <p:spPr>
            <a:xfrm flipH="1" rot="16200000">
              <a:off x="5339520" y="2238480"/>
              <a:ext cx="91080" cy="2137680"/>
            </a:xfrm>
            <a:prstGeom prst="bentConnector3">
              <a:avLst>
                <a:gd name="adj1" fmla="val 352380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2" name="AutoShape 18"/>
            <p:cNvCxnSpPr>
              <a:stCxn id="515" idx="0"/>
              <a:endCxn id="516" idx="0"/>
            </p:cNvCxnSpPr>
            <p:nvPr/>
          </p:nvCxnSpPr>
          <p:spPr>
            <a:xfrm flipH="1" rot="16200000">
              <a:off x="4645440" y="582120"/>
              <a:ext cx="2520" cy="6455520"/>
            </a:xfrm>
            <a:prstGeom prst="bentConnector3">
              <a:avLst>
                <a:gd name="adj1" fmla="val -14400000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3" name="AutoShape 19"/>
            <p:cNvCxnSpPr>
              <a:stCxn id="517" idx="0"/>
              <a:endCxn id="516" idx="0"/>
            </p:cNvCxnSpPr>
            <p:nvPr/>
          </p:nvCxnSpPr>
          <p:spPr>
            <a:xfrm flipH="1" rot="16200000">
              <a:off x="5459760" y="1396800"/>
              <a:ext cx="2520" cy="4826520"/>
            </a:xfrm>
            <a:prstGeom prst="bentConnector3">
              <a:avLst>
                <a:gd name="adj1" fmla="val -14400000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4" name="AutoShape 20"/>
            <p:cNvCxnSpPr>
              <a:stCxn id="518" idx="0"/>
              <a:endCxn id="516" idx="0"/>
            </p:cNvCxnSpPr>
            <p:nvPr/>
          </p:nvCxnSpPr>
          <p:spPr>
            <a:xfrm flipH="1" rot="16200000">
              <a:off x="6184440" y="2121480"/>
              <a:ext cx="2520" cy="3377160"/>
            </a:xfrm>
            <a:prstGeom prst="bentConnector3">
              <a:avLst>
                <a:gd name="adj1" fmla="val -14400000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5" name="AutoShape 21"/>
            <p:cNvCxnSpPr>
              <a:stCxn id="512" idx="0"/>
              <a:endCxn id="516" idx="0"/>
            </p:cNvCxnSpPr>
            <p:nvPr/>
          </p:nvCxnSpPr>
          <p:spPr>
            <a:xfrm flipH="1" rot="16200000">
              <a:off x="7021800" y="2958840"/>
              <a:ext cx="2520" cy="1702440"/>
            </a:xfrm>
            <a:prstGeom prst="bentConnector3">
              <a:avLst>
                <a:gd name="adj1" fmla="val -14400000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6" name="AutoShape 22"/>
            <p:cNvCxnSpPr>
              <a:stCxn id="514" idx="2"/>
            </p:cNvCxnSpPr>
            <p:nvPr/>
          </p:nvCxnSpPr>
          <p:spPr>
            <a:xfrm rot="5400000">
              <a:off x="2378880" y="1644480"/>
              <a:ext cx="319680" cy="355500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27" name="AutoShape 23"/>
            <p:cNvCxnSpPr>
              <a:stCxn id="513" idx="2"/>
            </p:cNvCxnSpPr>
            <p:nvPr/>
          </p:nvCxnSpPr>
          <p:spPr>
            <a:xfrm flipH="1" rot="16200000">
              <a:off x="7378560" y="2426040"/>
              <a:ext cx="229320" cy="208188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</p:grpSp>
      <p:sp>
        <p:nvSpPr>
          <p:cNvPr id="528" name="Rectangle 48"/>
          <p:cNvSpPr/>
          <p:nvPr/>
        </p:nvSpPr>
        <p:spPr>
          <a:xfrm>
            <a:off x="179280" y="5445000"/>
            <a:ext cx="856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Desventaja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lisiones.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Utilización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Rede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lasificación de Redes – Por su Form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289080" y="1219320"/>
            <a:ext cx="1539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An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18"/>
          <p:cNvCxnSpPr>
            <a:stCxn id="532" idx="2"/>
            <a:endCxn id="533" idx="3"/>
          </p:cNvCxnSpPr>
          <p:nvPr/>
        </p:nvCxnSpPr>
        <p:spPr>
          <a:xfrm flipV="1" rot="10800000">
            <a:off x="1572480" y="3415320"/>
            <a:ext cx="1446840" cy="430920"/>
          </a:xfrm>
          <a:prstGeom prst="bentConnector3">
            <a:avLst>
              <a:gd name="adj1" fmla="val 48954"/>
            </a:avLst>
          </a:prstGeom>
          <a:ln w="57240">
            <a:solidFill>
              <a:srgbClr val="3333cc"/>
            </a:solidFill>
            <a:miter/>
          </a:ln>
        </p:spPr>
      </p:cxnSp>
      <p:grpSp>
        <p:nvGrpSpPr>
          <p:cNvPr id="534" name="Group 26"/>
          <p:cNvGrpSpPr/>
          <p:nvPr/>
        </p:nvGrpSpPr>
        <p:grpSpPr>
          <a:xfrm>
            <a:off x="609480" y="1600200"/>
            <a:ext cx="7772400" cy="3557160"/>
            <a:chOff x="609480" y="1600200"/>
            <a:chExt cx="7772400" cy="3557160"/>
          </a:xfrm>
        </p:grpSpPr>
        <p:sp>
          <p:nvSpPr>
            <p:cNvPr id="532" name="Oval 6"/>
            <p:cNvSpPr/>
            <p:nvPr/>
          </p:nvSpPr>
          <p:spPr>
            <a:xfrm>
              <a:off x="3048120" y="2461320"/>
              <a:ext cx="2514600" cy="190764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5" name="Picture 8" descr="j0239159"/>
            <p:cNvPicPr/>
            <p:nvPr/>
          </p:nvPicPr>
          <p:blipFill>
            <a:blip r:embed="rId1"/>
            <a:stretch/>
          </p:blipFill>
          <p:spPr>
            <a:xfrm>
              <a:off x="5486400" y="1661760"/>
              <a:ext cx="911160" cy="60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10" descr="j0350584"/>
            <p:cNvPicPr/>
            <p:nvPr/>
          </p:nvPicPr>
          <p:blipFill>
            <a:blip r:embed="rId2"/>
            <a:stretch/>
          </p:blipFill>
          <p:spPr>
            <a:xfrm>
              <a:off x="7162920" y="2523240"/>
              <a:ext cx="121896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11" descr="j0290140"/>
            <p:cNvPicPr/>
            <p:nvPr/>
          </p:nvPicPr>
          <p:blipFill>
            <a:blip r:embed="rId3"/>
            <a:stretch/>
          </p:blipFill>
          <p:spPr>
            <a:xfrm>
              <a:off x="609480" y="3384360"/>
              <a:ext cx="963720" cy="92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12" descr="j0239159"/>
            <p:cNvPicPr/>
            <p:nvPr/>
          </p:nvPicPr>
          <p:blipFill>
            <a:blip r:embed="rId4"/>
            <a:stretch/>
          </p:blipFill>
          <p:spPr>
            <a:xfrm>
              <a:off x="2362320" y="1600200"/>
              <a:ext cx="911160" cy="60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3" descr="j0238675"/>
            <p:cNvPicPr/>
            <p:nvPr/>
          </p:nvPicPr>
          <p:blipFill>
            <a:blip r:embed="rId5"/>
            <a:stretch/>
          </p:blipFill>
          <p:spPr>
            <a:xfrm>
              <a:off x="2133720" y="4553640"/>
              <a:ext cx="100800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6" descr="j0239159"/>
            <p:cNvPicPr/>
            <p:nvPr/>
          </p:nvPicPr>
          <p:blipFill>
            <a:blip r:embed="rId6"/>
            <a:stretch/>
          </p:blipFill>
          <p:spPr>
            <a:xfrm>
              <a:off x="5638680" y="4553640"/>
              <a:ext cx="911520" cy="60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41" name="AutoShape 17"/>
            <p:cNvCxnSpPr>
              <a:stCxn id="535" idx="2"/>
              <a:endCxn id="532" idx="7"/>
            </p:cNvCxnSpPr>
            <p:nvPr/>
          </p:nvCxnSpPr>
          <p:spPr>
            <a:xfrm rot="5400000">
              <a:off x="5341320" y="2117520"/>
              <a:ext cx="452880" cy="748440"/>
            </a:xfrm>
            <a:prstGeom prst="bentConnector3">
              <a:avLst>
                <a:gd name="adj1" fmla="val 21479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42" name="AutoShape 19"/>
            <p:cNvCxnSpPr>
              <a:stCxn id="538" idx="2"/>
              <a:endCxn id="532" idx="1"/>
            </p:cNvCxnSpPr>
            <p:nvPr/>
          </p:nvCxnSpPr>
          <p:spPr>
            <a:xfrm flipH="1" rot="16200000">
              <a:off x="2859120" y="2161080"/>
              <a:ext cx="514440" cy="599400"/>
            </a:xfrm>
            <a:prstGeom prst="bentConnector3">
              <a:avLst>
                <a:gd name="adj1" fmla="val 24929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43" name="AutoShape 20"/>
            <p:cNvCxnSpPr>
              <a:stCxn id="539" idx="0"/>
              <a:endCxn id="532" idx="3"/>
            </p:cNvCxnSpPr>
            <p:nvPr/>
          </p:nvCxnSpPr>
          <p:spPr>
            <a:xfrm flipH="1" flipV="1" rot="5400000">
              <a:off x="2806560" y="3943440"/>
              <a:ext cx="441720" cy="778680"/>
            </a:xfrm>
            <a:prstGeom prst="bentConnector3">
              <a:avLst>
                <a:gd name="adj1" fmla="val 20880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44" name="AutoShape 21"/>
            <p:cNvCxnSpPr>
              <a:stCxn id="532" idx="5"/>
              <a:endCxn id="540" idx="0"/>
            </p:cNvCxnSpPr>
            <p:nvPr/>
          </p:nvCxnSpPr>
          <p:spPr>
            <a:xfrm flipH="1" rot="16200000">
              <a:off x="5423760" y="3882600"/>
              <a:ext cx="441720" cy="900720"/>
            </a:xfrm>
            <a:prstGeom prst="bentConnector3">
              <a:avLst>
                <a:gd name="adj1" fmla="val 79037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45" name="AutoShape 23"/>
            <p:cNvCxnSpPr>
              <a:stCxn id="536" idx="1"/>
              <a:endCxn id="532" idx="6"/>
            </p:cNvCxnSpPr>
            <p:nvPr/>
          </p:nvCxnSpPr>
          <p:spPr>
            <a:xfrm flipV="1" rot="10800000">
              <a:off x="5590440" y="2851200"/>
              <a:ext cx="1572480" cy="563400"/>
            </a:xfrm>
            <a:prstGeom prst="bentConnector3">
              <a:avLst>
                <a:gd name="adj1" fmla="val 50904"/>
              </a:avLst>
            </a:prstGeom>
            <a:ln w="57240">
              <a:solidFill>
                <a:srgbClr val="3333cc"/>
              </a:solidFill>
              <a:miter/>
            </a:ln>
          </p:spPr>
        </p:cxnSp>
      </p:grpSp>
      <p:sp>
        <p:nvSpPr>
          <p:cNvPr id="546" name="Rectangle 27"/>
          <p:cNvSpPr/>
          <p:nvPr/>
        </p:nvSpPr>
        <p:spPr>
          <a:xfrm>
            <a:off x="179280" y="5445000"/>
            <a:ext cx="856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Desventaja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Una sola dirección.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Utilización: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rede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lasificación de Redes – Por su Alcance Geográfic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LAN (Local Area Network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Red de área limitada, generalmente a un edificio o varios cercanos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Se usan a menudo para conectar PC’s en una oficin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Puede usarse la topología Bus o Anillo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Las LAN’s se conectan a redes más grandes a través de gateways (portones), generalmente con un procesador de comunicaciones cómo interface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Las LAN’s se administran a través de Sistemas Operativos de Red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Centrales privadas (PBX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Sistema de conmutación de llamadas telefónicas de una Organización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Transmiten voz y datos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lasificación de Redes – Por su Alcance Geográfic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0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WAN (Wide Area Network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05040" indent="-45252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Abarcan grandes distancias, desde algunos kilómetros hasta todo el mund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05040" indent="-45252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La conexión se puede realizar a través de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íneas conmutadas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(líneas telefónica, por ejemplo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7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íneas dedicadas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(disponibles continuamente para la transmisión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VAN (Value Added Network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05040" indent="-45252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Son redes de valor agregado, propiedad de un operador de red (que la administra) que brinda el servicio de red a varias compañías a través de contratos de suscripción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05040" indent="-45252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Utilizadas cuando una compañía no puede o no quiere montar una red propia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05040" indent="-45252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Generalmente aplicadas a WAN, son redes privadas de múltiples trayectos, exclusivamente para datos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Gráfico General de una 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52" name="Group 1231"/>
          <p:cNvGrpSpPr/>
          <p:nvPr/>
        </p:nvGrpSpPr>
        <p:grpSpPr>
          <a:xfrm>
            <a:off x="228600" y="1143000"/>
            <a:ext cx="8518680" cy="4952880"/>
            <a:chOff x="228600" y="1143000"/>
            <a:chExt cx="8518680" cy="4952880"/>
          </a:xfrm>
        </p:grpSpPr>
        <p:sp>
          <p:nvSpPr>
            <p:cNvPr id="553" name="Oval 1028"/>
            <p:cNvSpPr/>
            <p:nvPr/>
          </p:nvSpPr>
          <p:spPr>
            <a:xfrm>
              <a:off x="4876920" y="2286000"/>
              <a:ext cx="1981080" cy="182880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33cc"/>
                  </a:solidFill>
                  <a:latin typeface="Arial"/>
                </a:rPr>
                <a:t>Red W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079"/>
            <p:cNvGrpSpPr/>
            <p:nvPr/>
          </p:nvGrpSpPr>
          <p:grpSpPr>
            <a:xfrm>
              <a:off x="6299280" y="4343400"/>
              <a:ext cx="2425320" cy="1371240"/>
              <a:chOff x="6299280" y="4343400"/>
              <a:chExt cx="2425320" cy="1371240"/>
            </a:xfrm>
          </p:grpSpPr>
          <p:pic>
            <p:nvPicPr>
              <p:cNvPr id="555" name="Picture 1067" descr="j0239159"/>
              <p:cNvPicPr/>
              <p:nvPr/>
            </p:nvPicPr>
            <p:blipFill>
              <a:blip r:embed="rId1"/>
              <a:stretch/>
            </p:blipFill>
            <p:spPr>
              <a:xfrm>
                <a:off x="7885080" y="5325480"/>
                <a:ext cx="482760" cy="3891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556" name="AutoShape 1068"/>
              <p:cNvCxnSpPr>
                <a:stCxn id="557" idx="3"/>
                <a:endCxn id="558" idx="2"/>
              </p:cNvCxnSpPr>
              <p:nvPr/>
            </p:nvCxnSpPr>
            <p:spPr>
              <a:xfrm flipV="1">
                <a:off x="6828480" y="4937760"/>
                <a:ext cx="1643040" cy="16956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559" name="AutoShape 1069"/>
              <p:cNvCxnSpPr>
                <a:stCxn id="560" idx="2"/>
                <a:endCxn id="558" idx="2"/>
              </p:cNvCxnSpPr>
              <p:nvPr/>
            </p:nvCxnSpPr>
            <p:spPr>
              <a:xfrm flipH="1" rot="16200000">
                <a:off x="8024760" y="4492080"/>
                <a:ext cx="50400" cy="843120"/>
              </a:xfrm>
              <a:prstGeom prst="bentConnector3">
                <a:avLst>
                  <a:gd name="adj1" fmla="val 442446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561" name="AutoShape 1070"/>
              <p:cNvCxnSpPr>
                <a:stCxn id="555" idx="0"/>
                <a:endCxn id="562" idx="0"/>
              </p:cNvCxnSpPr>
              <p:nvPr/>
            </p:nvCxnSpPr>
            <p:spPr>
              <a:xfrm flipV="1" rot="16200000">
                <a:off x="7716600" y="4915080"/>
                <a:ext cx="36360" cy="784080"/>
              </a:xfrm>
              <a:prstGeom prst="bentConnector3">
                <a:avLst>
                  <a:gd name="adj1" fmla="val 580000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563" name="AutoShape 1071"/>
              <p:cNvCxnSpPr>
                <a:stCxn id="562" idx="0"/>
                <a:endCxn id="558" idx="2"/>
              </p:cNvCxnSpPr>
              <p:nvPr/>
            </p:nvCxnSpPr>
            <p:spPr>
              <a:xfrm flipH="1" flipV="1" rot="5400000">
                <a:off x="7731360" y="4549680"/>
                <a:ext cx="351360" cy="1127880"/>
              </a:xfrm>
              <a:prstGeom prst="bentConnector3">
                <a:avLst>
                  <a:gd name="adj1" fmla="val 49846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pic>
            <p:nvPicPr>
              <p:cNvPr id="564" name="Picture 1074" descr="j0238675"/>
              <p:cNvPicPr/>
              <p:nvPr/>
            </p:nvPicPr>
            <p:blipFill>
              <a:blip r:embed="rId2"/>
              <a:stretch/>
            </p:blipFill>
            <p:spPr>
              <a:xfrm>
                <a:off x="7360920" y="4514760"/>
                <a:ext cx="533520" cy="37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1075" descr="j0290140"/>
              <p:cNvPicPr/>
              <p:nvPr/>
            </p:nvPicPr>
            <p:blipFill>
              <a:blip r:embed="rId3"/>
              <a:stretch/>
            </p:blipFill>
            <p:spPr>
              <a:xfrm>
                <a:off x="8215920" y="4343400"/>
                <a:ext cx="508680" cy="59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1076" descr="j0350584"/>
              <p:cNvPicPr/>
              <p:nvPr/>
            </p:nvPicPr>
            <p:blipFill>
              <a:blip r:embed="rId4"/>
              <a:stretch/>
            </p:blipFill>
            <p:spPr>
              <a:xfrm>
                <a:off x="7020720" y="5289840"/>
                <a:ext cx="644400" cy="42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Picture 1078" descr="j0287292"/>
              <p:cNvPicPr/>
              <p:nvPr/>
            </p:nvPicPr>
            <p:blipFill>
              <a:blip r:embed="rId5"/>
              <a:stretch/>
            </p:blipFill>
            <p:spPr>
              <a:xfrm>
                <a:off x="6299280" y="4667040"/>
                <a:ext cx="5292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568" name="AutoShape 1081"/>
            <p:cNvCxnSpPr>
              <a:stCxn id="567" idx="1"/>
              <a:endCxn id="553" idx="4"/>
            </p:cNvCxnSpPr>
            <p:nvPr/>
          </p:nvCxnSpPr>
          <p:spPr>
            <a:xfrm rot="10800000">
              <a:off x="5866560" y="4142520"/>
              <a:ext cx="432720" cy="96588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grpSp>
          <p:nvGrpSpPr>
            <p:cNvPr id="569" name="Group 1219"/>
            <p:cNvGrpSpPr/>
            <p:nvPr/>
          </p:nvGrpSpPr>
          <p:grpSpPr>
            <a:xfrm>
              <a:off x="228600" y="1143000"/>
              <a:ext cx="4222800" cy="2489040"/>
              <a:chOff x="228600" y="1143000"/>
              <a:chExt cx="4222800" cy="2489040"/>
            </a:xfrm>
          </p:grpSpPr>
          <p:sp>
            <p:nvSpPr>
              <p:cNvPr id="570" name="Oval 1124"/>
              <p:cNvSpPr/>
              <p:nvPr/>
            </p:nvSpPr>
            <p:spPr>
              <a:xfrm>
                <a:off x="1627200" y="2103480"/>
                <a:ext cx="1187280" cy="1036440"/>
              </a:xfrm>
              <a:prstGeom prst="ellipse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3333cc"/>
                    </a:solidFill>
                    <a:latin typeface="Arial"/>
                  </a:rPr>
                  <a:t>Red V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1" name="Group 1125"/>
              <p:cNvGrpSpPr/>
              <p:nvPr/>
            </p:nvGrpSpPr>
            <p:grpSpPr>
              <a:xfrm>
                <a:off x="2790720" y="2892600"/>
                <a:ext cx="1119240" cy="739440"/>
                <a:chOff x="2790720" y="2892600"/>
                <a:chExt cx="1119240" cy="739440"/>
              </a:xfrm>
            </p:grpSpPr>
            <p:pic>
              <p:nvPicPr>
                <p:cNvPr id="572" name="Picture 1126" descr="j023915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22600" y="3422160"/>
                  <a:ext cx="222480" cy="20988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573" name="AutoShape 1127"/>
                <p:cNvCxnSpPr>
                  <a:stCxn id="574" idx="3"/>
                  <a:endCxn id="575" idx="2"/>
                </p:cNvCxnSpPr>
                <p:nvPr/>
              </p:nvCxnSpPr>
              <p:spPr>
                <a:xfrm flipV="1">
                  <a:off x="3034440" y="3212640"/>
                  <a:ext cx="758520" cy="91800"/>
                </a:xfrm>
                <a:prstGeom prst="bentConnector2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576" name="AutoShape 1128"/>
                <p:cNvCxnSpPr>
                  <a:stCxn id="577" idx="2"/>
                  <a:endCxn id="575" idx="2"/>
                </p:cNvCxnSpPr>
                <p:nvPr/>
              </p:nvCxnSpPr>
              <p:spPr>
                <a:xfrm flipH="1" rot="16200000">
                  <a:off x="3585240" y="3004920"/>
                  <a:ext cx="27360" cy="389520"/>
                </a:xfrm>
                <a:prstGeom prst="bentConnector3">
                  <a:avLst>
                    <a:gd name="adj1" fmla="val 442666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578" name="AutoShape 1129"/>
                <p:cNvCxnSpPr>
                  <a:stCxn id="572" idx="0"/>
                  <a:endCxn id="579" idx="0"/>
                </p:cNvCxnSpPr>
                <p:nvPr/>
              </p:nvCxnSpPr>
              <p:spPr>
                <a:xfrm flipV="1" rot="16200000">
                  <a:off x="3443040" y="3230640"/>
                  <a:ext cx="19800" cy="362160"/>
                </a:xfrm>
                <a:prstGeom prst="bentConnector3">
                  <a:avLst>
                    <a:gd name="adj1" fmla="val 579629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580" name="AutoShape 1130"/>
                <p:cNvCxnSpPr>
                  <a:stCxn id="579" idx="0"/>
                  <a:endCxn id="575" idx="2"/>
                </p:cNvCxnSpPr>
                <p:nvPr/>
              </p:nvCxnSpPr>
              <p:spPr>
                <a:xfrm flipH="1" flipV="1" rot="5400000">
                  <a:off x="3437280" y="3047400"/>
                  <a:ext cx="190080" cy="520920"/>
                </a:xfrm>
                <a:prstGeom prst="bentConnector3">
                  <a:avLst>
                    <a:gd name="adj1" fmla="val 49715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pic>
              <p:nvPicPr>
                <p:cNvPr id="581" name="Picture 1131" descr="j0238675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80680" y="2984760"/>
                  <a:ext cx="246240" cy="20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1132" descr="j0290140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75240" y="2892600"/>
                  <a:ext cx="234720" cy="32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Picture 1133" descr="j0350584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123720" y="3402720"/>
                  <a:ext cx="297360" cy="228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Picture 1134" descr="j028729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90720" y="3066840"/>
                  <a:ext cx="244080" cy="475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585" name="AutoShape 1135"/>
              <p:cNvCxnSpPr>
                <a:stCxn id="584" idx="1"/>
                <a:endCxn id="570" idx="5"/>
              </p:cNvCxnSpPr>
              <p:nvPr/>
            </p:nvCxnSpPr>
            <p:spPr>
              <a:xfrm rot="10800000">
                <a:off x="2640960" y="3015360"/>
                <a:ext cx="149760" cy="28944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grpSp>
            <p:nvGrpSpPr>
              <p:cNvPr id="586" name="Group 1136"/>
              <p:cNvGrpSpPr/>
              <p:nvPr/>
            </p:nvGrpSpPr>
            <p:grpSpPr>
              <a:xfrm>
                <a:off x="2755800" y="1155600"/>
                <a:ext cx="1246320" cy="887040"/>
                <a:chOff x="2755800" y="1155600"/>
                <a:chExt cx="1246320" cy="887040"/>
              </a:xfrm>
            </p:grpSpPr>
            <p:pic>
              <p:nvPicPr>
                <p:cNvPr id="587" name="Picture 1137" descr="j0239159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70480" y="1791000"/>
                  <a:ext cx="248040" cy="25164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588" name="AutoShape 1138"/>
                <p:cNvCxnSpPr>
                  <a:stCxn id="589" idx="3"/>
                  <a:endCxn id="590" idx="2"/>
                </p:cNvCxnSpPr>
                <p:nvPr/>
              </p:nvCxnSpPr>
              <p:spPr>
                <a:xfrm flipV="1">
                  <a:off x="3027600" y="1540080"/>
                  <a:ext cx="844560" cy="109800"/>
                </a:xfrm>
                <a:prstGeom prst="bentConnector2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591" name="AutoShape 1139"/>
                <p:cNvCxnSpPr>
                  <a:stCxn id="592" idx="2"/>
                  <a:endCxn id="590" idx="2"/>
                </p:cNvCxnSpPr>
                <p:nvPr/>
              </p:nvCxnSpPr>
              <p:spPr>
                <a:xfrm flipH="1" rot="16200000">
                  <a:off x="3638880" y="1307520"/>
                  <a:ext cx="32760" cy="433440"/>
                </a:xfrm>
                <a:prstGeom prst="bentConnector3">
                  <a:avLst>
                    <a:gd name="adj1" fmla="val 442222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593" name="AutoShape 1140"/>
                <p:cNvCxnSpPr>
                  <a:stCxn id="587" idx="0"/>
                  <a:endCxn id="594" idx="0"/>
                </p:cNvCxnSpPr>
                <p:nvPr/>
              </p:nvCxnSpPr>
              <p:spPr>
                <a:xfrm flipV="1" rot="16200000">
                  <a:off x="3481560" y="1577520"/>
                  <a:ext cx="23760" cy="403200"/>
                </a:xfrm>
                <a:prstGeom prst="bentConnector3">
                  <a:avLst>
                    <a:gd name="adj1" fmla="val 580000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595" name="AutoShape 1141"/>
                <p:cNvCxnSpPr>
                  <a:stCxn id="594" idx="0"/>
                  <a:endCxn id="590" idx="2"/>
                </p:cNvCxnSpPr>
                <p:nvPr/>
              </p:nvCxnSpPr>
              <p:spPr>
                <a:xfrm flipH="1" flipV="1" rot="5400000">
                  <a:off x="3467880" y="1364040"/>
                  <a:ext cx="227880" cy="579960"/>
                </a:xfrm>
                <a:prstGeom prst="bentConnector3">
                  <a:avLst>
                    <a:gd name="adj1" fmla="val 49683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pic>
              <p:nvPicPr>
                <p:cNvPr id="596" name="Picture 1142" descr="j0238675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301200" y="1266480"/>
                  <a:ext cx="274320" cy="24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1143" descr="j0290140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740760" y="1155600"/>
                  <a:ext cx="261360" cy="385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1144" descr="j0350584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126600" y="1767960"/>
                  <a:ext cx="33120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1145" descr="j0287292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755800" y="1364760"/>
                  <a:ext cx="271800" cy="57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0" name="Group 1146"/>
              <p:cNvGrpSpPr/>
              <p:nvPr/>
            </p:nvGrpSpPr>
            <p:grpSpPr>
              <a:xfrm>
                <a:off x="228600" y="2990880"/>
                <a:ext cx="1184040" cy="612360"/>
                <a:chOff x="228600" y="2990880"/>
                <a:chExt cx="1184040" cy="612360"/>
              </a:xfrm>
            </p:grpSpPr>
            <p:cxnSp>
              <p:nvCxnSpPr>
                <p:cNvPr id="601" name="AutoShape 1147"/>
                <p:cNvCxnSpPr>
                  <a:stCxn id="602" idx="3"/>
                  <a:endCxn id="603" idx="1"/>
                </p:cNvCxnSpPr>
                <p:nvPr/>
              </p:nvCxnSpPr>
              <p:spPr>
                <a:xfrm flipV="1">
                  <a:off x="712080" y="3144240"/>
                  <a:ext cx="285840" cy="245880"/>
                </a:xfrm>
                <a:prstGeom prst="bentConnector3">
                  <a:avLst>
                    <a:gd name="adj1" fmla="val 49936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pic>
              <p:nvPicPr>
                <p:cNvPr id="604" name="Picture 1148" descr="j0238675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28600" y="3176280"/>
                  <a:ext cx="483480" cy="42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1149" descr="j0342891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97560" y="2990880"/>
                  <a:ext cx="415080" cy="30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6" name="Group 1150"/>
              <p:cNvGrpSpPr/>
              <p:nvPr/>
            </p:nvGrpSpPr>
            <p:grpSpPr>
              <a:xfrm>
                <a:off x="298440" y="1143000"/>
                <a:ext cx="1228320" cy="1342800"/>
                <a:chOff x="298440" y="1143000"/>
                <a:chExt cx="1228320" cy="1342800"/>
              </a:xfrm>
            </p:grpSpPr>
            <p:pic>
              <p:nvPicPr>
                <p:cNvPr id="607" name="Picture 1151" descr="j0239159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42320" y="1779120"/>
                  <a:ext cx="247320" cy="25092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608" name="AutoShape 1152"/>
                <p:cNvCxnSpPr>
                  <a:stCxn id="609" idx="1"/>
                  <a:endCxn id="610" idx="2"/>
                </p:cNvCxnSpPr>
                <p:nvPr/>
              </p:nvCxnSpPr>
              <p:spPr>
                <a:xfrm rot="10800000">
                  <a:off x="1041480" y="1527120"/>
                  <a:ext cx="213120" cy="110160"/>
                </a:xfrm>
                <a:prstGeom prst="bentConnector2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611" name="AutoShape 1153"/>
                <p:cNvCxnSpPr>
                  <a:stCxn id="612" idx="2"/>
                  <a:endCxn id="610" idx="2"/>
                </p:cNvCxnSpPr>
                <p:nvPr/>
              </p:nvCxnSpPr>
              <p:spPr>
                <a:xfrm flipH="1" rot="16200000">
                  <a:off x="809640" y="1295280"/>
                  <a:ext cx="32760" cy="432720"/>
                </a:xfrm>
                <a:prstGeom prst="bentConnector3">
                  <a:avLst>
                    <a:gd name="adj1" fmla="val 442222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613" name="AutoShape 1154"/>
                <p:cNvCxnSpPr>
                  <a:stCxn id="607" idx="0"/>
                  <a:endCxn id="614" idx="0"/>
                </p:cNvCxnSpPr>
                <p:nvPr/>
              </p:nvCxnSpPr>
              <p:spPr>
                <a:xfrm flipV="1" rot="16200000">
                  <a:off x="652320" y="1564920"/>
                  <a:ext cx="23760" cy="403920"/>
                </a:xfrm>
                <a:prstGeom prst="bentConnector3">
                  <a:avLst>
                    <a:gd name="adj1" fmla="val 580000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cxnSp>
              <p:nvCxnSpPr>
                <p:cNvPr id="615" name="AutoShape 1155"/>
                <p:cNvCxnSpPr>
                  <a:stCxn id="614" idx="0"/>
                  <a:endCxn id="610" idx="2"/>
                </p:cNvCxnSpPr>
                <p:nvPr/>
              </p:nvCxnSpPr>
              <p:spPr>
                <a:xfrm flipH="1" flipV="1" rot="5400000">
                  <a:off x="637920" y="1351440"/>
                  <a:ext cx="228600" cy="579960"/>
                </a:xfrm>
                <a:prstGeom prst="bentConnector3">
                  <a:avLst>
                    <a:gd name="adj1" fmla="val 49684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  <p:pic>
              <p:nvPicPr>
                <p:cNvPr id="616" name="Picture 1156" descr="j0238675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73040" y="1253880"/>
                  <a:ext cx="27360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1157" descr="j0290140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910800" y="1143000"/>
                  <a:ext cx="262080" cy="384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1158" descr="j0350584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98440" y="1755720"/>
                  <a:ext cx="330120" cy="273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1159" descr="j0287292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254600" y="1352520"/>
                  <a:ext cx="272160" cy="56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Picture 1160" descr="j0342891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066680" y="2178000"/>
                  <a:ext cx="414720" cy="3078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621" name="AutoShape 1161"/>
                <p:cNvCxnSpPr>
                  <a:stCxn id="619" idx="2"/>
                  <a:endCxn id="620" idx="0"/>
                </p:cNvCxnSpPr>
                <p:nvPr/>
              </p:nvCxnSpPr>
              <p:spPr>
                <a:xfrm rot="5400000">
                  <a:off x="1204920" y="1991520"/>
                  <a:ext cx="255960" cy="117000"/>
                </a:xfrm>
                <a:prstGeom prst="bentConnector3">
                  <a:avLst>
                    <a:gd name="adj1" fmla="val 50000"/>
                  </a:avLst>
                </a:prstGeom>
                <a:ln w="57240">
                  <a:solidFill>
                    <a:srgbClr val="3333cc"/>
                  </a:solidFill>
                  <a:miter/>
                </a:ln>
              </p:spPr>
            </p:cxnSp>
          </p:grpSp>
          <p:cxnSp>
            <p:nvCxnSpPr>
              <p:cNvPr id="622" name="AutoShape 1162"/>
              <p:cNvCxnSpPr>
                <a:stCxn id="620" idx="2"/>
                <a:endCxn id="570" idx="2"/>
              </p:cNvCxnSpPr>
              <p:nvPr/>
            </p:nvCxnSpPr>
            <p:spPr>
              <a:xfrm flipH="1" rot="16200000">
                <a:off x="1370160" y="2390400"/>
                <a:ext cx="135360" cy="32616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23" name="AutoShape 1163"/>
              <p:cNvCxnSpPr>
                <a:stCxn id="605" idx="3"/>
                <a:endCxn id="570" idx="3"/>
              </p:cNvCxnSpPr>
              <p:nvPr/>
            </p:nvCxnSpPr>
            <p:spPr>
              <a:xfrm flipV="1">
                <a:off x="1413000" y="3016080"/>
                <a:ext cx="388080" cy="12924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24" name="AutoShape 1164"/>
              <p:cNvCxnSpPr>
                <a:stCxn id="599" idx="1"/>
                <a:endCxn id="570" idx="0"/>
              </p:cNvCxnSpPr>
              <p:nvPr/>
            </p:nvCxnSpPr>
            <p:spPr>
              <a:xfrm flipV="1" rot="10800000">
                <a:off x="2220120" y="1649160"/>
                <a:ext cx="535680" cy="42768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pic>
            <p:nvPicPr>
              <p:cNvPr id="625" name="Picture 1165" descr="j0287292"/>
              <p:cNvPicPr/>
              <p:nvPr/>
            </p:nvPicPr>
            <p:blipFill>
              <a:blip r:embed="rId24"/>
              <a:stretch/>
            </p:blipFill>
            <p:spPr>
              <a:xfrm>
                <a:off x="4002120" y="1955880"/>
                <a:ext cx="449280" cy="9396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626" name="AutoShape 1166"/>
              <p:cNvCxnSpPr>
                <a:stCxn id="570" idx="6"/>
                <a:endCxn id="625" idx="1"/>
              </p:cNvCxnSpPr>
              <p:nvPr/>
            </p:nvCxnSpPr>
            <p:spPr>
              <a:xfrm flipV="1">
                <a:off x="2841480" y="2425320"/>
                <a:ext cx="1161360" cy="195840"/>
              </a:xfrm>
              <a:prstGeom prst="bentConnector3">
                <a:avLst>
                  <a:gd name="adj1" fmla="val 48868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</p:grpSp>
        <p:cxnSp>
          <p:nvCxnSpPr>
            <p:cNvPr id="627" name="AutoShape 1167"/>
            <p:cNvCxnSpPr>
              <a:stCxn id="625" idx="3"/>
              <a:endCxn id="553" idx="1"/>
            </p:cNvCxnSpPr>
            <p:nvPr/>
          </p:nvCxnSpPr>
          <p:spPr>
            <a:xfrm>
              <a:off x="4451040" y="2425680"/>
              <a:ext cx="716760" cy="100800"/>
            </a:xfrm>
            <a:prstGeom prst="bentConnector4">
              <a:avLst>
                <a:gd name="adj1" fmla="val 29698"/>
                <a:gd name="adj2" fmla="val -368100"/>
              </a:avLst>
            </a:prstGeom>
            <a:ln w="57240">
              <a:solidFill>
                <a:srgbClr val="3333cc"/>
              </a:solidFill>
              <a:miter/>
            </a:ln>
          </p:spPr>
        </p:cxnSp>
        <p:sp>
          <p:nvSpPr>
            <p:cNvPr id="628" name="Oval 1169"/>
            <p:cNvSpPr/>
            <p:nvPr/>
          </p:nvSpPr>
          <p:spPr>
            <a:xfrm>
              <a:off x="1901880" y="4941720"/>
              <a:ext cx="993600" cy="78264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3333cc"/>
                  </a:solidFill>
                  <a:latin typeface="Arial"/>
                </a:rPr>
                <a:t>Red Telefón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Group 1170"/>
            <p:cNvGrpSpPr/>
            <p:nvPr/>
          </p:nvGrpSpPr>
          <p:grpSpPr>
            <a:xfrm>
              <a:off x="2876400" y="5537160"/>
              <a:ext cx="936720" cy="558720"/>
              <a:chOff x="2876400" y="5537160"/>
              <a:chExt cx="936720" cy="558720"/>
            </a:xfrm>
          </p:grpSpPr>
          <p:pic>
            <p:nvPicPr>
              <p:cNvPr id="630" name="Picture 1171" descr="j0239159"/>
              <p:cNvPicPr/>
              <p:nvPr/>
            </p:nvPicPr>
            <p:blipFill>
              <a:blip r:embed="rId25"/>
              <a:stretch/>
            </p:blipFill>
            <p:spPr>
              <a:xfrm>
                <a:off x="3488760" y="5937120"/>
                <a:ext cx="186480" cy="1584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631" name="AutoShape 1172"/>
              <p:cNvCxnSpPr>
                <a:stCxn id="632" idx="3"/>
                <a:endCxn id="633" idx="2"/>
              </p:cNvCxnSpPr>
              <p:nvPr/>
            </p:nvCxnSpPr>
            <p:spPr>
              <a:xfrm flipV="1">
                <a:off x="3080880" y="5778720"/>
                <a:ext cx="635040" cy="6948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34" name="AutoShape 1173"/>
              <p:cNvCxnSpPr>
                <a:stCxn id="635" idx="2"/>
                <a:endCxn id="633" idx="2"/>
              </p:cNvCxnSpPr>
              <p:nvPr/>
            </p:nvCxnSpPr>
            <p:spPr>
              <a:xfrm flipH="1" rot="16200000">
                <a:off x="3540960" y="5606640"/>
                <a:ext cx="20880" cy="325440"/>
              </a:xfrm>
              <a:prstGeom prst="bentConnector3">
                <a:avLst>
                  <a:gd name="adj1" fmla="val 442105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36" name="AutoShape 1174"/>
              <p:cNvCxnSpPr>
                <a:stCxn id="630" idx="0"/>
                <a:endCxn id="637" idx="0"/>
              </p:cNvCxnSpPr>
              <p:nvPr/>
            </p:nvCxnSpPr>
            <p:spPr>
              <a:xfrm flipV="1" rot="16200000">
                <a:off x="3423240" y="5778000"/>
                <a:ext cx="15120" cy="303120"/>
              </a:xfrm>
              <a:prstGeom prst="bentConnector3">
                <a:avLst>
                  <a:gd name="adj1" fmla="val 578048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38" name="AutoShape 1175"/>
              <p:cNvCxnSpPr>
                <a:stCxn id="637" idx="0"/>
                <a:endCxn id="633" idx="2"/>
              </p:cNvCxnSpPr>
              <p:nvPr/>
            </p:nvCxnSpPr>
            <p:spPr>
              <a:xfrm flipH="1" flipV="1" rot="5400000">
                <a:off x="3425760" y="5632560"/>
                <a:ext cx="143640" cy="436320"/>
              </a:xfrm>
              <a:prstGeom prst="bentConnector3">
                <a:avLst>
                  <a:gd name="adj1" fmla="val 49748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pic>
            <p:nvPicPr>
              <p:cNvPr id="639" name="Picture 1176" descr="j0238675"/>
              <p:cNvPicPr/>
              <p:nvPr/>
            </p:nvPicPr>
            <p:blipFill>
              <a:blip r:embed="rId26"/>
              <a:stretch/>
            </p:blipFill>
            <p:spPr>
              <a:xfrm>
                <a:off x="3286440" y="5607000"/>
                <a:ext cx="20592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Picture 1177" descr="j0290140"/>
              <p:cNvPicPr/>
              <p:nvPr/>
            </p:nvPicPr>
            <p:blipFill>
              <a:blip r:embed="rId27"/>
              <a:stretch/>
            </p:blipFill>
            <p:spPr>
              <a:xfrm>
                <a:off x="3616560" y="5537160"/>
                <a:ext cx="196560" cy="24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1" name="Picture 1178" descr="j0350584"/>
              <p:cNvPicPr/>
              <p:nvPr/>
            </p:nvPicPr>
            <p:blipFill>
              <a:blip r:embed="rId28"/>
              <a:stretch/>
            </p:blipFill>
            <p:spPr>
              <a:xfrm>
                <a:off x="3155040" y="5922720"/>
                <a:ext cx="24876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Picture 1179" descr="j0287292"/>
              <p:cNvPicPr/>
              <p:nvPr/>
            </p:nvPicPr>
            <p:blipFill>
              <a:blip r:embed="rId29"/>
              <a:stretch/>
            </p:blipFill>
            <p:spPr>
              <a:xfrm>
                <a:off x="2876400" y="5668920"/>
                <a:ext cx="20448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643" name="AutoShape 1180"/>
            <p:cNvCxnSpPr>
              <a:stCxn id="642" idx="1"/>
              <a:endCxn id="628" idx="5"/>
            </p:cNvCxnSpPr>
            <p:nvPr/>
          </p:nvCxnSpPr>
          <p:spPr>
            <a:xfrm rot="10800000">
              <a:off x="2750400" y="5630040"/>
              <a:ext cx="126000" cy="21996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grpSp>
          <p:nvGrpSpPr>
            <p:cNvPr id="644" name="Group 1181"/>
            <p:cNvGrpSpPr/>
            <p:nvPr/>
          </p:nvGrpSpPr>
          <p:grpSpPr>
            <a:xfrm>
              <a:off x="2847960" y="4226040"/>
              <a:ext cx="1042560" cy="669960"/>
              <a:chOff x="2847960" y="4226040"/>
              <a:chExt cx="1042560" cy="669960"/>
            </a:xfrm>
          </p:grpSpPr>
          <p:pic>
            <p:nvPicPr>
              <p:cNvPr id="645" name="Picture 1182" descr="j0239159"/>
              <p:cNvPicPr/>
              <p:nvPr/>
            </p:nvPicPr>
            <p:blipFill>
              <a:blip r:embed="rId30"/>
              <a:stretch/>
            </p:blipFill>
            <p:spPr>
              <a:xfrm>
                <a:off x="3529800" y="4705920"/>
                <a:ext cx="207360" cy="1900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646" name="AutoShape 1183"/>
              <p:cNvCxnSpPr>
                <a:stCxn id="647" idx="3"/>
                <a:endCxn id="648" idx="2"/>
              </p:cNvCxnSpPr>
              <p:nvPr/>
            </p:nvCxnSpPr>
            <p:spPr>
              <a:xfrm flipV="1">
                <a:off x="3075120" y="4516200"/>
                <a:ext cx="706680" cy="8316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49" name="AutoShape 1184"/>
              <p:cNvCxnSpPr>
                <a:stCxn id="650" idx="2"/>
                <a:endCxn id="648" idx="2"/>
              </p:cNvCxnSpPr>
              <p:nvPr/>
            </p:nvCxnSpPr>
            <p:spPr>
              <a:xfrm flipH="1" rot="16200000">
                <a:off x="3588120" y="4323240"/>
                <a:ext cx="24840" cy="362520"/>
              </a:xfrm>
              <a:prstGeom prst="bentConnector3">
                <a:avLst>
                  <a:gd name="adj1" fmla="val 442647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51" name="AutoShape 1185"/>
              <p:cNvCxnSpPr>
                <a:stCxn id="645" idx="0"/>
                <a:endCxn id="652" idx="0"/>
              </p:cNvCxnSpPr>
              <p:nvPr/>
            </p:nvCxnSpPr>
            <p:spPr>
              <a:xfrm flipV="1" rot="16200000">
                <a:off x="3456000" y="4528080"/>
                <a:ext cx="18000" cy="337320"/>
              </a:xfrm>
              <a:prstGeom prst="bentConnector3">
                <a:avLst>
                  <a:gd name="adj1" fmla="val 579591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53" name="AutoShape 1186"/>
              <p:cNvCxnSpPr>
                <a:stCxn id="652" idx="0"/>
                <a:endCxn id="648" idx="2"/>
              </p:cNvCxnSpPr>
              <p:nvPr/>
            </p:nvCxnSpPr>
            <p:spPr>
              <a:xfrm flipH="1" flipV="1" rot="5400000">
                <a:off x="3453120" y="4359600"/>
                <a:ext cx="172080" cy="485640"/>
              </a:xfrm>
              <a:prstGeom prst="bentConnector3">
                <a:avLst>
                  <a:gd name="adj1" fmla="val 49685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pic>
            <p:nvPicPr>
              <p:cNvPr id="654" name="Picture 1187" descr="j0238675"/>
              <p:cNvPicPr/>
              <p:nvPr/>
            </p:nvPicPr>
            <p:blipFill>
              <a:blip r:embed="rId31"/>
              <a:stretch/>
            </p:blipFill>
            <p:spPr>
              <a:xfrm>
                <a:off x="3304440" y="4309560"/>
                <a:ext cx="229320" cy="18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Picture 1188" descr="j0290140"/>
              <p:cNvPicPr/>
              <p:nvPr/>
            </p:nvPicPr>
            <p:blipFill>
              <a:blip r:embed="rId32"/>
              <a:stretch/>
            </p:blipFill>
            <p:spPr>
              <a:xfrm>
                <a:off x="3672000" y="4226040"/>
                <a:ext cx="21852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Picture 1189" descr="j0350584"/>
              <p:cNvPicPr/>
              <p:nvPr/>
            </p:nvPicPr>
            <p:blipFill>
              <a:blip r:embed="rId33"/>
              <a:stretch/>
            </p:blipFill>
            <p:spPr>
              <a:xfrm>
                <a:off x="3158280" y="4688280"/>
                <a:ext cx="277200" cy="20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Picture 1190" descr="j0287292"/>
              <p:cNvPicPr/>
              <p:nvPr/>
            </p:nvPicPr>
            <p:blipFill>
              <a:blip r:embed="rId34"/>
              <a:stretch/>
            </p:blipFill>
            <p:spPr>
              <a:xfrm>
                <a:off x="2847960" y="4384080"/>
                <a:ext cx="227520" cy="43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8" name="Group 1191"/>
            <p:cNvGrpSpPr/>
            <p:nvPr/>
          </p:nvGrpSpPr>
          <p:grpSpPr>
            <a:xfrm>
              <a:off x="730080" y="5611680"/>
              <a:ext cx="992160" cy="461880"/>
              <a:chOff x="730080" y="5611680"/>
              <a:chExt cx="992160" cy="461880"/>
            </a:xfrm>
          </p:grpSpPr>
          <p:cxnSp>
            <p:nvCxnSpPr>
              <p:cNvPr id="659" name="AutoShape 1192"/>
              <p:cNvCxnSpPr>
                <a:stCxn id="660" idx="3"/>
                <a:endCxn id="661" idx="1"/>
              </p:cNvCxnSpPr>
              <p:nvPr/>
            </p:nvCxnSpPr>
            <p:spPr>
              <a:xfrm flipV="1">
                <a:off x="1135080" y="5727600"/>
                <a:ext cx="239760" cy="185760"/>
              </a:xfrm>
              <a:prstGeom prst="bentConnector3">
                <a:avLst>
                  <a:gd name="adj1" fmla="val 49924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pic>
            <p:nvPicPr>
              <p:cNvPr id="662" name="Picture 1193" descr="j0238675"/>
              <p:cNvPicPr/>
              <p:nvPr/>
            </p:nvPicPr>
            <p:blipFill>
              <a:blip r:embed="rId35"/>
              <a:stretch/>
            </p:blipFill>
            <p:spPr>
              <a:xfrm>
                <a:off x="730080" y="5751360"/>
                <a:ext cx="40500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3" name="Picture 1194" descr="j0342891"/>
              <p:cNvPicPr/>
              <p:nvPr/>
            </p:nvPicPr>
            <p:blipFill>
              <a:blip r:embed="rId36"/>
              <a:stretch/>
            </p:blipFill>
            <p:spPr>
              <a:xfrm>
                <a:off x="1374480" y="5611680"/>
                <a:ext cx="347760" cy="232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195"/>
            <p:cNvGrpSpPr/>
            <p:nvPr/>
          </p:nvGrpSpPr>
          <p:grpSpPr>
            <a:xfrm>
              <a:off x="789120" y="4216320"/>
              <a:ext cx="1028160" cy="1014120"/>
              <a:chOff x="789120" y="4216320"/>
              <a:chExt cx="1028160" cy="1014120"/>
            </a:xfrm>
          </p:grpSpPr>
          <p:pic>
            <p:nvPicPr>
              <p:cNvPr id="665" name="Picture 1196" descr="j0239159"/>
              <p:cNvPicPr/>
              <p:nvPr/>
            </p:nvPicPr>
            <p:blipFill>
              <a:blip r:embed="rId37"/>
              <a:stretch/>
            </p:blipFill>
            <p:spPr>
              <a:xfrm>
                <a:off x="1160640" y="4696560"/>
                <a:ext cx="207000" cy="1897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666" name="AutoShape 1197"/>
              <p:cNvCxnSpPr>
                <a:stCxn id="667" idx="1"/>
                <a:endCxn id="668" idx="2"/>
              </p:cNvCxnSpPr>
              <p:nvPr/>
            </p:nvCxnSpPr>
            <p:spPr>
              <a:xfrm rot="10800000">
                <a:off x="1411560" y="4506120"/>
                <a:ext cx="178200" cy="83520"/>
              </a:xfrm>
              <a:prstGeom prst="bentConnector2">
                <a:avLst/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69" name="AutoShape 1198"/>
              <p:cNvCxnSpPr>
                <a:stCxn id="670" idx="2"/>
                <a:endCxn id="668" idx="2"/>
              </p:cNvCxnSpPr>
              <p:nvPr/>
            </p:nvCxnSpPr>
            <p:spPr>
              <a:xfrm flipH="1" rot="16200000">
                <a:off x="1218240" y="4313520"/>
                <a:ext cx="24840" cy="362160"/>
              </a:xfrm>
              <a:prstGeom prst="bentConnector3">
                <a:avLst>
                  <a:gd name="adj1" fmla="val 442647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71" name="AutoShape 1199"/>
              <p:cNvCxnSpPr>
                <a:stCxn id="665" idx="0"/>
                <a:endCxn id="672" idx="0"/>
              </p:cNvCxnSpPr>
              <p:nvPr/>
            </p:nvCxnSpPr>
            <p:spPr>
              <a:xfrm flipV="1" rot="16200000">
                <a:off x="1086480" y="4518360"/>
                <a:ext cx="18000" cy="338400"/>
              </a:xfrm>
              <a:prstGeom prst="bentConnector3">
                <a:avLst>
                  <a:gd name="adj1" fmla="val 579591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cxnSp>
            <p:nvCxnSpPr>
              <p:cNvPr id="673" name="AutoShape 1200"/>
              <p:cNvCxnSpPr>
                <a:stCxn id="672" idx="0"/>
                <a:endCxn id="668" idx="2"/>
              </p:cNvCxnSpPr>
              <p:nvPr/>
            </p:nvCxnSpPr>
            <p:spPr>
              <a:xfrm flipH="1" flipV="1" rot="5400000">
                <a:off x="1082520" y="4349880"/>
                <a:ext cx="172800" cy="485640"/>
              </a:xfrm>
              <a:prstGeom prst="bentConnector3">
                <a:avLst>
                  <a:gd name="adj1" fmla="val 49686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  <p:pic>
            <p:nvPicPr>
              <p:cNvPr id="674" name="Picture 1201" descr="j0238675"/>
              <p:cNvPicPr/>
              <p:nvPr/>
            </p:nvPicPr>
            <p:blipFill>
              <a:blip r:embed="rId38"/>
              <a:stretch/>
            </p:blipFill>
            <p:spPr>
              <a:xfrm>
                <a:off x="935280" y="4300200"/>
                <a:ext cx="228960" cy="18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Picture 1202" descr="j0290140"/>
              <p:cNvPicPr/>
              <p:nvPr/>
            </p:nvPicPr>
            <p:blipFill>
              <a:blip r:embed="rId39"/>
              <a:stretch/>
            </p:blipFill>
            <p:spPr>
              <a:xfrm>
                <a:off x="1301760" y="4216320"/>
                <a:ext cx="219240" cy="2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Picture 1203" descr="j0350584"/>
              <p:cNvPicPr/>
              <p:nvPr/>
            </p:nvPicPr>
            <p:blipFill>
              <a:blip r:embed="rId40"/>
              <a:stretch/>
            </p:blipFill>
            <p:spPr>
              <a:xfrm>
                <a:off x="789120" y="4679280"/>
                <a:ext cx="276480" cy="20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Picture 1204" descr="j0287292"/>
              <p:cNvPicPr/>
              <p:nvPr/>
            </p:nvPicPr>
            <p:blipFill>
              <a:blip r:embed="rId41"/>
              <a:stretch/>
            </p:blipFill>
            <p:spPr>
              <a:xfrm>
                <a:off x="1589400" y="4374360"/>
                <a:ext cx="227880" cy="43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Picture 1205" descr="j0342891"/>
              <p:cNvPicPr/>
              <p:nvPr/>
            </p:nvPicPr>
            <p:blipFill>
              <a:blip r:embed="rId42"/>
              <a:stretch/>
            </p:blipFill>
            <p:spPr>
              <a:xfrm>
                <a:off x="1432440" y="4997880"/>
                <a:ext cx="347040" cy="2325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679" name="AutoShape 1206"/>
              <p:cNvCxnSpPr>
                <a:stCxn id="677" idx="2"/>
                <a:endCxn id="678" idx="0"/>
              </p:cNvCxnSpPr>
              <p:nvPr/>
            </p:nvCxnSpPr>
            <p:spPr>
              <a:xfrm rot="5400000">
                <a:off x="1558080" y="4852800"/>
                <a:ext cx="193680" cy="97920"/>
              </a:xfrm>
              <a:prstGeom prst="bentConnector3">
                <a:avLst>
                  <a:gd name="adj1" fmla="val 49906"/>
                </a:avLst>
              </a:prstGeom>
              <a:ln w="57240">
                <a:solidFill>
                  <a:srgbClr val="3333cc"/>
                </a:solidFill>
                <a:miter/>
              </a:ln>
            </p:spPr>
          </p:cxnSp>
        </p:grpSp>
        <p:cxnSp>
          <p:nvCxnSpPr>
            <p:cNvPr id="680" name="AutoShape 1207"/>
            <p:cNvCxnSpPr>
              <a:stCxn id="678" idx="2"/>
              <a:endCxn id="628" idx="2"/>
            </p:cNvCxnSpPr>
            <p:nvPr/>
          </p:nvCxnSpPr>
          <p:spPr>
            <a:xfrm flipH="1" rot="16200000">
              <a:off x="1692360" y="5145120"/>
              <a:ext cx="102240" cy="27324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681" name="AutoShape 1208"/>
            <p:cNvCxnSpPr>
              <a:stCxn id="663" idx="3"/>
              <a:endCxn id="628" idx="3"/>
            </p:cNvCxnSpPr>
            <p:nvPr/>
          </p:nvCxnSpPr>
          <p:spPr>
            <a:xfrm flipV="1">
              <a:off x="1722240" y="5630040"/>
              <a:ext cx="324360" cy="9756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682" name="AutoShape 1209"/>
            <p:cNvCxnSpPr>
              <a:stCxn id="657" idx="1"/>
              <a:endCxn id="628" idx="0"/>
            </p:cNvCxnSpPr>
            <p:nvPr/>
          </p:nvCxnSpPr>
          <p:spPr>
            <a:xfrm flipV="1" rot="10800000">
              <a:off x="2397960" y="4597920"/>
              <a:ext cx="450000" cy="32292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pic>
          <p:nvPicPr>
            <p:cNvPr id="683" name="Picture 1210" descr="j0287292"/>
            <p:cNvPicPr/>
            <p:nvPr/>
          </p:nvPicPr>
          <p:blipFill>
            <a:blip r:embed="rId43"/>
            <a:stretch/>
          </p:blipFill>
          <p:spPr>
            <a:xfrm>
              <a:off x="3890880" y="4830840"/>
              <a:ext cx="376200" cy="709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84" name="AutoShape 1211"/>
            <p:cNvCxnSpPr>
              <a:stCxn id="628" idx="6"/>
              <a:endCxn id="683" idx="1"/>
            </p:cNvCxnSpPr>
            <p:nvPr/>
          </p:nvCxnSpPr>
          <p:spPr>
            <a:xfrm flipV="1">
              <a:off x="2917440" y="5184360"/>
              <a:ext cx="973800" cy="148320"/>
            </a:xfrm>
            <a:prstGeom prst="bentConnector3">
              <a:avLst>
                <a:gd name="adj1" fmla="val 48853"/>
              </a:avLst>
            </a:prstGeom>
            <a:ln w="57240">
              <a:solidFill>
                <a:srgbClr val="3333cc"/>
              </a:solidFill>
              <a:miter/>
            </a:ln>
          </p:spPr>
        </p:cxnSp>
        <p:pic>
          <p:nvPicPr>
            <p:cNvPr id="685" name="Picture 1213" descr="j0239737"/>
            <p:cNvPicPr/>
            <p:nvPr/>
          </p:nvPicPr>
          <p:blipFill>
            <a:blip r:embed="rId44"/>
            <a:stretch/>
          </p:blipFill>
          <p:spPr>
            <a:xfrm>
              <a:off x="4191120" y="4114800"/>
              <a:ext cx="792000" cy="617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86" name="AutoShape 1214"/>
            <p:cNvCxnSpPr>
              <a:stCxn id="683" idx="3"/>
              <a:endCxn id="685" idx="2"/>
            </p:cNvCxnSpPr>
            <p:nvPr/>
          </p:nvCxnSpPr>
          <p:spPr>
            <a:xfrm flipV="1">
              <a:off x="4266720" y="4731840"/>
              <a:ext cx="321480" cy="45504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pic>
          <p:nvPicPr>
            <p:cNvPr id="687" name="Picture 1216" descr="BS01640_"/>
            <p:cNvPicPr/>
            <p:nvPr/>
          </p:nvPicPr>
          <p:blipFill>
            <a:blip r:embed="rId45"/>
            <a:stretch/>
          </p:blipFill>
          <p:spPr>
            <a:xfrm>
              <a:off x="7696080" y="1752480"/>
              <a:ext cx="1051200" cy="1063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88" name="AutoShape 1217"/>
            <p:cNvCxnSpPr>
              <a:stCxn id="685" idx="0"/>
              <a:endCxn id="553" idx="2"/>
            </p:cNvCxnSpPr>
            <p:nvPr/>
          </p:nvCxnSpPr>
          <p:spPr>
            <a:xfrm flipH="1" flipV="1" rot="5400000">
              <a:off x="4260240" y="3526920"/>
              <a:ext cx="915120" cy="261000"/>
            </a:xfrm>
            <a:prstGeom prst="bentConnector2">
              <a:avLst/>
            </a:prstGeom>
            <a:ln w="57240">
              <a:solidFill>
                <a:srgbClr val="3333cc"/>
              </a:solidFill>
              <a:miter/>
            </a:ln>
          </p:spPr>
        </p:cxnSp>
        <p:sp>
          <p:nvSpPr>
            <p:cNvPr id="689" name="Text Box 1220"/>
            <p:cNvSpPr/>
            <p:nvPr/>
          </p:nvSpPr>
          <p:spPr>
            <a:xfrm>
              <a:off x="7164720" y="412920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cc"/>
                  </a:solidFill>
                  <a:latin typeface="Arial"/>
                </a:rPr>
                <a:t>Red 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1221"/>
            <p:cNvSpPr/>
            <p:nvPr/>
          </p:nvSpPr>
          <p:spPr>
            <a:xfrm>
              <a:off x="6631200" y="167652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cc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Group 1230"/>
            <p:cNvGrpSpPr/>
            <p:nvPr/>
          </p:nvGrpSpPr>
          <p:grpSpPr>
            <a:xfrm>
              <a:off x="6934320" y="2666520"/>
              <a:ext cx="990360" cy="305280"/>
              <a:chOff x="6934320" y="2666520"/>
              <a:chExt cx="990360" cy="305280"/>
            </a:xfrm>
          </p:grpSpPr>
          <p:sp>
            <p:nvSpPr>
              <p:cNvPr id="692" name="Line 1227"/>
              <p:cNvSpPr/>
              <p:nvPr/>
            </p:nvSpPr>
            <p:spPr>
              <a:xfrm flipV="1">
                <a:off x="6934320" y="2666520"/>
                <a:ext cx="533160" cy="2286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228"/>
              <p:cNvSpPr/>
              <p:nvPr/>
            </p:nvSpPr>
            <p:spPr>
              <a:xfrm flipV="1">
                <a:off x="7238880" y="2666520"/>
                <a:ext cx="685800" cy="30492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229"/>
              <p:cNvSpPr/>
              <p:nvPr/>
            </p:nvSpPr>
            <p:spPr>
              <a:xfrm flipH="1">
                <a:off x="7238520" y="2666880"/>
                <a:ext cx="228600" cy="30492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Conectividad y Estándar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Servicios de Red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Paquetes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Tecnología que divide bloques de mensajes en pequeños paquetes de datos de tamaño fijo, que incluyen información de dirección, información de ruteo, información de control de errores y el mensaje. Cada paquete viaja en forma independiente por la red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elevo de tramas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: Tecnología que organiza los datos en “tramas” (similares a los paquetes) pero sin la corrección de error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odelos de Conectividad de Redes: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TCP/IP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: Protocolo de Control de transmisión/Protocolo Internet. Tiene un modelo de referencia de cinco capas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1. Aplicación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2. Protocolo de Control de transmisión (TCP)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3. Protocolo Internet (IP)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4. Interfase de Red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5.Red Físic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odelo OSI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Protocolo de Interconexión de Sistemas Abiertos. Tiene un modelo de referencia de siete capas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Tecnologías de Comercio Electrónic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Aplicaciones facilitadoras que apoyan el comercio electrónico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orreo electrónico (E-mail): </a:t>
            </a:r>
            <a:r>
              <a:rPr b="0" lang="es-ES_tradnl" sz="1200" spc="-1" strike="noStrike">
                <a:solidFill>
                  <a:srgbClr val="3333cc"/>
                </a:solidFill>
                <a:latin typeface="Arial"/>
              </a:rPr>
              <a:t>Agiliza las comunicaciones y la persecución telefónica y abarata los costos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orreo de voz: </a:t>
            </a:r>
            <a:r>
              <a:rPr b="0" lang="es-ES_tradnl" sz="1200" spc="-1" strike="noStrike">
                <a:solidFill>
                  <a:srgbClr val="3333cc"/>
                </a:solidFill>
                <a:latin typeface="Arial"/>
              </a:rPr>
              <a:t>Son los mensajes guardados cuando no está el receptor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437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Maquinas de fax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Servicios de información digital: </a:t>
            </a:r>
            <a:r>
              <a:rPr b="0" lang="es-ES_tradnl" sz="1200" spc="-1" strike="noStrike">
                <a:solidFill>
                  <a:srgbClr val="3333cc"/>
                </a:solidFill>
                <a:latin typeface="Arial"/>
              </a:rPr>
              <a:t>obtener diversa información sin importar la distancia geográfica.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437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eleconferencias - Videoconferencias - Chat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437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rabajo en equipo – colaborativo </a:t>
            </a:r>
            <a:r>
              <a:rPr b="0" lang="es-ES_tradnl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 Groupwar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Intercambio electrónico de datos (EDI):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Arial"/>
              </a:rPr>
              <a:t>Transacciones directas efectuadas con documentación estándar entre clientes y proveedores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Implementación de Telecomunicacion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89080" y="1752480"/>
            <a:ext cx="853416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1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Plan de telecomunicaciones: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Realizar auditoria de las funciones de comunicación en la Compañía.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onocer las metas del negocio a largo plazo: análisis de cómo las comunicaciones van a contribuir a las mismas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Identificar las áreas críticas para mejorar su desempeño con telecomunicaciones</a:t>
            </a: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Factores a tener en cuenta</a:t>
            </a: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(en la determinación e Implementación del plan)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valuar la distancia a cubrir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Gama de servicios que la red debe apoyar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Seguridad en comunicacion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antidad de accesos en la organización (Cantidad de nodos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Grado de aprovechamiento o tasa (Frecuencia/ Volumen de Comunicaciones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Dificultad de instalació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onectividad requerid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9080" y="1066320"/>
            <a:ext cx="85341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89080" y="1447920"/>
            <a:ext cx="8534160" cy="45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Definiciones asociada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Funciones de un Sistema de Telecomunicacion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mponentes de un Sistema de Telecomunicacion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Tipos de Señal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anales de Comunicacion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Velocidad de Transmisió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lasificación de Red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0504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Por su Forma (Topologías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Estrell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Bus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Anill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0504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Por su Alcance Geográfic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WA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5756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VA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Gráfico General de una Red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nectividad y Estándar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Arial"/>
              </a:rPr>
              <a:t>Tecnologías de Comercio Electrónic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2520" indent="-452520">
              <a:lnSpc>
                <a:spcPct val="11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Arial"/>
              </a:rPr>
              <a:t>Implementación de Telecomunicacion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finiciones asociada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341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Telecomunicaciones:</a:t>
            </a: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municación de Información por medios electrónicos, generalmente a cierta distancia. Se puede transmitir, voz, datos, imágenes y vide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6496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Redes: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dos o más computadoras enlazadas para compartir datos o recursos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6496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Sistema de Telecomunicaciones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njunto de hardware y software que actúa conjuntamente para comunicar información de un lugar a otr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6496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Supercarretera de la Información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Redes digitales de telecomunicaciones de alcance nacional o mundial accesible al público en general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64960" indent="-264960">
              <a:lnSpc>
                <a:spcPct val="125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Protocolo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njunto de reglas y procedimientos que regulan la transmisión entre los componentes de una red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64960" indent="-264960">
              <a:lnSpc>
                <a:spcPct val="125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Topología: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Forma o configuración de una red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6496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Funciones de un Sistema de Telecomunicacion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89080" y="1752120"/>
            <a:ext cx="853416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El sistema de telecomunicaciones es el responsable de: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5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establecer la interface entre un transmisor y un receptor,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5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transmitir la información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5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dirigir los mensaje por el trayecto más eficiente,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5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realizar un procesamiento elemental de la información para asegurar que el mensaje no contenga errores de transmisión,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5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administrar la velocidad de transmisión,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5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administrar los formatos de transmisión y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5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controlar el flujo de la información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omponentes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 de un Sistema de Telecomunicacion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85492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1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Los componentes de un sistema de telecomunicaciones son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Computadoras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para procesar la información.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437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Terminales o dispositivos de entrada/salida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que envían o reciben datos.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437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Canales de comunicación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que sirven de enlace entre los dispositivos transmisores y receptores de la red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437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Procesadores de comunicaciones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que apoyan la transmisión y recepción de informació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Modems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( traduce señales digitales en analógicas y viceversa 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Multiplexores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( dispositivo que divide un solo canal para que pueda compartirse por varios dispositivos transmisores 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ntroladores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(supervisa el tráfico entre la CPU y los dispositivos perisféricos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Procesadores frontales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(pequeña computadora conectada a la computadora anfitriona para administrar las comunicaciones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Concentrador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(reúne y almacena temporalmente mensajes para enviarlos conjuntamente más tarde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56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Software de comunicaciones </a:t>
            </a: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que controla las entradas y salidas en la red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pos de Señal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88720" y="1752480"/>
            <a:ext cx="885492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La información viaja a través del sistema de telecomunicaciones en forma de señales electromagnéticas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542880" indent="31680">
              <a:lnSpc>
                <a:spcPct val="17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Analógicas</a:t>
            </a: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onda de forma continua que pasa a través del medio de comunicació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542880" indent="31680">
              <a:lnSpc>
                <a:spcPct val="17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3333cc"/>
                </a:solidFill>
                <a:uFillTx/>
                <a:latin typeface="Arial"/>
              </a:rPr>
              <a:t>Digitales</a:t>
            </a: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onda de forma discreta. Transmite datos codificados en dos estados: 1 y 0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54288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54288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Los 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ODEM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s transforman las señales digitales en analógicas y las analógicas en digitales (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OD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ulación, 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DEMOD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ulación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anales de Comunicació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34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Son los medios por dónde se transmiten las telecomunicaciones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56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Alámbricos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Cable Trenzado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Cable Coaxi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Fibra Óptic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56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Inalámbrico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Microondas terrestres o astrales </a:t>
            </a:r>
            <a:r>
              <a:rPr b="0" lang="es-MX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ondas de trayecto recto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437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Satélites </a:t>
            </a: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estaciones de retransmision de señales microondas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Ondas de radio </a:t>
            </a: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Son omnidireccionales y se transmiten entre antenas de radio ó células. Ejemplos. Sistema localizadores, Telefonía celular ó móvil, Teléfonos Inteligentes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Ondas Infrarrojas </a:t>
            </a: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Son direccionales y se utilizan para corto alcance. Ejemplo: controles remotos, comunicación entre agendas electrónicas chicas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-457200">
              <a:lnSpc>
                <a:spcPct val="125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Ondas de Luz </a:t>
            </a: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3333cc"/>
                </a:solidFill>
                <a:latin typeface="Arial"/>
              </a:rPr>
              <a:t>son unidireccionales y se trata de láseres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13716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Velocidad de transmisió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53452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velocidad de transmisión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de un canal de telecomunicaciones se mide en </a:t>
            </a:r>
            <a:r>
              <a:rPr b="1" i="1" lang="es-MX" sz="1600" spc="-1" strike="noStrike">
                <a:solidFill>
                  <a:srgbClr val="3333cc"/>
                </a:solidFill>
                <a:latin typeface="Arial"/>
              </a:rPr>
              <a:t>bits por segundo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1" i="1" lang="es-MX" sz="1600" spc="-1" strike="noStrike">
                <a:solidFill>
                  <a:srgbClr val="3333cc"/>
                </a:solidFill>
                <a:latin typeface="Arial"/>
              </a:rPr>
              <a:t>BPS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). Esto es la tasa de </a:t>
            </a:r>
            <a:r>
              <a:rPr b="1" i="1" lang="es-MX" sz="1600" spc="-1" strike="noStrike">
                <a:solidFill>
                  <a:srgbClr val="3333cc"/>
                </a:solidFill>
                <a:latin typeface="Arial"/>
              </a:rPr>
              <a:t>baudio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6496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Baudio: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suceso binario que representa un cambio de señal de positiva a negativa o vicevers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6496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capacidad de transmisión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de un medio de telecomunicaciones esta en función de su frecuencia de onda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(ciclos por segundo)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y se mide en </a:t>
            </a:r>
            <a:r>
              <a:rPr b="1" i="1" lang="es-MX" sz="1600" spc="-1" strike="noStrike">
                <a:solidFill>
                  <a:srgbClr val="3333cc"/>
                </a:solidFill>
                <a:latin typeface="Arial"/>
              </a:rPr>
              <a:t>hertz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64960" indent="-264960">
              <a:lnSpc>
                <a:spcPct val="125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El intervalo de frecuencias que caben en un canal de telecomunicaciones determina su 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ancho de band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6496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El</a:t>
            </a: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 ancho de banda</a:t>
            </a: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 es la diferencia entre la frecuencia más alta y más baja a la que  puede dar cabida en un canal.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908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lasificación de Redes – Por su Form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8720" y="1218960"/>
            <a:ext cx="153972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Estrel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6" name="Picture 5" descr="j0239159"/>
          <p:cNvPicPr/>
          <p:nvPr/>
        </p:nvPicPr>
        <p:blipFill>
          <a:blip r:embed="rId1"/>
          <a:stretch/>
        </p:blipFill>
        <p:spPr>
          <a:xfrm>
            <a:off x="1460520" y="2057400"/>
            <a:ext cx="1589040" cy="1301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j0290140"/>
          <p:cNvPicPr/>
          <p:nvPr/>
        </p:nvPicPr>
        <p:blipFill>
          <a:blip r:embed="rId2"/>
          <a:stretch/>
        </p:blipFill>
        <p:spPr>
          <a:xfrm>
            <a:off x="6781680" y="1905120"/>
            <a:ext cx="1220760" cy="144612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15"/>
          <p:cNvGrpSpPr/>
          <p:nvPr/>
        </p:nvGrpSpPr>
        <p:grpSpPr>
          <a:xfrm>
            <a:off x="1403280" y="2060280"/>
            <a:ext cx="6705720" cy="3114720"/>
            <a:chOff x="1403280" y="2060280"/>
            <a:chExt cx="6705720" cy="3114720"/>
          </a:xfrm>
        </p:grpSpPr>
        <p:pic>
          <p:nvPicPr>
            <p:cNvPr id="499" name="Picture 4" descr="j0287292"/>
            <p:cNvPicPr/>
            <p:nvPr/>
          </p:nvPicPr>
          <p:blipFill>
            <a:blip r:embed="rId3"/>
            <a:stretch/>
          </p:blipFill>
          <p:spPr>
            <a:xfrm>
              <a:off x="4375080" y="2174760"/>
              <a:ext cx="1168560" cy="22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6" descr="j0238675"/>
            <p:cNvPicPr/>
            <p:nvPr/>
          </p:nvPicPr>
          <p:blipFill>
            <a:blip r:embed="rId4"/>
            <a:stretch/>
          </p:blipFill>
          <p:spPr>
            <a:xfrm>
              <a:off x="1403280" y="3927240"/>
              <a:ext cx="175428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7" descr="j0350584"/>
            <p:cNvPicPr/>
            <p:nvPr/>
          </p:nvPicPr>
          <p:blipFill>
            <a:blip r:embed="rId5"/>
            <a:stretch/>
          </p:blipFill>
          <p:spPr>
            <a:xfrm>
              <a:off x="6889680" y="4103640"/>
              <a:ext cx="1219320" cy="814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02" name="AutoShape 11"/>
            <p:cNvCxnSpPr>
              <a:stCxn id="499" idx="1"/>
              <a:endCxn id="500" idx="3"/>
            </p:cNvCxnSpPr>
            <p:nvPr/>
          </p:nvCxnSpPr>
          <p:spPr>
            <a:xfrm flipV="1" rot="10800000">
              <a:off x="3156840" y="3295080"/>
              <a:ext cx="1218240" cy="1256400"/>
            </a:xfrm>
            <a:prstGeom prst="bentConnector3">
              <a:avLst>
                <a:gd name="adj1" fmla="val 49926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03" name="AutoShape 12"/>
            <p:cNvCxnSpPr>
              <a:stCxn id="499" idx="1"/>
              <a:endCxn id="496" idx="3"/>
            </p:cNvCxnSpPr>
            <p:nvPr/>
          </p:nvCxnSpPr>
          <p:spPr>
            <a:xfrm rot="10800000">
              <a:off x="3156840" y="2139120"/>
              <a:ext cx="1218240" cy="1156320"/>
            </a:xfrm>
            <a:prstGeom prst="bentConnector3">
              <a:avLst>
                <a:gd name="adj1" fmla="val 49926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04" name="AutoShape 13"/>
            <p:cNvCxnSpPr>
              <a:stCxn id="499" idx="3"/>
              <a:endCxn id="497" idx="1"/>
            </p:cNvCxnSpPr>
            <p:nvPr/>
          </p:nvCxnSpPr>
          <p:spPr>
            <a:xfrm flipV="1">
              <a:off x="5543280" y="2060280"/>
              <a:ext cx="1346400" cy="1235520"/>
            </a:xfrm>
            <a:prstGeom prst="bentConnector3">
              <a:avLst>
                <a:gd name="adj1" fmla="val 49986"/>
              </a:avLst>
            </a:prstGeom>
            <a:ln w="57240">
              <a:solidFill>
                <a:srgbClr val="3333cc"/>
              </a:solidFill>
              <a:miter/>
            </a:ln>
          </p:spPr>
        </p:cxnSp>
        <p:cxnSp>
          <p:nvCxnSpPr>
            <p:cNvPr id="505" name="AutoShape 14"/>
            <p:cNvCxnSpPr>
              <a:stCxn id="499" idx="3"/>
              <a:endCxn id="501" idx="1"/>
            </p:cNvCxnSpPr>
            <p:nvPr/>
          </p:nvCxnSpPr>
          <p:spPr>
            <a:xfrm>
              <a:off x="5543280" y="3295440"/>
              <a:ext cx="1346400" cy="1216800"/>
            </a:xfrm>
            <a:prstGeom prst="bentConnector3">
              <a:avLst>
                <a:gd name="adj1" fmla="val 49986"/>
              </a:avLst>
            </a:prstGeom>
            <a:ln w="57240">
              <a:solidFill>
                <a:srgbClr val="3333cc"/>
              </a:solidFill>
              <a:miter/>
            </a:ln>
          </p:spPr>
        </p:cxnSp>
      </p:grpSp>
      <p:sp>
        <p:nvSpPr>
          <p:cNvPr id="506" name="Rectangle 16"/>
          <p:cNvSpPr/>
          <p:nvPr/>
        </p:nvSpPr>
        <p:spPr>
          <a:xfrm>
            <a:off x="395280" y="5445000"/>
            <a:ext cx="856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Arial"/>
              </a:rPr>
              <a:t>Desventaja: 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Vulnerabilidad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2:28:59Z</dcterms:created>
  <dc:creator>Pablo Turmero</dc:creator>
  <dc:description/>
  <dc:language>en-US</dc:language>
  <cp:lastModifiedBy>Pablo Turmero</cp:lastModifiedBy>
  <dcterms:modified xsi:type="dcterms:W3CDTF">2014-08-09T19:26:38Z</dcterms:modified>
  <cp:revision>174</cp:revision>
  <dc:subject/>
  <dc:title>Presentación de PowerPoint</dc:title>
</cp:coreProperties>
</file>