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7C4-61AE-4EFF-B2D1-E3BB2F88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83A-0AFA-4950-87D0-BEFDFD55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E7B13-2782-465D-901B-9679368D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15C1F-6F46-42DF-B8B3-604FD7C5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748C1-A233-49B6-8213-30FB749D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6B88B-CB3F-4403-89F8-7678DB7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5CFD-FEC8-4D76-A452-D08700C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80535-2BB0-4BF5-BB5B-37C16BCD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0BF78-DC52-41BC-94A1-56D71D6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1E301-CD5F-486A-8CA0-FE848FF1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96EF6-2559-49D8-BF82-FBFC8BE0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5756D-2E6D-49BE-8ED6-58E6FC7E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081-2E0F-4829-9385-BBD68533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63461-CB56-42B9-B80D-151ED5A1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6128D-7866-4367-946C-55C6D9DD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16E0A-7414-465F-9C0D-DCE3B7EA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2D600-4A86-4B3C-8C67-1679DA1B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DF377-7B53-4DFD-B4CD-C2506E4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D4332-4682-43AC-AE05-044310A0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FB39D-4557-4D12-9C97-5C1FA9D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E2067-9069-4C4D-A117-27AC5A8C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C48B8-0C07-4DE4-A6A7-B6E3436E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1D9D-FE3C-4549-B3FD-12268640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7B3-3D9F-40BE-9600-41A71A99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38213-9C4C-4C9E-AF92-29EB02B4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D38C-04AF-4BDD-98CB-0583B6CA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49D06-16F5-4A25-866E-492B9409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C6971-5A2D-4E48-9A16-91B0097F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5DB43-417A-4E7C-A83E-5FD992AC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CA0D2-443B-4B81-819C-2DCBF97C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2BB17-266A-4C7F-AD5C-9D496AEA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5B3DE-02CF-45BF-BC83-F210ABFA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360A2-6C04-43DC-A4EE-5FA753B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DD86E-9A71-4111-B18B-619D090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F6CB-736A-47A0-BD0E-A48851C3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9A78-B929-4A95-A098-E27BF80C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2E430-E396-4EFC-952B-04D587E9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2B60E-DF68-4C54-A94D-051E7637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50FCB-5F5B-4CC9-9F8B-5A649C12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29FAA-9A53-4498-81C7-01EBE7C5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EFAF5-F130-4F28-B864-49622597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75479-26E1-48E9-9F97-0B9A184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6F07F-3488-4649-80AC-9B2971C6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62C86-50A4-4753-8C04-CC8F5464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E7028-B5F1-433C-9B75-15B4B6B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20D9-F506-47D7-ADDC-189793A5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B8E1-EDF0-4A53-A56F-61B3ED4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5B6EC-45F4-4658-AF7A-B44A9E4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98F8D-A4ED-45D9-B834-55D4D9A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569CD-4012-4E84-BAEC-E8982DD3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1166C-16F3-401A-A4B1-5AA77D38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7E018-E312-406A-8517-30422AEB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6B8BE-A784-431E-8EF8-951BEF63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BB5A9-0C3E-4CE1-8DDB-F3B106C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5506C-907C-44F8-9CA9-26A4737F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CCF66-5313-47D5-A0EC-E1377AF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A4D5-801C-445B-B7DA-F7550BB5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75E41-6FEE-4EC5-9003-21FA814D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30781-7598-4A13-A2EF-1E41A8BA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42596-C10A-4338-B2B2-D6F8DC1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9462F-F02D-4B6C-BBBE-0B0B7BBF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73136-95E2-4BCB-ACAD-43C6FD11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19B49-E7A2-4918-9199-76F51DCE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E4436-4CBB-409F-A61A-FCA65AD8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523B-66DE-414B-96F8-1CBAEFCE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51BB-B74E-4C33-95E0-82B2346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BDF2-856B-4464-B3CC-1925FC49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53C1-3398-461C-A71B-02CB577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52D-BAD8-4133-A5EB-84FB5D35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BBC-3A4E-4911-9789-E8AC79F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48F0-9F9C-44F7-BA43-8FC7841A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A19A-5481-42F9-BEE8-05BE0254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9721-77A4-4798-ACE1-B03FCE63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F6E5-9136-419F-8409-4FCE9848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CDF3-AF01-4DBC-A4A4-CF63A5C4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C60B-0563-40A1-B2B5-82D0049C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6768-3B92-433C-A0F5-DA7BB167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1E78-9657-4301-9DE9-42BA6995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47F1-2F8F-42ED-9633-9CD7BF3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93F-9DBD-4348-B787-CFE2AFF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5332-2C1F-4825-9ED2-E209AD4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7561-30E8-4E6A-BA20-5D4402D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C7F5-653A-4CB5-A641-36BF9B4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CEF0-98B0-49B6-8289-B5E96D2E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3C48-8BE8-40B1-85C8-32EB2FF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79D8-C86D-45D6-ADD4-709D87C2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D4DC-F3C1-42C1-9785-82594C22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A322-0C36-401A-A2CB-0D25586D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B437-6130-49A5-BD15-FC136D0C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76E62-74B4-4E34-B1BE-92961B0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045-3372-44F1-97D3-3A215866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48EC-EFCA-40A0-AC8C-5DF97B48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399A-5154-4DC0-9256-DB87B76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F73B-895D-4D32-8C05-B259FE7B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D088-B7DF-4CAB-B71A-E9A70D2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B58C-853B-4EA8-AB81-99881D0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41A9-1E1E-40DA-B394-540D05BC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822C-99EB-4AFD-8B30-15D4AFF5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9197-A7FF-4618-AC2C-452E3B18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0164-257A-480D-90B1-36B9575B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2F9B-20DB-4E04-87C1-48E2B0B4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0FA-E118-49A7-BB69-BE6B81BD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B004-3500-422E-9DB5-61C59863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2B6F-6FB1-4ABC-B9C3-C95E8683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491A-410C-4A15-9235-C5BBC4A0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9EA1-615F-44CB-B51C-61D504A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715A-CF49-4666-A258-2C4353A3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1CE6-6D46-4A89-810B-6EB67F6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27F7-3EC2-4698-BD44-574776C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3961-BC65-4735-B327-F1B8FAF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9AC67-2634-46DB-ADAE-EC4B46A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06A55-C0B4-4D13-8B8C-51077FAF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6F8-FAF9-444C-8CDA-860CDE79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DB787-870B-4966-B018-1F517030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FBB02-369B-4B38-BBB1-4C3B487C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C3AF0-AFC9-4119-B725-F5D6665A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159FC-0F5E-42CA-B141-9736A2C1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3DB27-F411-408A-9765-9F31561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EAC3-FEF4-471A-92DD-398FB799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1826-BD5F-4C75-A391-0A8F2C6F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7970-510E-414D-80DD-B50EE45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1FEE-C7E0-4CC5-BE82-0E4ADDBE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83121-7FFD-428A-AAF7-27B3E58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BC8-12FD-4344-94AC-4CF9933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CBE4-6C76-40A8-BBFB-8B244D29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82FB1-B59D-4E72-82E8-6ED21DC7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3F7E3-23D0-4F74-AC55-5976AE5F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51B9-0119-493C-8DD0-3DD0EEAF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BE297-39B9-45E5-A3AA-B069F454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F2C0-D5CA-492A-A8D1-6472058E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D43B-232C-4C90-99D2-C889D6DA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81B6-E42E-4632-AA15-59870E6B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0BBF-D977-4C27-8AAC-C987F91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7BE3-25D8-4D7C-ADF8-22E1FBCD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D83-4974-4E5B-8653-EBF7A779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4545-8365-4023-979E-15AF6FD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0DC09-5CE4-4CE0-B8C9-FDF7BD4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1917D-2610-4D68-83E5-3FA60E5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76A9-1E51-4B17-989E-4C347075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DECE-D058-4B00-9658-55B9E290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65F63-C660-478A-BF8C-78167841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D0960-9979-4496-A3EA-AE2329C8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C26A-EE3A-483E-B4CA-10E5FA45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E7CF5-C048-40C0-B26B-364A0AB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97AD-BC11-418C-9AB9-DEB0BB7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5BF-8E35-4245-8821-B253548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46D6-27D7-4542-8A7A-8179361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AF930-D66E-4BCF-A73D-72323C7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2469B-689C-43FA-8EDB-5CA971E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05C9B-4C61-4D56-8EE3-8C3DB6BE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A1C5-7C86-4750-9191-25655F0D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1E6EE-9E9B-43C6-B796-7F60771C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243C7-24BA-4128-81FE-CE905BB3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56E3-A734-4F0E-ABCD-5EB14021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B998A-46E6-412F-8BDD-E10A60E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6A5FA-C4E5-41C4-A022-B622C35C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0F7B-F02D-4B62-A43C-96EBB8F18BE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E55C-736C-41C3-AC97-3880C638565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DC27-E306-4C06-B755-859E0EA4253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4DE1-9B2C-4D54-9B9F-05960FA8A29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B90-A1D8-4D97-94CF-FAB45CAB10F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3C09-3EB8-470C-980F-24C10157023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B6B2-77AC-4BCE-BD42-6AECCDCAF76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A69-FE84-4466-B5A5-8F414F54932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CE5B-2E14-4ED4-90EE-B2B8F0D2173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5B1-E9CD-4882-ADC0-82E10FE554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82FD-4504-4E8F-9233-FEC48CFDD15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1F6F-4521-4667-A207-9122B47DD3C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0"/>
            </a:gs>
            <a:gs pos="100000">
              <a:srgbClr val="ff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istoria de los Microproces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7529-D8F4-4887-A398-A9A3252401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94F-4675-4067-AEA7-FA57EA3577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Historia de los Microprocesador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croprocesadores para Comun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65D6-9571-4576-99B4-6326547F01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tel 808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croprocesador de 16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9000 transis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56 interrupciones HW/S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rgieron copias (NEC, AMD) y cl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ocesador del primer PC I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icia la familia x86 que llega hasta la actu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714320" cy="942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19047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4EF-E110-4CB5-8F16-F2E91CD42B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otorola 68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68000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croprocesador CISC de 32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8 M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imer miembro de la familia 68k, destinados a competir con los x86 de Int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usó 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Workstations (Sun-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rdenadores (Apple Macintos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solas (SEGA MegaDr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alculado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867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3872-B039-44A9-B3AF-A14FAAD59E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tel 805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crocontrolador para sistemas empot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MOS -&gt; 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AM on-chip de 128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OM on-chip de 4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tinado a aplicaciones de control que requieran bajo consumo, alta integración y alto rend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6659640" y="3284640"/>
            <a:ext cx="1876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3F4-6615-4161-8786-207AD1E45A6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iempo de Vi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332000" y="1989000"/>
          <a:ext cx="6840360" cy="3932280"/>
        </p:xfrm>
        <a:graphic>
          <a:graphicData uri="http://schemas.openxmlformats.org/drawingml/2006/table">
            <a:tbl>
              <a:tblPr/>
              <a:tblGrid>
                <a:gridCol w="1709640"/>
                <a:gridCol w="1711440"/>
                <a:gridCol w="1709640"/>
                <a:gridCol w="1709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ricado 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tim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v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625F-CFA0-489A-8EB7-0AA78679E9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mparati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700280"/>
          <a:ext cx="8435880" cy="441144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5000"/>
                <a:gridCol w="768600"/>
                <a:gridCol w="766800"/>
                <a:gridCol w="768240"/>
                <a:gridCol w="766800"/>
                <a:gridCol w="768240"/>
                <a:gridCol w="765000"/>
                <a:gridCol w="766800"/>
                <a:gridCol w="766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tr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ad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KH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 10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 10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OS 3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MOS 3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 3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Marcador de número de diapositiva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FE5A-71F2-40A7-B3B4-7D393C95F71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Índ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l 4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l 404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l 80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otorola 68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65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Zilog Z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l 808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l 80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otorola 68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l 80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iempo de v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6A93-41F3-4931-A60F-2F8F95B670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tel 400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97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300 transis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740 K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imer microprocesador integrado en un c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croprocesador de 4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trucciones de 12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s de direcciones de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CS4: CPU, ROM, RAM, I/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4211640" y="620640"/>
            <a:ext cx="1190520" cy="1067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023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10C9-431D-449A-B483-DBF22776E9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tel 404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000 transis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mplía el repertorio de instrucciones y el número de regis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roduce interrup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ila de 7 nive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licaciones: juegos, instrumentación, terminales de puntos de venta, desarr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19047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87CC-02B1-46AD-9A3F-698AA43C94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tel 808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6000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croprocesador 8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imer micro manej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quería 3 alimentaciones: +5V, -5V y +12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2 M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untero de pila a memo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sado en las primeras computado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piado en los países de Europa del E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1885680" cy="685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"/>
          <p:cNvPicPr/>
          <p:nvPr/>
        </p:nvPicPr>
        <p:blipFill>
          <a:blip r:embed="rId2"/>
          <a:stretch/>
        </p:blipFill>
        <p:spPr>
          <a:xfrm>
            <a:off x="6804000" y="4653000"/>
            <a:ext cx="1886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0055-62A0-493A-8AD6-EA15A1CDB2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otorola 68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6800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 M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única alimentación de +5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ila localizable en cualquier zona de sus 64 KB de memo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roduce el registro índ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odos de direccio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ries HC11 y HC12 de microcontrol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1886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FF87-006F-41CD-8AF1-866DEA6315C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650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OS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ra el más bar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única alimentación +5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uce el número de registros favoreciendo el acceso a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enor frecuencia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ple I, II y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mod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tari 400, 800 y 600/800X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1886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311-FD68-428B-98D9-F888126427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Zilog Z8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ederico Fag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97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8500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Única alimentación +5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upciones vectoriz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pertorio avanzado de instruc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enor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so en campos muy dive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mbién es copiado en los países del E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66724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Marcador de número de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8988-B873-463D-92A9-D95DDF7AE4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tel 808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6500 transis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 M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’ por los +5V de alimen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vio eclipsado por el Z80 para los P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convirtió a control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trumental NASA y ESA (Polar, Sojourn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9047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45:08Z</dcterms:created>
  <dc:creator>Pablo Turmero</dc:creator>
  <dc:description/>
  <dc:language>en-US</dc:language>
  <cp:lastModifiedBy>Pablo Turmero</cp:lastModifiedBy>
  <dcterms:modified xsi:type="dcterms:W3CDTF">2014-11-20T17:45:36Z</dcterms:modified>
  <cp:revision>5</cp:revision>
  <dc:subject/>
  <dc:title/>
</cp:coreProperties>
</file>