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7E4-89AD-44B4-8D1B-F969EFFB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BE4-E53B-4AC6-8125-80438F16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5B3-FA21-4375-961D-00641311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CA5-4C15-4181-BC32-F88B302A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51BF-BF1F-4425-B408-34A9FA72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3E6D-1CB0-4F31-A8FD-CA94BC88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E776-66A9-42F4-A8B2-DC1FA7AC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7629-020C-444C-A13C-A1D3EE26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26F1-B6E8-419E-BAE0-40F25BEC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3BD4-B508-4DC8-8412-893914C8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67F7-A55F-4822-BA5C-5ADDDCE2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8D2-3783-49A2-96AB-1DD9B078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8158-1DA1-48F9-BC92-4DEB188F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4EE5-DB0E-49C1-BB28-29D876D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1ED5-C1A8-4D1A-852B-27FF733E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65A5-789D-4612-97B9-F628D79E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7B87-F0A2-4414-BD27-8EC4B4E7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1BA-FFED-45BC-8F40-A4617F57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DB8-04F1-4E04-AC6B-217E6CDB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8B1-5975-4737-90BB-8F1F6B49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A49-EC96-470B-A1C0-CFA5C81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B69-AA76-4169-809D-65D7319D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282-2A1C-4369-A42C-02740FB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B3D-6566-4161-B2BD-39338B4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EAA5-FDD3-4819-844C-F655ACD4C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1F17-ABB8-493D-B43B-411EA3109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Fundamentos del Liderazg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artín Taype Mol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áster en Administración de Negocios – M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宋体"/>
              </a:rPr>
              <a:t>Especialización en Dirección de Empre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IDERAZGO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GUNDA ESTRATEGIA: SER TRANSFORMAD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NER ORIENTACION HACIA LOS RESULT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NER CLARA LA MISION Y ESTABLECER UN COMPROMISO CON EL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NTENER EXCELENTES FORMAS DE COMUNICAC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GENERAR CONFIANZ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OSEER UN ALTO SENTIDO DE CREATIVIDAD E INNOVAC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EAR ALTOS NIVELES DE CALIDAD EN EL TRA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AR PERMANENTEMENTE APRENDIEN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EOCUPARSE POR EL ENTRENAMIENTO Y EDUCACION DE LOS DIRIGI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NER SIEMPRE UNA ACTITUD POSITIVA FRENTE A LAS COS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NER CIERTA DOSIS DE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DEAL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CLUSIÓN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CONDUCTA DEL LIDER CAPAZ DE MANTENER A SUS DIRIGID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TIVADOS PERMITE ALCANZAR UNA ORGANIZACION EFICIENTE 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FICAZ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IDERAZGO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IDERAZGO SIGNIFICA HACER A TRAVES DE LOS DEMAS, INFLUENCIAR, GUIAR EN UNA DIRECC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FLUENCIAR SUPONE LOGRAR UN CAMBIO DE ACTITUD O DE CONDUC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INCIPIO FUNDAMENTAL DEL LIDERAZ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UESTO QUE LAS PERSONAS TIENDEN A SEGUIR A QUIENES, DESDE SU PUNTO DE VISTA, LES OFRECEN LOS MEDIOS PARA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ATISFACER SUS METAS PERSONALES,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CUANTO MAS COMPRENDAN LOS ADMINISTRADORES QUÉ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TIVA A SUS SUBORDINAD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Y COMO OPERAN ESTAS MOTIVACIONES, Y CUANTO MAS REFLEJEN ESTA COMPRENSION EN EL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UMPLIMIENTO DE SUS ACCION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ADMINISTRATIVAS, MAYORES PROBABILIDADES HABRÁ DE QUE SEAN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IDERES EFICA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IFERENCIAS ENTRE UN JEFE Y UN LIDER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JEFE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LID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UTORIDAD ES UN PRIVILEGIO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UTORIDAD ES UN PRIVILEG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MANDO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XISTE POR LA AUTORIDAD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XISTE POR LA ACEPTAC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BUSCA AL CULPABLE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RRIGE PERO COMPREN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SIGNA LOS DEBERES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TRABAJA CON LOS DEM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 CONGRUENTE CON SU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ENSAR, DECIR Y HAC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ABE COMO SE HACEN LAS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NSEÑA COMO DEB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AS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HACE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ANEJA A LA GENTE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EPARA A LA GENTE Y L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O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ORDENA A LA GENTE QUE VAY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OTIVA PARA QUE LA GEN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QUIERA I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TILOS DE LIDERAZGO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UTOCRA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MOCRA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IDERAZGO CENTRADO EN EL JEFE VS. LIDERAZGO CENTRADO EN LOS SUBORDIN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SO DE LA AUTORIDAD DE PARTE DEL JEFE VS. AREA DE LIBERTAD DE LOS SUBORDIN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"LAISSEZ FAIRE" O DE "RIENDA SUELTA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UROCRA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ORIENTACION DEL LIDER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TERES POR LAS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ERSON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TERES POR LA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ODUCC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IDERAZGO SITUACION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DE ACUERDO CON LA EXPERIENCIA, REALIZACION, CAPACIDAD Y DISPOSICION DE LOS SUBORDINADOS PARA ACEPTAR RESPONSABILIDAD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CALIDAD DE LA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TERACCION ENTRE EL LIDER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Y SUS DIRIGIDOS Y EL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IVEL DE ESTRUCTURACION DE LA TARE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QUE REALIZAN DETERMINA EL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DER DE INFLUENCI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L LI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e5ffff"/>
                </a:solidFill>
                <a:latin typeface="Arial"/>
              </a:rPr>
              <a:t>CONTINUO DE LIDERAZGO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4360" y="1341360"/>
          <a:ext cx="7632720" cy="5183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341360"/>
                    <a:ext cx="763272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IDERAZGO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ITOS CON RESPECTO AL LI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L LIDER NACE, NO SE H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LIDERES SON UNA RAREZ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LIDERES TIENEN UN CARISMA ESPEC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LIDERES SOLO EXISTEN EN LA CUSPIDE DE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ORGANIZAC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LIDERES SON MANIPUL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LIDER RETIENE SU CONDICION DE TAL S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ATISFACE NECES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SUELVE PROBLE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ANSFORMA, DA UN SIGNIFICADO EXISTENC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IDERAZGO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ORMAS DE LIDERAZ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IDERAZGO NATU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IDERAZGO CIRCUNSTANC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IDERAZGO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GNOSCIT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RA LLEGAR A SER LIDER SE NECESITA, TALENTO, UN POCO DE BUENA SUERTE Y UNA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TRATEGIA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RA LLEGAR A SER LID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IDERAZGO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IMERA ESTRATEGIA: SER ASERT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R SIEMPRE PARTE DE LA RESPUES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NER UN PROGRA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VER LA OPORTUNIDAD CERCA DE CADA OBSTACU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CIR: PODEMOS HACER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VER UNA RESPUESTA PARA CUALQUIER PROBL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CIR: ES DIFICIL, PERO POSI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2:33:09Z</dcterms:created>
  <dc:creator>MARTIN TAYPE</dc:creator>
  <dc:description/>
  <dc:language>en-US</dc:language>
  <cp:lastModifiedBy>MARTIN</cp:lastModifiedBy>
  <dcterms:modified xsi:type="dcterms:W3CDTF">2015-03-18T02:58:25Z</dcterms:modified>
  <cp:revision>3</cp:revision>
  <dc:subject/>
  <dc:title>Fundamentos del Liderazgo</dc:title>
</cp:coreProperties>
</file>