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6.jpeg" ContentType="image/jpeg"/>
  <Override PartName="/ppt/media/image15.png" ContentType="image/png"/>
  <Override PartName="/ppt/media/image1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A72C-D923-420F-82E4-3F6C045C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2765-EB75-45F2-ADA2-DA87067D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454F9-CDFC-4C97-B100-CE6E284E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F9451-2FEE-440C-90FF-C6979829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68000" y="0"/>
            <a:ext cx="90709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14D42-BE5B-4BDB-97D9-8BD55B8D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D3999-4DAF-44AF-AD3D-0ABF3C1D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9FEAC-2FAD-4030-95D8-BA8126C7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E46EC-556C-483E-B8B3-6CC2DA5B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EA105-E0B6-4BCD-A8BB-D20251B3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5F82A-C626-4AFC-B611-1AD07379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292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7048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3804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47F50-17BC-4D4D-A00F-950032F0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41C00-DDB1-42BE-AAB9-49811EA0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77C1-62C3-4746-90BD-23BA202F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5B69C-69B1-49DA-807C-4F53EB4B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FB799-B6D7-465A-AADC-1172BFED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C2D1E-0153-4134-B5BB-6C57C622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1CCD2-B61B-4EB4-A8CB-5CC00B99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68000" y="0"/>
            <a:ext cx="90709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98F98-AA38-4EF9-878B-59B29DD4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7F741-CCC1-4C69-B72A-C4568B5A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F3BCC-856B-4FBF-9178-8C99B8D4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1919D-B4DC-4381-80CC-41665C96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94CAD-223A-4AF2-8CFA-EA484423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53B3A-ABD2-41D1-989B-9F097235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633-728D-4838-BE84-451E2B04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292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7048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3804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F093A-8F0C-48DF-B9EC-A60BDB89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B9DF5-C1FB-4E0E-967F-E33B367B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9EC1C-D3F6-42BC-AAF1-31CC3C39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FB14F-92B2-42D2-8A01-25CEDC8F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C95BF-A6EA-40EE-8069-F63DD687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6E0B8-8191-43E2-ABA8-DAEB058B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68000" y="0"/>
            <a:ext cx="90709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F1A0E-1A4D-49CD-995D-8F646578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3E217-2073-490B-B723-2077FE7C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A6C3E-804A-4F49-85B2-549EA5C8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51F71-58F4-4C27-B613-90D1D468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9C3B-0FB1-43EB-8516-297235E0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A5DDD-A934-492B-AE6D-799D13CA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2A6F9-606D-4EA4-B803-45E5D2C2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292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7048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3804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05294-3D4B-4B80-B27C-76C3D922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96C8C2-DB73-482A-8630-ECD2FA00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7F78F-342B-4089-B4F3-7F409AA1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BADC3-604D-4789-973A-29E55061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F13F9-D742-47A0-9FE8-5DC0E92A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5EE3A-BF80-4F50-92C1-5D3FE021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68000" y="0"/>
            <a:ext cx="90709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AB9E3-83E3-47FC-9966-3D7D627A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B6E5B-D24C-4C11-8532-B99D98C8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D8D0-F172-4D15-B9DF-2F31ABD6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08A82-879E-42F0-B245-36B14AD7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5460C-4C09-47C0-849C-C2681568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FC228-FFB5-4A5E-ABA5-AF2F0B3A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A5050-5A1E-4D9F-B0C4-56DFA3CE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292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7048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3804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8F6FF-21FB-4D2C-81A5-4F552724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6314-5E32-417C-A394-CE6E8C53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26A0-2073-4F3F-B0A3-1AF4C819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ED6B-9653-4E60-BF79-918A52ED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0"/>
            <a:ext cx="90709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B014-464B-477F-9EFB-C8F763EC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9DA4-DDE3-44D4-A29A-D134C1C7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AEA-8174-4647-9501-84A8A2C4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95FB-7DBA-43F3-88DB-66F39045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751A-1F19-483D-97BD-B3F26C75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BCE6-441D-4247-9A7A-8ACA6C50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1F04-092C-46B2-86D8-BDA1324D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048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804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06D1-5BC9-45E1-9A97-20C1FF91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B7250-0AD5-4665-A6E3-05ED65CD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85F4A-787C-4A95-BAF9-FA1BB1C4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E453F-7313-4B5F-B8BC-54D93385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E99D3-1E99-480E-8690-0237199A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D18B5-0455-4457-904E-42342E0F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6E4-5613-4A49-962E-527CF9DE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000" y="0"/>
            <a:ext cx="90709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7750E-B038-41B4-B195-C31584AC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4A1CE-2BFB-4831-89C7-7F6A84BD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CCCFD-4253-4EC4-BFFC-31B14872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12A43-A293-461B-8D6C-227AD8FE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56AC1-D833-42C2-A3D8-8E176F04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8CA8D-E29A-43EF-A869-FC207C46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7048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804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AE0BF-10E3-49EB-B476-5411BE8D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CDAA1-4C52-43CE-9AE1-9A4AEDA7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D511E-4A40-43BA-9B3C-4D668C31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3DF4D-7B80-4F4D-8ED5-E6AAFD8B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556F-6258-4614-B062-E0D869DA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26560-924D-488C-B299-FE7332BE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3F95E-44CA-48D8-9A65-5E4C8F96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68000" y="0"/>
            <a:ext cx="90709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6F232-F3BD-4524-AABF-37E78FC6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A5266-26AB-403C-B0EF-6B3FE379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3A2B4-04D7-4A5B-B2B9-7D05F9D9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29C22-11D5-4DBC-85C1-2EF90F72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B24F7-0F75-40AE-903C-F1F60806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42C66-0085-4B86-96C0-5AA11BB7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292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7048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804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5A562-9E5E-4401-AF73-377C8757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74B5F-926D-4EDE-8697-94D3C863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316C-8A32-4302-B37F-F86031E7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9AE75-B891-4174-AD02-55C887F9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DF792-8053-4AAE-BB47-D2FCF039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D976E-72BD-4F64-8C17-E5BE79C8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27854-018B-494C-AD1C-F7401F43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68000" y="0"/>
            <a:ext cx="90709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18ECD-F6E0-4722-95D4-9260E421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313AF-0416-4187-91EF-0552CBC4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9BA79-ACDD-4646-9BD9-5BCBEAE5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C22DB-DC4C-4F1D-8E45-4D01498E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91727-066D-4C03-B406-D787557B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883E9-E04A-4BD5-B3AD-84B15625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0"/>
            <a:ext cx="90709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DFD-F99E-40DC-B9FC-4760DDB0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292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7048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804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6979B-247A-4F7E-84E7-9DA4627B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81396-DCB1-42C7-B0BC-2B7689C1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26AA6-FF89-41EF-82AC-932BE8CD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7154C-890B-4818-B6EE-1808F570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14DEF-ABD0-449C-8B9E-64E8F93C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B1F23-69FF-46FF-80E8-CF3AE1CE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68000" y="0"/>
            <a:ext cx="90709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0C82E-300B-40A1-B9E5-DD64C623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1B525-C2DC-404C-89AD-E978F0C4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3198D-455A-4643-AF8A-2D847B7C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DF691-FFA7-4893-90BB-72E3C9B0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48AD-6FE3-499B-9BAC-83794B2D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05BF0-5F80-4540-95A8-32447333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93728-BD60-4F78-8F2E-35C9F02D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292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7048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804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8E0B3-944C-4C0E-9718-896A8035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28632-CAD0-4D66-80F1-CF528ABD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9DBDF-82C0-4B06-9783-D297EA5C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A8B3E-2497-4315-9969-7EA92013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FD428-85A1-4EE9-88C5-E112DC81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4B9B4-3FDD-421F-8832-21C91A4C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68000" y="0"/>
            <a:ext cx="90709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57476-55E6-42D4-A7E7-23F301B3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0AF06-9A36-4850-89D7-5C7824B3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5B42-E072-4880-8297-84A2D0A4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93F51-2BD9-447E-BD3C-DD7FAD3A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19028-7669-489C-9EFA-964C5FCE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3EDA3-2839-4CC3-B578-25D54C00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01C1B-613E-4E83-9CCE-6FFB8EBA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292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7048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804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3CA11-9014-4631-AF73-56A8C736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73403-1363-4A29-9567-FA49C227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7F8EB-4B53-4A93-BCBB-79F7CF20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B7236-7289-496F-91F6-B7DC5515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5113E-962E-47DE-9E98-D476CBB1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07AAB-CCB1-4CEF-BED3-617D822B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4E37-3EBE-4CAF-8496-AB7A5202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68000" y="0"/>
            <a:ext cx="90709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8B41C-2226-4841-9922-7CE8BF55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BAF64-49D7-4F2D-A478-50814026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1DFEA-12BD-440D-8535-30A328DA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530C4-14D6-404E-8147-C29D3E7D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00826-F117-45CA-9119-E160ADDC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C9B32-7353-4C0D-8C40-DAAB7927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292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7048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804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DC2E8-7BEA-41F6-9EB8-F187F87F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655C5-0E6C-4D26-8F2C-0FAF799B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3EF5D-FA2E-4F4F-BAAC-1FDE40CB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0E265-CF13-40C7-A716-FA6FA3FE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FFE5-3B20-4C78-947E-6B840646E766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6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6A1D-5309-4F19-B8A2-A08B854A77B6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226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249F-B965-439A-99DC-3FD8908531E0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26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03C9-37D0-4161-A9B3-E2924B7CE946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F7DD-C9B9-4BF4-AE8F-5507E8EC7A1F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EAEE-354F-4F39-9BF5-351643ED9DDC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6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2EE2-186C-4595-884E-B0165D8257C3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6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200E-1ED4-4658-AB6D-CE09BC810E15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6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6639-7548-4FBC-81F3-48D538B9A4A8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6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DAA5-547F-4D0E-A3B2-503F72A7595D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6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E56E-D781-4A2C-B998-98CB9CA31C0B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6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DAA8-A76A-469E-BAFB-787D5A2573D2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3 Marcador de número de diapositiva"/>
          <p:cNvSpPr/>
          <p:nvPr/>
        </p:nvSpPr>
        <p:spPr>
          <a:xfrm>
            <a:off x="7226280" y="6886440"/>
            <a:ext cx="2349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17B5-86F7-49DB-9CDD-1A97B71C2744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3 CuadroTexto"/>
          <p:cNvSpPr/>
          <p:nvPr/>
        </p:nvSpPr>
        <p:spPr>
          <a:xfrm>
            <a:off x="1152360" y="1258920"/>
            <a:ext cx="82216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  <a:ea typeface="DejaVu Sans"/>
              </a:rPr>
              <a:t>Historia de los Microprocesa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Imagen 4" descr=""/>
          <p:cNvPicPr/>
          <p:nvPr/>
        </p:nvPicPr>
        <p:blipFill>
          <a:blip r:embed="rId1"/>
          <a:stretch/>
        </p:blipFill>
        <p:spPr>
          <a:xfrm>
            <a:off x="2160720" y="3641760"/>
            <a:ext cx="593856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3 Marcador de número de diapositiva"/>
          <p:cNvSpPr/>
          <p:nvPr/>
        </p:nvSpPr>
        <p:spPr>
          <a:xfrm>
            <a:off x="7226280" y="6886440"/>
            <a:ext cx="2349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F598-3DD3-4E80-909F-12037BC2AC3A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9440" y="4392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exta Generación (1997-00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Imagen 2" descr=""/>
          <p:cNvPicPr/>
          <p:nvPr/>
        </p:nvPicPr>
        <p:blipFill>
          <a:blip r:embed="rId1"/>
          <a:stretch/>
        </p:blipFill>
        <p:spPr>
          <a:xfrm>
            <a:off x="2340000" y="1440000"/>
            <a:ext cx="2340000" cy="1800000"/>
          </a:xfrm>
          <a:prstGeom prst="rect">
            <a:avLst/>
          </a:prstGeom>
          <a:ln w="0">
            <a:noFill/>
          </a:ln>
        </p:spPr>
      </p:pic>
      <p:pic>
        <p:nvPicPr>
          <p:cNvPr id="552" name="Imagen 3" descr=""/>
          <p:cNvPicPr/>
          <p:nvPr/>
        </p:nvPicPr>
        <p:blipFill>
          <a:blip r:embed="rId2"/>
          <a:stretch/>
        </p:blipFill>
        <p:spPr>
          <a:xfrm>
            <a:off x="7226280" y="4894200"/>
            <a:ext cx="2673360" cy="1765440"/>
          </a:xfrm>
          <a:prstGeom prst="rect">
            <a:avLst/>
          </a:prstGeom>
          <a:ln w="0">
            <a:noFill/>
          </a:ln>
        </p:spPr>
      </p:pic>
      <p:pic>
        <p:nvPicPr>
          <p:cNvPr id="553" name="Imagen 4" descr=""/>
          <p:cNvPicPr/>
          <p:nvPr/>
        </p:nvPicPr>
        <p:blipFill>
          <a:blip r:embed="rId3"/>
          <a:stretch/>
        </p:blipFill>
        <p:spPr>
          <a:xfrm>
            <a:off x="5338800" y="1619280"/>
            <a:ext cx="1681200" cy="1503360"/>
          </a:xfrm>
          <a:prstGeom prst="rect">
            <a:avLst/>
          </a:prstGeom>
          <a:ln w="0">
            <a:noFill/>
          </a:ln>
        </p:spPr>
      </p:pic>
      <p:sp>
        <p:nvSpPr>
          <p:cNvPr id="554" name="5 CuadroTexto"/>
          <p:cNvSpPr/>
          <p:nvPr/>
        </p:nvSpPr>
        <p:spPr>
          <a:xfrm>
            <a:off x="360360" y="3708360"/>
            <a:ext cx="7054920" cy="29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Modular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Multiplicador de frecuencia (overclock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Segment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Superesca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Nacen dos familias: Celeron (Economica) y Xeon (Servid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Integración de la cache L2 e instrucciones MMX al Nucle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parición de un nuevo socket (slo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Nuevas instrucciones SSE con el Pentium III superi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DejaVu Sans"/>
              </a:rPr>
              <a:t>A las de 3D NOW de AM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3 Marcador de número de diapositiva"/>
          <p:cNvSpPr/>
          <p:nvPr/>
        </p:nvSpPr>
        <p:spPr>
          <a:xfrm>
            <a:off x="7226280" y="6886440"/>
            <a:ext cx="2349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4E44-DFAA-4CCA-9D6B-D94088D005C9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1 Forma libre"/>
          <p:cNvSpPr/>
          <p:nvPr/>
        </p:nvSpPr>
        <p:spPr>
          <a:xfrm>
            <a:off x="2774880" y="4089240"/>
            <a:ext cx="2754360" cy="2478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Resum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3 Forma libre"/>
          <p:cNvSpPr/>
          <p:nvPr/>
        </p:nvSpPr>
        <p:spPr>
          <a:xfrm>
            <a:off x="360360" y="1871640"/>
            <a:ext cx="2340000" cy="216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4 Forma libre"/>
          <p:cNvSpPr/>
          <p:nvPr/>
        </p:nvSpPr>
        <p:spPr>
          <a:xfrm>
            <a:off x="693720" y="2205000"/>
            <a:ext cx="1671480" cy="149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5 Forma libre"/>
          <p:cNvSpPr/>
          <p:nvPr/>
        </p:nvSpPr>
        <p:spPr>
          <a:xfrm>
            <a:off x="1028880" y="2536920"/>
            <a:ext cx="1002960" cy="83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6 CuadroTexto"/>
          <p:cNvSpPr/>
          <p:nvPr/>
        </p:nvSpPr>
        <p:spPr>
          <a:xfrm>
            <a:off x="1165320" y="3035160"/>
            <a:ext cx="752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4 B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7 CuadroTexto"/>
          <p:cNvSpPr/>
          <p:nvPr/>
        </p:nvSpPr>
        <p:spPr>
          <a:xfrm>
            <a:off x="1165320" y="3367080"/>
            <a:ext cx="752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8 CuadroTexto"/>
          <p:cNvSpPr/>
          <p:nvPr/>
        </p:nvSpPr>
        <p:spPr>
          <a:xfrm>
            <a:off x="1087560" y="3681360"/>
            <a:ext cx="8776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16 B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9 Forma libre"/>
          <p:cNvSpPr/>
          <p:nvPr/>
        </p:nvSpPr>
        <p:spPr>
          <a:xfrm>
            <a:off x="3049560" y="4363920"/>
            <a:ext cx="2205000" cy="192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10 Forma libre"/>
          <p:cNvSpPr/>
          <p:nvPr/>
        </p:nvSpPr>
        <p:spPr>
          <a:xfrm>
            <a:off x="3325680" y="4640400"/>
            <a:ext cx="1652760" cy="137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11 Forma libre"/>
          <p:cNvSpPr/>
          <p:nvPr/>
        </p:nvSpPr>
        <p:spPr>
          <a:xfrm>
            <a:off x="3602160" y="4915080"/>
            <a:ext cx="1101600" cy="82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12 CuadroTexto"/>
          <p:cNvSpPr/>
          <p:nvPr/>
        </p:nvSpPr>
        <p:spPr>
          <a:xfrm>
            <a:off x="3821040" y="5465880"/>
            <a:ext cx="800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  <a:ea typeface="DejaVu Sans"/>
              </a:rPr>
              <a:t>4 B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13 CuadroTexto"/>
          <p:cNvSpPr/>
          <p:nvPr/>
        </p:nvSpPr>
        <p:spPr>
          <a:xfrm>
            <a:off x="3821040" y="5769000"/>
            <a:ext cx="800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  <a:ea typeface="DejaVu Sans"/>
              </a:rPr>
              <a:t>8 B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14 CuadroTexto"/>
          <p:cNvSpPr/>
          <p:nvPr/>
        </p:nvSpPr>
        <p:spPr>
          <a:xfrm>
            <a:off x="3767040" y="6043680"/>
            <a:ext cx="854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  <a:ea typeface="DejaVu Sans"/>
              </a:rPr>
              <a:t>16 B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15 CuadroTexto"/>
          <p:cNvSpPr/>
          <p:nvPr/>
        </p:nvSpPr>
        <p:spPr>
          <a:xfrm>
            <a:off x="3767040" y="6319800"/>
            <a:ext cx="10288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  <a:ea typeface="DejaVu Sans"/>
              </a:rPr>
              <a:t>32 B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16 Forma libre"/>
          <p:cNvSpPr/>
          <p:nvPr/>
        </p:nvSpPr>
        <p:spPr>
          <a:xfrm rot="5380200">
            <a:off x="4700160" y="4914720"/>
            <a:ext cx="2481120" cy="826920"/>
          </a:xfrm>
          <a:prstGeom prst="pie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  <a:ea typeface="DejaVu Sans"/>
              </a:rPr>
              <a:t>Unidad de Ges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  <a:ea typeface="DejaVu Sans"/>
              </a:rPr>
              <a:t>De Memoria (MMU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17 CuadroTexto"/>
          <p:cNvSpPr/>
          <p:nvPr/>
        </p:nvSpPr>
        <p:spPr>
          <a:xfrm>
            <a:off x="3270240" y="4089240"/>
            <a:ext cx="21304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  <a:ea typeface="DejaVu Sans"/>
              </a:rPr>
              <a:t>Unidad de Proces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18 CuadroTexto"/>
          <p:cNvSpPr/>
          <p:nvPr/>
        </p:nvSpPr>
        <p:spPr>
          <a:xfrm>
            <a:off x="3332160" y="4386240"/>
            <a:ext cx="17413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  <a:ea typeface="DejaVu Sans"/>
              </a:rPr>
              <a:t>ALU + Registr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19 Forma libre"/>
          <p:cNvSpPr/>
          <p:nvPr/>
        </p:nvSpPr>
        <p:spPr>
          <a:xfrm>
            <a:off x="6480000" y="1879560"/>
            <a:ext cx="2880000" cy="2111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20 Forma libre"/>
          <p:cNvSpPr/>
          <p:nvPr/>
        </p:nvSpPr>
        <p:spPr>
          <a:xfrm>
            <a:off x="6715080" y="2114640"/>
            <a:ext cx="1876320" cy="164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21 Forma libre"/>
          <p:cNvSpPr/>
          <p:nvPr/>
        </p:nvSpPr>
        <p:spPr>
          <a:xfrm>
            <a:off x="6950160" y="2347920"/>
            <a:ext cx="1406520" cy="1173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22 Forma libre"/>
          <p:cNvSpPr/>
          <p:nvPr/>
        </p:nvSpPr>
        <p:spPr>
          <a:xfrm>
            <a:off x="7183440" y="2583000"/>
            <a:ext cx="938160" cy="70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23 CuadroTexto"/>
          <p:cNvSpPr/>
          <p:nvPr/>
        </p:nvSpPr>
        <p:spPr>
          <a:xfrm>
            <a:off x="7370640" y="3052800"/>
            <a:ext cx="6811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0000"/>
                </a:solidFill>
                <a:latin typeface="Arial"/>
                <a:ea typeface="DejaVu Sans"/>
              </a:rPr>
              <a:t>4 Bit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24 CuadroTexto"/>
          <p:cNvSpPr/>
          <p:nvPr/>
        </p:nvSpPr>
        <p:spPr>
          <a:xfrm>
            <a:off x="7370640" y="3273480"/>
            <a:ext cx="6811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0000"/>
                </a:solidFill>
                <a:latin typeface="Arial"/>
                <a:ea typeface="DejaVu Sans"/>
              </a:rPr>
              <a:t>8 Bit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25 CuadroTexto"/>
          <p:cNvSpPr/>
          <p:nvPr/>
        </p:nvSpPr>
        <p:spPr>
          <a:xfrm>
            <a:off x="7324560" y="3508200"/>
            <a:ext cx="727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0000"/>
                </a:solidFill>
                <a:latin typeface="Arial"/>
                <a:ea typeface="DejaVu Sans"/>
              </a:rPr>
              <a:t>16 Bit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26 CuadroTexto"/>
          <p:cNvSpPr/>
          <p:nvPr/>
        </p:nvSpPr>
        <p:spPr>
          <a:xfrm>
            <a:off x="7324560" y="3743280"/>
            <a:ext cx="774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0000"/>
                </a:solidFill>
                <a:latin typeface="Arial"/>
                <a:ea typeface="DejaVu Sans"/>
              </a:rPr>
              <a:t>32 Bit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27 Forma libre"/>
          <p:cNvSpPr/>
          <p:nvPr/>
        </p:nvSpPr>
        <p:spPr>
          <a:xfrm rot="5380200">
            <a:off x="8048880" y="2572920"/>
            <a:ext cx="1800000" cy="70488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0000"/>
                </a:solidFill>
                <a:latin typeface="Arial"/>
                <a:ea typeface="DejaVu Sans"/>
              </a:rPr>
              <a:t>Unidad de Ges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0000"/>
                </a:solidFill>
                <a:latin typeface="Arial"/>
                <a:ea typeface="DejaVu Sans"/>
              </a:rPr>
              <a:t>De Memoria (MMU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28 CuadroTexto"/>
          <p:cNvSpPr/>
          <p:nvPr/>
        </p:nvSpPr>
        <p:spPr>
          <a:xfrm>
            <a:off x="6902280" y="1879560"/>
            <a:ext cx="1917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0000"/>
                </a:solidFill>
                <a:latin typeface="Arial"/>
                <a:ea typeface="DejaVu Sans"/>
              </a:rPr>
              <a:t>Unidad de Proceso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29 CuadroTexto"/>
          <p:cNvSpPr/>
          <p:nvPr/>
        </p:nvSpPr>
        <p:spPr>
          <a:xfrm>
            <a:off x="6954840" y="2131920"/>
            <a:ext cx="13255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DejaVu Sans"/>
              </a:rPr>
              <a:t>ALU + Registr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30 Forma libre"/>
          <p:cNvSpPr/>
          <p:nvPr/>
        </p:nvSpPr>
        <p:spPr>
          <a:xfrm>
            <a:off x="6480000" y="3983040"/>
            <a:ext cx="2880000" cy="563400"/>
          </a:xfrm>
          <a:prstGeom prst="pie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  <a:ea typeface="DejaVu Sans"/>
              </a:rPr>
              <a:t>Cache Interna L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  <a:ea typeface="DejaVu Sans"/>
              </a:rPr>
              <a:t>Para Dato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31 Forma libre"/>
          <p:cNvSpPr/>
          <p:nvPr/>
        </p:nvSpPr>
        <p:spPr>
          <a:xfrm>
            <a:off x="6480000" y="1306440"/>
            <a:ext cx="2880000" cy="563760"/>
          </a:xfrm>
          <a:prstGeom prst="pie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  <a:ea typeface="DejaVu Sans"/>
              </a:rPr>
              <a:t>Cache Interna L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  <a:ea typeface="DejaVu Sans"/>
              </a:rPr>
              <a:t>Para Instruccion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32 Forma libre"/>
          <p:cNvSpPr/>
          <p:nvPr/>
        </p:nvSpPr>
        <p:spPr>
          <a:xfrm rot="5425200">
            <a:off x="8037000" y="2628720"/>
            <a:ext cx="3240000" cy="610920"/>
          </a:xfrm>
          <a:prstGeom prst="pie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  <a:ea typeface="DejaVu Sans"/>
              </a:rPr>
              <a:t>Unidad de Punto Flota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  <a:ea typeface="DejaVu Sans"/>
              </a:rPr>
              <a:t>Coprocesador Matemat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33 CuadroTexto"/>
          <p:cNvSpPr/>
          <p:nvPr/>
        </p:nvSpPr>
        <p:spPr>
          <a:xfrm>
            <a:off x="184320" y="1249200"/>
            <a:ext cx="26906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Unidad de Proce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U + Registr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34 CuadroTexto"/>
          <p:cNvSpPr/>
          <p:nvPr/>
        </p:nvSpPr>
        <p:spPr>
          <a:xfrm>
            <a:off x="252360" y="4176720"/>
            <a:ext cx="22208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Primera Gener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35 CuadroTexto"/>
          <p:cNvSpPr/>
          <p:nvPr/>
        </p:nvSpPr>
        <p:spPr>
          <a:xfrm>
            <a:off x="3311640" y="6588000"/>
            <a:ext cx="22096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Tercera Gener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36 CuadroTexto"/>
          <p:cNvSpPr/>
          <p:nvPr/>
        </p:nvSpPr>
        <p:spPr>
          <a:xfrm>
            <a:off x="7020000" y="4680000"/>
            <a:ext cx="210636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Cuarta Gener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3 Marcador de número de diapositiva"/>
          <p:cNvSpPr/>
          <p:nvPr/>
        </p:nvSpPr>
        <p:spPr>
          <a:xfrm>
            <a:off x="7226280" y="6886440"/>
            <a:ext cx="2349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31E7-25D6-4B88-8E1F-11D7B4AAFD82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1 Forma libre"/>
          <p:cNvSpPr/>
          <p:nvPr/>
        </p:nvSpPr>
        <p:spPr>
          <a:xfrm>
            <a:off x="4464000" y="3240000"/>
            <a:ext cx="5435640" cy="341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Resum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3 Forma libre"/>
          <p:cNvSpPr/>
          <p:nvPr/>
        </p:nvSpPr>
        <p:spPr>
          <a:xfrm>
            <a:off x="1011240" y="2084400"/>
            <a:ext cx="2698920" cy="197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4 Forma libre"/>
          <p:cNvSpPr/>
          <p:nvPr/>
        </p:nvSpPr>
        <p:spPr>
          <a:xfrm>
            <a:off x="1231920" y="2303640"/>
            <a:ext cx="1757520" cy="153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5 Forma libre"/>
          <p:cNvSpPr/>
          <p:nvPr/>
        </p:nvSpPr>
        <p:spPr>
          <a:xfrm>
            <a:off x="1452600" y="2523960"/>
            <a:ext cx="1317600" cy="109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6 Forma libre"/>
          <p:cNvSpPr/>
          <p:nvPr/>
        </p:nvSpPr>
        <p:spPr>
          <a:xfrm>
            <a:off x="1671480" y="2743200"/>
            <a:ext cx="879480" cy="65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7 CuadroTexto"/>
          <p:cNvSpPr/>
          <p:nvPr/>
        </p:nvSpPr>
        <p:spPr>
          <a:xfrm>
            <a:off x="1847880" y="3182760"/>
            <a:ext cx="636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0000"/>
                </a:solidFill>
                <a:latin typeface="Arial"/>
                <a:ea typeface="DejaVu Sans"/>
              </a:rPr>
              <a:t>4 Bit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8 CuadroTexto"/>
          <p:cNvSpPr/>
          <p:nvPr/>
        </p:nvSpPr>
        <p:spPr>
          <a:xfrm>
            <a:off x="1847880" y="3390840"/>
            <a:ext cx="636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0000"/>
                </a:solidFill>
                <a:latin typeface="Arial"/>
                <a:ea typeface="DejaVu Sans"/>
              </a:rPr>
              <a:t>8 Bit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9 CuadroTexto"/>
          <p:cNvSpPr/>
          <p:nvPr/>
        </p:nvSpPr>
        <p:spPr>
          <a:xfrm>
            <a:off x="1803240" y="3610080"/>
            <a:ext cx="6811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DejaVu Sans"/>
              </a:rPr>
              <a:t>16 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10 CuadroTexto"/>
          <p:cNvSpPr/>
          <p:nvPr/>
        </p:nvSpPr>
        <p:spPr>
          <a:xfrm>
            <a:off x="1803240" y="3830760"/>
            <a:ext cx="727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0000"/>
                </a:solidFill>
                <a:latin typeface="Arial"/>
                <a:ea typeface="DejaVu Sans"/>
              </a:rPr>
              <a:t>32 Bit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11 Forma libre"/>
          <p:cNvSpPr/>
          <p:nvPr/>
        </p:nvSpPr>
        <p:spPr>
          <a:xfrm rot="5380200">
            <a:off x="2513880" y="2779560"/>
            <a:ext cx="1687680" cy="66204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0000"/>
                </a:solidFill>
                <a:latin typeface="Arial"/>
                <a:ea typeface="DejaVu Sans"/>
              </a:rPr>
              <a:t>Unidad de Ges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0000"/>
                </a:solidFill>
                <a:latin typeface="Arial"/>
                <a:ea typeface="DejaVu Sans"/>
              </a:rPr>
              <a:t>De Memoria (MMU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12 CuadroTexto"/>
          <p:cNvSpPr/>
          <p:nvPr/>
        </p:nvSpPr>
        <p:spPr>
          <a:xfrm>
            <a:off x="1335240" y="2048040"/>
            <a:ext cx="17967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0000"/>
                </a:solidFill>
                <a:latin typeface="Arial"/>
                <a:ea typeface="DejaVu Sans"/>
              </a:rPr>
              <a:t>Unidad de Proceso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13 CuadroTexto"/>
          <p:cNvSpPr/>
          <p:nvPr/>
        </p:nvSpPr>
        <p:spPr>
          <a:xfrm>
            <a:off x="1457280" y="2286000"/>
            <a:ext cx="1422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  <a:ea typeface="DejaVu Sans"/>
              </a:rPr>
              <a:t>ALU + Registr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14 Forma libre"/>
          <p:cNvSpPr/>
          <p:nvPr/>
        </p:nvSpPr>
        <p:spPr>
          <a:xfrm>
            <a:off x="1011240" y="4054320"/>
            <a:ext cx="2698920" cy="528840"/>
          </a:xfrm>
          <a:prstGeom prst="pie">
            <a:avLst/>
          </a:prstGeom>
          <a:solidFill>
            <a:srgbClr val="99ccff"/>
          </a:solidFill>
          <a:ln w="1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  <a:ea typeface="DejaVu Sans"/>
              </a:rPr>
              <a:t>Cache Interna L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  <a:ea typeface="DejaVu Sans"/>
              </a:rPr>
              <a:t>Para Dato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15 Forma libre"/>
          <p:cNvSpPr/>
          <p:nvPr/>
        </p:nvSpPr>
        <p:spPr>
          <a:xfrm>
            <a:off x="1011240" y="1547640"/>
            <a:ext cx="2698920" cy="528840"/>
          </a:xfrm>
          <a:prstGeom prst="pie">
            <a:avLst/>
          </a:prstGeom>
          <a:solidFill>
            <a:srgbClr val="99ccff"/>
          </a:solidFill>
          <a:ln w="1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  <a:ea typeface="DejaVu Sans"/>
              </a:rPr>
              <a:t>Cache Interna L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  <a:ea typeface="DejaVu Sans"/>
              </a:rPr>
              <a:t>Para Instruccion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16 Forma libre"/>
          <p:cNvSpPr/>
          <p:nvPr/>
        </p:nvSpPr>
        <p:spPr>
          <a:xfrm rot="5400000">
            <a:off x="2462760" y="2777040"/>
            <a:ext cx="3035160" cy="573120"/>
          </a:xfrm>
          <a:prstGeom prst="pie">
            <a:avLst/>
          </a:prstGeom>
          <a:solidFill>
            <a:srgbClr val="99ccff"/>
          </a:solidFill>
          <a:ln w="1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  <a:ea typeface="DejaVu Sans"/>
              </a:rPr>
              <a:t>Unidad de Punto Flota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  <a:ea typeface="DejaVu Sans"/>
              </a:rPr>
              <a:t>Coprocesador Matemat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17 Forma libre"/>
          <p:cNvSpPr/>
          <p:nvPr/>
        </p:nvSpPr>
        <p:spPr>
          <a:xfrm>
            <a:off x="179280" y="1547640"/>
            <a:ext cx="843120" cy="1011240"/>
          </a:xfrm>
          <a:prstGeom prst="pie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Arial"/>
                <a:ea typeface="DejaVu Sans"/>
              </a:rPr>
              <a:t>Unida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Arial"/>
                <a:ea typeface="DejaVu Sans"/>
              </a:rPr>
              <a:t>Funciona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Arial"/>
                <a:ea typeface="DejaVu Sans"/>
              </a:rPr>
              <a:t>p.ej MMX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18 Forma libre"/>
          <p:cNvSpPr/>
          <p:nvPr/>
        </p:nvSpPr>
        <p:spPr>
          <a:xfrm>
            <a:off x="179280" y="2558880"/>
            <a:ext cx="843120" cy="1013040"/>
          </a:xfrm>
          <a:prstGeom prst="pie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  <a:ea typeface="DejaVu Sans"/>
              </a:rPr>
              <a:t>Unida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  <a:ea typeface="DejaVu Sans"/>
              </a:rPr>
              <a:t>Funciona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  <a:ea typeface="DejaVu Sans"/>
              </a:rPr>
              <a:t>p.ej Otra ALU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  <a:ea typeface="DejaVu Sans"/>
              </a:rPr>
              <a:t>Enter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19 Forma libre"/>
          <p:cNvSpPr/>
          <p:nvPr/>
        </p:nvSpPr>
        <p:spPr>
          <a:xfrm>
            <a:off x="179280" y="3571920"/>
            <a:ext cx="843120" cy="1011240"/>
          </a:xfrm>
          <a:prstGeom prst="pie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  <a:ea typeface="DejaVu Sans"/>
              </a:rPr>
              <a:t>Unida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  <a:ea typeface="DejaVu Sans"/>
              </a:rPr>
              <a:t>Funciona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  <a:ea typeface="DejaVu Sans"/>
              </a:rPr>
              <a:t>p.ej Sumador d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rial"/>
                <a:ea typeface="DejaVu Sans"/>
              </a:rPr>
              <a:t>Puntero Flotan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20 Forma libre"/>
          <p:cNvSpPr/>
          <p:nvPr/>
        </p:nvSpPr>
        <p:spPr>
          <a:xfrm>
            <a:off x="5403960" y="4024440"/>
            <a:ext cx="2484360" cy="182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21 Forma libre"/>
          <p:cNvSpPr/>
          <p:nvPr/>
        </p:nvSpPr>
        <p:spPr>
          <a:xfrm>
            <a:off x="5605560" y="4226040"/>
            <a:ext cx="1619280" cy="141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22 Forma libre"/>
          <p:cNvSpPr/>
          <p:nvPr/>
        </p:nvSpPr>
        <p:spPr>
          <a:xfrm>
            <a:off x="5808600" y="4429080"/>
            <a:ext cx="1214640" cy="101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23 Forma libre"/>
          <p:cNvSpPr/>
          <p:nvPr/>
        </p:nvSpPr>
        <p:spPr>
          <a:xfrm>
            <a:off x="6010200" y="4630680"/>
            <a:ext cx="809640" cy="608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24 CuadroTexto"/>
          <p:cNvSpPr/>
          <p:nvPr/>
        </p:nvSpPr>
        <p:spPr>
          <a:xfrm>
            <a:off x="6172200" y="5035680"/>
            <a:ext cx="58752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  <a:ea typeface="DejaVu Sans"/>
              </a:rPr>
              <a:t>4 Bi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25 CuadroTexto"/>
          <p:cNvSpPr/>
          <p:nvPr/>
        </p:nvSpPr>
        <p:spPr>
          <a:xfrm>
            <a:off x="6172200" y="5227560"/>
            <a:ext cx="58752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  <a:ea typeface="DejaVu Sans"/>
              </a:rPr>
              <a:t>8 Bi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26 CuadroTexto"/>
          <p:cNvSpPr/>
          <p:nvPr/>
        </p:nvSpPr>
        <p:spPr>
          <a:xfrm>
            <a:off x="6132600" y="5429160"/>
            <a:ext cx="71280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  <a:ea typeface="DejaVu Sans"/>
              </a:rPr>
              <a:t>16 Bi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27 CuadroTexto"/>
          <p:cNvSpPr/>
          <p:nvPr/>
        </p:nvSpPr>
        <p:spPr>
          <a:xfrm>
            <a:off x="6132600" y="5632560"/>
            <a:ext cx="66816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  <a:ea typeface="DejaVu Sans"/>
              </a:rPr>
              <a:t>32 Bi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28 Forma libre"/>
          <p:cNvSpPr/>
          <p:nvPr/>
        </p:nvSpPr>
        <p:spPr>
          <a:xfrm rot="5380200">
            <a:off x="6768720" y="4590720"/>
            <a:ext cx="1552680" cy="60948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0000"/>
                </a:solidFill>
                <a:latin typeface="Arial"/>
                <a:ea typeface="DejaVu Sans"/>
              </a:rPr>
              <a:t>Unidad de Ges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0000"/>
                </a:solidFill>
                <a:latin typeface="Arial"/>
                <a:ea typeface="DejaVu Sans"/>
              </a:rPr>
              <a:t>De Memoria (MMU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29 CuadroTexto"/>
          <p:cNvSpPr/>
          <p:nvPr/>
        </p:nvSpPr>
        <p:spPr>
          <a:xfrm>
            <a:off x="5767560" y="4024440"/>
            <a:ext cx="165564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  <a:ea typeface="DejaVu Sans"/>
              </a:rPr>
              <a:t>Unidad de Proces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30 CuadroTexto"/>
          <p:cNvSpPr/>
          <p:nvPr/>
        </p:nvSpPr>
        <p:spPr>
          <a:xfrm>
            <a:off x="5813280" y="4241880"/>
            <a:ext cx="137016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  <a:ea typeface="DejaVu Sans"/>
              </a:rPr>
              <a:t>ALU + Registr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31 Forma libre"/>
          <p:cNvSpPr/>
          <p:nvPr/>
        </p:nvSpPr>
        <p:spPr>
          <a:xfrm>
            <a:off x="5403960" y="5838840"/>
            <a:ext cx="2484360" cy="487440"/>
          </a:xfrm>
          <a:prstGeom prst="pie">
            <a:avLst/>
          </a:prstGeom>
          <a:solidFill>
            <a:srgbClr val="99ccff"/>
          </a:solidFill>
          <a:ln w="1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  <a:ea typeface="DejaVu Sans"/>
              </a:rPr>
              <a:t>Cache Interna L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  <a:ea typeface="DejaVu Sans"/>
              </a:rPr>
              <a:t>Para Dato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32 Forma libre"/>
          <p:cNvSpPr/>
          <p:nvPr/>
        </p:nvSpPr>
        <p:spPr>
          <a:xfrm>
            <a:off x="5403960" y="3530520"/>
            <a:ext cx="2484360" cy="486000"/>
          </a:xfrm>
          <a:prstGeom prst="pie">
            <a:avLst/>
          </a:prstGeom>
          <a:solidFill>
            <a:srgbClr val="99ccff"/>
          </a:solidFill>
          <a:ln w="1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  <a:ea typeface="DejaVu Sans"/>
              </a:rPr>
              <a:t>Cache Interna L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  <a:ea typeface="DejaVu Sans"/>
              </a:rPr>
              <a:t>Para Instruccion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33 Forma libre"/>
          <p:cNvSpPr/>
          <p:nvPr/>
        </p:nvSpPr>
        <p:spPr>
          <a:xfrm rot="5400000">
            <a:off x="6754680" y="4660920"/>
            <a:ext cx="2795760" cy="528480"/>
          </a:xfrm>
          <a:prstGeom prst="pie">
            <a:avLst/>
          </a:prstGeom>
          <a:solidFill>
            <a:srgbClr val="99ccff"/>
          </a:solidFill>
          <a:ln w="1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  <a:ea typeface="DejaVu Sans"/>
              </a:rPr>
              <a:t>Unidad de Punto Flota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  <a:ea typeface="DejaVu Sans"/>
              </a:rPr>
              <a:t>Coprocesador Matemat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34 Forma libre"/>
          <p:cNvSpPr/>
          <p:nvPr/>
        </p:nvSpPr>
        <p:spPr>
          <a:xfrm>
            <a:off x="4699080" y="3530520"/>
            <a:ext cx="714240" cy="932040"/>
          </a:xfrm>
          <a:prstGeom prst="pie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700" spc="-1" strike="noStrike">
                <a:solidFill>
                  <a:srgbClr val="000000"/>
                </a:solidFill>
                <a:latin typeface="Arial"/>
                <a:ea typeface="DejaVu Sans"/>
              </a:rPr>
              <a:t>Unida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700" spc="-1" strike="noStrike">
                <a:solidFill>
                  <a:srgbClr val="000000"/>
                </a:solidFill>
                <a:latin typeface="Arial"/>
                <a:ea typeface="DejaVu Sans"/>
              </a:rPr>
              <a:t>Funciona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700" spc="-1" strike="noStrike">
                <a:solidFill>
                  <a:srgbClr val="000000"/>
                </a:solidFill>
                <a:latin typeface="Arial"/>
                <a:ea typeface="DejaVu Sans"/>
              </a:rPr>
              <a:t>p.ej MMX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35 Forma libre"/>
          <p:cNvSpPr/>
          <p:nvPr/>
        </p:nvSpPr>
        <p:spPr>
          <a:xfrm>
            <a:off x="4699080" y="4462560"/>
            <a:ext cx="714240" cy="931680"/>
          </a:xfrm>
          <a:prstGeom prst="pie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700" spc="-1" strike="noStrike">
                <a:solidFill>
                  <a:srgbClr val="000000"/>
                </a:solidFill>
                <a:latin typeface="Arial"/>
                <a:ea typeface="DejaVu Sans"/>
              </a:rPr>
              <a:t>Unida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700" spc="-1" strike="noStrike">
                <a:solidFill>
                  <a:srgbClr val="000000"/>
                </a:solidFill>
                <a:latin typeface="Arial"/>
                <a:ea typeface="DejaVu Sans"/>
              </a:rPr>
              <a:t>Funciona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700" spc="-1" strike="noStrike">
                <a:solidFill>
                  <a:srgbClr val="000000"/>
                </a:solidFill>
                <a:latin typeface="Arial"/>
                <a:ea typeface="DejaVu Sans"/>
              </a:rPr>
              <a:t>p.ej Otra ALU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700" spc="-1" strike="noStrike">
                <a:solidFill>
                  <a:srgbClr val="000000"/>
                </a:solidFill>
                <a:latin typeface="Arial"/>
                <a:ea typeface="DejaVu Sans"/>
              </a:rPr>
              <a:t>Entera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36 Forma libre"/>
          <p:cNvSpPr/>
          <p:nvPr/>
        </p:nvSpPr>
        <p:spPr>
          <a:xfrm>
            <a:off x="4699080" y="5394240"/>
            <a:ext cx="714240" cy="932040"/>
          </a:xfrm>
          <a:prstGeom prst="pie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700" spc="-1" strike="noStrike">
                <a:solidFill>
                  <a:srgbClr val="000000"/>
                </a:solidFill>
                <a:latin typeface="Arial"/>
                <a:ea typeface="DejaVu Sans"/>
              </a:rPr>
              <a:t>Unida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700" spc="-1" strike="noStrike">
                <a:solidFill>
                  <a:srgbClr val="000000"/>
                </a:solidFill>
                <a:latin typeface="Arial"/>
                <a:ea typeface="DejaVu Sans"/>
              </a:rPr>
              <a:t>Funciona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700" spc="-1" strike="noStrike">
                <a:solidFill>
                  <a:srgbClr val="000000"/>
                </a:solidFill>
                <a:latin typeface="Arial"/>
                <a:ea typeface="DejaVu Sans"/>
              </a:rPr>
              <a:t>p.ej Sumador d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700" spc="-1" strike="noStrike">
                <a:solidFill>
                  <a:srgbClr val="000000"/>
                </a:solidFill>
                <a:latin typeface="Arial"/>
                <a:ea typeface="DejaVu Sans"/>
              </a:rPr>
              <a:t>Puntero Flotant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37 Forma libre"/>
          <p:cNvSpPr/>
          <p:nvPr/>
        </p:nvSpPr>
        <p:spPr>
          <a:xfrm>
            <a:off x="8582040" y="3530520"/>
            <a:ext cx="1101600" cy="2795760"/>
          </a:xfrm>
          <a:prstGeom prst="pie">
            <a:avLst/>
          </a:prstGeom>
          <a:solidFill>
            <a:srgbClr val="99ccff"/>
          </a:solidFill>
          <a:ln w="1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Arial"/>
                <a:ea typeface="DejaVu Sans"/>
              </a:rPr>
              <a:t>Cache de Segundo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Arial"/>
                <a:ea typeface="DejaVu Sans"/>
              </a:rPr>
              <a:t>Ni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Arial"/>
                <a:ea typeface="DejaVu Sans"/>
              </a:rPr>
              <a:t>Integrada en u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Arial"/>
                <a:ea typeface="DejaVu Sans"/>
              </a:rPr>
              <a:t>chi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Arial"/>
                <a:ea typeface="DejaVu Sans"/>
              </a:rPr>
              <a:t>Apart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38 CuadroTexto"/>
          <p:cNvSpPr/>
          <p:nvPr/>
        </p:nvSpPr>
        <p:spPr>
          <a:xfrm>
            <a:off x="949320" y="4751280"/>
            <a:ext cx="20955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Quinta Gener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39 CuadroTexto"/>
          <p:cNvSpPr/>
          <p:nvPr/>
        </p:nvSpPr>
        <p:spPr>
          <a:xfrm>
            <a:off x="5975280" y="2805120"/>
            <a:ext cx="27370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Sexta Gener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3 Marcador de número de diapositiva"/>
          <p:cNvSpPr/>
          <p:nvPr/>
        </p:nvSpPr>
        <p:spPr>
          <a:xfrm>
            <a:off x="7226280" y="6886440"/>
            <a:ext cx="2349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E7FA-B055-4366-9C86-4E8B26EC6DB2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69440" y="4392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eptima Generación (2000-09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4" name="Imagen 2" descr=""/>
          <p:cNvPicPr/>
          <p:nvPr/>
        </p:nvPicPr>
        <p:blipFill>
          <a:blip r:embed="rId1"/>
          <a:stretch/>
        </p:blipFill>
        <p:spPr>
          <a:xfrm>
            <a:off x="7920000" y="5219640"/>
            <a:ext cx="1979640" cy="1620720"/>
          </a:xfrm>
          <a:prstGeom prst="rect">
            <a:avLst/>
          </a:prstGeom>
          <a:ln w="0">
            <a:noFill/>
          </a:ln>
        </p:spPr>
      </p:pic>
      <p:pic>
        <p:nvPicPr>
          <p:cNvPr id="635" name="Imagen 3" descr=""/>
          <p:cNvPicPr/>
          <p:nvPr/>
        </p:nvPicPr>
        <p:blipFill>
          <a:blip r:embed="rId2"/>
          <a:stretch/>
        </p:blipFill>
        <p:spPr>
          <a:xfrm>
            <a:off x="7920000" y="1979640"/>
            <a:ext cx="1979640" cy="1800360"/>
          </a:xfrm>
          <a:prstGeom prst="rect">
            <a:avLst/>
          </a:prstGeom>
          <a:ln w="0">
            <a:noFill/>
          </a:ln>
        </p:spPr>
      </p:pic>
      <p:pic>
        <p:nvPicPr>
          <p:cNvPr id="636" name="Imagen 4" descr=""/>
          <p:cNvPicPr/>
          <p:nvPr/>
        </p:nvPicPr>
        <p:blipFill>
          <a:blip r:embed="rId3"/>
          <a:stretch/>
        </p:blipFill>
        <p:spPr>
          <a:xfrm>
            <a:off x="539640" y="2160720"/>
            <a:ext cx="2340000" cy="1258920"/>
          </a:xfrm>
          <a:prstGeom prst="rect">
            <a:avLst/>
          </a:prstGeom>
          <a:ln w="0">
            <a:noFill/>
          </a:ln>
        </p:spPr>
      </p:pic>
      <p:pic>
        <p:nvPicPr>
          <p:cNvPr id="637" name="Imagen 5" descr=""/>
          <p:cNvPicPr/>
          <p:nvPr/>
        </p:nvPicPr>
        <p:blipFill>
          <a:blip r:embed="rId4"/>
          <a:stretch/>
        </p:blipFill>
        <p:spPr>
          <a:xfrm>
            <a:off x="387360" y="5580000"/>
            <a:ext cx="2492280" cy="1425600"/>
          </a:xfrm>
          <a:prstGeom prst="rect">
            <a:avLst/>
          </a:prstGeom>
          <a:ln w="0">
            <a:noFill/>
          </a:ln>
        </p:spPr>
      </p:pic>
      <p:sp>
        <p:nvSpPr>
          <p:cNvPr id="638" name="6 CuadroTexto"/>
          <p:cNvSpPr/>
          <p:nvPr/>
        </p:nvSpPr>
        <p:spPr>
          <a:xfrm>
            <a:off x="1800360" y="3664080"/>
            <a:ext cx="6659280" cy="24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K7, supera claramente en rendimiento a un Pentium II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Los Athlon poseen un diseño mas eficaz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Tecnología Hyper-Threading (Pentium 4 HT): ALU y FP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Actualizacion a las Instrucciones SSE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Se agregó el conjunto de instrucciones x86-64 de 64 bits al tradicional set x86 de 32 bi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Integracion de varios nucleos en un mismo chi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7 CuadroTexto"/>
          <p:cNvSpPr/>
          <p:nvPr/>
        </p:nvSpPr>
        <p:spPr>
          <a:xfrm>
            <a:off x="2463840" y="1260360"/>
            <a:ext cx="5456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De un Núcleo a los Multip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3 Marcador de número de diapositiva"/>
          <p:cNvSpPr/>
          <p:nvPr/>
        </p:nvSpPr>
        <p:spPr>
          <a:xfrm>
            <a:off x="7226280" y="6886440"/>
            <a:ext cx="2349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1906-3EEA-4C37-8AB6-593F1C73832A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69440" y="4392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Octava Generación (2009-?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2 CuadroTexto"/>
          <p:cNvSpPr/>
          <p:nvPr/>
        </p:nvSpPr>
        <p:spPr>
          <a:xfrm>
            <a:off x="2881440" y="1233360"/>
            <a:ext cx="413856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  <a:ea typeface="DejaVu Sans"/>
              </a:rPr>
              <a:t>Intel Core I3, I5, I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3" name="Imagen 3" descr=""/>
          <p:cNvPicPr/>
          <p:nvPr/>
        </p:nvPicPr>
        <p:blipFill>
          <a:blip r:embed="rId1"/>
          <a:stretch/>
        </p:blipFill>
        <p:spPr>
          <a:xfrm>
            <a:off x="179280" y="1800360"/>
            <a:ext cx="2160720" cy="1979640"/>
          </a:xfrm>
          <a:prstGeom prst="rect">
            <a:avLst/>
          </a:prstGeom>
          <a:ln w="0">
            <a:noFill/>
          </a:ln>
        </p:spPr>
      </p:pic>
      <p:pic>
        <p:nvPicPr>
          <p:cNvPr id="644" name="Imagen 4" descr=""/>
          <p:cNvPicPr/>
          <p:nvPr/>
        </p:nvPicPr>
        <p:blipFill>
          <a:blip r:embed="rId2"/>
          <a:stretch/>
        </p:blipFill>
        <p:spPr>
          <a:xfrm>
            <a:off x="7740720" y="4859280"/>
            <a:ext cx="2340000" cy="2160720"/>
          </a:xfrm>
          <a:prstGeom prst="rect">
            <a:avLst/>
          </a:prstGeom>
          <a:ln w="0">
            <a:noFill/>
          </a:ln>
        </p:spPr>
      </p:pic>
      <p:pic>
        <p:nvPicPr>
          <p:cNvPr id="645" name="Imagen 5" descr=""/>
          <p:cNvPicPr/>
          <p:nvPr/>
        </p:nvPicPr>
        <p:blipFill>
          <a:blip r:embed="rId3"/>
          <a:stretch/>
        </p:blipFill>
        <p:spPr>
          <a:xfrm>
            <a:off x="7199280" y="1565280"/>
            <a:ext cx="2765520" cy="2394000"/>
          </a:xfrm>
          <a:prstGeom prst="rect">
            <a:avLst/>
          </a:prstGeom>
          <a:ln w="0">
            <a:noFill/>
          </a:ln>
        </p:spPr>
      </p:pic>
      <p:pic>
        <p:nvPicPr>
          <p:cNvPr id="646" name="Imagen 6" descr=""/>
          <p:cNvPicPr/>
          <p:nvPr/>
        </p:nvPicPr>
        <p:blipFill>
          <a:blip r:embed="rId4"/>
          <a:stretch/>
        </p:blipFill>
        <p:spPr>
          <a:xfrm>
            <a:off x="95400" y="5291280"/>
            <a:ext cx="2786040" cy="1690560"/>
          </a:xfrm>
          <a:prstGeom prst="rect">
            <a:avLst/>
          </a:prstGeom>
          <a:ln w="0">
            <a:noFill/>
          </a:ln>
        </p:spPr>
      </p:pic>
      <p:sp>
        <p:nvSpPr>
          <p:cNvPr id="647" name="7 CuadroTexto"/>
          <p:cNvSpPr/>
          <p:nvPr/>
        </p:nvSpPr>
        <p:spPr>
          <a:xfrm>
            <a:off x="2448000" y="3132000"/>
            <a:ext cx="540072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AMD crea nueva arquitectura a la que llamó HAMM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Nuevo juego de Instrucciones para programas de 64 bits y S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Mejoras en la Tecnologia de Overcloc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Poseen pipeline de 12 0 13 etap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Tecnologia de Fabricacion de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5 nm y posiblemente 25 n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3 Marcador de número de diapositiva"/>
          <p:cNvSpPr/>
          <p:nvPr/>
        </p:nvSpPr>
        <p:spPr>
          <a:xfrm>
            <a:off x="7226280" y="6886440"/>
            <a:ext cx="2349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D614-1987-4B11-9EEB-6A2EEB8BBEFB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Arial"/>
              </a:rPr>
              <a:t>El Futuro de los Microprocesador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Mas Núcle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Competencia por parte de otras Empresas Fabric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Puede ocurrir cambios hacia la tecnologia RIS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GPU vs CP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Verdadero Procesamiento Parale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3 Marcador de número de diapositiva"/>
          <p:cNvSpPr/>
          <p:nvPr/>
        </p:nvSpPr>
        <p:spPr>
          <a:xfrm>
            <a:off x="7226280" y="6886440"/>
            <a:ext cx="2349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C32F-4BE2-42FE-B096-5A54D78B95A6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Contenid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2 CuadroTexto"/>
          <p:cNvSpPr/>
          <p:nvPr/>
        </p:nvSpPr>
        <p:spPr>
          <a:xfrm>
            <a:off x="1042920" y="1417680"/>
            <a:ext cx="849636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DejaVu Sans"/>
              </a:rPr>
              <a:t>La década de los 80: Intel frente a Motor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imera generación (1978 - 198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DejaVu Sans"/>
              </a:rPr>
              <a:t>Segunda generación (1982 - 198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DejaVu Sans"/>
              </a:rPr>
              <a:t>Tercera generación (1985 - 198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DejaVu Sans"/>
              </a:rPr>
              <a:t>Tercera generación (1985 - 198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DejaVu Sans"/>
              </a:rPr>
              <a:t>La década de los 90: Onmipresente Int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DejaVu Sans"/>
              </a:rPr>
              <a:t>Cuarta generación (1989 - 199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DejaVu Sans"/>
              </a:rPr>
              <a:t>Quinta generación (1993 - 199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DejaVu Sans"/>
              </a:rPr>
              <a:t>Quinta generación (1993 - 199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DejaVu Sans"/>
              </a:rPr>
              <a:t>Sexta generación (1997 -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DejaVu Sans"/>
              </a:rPr>
              <a:t>Septima generación (2000 - 20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DejaVu Sans"/>
              </a:rPr>
              <a:t>Octava generación (2009 - 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3 Marcador de número de diapositiva"/>
          <p:cNvSpPr/>
          <p:nvPr/>
        </p:nvSpPr>
        <p:spPr>
          <a:xfrm>
            <a:off x="7226280" y="6886440"/>
            <a:ext cx="2349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209B-9D36-442A-ADBB-3E031963DCF5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Intel frente a Motorol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2 CuadroTexto"/>
          <p:cNvSpPr/>
          <p:nvPr/>
        </p:nvSpPr>
        <p:spPr>
          <a:xfrm>
            <a:off x="2340000" y="1260360"/>
            <a:ext cx="53164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  <a:ea typeface="DejaVu Sans"/>
              </a:rPr>
              <a:t>Dos Grandes Compañ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Imagen 3" descr=""/>
          <p:cNvPicPr/>
          <p:nvPr/>
        </p:nvPicPr>
        <p:blipFill>
          <a:blip r:embed="rId1"/>
          <a:stretch/>
        </p:blipFill>
        <p:spPr>
          <a:xfrm>
            <a:off x="4680000" y="2340000"/>
            <a:ext cx="1079280" cy="720720"/>
          </a:xfrm>
          <a:prstGeom prst="rect">
            <a:avLst/>
          </a:prstGeom>
          <a:ln w="0">
            <a:noFill/>
          </a:ln>
        </p:spPr>
      </p:pic>
      <p:pic>
        <p:nvPicPr>
          <p:cNvPr id="502" name="Imagen 4" descr=""/>
          <p:cNvPicPr/>
          <p:nvPr/>
        </p:nvPicPr>
        <p:blipFill>
          <a:blip r:embed="rId2"/>
          <a:stretch/>
        </p:blipFill>
        <p:spPr>
          <a:xfrm>
            <a:off x="900000" y="1979640"/>
            <a:ext cx="2880000" cy="1620720"/>
          </a:xfrm>
          <a:prstGeom prst="rect">
            <a:avLst/>
          </a:prstGeom>
          <a:ln w="0">
            <a:noFill/>
          </a:ln>
        </p:spPr>
      </p:pic>
      <p:pic>
        <p:nvPicPr>
          <p:cNvPr id="503" name="Imagen 5" descr=""/>
          <p:cNvPicPr/>
          <p:nvPr/>
        </p:nvPicPr>
        <p:blipFill>
          <a:blip r:embed="rId3"/>
          <a:stretch/>
        </p:blipFill>
        <p:spPr>
          <a:xfrm>
            <a:off x="6659640" y="1908000"/>
            <a:ext cx="2520720" cy="1692360"/>
          </a:xfrm>
          <a:prstGeom prst="rect">
            <a:avLst/>
          </a:prstGeom>
          <a:ln w="0">
            <a:noFill/>
          </a:ln>
        </p:spPr>
      </p:pic>
      <p:sp>
        <p:nvSpPr>
          <p:cNvPr id="504" name="6 CuadroTexto"/>
          <p:cNvSpPr/>
          <p:nvPr/>
        </p:nvSpPr>
        <p:spPr>
          <a:xfrm>
            <a:off x="179280" y="5802480"/>
            <a:ext cx="5315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Sabe hacer ali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Fideliza a sus clilentes (compatibilidad hacia atrá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Imagen 7" descr=""/>
          <p:cNvPicPr/>
          <p:nvPr/>
        </p:nvPicPr>
        <p:blipFill>
          <a:blip r:embed="rId4"/>
          <a:stretch/>
        </p:blipFill>
        <p:spPr>
          <a:xfrm>
            <a:off x="1260360" y="3959280"/>
            <a:ext cx="2159280" cy="1800000"/>
          </a:xfrm>
          <a:prstGeom prst="rect">
            <a:avLst/>
          </a:prstGeom>
          <a:ln w="0">
            <a:noFill/>
          </a:ln>
        </p:spPr>
      </p:pic>
      <p:sp>
        <p:nvSpPr>
          <p:cNvPr id="506" name="8 CuadroTexto"/>
          <p:cNvSpPr/>
          <p:nvPr/>
        </p:nvSpPr>
        <p:spPr>
          <a:xfrm>
            <a:off x="5638680" y="5808600"/>
            <a:ext cx="426096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Buen diseño arquitectural (sacrifici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Elegancia y buen juego de instrucci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Imagen 9" descr=""/>
          <p:cNvPicPr/>
          <p:nvPr/>
        </p:nvPicPr>
        <p:blipFill>
          <a:blip r:embed="rId5"/>
          <a:stretch/>
        </p:blipFill>
        <p:spPr>
          <a:xfrm>
            <a:off x="6480000" y="3784680"/>
            <a:ext cx="2687760" cy="17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3 Marcador de número de diapositiva"/>
          <p:cNvSpPr/>
          <p:nvPr/>
        </p:nvSpPr>
        <p:spPr>
          <a:xfrm>
            <a:off x="7226280" y="6886440"/>
            <a:ext cx="2349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E4A2-C6AA-4075-9B93-54217639EEAE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Primera Generación (1978-82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2 CuadroTexto"/>
          <p:cNvSpPr/>
          <p:nvPr/>
        </p:nvSpPr>
        <p:spPr>
          <a:xfrm>
            <a:off x="2340000" y="1260360"/>
            <a:ext cx="55958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  <a:ea typeface="DejaVu Sans"/>
              </a:rPr>
              <a:t>Intel 8086 y Motorola 68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Imagen 3" descr=""/>
          <p:cNvPicPr/>
          <p:nvPr/>
        </p:nvPicPr>
        <p:blipFill>
          <a:blip r:embed="rId1"/>
          <a:stretch/>
        </p:blipFill>
        <p:spPr>
          <a:xfrm>
            <a:off x="1208160" y="2147760"/>
            <a:ext cx="2932200" cy="2352960"/>
          </a:xfrm>
          <a:prstGeom prst="rect">
            <a:avLst/>
          </a:prstGeom>
          <a:ln w="0">
            <a:noFill/>
          </a:ln>
        </p:spPr>
      </p:pic>
      <p:pic>
        <p:nvPicPr>
          <p:cNvPr id="512" name="Imagen 4" descr=""/>
          <p:cNvPicPr/>
          <p:nvPr/>
        </p:nvPicPr>
        <p:blipFill>
          <a:blip r:embed="rId2"/>
          <a:stretch/>
        </p:blipFill>
        <p:spPr>
          <a:xfrm>
            <a:off x="5219640" y="2160720"/>
            <a:ext cx="3600360" cy="2158920"/>
          </a:xfrm>
          <a:prstGeom prst="rect">
            <a:avLst/>
          </a:prstGeom>
          <a:ln w="0">
            <a:noFill/>
          </a:ln>
        </p:spPr>
      </p:pic>
      <p:sp>
        <p:nvSpPr>
          <p:cNvPr id="513" name="5 CuadroTexto"/>
          <p:cNvSpPr/>
          <p:nvPr/>
        </p:nvSpPr>
        <p:spPr>
          <a:xfrm>
            <a:off x="376200" y="4859280"/>
            <a:ext cx="5024520" cy="17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Lanzado en 197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Primer Microprocesador de 16 bits de Da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Opero a frecuencias de 4.7 hasta 10Mhz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Direccionamiento de 1M (20 lineas de Direcc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4 registros de proposito general de 16 bits 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Tambien podian ser accedido por 8 bi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6 CuadroTexto"/>
          <p:cNvSpPr/>
          <p:nvPr/>
        </p:nvSpPr>
        <p:spPr>
          <a:xfrm>
            <a:off x="5580000" y="4854600"/>
            <a:ext cx="4454640" cy="17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Lanzado en 197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Constaba de 78 instruccion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Primer microprocesador en tener 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gistro ind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Superior al Intel 8080, teniendo distin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Variaciones en la familia 68X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3 Marcador de número de diapositiva"/>
          <p:cNvSpPr/>
          <p:nvPr/>
        </p:nvSpPr>
        <p:spPr>
          <a:xfrm>
            <a:off x="7226280" y="6886440"/>
            <a:ext cx="2349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203D-8C38-4131-9DFC-FCEF14F1E068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1 CuadroTexto"/>
          <p:cNvSpPr/>
          <p:nvPr/>
        </p:nvSpPr>
        <p:spPr>
          <a:xfrm>
            <a:off x="301680" y="4680000"/>
            <a:ext cx="563868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El 80286 sacado en 198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Introduce el modo real, y el protegido de 32 bits que permitía aumentar el rendimie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Podía ejecutar más de una instrucción por cicl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Aumento en el bus de Direcciones a 24 line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Aparece la gestion de Memoria Virtual a 1GB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Presentó con velocidades de reloj de 2, 8, 10, 12, 16 y 20 MHz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egunda Generación (1982-85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3 CuadroTexto"/>
          <p:cNvSpPr/>
          <p:nvPr/>
        </p:nvSpPr>
        <p:spPr>
          <a:xfrm>
            <a:off x="2340000" y="1260360"/>
            <a:ext cx="61196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  <a:ea typeface="DejaVu Sans"/>
              </a:rPr>
              <a:t>Intel 80286 y Motorola 680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Imagen 4" descr=""/>
          <p:cNvPicPr/>
          <p:nvPr/>
        </p:nvPicPr>
        <p:blipFill>
          <a:blip r:embed="rId1"/>
          <a:stretch/>
        </p:blipFill>
        <p:spPr>
          <a:xfrm>
            <a:off x="3559320" y="2166840"/>
            <a:ext cx="2381040" cy="2152800"/>
          </a:xfrm>
          <a:prstGeom prst="rect">
            <a:avLst/>
          </a:prstGeom>
          <a:ln w="0">
            <a:noFill/>
          </a:ln>
        </p:spPr>
      </p:pic>
      <p:pic>
        <p:nvPicPr>
          <p:cNvPr id="520" name="Imagen 5" descr=""/>
          <p:cNvPicPr/>
          <p:nvPr/>
        </p:nvPicPr>
        <p:blipFill>
          <a:blip r:embed="rId2"/>
          <a:stretch/>
        </p:blipFill>
        <p:spPr>
          <a:xfrm>
            <a:off x="539640" y="2160720"/>
            <a:ext cx="2571840" cy="2340000"/>
          </a:xfrm>
          <a:prstGeom prst="rect">
            <a:avLst/>
          </a:prstGeom>
          <a:ln w="0">
            <a:noFill/>
          </a:ln>
        </p:spPr>
      </p:pic>
      <p:pic>
        <p:nvPicPr>
          <p:cNvPr id="521" name="Imagen 6" descr=""/>
          <p:cNvPicPr/>
          <p:nvPr/>
        </p:nvPicPr>
        <p:blipFill>
          <a:blip r:embed="rId3"/>
          <a:stretch/>
        </p:blipFill>
        <p:spPr>
          <a:xfrm>
            <a:off x="6300720" y="2076480"/>
            <a:ext cx="3417840" cy="2424240"/>
          </a:xfrm>
          <a:prstGeom prst="rect">
            <a:avLst/>
          </a:prstGeom>
          <a:ln w="0">
            <a:noFill/>
          </a:ln>
        </p:spPr>
      </p:pic>
      <p:sp>
        <p:nvSpPr>
          <p:cNvPr id="522" name="7 CuadroTexto"/>
          <p:cNvSpPr/>
          <p:nvPr/>
        </p:nvSpPr>
        <p:spPr>
          <a:xfrm>
            <a:off x="6138720" y="4680000"/>
            <a:ext cx="383400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Sacado al mercado en 198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Arquitectura CIS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Poseia 2 bancos de 8 registros 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32 bi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Utilizado en equipos com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Commodore Amiga, Atari, prime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cintosh y plataformas de vide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Jueg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3 Marcador de número de diapositiva"/>
          <p:cNvSpPr/>
          <p:nvPr/>
        </p:nvSpPr>
        <p:spPr>
          <a:xfrm>
            <a:off x="7226280" y="6886440"/>
            <a:ext cx="2349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85D9-B0BC-4386-8B8A-2A7E542A5C55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9440" y="4392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Tercera Generación (1985-89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2 CuadroTexto"/>
          <p:cNvSpPr/>
          <p:nvPr/>
        </p:nvSpPr>
        <p:spPr>
          <a:xfrm>
            <a:off x="2341440" y="1260360"/>
            <a:ext cx="61182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  <a:ea typeface="DejaVu Sans"/>
              </a:rPr>
              <a:t>Intel 80386 y Motorola 68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3 CuadroTexto"/>
          <p:cNvSpPr/>
          <p:nvPr/>
        </p:nvSpPr>
        <p:spPr>
          <a:xfrm>
            <a:off x="179280" y="4446720"/>
            <a:ext cx="4869000" cy="23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Año 1985, primer procesador del que solo Windows sacaba provecho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Trabajaban a velocidades entre 16 y 33 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Incluyeron un Pipeline de 4 etap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El modelo 80386DX que integraba en el núcleo la FPU (Coprocesador Matemático), el 80386SX que era la versión económica sin FPU, le redujeron el ancho de banda a 16 bits lo que le permitía utilizar hasta 16MB R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4 CuadroTexto"/>
          <p:cNvSpPr/>
          <p:nvPr/>
        </p:nvSpPr>
        <p:spPr>
          <a:xfrm>
            <a:off x="5533920" y="4500720"/>
            <a:ext cx="4365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Salió en 1984 con un ALU, bus de Datos y Direcciones de 32-b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Nuevas Instrucciones y modos de direccionamien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Operaron a 12 MHz hasta 33 MHz. Soporte para multiprocesado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Imagen 5" descr=""/>
          <p:cNvPicPr/>
          <p:nvPr/>
        </p:nvPicPr>
        <p:blipFill>
          <a:blip r:embed="rId1"/>
          <a:stretch/>
        </p:blipFill>
        <p:spPr>
          <a:xfrm>
            <a:off x="6184800" y="2160720"/>
            <a:ext cx="3175200" cy="1877760"/>
          </a:xfrm>
          <a:prstGeom prst="rect">
            <a:avLst/>
          </a:prstGeom>
          <a:ln w="0">
            <a:noFill/>
          </a:ln>
        </p:spPr>
      </p:pic>
      <p:pic>
        <p:nvPicPr>
          <p:cNvPr id="529" name="Imagen 6" descr=""/>
          <p:cNvPicPr/>
          <p:nvPr/>
        </p:nvPicPr>
        <p:blipFill>
          <a:blip r:embed="rId2"/>
          <a:stretch/>
        </p:blipFill>
        <p:spPr>
          <a:xfrm>
            <a:off x="1560600" y="2004840"/>
            <a:ext cx="3139920" cy="21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3 Marcador de número de diapositiva"/>
          <p:cNvSpPr/>
          <p:nvPr/>
        </p:nvSpPr>
        <p:spPr>
          <a:xfrm>
            <a:off x="7226280" y="6886440"/>
            <a:ext cx="2349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605A-1DEE-416E-B0EB-3C4669BBE43C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El Nuevo Panoram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Imagen 2" descr=""/>
          <p:cNvPicPr/>
          <p:nvPr/>
        </p:nvPicPr>
        <p:blipFill>
          <a:blip r:embed="rId1"/>
          <a:stretch/>
        </p:blipFill>
        <p:spPr>
          <a:xfrm>
            <a:off x="360360" y="1440000"/>
            <a:ext cx="9360000" cy="5400360"/>
          </a:xfrm>
          <a:prstGeom prst="rect">
            <a:avLst/>
          </a:prstGeom>
          <a:ln w="0">
            <a:noFill/>
          </a:ln>
        </p:spPr>
      </p:pic>
      <p:pic>
        <p:nvPicPr>
          <p:cNvPr id="533" name="Imagen 3" descr=""/>
          <p:cNvPicPr/>
          <p:nvPr/>
        </p:nvPicPr>
        <p:blipFill>
          <a:blip r:embed="rId2"/>
          <a:stretch/>
        </p:blipFill>
        <p:spPr>
          <a:xfrm>
            <a:off x="4319640" y="5400720"/>
            <a:ext cx="23400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3 Marcador de número de diapositiva"/>
          <p:cNvSpPr/>
          <p:nvPr/>
        </p:nvSpPr>
        <p:spPr>
          <a:xfrm>
            <a:off x="7226280" y="6886440"/>
            <a:ext cx="2349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3909-0F50-4EC7-84F6-C9E1E557D458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9440" y="4392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Cuarta Generación (1989-93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2 CuadroTexto"/>
          <p:cNvSpPr/>
          <p:nvPr/>
        </p:nvSpPr>
        <p:spPr>
          <a:xfrm>
            <a:off x="1979640" y="1224000"/>
            <a:ext cx="61196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  <a:ea typeface="DejaVu Sans"/>
              </a:rPr>
              <a:t>Intel 80486 y Motorola 680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3 CuadroTexto"/>
          <p:cNvSpPr/>
          <p:nvPr/>
        </p:nvSpPr>
        <p:spPr>
          <a:xfrm>
            <a:off x="171360" y="2160720"/>
            <a:ext cx="5156280" cy="41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  <a:ea typeface="DejaVu Sans"/>
              </a:rPr>
              <a:t>- Adiós al coprocesador matemátic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  <a:ea typeface="DejaVu Sans"/>
              </a:rPr>
              <a:t>Bienvenida a la FP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  <a:ea typeface="DejaVu Sans"/>
              </a:rPr>
              <a:t>Segment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  <a:ea typeface="DejaVu Sans"/>
              </a:rPr>
              <a:t>- Recibimos a la cach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  <a:ea typeface="DejaVu Sans"/>
              </a:rPr>
              <a:t>Separ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  <a:ea typeface="DejaVu Sans"/>
              </a:rPr>
              <a:t>Unific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  <a:ea typeface="DejaVu Sans"/>
              </a:rPr>
              <a:t>- Hubieron distintas variaciones: 486SX, 486DX, 486DX2 y 486DX4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  <a:ea typeface="DejaVu Sans"/>
              </a:rPr>
              <a:t>- Los modelos DX2 fueron los primeros que a través de la opción de turb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  <a:ea typeface="DejaVu Sans"/>
              </a:rPr>
              <a:t>- El 486DX5 de AMD fue el más rápido que salió al mercado trabajando a una velocidad de 166MHz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Imagen 4" descr=""/>
          <p:cNvPicPr/>
          <p:nvPr/>
        </p:nvPicPr>
        <p:blipFill>
          <a:blip r:embed="rId1"/>
          <a:stretch/>
        </p:blipFill>
        <p:spPr>
          <a:xfrm>
            <a:off x="7199280" y="1800360"/>
            <a:ext cx="2700360" cy="2340000"/>
          </a:xfrm>
          <a:prstGeom prst="rect">
            <a:avLst/>
          </a:prstGeom>
          <a:ln w="0">
            <a:noFill/>
          </a:ln>
        </p:spPr>
      </p:pic>
      <p:pic>
        <p:nvPicPr>
          <p:cNvPr id="539" name="Imagen 5" descr=""/>
          <p:cNvPicPr/>
          <p:nvPr/>
        </p:nvPicPr>
        <p:blipFill>
          <a:blip r:embed="rId2"/>
          <a:stretch/>
        </p:blipFill>
        <p:spPr>
          <a:xfrm>
            <a:off x="5400720" y="3780000"/>
            <a:ext cx="2340000" cy="2339640"/>
          </a:xfrm>
          <a:prstGeom prst="rect">
            <a:avLst/>
          </a:prstGeom>
          <a:ln w="0">
            <a:noFill/>
          </a:ln>
        </p:spPr>
      </p:pic>
      <p:pic>
        <p:nvPicPr>
          <p:cNvPr id="540" name="Imagen 6" descr=""/>
          <p:cNvPicPr/>
          <p:nvPr/>
        </p:nvPicPr>
        <p:blipFill>
          <a:blip r:embed="rId3"/>
          <a:stretch/>
        </p:blipFill>
        <p:spPr>
          <a:xfrm>
            <a:off x="7740720" y="4140360"/>
            <a:ext cx="2158920" cy="1979280"/>
          </a:xfrm>
          <a:prstGeom prst="rect">
            <a:avLst/>
          </a:prstGeom>
          <a:ln w="0">
            <a:noFill/>
          </a:ln>
        </p:spPr>
      </p:pic>
      <p:pic>
        <p:nvPicPr>
          <p:cNvPr id="541" name="Imagen 7" descr=""/>
          <p:cNvPicPr/>
          <p:nvPr/>
        </p:nvPicPr>
        <p:blipFill>
          <a:blip r:embed="rId4"/>
          <a:stretch/>
        </p:blipFill>
        <p:spPr>
          <a:xfrm>
            <a:off x="5327640" y="2340000"/>
            <a:ext cx="1979640" cy="139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3 Marcador de número de diapositiva"/>
          <p:cNvSpPr/>
          <p:nvPr/>
        </p:nvSpPr>
        <p:spPr>
          <a:xfrm>
            <a:off x="7226280" y="6886440"/>
            <a:ext cx="2349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1E9B-22B2-4847-8BD0-BB2CFF545A80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9440" y="4392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Quinta Generación (1993-97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2 CuadroTexto"/>
          <p:cNvSpPr/>
          <p:nvPr/>
        </p:nvSpPr>
        <p:spPr>
          <a:xfrm>
            <a:off x="2519280" y="1378080"/>
            <a:ext cx="55800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  <a:ea typeface="DejaVu Sans"/>
              </a:rPr>
              <a:t>Intel PENTIUM y AMD K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3 CuadroTexto"/>
          <p:cNvSpPr/>
          <p:nvPr/>
        </p:nvSpPr>
        <p:spPr>
          <a:xfrm>
            <a:off x="892080" y="4226040"/>
            <a:ext cx="84679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Incorpora una arquitectura súper escalada en 199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Dos unidades de procesamiento o pipelines trabajando en paralelo por lo que podía ejecutar dos instrucciones por ciclo de reloj esta C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Incremento a 64 bits el ancho del bus FSB y subió su frecuencia de 33 a 66MH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yrix se reti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MD saca su K5 en el 1994 procesador de 32 bits de A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Utilizaba un pipeline de 6 etapas para los números enteros y así poder incrementar algo su potencia de trabaj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Imagen 4" descr=""/>
          <p:cNvPicPr/>
          <p:nvPr/>
        </p:nvPicPr>
        <p:blipFill>
          <a:blip r:embed="rId1"/>
          <a:stretch/>
        </p:blipFill>
        <p:spPr>
          <a:xfrm>
            <a:off x="3959280" y="2160720"/>
            <a:ext cx="1981080" cy="1798560"/>
          </a:xfrm>
          <a:prstGeom prst="rect">
            <a:avLst/>
          </a:prstGeom>
          <a:ln w="0">
            <a:noFill/>
          </a:ln>
        </p:spPr>
      </p:pic>
      <p:pic>
        <p:nvPicPr>
          <p:cNvPr id="547" name="Imagen 5" descr=""/>
          <p:cNvPicPr/>
          <p:nvPr/>
        </p:nvPicPr>
        <p:blipFill>
          <a:blip r:embed="rId2"/>
          <a:stretch/>
        </p:blipFill>
        <p:spPr>
          <a:xfrm>
            <a:off x="6480000" y="2151000"/>
            <a:ext cx="2160720" cy="1808280"/>
          </a:xfrm>
          <a:prstGeom prst="rect">
            <a:avLst/>
          </a:prstGeom>
          <a:ln w="0">
            <a:noFill/>
          </a:ln>
        </p:spPr>
      </p:pic>
      <p:pic>
        <p:nvPicPr>
          <p:cNvPr id="548" name="Imagen 6" descr=""/>
          <p:cNvPicPr/>
          <p:nvPr/>
        </p:nvPicPr>
        <p:blipFill>
          <a:blip r:embed="rId3"/>
          <a:stretch/>
        </p:blipFill>
        <p:spPr>
          <a:xfrm>
            <a:off x="1260360" y="2232000"/>
            <a:ext cx="1979640" cy="161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23:53:06Z</dcterms:created>
  <dc:creator>Pablo Turmero</dc:creator>
  <dc:description/>
  <dc:language>en-US</dc:language>
  <cp:lastModifiedBy>Pablo Turmero</cp:lastModifiedBy>
  <dcterms:modified xsi:type="dcterms:W3CDTF">2015-02-09T22:39:58Z</dcterms:modified>
  <cp:revision>10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