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D9A-C4DA-4C94-AE76-A1F01D9F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2AC-C2F4-43FC-9D08-37B11724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C5273-8EC5-4AA0-A553-2D304C4B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592FE-7230-4BE3-B2AB-DD83DEA0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ABE78-F8BC-4D20-83CA-CD50FD1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EE7ED-3473-4267-8483-988338B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166BA-6EBC-4E40-A43C-A9C8FAE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0FA19-CD60-4318-AB1D-A92BA97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26150-FBC1-4D6A-8DB0-EF1C26B1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31ACC-C3AC-429D-8DF5-203A3270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DF613-009F-42A5-A3A7-F1230835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3781F-453D-4A22-86F9-556D1C97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407-1A92-41B2-B2E2-CB4F69B6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EB8E-BDE9-44CE-B42C-3556455D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204FE-71BF-4131-A0DE-2F2E3D8C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EB1DE-7ABE-4077-97DB-688EA4B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08EBC-9230-4BB7-8DEF-E3B3CC98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A56B4-317C-401F-982B-D75D0245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0C17D-71CB-4339-8D9E-412E25F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914FC-4860-4688-84C8-EBC7420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920E6-1CD1-4B8D-BF10-512EE04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C9987-9D5E-4A60-8E6A-1F5EE8B3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BE0FC-31FD-4AFB-90F2-CD2BD9ED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AF8-BC7A-4BCB-BEE9-458945EA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BABF6-A9BE-433C-98A8-4A68F03D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C1D7-9399-41E7-9599-3B03B68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A4CBA-25DA-4F0E-B134-D25E3B0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5E63-E75F-4909-9AFC-9190357F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26C8B-0CFD-446B-83E4-4398231C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12C79-EEB7-48E6-9174-972267B6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10307-0550-4CF9-BED3-410B1558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37FE-EAF9-4E12-911D-29F39BB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7CC99-7448-468B-BDA4-2F97433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06EC-F233-4F47-900D-4DB2932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EC4A-EBEB-4819-B77D-ECA1673E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C671B-CF33-441A-8265-024204F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1614-A054-435E-A037-8B6A94BA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7A9CE-4594-428E-8577-1E98D03C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78FFF-4184-4F81-A0E5-D1FCCA2F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ECF7F-8695-43EF-B1BF-256524DA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798AF-EE97-4252-B264-B4B5546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A8D66-9051-4F77-9DD0-76FB9A51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2DBB2-F805-46DE-8182-CF79AB1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E42F5-D635-4CA6-B435-1240972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41979-7268-413D-A37A-A54C877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383-8512-4544-A76D-7CEE8F2D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69370-3EC0-4CAE-900C-3626A74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E60DA-C97E-4BE2-98F2-BF56EB42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B569E-4860-4CDB-9122-C2A0CB9F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B4BBB-362B-49B7-B49D-171655E8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FB30F-F78D-4A06-BA81-7030D5F2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86D9-7631-44F3-A3DC-05E2705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4F9D-E08C-4483-9C8E-CBA7E492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A4E7-A551-467B-8858-97C5B1E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DBD6-1E2E-4B1E-9EFB-0F53CDAD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D561-D937-45F7-A68B-32D5032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3E4-B503-48B9-AF91-F12454B7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C39-CDF1-40F9-9EE3-2255BB7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624F-AD05-4A7D-A05E-2B746CC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0176-B85F-41E0-9BDA-B878DDE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F9A-3723-4F0F-AE21-E0D4DA11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190F-E425-4115-B4AD-1A4CA7FB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6B9F-9AD0-45DF-8207-ED21AA69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C2FC-5DA0-4489-9415-3C2B5DB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6F2A-B550-4D08-8C00-55C3FF2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E4BF-4D70-448F-89C0-47950BF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B136-7051-4CE8-84BF-00199BF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CBE-57B2-489D-8671-848876F6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EFAA-2362-4DB2-BCD4-A4DFCC8D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5DE8-1C69-4BEB-BF4D-B86E53D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78E2-C036-42E7-A9CD-31D67C4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457E-15F8-482B-A0AC-389A2E08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13CC-B050-4481-AA4F-B468EF5F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A3C1-BCC0-49AD-97AA-82786811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D153-5D98-444F-AE3B-99C2962B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4CF0-17EE-430A-981F-006EC6BA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8D60-8E34-4AE4-99DB-551A5412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A30D-E373-41E5-A943-CB26D1A4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610-945F-4DE0-A137-31A6C31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9ED8-7492-403B-BCC8-CA4FC6E9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EA59-F080-45AD-A641-47D12187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1658-8C1C-4AA8-8E9B-920D076F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0096-8D88-4B39-A36D-9DC7704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4297-A8D3-47E0-8BE4-792A883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6821-8948-422F-907D-75B3537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BE18-40FA-474A-86EB-EA4B5F58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2DDD-9340-4682-8183-F8769728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F54E-13DE-4340-A04C-8488589A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76CBA-55F1-4105-9BB3-06986103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73B-F75E-43A2-9648-122764B5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A1DC-653F-4731-8545-B591F8C5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2EB9A-17C9-4056-8A1E-7648906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3CCF-DBF2-43AD-9BFA-CF7DE642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A192-380B-40D8-9654-81DA04B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43A67-FC1E-4A3D-9035-B0116A7B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C3F55-B8F6-4186-BFFD-EFFE41B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13CA-0006-4610-BF99-E825999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07CE-FCF2-40D9-A45A-DCE1213D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C16B-A918-4335-AF3D-B959AFC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D3C6-2A35-448C-AD59-88D6321D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62D-8398-4649-8F6F-1E275A8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5AA68-4238-4AFD-8654-C1A2F5E3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E5A34-EEB5-4801-B855-F6CA2356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EE7B-F80F-4E81-A1DC-B8E426A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D94D-C752-4BD4-8A7E-139E62B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9805E-A2B2-42E9-BC0F-2862A593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8F8C5-BC1A-4592-92F8-AA3B61F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8D53-D587-4860-BE9D-7B70E59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3213-0820-4914-AE17-1340FD95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BC973-2DC3-479F-AC12-8F807FB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B03B-36E9-4109-8089-229900B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D55-2370-4117-ADAB-FEF0A2D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F632-CEDC-4D28-BEC2-AAC87969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379A-4F9E-499D-BE39-8967A7B3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48EC8-A56B-43EA-88C2-54937FD7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34E6-8E07-43A6-B5D6-62F68A47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021B-83E1-4280-82AC-DACD44C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DE69F-5644-4237-9825-B0D357EB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4D2F4-A700-44AE-853A-219845AB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B8F8-D63F-4B4F-BD3A-0D566869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8A95-403D-4E72-8339-71D22412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2529-D41B-459C-B52C-716FD43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279-14AE-4215-9C80-D0A9BAF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A8C4-8793-414C-8C0E-13B8944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5FC1-35A7-414E-AA5F-42221195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E14D-4586-4750-8585-479F47A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F9CA5-C10C-4E1C-852F-07E05494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8363-D369-463F-A8CF-F80BAC90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FD58-F9E5-465C-9444-4DAD3DE4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B401-DB01-4616-A358-77EC747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6451F-3067-4212-9CA5-D4059AF4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8F18-E0C9-415F-9D1E-90BE424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D5A1-1ACB-4A75-9760-F49A82C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1FD-3554-4DB4-924D-63102C36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3ED35-1D8C-431B-A977-ED72204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2E948-5C87-429C-AA76-6115869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1FC2-0E0D-4A70-83D6-A8DD574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3596-8335-4D33-95D1-ABED6AE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ADAFD-6DF6-4292-9045-D268312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5D99-46B4-48F8-AAE7-2C124B11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13595-BEC6-4C25-BB60-4774CF90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96D68-8A7A-4D89-B586-957E5351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E00B3-F03B-4913-9185-AE01085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DE463-9D95-4D59-A22B-E026556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509-6FDF-47EA-9B4F-C1C1926D43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469B-377B-4312-87D0-B8A91209A5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3A29-2690-4887-B2D0-48093704FE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D927-F179-446E-B5DB-D033F8FF68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C51-6708-408C-8D55-2C70325893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341-7F30-4862-A63C-875FDD0651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AC9-D39E-46E0-9EE2-BBF0A6957F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38E-3C84-4C02-A728-ABF09E1A53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5AD7-2E69-43B1-81C9-297631F509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F48-85D7-4036-A79F-9A90D537C6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75D-D29D-4AFF-90A5-31B358EE16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A9E-3F41-495F-84B7-AC7C437C1D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3"/>
          <p:cNvSpPr txBox="1"/>
          <p:nvPr/>
        </p:nvSpPr>
        <p:spPr>
          <a:xfrm>
            <a:off x="1623960" y="64764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13" name="Picture 6" descr="IN01108_"/>
          <p:cNvPicPr/>
          <p:nvPr/>
        </p:nvPicPr>
        <p:blipFill>
          <a:blip r:embed="rId1"/>
          <a:stretch/>
        </p:blipFill>
        <p:spPr>
          <a:xfrm>
            <a:off x="1676520" y="1600200"/>
            <a:ext cx="1630080" cy="2120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2"/>
          <a:stretch/>
        </p:blipFill>
        <p:spPr>
          <a:xfrm>
            <a:off x="5105520" y="177624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3"/>
          <a:stretch/>
        </p:blipFill>
        <p:spPr>
          <a:xfrm>
            <a:off x="3352680" y="3048120"/>
            <a:ext cx="1866960" cy="1876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8153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583" name="Object 4"/>
          <p:cNvGraphicFramePr/>
          <p:nvPr/>
        </p:nvGraphicFramePr>
        <p:xfrm>
          <a:off x="1143000" y="1905120"/>
          <a:ext cx="6858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58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5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2996640" y="14590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IRRUS LOGIC CS5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2913840" y="609588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DIAGRAMA DE BLO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996640" y="14590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IRRUS LOGIC CS5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1" name="Object 6"/>
          <p:cNvGraphicFramePr/>
          <p:nvPr/>
        </p:nvGraphicFramePr>
        <p:xfrm>
          <a:off x="1828800" y="1981080"/>
          <a:ext cx="54435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435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2996640" y="14590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IRRUS LOGIC CS5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Object 5"/>
          <p:cNvGraphicFramePr/>
          <p:nvPr/>
        </p:nvGraphicFramePr>
        <p:xfrm>
          <a:off x="1752480" y="2009880"/>
          <a:ext cx="56340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09880"/>
                    <a:ext cx="56340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996640" y="14590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IRRUS LOGIC CS5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Object 5"/>
          <p:cNvGraphicFramePr/>
          <p:nvPr/>
        </p:nvGraphicFramePr>
        <p:xfrm>
          <a:off x="1523880" y="1927080"/>
          <a:ext cx="6043680" cy="45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27080"/>
                    <a:ext cx="6043680" cy="45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996640" y="14590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IRRUS LOGIC CS5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6" name="Object 5"/>
          <p:cNvGraphicFramePr/>
          <p:nvPr/>
        </p:nvGraphicFramePr>
        <p:xfrm>
          <a:off x="1600200" y="1905120"/>
          <a:ext cx="601992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60199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2"/>
          <p:cNvSpPr txBox="1"/>
          <p:nvPr/>
        </p:nvSpPr>
        <p:spPr>
          <a:xfrm>
            <a:off x="1623960" y="64764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228600" y="16765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CONCEPTOS: ENERGÍA, POTENCIA INSTANTÁNEA, POTENCIA PRO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SENSORES DE VOLTAJE, CORR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OMECÁNICA DE ENER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 DE ENER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- ACONDICIONAMIENTO- MICROCONTROL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- ACONDICIONAMIENTO- CHIPS MEDIDORES DE ENERGÍA- MICROCONTROLADOR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609480" y="10666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ENERGÍA ELÉCTRICA: 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ES LA ENERGÍA ADQUIRIDA POR UNA CARGA ELÉCTRICA CUANDO ES ACELERADA POR LA APLICACIÓN DE UN VOLT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93640" y="2041560"/>
            <a:ext cx="8016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POTENCIA INSTANTÁNEA: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ES LA VELOCIDAD DEL FLUJO DE ENERGÍA EN CUALQUIER INSTANTE DE TIEM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v(t)= (2)</a:t>
            </a:r>
            <a:r>
              <a:rPr b="0" lang="es-VE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· V</a:t>
            </a:r>
            <a:r>
              <a:rPr b="0" lang="es-VE" sz="2000" spc="-1" strike="noStrike" baseline="-25000">
                <a:solidFill>
                  <a:srgbClr val="ffffff"/>
                </a:solidFill>
                <a:latin typeface="Arial"/>
              </a:rPr>
              <a:t>RMS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 · sen(w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i(t)= (2)</a:t>
            </a:r>
            <a:r>
              <a:rPr b="0" lang="es-VE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· I</a:t>
            </a:r>
            <a:r>
              <a:rPr b="0" lang="es-VE" sz="2000" spc="-1" strike="noStrike" baseline="-25000">
                <a:solidFill>
                  <a:srgbClr val="ffffff"/>
                </a:solidFill>
                <a:latin typeface="Arial"/>
              </a:rPr>
              <a:t>RMS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  · sen(w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p(t)= v(t)·i(t)= V·I – V·I·cos(2w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LA POTENCIA PROMEDIO SOBRE UN NÚMERO DE CIC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1"/>
          <a:stretch/>
        </p:blipFill>
        <p:spPr>
          <a:xfrm>
            <a:off x="1905120" y="4037040"/>
            <a:ext cx="3047760" cy="10684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6"/>
          <p:cNvSpPr/>
          <p:nvPr/>
        </p:nvSpPr>
        <p:spPr>
          <a:xfrm>
            <a:off x="584640" y="5241960"/>
            <a:ext cx="39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LA ENERGÍA ESTÁ DADA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3733920" y="5715000"/>
            <a:ext cx="1676160" cy="7873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9"/>
          <p:cNvSpPr/>
          <p:nvPr/>
        </p:nvSpPr>
        <p:spPr>
          <a:xfrm>
            <a:off x="5034240" y="41432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 = PERÍODO DEL CIC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P = POTENCIA ACTIV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>
            <a:off x="1623960" y="19044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838080" y="1258920"/>
            <a:ext cx="47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SENSORES DE VOLT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TRANSFORMADORES DE VOLT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DIVISOR DE VOLT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829800" y="3011400"/>
            <a:ext cx="6179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SENSORES DE CORR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SHUNT DE CORRIENTE DE BAJA RE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TRANSFORMADOR DE CORR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EFECTO 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BOBINA ROGOW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819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2"/>
          <p:cNvSpPr txBox="1"/>
          <p:nvPr/>
        </p:nvSpPr>
        <p:spPr>
          <a:xfrm>
            <a:off x="1623960" y="34308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2514240" y="135576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OMÉCA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Object 4"/>
          <p:cNvGraphicFramePr/>
          <p:nvPr/>
        </p:nvGraphicFramePr>
        <p:xfrm>
          <a:off x="1143000" y="1981080"/>
          <a:ext cx="6872400" cy="39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87240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2"/>
          <p:cNvSpPr txBox="1"/>
          <p:nvPr/>
        </p:nvSpPr>
        <p:spPr>
          <a:xfrm>
            <a:off x="1623960" y="26676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514240" y="114300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OMÉCA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-170352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disk"/>
          <p:cNvPicPr/>
          <p:nvPr/>
        </p:nvPicPr>
        <p:blipFill>
          <a:blip r:embed="rId1"/>
          <a:stretch/>
        </p:blipFill>
        <p:spPr>
          <a:xfrm>
            <a:off x="609480" y="18288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7"/>
          <p:cNvSpPr/>
          <p:nvPr/>
        </p:nvSpPr>
        <p:spPr>
          <a:xfrm>
            <a:off x="-170352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2" descr="coils"/>
          <p:cNvPicPr/>
          <p:nvPr/>
        </p:nvPicPr>
        <p:blipFill>
          <a:blip r:embed="rId2"/>
          <a:stretch/>
        </p:blipFill>
        <p:spPr>
          <a:xfrm>
            <a:off x="6019920" y="1828800"/>
            <a:ext cx="2590560" cy="2743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9" descr="wattmeter"/>
          <p:cNvPicPr/>
          <p:nvPr/>
        </p:nvPicPr>
        <p:blipFill>
          <a:blip r:embed="rId3"/>
          <a:stretch/>
        </p:blipFill>
        <p:spPr>
          <a:xfrm>
            <a:off x="3363840" y="396252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2160" y="1523880"/>
            <a:ext cx="59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ACONDICIONAMIENTO-MICROCONTROLAD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19"/>
          <p:cNvGrpSpPr/>
          <p:nvPr/>
        </p:nvGrpSpPr>
        <p:grpSpPr>
          <a:xfrm>
            <a:off x="533520" y="2057400"/>
            <a:ext cx="8229600" cy="2057400"/>
            <a:chOff x="533520" y="2057400"/>
            <a:chExt cx="8229600" cy="2057400"/>
          </a:xfrm>
        </p:grpSpPr>
        <p:sp>
          <p:nvSpPr>
            <p:cNvPr id="545" name="Rectangle 5"/>
            <p:cNvSpPr/>
            <p:nvPr/>
          </p:nvSpPr>
          <p:spPr>
            <a:xfrm>
              <a:off x="533520" y="2057400"/>
              <a:ext cx="1447920" cy="2057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533520" y="277200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SENSORES DE V,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7"/>
            <p:cNvSpPr/>
            <p:nvPr/>
          </p:nvSpPr>
          <p:spPr>
            <a:xfrm>
              <a:off x="2743560" y="2057400"/>
              <a:ext cx="1295280" cy="2057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8"/>
            <p:cNvSpPr/>
            <p:nvPr/>
          </p:nvSpPr>
          <p:spPr>
            <a:xfrm>
              <a:off x="3962520" y="24829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9"/>
            <p:cNvSpPr/>
            <p:nvPr/>
          </p:nvSpPr>
          <p:spPr>
            <a:xfrm>
              <a:off x="2800440" y="277200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CIRCUI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RM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10"/>
            <p:cNvSpPr/>
            <p:nvPr/>
          </p:nvSpPr>
          <p:spPr>
            <a:xfrm>
              <a:off x="4876920" y="2057400"/>
              <a:ext cx="1905120" cy="2057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4947120" y="2743200"/>
              <a:ext cx="1755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MICR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CONTROLAD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7544160" y="2667240"/>
              <a:ext cx="121896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7697160" y="28036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SAL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14"/>
            <p:cNvSpPr/>
            <p:nvPr/>
          </p:nvSpPr>
          <p:spPr>
            <a:xfrm>
              <a:off x="2133720" y="28195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15"/>
            <p:cNvSpPr/>
            <p:nvPr/>
          </p:nvSpPr>
          <p:spPr>
            <a:xfrm>
              <a:off x="4191120" y="28195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16"/>
            <p:cNvSpPr/>
            <p:nvPr/>
          </p:nvSpPr>
          <p:spPr>
            <a:xfrm>
              <a:off x="6934320" y="28195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17"/>
          <p:cNvSpPr/>
          <p:nvPr/>
        </p:nvSpPr>
        <p:spPr>
          <a:xfrm>
            <a:off x="457200" y="4495680"/>
            <a:ext cx="81691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SE TIENE UNA SALIDA CADA SEGUNDO (CON UN FACTOR EQUIVALENTE EN Kwh = 2,77·10</a:t>
            </a:r>
            <a:r>
              <a:rPr b="0" lang="es-VE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P(k)= 1/C ·( </a:t>
            </a:r>
            <a:r>
              <a:rPr b="0" lang="es-VE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VE" sz="2000" spc="-1" strike="noStrike" baseline="-25000">
                <a:solidFill>
                  <a:srgbClr val="ffffff"/>
                </a:solidFill>
                <a:latin typeface="Arial Unicode MS"/>
              </a:rPr>
              <a:t>K=1</a:t>
            </a:r>
            <a:r>
              <a:rPr b="0" lang="es-VE" sz="2000" spc="-1" strike="noStrike">
                <a:solidFill>
                  <a:srgbClr val="ffffff"/>
                </a:solidFill>
                <a:latin typeface="Arial Unicode MS"/>
              </a:rPr>
              <a:t> V(k)·I(k))       C: # DE MUES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441360" y="6019920"/>
            <a:ext cx="832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fff"/>
                </a:solidFill>
                <a:latin typeface="Arial"/>
              </a:rPr>
              <a:t>INSTITUTO TECNOLÓGICO DE MORELIA. MÉXICO. MARTINEZ RUBÉN, TORRES DOMINGO, UGALDE LUIS. “ALGORITMOS PARA LA MEDICIÓN DE ENRGÍA ELÉCTRICA UTILIZADOS EN UN MICROCONTROLADOR DE LA TECNOLOGÍA MICROCHIP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895480" y="12034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457200" y="2743200"/>
            <a:ext cx="8229600" cy="2057400"/>
            <a:chOff x="457200" y="2743200"/>
            <a:chExt cx="8229600" cy="2057400"/>
          </a:xfrm>
        </p:grpSpPr>
        <p:sp>
          <p:nvSpPr>
            <p:cNvPr id="562" name="Rectangle 5"/>
            <p:cNvSpPr/>
            <p:nvPr/>
          </p:nvSpPr>
          <p:spPr>
            <a:xfrm>
              <a:off x="457200" y="2743200"/>
              <a:ext cx="1447920" cy="2057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6"/>
            <p:cNvSpPr/>
            <p:nvPr/>
          </p:nvSpPr>
          <p:spPr>
            <a:xfrm>
              <a:off x="457200" y="345744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SENSORES DE V,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2666880" y="2743200"/>
              <a:ext cx="1295640" cy="2057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8"/>
            <p:cNvSpPr/>
            <p:nvPr/>
          </p:nvSpPr>
          <p:spPr>
            <a:xfrm>
              <a:off x="3886200" y="31687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9"/>
            <p:cNvSpPr/>
            <p:nvPr/>
          </p:nvSpPr>
          <p:spPr>
            <a:xfrm>
              <a:off x="2763360" y="3124080"/>
              <a:ext cx="11379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CHI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MEDID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DS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Rectangle 10"/>
            <p:cNvSpPr/>
            <p:nvPr/>
          </p:nvSpPr>
          <p:spPr>
            <a:xfrm>
              <a:off x="4800600" y="2743200"/>
              <a:ext cx="1905120" cy="2057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 Box 11"/>
            <p:cNvSpPr/>
            <p:nvPr/>
          </p:nvSpPr>
          <p:spPr>
            <a:xfrm>
              <a:off x="4870800" y="3429000"/>
              <a:ext cx="1755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MICR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CONTROLAD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Rectangle 12"/>
            <p:cNvSpPr/>
            <p:nvPr/>
          </p:nvSpPr>
          <p:spPr>
            <a:xfrm>
              <a:off x="7467480" y="3352680"/>
              <a:ext cx="121932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3"/>
            <p:cNvSpPr/>
            <p:nvPr/>
          </p:nvSpPr>
          <p:spPr>
            <a:xfrm>
              <a:off x="7620840" y="34894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</a:rPr>
                <a:t>SAL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4"/>
            <p:cNvSpPr/>
            <p:nvPr/>
          </p:nvSpPr>
          <p:spPr>
            <a:xfrm>
              <a:off x="2057400" y="35053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5"/>
            <p:cNvSpPr/>
            <p:nvPr/>
          </p:nvSpPr>
          <p:spPr>
            <a:xfrm>
              <a:off x="4114800" y="35053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6"/>
            <p:cNvSpPr/>
            <p:nvPr/>
          </p:nvSpPr>
          <p:spPr>
            <a:xfrm>
              <a:off x="6858000" y="35053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Text Box 18"/>
          <p:cNvSpPr/>
          <p:nvPr/>
        </p:nvSpPr>
        <p:spPr>
          <a:xfrm>
            <a:off x="42512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441360" y="1676520"/>
            <a:ext cx="816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ACONDICIONAMIENTO- CHIP MEDIDOR DE ENERGÍA- MICROCONTROL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2"/>
          <p:cNvSpPr txBox="1"/>
          <p:nvPr/>
        </p:nvSpPr>
        <p:spPr>
          <a:xfrm>
            <a:off x="1623960" y="152280"/>
            <a:ext cx="589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CIÓN DE ENERG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895480" y="106668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MEDICIÓN ELECTRÓ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80880" y="1676520"/>
            <a:ext cx="8305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CHIPS MEDIDORES DE ENERGÍA:</a:t>
            </a: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 SON DISPOSITIVOS CAPACES DE REALIZAR EL CÁLCULO DIRECTO DE POTENCIA ACTIVA, REACTIVA, FACTOR DE POTE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PRINCIPALES FABRICANTES:</a:t>
            </a: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 ANALOG DEVICES, CIRRUS LOGIC Y CR MAGNE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PRINCIPIO DE FUNCIONAMIENT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tretch/>
        </p:blipFill>
        <p:spPr>
          <a:xfrm>
            <a:off x="2881440" y="2895480"/>
            <a:ext cx="3443040" cy="9144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6"/>
          <p:cNvSpPr/>
          <p:nvPr/>
        </p:nvSpPr>
        <p:spPr>
          <a:xfrm>
            <a:off x="457200" y="3962520"/>
            <a:ext cx="81691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ACUMULACIÓN CONTINUA DE LA  POTENCIA ACTIVA EN UN REGISTRO INTERNO, AL COMPLETARSE EL REGISTRO SE HABILITA UNA INTERRUPCIÓN. EL TIEMPO DE INTEGRACIÓN SERÁ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TIEMPO= [(MÁXIMOVALOR DEL REGISTRO) / (VALOR PROMEDIO DE LA SALIDA DEL FILTRO        PASABAJOS)] * TIEMPO DE MUESTR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EL TIEMPO DE MUESTREO DEPENDE DE LA FRECUENCIA DE ENTRADA (CLK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632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fff"/>
                </a:solidFill>
                <a:latin typeface="Arial"/>
              </a:rPr>
              <a:t>UNIVERSIDAD NACIONAL DEL NORDESTE. ARGENTINA. MOTTA HUGO, LOMBARDERO OSCAR. “MEDIDOR ELECTRÓNICO DE ENERGÍ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4:47:04Z</dcterms:created>
  <dc:creator>Pablo Turmero</dc:creator>
  <dc:description/>
  <dc:language>en-US</dc:language>
  <cp:lastModifiedBy>Pablo Turmero</cp:lastModifiedBy>
  <dcterms:modified xsi:type="dcterms:W3CDTF">2015-02-10T21:04:50Z</dcterms:modified>
  <cp:revision>72</cp:revision>
  <dc:subject/>
  <dc:title/>
</cp:coreProperties>
</file>