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</p:sldMasterIdLst>
  <p:sldIdLst>
    <p:sldId id="256" r:id="rId110"/>
    <p:sldId id="257" r:id="rId111"/>
    <p:sldId id="258" r:id="rId112"/>
    <p:sldId id="259" r:id="rId113"/>
    <p:sldId id="260" r:id="rId114"/>
    <p:sldId id="261" r:id="rId115"/>
    <p:sldId id="262" r:id="rId116"/>
    <p:sldId id="263" r:id="rId117"/>
    <p:sldId id="264" r:id="rId118"/>
    <p:sldId id="265" r:id="rId119"/>
    <p:sldId id="266" r:id="rId120"/>
    <p:sldId id="267" r:id="rId121"/>
    <p:sldId id="268" r:id="rId122"/>
    <p:sldId id="269" r:id="rId123"/>
    <p:sldId id="270" r:id="rId124"/>
    <p:sldId id="271" r:id="rId125"/>
    <p:sldId id="272" r:id="rId126"/>
    <p:sldId id="273" r:id="rId127"/>
    <p:sldId id="274" r:id="rId128"/>
    <p:sldId id="275" r:id="rId129"/>
    <p:sldId id="276" r:id="rId130"/>
    <p:sldId id="277" r:id="rId131"/>
    <p:sldId id="278" r:id="rId132"/>
    <p:sldId id="279" r:id="rId133"/>
    <p:sldId id="280" r:id="rId134"/>
    <p:sldId id="281" r:id="rId135"/>
    <p:sldId id="282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" Target="slides/slide1.xml"/><Relationship Id="rId111" Type="http://schemas.openxmlformats.org/officeDocument/2006/relationships/slide" Target="slides/slide2.xml"/><Relationship Id="rId112" Type="http://schemas.openxmlformats.org/officeDocument/2006/relationships/slide" Target="slides/slide3.xml"/><Relationship Id="rId113" Type="http://schemas.openxmlformats.org/officeDocument/2006/relationships/slide" Target="slides/slide4.xml"/><Relationship Id="rId114" Type="http://schemas.openxmlformats.org/officeDocument/2006/relationships/slide" Target="slides/slide5.xml"/><Relationship Id="rId115" Type="http://schemas.openxmlformats.org/officeDocument/2006/relationships/slide" Target="slides/slide6.xml"/><Relationship Id="rId116" Type="http://schemas.openxmlformats.org/officeDocument/2006/relationships/slide" Target="slides/slide7.xml"/><Relationship Id="rId117" Type="http://schemas.openxmlformats.org/officeDocument/2006/relationships/slide" Target="slides/slide8.xml"/><Relationship Id="rId118" Type="http://schemas.openxmlformats.org/officeDocument/2006/relationships/slide" Target="slides/slide9.xml"/><Relationship Id="rId119" Type="http://schemas.openxmlformats.org/officeDocument/2006/relationships/slide" Target="slides/slide10.xml"/><Relationship Id="rId120" Type="http://schemas.openxmlformats.org/officeDocument/2006/relationships/slide" Target="slides/slide11.xml"/><Relationship Id="rId121" Type="http://schemas.openxmlformats.org/officeDocument/2006/relationships/slide" Target="slides/slide12.xml"/><Relationship Id="rId122" Type="http://schemas.openxmlformats.org/officeDocument/2006/relationships/slide" Target="slides/slide13.xml"/><Relationship Id="rId123" Type="http://schemas.openxmlformats.org/officeDocument/2006/relationships/slide" Target="slides/slide14.xml"/><Relationship Id="rId124" Type="http://schemas.openxmlformats.org/officeDocument/2006/relationships/slide" Target="slides/slide15.xml"/><Relationship Id="rId125" Type="http://schemas.openxmlformats.org/officeDocument/2006/relationships/slide" Target="slides/slide16.xml"/><Relationship Id="rId126" Type="http://schemas.openxmlformats.org/officeDocument/2006/relationships/slide" Target="slides/slide17.xml"/><Relationship Id="rId127" Type="http://schemas.openxmlformats.org/officeDocument/2006/relationships/slide" Target="slides/slide18.xml"/><Relationship Id="rId128" Type="http://schemas.openxmlformats.org/officeDocument/2006/relationships/slide" Target="slides/slide19.xml"/><Relationship Id="rId129" Type="http://schemas.openxmlformats.org/officeDocument/2006/relationships/slide" Target="slides/slide20.xml"/><Relationship Id="rId130" Type="http://schemas.openxmlformats.org/officeDocument/2006/relationships/slide" Target="slides/slide21.xml"/><Relationship Id="rId131" Type="http://schemas.openxmlformats.org/officeDocument/2006/relationships/slide" Target="slides/slide22.xml"/><Relationship Id="rId132" Type="http://schemas.openxmlformats.org/officeDocument/2006/relationships/slide" Target="slides/slide23.xml"/><Relationship Id="rId133" Type="http://schemas.openxmlformats.org/officeDocument/2006/relationships/slide" Target="slides/slide24.xml"/><Relationship Id="rId134" Type="http://schemas.openxmlformats.org/officeDocument/2006/relationships/slide" Target="slides/slide25.xml"/><Relationship Id="rId135" Type="http://schemas.openxmlformats.org/officeDocument/2006/relationships/slide" Target="slides/slide26.xml"/><Relationship Id="rId136" Type="http://schemas.openxmlformats.org/officeDocument/2006/relationships/slide" Target="slides/slide27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D9E-D6E9-4B25-A008-82582257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547-1259-48E7-A34C-46EFCE8C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758A9-27ED-4A04-AD93-D56138CE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3C9E009-0BCA-44C5-ADAF-B1698B95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97E26FA-45E5-4848-8B79-FC498D2F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FFDD704-C872-4420-9C89-13093D68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F79D013-2A16-4E6F-A266-C65FEDF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131FBB9-303D-44F8-B493-0E450AC2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53AE350-1765-47F1-91A7-268EAAA3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A94FC15-070A-4E2A-89D8-D91BBE3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178D224-866A-42AE-8397-55E55912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2701F42-0647-4E3A-A5FA-DBCAC118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0000AA5-FC31-4C63-B535-8AC08684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565F6-1015-489F-AF4E-1B7CDDCB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BA7166B-589D-425D-8053-05FDCAD4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3C37354-5A53-4C97-99A3-61A12CF8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4FAF101-B854-4BBE-A91C-D8A943BA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40B0C64-FBD2-4C88-AD3F-4CDBAD53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8970ADA-0AF8-4599-A086-142FEC05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701E5B0-94E1-41F3-8FEA-0D7A5ABA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05801BF-1649-4D7E-8F9C-E728230D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C8E3DC8-C20A-4C0B-B594-C368AA9A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7C8760D-FF63-4700-8E98-368209A3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0991102-B6DE-4BCD-BAD6-C121E6A6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41635-6B04-4D06-8F96-C8C2372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B56C96F-C66A-4737-867E-CDE5B368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71AF192-365F-44E0-A1FB-BDFDEB4A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63DAB18-8057-4F09-B43C-BF19C92A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BC2D572-837C-4D40-8FD8-AD9401E9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E89D2B6-29B5-4B41-B1E3-331CE0CA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2C6772E-1977-458B-9BE1-B7511EB0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0E9F457-2E5A-4F6A-9742-CB2D1963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A22AEDB-6E9A-4555-9ECB-E095DB00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B90CD08-FD70-4194-943F-850598A1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E2489D8-13F4-415C-8D7C-035C67E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EBEBF-9FF6-4711-9D51-9D6363E1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83BFD0C-A207-4906-9AE1-A9B42C9D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4469452-5E84-4C95-B36A-A6E228C2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73C921B-C14C-47A9-B41C-98FCBB80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E54B674-2891-472C-87FA-FED198F2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7786881-3467-49FA-AB6B-5C5B628D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BEA878A-06AF-4A19-B288-7CD0F18E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A7206D8-069B-4509-BB45-887171F3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50C6D81-E041-4C20-8684-146FFAFE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EC3C9CD-67F7-4E0F-AF48-C707A13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417C086-DD09-45BF-BBE6-EA6919ED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D365F-2B76-4246-A59A-4CA8A758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4DF5B89-3B32-44CE-8816-6BE223C1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6488D2F-AD56-489B-ABCE-6A2E5F8B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D686B0B-2B24-474C-8E1C-AC8DAF36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7EA6BD7-5A53-4DFF-950B-25749FE2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AB1904A-ECE4-4A2F-9663-70151BFE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1D9887A-9DEC-4AAD-B04B-5BDC1327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B6DD6AF-83D4-40AB-92C6-D94C5A55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1742079-AF96-4510-905E-13EA2653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4C344FD-4FE4-44C4-A633-B42E1363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E16C69D-0829-423B-AC1F-E5F9C226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98F3A-557A-41DB-B32E-89E28E9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0DB4AFE-C658-450A-B774-3333E50F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94A42EF-A751-4155-8F42-924B2E8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7494172-18B2-449E-97B0-1D7B3F3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EB08550-8A0C-4442-A20E-36F4A146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DE7CD81-4E3F-4A0F-992C-9C81257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2A97B35-F5C6-46EA-8254-3C5F0E90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11ECCA3-62DB-421B-9DC6-62C27B0E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44DA7B2-4500-4C09-B42C-C54B0689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00616BA-941C-4095-845C-FE7BE01D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6FA8FA9-98D9-48E1-A0B9-25ED43FD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05517-811D-4863-A300-E0BD04EB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AE27035-18EA-41DE-A93D-FF8BBE5B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3E70BEC-63DC-4DB8-97A7-8854A67D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50449F5-FAF5-4706-AEE7-E7987C88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F32BD5D-D530-4613-A1BC-4BAAF03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2C5FAC4-6281-4ABC-8CDC-B274F70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1ABFC9A-B19A-431C-8534-BD6EAEC3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C153006-65E2-4DA8-9233-5B084254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440A7B2-C8B0-4E89-843F-D64992D7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8D3C8D3-CC09-4A15-ACD5-E4009175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E4B4378-CAA6-4B1A-A017-B5D3C106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FB3AB-9007-4F8B-B2F0-F2AB4309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9ED3D47-45FE-47B0-A860-EEF7E465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14E4C03-461D-4379-8C1D-4E921078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3A00C7E-B3E6-4F58-B8E6-213EBCD4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8B511BF-1AE2-4A39-9742-86E52BB0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40E52BB-9ABA-4E8E-8DB7-76524A7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F6EAB61-F014-4DD2-95A1-7468FB7B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7ADE1DB-A40B-4855-9C69-11EF4A9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1775713-EF0A-476D-BA9D-C411ADB8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9D9BB63-374C-4471-8A33-19D9E3E7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653A6DE-2DEF-408A-9423-6C6C1E2D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4CEAE-3700-43B6-ABDB-0AE5D84D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FDF1E01-BC2C-432B-8A3A-ABA412F7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00F3859-C998-4433-81C4-7A3CB1CC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175EB92-AADB-42C1-84D9-74CECA1C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DB09A47-F1B1-45CD-862B-36B82C9C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0F92036-825D-477F-B32B-292DA499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5C74124-DD22-4E02-85B0-86F1920F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0AD2744-90A4-407E-BE98-922B6A84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622EDBC-F8A2-42A5-BA2D-046144D7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CC07921-D283-4195-8A4F-8C4B47DB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9DC6609-A3C5-4D12-933C-03B50D9F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B573A-3C0D-4B42-B82C-F632917E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0CDB7ED-BC62-4D3A-AF05-A186D560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0751CB5-32A6-413B-B545-260999BD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4BD209E-2C85-4779-B247-015C56C5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EFDA894-8411-4E41-B70C-11085DE6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EDB0F0B-D797-40BB-B875-7EC9DAE4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BF12AF1-1580-4260-8AC9-F8B34F34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27C5BC5-9E5E-4E3C-8234-24F82C22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8C312B1-7FA4-4B5F-BD5D-C3B14C04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BD3C905-9D72-45A6-A205-E92F9672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EE0C237-D06B-4E67-83ED-0674132F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5EB-CE53-41A7-8241-932BA8B2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19F77-0922-44C5-8A63-BE1C348F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D648A24-EBFA-4456-BA56-387A6234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A4DD66C-776F-4E4E-AD00-46E542DA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875295B-7B69-4375-A7BE-E2764FF5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9089444-FAFA-4A97-A27B-5B413AD0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6F5E812-C0BD-47DB-8109-59402A43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2451054-0339-4116-B0B6-BA34F88F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3EACBC2-7466-4F62-8E7F-5778481B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C83E9B7-66C2-426C-AA16-E7301696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3ABD6BE-C748-4E05-9041-F4925715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530E3C3-FF62-4A3E-8337-3CEA0956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31791-AA7F-4167-A77B-DCF18993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8BCEC25-010C-416F-809D-D45B19E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434AC08-A66B-4EA1-BC6E-38FDFA8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B46A157-31BB-4CE3-9CAC-8E80CE1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9FD5ABD-60B1-4CD7-BFF6-3520689D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40A52E4-F604-4BEA-A7A9-952E5470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6116A28-946C-4CAF-B339-F87327AC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D07298E-3262-4512-B51B-9248AF2F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EE0E787-70CF-4A14-BFBD-D963F03D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832493E-D82F-429D-A7F4-57B2442B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752C988-058E-4A0F-818E-C7EF2C11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2FE94-0834-4901-BF8B-CA8ABCD1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74BCF0F-59F0-462E-946F-81844B95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E6D6C0A-0FAA-4257-A6F9-ADE7C3FD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8BD81EF-E333-467A-AFA3-358697AE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6D03137-4123-4B80-B696-8E183DD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64CE634-759D-4E56-95C1-0183E5E1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11D8922-235A-4513-AA75-B9E15E7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1C7F348-056C-444E-8AEE-2C8A8BB8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A2F6139-0D4A-407C-B211-D32B425D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A539284-17D8-4C00-9A13-5028AD11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30954E8-17B3-407E-8192-C7B6D205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8F148-3FE5-46CD-90FD-B5CEB9B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B85A932-6246-4399-8B0F-D99C57E3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75E9A18-1ED8-470F-9189-19751288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78DDDD7-5FD4-4C77-A79F-8958ECD6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9EF1C31-AB4F-4F83-8AD7-5E68E3D0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DEF9033-3CA5-4871-85E4-7188E90E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A2A018F-4604-4F0B-A059-5BB765D4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39DDE51-8120-4B24-AB0E-3031B97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1A46799-703A-41AA-A521-30A4CC1C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DF292A8-3F41-476C-9945-06BFF867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6937D3E-44B8-476E-850F-3AE0FB28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AC40C-32F3-4B03-B57C-FD0E092B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FF070FE-D615-4022-A074-C9EAED57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112E87F-277E-49D1-BD0A-AB2134AA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EDF28B6-C755-4430-9C47-886D0FEF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8E4902F-0016-456C-99EA-A0AF597F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7466A50-76DD-4E3A-BEC5-B125B310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D001E7F-41A9-4F30-AE95-0F7E4814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283467E-C451-456F-BC9D-AA1DCE7F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6369C9C-74FA-4B50-986D-6A57A07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3124ADA-EDD4-4AF4-BE0E-8B892DD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83691DA-0610-43FD-9329-8753C78A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09AF0-DE99-452D-8B96-7FC5898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DAC0350-B9EF-4BA2-BA18-0856188A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9C18390-0C96-4400-9831-100A35B0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1037F2E-E92A-433B-A9D2-A449CA18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C0131D7-EEC5-418C-B1AF-521B79C4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D434EFE-D460-4555-935B-65C5A08D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9AB1E39-238B-4868-8BAE-9E674C36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88EF2F0-69CB-4F16-9CE2-BB099869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BC4CB24-1666-46F5-8E09-9E5C1879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A88F9D1-28A4-4916-A327-A2CBE566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A45E9C9-7CA1-4AC4-BE3C-70640C3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B4C5F-6A71-4A00-B22A-D817FAC4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2B42197-B8B5-4929-966E-65145E0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170E224-C089-4A55-80FC-9FF97A53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5ED7C95-EC16-4020-8BBC-1D9795ED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77CFAD97-2CF1-4FCE-94B7-168F3B6E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A051FC4-ADB4-44B5-B32D-FFB5DC0F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F7E7F6C-2E77-4F5B-9A41-201039B2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507E297-FFAA-4303-AAC8-C7618EE6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2B8A8CD-9CC1-4196-8917-36927491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4043BE2-FBBC-440F-BF06-1A3051BD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EE6BA53-2DFA-4BCD-90E5-B527D3D3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75D22-47B1-44AF-87D0-939DC61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7C9C64B-8B9F-4D49-A277-F5899B15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215E773-AC0E-4FF2-8C28-0E6BA850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D392DD8-EC7A-4838-9F45-48CB6E41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BA92DF8-1F7F-4516-90CB-178F31ED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2FB9BE0-5A75-4BE1-B8C0-48C1549B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01257C2-089B-42BE-AC54-7BFCF496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1C9A79B-2F1C-4A9A-B394-58F694B3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247BE28-4322-4973-88AB-C230A1DC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C681CF7-15B2-4F55-93F0-0AF2CDF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ACC556C-CD5D-482F-8FE8-DCBF4B71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D401A-E305-4DBC-9817-B938BB3D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87E6D89-69D0-4CB0-B467-330EBD47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9B5A959-561C-4FA6-AA44-33F67634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376CFB1-5818-43A7-AAD6-E403D1CE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BFE1FA8-3735-4A96-BA1B-102B8605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8AD9964-B349-433C-8807-DE73CF8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1EA59FD-3925-4DAE-9CB9-B4B19B0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BF4EA41-44C2-401D-B14C-76AB2A1E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BE2C81D-C327-4EF4-B4E9-6ED43FF5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25808A7-8668-4C2C-9F77-ED42D3CA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6BBFA02-1121-43A6-9ADC-D0E2A46E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F26D6-CCA4-4D0B-8A06-7ACD1262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6FF69E9-FFE0-498A-B0F7-C4F22E3C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843DF71-90EA-4C1A-9716-EE470556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8EF2573-B38C-47CA-B572-95820C51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5F830BA-68F3-47D6-A2B7-3A24ACDE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8916221-CFC7-4BEE-B4BE-250B7E1C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3CE620F-89A7-4E42-84B0-E3798F64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335F4BE-93FF-49FA-BA26-5AA3862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AC5FDB8-18E0-43DA-83F0-F98AAAEF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939A70A-AF18-4D50-AD5D-418C41C7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D52D874-7D5A-4B90-9C37-C29D9DDB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472-E824-4985-AC2A-3F80F6D3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799CB-E533-41A5-B00A-0684D6A5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C4CD0F6-B53F-40CB-9635-A762AFF4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625888A-85A8-4958-8D87-CC9E9659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01AA78D-97D2-40C0-8121-882E6355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CF1FBA3-D2DF-4D03-B9A7-EC6E2BA4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EF4DF9C-D579-43C9-A8A4-625CF2A7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21DAF26-35B4-457B-99B4-FAA8BDD8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D19D583-C127-4308-95A4-FCC39884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75E9B5C-42D8-498B-8C8A-CCC9918D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9E7516C-F795-4680-9993-236B38CB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92A8AA1-2C61-41B0-BEFF-169F3238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95B9A-1FA0-4558-B238-BAD0D581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FC094F0-BCA4-445A-B173-D912C7E1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9DB49AB-BF49-49FB-B127-8DF69696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B71D7F5-7A93-4568-AF66-BD23E6A6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4E473B8-56AC-4A02-AF61-E5A438C9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12DF7A9-D5D2-4598-B381-FD2BBB5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FED8E8D-81DF-404D-A97D-AB6EDC76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C672B5B-141E-4FCC-9E56-3D508C85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B53ADDB-2343-4C19-9227-64FA14FE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A04952C-AE95-4AAE-A208-8B143EA8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B9E2B4E-5785-4237-A9D9-4CAA32A3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F8767-7EA3-42BD-9FE0-2242DB86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7503CAC-74FE-4FFA-A191-2F20003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C621D0B-300C-41D7-A792-B91B29FD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E4C20CB-5AF0-4460-B814-607B7DCC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DC46C7C-8C55-4008-A048-F482F1ED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F3FBDC8-5E19-4E53-B6FC-E1C71317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D13293A-7C22-4D23-841F-E14E8835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7DC60D5-A4BB-41A3-B0E1-2DBD492B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0C10EE9-51BA-4B06-8B6C-D4FB5C04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7E17CCA-918A-43FD-85D0-C7C2408E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BC73AAB-58E7-4195-8C6B-38A09F6D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EF3EC-CB05-4A91-80E3-EA00A8AA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B10D9DB-96E9-421D-ABE3-026DC679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022E290-FCC2-4945-9B29-5CA845E2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7D09851-0FB8-4CD7-8D8D-662B58C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8CBA609-29F9-4D5D-872F-475583A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6F1D625-FD0E-43B3-8FEE-F466D811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0C121DE-9A56-40CD-8692-C262BD4A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8471585-BAF3-4711-A8ED-D939274D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0D0F1BC-BB32-47AE-9F5B-0A8E9150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4F02469-F804-4092-9485-40120C87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014313C-9A25-4CA8-A01C-34B005BD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D7CFF-A06C-4337-92B5-BE602538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D58B1D5-F91A-43E9-A4DC-CF651D1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8BB3327-DB13-4141-8F17-8D1B0A5B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4B7BD9B-D83E-4243-AA35-4C9C69A6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A25D54A-03A1-44FA-8A79-D88B9CF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D24B699-04CB-4F8E-A495-67FB27C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D591C5A-A0EC-4032-A33F-94073D9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A0A4341-D35A-416A-BFFB-E317CCF1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60C7AF6-24CC-473C-BB61-324336E3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8B9DD25-FC14-40B2-8A4F-53138E46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5F5D1F1-01B9-4224-8A48-43420744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AE238-44F5-415A-85DC-5136E351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3940248-0B75-4D2B-AF64-BCB1ED22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C813D7D-6ED7-487F-A954-A4B17DD5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92338DE-382B-435E-8786-B8E8DF40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F0605BE-A3FC-4407-955D-3180D42B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A8A01DD-F39A-4486-B807-53CFB39D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2C52B6D-4992-439D-B8C7-A53E351C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D814F95-87B9-42DC-96E1-4FAA0C9B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6958659-16DB-4B63-A643-7435A7E1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15A8210-1DDF-4AB0-B121-F3E307DB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E345EB2-9F29-4346-B7AF-4634D51F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4A684-AF07-4DCA-88CC-8B9083B4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19A642D-3A89-45CD-B213-1F46B41D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35132D7-B6CF-4093-900E-3396CBB9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AE10472-9146-4C6E-AE5A-F6445591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936E2E8-1447-498C-A820-AFF47760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98F2763-E39F-4008-9D15-B49A920A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B2DF2AD-9833-44B3-B79C-168D106E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8262D87-10C9-49DE-8D95-F6A515FA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00937D9-279C-4A08-90CE-0A2F9D1B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81ACAEB-EBA9-4051-ACE3-B83A507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081A873-C79C-4FA9-8BBF-EEC37CE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0EC2E-C14E-46CF-B6B6-CC1BB7BE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FBCD2D1-CA67-4E7E-AC2A-BC72444C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61B59C7-6886-4B3C-96E9-7D771373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33C95C5-35D3-4E01-BD5F-18490A71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5A0AF1C-7E9E-44E8-986B-ADC18BCF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72E650A-1827-47BE-9E65-B83A45FA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13451C0-8650-46F6-9519-7DFC2E4E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A2A1FCE-8AE6-4F97-9D7A-A54F349A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1A3AFD8-38E6-4D4C-9B80-C23EA125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D36D302-B62B-44DF-9958-2B94883D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3ED9940-EA41-4A3A-BD36-467AE75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C466E-82BC-42EE-A6A3-72A426DA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6AB26AF-321C-4D37-ACD7-3996E33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ED41CFA-6B24-4427-BD56-5D506ED3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255DF74-F5E9-48A2-AD59-E01D53FE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3FD2FA2-2014-4436-B7B6-462153A6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C6D7586-328B-4167-82D0-40B09414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D8D64F0-63E9-4EE2-9AA9-8B6015ED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D1D798A-7306-41E7-B3EF-6BA356E0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10869AD-D57F-451B-B497-D6AE4193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F1BAE932-9C51-4E88-8861-F381B251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AA92677-3B34-4F19-85C6-51EA70F0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917DB-B57A-42CF-B7F5-968EC4C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866A302-1049-4C14-96DC-9601DFE6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6DCBAE8-EF63-4254-82E1-16D27354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4038F7A-B355-42DE-84D6-1E94FFA4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F8F0D2E7-A121-4DA2-8B24-B7205C1D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ED1BB9B-E9B8-4F63-880F-3F252098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87D9680-84C1-45FE-A697-CBD2699E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DC247FF-38E0-4147-93FA-0C7FC4E6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A964-F32C-4604-8974-DA59F3B8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4ED66-BDDC-4F5E-B1A3-8E151D1E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19D57-134B-4739-B4F9-8CCE74EB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9C293-4911-4C5C-87F5-D26E6829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89BB4-FE9A-46D6-BFCE-471CE7A6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B2A17-AF72-4AFF-894C-C236195C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B1C69-6FBF-4669-97DB-E57757E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17734-F639-4E3A-9E88-82A0E8C0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D3FD2-40AA-43A7-8E8E-11BAB0C0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B3FA5-D996-4BF6-BD10-F85CFED7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943B8-9D66-4E4A-92A4-74480C08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0D0F-ACBA-4496-AB43-89D196E7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02A4A-F7B7-43DB-AC13-17F53132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14E1F-C0E5-40CB-BD5D-69B639EC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B6D88-8691-4428-9834-B2E148EC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986BA-DE54-4887-9D1A-31C296F8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A6499-6852-4CAA-BF9E-FCBF15C5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6E75A-3CED-4118-985E-51A4094C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F7FC8-70F7-4DCC-93ED-01C9AE06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6B033-F005-4E48-B93A-DBEA2EEF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A82BD-CB47-4A1F-8721-89A4B0CD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02EEA-35EF-4AA9-B239-51C75E7E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1B00-7913-4430-9014-762BDC4C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8998A-CA0C-4E80-96AD-28986C5B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DAF1A-3DD8-44B9-8322-3A8222E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F9A34-4DA5-4B45-B6F1-9631AA1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867D3-137D-4459-BF11-9B72A987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36DE5-0086-4204-9342-0D5C2287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C6471-E99E-4662-9E94-28D9D966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2CCFD-7105-4A31-9A38-A2D6B29C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6FDA4-CC16-42FD-86BB-C476679A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20267-72D4-495E-9469-9F30EA3C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73D7E-66F1-4617-81B6-D91CAD30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FBCA-12F1-4ABA-894C-85715FD0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69AA1-BB40-42E1-916E-273E7130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BDB97-5A29-49A3-9739-4872B26C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0701B-58F2-426C-86E8-B42A78D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E41C1-36AB-4538-A721-2282746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0BA9C-A0D0-4AEB-AF2D-A0C0732C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52D8E-4BA1-433B-976D-5248493E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7CBFD-DCC8-4436-A661-ACB366A1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CD73B-598D-43E8-87B4-F6DE70D2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2A2C6-4584-44C1-AA29-721C72D2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3398A-9DBF-40FC-B569-4DE05506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E102-D790-48C3-8DCE-0844FEA7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5D24C-7B4A-4C98-9C53-7FD62BBE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6210FA-3C0A-4C86-B596-80C5D42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E1477-0363-435F-991C-FFA962B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0C98D-7F82-4CA6-831E-67E773B3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9E780-8CD3-4EA7-8389-0549BB2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1739C-260D-4654-B476-B3BBABEC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B29D2-D2DF-4DF9-82C1-F75A9324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9F9D3-0226-445B-B146-2C37263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1D140-FB20-4574-878A-64050D96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4E3E2-C262-4A36-930C-DB6B137C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6E13-CEA9-430A-85C9-53B26F3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0C599-B22D-46DA-AB39-301ED12F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17E32-A2A1-4A38-91A4-F9673093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D73AE1-86AA-475C-AF9E-A572D423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EC58B-F12B-4093-84B8-030ACE95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A652C-1A26-4C57-ACB3-6171D4EE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15132-3659-4BE0-9652-AB17B23E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60C60-F2EB-4797-B437-C65A47F8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A822F-0B66-4789-9BFB-02EE184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242FA-C3FD-4BBA-B619-C083F17B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5DFA5-19BB-4B5F-924F-5108009D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26C-7DE5-42A8-B9F5-50A390FB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A8454-B7E6-4DC8-9395-9A1F865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4743D-8849-4901-ADDC-1A4D74CA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45318-4F5D-4C2B-AEB1-E859071F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EBD417-2CC1-4F33-A60D-DDC383CB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CFDA4-4F56-4FDF-A7EF-04AAB7E3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E8403-E49A-422C-844B-286ECD28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28073-0774-4643-A474-1C510CD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30090-6BD0-4E6A-95C8-86DBED54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A2629-FD4F-435B-A7A9-C721B55F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3F230-EC9E-421E-A054-C6B0CB9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506-0DD5-48C8-B6B4-1659C476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860B-CB8A-4A4D-99D3-2852E704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25692-41C4-44AE-A3A9-80270785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FFDA0-F72D-4FE5-AF71-9D817C62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A8E62-090F-410D-8BAE-26A2969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97B7C-2E9C-48B7-9FF1-CC4225CB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90728-C61F-4CF6-95F0-7223BD55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36B44-DCE1-4961-B39D-D15D9B05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1064E-A7B3-47BF-BDF9-B15E9165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26D7B-6A6A-4CF0-A7DD-11E15DD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50797-3233-4F5B-84CE-B18B0F14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CEDFC-9407-41B4-938F-3D9F47AA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7710-0ED8-4656-9F23-F7D4967A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77211-BD3B-426C-AF8C-436E8DC9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E35F3-D5E7-4869-A61D-A214CAE2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EF36B-AA52-4D81-AA45-8E818A0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BF1A8-7AD0-4342-9210-6B4D609D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DBC02-DBC6-4C7F-97E3-BF72E05A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1D1A0-6D60-486E-A915-C6F0F58A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B4584-C119-48E4-9C61-0E30DF69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1F9AC-1C2D-4693-A7F1-B4719B79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D91302-060E-435A-A09F-F76D87C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CBAD8E-A466-4708-959D-A786C777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1C42-3D9D-4380-8245-D4198BC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3941E-D2AE-4C3B-880A-4F60BAA9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821FE-306D-4F5E-AF84-B61B6984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845C7D-6963-4416-AD7E-70C7D18C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C76FB-7A62-43AC-9C97-83345212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D82CF-163F-48B7-BF9B-808260F7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6F34C-1F51-4F2D-BEC8-E3602AF4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2B4177-3AE2-438E-8E41-39A7EE5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F7874-2B4E-49AB-8610-EA0CCDD8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0BE36-5C7F-43B2-AC78-F2CA8E98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A8DBE-DD61-42C5-A740-8143EB80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7CBB-A163-4CB9-8013-9957698F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AA41F-5D6B-4CB0-8315-BDB5AAB2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34235-3DF4-4C7A-A1ED-3ECD6815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D2D4B-7A63-4134-8449-0BC20515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237C2-CDC3-451B-8CCF-5717857E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5253E-A9E0-46E1-AF3F-88F92A30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E7BE5-B3C3-43DD-AB72-B1C9A985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65CE6-61AB-410A-A24E-AA32BFE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1694D-C372-47BB-8A1C-4B95014C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E3207-001D-499B-8B56-D805D6F5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90C1C-3A2C-4D51-B06E-5F300886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C8AC-6140-4C59-8CC6-16088832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53EE8-632C-45B0-8D43-97E19BB6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9A5B72-7D7B-40DE-BDDA-72637D5E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4777A8-5664-4F4D-8AEC-3CAFBF94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66BAA-C060-473F-8E83-11B0F628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0DBB5-8B61-4CF4-896B-928708D4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CD87E-652A-453E-824D-0AE0D5D1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D5FB30-C4B5-4614-8329-0A90BE8B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447393-4959-45AE-9C4F-7BFEFFE8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0D40F-479C-414B-985A-7735FB1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A9130-80C3-40BF-8375-4E493FE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3447-DEA5-4C06-AFF3-517299C3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40AFE8-9BCE-4933-87B8-81E32741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DD1BF-5C0A-43C9-ACB2-C1A48F99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E72B1B-53BD-411B-8C29-4E567C5D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7D8963-00C4-40AF-A0E6-1D4F2887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459AC4-5EFF-4B65-927C-6A76A348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6E0D59-C6D7-4B5F-818D-E054A301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C15A0E-7C60-46CF-913B-386D1F75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F37F38-299D-4D09-A67E-C4764053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1F2756-5661-4382-8201-6B8DA92C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E7BC04-9EB2-4409-BAF9-776AD75D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0DFB-717B-4F96-A711-B57843F9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610CB8-3FA8-4092-A4A4-9D0C0F6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D5E462-6AE1-4D8A-B370-0AC81FC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056720-1641-4728-B07D-C9615316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F6799F-69BC-4EF6-BDA2-4BBDE060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F987D1-205B-4CF6-9254-620C3BAE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C7EF44-F2F3-4541-9EE6-AA4DBDD2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0955E-F060-4D7F-B8A8-0E6B43E6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41766-681B-4BEC-9EBE-BD5EA87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0E153-2F41-4573-BC5F-02FDB81B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AF483A-1E12-4DE1-B277-33A8D9F8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438C-49D2-4ABE-929C-6369EC23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89BF13-B817-48A5-A508-14626B95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4FF67A-84A8-479D-839B-4B56247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8C7BE1-451D-4B36-8E9A-68EC8D22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6B5683-4EFC-41AD-838F-C0F7F6E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A551D0-7759-42BD-A6FE-665B827A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5F986F-DC65-4CF4-AB98-FA10CB5F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AA910F-9B7D-43B3-AF67-87EE6D52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AA3154-E174-4DA3-B290-5E2EB20B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993E2A-8498-4EE4-A856-9FFFCC56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F9305B-5EDE-454B-B24C-E7CDBF58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D3D1-5A96-47BE-B110-0B27A078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0637B5-D32B-4061-AA20-788AB54A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7D650C-7D4F-42A6-B271-C34E401D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B89316-E3F3-463C-A89B-01CB713F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C08551-44B1-46F1-9289-07CF8AA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42E243-1637-485F-9756-3610E57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A12A1E-DB0C-456D-9D63-39F73B38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BF1389-FB73-4242-87D8-FDD0BFC7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E661EE-A7E8-4325-BAA3-D6F98820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0334AE-B12D-4A45-935E-C08C91A2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96A4DC-BF41-4EE0-ACF9-30B6FF7B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050F-B96F-4727-A756-FC43C932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8381D3-8842-471C-A2B5-F91174CE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DED0C4-A61E-43B5-8B78-68CF64FF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9FB634-ED67-475E-BED1-3507A353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04778E-4871-4E8F-992C-B9BEBF82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E13B43-169A-468A-A0CA-44BB66C5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DE2557-FB32-4AFE-8AED-62B2411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8DA83A-ACBD-4600-B165-94675EA3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0E323C-9052-4E63-A9F6-8B4A9B16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C65A71-CA36-467F-8C60-89CAEC1B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31C7C2-0FEB-4163-AA20-F29182A4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3BB-7594-4101-9115-F60B1345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83BA-471C-4D3B-BCFF-1A129377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1E508B-A873-40E8-863B-2C26DDD2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CB0D26-C2AC-4512-8C00-EB5EDA99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30E84A-DAAE-4F65-8469-8E00D516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AAB8F5-6F6D-48A0-A359-7CCDB71A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E02C97-0FD0-4D45-A86D-B4A4DFC9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E04A63-0F1D-480D-9F51-DEE2EEDD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D8BCAB-99A8-4376-9BF1-F85F4C03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93D373-115A-4D5F-83E3-76CDFD25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EF93A6-D2DE-4A72-9668-2B4D617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845DAF-6E84-4601-992C-9E4DF81A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2BC2-A208-48A3-8273-F5128D1D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7C8A07-8BEB-4A8A-B414-385C328B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0F56CB-EA77-4419-9F15-A08E4E64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3E1016-2567-4CCB-B3C1-E9BD6501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6D1151-A5D7-4271-B165-CA797FC5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1CD972-70AC-4497-AECE-DD643603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F82791-85DA-4A98-9DDA-83AA39D1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A8EDC7-F047-4B36-87B1-F6CEBC21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D1123A-81DB-4AFB-AADC-4ABEA15D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A3DBF7-7EC2-4AE1-82D9-12632A39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303314-A319-4913-9500-C9072C3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BD9D-62CC-4F5D-9098-A87B0515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15D136-7E58-41B0-8384-D94A37B7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3CC872-A36E-4254-B277-68E31790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C6FB93-6987-477A-AC07-E45ECB19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AD23E9-B7AD-4C73-BA69-ED6D7ED0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A6533F-E3DA-4D5D-980D-6D09C522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C22D83-1AE3-47B6-9ACF-57501FC9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EA3758-954C-487E-80D7-66B8C19D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5FA6D8-3293-4479-9BF8-4F5B02C9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89439C-6336-483D-BC64-690CB7AD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19B53C-A0FB-4496-8177-FC679B7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5641-A107-4AB7-BDE1-06725AD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09DE59-E9E7-42F5-8E02-91498CEA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5DA0F9-7398-42DD-A581-B7262DAD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986D5B-CC11-466D-98D7-185514E6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9C8B73-0807-429E-82F9-9AEFD453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BE4F5E-C21C-4F1A-887E-2E57FE46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881B96-1AF9-4DC6-9102-1323CCD0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0BED70-1179-4EBD-A81D-097A0A95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6596A2-1B8C-4CD3-B60E-1C8D2012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C00AC0-39CD-4380-9F16-F52BF7F6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EFF22F-5B82-4D8A-B508-B88C4E6E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E855-F44B-45F0-B8DC-688CDEC2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6142EE-8C83-479F-9A72-FF91F10B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996D3B-6215-4A48-AB4E-B43D33C9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052FB3-8762-46E0-9E04-4792132A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C46B6C-17F9-40D5-A310-8D18D4E5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7F97C2-6D5A-4778-A8B0-6584E20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0FAF5B-EB2C-485F-B7CF-6F056517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7075DE-3DFA-4547-B1AF-2ECC596F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8AE137-D9F7-47F5-A789-6C8C2D86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CAE0DF-468A-486E-AED7-06D1CA0B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2EA2C5-4539-480F-A527-9F3419E7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8722-4B35-4C68-B5DD-14AF6713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B9C51B-0F8D-48EB-894A-0B9E8377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4E1A6A-46D9-45CA-9AD3-35A5670D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599A34-CABB-4F57-B8EA-41A625B3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2F461F-6B71-471B-A0F0-F77BA3AD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D55B58-6EED-4A4A-980F-6386F27A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DA21A9-195D-4754-93F0-145E3146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05F528-6CBF-433B-AB73-C3BA521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7542F3-060E-4BD8-BA76-C208E41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360607-70CA-4797-A39A-6B02EF0F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25AB95-B757-420A-B433-B8B411FC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D9DA-1F48-4B61-80D6-6DDA4B73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E95AA0-A424-4FE5-855A-88CA9FB4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F96060-5A37-4812-A20E-DA042F14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AC2750-06B2-4023-B0D2-0BE1EA86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98E3DD-BBDD-4AE0-ABE0-41A6AD8B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53C5CB-1870-4897-B422-F9478AC3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0DBD5E-4BF5-457C-889C-DB1A79E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1CACC7-6298-47F3-933B-595BE41C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5D4900-49C7-4FB0-8145-9D2B53DC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DC3A86-0FB5-4DCC-AEC8-83B3E0C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F1B831-61F2-4C4B-B2B6-917B7352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97204-944D-46D8-927D-91C9AD2C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A4EB08-C6AB-4F06-B169-42CB8EA6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D6AA51-E3AD-484F-9B80-11112885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ED71F5-E9C3-4DDE-BD2D-2C0BE26F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0CBE8D-A8B3-40D0-95B6-D0BE714E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0ADF57-A352-4C44-B9E1-99F641B5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87C65B-2FDD-468F-965E-5822EB3B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5F89F1-2EBF-40A4-AB6E-1A76AC58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DA2772-655E-46E2-A34B-B24325C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97912D-5FD9-417F-9D88-03089291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1A48BC-7C94-420F-BCE0-821A2C6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B4A5-00D1-4C42-BC17-8006E65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6205A9-99CA-4972-8992-3E066D01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DC25A6-1CBF-487E-83BD-E0613E6B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569C45-23AA-47FA-AB3A-480CAF6D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8F16EC-29D3-482D-813E-AF3F0DB9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6880C5-A9C8-41D2-83A3-18101EDE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E89B71-6B96-4E21-8C67-8BE6216C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DF1A29-D9B6-4D31-8753-DFB6D89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3B4A7F-8B75-47CB-B5B7-BE253E43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353E68-6AED-472E-A6CB-8F552966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26DB86-9857-4ED8-836C-CC2F74A6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2E8B-2BA8-480F-8D25-0594376E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B3D29E-39C0-497B-81F2-008AC1F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4198FF-B159-4487-9CC4-27B5FDA7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9E2B0B-6AF1-4642-9271-6F42927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84F81C-2CB6-4299-885F-AAFEF10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81ECC1-1665-452F-9CDD-50A9CA9A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D16CDF-7A64-4A53-8F08-2A0EE5C2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69244F-F26F-49AB-A109-2A15FD8C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1DD043-B426-4056-BFEC-0983773A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996D6C-E432-4C43-906C-1ADD2B3E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299553-94B7-424B-89F1-05E45A4B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171-C5C4-4A37-8D8F-7153EBBD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160E-27FE-455D-BED1-C3377C39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3A1D14-C0AF-4851-AF4A-A27E27D9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036194-8EF2-470D-AC4B-3629586C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985A0C-3340-4775-A885-B38EC795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2D1392-D5A4-4D2A-95BD-E3668ADD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2D0B60-53CE-4D8A-B01E-76CD715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1A55E9-5A46-4EBA-AAC5-4B75F920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5759C1-FC6A-4AC2-B631-994A9D7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B3C79A-9C64-4A34-9F31-ED32A1F9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7B88E8-BB0D-4662-B670-600759A7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3103E3-B3F1-45A6-A584-1EB7615E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974A-51C4-4A2A-91AB-3A9D73AC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BDEB48-36C5-47B8-8210-B13C44C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0E7A89-6301-4D10-B8C3-B79D5AB6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DC7F01-66B8-4AFF-98AF-C6948F7D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A5739E-157E-4479-99D2-FF0EBA59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64A50F-F77B-4C31-AF03-38D383B7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693AAE-9EBD-4FE3-BCAE-8D75B5E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A04E72-B340-42A7-AAD5-ECFF11B3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0A16E1-1EBB-437A-BA83-4F015ED3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72B2E8-E6CA-424C-BFAA-89AD9B4B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16AB76-BB32-49EE-8CA4-6755681E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74F79-9D04-430E-BF3A-1D808A7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A09B74-0FDD-425E-9A51-C0B0C4B0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8458C6-5952-47DB-8DA1-7B535F7B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535DEB-46E2-4CE0-8AA0-24CEFFD9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38911C-64A8-4BFF-8414-7EEAC98B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2AFA77-7482-4C2C-A9A2-F96D42B2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B70F09-B079-4B35-B596-321AAADE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7200AE-9357-4619-8EDE-B428163A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62E9A1-DD28-43E3-8165-8CEF951C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B42285-297D-4E9B-BBAF-B9F273B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7805B4-F1A4-4A11-85FC-D733FE0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E780-1115-45F0-8441-49B2DD35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E46714-E5A0-4890-8FEE-C9E36E53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733486-607D-415F-979C-16877A78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532192-A093-46E3-AD8E-6A63F1D6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7E0721-0979-4738-9C19-7074E9BE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395E3F-905E-463F-BD6C-2AB3868B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4DD198-8FE6-4E0C-9FA8-07207850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40FAFD-CA6A-47AE-B47D-3F3ECCC4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7457A5-49BF-4C25-A535-5DDBDDD4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5E7E41-A081-4289-B94C-B6921821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BA236E-9297-4D53-9227-836591F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4F299-348C-4011-B15E-F6AB485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D32567-D835-4C9B-8504-9906BC3B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7BF14B-3CA2-46D5-9D63-2E30E31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35F4D6-EF29-4992-8F9C-D67E6475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0909B0-C875-40F5-9B96-8F3333BF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27E35C-A61F-4AA6-B06C-72A6D919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462FD3-A1C6-4C63-906B-48D11A62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33CD3E-7490-495B-863B-9BA4D850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DA6007-AD0B-41EA-AC97-0247510F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7A4B1F-7905-4836-952E-1A1E2BE4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16093F-85CA-470E-9044-0F5A6B8F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0F5E-AB7C-4F92-9AF6-030C3BC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38C7DB-9679-4324-9A94-178660A1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5BDCA4-EAB2-4E56-AD77-48F9224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8B8CCC4-B443-4FBE-B666-067267BE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606D91-1494-4801-B585-D3176141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ADA5DE-D400-4ADC-BF86-115DC920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338682F-54C7-4DF8-AD1C-AAC7FCE6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E9D930-7BDC-4F28-AC0B-7817157E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961CBC-1586-42E2-994C-3AFE2F0D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0D81D8-C76B-4690-83F3-53979807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20A6B7-0516-4B54-9CBD-B63B7055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5F432-8598-4285-8C59-270674B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8ADBF6-963F-468F-B365-9B68F173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320D57-4855-47DC-BD14-B90C2958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5A7E1A8-F77D-4F86-94B1-21CFB6F7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4442F23-BAC8-4132-B5E9-001684BE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9F5722-4B60-40A9-A288-ECEEC4C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75ADA4-505C-4E4A-977C-95773B5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805886-29E5-435B-B785-CE30B756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151B72-2A1F-47DE-883F-B3B4EFC6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836743-03F2-448D-AE3C-B68617D9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547F4A-D22C-4617-9300-FFC6D9E2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C444-8B4B-428B-8B12-2D3FD9FD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62AF1C-21F7-4DCD-A531-4BC6A048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579E77-6029-42FC-B551-4F9C96B1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0339B4-690B-45D0-8596-97392526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C32C54-889C-4486-873E-3A00A2FD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38F0AF-3D0F-4E8A-B366-DCDAF40A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29B4E6-54EF-435C-AC95-7DC82A27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754E01-559F-4312-926A-EEC42E85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C779B8-DA37-41BE-806E-0ABDD766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022276-91D6-4222-A329-8372E675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485706-21FC-4A48-9960-FF5E232E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0B6A8-7EAB-4BCC-83E4-0ECBE0C1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233B76-AC6B-4A3A-8532-9C71416D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1186545-90E5-473B-B938-A7593C85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7378D1-74D9-42C6-B6F4-5B53C2FC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A9C3C7-305F-4306-916B-3CFE3A1F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BB31A4-2AAF-40D3-94BE-F93187C5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5B2BFC2-F73F-49E8-A394-67FD4CDD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2B72D1-4E9C-461E-B452-D8A6A935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E249B7-8540-44F6-8B6E-3526EE4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A97804-2EF0-4374-ACD9-CE46816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6B111E-BD83-4E11-96D1-500AF09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B959C-8DDE-4819-8101-1E1466DA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F251AD-6AD0-4590-9149-FE5A9B2F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FE944B-5759-4D14-8E89-5866AAAE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126FDE-7DC8-4A49-B4F6-46479FAD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B8C040-167F-483D-B8A9-7AD41883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60E5D1-0365-42A4-BCE6-CF609204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4A1C40-6495-40A5-8555-78F77BC4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5DCD3E-5A9B-40A9-9BF4-66075B3D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4E1E4C9-36CB-4601-A137-BAE947DE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698DE8-6FE9-4BD9-BAF5-83F708C7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3E999A-8B64-4B70-8C90-87705A82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315-74A4-4A7E-84E6-388C19A2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B48F0-979F-4900-93B9-682A5CE9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175A1D-86FB-4CF2-A925-14BB864A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A9267C-9ED2-405D-9E95-655936CA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0D9BBD-A231-41C9-A1A0-977F0AB1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3CBA5C-027E-4EFE-9796-73053581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FC613F-BB7D-48E9-A2DC-7DCB96EB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1F8DEC-4894-4428-BEBD-C710BCD4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B41DBF-70B7-4B62-835F-324CB72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47C359-B775-4F5E-A8DB-D97C8FCA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19CE27-25B0-4381-A2DD-22EE3370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FAC88A3-384B-406A-9F18-C2FFEEE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7C6A8-2508-408B-AE28-37FF765F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C3B12F-1173-48A7-AA9C-C6E5FE68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DEF042A-4EFE-4722-9A28-399E349D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EF1EE1-BBD1-4974-AA10-D34B0CB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7F5F2F-3C70-48DA-B4E1-F87F477C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753929E-86E7-4FEC-95C1-567FFC78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DC00DE-5F56-4310-ADD1-B25458ED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1D0131-7E8A-4E18-8242-5976D4E8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527F84-AF85-4A3E-B78E-0F67359A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A811071-9BEB-4AF2-B65C-90C5CAF7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416162-A2CE-4CE2-ACCA-A2A2A0EE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FB85D-DD1A-4E74-9095-4F6C93A5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94DAD5-1982-469A-8C25-BE92A40C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C91200-4275-4207-A032-FF23B031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51AD24-47B5-4267-A4EB-71BFC48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2A263F-05C0-4010-81F9-FBC287A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C99B7E-FDA9-4FEA-82B2-6C264B0A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935FE3-EC96-4F92-A80F-BE4FA0CB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1E67BE-D597-4B06-A46B-5C42D7A5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0E3EC4-848B-4AD2-B3A4-C682ADB5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E27E92F-CD6B-4D29-A365-2E61DF73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56ECBC-99B1-4D11-8C9E-A5091226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C8E1A-276C-48AE-A838-81A6A5C2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C4ADEE-B4A8-4856-A2D7-45D7FBC2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9BB2936-5D6D-456D-87E1-8F9C1641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4CEF6D-380A-4460-B7B6-C91C692E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B568840-EBB5-4C64-9BF2-358A5BAB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8E8F986-3A29-4298-8025-97C38695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8F4C67-F5B5-4592-BFC9-65F45DA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F42ADF-D61F-4F56-AB66-84FE36A7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8984CEB-F847-4102-9CC6-AAF1A60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D45132E-0EC0-40DD-A6F7-3B92D842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B9B9CF9-9296-40A5-AAD0-966B3431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3F61A-C652-445D-B1E9-E2B648F1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907B70-26E3-4BDE-985E-9E685F21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E0F003-347C-47E1-ACED-10FEF93C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1B97A6-8D48-48F0-9097-D408704E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A441803-B8CB-4A67-A963-E745AE4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6B59CC-A1F3-454C-8E7E-614D3883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57C02BC-944A-4E64-9C01-D78FFD9B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7F6FE54-F54E-4495-9CE0-DE13E2B2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71B8F6-EFF6-469F-899C-6A6DECA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C4C764-96FC-4E37-A732-6203EC32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A630C8-15F3-4AAD-996E-9C4D2D2E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9052D-522E-4EC0-B3CD-307461DC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279DBDD-A48E-48F9-871F-F512B4F5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3889D9-3DE5-4517-80C2-0C38E2EA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D937AB-E6A1-4867-A351-6A22A4EF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02AA4D7-087D-41FB-A13B-F1F3EFD6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02D39AC-16EC-4BF7-ACF0-6D9A6FEC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6ACB72B-F162-4F7E-8671-4A077C2F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7FC364B-48ED-43E2-A58C-BEC317B0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0FD5348-147A-4932-BD9B-5B344CA3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FDCDF4A-E775-46D1-AF40-050D2437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F167B7-24E6-455D-8D26-CECC1897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EB33-7F77-4DC8-81D3-0A8A6AB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6C5C8EB-5EB2-4E87-A353-94D4CFF2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7A413F-E2E4-4799-818B-0078976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F66912-4554-43D0-8D5C-597ABE72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43AB88-221C-4E0B-AF89-E8586E53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725A542-98A0-4F91-A68D-F3BFA62E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720F11-B0C7-4D0B-995A-1445ADA5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34925A-7A4A-4D69-9734-D7A0313B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E64373-7D62-4B4D-B553-62373AE3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2C17DE-78D7-45FD-A371-51B5FDBC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89E91C-FA2F-4682-B5CB-3AFD5A0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CA50F-C5AF-4E80-950B-7333F8F5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CCB2CC-30E0-45FA-91B9-58A4FEFE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CBBD5F4-3C34-443F-8B7E-9F12153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85CBC17-B34C-4034-862A-4940CEC9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63AE37-A680-4600-B805-383A0A02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6A02D5-054B-4919-A3AF-CB083E9F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12C16F-AE88-4E03-BAF1-53047A28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1E5A9CA-2A85-4046-B97A-5F3E1BB2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A90578-8F95-42D7-BCFD-B9237B9F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1E2A2E-F926-4F25-B1F1-EB92A3A4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8E56ED-29F1-4FFF-B0F2-6B6643E1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DF40-FCAD-4E39-83E3-8227DF67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1780B9B-3172-49EC-AE96-ED2380DC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D7A1AE-CDDF-451B-9388-1BC3D97D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71E402-48FC-40FA-9BA1-DD24F458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A790194-5E19-41EC-B9BE-D212F92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A37AF3-9695-4D80-995D-791B8A2C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FB26D03-F0FE-4A62-98C7-A4EE1321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96ECA7-90F2-460E-B7B7-1FB000C2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78A259A-AFDB-42E7-BC96-131BAE57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3E8424A-7746-41D2-8DD7-535656E0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10F38B-91C1-4215-BEA3-CD2B4076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4437-EBAE-40F0-BC51-AD3EE94A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FC07CA-63C6-41C7-AE44-FC188A2B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7CBA84-43CD-4BF6-B19E-E40DFFBE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E205A4B-1A5F-4B4A-9B11-112DC252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27ED1F-E74A-4598-8882-3C123BB2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BECB3D5-3D39-4659-A98C-BFB0354E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F71F6E-4CCF-44EF-8067-280B8BD6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E69B91E-925D-4AAE-BE58-ABFF97EA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3AAB996-03E8-45A0-BDA1-3836D61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A888B12-2EA5-4EAC-B574-E2E910CC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51B6E2D-A270-4A61-84E7-766A6794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FF4-B6C7-441F-B8A2-886D99D7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C5FA-B9AC-47DF-B383-4FAF385B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CE48E4A-C688-49B8-BE47-BA6BB995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700024C-BE07-468B-909D-9E3644FC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47F9D98-4B05-44D4-95B9-DE891BD6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0F220ED-1187-46E7-B175-9ED9B7FE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A25F477-8E8D-4737-91D2-10DCF184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060B9B3-CC15-4AC2-BF91-B52AC40E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EB69088-8AD9-4394-A1D9-BA5F9A10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AD4287-2A05-4651-BE2B-BAAB45B3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8D86FB-4B33-4559-8CD7-60F32885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744AC8-6982-406F-9B70-DB0CD44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563A-3F0D-41FA-9182-776226F1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D68CAE2-C457-41B7-B4B8-211960C1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2979E29-5B94-4787-A5AD-BFFBA63D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D6A0216-BAAD-455B-98E6-578CCC74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031964A-F7EC-470B-AA2C-8222E849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D7CE3D8-E939-4B09-BE60-700372F5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4359151-C0E8-4C83-A3BF-E204E621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54B482F-3EE3-4693-BC4C-8748FAFB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56C5F1F-6B63-4707-8260-44EDB5C1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E290050-6808-4018-A727-B8F1FA04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D748B4-2B7C-4C24-BB8C-623F62C9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F7A48-E8AE-4DC9-83D2-03A54280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F9FA415-C722-4BB3-8D31-028EEC4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55AE0AC-030F-4181-9DA6-248D2599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2C53CC7-EF94-480D-AA0F-5E4D5BE5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E5F534B-554F-4AA6-8A96-4B300D52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4F0ABAF-A085-4D3E-B40E-2FBA7E4E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C4C0432-8A12-4519-8C48-01012E1D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971B7CA-7263-4C0B-A24A-4265CC9A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B66CEB7-DC95-48B2-B988-D7BDD88A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B6ED089-1704-4C76-9BE3-2892D45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856B69-ADCB-428E-AE6E-133D1E4A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1CA17-957A-473A-BD32-2DD540DB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6A625D3-58F4-431C-A0CE-BE2DB9A7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C458887-7D1C-4799-BB57-4852DF7F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52773D0-5F4A-4398-8432-0C93AFBC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BFE46BD-93C8-4768-B5F3-307EF65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BE2E3D0-7015-4107-A3B5-9FE62594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9C2784-01A9-4010-B695-B9993A8C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DBF7861-A1C1-48B2-BBE6-4A10C2D4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E536F9-AFA4-41B6-8831-3A87F023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5DB52E3-5860-4AE1-A646-45FD7576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B02DFA5-798C-4AA5-BCEE-BFD3CD79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5B10F-6199-4252-A67A-985FF973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F4C0F37-94A2-4B75-A841-8DA093C9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1B3281-BC61-4D6C-B334-E226A9FD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8DD437-21FD-4100-AB9B-28FAC9A0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A293E2-241F-4B57-87BE-E77D88FA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19DBB8-B8A2-40AA-A30D-5DE5546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37FCAE3-4F6B-43A7-B6F4-DCBBBD0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47CC31-AEDF-49DF-937E-C47BC6DB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E993519-2688-4A48-A917-ADAE953F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78921C1-DB0C-42E3-8D53-15CF5DCA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A69EA11-C01A-435F-B0F8-15480221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123B8-5B82-4267-8F3F-DC350A91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B825E5-DB22-4BE9-B890-86F059C1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5860E0D-0096-4603-92DD-F7CD9B9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67221B6-D364-473E-A02C-CE6600D3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DFC8B2-8745-467D-8A65-18947829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7BE510F-EEA3-46F1-8061-E87382D2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2C9A561-19CE-40A6-9F25-CCB2FE58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64FE00F-CA1F-4D86-8412-81875877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73FF7D1-BE40-4F9F-B352-BC572190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5C3E2CF-05B3-4331-B6EF-E2F728D8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7551342-B7D3-4D4F-9A79-B4ED5CCB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2684B-22E7-40B3-AB92-9FF03784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8FB3EF2-8175-4976-AF1E-4C0F23DD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BA14896-B84B-4592-A629-8D127D4C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8FA4539-A510-4B1C-98A0-613D3C50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38DA5FC-ECFC-4221-BE41-47333CC9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AAC76C7-21CC-48FB-9FAD-D677B430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A8F95CE-5902-4342-A791-CD7F8871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B5F446C-E023-4F10-AA6A-B9B73388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3C50D5E-9B06-421F-965F-AF961D31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601C844-4C0B-433E-81FA-4C97DD1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0BC120-905F-4B00-BBE7-C5A4CDB2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B52F-4C81-4586-B125-8B4A2209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6964719-3372-4F2A-9E01-8ECDB9E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AF8B91-1259-4F20-862B-800116AB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4841E6F-9F5C-4CD5-BCFF-93F027B4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3C2E75A-E429-4587-A1F7-5B4F37B0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F53540D-6A28-4BF7-B27C-D020F79B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DE9FCEA-BCCC-4C06-A958-F842EBB6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F906B0C-8A8A-440E-BECA-42D236AF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BD9F00C-37D1-419F-A208-A41B3EF4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30B1551-D4CA-4B77-AB40-1D4EB069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EDA8502-BE68-4A1C-9AA0-537D3FF9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62CCE-89EE-4549-973E-F1307399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691E330-9DE3-4997-A765-90B223BC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FBA4F11-2463-4D36-BBDC-17033AB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155F019-C66A-4E3C-B6DE-169418D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962E837-4A1C-4F44-847D-3DB1B7C8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AF82835-BEFB-49E8-9D6D-356E359E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6C5F54B-62A8-4BFF-947F-B6967723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C64F72E-631F-4084-BDF4-DF384367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96C74CB-C2FA-415B-B368-EB57E898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6424412-DD92-4BF7-9F37-A0013A28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6C509D-20A1-4C71-A0C8-70233086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2547E-C42E-423A-AA52-586B01A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0F5BCB2-37D4-462B-8C2B-F21E9F8D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3DDA9BA-D8D6-430E-B9C2-823F2124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8FAD8C-A20F-413F-A58F-E27FE38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65808E2-A710-4C92-8483-C8F1235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AC3E8E-29EA-44EB-AEDD-5E057F0C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5FBF25A-C4FF-4B89-AFB2-4C6AE200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16CA266-01C4-4E3F-A663-564068B2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92ECB6D-082F-4C6A-B53B-5E25A74F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97DE804-E5F3-4D25-A148-103B7411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98A496D-952F-4315-8FC7-E63BF597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F45-B553-4A11-B04D-A54CA4D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04B61-CA44-446D-8CAC-24C71139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DF92FC7-988C-4056-9C8D-99DA8867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CF9FB9-CDD4-4C13-B4DF-81310F47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947034A-5CAF-4915-84BE-A384678E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5390006-BA10-4839-948C-8466D4AD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0185F4D-2FC8-45D1-99AD-DCF75994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B6025B6-54DB-453B-8DBB-1B78F463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94CAA8E-7089-4BED-891E-27718206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4E29D29-AA85-47BE-8D26-972CF340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4A5B8E5-A5A6-4C81-A11E-65564A5E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D03145F-78AD-46B5-AF55-7458C2CF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2A547-0320-4049-A6E6-3B807C88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7D22134-AE91-49B3-88D3-E9EFAD2B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260A18B-05BB-4916-B15B-86A742D2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090AEEF-E8B1-4694-ADAE-AB65CB66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23F3B54-405B-48F5-B75A-D0BDA2AE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6753025-1BB6-4159-9EF9-6E610E89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5D894F4-8E26-4217-B7F6-86EDF8AA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DF18592-7B6E-47D4-B31B-8B524068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E44A8AE-0E65-4C14-BA54-51E74863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58F18BF-0C80-415D-B7CD-C4775A43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ADF8195-4632-4EBD-845C-861E3211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79057-D1E2-42B3-B8A5-62341438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7DCD6F5-9D47-4950-9391-7F6BA894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E8E2BE0-E405-46BA-B73E-68791B19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E38DD68-DE74-4890-8AD6-12DC4E7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5091939-C7FE-4086-A2FF-5B6BF084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3567D38-7B4D-4180-A27B-FD4F226A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F33C506-1938-41E3-91AA-E1324852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915D511-B8F6-4D7B-B16B-C2D10AD0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2B2615A-87DC-47B5-948C-F3CF9F2E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38D7480-9022-4C56-BEEC-4BA669B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FB3A8FF-1646-448C-8744-CBD1CDD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23F15-11F9-452C-BD23-4E376667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B722CA0-3E53-47AD-A02F-C3201A11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A162535-1577-425B-9C3A-C47C4CE3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99FCAFA-8690-471D-AC66-15121E43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5D9587C-3550-4184-A2D2-51ED3878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9D28990-B2C9-47E2-8CCD-2A565FD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50F7E22-72CD-4B89-ADA8-C93072BF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8386A55-AFAC-4433-89DF-D5F11125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1F82A33-446A-44B4-808F-479321AA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F3F5C4E-0631-448D-B0DB-13AAE633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B53E2DB-1E97-4649-A30A-086A17A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10D37-EDBC-4975-B19B-81399E11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929D7A1-5354-4D0E-BEE9-B4C07D8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9980395-B1E2-44DF-A6FA-088C1A2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489BC5E-2702-4F17-917E-5F8EE302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EE7D07B-8940-43B8-95E1-22569892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019D628-1DF7-42E6-BBBB-AF19DAB7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80BDCA0-3E90-4DD7-9AE5-93F729D1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6BBAA78-5944-4E17-8778-B6A22C04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9AE9C76-D107-4617-B4A1-53831720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2D93DA0-E6D7-4228-B609-0B2FF419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7B4E822-8F2D-461F-B2AA-90C40225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AE508-9768-46AC-8FCF-600E1128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A039BDE-0AE4-492E-A753-74884EC3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3F92BF0-5C2C-4F98-8515-387A687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09F7422-D074-4C8C-BBD9-9850C057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535E503-9364-4B73-A678-55E1EC9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8005915-0BB2-4090-A6F6-9D2A06FA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142A156-B41E-46B7-9BCE-D6E2B0DC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B6B897D-5E4A-4CE7-A126-3DF60ED2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9086DA6-5624-456C-B4FF-3349EDEE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0F07CF9-049D-46D3-8B56-0D24AECB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F11EABC-7C7D-4530-BAAF-C7A0CA6A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AA379-A4AD-4E32-9AEE-032B054C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D8ADE73-B3F0-49DE-849A-84355611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B94EA8C-2AAC-45AF-960F-370B110D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FC5BBD5-BECE-4CC9-AAA1-21104F83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B11BB87-980D-499F-8FC4-994D78F7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E0DB762-5EAC-4378-8682-E7C82E4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D728290-449D-4550-B0F1-643D8E9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A58CD2C-2C4D-4FFF-B1D6-E6D0D22F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2C8E490-4852-4A95-AC99-0E16A7E7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5C9A136-2A15-43BB-83AA-26229D9C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8B5057A-EBDF-48F0-8CCA-2C0003CA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9FE4B-7209-49F7-A97F-70AF8E46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8F6ADB4-5A5E-45D9-991F-027E475C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346CA0F-183A-4034-8D59-16E67033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20F40A7-7064-4045-94AC-218E37FD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81D2A13-7552-44B1-A238-BDE5FD83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07DF778-0E23-41A1-8856-BC6AE3F0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F2A4994-20D6-4636-840D-B7063F13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E749D4B-1431-4CB7-B58F-BF2F3E80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A8939E6-2AAC-494A-B6BD-A0A9041C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1EBD280-597F-4CEB-8FB9-0A28D7B1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DA28CBB-7D3D-40FE-ACFA-24068409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27321-0DE0-428D-B77A-79B0147A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1B8BE3F-FCDB-4300-919E-580253A3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97FAD01-F308-4672-A21D-17B41C39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514D454-593C-482D-A01F-0B2E67D8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81B5071-AF3F-439C-8BAE-0633AAE1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FF9406E-335B-4C99-9386-F7B0681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49BFC0E-BF37-4601-89C8-CEE1BBF2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FE2EADA-3446-4EFE-AACA-1E2E9B5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E974F22-B385-4D14-B815-3D84C309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1B517A3-25C9-4E0C-B9BC-5BFC160F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4E66212-9701-43AB-BDCD-BD5DA8E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75E26-4C15-405F-847C-FCEB2F2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7925142-9EC7-43F5-8DA5-FFB90331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43CEF4D-0BCB-4F4C-8A5B-6FB9155A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8024BD0-8725-4438-9BA3-D157D64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3FCE88E-6CF2-4FF3-A6A1-05A4665F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DF76B95-C591-4880-B854-7FB36A1E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3E3F6CE-2AF5-43F9-A1A2-BD870DA2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3A73F65-E199-4753-8977-EA9F1120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8DFB28A-C467-4537-8EAB-C03637BB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E078BC7-F50F-4892-9094-F792A4FA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DA3F80A-D46C-4702-97D8-E3F9E86F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09E-3A78-4982-B03A-703E992F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01B4-1599-4C2A-AAEF-BE26B7DF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0FCEAA0-BCA6-4BA0-AC9F-44E7C6C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9447EEB-CECC-4AD2-A923-8727E19C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33539C2-C92A-4777-BC00-BA668570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CA2EEB4-DDD1-4971-9495-45E179DC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EFB93D1-A58D-41A8-B3C6-D13D1460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EC161DE-AE20-4E8F-A917-6EB160D7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A190D67-7C71-4579-8F3F-8FE3696F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28F628C-8458-415D-A1F0-8E9BEEDC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C1FB347-021C-4220-9C03-142846C4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B06782E-A039-481C-B01D-A76589DD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860B-D14E-4C5A-9DD9-68AE221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4C23B35-4677-4DA1-A341-6FC280BC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A0A8791-16E2-49F9-89AC-A2C5370B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F3735A8-49B8-45A5-947A-AC01EBE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E36EA1B-EB30-4A3D-8046-7C5D5DFA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FD70072-1666-42ED-80A0-A04CD7DF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E1F300B-C313-41BA-9D7D-CF932267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82ABE6F-379B-4A18-B744-2A644415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BE77259-6022-4818-B3DB-04970E34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A2B0813-837C-459A-99E1-85E87625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5355A02-3579-4FF6-A5E0-08DC3AF6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E2A9-9A84-4620-8F08-1E41BE6D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0987E81-2E8D-4565-95EF-09454D73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C50A302-8727-42AD-8E5A-D5F4DA41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E0F601C-44FB-4922-90C6-D5400B8B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7C90807-68D6-4995-B6DE-80DB00E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353D1B1-6755-4969-ADA8-FE958C86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FFAF8F4-1BC9-4497-808F-CA80D61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44246D7-28BF-4905-9C2F-AB8EFEEC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CBEAFC2-37D2-4F6A-A314-26550E5C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956C420-D909-4768-8C67-EF2EEB14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4109BD9-98B4-4763-B8EC-BF2CD53F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9A71E-2D6A-4DDF-B1D4-8D8F7A39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24514A1-0E03-4E8A-819F-C396862A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6D16BF3-B568-4364-9EA4-81004CB8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C579C62-019D-4B3F-B9ED-D967094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AE27480-DCEB-419A-BD31-C003B85A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543AD67-C577-4936-8C24-F6800FB8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785E1A5-2273-4B13-A5AC-F4855D1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515DCF3-5027-483B-873D-26108AE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1DBB9C5-57A2-4068-8876-8D630D84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26FF2F7-E9A9-42A4-BDA9-77F3939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F799857-DAD6-4379-BD6C-A973AC82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7E92F-0871-4514-B080-17090DC4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14BACD2-19F5-4BE7-8083-45E3FDDA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EC9764C-9173-469B-9DDD-7B77606F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1D5C37E-39BD-4FB1-9B7B-35A58D6F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5721ED7-6B10-43C2-AA2E-6538CC6B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46CF674-1DB8-4437-ACDC-BB88667B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D59ED3A-5877-4D82-8176-921B20EA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56C811A-8BD3-4105-995A-E2B98A18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8E20611-5810-445D-A180-12CB2E8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5C5769E-E66E-4BE5-9CE0-5BA25996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625EEC4-F3D7-41BF-AF9A-201643FA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AD858-80CD-4808-88D5-DC3E50B0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5E01E9A-13F9-4BD4-96B0-BC3B2184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59BE44A-FA5F-4A44-9A4D-4E180B45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079A614-1D96-422B-B53B-38B67753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72BE477-9139-4313-92B2-A5313AD9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1FF3403-FC52-4DDC-AB8D-A7F400E9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8E6C7F0-82C2-4D9D-B601-38F8CC25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205B733-C987-49F9-8048-9D8463FA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0E5F408-CE96-45F7-A040-90257857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9313E97-A4E6-4560-8C15-2018137E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B114DE5-1F21-47D6-9775-E36A87F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45D91-99B0-4098-9047-720579C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1B2169A-BFC2-42F0-9015-F90EC24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1EAFDEC-063E-4098-A983-1C36BC4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4AEF8AA-3C47-447D-A850-0097B5EB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9AF31A6-3259-49EB-B180-05F7EF62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8AD040A-AC04-439D-998F-6A22FD81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2038B34-79FF-4A98-9716-CDF09F53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1CA60C7-27B5-404E-B08A-D41B6A19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B376791-6FBA-493B-A26A-14F3DEDE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0586A90-446B-4A10-86AA-9F3E502D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1A9A0CD-03BA-4D31-AB7A-9210A83F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37CD1-D3ED-4046-8A8D-431C2A51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19287BB-0F40-47DD-B22C-50A5223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3E48514-9B71-4CCD-93BC-067C771F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24ABE97-1892-4F2B-B964-B119A720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2FC24B8-F3DB-47CF-B8AE-A42E3711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444FB9B-289E-4195-B375-B4E07A71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909D6FD-6E16-4A1B-B746-2A587B55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8C0DA1B-2EC3-459E-A7C3-AA51666B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E0E440F-48F5-4952-AB3A-E7B81A23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9FE5C0A-25A7-4572-83FF-983D746C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D5B92F8-776E-40FA-B3CF-A6F2C344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E68CA-D2A5-438A-9E8B-100E605F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1D236B4-F91D-41A1-BBC5-6278EC0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0ABAE44-E628-45A0-9AB1-AE159884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B36BF12-4FC0-4E74-A35C-21F3D1C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936F514-6CE3-4E19-BAB9-1483DE0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7435358-2360-4081-AA16-6F03E37C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3ED6AE2-C205-4C4E-8077-5FF985C5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A497756-5AE6-4B7A-BEEC-517E2312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BFFE546-F278-4EFF-A8C8-DAC89439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27C8F46-52C7-4949-924A-1CE510BB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55D9479-8FF3-449F-8D91-FE3353D6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67241-1C03-481F-B1C8-DAED8F20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11A3E3B-B3FA-4457-9C56-F950FB67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BF21232-5EF9-46A3-854F-F4F3CEDD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636147F-7B71-4429-BF80-E436DA62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A8A9DEF-984A-456E-9515-99E42B8A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BF0314E-7C70-4973-93E4-8832F119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E6BDAB3-9A08-4CE0-81EB-5E161D18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D76B6C3-ECF0-480A-98A0-21A94493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CD696F5-5F70-4C5A-B6D6-B8D2532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5D32F2C-65FC-4357-9F90-0D0FF50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7D9F583-446F-430E-9908-8AC2AFEA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647-6691-4666-AD97-8A780086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A89FD-4236-4C02-9C87-C5FE7A0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98D3176-DB3F-4BB3-A837-E1AF8BD3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7DB2634-B907-4493-AB41-69F9D909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E474138-6306-431E-81BC-DC16EFA0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D883C02-162D-490D-9B1D-E9AD98B8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649BD99-384F-438E-97EF-0893100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804727B-EECE-43BE-BCA0-2975D49D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7E13F2D-B219-4F1B-B8AF-408DE9B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ED58737-E8C4-47FC-A24A-AEDC8918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0551C5B-A3F5-43B0-A0BB-9ABD9BD7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28F28BC-0FCE-4793-8FA1-A7A2581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8D8BB-8A2D-4016-AFD5-881C8AD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C6DA9B6-8F99-4CFF-BFB7-4716E3DE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441FBCF-931F-45F1-BAD5-58DC0BEE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52348CE-41F7-4CC2-A3E0-CABF433A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029486A-6E84-43E2-B3E9-96464220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10FD797-A9C1-473A-A448-22569676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2833401-819C-4CC7-A601-00D5DF7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DB17D56-A54B-436C-89B0-D01B6A9F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2C35B8F-DE7C-4BF2-B0B8-D3B0403F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F58D3CA-55E3-4485-B3D9-9F35BA04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2A02C62-6543-4C44-99EF-118BD77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07B12-CD6A-45B1-AD15-0AF134B7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1D4EE7A-67F2-43C6-A0A5-80DBE44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B3AC8F1-F22E-4C91-9AD6-5FA76BC9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210688D-F09B-4548-8F2E-EB87935E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284196C-B1FC-4A40-BE2C-4EFC4002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4F33C6B-AE61-4701-A427-D0408DC6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490287D-E205-4F7F-9369-8B092B82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E330469-6FEE-4EBF-B6C5-208C2C01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B4F86C7-B2AE-4B7A-9446-5F025217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B24FF73-EACD-4F37-8C54-ED6F67C6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9F3AD4C-A9A7-4776-98F7-D717A006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FD165-2F3B-41EE-88CE-D0F176C4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6203B64-3D85-4AE6-AF36-7A60A4FC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D22AED2-0A6F-4845-ACE3-701D8B4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BC09A74-C666-47E2-B61B-167688EB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8831DF0-6F2B-4C44-A18F-E0115062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6209BCD-3568-4292-A1BA-2FA4E892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6A1D2D3-0BAD-440C-BE1C-AB3FA979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C96BE42-0A82-41AF-AAC1-29387582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02CFC50-E916-489D-8123-7A15760C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B4376FA-193B-4139-A2CF-3A3E2942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06B1B29-B241-4A57-B750-A9ED7C55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3E675-D09E-431A-8606-70EF4051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F58DE00-A21C-408E-9CB3-950FD2F1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0BF8032-1303-4E61-835A-792CD7BE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D0DA581-158E-418F-AB0B-EA3E3F94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C28AD7C-641C-4188-BA24-63C67FBF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7B5F54A-F7D9-4A2F-B7AC-9991B41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C5EB255-4A82-4349-AC5A-BC43985D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EEF1FA5-5642-4E6D-9FE6-A444ADEB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F29C6CF-BA09-4931-B030-08A82671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CAEE447-3B30-4802-84A5-BFA58752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6FA8520-5925-4008-93B1-1F4A5F26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915DE-4794-4BA1-99CF-35D38800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3C433E1-79F2-40F0-B52E-61040A2F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AB2414B-F055-4DBD-8F30-23FB72A3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C4ECA2A-62D9-4390-BF89-9F9BEBA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C625C34-58D2-43DD-A6F8-2577B6C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37D0004-1919-4C7E-901D-7D81D611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BFB3DF3-9E7C-4BE4-8953-8560993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2C6AB6D-F5C2-4FB3-8BD0-FFED542A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915FEC2-7BD1-45C3-8615-007F1051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03B14E3-8B38-472F-B1AA-34FCF687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C80C67A-AC8A-4AD6-99A4-80E38159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5FB53-0FBF-47ED-8A03-5B72E465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D6B0052-B716-4E3C-89F8-40DE7F85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0F504D2-EE4A-40B1-AFBA-607FF1D2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E7B8C2E-8F3C-496C-8FE3-7D1D7D56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0DC5D74-52B8-4C42-A16F-78B5AB14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B1B440E-1A19-45F5-A90A-415DAE3A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E8E2946-18F1-4CBE-901C-A8C199EE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3ABA487-FFE4-44D8-BC1C-C7DD63BB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85308D2-D663-4A4B-A97C-4A0B2EF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FD5A974-ECB9-4286-8C03-BCBAEF6C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47963C0-FC8B-40D8-820A-5FF2AB08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491CD-56EB-4B8D-9A19-FFDC51B9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C937592-5809-476D-8684-B2BD9D16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A108942-39F5-4D57-8C10-2BA27B5B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107F78E-B5AD-4AD3-BAD8-CDDE87E7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29031DB-03A9-4185-A26F-E2CEFE6E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E187B22-21F1-4C3D-9AA0-F893DA4D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E7ED662-F060-4A67-A8B5-668B66AC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3D8DF1F-AECB-492A-A13F-68DBE119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991E5F8-19BF-4841-B32B-2304FDAA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9CD8E0D-9833-40C6-9603-88F8A7F9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9EF0541-0153-4A4F-BA76-702DF702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446F2-CF93-4620-AD8C-BEF17A32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A06CDD8-D048-4EF3-AC3E-DE6809B5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7228B65-6414-423C-8449-FABFA1F4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0ABD173-9717-4463-9489-31946AA3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1D8C6C2-5445-44CD-89A4-47A529A8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08AEBFA-7DCB-4A9F-AD3A-4BA40DDF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F916EE0-6370-46E3-903D-E968B96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C8B7259-4F0E-4DA6-925F-86DAFD95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4FA8741-A695-472A-82DE-3A722D56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7133C69-651F-4B52-9A35-80E67816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364E482-D050-4374-B21F-829127DE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F70BF-6B09-4F7E-AD5E-DCB92F0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86DE6C9-80AD-4AEC-82C5-E41DFF9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0C65486-DBC6-499B-A37D-57918F3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D4BFF16-D400-4902-8275-1565A5FB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46E9C1F-66FB-4B67-9037-0EC6CC1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9936AA2-E5C3-4823-AC33-A8C1A2A3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53542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CAF5BDC-B2F2-490B-976B-0CB2AF75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9996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66272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9AE1328-5FC9-4111-9774-B096D04E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71CE2D0-D62D-486A-97AF-384D126F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91F8EC7-3B1A-40B4-B283-34CD32EF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C1B3FC1-8A8A-4409-88B8-6E62150E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8FFA-B1A7-4CAA-8CEE-4A13B5650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0131-4CD4-4131-9969-E8F42EDF8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3FE9-E3C7-4FFE-BD4A-CC257AAFC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48B0-07B0-4F90-A3E0-576AE9E29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5754-38EC-4E99-8B0E-8078F0872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8E66-51AE-40CF-BC11-736B4414D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957-98A3-4F6C-9672-F76CCE55F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F775-5FB5-4DD6-BDAD-3DCD86BAC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9572-CA84-477C-AF56-F2D1C3C32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006A-3BB0-4A1F-AB03-02F188DDE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DA0B-861E-4D7F-ABE7-457025BFD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6F43-B0A6-486B-88E5-028090F5D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1B89-1998-4F6D-873E-FC995BD67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410D-D536-48A8-BF36-C31F89AA4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94E3-B992-4E58-B5D6-3D06B402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E259-DED7-40D2-9E26-AE34FE5D4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5668-F009-4803-A5B4-ECDA1FD0D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A550-9291-4EC3-9DC5-EF449FF1A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CF0A-C2DF-402F-A05C-B82A47F1E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1EEB-7356-4BCD-839E-A1FB9D15B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D081-590E-4C66-9476-EC7CE1724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803-CB27-4358-AD94-3146D96CD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6E61-971C-42A1-9E64-E60AFD694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B767-262F-43BC-AF08-07CECA43D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10C8-DC7A-473D-810D-0B5AE613E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3A2-D5A5-4802-8657-EA0AE8A30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B3F0-C190-4AE4-9924-1DB58E705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8558-C52E-4FE0-B495-A91D2C768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22DE-8EBD-476D-A07D-0410DA95A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9112-E678-4439-86A6-6CFBCCD0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CD9C-13D6-4BBC-B039-157ADF7CB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5CF-EB6F-4368-8515-19A9A2C5B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AA98-C201-41F3-891F-94FE715A8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64EA-72D1-48A3-A314-A5A97E324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5DF2-6688-4071-8F4B-9BC0DB09C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776C-0CED-4FAE-85EB-E1C66815D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AE73-FFD3-4D36-BB17-39F70CC6A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3D93-BC27-4E04-9A4F-30BBEA4A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63E1-FB6F-4B13-949D-558C4FA2B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A37E-2F0D-455E-B42F-0D9BF2F03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A9F0-5A4F-41A1-BC50-B63BFC59C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EF22-D940-4D65-BCBF-CCE084813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A805-E269-4C4F-8B75-2AD7F0E78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5BED-FC39-417D-A8E8-CED3356AD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8199-8990-40E5-BCA8-0C3AB62F4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7D3A-2580-4F96-9AE4-F26578596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6D0B-A7EA-406A-BA6C-0065EB2AF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6EFE-85FF-4474-BE20-114B0D49A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7365-0275-401A-A3E3-5B8C6C4EC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8ABE-F4B3-4D76-8F3C-F5E8B558E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7C7-0C20-48D1-B30D-B88E85F31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7476-F6A3-4B7E-BB3E-718F0A49F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256D-282E-4187-81B9-00DAF8335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7737-52FE-4133-B027-69EBFC8A5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E94D-987D-4F09-97EE-E24D08435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FFC9-CD7A-45B2-B485-46C137DA6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E840-B839-4A8E-9487-4FB619213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A1BD-859D-4F2A-A75B-E56F2ADF2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C311-68E8-4DF8-AFB5-5D530FA67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4E8B-76F0-4FC7-9B5E-BC5833748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1FBC-1B2D-49E7-A907-88F8DAA27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1CAF-4F6D-42C5-98E1-FFEEE05BB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2FF4-62D6-4242-BC1B-D47E236AC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D08-B877-4EA2-8B93-16085D9D9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7BE9-D25A-4191-8A7C-C2BE9FD63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0193-1754-41ED-82A3-B1312E0BB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CC9B-832E-40AE-9469-24E58C694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5916-47D0-43D3-9373-CAF439974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36A1-E381-4C58-85B0-E4DDB1B02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027C-3123-48D9-819F-B98067685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8638-803E-4226-98CE-817B083B3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F513-DAE5-4953-A3B4-47966C219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AD45-64A9-4669-A36A-A6CA37C44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B610-09AA-42A9-BD63-77A93276E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63EA-E3CD-4ED5-9CE7-2902E413B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5BA1-9716-43C3-AEB5-83108C2C7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63BD-B85D-4457-9FE3-1ACAC732A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73E0-EB2A-452D-B70C-ACF5DF88D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C19F-80BE-4008-9434-297F5E219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F7D3-B176-424F-A265-C1F740F1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728E-787E-4124-B125-C58C7479D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2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250"/>
              </a:solidFill>
              <a:latin typeface="Arial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D5DB-6C01-40C3-83B4-E2FCAD737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892F-D6B4-41C6-A4DF-FC2D2B23D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C19-6722-41E9-A86D-8028C140D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A8B-62B9-4833-80E4-7A5A92CCC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1BE7-53A3-4491-8D6F-F5E867D31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9856-2051-41F9-A5F4-C614AD774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0F90-F874-42A0-84BA-1335481D7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7354-6A52-42EA-8AEC-506EBD7A0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A6C8-6FF0-44AF-A607-46D84814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8153-76E4-47AF-9FF6-3EE27488C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546D-1F74-4136-ABC2-746E47097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4CE1-1775-4ACA-AF66-6A02B719F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3C3F-A6CE-46BB-B703-E67EE5B77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98C0-DA30-40E1-9316-085910566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DE61-51C5-471C-AE85-DD488AEE2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3AEF-C1D6-4075-9C56-7C64718CF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5E3-C0C6-4BE1-B26E-39335963A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6DB8-CC5F-421A-9824-462764224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B31F-607C-4B6D-967E-24E9B2DC8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CB78-66E8-405C-862F-073704690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E090-C308-43BD-BE9F-036393479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64E6-3592-4A03-9B70-62050DA8B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1DE-A411-42AE-8D7F-702D6BB13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06CB-600D-4D15-B4B1-5B2A8FBA7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E8E3-B3F9-4D94-AF71-DF7F720DE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0FDE-CD54-4EA7-B431-77E8666B5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11430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47A5-49B9-4D5A-A2FB-1723C0430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928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Baskerville Old Face"/>
              </a:rPr>
              <a:t>La Memoria RA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29" name="Picture 6" descr="C:\Documents and Settings\Administrador\Mis documentos\Mis imágenes\7W47.bmp"/>
          <p:cNvPicPr/>
          <p:nvPr/>
        </p:nvPicPr>
        <p:blipFill>
          <a:blip r:embed="rId1"/>
          <a:stretch/>
        </p:blipFill>
        <p:spPr>
          <a:xfrm>
            <a:off x="2643120" y="2857680"/>
            <a:ext cx="4305240" cy="2199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3" name=""/>
          <p:cNvSpPr txBox="1"/>
          <p:nvPr/>
        </p:nvSpPr>
        <p:spPr>
          <a:xfrm>
            <a:off x="857160" y="928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SDRAM funciona de manera totalmente diferente a FPM, EDO O DRAM, ya que transmiten los datos mediante señales de control, en la memoria SDRAM el acceso a los datos esta sincronizado con una señal de reloj exter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4" name="Picture 3" descr="C:\Documents and Settings\Administrador\Mis documentos\Mis imágenes\UAETU3.bmp"/>
          <p:cNvPicPr/>
          <p:nvPr/>
        </p:nvPicPr>
        <p:blipFill>
          <a:blip r:embed="rId1"/>
          <a:stretch/>
        </p:blipFill>
        <p:spPr>
          <a:xfrm>
            <a:off x="2500200" y="4500720"/>
            <a:ext cx="4646880" cy="1247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Baskerville Old Face"/>
              </a:rPr>
              <a:t>RDRAM (Rambus DRAM</a:t>
            </a: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6" name=""/>
          <p:cNvSpPr txBox="1"/>
          <p:nvPr/>
        </p:nvSpPr>
        <p:spPr>
          <a:xfrm>
            <a:off x="1143000" y="16430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Memoria de alta gama basada en un protocolo propietario creado por la empresa Ramb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La RDRAM funciona elevando la frecuencia de los chips para evitar cuellos de botella (hasta PC800) con un bus de datos de 16 b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"/>
          <p:cNvSpPr txBox="1"/>
          <p:nvPr/>
        </p:nvSpPr>
        <p:spPr>
          <a:xfrm>
            <a:off x="928440" y="1785960"/>
            <a:ext cx="791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Es un tipo de memoria de 64 bits que puede producir ráfagas de 2ns y puede alcanzar tasas de transferencia de 533MHz, con picos de 1,6 GB/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"/>
          <p:cNvSpPr txBox="1"/>
          <p:nvPr/>
        </p:nvSpPr>
        <p:spPr>
          <a:xfrm>
            <a:off x="1071720" y="1285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Es el componente ideal para las tarjetas gráficas AGP, evitando los cuellos de botella en la transferencia entre la tarjeta gráfica y la memoria de sistema durante el acceso directo a memoria (DIME) para el almacenamiento de texturas gráficas. Hoy en día la podemos encontrar en las consolas NINTENDO 64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2960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Baskerville Old Face"/>
              </a:rPr>
              <a:t>Se clasifica 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0" name=""/>
          <p:cNvSpPr txBox="1"/>
          <p:nvPr/>
        </p:nvSpPr>
        <p:spPr>
          <a:xfrm>
            <a:off x="785520" y="128592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Baskerville Old Face"/>
              </a:rPr>
              <a:t>Rambus PC600</a:t>
            </a:r>
            <a:r>
              <a:rPr b="0" lang="es-ES_tradnl" sz="3000" spc="-1" strike="noStrike">
                <a:solidFill>
                  <a:srgbClr val="ffffff"/>
                </a:solidFill>
                <a:latin typeface="Baskerville Old Face"/>
              </a:rPr>
              <a:t>: se caracteriza por utilizar dos canales y ofrece unas tasas de transferencia de 1,06 GiB/s por canal =&gt; 2,12 GiB/s a una frecuencia de 266 MHz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Baskerville Old Face"/>
              </a:rPr>
              <a:t>Rambus PC700</a:t>
            </a:r>
            <a:r>
              <a:rPr b="0" lang="es-ES_tradnl" sz="3000" spc="-1" strike="noStrike">
                <a:solidFill>
                  <a:srgbClr val="ffffff"/>
                </a:solidFill>
                <a:latin typeface="Baskerville Old Face"/>
              </a:rPr>
              <a:t>: trabaja a una frecuencia de 356 MHz y ofrece unas tasas de transferencia de 1,42 GiB/s por canal =&gt; 2,84 GiB/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Baskerville Old Face"/>
              </a:rPr>
              <a:t>Rambus PC800</a:t>
            </a:r>
            <a:r>
              <a:rPr b="0" lang="es-ES_tradnl" sz="3000" spc="-1" strike="noStrike">
                <a:solidFill>
                  <a:srgbClr val="ffffff"/>
                </a:solidFill>
                <a:latin typeface="Baskerville Old Face"/>
              </a:rPr>
              <a:t>: trabaja a 400 MHz y ofrece unas tasas de transferencia de 1,6 GiB/s por canal =&gt; 3,2 GiB/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1" name="PlaceHolder 1"/>
          <p:cNvSpPr>
            <a:spLocks noGrp="1"/>
          </p:cNvSpPr>
          <p:nvPr>
            <p:ph type="title"/>
          </p:nvPr>
        </p:nvSpPr>
        <p:spPr>
          <a:xfrm>
            <a:off x="1213920" y="3567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ecff"/>
                </a:solidFill>
                <a:latin typeface="Baskerville Old Face"/>
              </a:rPr>
              <a:t>DDR SDRAM ó SDRAM II </a:t>
            </a:r>
            <a:br>
              <a:rPr sz="3400"/>
            </a:br>
            <a:r>
              <a:rPr b="0" lang="en-US" sz="3400" spc="-1" strike="noStrike">
                <a:solidFill>
                  <a:srgbClr val="ccecff"/>
                </a:solidFill>
                <a:latin typeface="Baskerville Old Face"/>
              </a:rPr>
              <a:t>(Double Data Rate SDRAM) 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2" name=""/>
          <p:cNvSpPr txBox="1"/>
          <p:nvPr/>
        </p:nvSpPr>
        <p:spPr>
          <a:xfrm>
            <a:off x="1356840" y="1714320"/>
            <a:ext cx="728676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Funciona a velocidades de 83, 100 y 125MHz, pudiendo doblar estas velocidades en la transferencia de datos a mem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Ahora, esta velocidad puede llegar a triplicarse o cuadriplicarse, con lo que se adaptaría a los nuevos procesador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"/>
          <p:cNvSpPr txBox="1"/>
          <p:nvPr/>
        </p:nvSpPr>
        <p:spPr>
          <a:xfrm>
            <a:off x="1142640" y="714240"/>
            <a:ext cx="73580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Este tipo de memoria tiene la ventaja de ser una extensión de la memoria SDRAM, con lo que facilita su implementación por la mayoría de los fabricant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4" name="Picture 3" descr="H:\memoria RAM\LISETH\memoria-ram.jpg"/>
          <p:cNvPicPr/>
          <p:nvPr/>
        </p:nvPicPr>
        <p:blipFill>
          <a:blip r:embed="rId1"/>
          <a:stretch/>
        </p:blipFill>
        <p:spPr>
          <a:xfrm>
            <a:off x="2857680" y="3314880"/>
            <a:ext cx="4357440" cy="3081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SIMM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(Single In line Memory Module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6" name=""/>
          <p:cNvSpPr txBox="1"/>
          <p:nvPr/>
        </p:nvSpPr>
        <p:spPr>
          <a:xfrm>
            <a:off x="928800" y="16430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Tipo de encapsulado consistente en una pequeña placa de circuito impreso que almacena chips de memoria, y que se inserta en un zócalo SIMM en la placa madre o en la placa de memor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Los SIMMs son más fáciles de instalar que los antiguos chips de memoria individuales, y a diferencia de ellos son medidos en bytes en lugar de b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"/>
          <p:cNvSpPr txBox="1"/>
          <p:nvPr/>
        </p:nvSpPr>
        <p:spPr>
          <a:xfrm>
            <a:off x="1000080" y="15717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El primer formato que se hizo popular en los computadores personales tenía 3.5" de largo y usaba un conector de 32 pins. Un formato más largo de 4.25", que usa 72 contactos y puede almacenar hasta 64 megabytes de RAM el más frecu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DIMM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(Dual In line Memory Module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9" name=""/>
          <p:cNvSpPr txBox="1"/>
          <p:nvPr/>
        </p:nvSpPr>
        <p:spPr>
          <a:xfrm>
            <a:off x="1143000" y="16430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Se inserta en un zócalo DIMM en la placa madre y usa generalmente un conector de 168 contac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más alargados (unos 13 cm), con 168 contactos y en zócalos generalmente negros; llevan dos muescas para facilitar su correcta colocaci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Baskerville Old Face"/>
              </a:rPr>
              <a:t>¿Qué es la memoria RAM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1" name=""/>
          <p:cNvSpPr txBox="1"/>
          <p:nvPr/>
        </p:nvSpPr>
        <p:spPr>
          <a:xfrm>
            <a:off x="928800" y="16430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Random Access Memory o memoria de acceso aleatori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Es la memoria que utilizan los ordenadores para almacenar los datos y programas a los que necesita tener un rápido acc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Se trata de una memoria de tipo volát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"/>
          <p:cNvSpPr txBox="1"/>
          <p:nvPr/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Pueden manejar 64 bits de una vez, por lo que pueden usarse de 1 en 1 en los Pentium, K6 y superiores. Existen para voltaje estándar (5 voltios) o reducido (3.3 V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1" name="Picture 3" descr="C:\Documents and Settings\Administrador\Mis documentos\Mis imágenes\846865I.bmp"/>
          <p:cNvPicPr/>
          <p:nvPr/>
        </p:nvPicPr>
        <p:blipFill>
          <a:blip r:embed="rId1"/>
          <a:stretch/>
        </p:blipFill>
        <p:spPr>
          <a:xfrm>
            <a:off x="2928960" y="4071960"/>
            <a:ext cx="3981600" cy="1866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Baskerville Old Face"/>
              </a:rPr>
              <a:t>Característ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3" name=""/>
          <p:cNvSpPr txBox="1"/>
          <p:nvPr/>
        </p:nvSpPr>
        <p:spPr>
          <a:xfrm>
            <a:off x="1071720" y="164304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Están constituidas por un conjunto de chips o módulos de chips conectados a la tarjeta mad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Tiempo de acceso corto: debido a su funcionamiento, tienen velocidades que las habilitan para trabajar como memoria principal con la mayoría de los microcontro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"/>
          <p:cNvSpPr txBox="1"/>
          <p:nvPr/>
        </p:nvSpPr>
        <p:spPr>
          <a:xfrm>
            <a:off x="928800" y="713880"/>
            <a:ext cx="82152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Lectura destructiva: como todas las memorias ferroeléctricas, la lectura es destructiva. Esto no representa un problema ya que el chip se encarga de reescribir los datos luego de una le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No volátiles: su funcionamiento hace prescindibles los refrescos y la alimentación para la retención de da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Baskerville Old Face"/>
              </a:rPr>
              <a:t>Funcionami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6" name=""/>
          <p:cNvSpPr txBox="1"/>
          <p:nvPr/>
        </p:nvSpPr>
        <p:spPr>
          <a:xfrm>
            <a:off x="13716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Cuando las aplicaciones se ejecutan, primeramente deben ser cargadas en memoria RAM. El procesador entonces efectúa accesos a dicha memoria para cargar instrucciones y enviar o recoger datos, reducir el tiempo necesario para acceder a la memoria, y ayuda a mejorar las prestaciones del siste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"/>
          <p:cNvSpPr txBox="1"/>
          <p:nvPr/>
        </p:nvSpPr>
        <p:spPr>
          <a:xfrm>
            <a:off x="857160" y="499680"/>
            <a:ext cx="80582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Es una memoria dinámica, lo que indica la necesidad de “recordar” los datos a la memoria cada pequeños periodos de tiempo, para impedir que esta pierda la inform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Eso se llama Refresco. Cuando se pierde la alimentación, la memoria pierde todos los dat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Random Access”, acceso aleatorio, indica que cada posición de memoria puede ser leída o escrita en cualquier 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Especifica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9" name=""/>
          <p:cNvSpPr txBox="1"/>
          <p:nvPr/>
        </p:nvSpPr>
        <p:spPr>
          <a:xfrm>
            <a:off x="1071360" y="142884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d0e3f5"/>
                </a:solidFill>
                <a:latin typeface="Baskerville Old Face"/>
              </a:rPr>
              <a:t>1. Mhz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Baskerville Old Face"/>
              </a:rPr>
              <a:t>Esta es la velocidad nominal a la cual la memoria RAM se comunica con el procesador, a la vez el procesador tiene su FSB (Front side bus), velocidad a la cual se comunica con las memoria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Baskerville Old Face"/>
              </a:rPr>
              <a:t>Lo recomendable es hacer funcionar al RAM en sincronía con el procesador, es decir que el FSB sea igual a la frecuencia de las memorias RA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"/>
          <p:cNvSpPr txBox="1"/>
          <p:nvPr/>
        </p:nvSpPr>
        <p:spPr>
          <a:xfrm>
            <a:off x="107172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0e3f5"/>
                </a:solidFill>
                <a:latin typeface="Baskerville Old Face"/>
              </a:rPr>
              <a:t>2. Dual Chann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Es como un Raid0 en memorias. Es decir se instalan en pares, iguales en tamaño y en velocidad; de este modo se obtiene una mejora en rendimiento que ha sido descrita desde el 5% hasta el 20% en el mejor de los cas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1" name="Picture 2" descr="H:\memoria RAM\382px-RAM_n.jpg"/>
          <p:cNvPicPr/>
          <p:nvPr/>
        </p:nvPicPr>
        <p:blipFill>
          <a:blip r:embed="rId1"/>
          <a:stretch/>
        </p:blipFill>
        <p:spPr>
          <a:xfrm>
            <a:off x="1928880" y="928800"/>
            <a:ext cx="6000840" cy="5214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"/>
          <p:cNvSpPr txBox="1"/>
          <p:nvPr/>
        </p:nvSpPr>
        <p:spPr>
          <a:xfrm>
            <a:off x="1143000" y="1357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El almacenamiento es considerado temporal por que los datos y programas permanecen en ella mientras que la computadora este encendida o no sea reinici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Se le llama RAM por que es posible acceder a cualquier ubicación de ella aleatoria y rápida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Baskerville Old Face"/>
              </a:rPr>
              <a:t>Las RAM se dividen en 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Baskerville Old Face"/>
              </a:rPr>
              <a:t>estáticas y dinámica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4" name=""/>
          <p:cNvSpPr txBox="1"/>
          <p:nvPr/>
        </p:nvSpPr>
        <p:spPr>
          <a:xfrm>
            <a:off x="92880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Una memoria estática mantiene su contenido inalterado mientras esté alimentad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Una memoria dinámica la lectura es destructiva, es decir que la información se pierde al leerla, para evitarlo hay que restaurar la información contenida en sus celdas, operación denominada refres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"/>
          <p:cNvSpPr txBox="1"/>
          <p:nvPr/>
        </p:nvSpPr>
        <p:spPr>
          <a:xfrm>
            <a:off x="1071720" y="10717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Las memorias se agrupan en módulos, que se conectan a la placa base de la computado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Según los tipos de conectores que lleven los módulos, se clasifican en módulos SIMM con 30 ó 72 contactos, módulos DIMM con 168 contactos y módulos RIMM con 184 contac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91440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TIP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9d5f1"/>
                </a:solidFill>
                <a:latin typeface="Baskerville Old Face"/>
              </a:rPr>
              <a:t>DRAM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8" name=""/>
          <p:cNvSpPr txBox="1"/>
          <p:nvPr/>
        </p:nvSpPr>
        <p:spPr>
          <a:xfrm>
            <a:off x="999720" y="1285560"/>
            <a:ext cx="791532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Acrónimo de “Dynamic Random Access Memory”, o simplemente RAM ya que es la original, y por tanto la más len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Su velocidad de refresco típica es de 80 ó 70 nanosegundos, (tiempo que tarda en vaciarse para poder dar entrada a la siguiente serie de dato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Físicamente, aparece en forma de DIMMs o de SIMMs, siendo estos de 30 contact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"/>
          <p:cNvSpPr txBox="1"/>
          <p:nvPr/>
        </p:nvSpPr>
        <p:spPr>
          <a:xfrm>
            <a:off x="857160" y="1571760"/>
            <a:ext cx="798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La DRAM es más lenta que la memoria SDRAM, pero por el contrario es mucho más barata de fabricar y por ello es el tipo de memoria RAM más comúnmente utilizada como memoria princip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0" name="Picture 2" descr="C:\Documents and Settings\Administrador\Mis documentos\Mis imágenes\Ñ868.bmp"/>
          <p:cNvPicPr/>
          <p:nvPr/>
        </p:nvPicPr>
        <p:blipFill>
          <a:blip r:embed="rId1"/>
          <a:stretch/>
        </p:blipFill>
        <p:spPr>
          <a:xfrm>
            <a:off x="2857680" y="4572000"/>
            <a:ext cx="4552920" cy="10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914400" y="642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Baskerville Old Face"/>
              </a:rPr>
              <a:t>SDRAM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2" name=""/>
          <p:cNvSpPr txBox="1"/>
          <p:nvPr/>
        </p:nvSpPr>
        <p:spPr>
          <a:xfrm>
            <a:off x="928440" y="1643040"/>
            <a:ext cx="742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Sincronic-RAM. Es un tipo síncrono de memoria, que se sincroniza con el procesador, es decir, el procesador puede obtener información en cada ciclo de reloj, sin estados de espe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Sólo se presenta en forma de DIMMs de 168 contac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9:42:26Z</dcterms:created>
  <dc:creator>Pablo Turmero</dc:creator>
  <dc:description/>
  <dc:language>en-US</dc:language>
  <cp:lastModifiedBy>Pablo Turmero</cp:lastModifiedBy>
  <dcterms:modified xsi:type="dcterms:W3CDTF">2015-01-19T21:35:38Z</dcterms:modified>
  <cp:revision>28</cp:revision>
  <dc:subject/>
  <dc:title/>
</cp:coreProperties>
</file>