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EE2-D793-4C7E-B607-1BB78254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B51-5B1A-4CFA-B1D3-93ECD03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E4D77-511B-4C9C-9C08-AD29190D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E520D-67DD-4205-B3B5-F7075D64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DD4E3-E1A0-4C3C-A0BA-C9B0F634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13F54-A2FE-4B60-9B17-B9EF012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D4236-D26D-4954-A766-F6D9272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ED7C6-8E8D-43C0-A2EA-B88852E1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1D078-A915-42E3-8F84-444C4481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FB5FD-E87D-4309-8587-8B44ACF7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6FAB2-E19E-4E00-879F-DE3111D8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7475F-FCF3-4B8F-97AA-FCA954AA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E68-562D-479A-9495-A9FEC09D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EFBA5-E13C-405A-A4A0-5E24208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AC42E-C7F3-4DE0-89BF-BEC738A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3E1AB-1600-4E06-8FFA-FC7E138D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DE78C-3DB4-4C48-BB59-10D62042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9657C-4E4B-46AD-9D70-BEEC96E4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74123-50A7-4714-9514-BA3C0A7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91365-FAE4-45B1-91AC-0A89419D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7AA90-BCB0-47C3-8539-A93803B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12124-D583-49AC-A0C4-D1949A45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5D5AB-FA0D-4C10-B3F7-07956DD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F2C-9989-4A24-BBE8-8FF1195D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C441B-2913-4512-A506-91C2AE4E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6C010-89CA-4C08-844A-83D6C308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D516-07E7-438C-BEC5-400CBFFF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D3F9-3B9C-42DA-B5F5-DE8485F1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1E244-163F-44B8-9E70-F57D3080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51F6-BB1A-4ECD-A361-880AC675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F7779-BA54-4A9A-AABB-F7EFC189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2A109-8A0D-49A7-BBCE-13D4CCA3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6FB01-5E90-42A1-8CCC-71920C9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2B9D3-843D-4292-8EBD-12597D67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AC73-E296-40D5-80FA-6E18C5E6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F9167-3DA9-4D8D-9B64-9B0608A1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5086F-1B39-4E87-BADE-C7FBFE20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24164-21DB-43E3-BC40-4EF92AF4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CB4C1-1B9A-45DB-8CAB-E2AA62D9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387E5-DA36-4E02-9F06-3E5DBA0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1F6D1-09CF-4A51-B867-5C3F4819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24118-93DB-4FE5-B665-C74BAC99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EC28B-98C1-4DAE-A073-6956FE6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D254-EF3F-4DA7-8F49-144B263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4E9D0-B9E5-4AD9-AE95-4B4DE5F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54E1-0B24-4DE4-B9A2-EA52D26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F7FBA-A03E-4F5B-B2ED-E4E37B5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A0620-ED88-4F04-A15A-EA65541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B3D12-496D-4B00-9F94-996362D2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0CD70-B794-4B29-8DF6-97F11860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CD297-E407-4ABB-AC56-A1F1DAC7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E7DC-DB8F-48CD-9916-067F46A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FAA3-2CA1-4BB2-85CF-C0D596FA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55BF-AC55-4A3E-82C0-AD42732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F5F2-5FA7-44CD-BC0C-B8622D93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39E9-4314-4AB5-BAC0-18554C0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0F9-8533-458A-97ED-277900B1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2D3A-01BF-4AB9-8F4F-295B91C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6869-01D1-4A81-B77C-51CC868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0D26-AC4A-40C9-A58C-674037DD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F32A-B55C-4949-B30D-E59178B8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47E6-ECCB-40A0-9A79-1DFF2F0A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9A1C-A578-48AB-824F-C72AAE89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886A-CE87-4751-8417-22259BB6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48DE-E59C-40CC-BEA3-33351FCF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CC63-33D2-48D0-9234-5FA68EFD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37F3-4809-46A0-A12B-CE837E2B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9FF-E0D2-42E1-8441-205C780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0556-35C0-4224-9FA6-787842E0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2B56-2082-4D16-87AC-0BED129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23E8-2E56-49C3-942A-D997F39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2000-F0C4-4EFE-A1BF-967DA6B6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1937-EFCE-4E3B-AD43-FE663BD4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744F-5C32-401B-9CFB-722BA24A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FA1C-1F04-4EAB-B656-4D1DE657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4639-2E55-422B-B8A2-321A98E2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6778-FDA6-4101-92B5-A321EF6E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7867-2553-469E-B7A3-0E67D13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708-C6AC-4103-AB5E-9CFDC68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99D7-4592-466B-AF96-95DAEDD6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099D-610A-4DF7-8804-D1B3F268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E25D-4DCE-422C-BE24-3DAB7AB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D1ED-C891-4447-9621-D984FB3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FE5B-352E-4E37-BE36-588850C5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B18A-A563-4FDF-A467-B8DB29A4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F761-B709-4851-B3CE-D547F7EF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7DF9-B7AF-4B4A-9102-CD1AB7A6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EC4C-B473-4982-8C8F-D269AD04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B40C-D50B-4DF8-8427-6F1AEDA6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B3C-1C2F-4F72-9BE3-8B9D643E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E38B-D3AB-4649-83B0-81E7C5A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E6D9-EC86-44F5-A3A4-74A52C19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FD64-7808-4282-A93C-7AD62848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0B1E-8285-4CE5-8BAF-4C0A6DBC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993A-1575-4660-B8EA-BC852178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ACA21-DD98-41E2-8756-4279B0E4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22C3-7905-4E9C-AD5E-0FCB460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DD88-9FEA-4A3A-883E-7795685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5E4B-8459-4644-BBD2-38817E4E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B0F36-862B-4FB1-9C25-C8C4E00F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B35-6FFC-4AAC-8AD0-468EB4A3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32CE-F269-42D9-8986-FE0B4C00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079D0-C87F-4831-AD1B-2BD1B661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2665-9CC5-4223-A3BA-D82A03E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B293E-FDAE-4D53-8151-614A670A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31980-1C43-491D-BA38-B6F0D9F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77B61-CEE5-4279-92BF-6F5DE0C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E368-8FC7-43C5-B6EA-A44AF3D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7CDA5-A164-44F1-9CE9-6A6EA5C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EFC1-66A0-4D8B-9A52-E17DCDA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E830-8A64-4DC5-B4FD-689AFCF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3E5-F84F-4BA4-AC12-4904B2C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1BB30-C1D9-49FE-BE1A-7058D4E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6948-25DD-42B5-8589-4AAE3B19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D595-CE49-4E0F-BA95-D99DB3BC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5B60-719A-458E-9D82-10D93B3F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F8EA-FA6C-4ECD-813E-3C246BF0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184A-6A12-48A4-8D91-87D922D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8439C-5307-4C55-9801-EDEC013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0958B-0C47-462D-9C20-48C62E9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F145-D694-4453-B2C1-1C1E0FB8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F253E-3133-42C2-9D1C-6420A05E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9F1-06C4-439E-9E81-B6DF4DA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2F31C-5521-4724-8309-27AE08F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20D8-AF6C-4284-AC2B-BA699BE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35EB6-111B-4A1A-BE0B-BEDEC5C8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E1A4D-21F7-4EA1-A9FE-1FB77431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F4D7A-3E2B-410C-AAA9-C2C86DBA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3475F-43A3-4900-B02D-E3FE313B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C87CB-8970-4F38-BE0F-AC8EE0CA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EC514-2F4B-4C35-B31D-DBFF137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472BC-3A5B-4A18-ACF9-DCB6C311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1B46-7311-4F71-9B32-A126FCFF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4A0-A82E-43D7-9D48-BC94D31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A8092-9040-4D7A-9D4B-CFC7C48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37D1-79C3-4939-B4ED-25A8EB2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F252-4C6F-4227-A995-E30A6435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F3B27-3543-45DA-B55D-50917F5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193F-8B73-4C75-BCD7-5F45F273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1272-D577-446E-BCB8-2C25B73B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DA63-1DE5-468F-AA19-E22E537B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707D2-66DA-49B2-8653-C4AE3FE3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607C6-589F-435B-BD26-59019552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DC437-621A-4A1F-9E4C-C2C4CEC0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44B9-DD50-4A7B-BE33-487735EF130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148-0E3E-451F-9519-84B856C45A8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A48F-DFFA-457B-B63B-12904296E78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11F6-8684-43E3-B5D7-7D5B5D3D26C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A94D-79CA-49ED-A0F5-C88D04C06C6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3BEE-21E3-45D7-9494-882C7C43A9A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1359-5AC6-430A-9CC8-030073FC601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D29-41DC-4293-ACBB-513BF6DE11F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6C9-F13A-48C3-9253-344A3551ADB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31C-029D-45D5-8733-CC5EB8B716C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FC6-737C-46E4-8B71-569A46E72AC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8D5-843F-4F77-9082-5C7CB323CB1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DESCOMPOSICIÓN LU Y MATRIZ INVERS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OCEDIMIENTO (continuació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90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jemplo (Descomposición LU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859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6288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6"/>
          <p:cNvSpPr/>
          <p:nvPr/>
        </p:nvSpPr>
        <p:spPr>
          <a:xfrm>
            <a:off x="2392200" y="563400"/>
            <a:ext cx="29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63272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EJEMPLO (continuación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JEMPLO (continuación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619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DESCOMPOSICIÓN CR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Utiliza una matriz [U] con números 1 sobre la diagon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Genera [U] y [L] barriendo las columnas y los renglones de la matri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FÓRMULAS PARA DESCOMPOSICIÓN CROU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800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ATRIZ INVER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i una matriz [A] es cuadrada, existe otra matriz [A]</a:t>
            </a:r>
            <a:r>
              <a:rPr b="0" lang="es-ES" sz="3200" spc="-1" strike="noStrike" baseline="30000">
                <a:solidFill>
                  <a:srgbClr val="ffffff"/>
                </a:solidFill>
                <a:latin typeface="Verdana"/>
              </a:rPr>
              <a:t>-1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conocida como la inversa de [A], en dond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[A][A]</a:t>
            </a:r>
            <a:r>
              <a:rPr b="0" lang="es-ES" sz="3200" spc="-1" strike="noStrike" baseline="30000">
                <a:solidFill>
                  <a:srgbClr val="ffffff"/>
                </a:solidFill>
                <a:latin typeface="Verdana"/>
              </a:rPr>
              <a:t>-1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=[A]</a:t>
            </a:r>
            <a:r>
              <a:rPr b="0" lang="es-ES" sz="3200" spc="-1" strike="noStrike" baseline="30000">
                <a:solidFill>
                  <a:srgbClr val="ffffff"/>
                </a:solidFill>
                <a:latin typeface="Verdana"/>
              </a:rPr>
              <a:t>-1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[A]=[I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sta sección se estudiará como calcular la inversa por medio del algoritmo de descomposición L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efectúa sustitución hacia delante para calcular la primera columna de la matriz inversa, utilizando un vector unitario (el número 1 en el primer reglón) como el vector del lado derech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2340000" y="4653000"/>
                <a:ext cx="4464000" cy="20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OCEDIMIENTO (continuació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 lo anterior se obtiene {D}</a:t>
            </a:r>
            <a:r>
              <a:rPr b="0" lang="es-ES" sz="2800" spc="-1" strike="noStrike" baseline="30000">
                <a:solidFill>
                  <a:srgbClr val="ffffff"/>
                </a:solidFill>
                <a:latin typeface="Verdana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ste vector se utilizará como el lado derecho en la siguiente ecuació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onde se obtiene por sustitución hacia atrás {X}</a:t>
            </a:r>
            <a:r>
              <a:rPr b="0" lang="es-ES" sz="2800" spc="-1" strike="noStrike" baseline="30000">
                <a:solidFill>
                  <a:srgbClr val="ffffff"/>
                </a:solidFill>
                <a:latin typeface="Verdana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stos valores serán la primera columna de la matriz invers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2268360" y="2924280"/>
                <a:ext cx="431964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OCEDIMIENTO (continuació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calcular la segunda columna se formula la siguiente ecuació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 esta forma se obtiene {D}, y los resultados se usan para calcular {X}</a:t>
            </a:r>
            <a:r>
              <a:rPr b="0" lang="es-ES" sz="2800" spc="-1" strike="noStrike" baseline="30000">
                <a:solidFill>
                  <a:srgbClr val="ffffff"/>
                </a:solidFill>
                <a:latin typeface="Verdana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es la segunda columna de la invers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2771640" y="2924280"/>
                <a:ext cx="33116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esarrollo de los tem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jercicios resueltos en MATLA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OCEDIMIENTO (continuació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ara el cálculo de la tercera columna se realiza de igual manera que las anteriores empleando {B}</a:t>
            </a:r>
            <a:r>
              <a:rPr b="0" lang="es-ES" sz="3200" spc="-1" strike="noStrike" baseline="30000">
                <a:solidFill>
                  <a:srgbClr val="ffffff"/>
                </a:solidFill>
                <a:latin typeface="Verdana"/>
              </a:rPr>
              <a:t>T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=[O,O,1], para obtener {X}</a:t>
            </a:r>
            <a:r>
              <a:rPr b="0" lang="es-ES" sz="3200" spc="-1" strike="noStrike" baseline="30000">
                <a:solidFill>
                  <a:srgbClr val="ffffff"/>
                </a:solidFill>
                <a:latin typeface="Verdana"/>
              </a:rPr>
              <a:t>T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Finalmente la validez del resultado se comprueba al verificar qu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[A][A]</a:t>
            </a:r>
            <a:r>
              <a:rPr b="0" lang="es-ES" sz="3200" spc="-1" strike="noStrike" baseline="30000">
                <a:solidFill>
                  <a:srgbClr val="ffffff"/>
                </a:solidFill>
                <a:latin typeface="Verdana"/>
              </a:rPr>
              <a:t>-1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=[I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El uso de la descomposición de matrices LU es de gran utilidad ya que permite alivianar la cantidad de operaciones para resolver un siste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oporciona un medio eficiente para calcular matrices inversas, y éstas poseen un importante número de aplicaciones en la práctica de la ingeniería, sin dejar de lado que dichas inversas proporcionan un medio para evaluar la condición de un siste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El uso de descomposición LU, debido que es un proceso más abreviado, provee una ganancia de tiempo para un programador a la hora de elaborar un progra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tratará una clase de métodos de eliminación llamada técnica de descomposición de matrices L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emás la descomposición LU proporciona un medio eficiente para calcular la matriz inver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matriz inversa ofrece un medio para evaluar la condición de un siste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udiar el método de  descomposición LU y la inversión de matrices con la finalidad de  facilitar la solución de sistemas de ecuaciones line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alizar ejercicios programados empleando MATLAB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</a:rPr>
              <a:t>Ver las ventajas de utilizar descomposición LU en vez de resolver sistemas usando Gauss-Jord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DESCOMPOSICIÓN L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s un método directo para resolver sistemas de ecuaciones de la forma [A] {X}= {B}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l principal recurso es que el paso de la eliminación, que toma mucho tiempo, se puede formular de tal manera que solo involucre operaciones con la matriz de coeficientes [A]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uestra cómo el método de eliminación de Gauss se implementa como una descomposición L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a ventaja de este método es que proporciona un medio eficiente para evaluar diversos vectores del lado derech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asos en la descomposición 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so de descomposición LU: [A] se factoriza o “descompone” en las matrices triangular inferior [L] y superior [U]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so de sustitución: [L] y [U] determinan una solución {X} para un lado derecho {B}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 acuerdo a la Ec. [L]{D}={B} genera un vector {D} mediante sustitución hacia delan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resultado se sustituye en la Ec. [U]{X}={D} mediante sustitución hacia atrás para X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OCEDIMIENTO(continuació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OCEDIMIENTO(continuació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3:45:18Z</dcterms:created>
  <dc:creator>Pablo Turmero</dc:creator>
  <dc:description/>
  <dc:language>en-US</dc:language>
  <cp:lastModifiedBy>Pablo Turmero</cp:lastModifiedBy>
  <dcterms:modified xsi:type="dcterms:W3CDTF">2015-08-18T19:54:58Z</dcterms:modified>
  <cp:revision>17</cp:revision>
  <dc:subject/>
  <dc:title/>
</cp:coreProperties>
</file>