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C77-7F11-4C8E-970F-A1EB2E8C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F36-B833-4652-9A9E-821A60CE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51988-7657-45DE-BE47-0BE2245A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76DA6-0101-4D6B-A549-57543DC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8198B-6EBD-49C0-9668-15B9FD02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BD2D6-E3FD-4A94-8F3F-AE7D3EC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04BBE-8DB8-4AB9-9B47-2AAFFE9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52F99-2EC8-442E-9ACA-3306567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87941-43B8-4EE3-BF8B-BA60B1C3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9C52F-CA48-4832-8DD7-62D358A1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57CD6-EE0C-4A8C-89A8-3471AEA7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E3D24-DE1C-4880-AA95-0F04F0F3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9C5-EE37-413E-A42C-D4A4A4B9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E8592-98BB-49C0-A7CC-43ACC686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E653B-1E70-4DA6-84EF-6F5CFA39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6D47D-CCDE-4D4E-8817-249CC19F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1CCAA-1E16-4CDF-9389-62C24007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52868-0FDE-4017-B663-C00CD6EF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C3CBA-CD4C-4AA4-A4CD-59B4D9BE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FBF4D-5F03-42EA-A0DE-CB3903E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263D8-4754-4923-9D1C-183E773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1DA06-2606-461C-BA4E-3C46B6CC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C990A-1B19-4C8C-A018-A9C2827E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28E-981F-4742-83D7-BE236416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2D538-1372-4877-82B1-5926B6FA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43E8D-9C36-458A-B683-DCFA3780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9AFB5-CD61-4D6D-A374-4969174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C5941-D212-4863-BB90-E319A49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0CC82-3CFF-42A3-9053-F758597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382DA-17FF-4A79-8289-3AC29164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AAF0D-71B2-49B3-9773-495C9318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CC77A-3C6E-4DAA-A4BC-082823A0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D7CDA-9953-4026-9490-800A7836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14CBF-E391-4F0F-BF0A-A4978F8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7ADD-D3D5-4830-8BAE-F1A84027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FB139-476B-4005-9184-87FE8C05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2E4DE-D502-4D52-9DE5-3C1998FD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59D67-B26F-45A6-91E7-FF99AEDD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85217-C534-40B4-8A70-523E0F98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EB851-F9A5-42CC-99ED-01C57B57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FEA17-5F1B-4744-AF13-9FD3122C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FD8F6-D0D4-49B9-B2D5-6A33CDEF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B1F01-0B2E-482B-AE02-4F61F9E1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971F1-C82F-490C-8393-A2996653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C4A43-4F4D-49B3-8015-6D70CCA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29E1-C74E-4537-8CC4-303A24AE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10B15-8CAC-427F-AE47-B824F76A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DEA88-8122-4E1A-BCEA-BCCE286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ABDD2-4A2A-4C50-866A-93394C3A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51C30-D565-4D04-8ABE-71CE95D4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E53A0-E4F9-4327-93D1-DDEC5D93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6CE5-4C3D-4145-A1CC-184462F6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636E-381B-490E-91A4-0F85E216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B3B0-2D6C-4922-983C-DDA249AD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413B-D955-4B61-BC03-D3FC165B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A392-C8C3-4F8F-89D9-F258CCFD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840-7C47-4AA0-BFB5-8437088A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A596-49AC-4A3C-869B-ADBFF4F5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6209-0379-4C2D-9CA0-D22B2222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94B7-2E35-401F-A9A5-AD898CCA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2F24-747D-4673-BEF9-5B690793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305C-54E7-4837-BBB5-B38B6E65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FFDB-6D31-4D64-8339-04922C17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EC8D-40A6-436A-BE8B-8CF7755B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9057-7B18-4786-87A3-9AAB1DFB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BD66-9090-4A4A-B6F5-B1ABDE12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2479-FC4D-492D-BF34-C87835BF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4C8-0AE5-434A-9415-310E5521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F650-5DD9-45D9-8EE1-9550CC44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E1E2-A3F5-4C0E-9422-20C964F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AF88-918D-4C74-BCDE-10A27BA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A264-A69E-4904-B109-61BD7458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6E4B-46AC-48D2-9510-0B84B7A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913D-30BE-4443-BC39-CE986135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16D6-20FD-4615-9396-BD62E31E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D8B8E-036C-4C97-8080-25BB7538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25DB-34E3-40F6-AD5F-5CB70029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E935-9AE3-4C25-97E6-36943A3A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D3C-5C23-457E-AB21-D0CAB763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7D71-4A54-41C6-BC8E-CACFA55D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0DCF7-D9D3-4CD1-A40E-AD05DEFD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6390-8AFA-48D4-B899-8F79A45F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BB6C-B15C-414F-AFA5-C128021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766A-E275-4A81-854A-67381321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15EBC-EA4A-4B0B-9C37-6D2445B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EFFE-3B86-4820-9599-EADDE99B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015A-4D0C-4124-80FD-E084BC4D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73CC-5167-4749-AECE-D4F7734C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DA9C-36D8-4280-87F0-994CE5E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508-553C-4202-9315-A92A85B6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F3B0-B471-42A0-9C4A-C2891DCA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A0A7-0B3E-4B32-B27C-94B29426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65ECD-283D-47E8-B571-FE0CEBD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562A-AFEA-4991-BA33-10C8943A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6473-8146-4CAA-A527-7B809C3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ECE8C-A301-4392-8CB3-5A64826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302AE-F9EC-46D6-BFD3-A331FA9C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6DD4-7478-41F8-AC17-BF857B80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C9C40-F074-4F0E-BE4D-6387D290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BC46-94D9-4732-8FD4-F19E8EA7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AE4-739E-4B23-8177-115D7AD4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B405-9D31-452E-964D-CD0221A9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298C5-B418-40DC-816E-4E66FA39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2C10-3EDC-425E-B355-3B70599A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0A49-E661-4F6A-8192-7549174F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41ADF-DBFA-4AB5-96EC-92417146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EA909-12C9-4E01-B8AC-9E667C9E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B34E-767F-4210-85AC-4FBE014F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00D4-7819-486E-A2D7-0982AB6C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AE74-C4B9-4EE1-B5E3-C5E5A254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62A1-0B9C-4060-B2B0-7C37043C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DC9-E9C6-46AF-8101-942A9FF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089B2-0A45-4ADA-BA2C-FB49C7C1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08AE-10D1-47CC-95F8-2C5FB33C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7804-B9C4-468D-9B60-5C34C970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B0A8E-22BD-437D-9061-2E2D7E05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D869-94EC-42CC-8589-BDEE26F9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96940-94A7-4DAC-A7A8-06515C32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94E0-39D8-4E1C-B685-DDAEB8F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D6E00-3CEA-4286-BF9B-F66BA658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FF879-66E0-4E4C-B74C-0BE0DE6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C276F-C81A-4A7D-880C-F5DF3C99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3F0-9A6B-4672-B806-08880A5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86DC5-CF56-4E18-BBEB-225D27CE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988E4-9AB8-4D66-A7FD-BF34451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E001-1B2E-405F-A14F-4E4E11F6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90DA8-2703-4B56-A9C6-0AF3E01E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B3618-2BC0-4720-BB7B-5C77B487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0D8E1-891A-48B8-903D-4FC43601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3CCE6-11C7-4B53-916D-E6E78BDC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6F242-2CD5-4DD9-9FDE-0858418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9AFCB-A232-4390-AF72-B7A42B6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8F95E-FD1B-4BFF-887A-1EB36312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9DF-376B-44C3-9E03-38B57D2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369F-4AB7-46E3-8F50-1D6284F9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C3982-45B2-441B-BB72-1F8F2C6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2B8E3-7C33-4A28-B38F-81B7D84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E79A3-DF1F-432E-ACE5-1A1A2742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B8422-310E-494D-9B38-CBFD8E25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4190E-E2F1-4AFF-AA78-3245AAEF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08E39-5B63-44D0-86E5-4A5EE84A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1BCF-6785-4F40-BEAF-8F8A0885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E127B-45B4-4373-9F3B-C65F62CD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653A3-FFEC-4A9F-AD6F-450D086F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9DD3-1E8E-4553-8505-7D57FBB2C8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038" descr="color1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620120" y="4800600"/>
            <a:ext cx="124272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4786-0A72-404D-88E9-B0F8797841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201-1233-44C2-B015-3E4010F9AD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5CE1-F910-40D1-BEB1-6A25737277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F41-AE03-43AE-969B-05745D1AA62C}" type="slidenum">
              <a:rPr b="0" lang="es-E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A38E-5A71-4FEF-8FA0-255FC3FF6D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71CA-694A-46DE-8125-26859568EF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60F-A190-4651-9834-75FB670F39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F43F-F0BB-410C-AD95-4FB1A5E0381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B67-FFB2-47B7-BF0A-4FDFA165E2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52C1-39F9-44F6-94D3-E95C5D4D246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4AA3-9484-405C-8FE9-B46583C4AB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-36360" y="1571760"/>
            <a:ext cx="93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33cc"/>
                </a:solidFill>
                <a:latin typeface="Tahoma"/>
              </a:rPr>
              <a:t>Medios de Comunicación Guiad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able de par tren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533520" y="2209680"/>
            <a:ext cx="7924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de fácil Instal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j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bido a que su diámetro externo es tan pequeño, el cable UTP no llena los conductos para el cable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 impedancia es de 100 O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533520" y="4267080"/>
            <a:ext cx="80769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cable UTP es más susceptible al ruido eléctrico y a la interferencia que otros tipos de medios para re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distancia que puede abarcar la señal sin el uso de repetidores es menos para UTP que para los cables coaxiales y de fibra óp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3" name="Picture 5" descr="C:\Documents and Settings\dfponce\Escritorio\medios de Comunicación\utp.jpg"/>
          <p:cNvPicPr/>
          <p:nvPr/>
        </p:nvPicPr>
        <p:blipFill>
          <a:blip r:embed="rId1"/>
          <a:stretch/>
        </p:blipFill>
        <p:spPr>
          <a:xfrm>
            <a:off x="6629400" y="457200"/>
            <a:ext cx="19890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able de par tren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33520" y="22096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tegorías de Cable UT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isten 8 categorías de cables UTP. De las cuales 6 son las más ut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6" name="Object 1024"/>
          <p:cNvGraphicFramePr/>
          <p:nvPr/>
        </p:nvGraphicFramePr>
        <p:xfrm>
          <a:off x="990720" y="3505320"/>
          <a:ext cx="723888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723888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8" name="Picture 6" descr="C:\Documents and Settings\dfponce\Escritorio\medios de Comunicación\utp.jpg"/>
          <p:cNvPicPr/>
          <p:nvPr/>
        </p:nvPicPr>
        <p:blipFill>
          <a:blip r:embed="rId3"/>
          <a:stretch/>
        </p:blipFill>
        <p:spPr>
          <a:xfrm>
            <a:off x="6553080" y="380880"/>
            <a:ext cx="19893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026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Fibra Óp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1027"/>
          <p:cNvSpPr/>
          <p:nvPr/>
        </p:nvSpPr>
        <p:spPr>
          <a:xfrm>
            <a:off x="533520" y="22860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bra Óp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1" name="Picture 1030" descr="C:\Documents and Settings\dfponce\Escritorio\medios de Comunicación\Fibra.jpg"/>
          <p:cNvPicPr/>
          <p:nvPr/>
        </p:nvPicPr>
        <p:blipFill>
          <a:blip r:embed="rId1"/>
          <a:stretch/>
        </p:blipFill>
        <p:spPr>
          <a:xfrm>
            <a:off x="6629400" y="533520"/>
            <a:ext cx="1622520" cy="11890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031" descr="C:\Documents and Settings\dfponce\Escritorio\medios de Comunicación\Cable_fo.jpg"/>
          <p:cNvPicPr/>
          <p:nvPr/>
        </p:nvPicPr>
        <p:blipFill>
          <a:blip r:embed="rId2"/>
          <a:stretch/>
        </p:blipFill>
        <p:spPr>
          <a:xfrm>
            <a:off x="1600200" y="3200400"/>
            <a:ext cx="62755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able de par tren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3352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mune al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yor velocidad de transmi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ideo y sonido en tiempo r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puede ser intervenida ni perturb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mensión mas reduc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so menor al cob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teria prima abundante en la naturale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609480" y="49528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to costo en instalaciones donde no hay roncal cer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s caro que el cob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quipamiento especial y mas ca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ragilidad y manipulación espe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Medios de Comunicación Gu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533520" y="2209680"/>
            <a:ext cx="79246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ec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ble Coax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 Trenz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bra Óp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8" name="Picture 5" descr="C:\Documents and Settings\dfponce\Escritorio\medios de Comunicación\Conectores-BNC(COAXIAL).jpg"/>
          <p:cNvPicPr/>
          <p:nvPr/>
        </p:nvPicPr>
        <p:blipFill>
          <a:blip r:embed="rId1"/>
          <a:stretch/>
        </p:blipFill>
        <p:spPr>
          <a:xfrm>
            <a:off x="4572000" y="2057400"/>
            <a:ext cx="2811600" cy="13604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E:\ucinfVirtual\Unidad 2\Medios de Comunicacion\Imagenes\con-rj45.gif"/>
          <p:cNvPicPr/>
          <p:nvPr/>
        </p:nvPicPr>
        <p:blipFill>
          <a:blip r:embed="rId2"/>
          <a:stretch/>
        </p:blipFill>
        <p:spPr>
          <a:xfrm>
            <a:off x="4343400" y="3657600"/>
            <a:ext cx="1676520" cy="1241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E:\ucinfVirtual\Unidad 2\Medios de Comunicacion\Imagenes\RJ49.jpg"/>
          <p:cNvPicPr/>
          <p:nvPr/>
        </p:nvPicPr>
        <p:blipFill>
          <a:blip r:embed="rId3"/>
          <a:stretch/>
        </p:blipFill>
        <p:spPr>
          <a:xfrm>
            <a:off x="6553080" y="3505320"/>
            <a:ext cx="1408320" cy="14475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E:\ucinfVirtual\Unidad 2\Medios de Comunicacion\Imagenes\st.jpg"/>
          <p:cNvPicPr/>
          <p:nvPr/>
        </p:nvPicPr>
        <p:blipFill>
          <a:blip r:embed="rId4"/>
          <a:srcRect l="0" t="22466" r="0" b="21416"/>
          <a:stretch/>
        </p:blipFill>
        <p:spPr>
          <a:xfrm>
            <a:off x="6400800" y="5105520"/>
            <a:ext cx="1981080" cy="1101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E:\ucinfVirtual\Unidad 2\Medios de Comunicacion\Imagenes\fibra SC.jpg"/>
          <p:cNvPicPr/>
          <p:nvPr/>
        </p:nvPicPr>
        <p:blipFill>
          <a:blip r:embed="rId5"/>
          <a:stretch/>
        </p:blipFill>
        <p:spPr>
          <a:xfrm>
            <a:off x="4191120" y="4724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Medios de Comunicación Gu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533520" y="22860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conclu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ando más difícil de Instalar es un medio físico de comunicación, más cara resulta la insta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026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Medios de Comunicación Gu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1028"/>
          <p:cNvSpPr/>
          <p:nvPr/>
        </p:nvSpPr>
        <p:spPr>
          <a:xfrm>
            <a:off x="533520" y="228600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ideracione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u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mped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ten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flex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Medios de Comunicación Gu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533520" y="228600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ble Coax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 Trenz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buClr>
                <a:srgbClr val="000000"/>
              </a:buClr>
              <a:buSzPct val="5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buClr>
                <a:srgbClr val="000000"/>
              </a:buClr>
              <a:buSzPct val="5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bra Óp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Picture 6" descr="y8058"/>
          <p:cNvPicPr/>
          <p:nvPr/>
        </p:nvPicPr>
        <p:blipFill>
          <a:blip r:embed="rId1"/>
          <a:srcRect l="0" t="4378" r="0" b="25559"/>
          <a:stretch/>
        </p:blipFill>
        <p:spPr>
          <a:xfrm>
            <a:off x="4114800" y="2438280"/>
            <a:ext cx="2286000" cy="1219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C:\Documents and Settings\dfponce\Escritorio\medios de Comunicación\utp.jpg"/>
          <p:cNvPicPr/>
          <p:nvPr/>
        </p:nvPicPr>
        <p:blipFill>
          <a:blip r:embed="rId2"/>
          <a:stretch/>
        </p:blipFill>
        <p:spPr>
          <a:xfrm>
            <a:off x="4114800" y="3581280"/>
            <a:ext cx="1989000" cy="1211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C:\Documents and Settings\dfponce\Escritorio\medios de Comunicación\Fibra.jpg"/>
          <p:cNvPicPr/>
          <p:nvPr/>
        </p:nvPicPr>
        <p:blipFill>
          <a:blip r:embed="rId3"/>
          <a:stretch/>
        </p:blipFill>
        <p:spPr>
          <a:xfrm>
            <a:off x="4267080" y="4876920"/>
            <a:ext cx="1622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Medios de Comunicación Gu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533520" y="22860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ble Coax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0" name="Picture 4" descr="C:\Documents and Settings\dfponce\Escritorio\medios de Comunicación\Cable-Coaxial.jpg"/>
          <p:cNvPicPr/>
          <p:nvPr/>
        </p:nvPicPr>
        <p:blipFill>
          <a:blip r:embed="rId1"/>
          <a:stretch/>
        </p:blipFill>
        <p:spPr>
          <a:xfrm>
            <a:off x="2286000" y="3048120"/>
            <a:ext cx="44956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able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533520" y="2209680"/>
            <a:ext cx="7924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yor distancia que los cables UTP o STP (500 mt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más económicas que la Fibra Óp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ecnología masiva y muy conoc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33520" y="4267080"/>
            <a:ext cx="80769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 rigidez dificulta la instal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be considerar su grosor al momento de la canal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se instala sin respetar las normas el aislante se puede convertir en un medio con altas tasa de ruid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éctr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4" name="Picture 5" descr="y8058"/>
          <p:cNvPicPr/>
          <p:nvPr/>
        </p:nvPicPr>
        <p:blipFill>
          <a:blip r:embed="rId1"/>
          <a:srcRect l="0" t="4378" r="0" b="25559"/>
          <a:stretch/>
        </p:blipFill>
        <p:spPr>
          <a:xfrm>
            <a:off x="5943600" y="457200"/>
            <a:ext cx="228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1026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able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1027"/>
          <p:cNvSpPr/>
          <p:nvPr/>
        </p:nvSpPr>
        <p:spPr>
          <a:xfrm>
            <a:off x="533520" y="2209680"/>
            <a:ext cx="79246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jemplos de utilización del Cable Coax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re la antena y el televis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s redes urbanas de Telev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re el emisor y su antena emis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7" name="Picture 1029" descr="y8058"/>
          <p:cNvPicPr/>
          <p:nvPr/>
        </p:nvPicPr>
        <p:blipFill>
          <a:blip r:embed="rId1"/>
          <a:srcRect l="0" t="4378" r="0" b="25559"/>
          <a:stretch/>
        </p:blipFill>
        <p:spPr>
          <a:xfrm>
            <a:off x="5943600" y="457200"/>
            <a:ext cx="228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able de par tren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533520" y="22860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TP (Par trenzado apantalla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0" name="Picture 5" descr="C:\Documents and Settings\dfponce\Escritorio\medios de Comunicación\Cable-STP.jpg"/>
          <p:cNvPicPr/>
          <p:nvPr/>
        </p:nvPicPr>
        <p:blipFill>
          <a:blip r:embed="rId1"/>
          <a:stretch/>
        </p:blipFill>
        <p:spPr>
          <a:xfrm>
            <a:off x="1600200" y="3048120"/>
            <a:ext cx="5410080" cy="23698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:\Documents and Settings\dfponce\Escritorio\medios de Comunicación\utp.jpg"/>
          <p:cNvPicPr/>
          <p:nvPr/>
        </p:nvPicPr>
        <p:blipFill>
          <a:blip r:embed="rId2"/>
          <a:stretch/>
        </p:blipFill>
        <p:spPr>
          <a:xfrm>
            <a:off x="6400800" y="533520"/>
            <a:ext cx="198900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able de par tren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533520" y="2209680"/>
            <a:ext cx="7924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resistencia a ru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bido a que su diámetro externo es tan pequeño, el cable UTP no llena los conductos para el cable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 impedancia es de 150 O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533520" y="4267080"/>
            <a:ext cx="80769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 un cable robu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 más caro que el cable UT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 más difícil de insta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5" name="Picture 5" descr="C:\Documents and Settings\dfponce\Escritorio\medios de Comunicación\utp.jpg"/>
          <p:cNvPicPr/>
          <p:nvPr/>
        </p:nvPicPr>
        <p:blipFill>
          <a:blip r:embed="rId1"/>
          <a:stretch/>
        </p:blipFill>
        <p:spPr>
          <a:xfrm>
            <a:off x="6629400" y="457200"/>
            <a:ext cx="19890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533520" y="1116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able de par tren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533520" y="22860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P (Par trenzado no apantalla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8" name="Picture 5" descr="C:\Documents and Settings\dfponce\Escritorio\medios de Comunicación\Cable-Utp.jpg"/>
          <p:cNvPicPr/>
          <p:nvPr/>
        </p:nvPicPr>
        <p:blipFill>
          <a:blip r:embed="rId1"/>
          <a:srcRect l="1279" t="0" r="0" b="0"/>
          <a:stretch/>
        </p:blipFill>
        <p:spPr>
          <a:xfrm>
            <a:off x="1523880" y="2971800"/>
            <a:ext cx="5867640" cy="26510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C:\Documents and Settings\dfponce\Escritorio\medios de Comunicación\utp.jpg"/>
          <p:cNvPicPr/>
          <p:nvPr/>
        </p:nvPicPr>
        <p:blipFill>
          <a:blip r:embed="rId2"/>
          <a:stretch/>
        </p:blipFill>
        <p:spPr>
          <a:xfrm>
            <a:off x="6705720" y="380880"/>
            <a:ext cx="19890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01:37:14Z</dcterms:created>
  <dc:creator>Pablo Turmero</dc:creator>
  <dc:description/>
  <dc:language>en-US</dc:language>
  <cp:lastModifiedBy>Pablo Turmero</cp:lastModifiedBy>
  <dcterms:modified xsi:type="dcterms:W3CDTF">2015-05-31T16:51:00Z</dcterms:modified>
  <cp:revision>27</cp:revision>
  <dc:subject/>
  <dc:title/>
</cp:coreProperties>
</file>