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72AE-2FD3-4CD4-85D2-1F9388851B4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A231-806A-42A3-B790-3BCEA6753BA7}"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5A83-AE91-4863-B055-2463760C8DCD}"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E60B-7AD4-429D-A9CF-41A77F7A645D}"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E2FC-64FB-4309-B469-C028B3E4ECF9}"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4D49-2EDD-4479-AD91-C203F582C283}"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4EBD-4E26-4CF6-A64F-64D8CB11DA98}"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D6FA-C724-4685-A8EE-2F86E7C3FCE7}"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B006-B720-4F21-A23E-7BF7A1484C59}"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0869-6DC6-42A5-8333-3F07C9B44513}"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0F78-6FD5-4CB2-87B9-DC97FC0CC4B4}"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9EC7-010E-48B7-9E96-E53D94606ABD}"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7A8D-20C8-4375-B101-91D17007C75F}"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238F-54E3-4342-A0BC-8D60153CDAD3}"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7A1A-13FD-43A0-8839-32BF46BA5BAA}"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9456-2DB1-47BB-8C44-4C717ED7EF45}"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AFF0-967F-42EE-BA05-DD6C2246F9B6}"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02A1-C583-4305-8CAE-A20D29144B88}"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BF74-1C64-4FA5-8099-F3F6A5234199}"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576E-A4C8-4BF1-BBB1-8F4EE7B7C51D}"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B585-4916-4AA8-9B91-75DBDB4F0084}"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AFBE-6154-41AA-945C-195B9DBF88A6}"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811A-2FDD-450C-B17D-B5BF645DBD8F}"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8243-D42C-4556-9D31-4C15382D5B54}"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33FE-D1E5-4922-930F-F57DAC4BFB88}"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ED81-5B1F-406D-979A-10391C6FD5FE}"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EFEA-9003-4151-9124-CC13F21C18F4}"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683D-EC81-48E5-B1E2-3B10698E9919}"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1796-8C63-40BA-9842-991A2D6429D4}"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3DA5-18F2-4C55-A071-28CDD9D2D15B}"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0692-C92A-4C2F-8EF8-2667392BB635}"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A0C5-4D81-48D1-A167-724153F159D7}"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BC2E-107E-45AE-AF25-206C03462EF6}"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F4B95-948E-41A1-A3DD-B5644AF95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D080-A814-476B-BFEA-ADF5C6C59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244835-AD2C-40A0-9288-46A4D7F803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284223-83AB-491D-9A75-A9A57D5C7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C4C9BD-1221-4207-B945-2E4138C773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91F84C-3962-469B-BC60-5780BBE52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1E396-5D0F-47E4-9A34-C2E2E8A63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EE982E-F6E3-465E-9D9B-814690B66B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6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58483D-C803-494C-99C0-A817D9CBDA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6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050974-62F2-45C3-8C8A-890B080125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790846-D118-41F5-87B9-3AB03293E3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A926D1-D32C-4F51-BBA4-4435BC65DD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F69C8-A4E0-4BDC-8EEF-6F25F5039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5740B4-AC2E-424A-8B40-38758CE4BB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9D38BD-6B74-47D1-9D72-B53834C8B6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2CBD90-B38E-469E-8992-E1BDD86624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3C34A1-9CFB-4635-9611-0EF8ADD8CD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1855A4-C6C2-438F-8A35-801D017B1D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01FE42-8F1D-439A-91DE-17E0ADE7E9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97811D-5FD9-4704-B85B-D1A1A5ECB9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CE7100-77C5-4EC7-A901-0621485DA1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E780D5-EBDF-4D86-A8AD-AF331DC352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806D53-585C-4DF3-AB40-E6B18C9FB6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64A8E-C7D5-4B26-8B19-12F702A58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1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E6231A-5365-4038-A4D7-2F033A72EC8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F8E63C-3775-4B3C-B45F-4A52BC237A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2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251CAA-8926-4F43-B69E-9DD8AA227D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0DF330-0639-4B7E-9128-AFC534472A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393EF3-EEAA-44A9-9D98-34AE236600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FFB6E7-0E0F-4821-B221-53F7E6F763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CA4512-B3B8-4C8D-8AB1-71C36345C9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47F8A9-7ED9-40B8-AA85-68F40E05C0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B4FA87-3406-4421-9668-0DEC6E506F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4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39E2C9-731E-4231-831B-7319EEA6E9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4BD34-191A-463E-A870-830EA21D8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4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59AE35-F0DD-42AC-B528-0474E6C471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4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078047-FDFC-48F7-91DE-00220F3D43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5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655CB1-80FD-4559-AAA2-486DE97939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F4C091-7AD3-4ED0-AAAF-09CEFEF1956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6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E0560E-1460-4CF5-B3D8-71EEBB9A67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F33B70-6B40-491B-91EC-E8D62F4E8A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6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8E4751-B844-4D02-AA8F-7AE03B1E94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34C61A-0D6D-4C73-A5EE-5713F57C7B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BA892E-05B1-4AE7-97CC-92169504FA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7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8AF6A1-C4A9-4FB0-BBD4-53FAE03878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F1861-E3CB-45E4-9DD7-C287AD049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7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1E7C9B-DB2D-4064-A3F5-7F5559F21F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8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1D0718-4351-45D2-B4B6-6C34D33F38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8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3642A5-2234-4A70-820D-7EBD25D3F8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8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B7DFBC-DB38-478C-B276-E999D5C487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9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AF34B7-D922-45E0-BFF7-F8C31379CE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296D653-B930-4DA9-AC42-C494E1F83A0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06"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D88535-F437-468E-8535-8CB7D3702E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56230E-503A-4A1E-8B35-8FE58B4B9C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11"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F23AF9-15F9-4975-8580-B41DE8FDC9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79D118-252A-444C-81EC-46C4CA8E3C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CF0D9-C54A-4201-8FEE-97256D86D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735944-4691-4A72-BDBD-86F7340ED3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16"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17"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95A230-9CD0-4A51-8410-C12D8B9A2E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1"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DBEC36-6579-4DBB-BF11-266F120775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2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5"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F35C50-90F8-4EF4-968B-49A64B12CE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27"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8"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CC7B1B-D43E-49AD-9A39-B446B4193B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2"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3"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D78DA6-36F9-4DCE-9915-ED8188AD5D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6"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7"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8"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9"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0"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ACAE4F-4700-4614-926F-008D1DD5A7F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D5BA7-D557-4135-B91C-EC20C7793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0EE87-7D58-4BDE-BCB2-671DC48CE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BB245-A262-479C-B561-ADA9C3DAF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89175-31B3-430C-BEE3-DF3EBB466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E143B-B6D4-4FA3-AF0B-4C0227295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CADBF-14FD-4510-A9E2-2D1B29FB4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34542-BA10-4DA8-94DE-449C1DB87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2E100-97D3-4AA6-B925-14A90ACF8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96531-B2DE-4C81-891A-2833FAE6D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13421-0BD9-46EA-82BC-2164F8DE9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8B9B7E-2F5F-4B5B-B74C-0BF5685B64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6"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D5AD6-A284-4C29-8834-0A7E014DE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F4DCB-8175-4C42-BC49-0644FE8F6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1"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7CCE0-80C3-436D-8CF2-AF5F42F79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7698E6-B570-46FF-B273-F36F9F6C32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C477C-3F17-48D7-A519-17B67A526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F1A86-22AD-4C49-9E98-F7D513C13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6"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367B7-AD1B-453B-B7B4-C26AB583B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249D9-44D7-4E3D-87FF-73E466D1D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98C08-B863-4117-A132-12B784DD0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224D54-05D7-4352-977D-567E09A355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E8872E-F99F-47E1-B104-DD3106991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5A4FB6-F0D2-4DCA-A23D-8CB6FA0D92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9140C8-657A-4DD7-96F3-797D8080CA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397117-5EBE-4009-9A51-B6CEA5926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3D63E6-FF42-4D8A-B54A-7E727699B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CB28-66AE-4A0C-A879-E357E5477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FAC89-53D8-4B5E-B7B8-037ACA7144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AC54A-DA41-4A1F-8904-A53D144D8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95EACB-B395-4347-8A78-351A5B59F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DE098-B889-4859-BBC3-8B96FAB33D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C061B-11C3-45FC-93A8-FB67251F0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769EB-CC1A-4E0F-8E82-63A21BBAC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5F117-BFC7-4199-B473-331977E7A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1D926E-C998-4935-AC8A-FB0791A9E8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1AAF3D-DD69-4957-8119-D2121D6A70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1E589C-F949-49A7-BBF0-D0EF2FF48D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CEF7F-B91E-4E69-BD12-6CE90DE73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6EFC59-0D96-481A-AC95-BAA9C67D64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F110FE-A787-40D7-BB69-63C96F343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77688-C01F-4744-A3AD-263057F27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D5E99-640E-4C0E-B724-85281736D6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DD4157-3247-43AD-A46B-33918C463D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60E29-4147-45D4-9D71-DE5DCFC93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9344C-3980-4AC7-A5DB-E701BC280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D9101-600E-47BB-9C8E-A8D256125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D08B2-1B43-462A-83A2-0C9030AB80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51F77C-3E08-4434-8F3B-943D88085E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E62B-2AC9-484D-B1CC-1E8A8EFDD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1721EB-29BD-4E5C-A332-13177DBBF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CDC057-94AB-41A4-8D23-5EA1E8E913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AFB0D7-AC2F-462D-94FE-50A2B8587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D96AE-73FD-4767-B9F4-4188CFCF9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D6D1B-675C-4626-A354-817F86CA86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09CF0-F72F-419C-8848-6F3ABD6FBA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675DFD-AC0F-400F-AA51-853D970E12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4F6E8-72B1-41FE-9A37-5E691536E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E91CA-5832-4BDE-953F-7020303148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0BBA3-32EC-4704-BC0E-3B8BBF014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213B-E293-43E6-9197-8B8C766E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4FF03-2D17-4CFF-BB2D-0929484895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C2EF21-6ADE-4FDC-BA86-F01920AD2C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A5FF5D-6D46-4C2A-ACB6-63E5274C8C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4AC893-90D8-468B-ABF0-F163CE6F37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D0AF4-E74B-452C-A175-F99CD89884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8C0CC-BD8D-43BD-8D67-312E3E70FE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0F2A30-005F-4FDA-BCBC-242C9553A9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E4EA91-F1D3-46FF-86FF-48F0CFE46C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D3E46-587A-48F2-8290-BF108BB34D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4278E-9B35-49C3-9367-BE181BF08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72C1D-1574-4B57-B8BB-8B4ACBED8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E9245-51F7-4511-9C85-6AEAFEC3D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69168D-918C-4B63-82BB-B26794B6A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88BEB7-E06F-459C-9DD6-8A8C713D2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5BCF15-2754-4920-BD95-BF3969DD67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53E2E2-83C5-4A68-B217-439D026135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F91DDF-83E0-48ED-803F-8A1016EFE5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1"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CB5886-CCD7-4FCB-952F-E794B3932A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68CF2-7DAF-4C49-8284-F5F8162E8F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6"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B1A27-ABCB-499C-B81C-A2B9705618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A057E5-B265-46DA-88BE-963E1F181A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31C7-5316-482D-84D4-BCEC37BF2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48B72-A326-41EB-8ED8-FB1046EC6E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1"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2"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26738-F212-4A88-8FA9-79CF02DC7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6"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9598C3-D8DC-48D6-BFD8-6B0887D71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FEF22C-077E-4C37-99B2-8402A397BF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2"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3"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2F9750-0708-451B-8F46-E14C9F516B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7"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8"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EF447B-E573-49A1-9946-D3456C4E24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0"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1"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2"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5"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4C415A-6925-4F4D-A1B9-6DA09DF0FC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DBB86E-51AC-40CA-B941-C0CFDC919C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685BBB-A7FF-4D38-B29C-4206D17D91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AAD43F-E4DB-4ABD-9152-52FB820D8B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9B06-01CD-4A9A-907A-87DD0A2B9A8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37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7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C036-2D6E-4E5D-B791-02549B2C69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19"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20"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2"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3AAD-52C0-49BC-B86F-21F7F50CD48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6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6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4C04-25B9-4D21-9312-7B75BD3C48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02"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4"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3232-D3DF-43B4-9EF9-26F7E081C6A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57FD-833A-47B2-BC86-2BE3AFC3CC1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58D6-B107-4196-B627-F9E7DF7E27B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5A7D-88CB-41E4-BA18-6892670E4DC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7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7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B1B4-DAB4-4056-8B8D-C12CD0D634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1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15"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839E-ADA4-4668-9FD6-F6971112AF8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5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5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03D0-21A8-4C3F-B132-558CC2A17B4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9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9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A80E-6420-4829-AA83-5ADAFF25C56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33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3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B692-C052-46A9-858E-9F25EF39E53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560" y="140760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66"/>
                </a:solidFill>
                <a:latin typeface="Arial"/>
              </a:rPr>
              <a:t>Arquitectura de Seguridad</a:t>
            </a:r>
            <a:endParaRPr b="0" lang="en-US" sz="4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MZ y Screened Subnets</a:t>
            </a:r>
            <a:endParaRPr b="0" lang="en-US" sz="2800" spc="-1" strike="noStrike">
              <a:solidFill>
                <a:srgbClr val="006666"/>
              </a:solidFill>
              <a:latin typeface="Arial"/>
            </a:endParaRPr>
          </a:p>
        </p:txBody>
      </p:sp>
      <p:sp>
        <p:nvSpPr>
          <p:cNvPr id="56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l término DMZ se origino en la guerra de corea cuando una franja de tierra en el paralelo 38 esta fuera de los limites militarmente hablando. Una DMZ es un area insegura entre areas seguras. Justo como la DMZ en Corea estaba enfrente de cualesquiera defensas, la DMZ cuando es aplicada a redes esta fuera del firewa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MZ y Screened Subnets</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6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r>
              <a:rPr b="0" lang="es-ES" sz="2100" spc="-1" strike="noStrike">
                <a:solidFill>
                  <a:srgbClr val="000000"/>
                </a:solidFill>
                <a:latin typeface="Verdana"/>
              </a:rPr>
              <a:t>Un </a:t>
            </a:r>
            <a:r>
              <a:rPr b="0" lang="es-ES" sz="2000" spc="-1" strike="noStrike">
                <a:solidFill>
                  <a:srgbClr val="000000"/>
                </a:solidFill>
                <a:latin typeface="Verdana"/>
              </a:rPr>
              <a:t>firewall o un dispositivo comparable protegido del tráfico protege a una screened subnet que es conectada directamente a este. Recuerde: Una DMZ esta enfrente de un firewall, mientras una screened subnet esta detrás de un firewall. Note la diferencia en la siguiente figura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a screened subnet es un red aislada que esta conectada a un interface dedicado de un firewall u otro dispositivo de filtrado. La screened subnet es frecuentemente usada para segregar servidores que necesitan ser accesibles desde internet de sistemas que son usados unícamente por usuarios de la organización. </a:t>
            </a:r>
            <a:r>
              <a:rPr b="0" lang="es-E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MZ y Screened subnets</a:t>
            </a:r>
            <a:endParaRPr b="0" lang="en-US" sz="2800" spc="-1" strike="noStrike">
              <a:solidFill>
                <a:srgbClr val="006666"/>
              </a:solidFill>
              <a:latin typeface="Arial"/>
            </a:endParaRPr>
          </a:p>
        </p:txBody>
      </p:sp>
      <p:pic>
        <p:nvPicPr>
          <p:cNvPr id="570" name="Picture 4" descr=""/>
          <p:cNvPicPr/>
          <p:nvPr/>
        </p:nvPicPr>
        <p:blipFill>
          <a:blip r:embed="rId1"/>
          <a:stretch/>
        </p:blipFill>
        <p:spPr>
          <a:xfrm>
            <a:off x="2843280" y="1628640"/>
            <a:ext cx="45687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MZ y Screened Subnets</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7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	</a:t>
            </a:r>
            <a:r>
              <a:rPr b="0" lang="es-ES" sz="2000" spc="-1" strike="noStrike">
                <a:solidFill>
                  <a:srgbClr val="000000"/>
                </a:solidFill>
                <a:latin typeface="Verdana"/>
              </a:rPr>
              <a:t>En la Screened subnet tipícamente residen servicios públicos incluyendo DNS, mail y la web. A nosotros nos gustaría pensar estos servidores como </a:t>
            </a:r>
            <a:r>
              <a:rPr b="1" i="1" lang="es-ES" sz="2000" spc="-1" strike="noStrike">
                <a:solidFill>
                  <a:srgbClr val="000000"/>
                </a:solidFill>
                <a:latin typeface="Verdana"/>
              </a:rPr>
              <a:t>bastion Hosts</a:t>
            </a:r>
            <a:r>
              <a:rPr b="0" lang="es-ES" sz="2000" spc="-1" strike="noStrike">
                <a:solidFill>
                  <a:srgbClr val="000000"/>
                </a:solidFill>
                <a:latin typeface="Verdana"/>
              </a:rPr>
              <a:t> Una bastion es una posición bien fortificada.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Cuando es aplicada a hosts dentro de la red, fortificación envuelve fortalecer el sistema operativo y las aplicaciones de acuerdo a buenas practicas.</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efensa en profundidad</a:t>
            </a:r>
            <a:r>
              <a:rPr b="0" lang="es-ES" sz="2800" spc="-1" strike="noStrike">
                <a:solidFill>
                  <a:srgbClr val="006666"/>
                </a:solidFill>
                <a:latin typeface="Arial"/>
              </a:rPr>
              <a:t>	</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74" name="PlaceHolder 2"/>
          <p:cNvSpPr>
            <a:spLocks noGrp="1"/>
          </p:cNvSpPr>
          <p:nvPr>
            <p:ph/>
          </p:nvPr>
        </p:nvSpPr>
        <p:spPr>
          <a:xfrm>
            <a:off x="1369800" y="1844640"/>
            <a:ext cx="7313400" cy="41148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	</a:t>
            </a:r>
            <a:r>
              <a:rPr b="0" lang="es-ES" sz="2000" spc="-1" strike="noStrike">
                <a:solidFill>
                  <a:srgbClr val="000000"/>
                </a:solidFill>
                <a:latin typeface="Verdana"/>
              </a:rPr>
              <a:t>La seguridad de la red es como una cebolla. Cuando tu desconchas la capa superior algo permanece bajo esta. La defensa en profundidad ayuda a proteger recursos de la red aun si una de las capas esta protegida.</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Nosotros operamos en un mundo real de desconfiguraciones, software bugs, empleados  disgustados y sobrecarga de administradores de sistemas. Además cualquier diseño de seguridad practico necesita acomodarse a las necesidades del negocio.</a:t>
            </a:r>
            <a:r>
              <a:rPr b="0" lang="es-ES" sz="2000" spc="-1" strike="noStrike">
                <a:solidFill>
                  <a:srgbClr val="000000"/>
                </a:solidFill>
                <a:latin typeface="Verdana"/>
              </a:rPr>
              <a:t>	</a:t>
            </a:r>
            <a:r>
              <a:rPr b="0" lang="es-ES" sz="2000" spc="-1" strike="noStrike">
                <a:solidFill>
                  <a:srgbClr val="000000"/>
                </a:solidFill>
                <a:latin typeface="Verdana"/>
              </a:rPr>
              <a:t>	</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efensa en profundidad</a:t>
            </a:r>
            <a:endParaRPr b="0" lang="en-US" sz="28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Verdana"/>
              </a:rPr>
              <a:t>	</a:t>
            </a:r>
            <a:r>
              <a:rPr b="0" lang="es-ES" sz="2400" spc="-1" strike="noStrike">
                <a:solidFill>
                  <a:srgbClr val="000000"/>
                </a:solidFill>
                <a:latin typeface="Verdana"/>
              </a:rPr>
              <a:t>Esto quizá requiera de nosotros abrir ciertos puertos firewall, dejar servicios adicionales ejecutandose en el servidor o prevenirnos de aplicar el último parche de seguridad</a:t>
            </a:r>
            <a:endParaRPr b="0" lang="en-US" sz="2400" spc="-1" strike="noStrike">
              <a:solidFill>
                <a:srgbClr val="000000"/>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Que exactamente una defensa en profundidad supone? La repuesta es:</a:t>
            </a:r>
            <a:endParaRPr b="0" lang="en-US" sz="2400" spc="-1" strike="noStrike">
              <a:solidFill>
                <a:srgbClr val="000000"/>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gn="just">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perimetro</a:t>
            </a:r>
            <a:endParaRPr b="0" lang="en-US" sz="2400" spc="-1" strike="noStrike">
              <a:solidFill>
                <a:srgbClr val="000000"/>
              </a:solidFill>
              <a:latin typeface="Verdana"/>
            </a:endParaRPr>
          </a:p>
          <a:p>
            <a:pPr lvl="1" marL="743040" indent="-285840" algn="just">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red Interna</a:t>
            </a:r>
            <a:endParaRPr b="0" lang="en-US" sz="2400" spc="-1" strike="noStrike">
              <a:solidFill>
                <a:srgbClr val="000000"/>
              </a:solidFill>
              <a:latin typeface="Verdana"/>
            </a:endParaRPr>
          </a:p>
          <a:p>
            <a:pPr lvl="1" marL="743040" indent="-285840" algn="just">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factor humano</a:t>
            </a:r>
            <a:r>
              <a:rPr b="0" lang="es-ES" sz="2000" spc="-1" strike="noStrike">
                <a:solidFill>
                  <a:srgbClr val="000000"/>
                </a:solidFill>
                <a:latin typeface="Verdana"/>
              </a:rPr>
              <a:t>	</a:t>
            </a:r>
            <a:r>
              <a:rPr b="0" lang="es-E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Proxy firewall</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 servidor proxy se ejecuta sobre un dual-homed bastion host y soporta uno a mas protocolos de internet ( ver figura en pagina siguiente ). Bastion hosts son sistemas fortalecidos que son configurados para funciones de accesabilidad en Internet. Una compuerta dual-homed consiste de un sistema de hosts con dos interfaces de red una para la red interna protegida y otra para la red externa.</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stos hosts no permiten el tráfico directo entre redes y pueden ser usados para realizar logging y funciones de auditoría sobre el tráfic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Proxy Firewall</a:t>
            </a:r>
            <a:endParaRPr b="0" lang="en-US" sz="2800" spc="-1" strike="noStrike">
              <a:solidFill>
                <a:srgbClr val="006666"/>
              </a:solidFill>
              <a:latin typeface="Arial"/>
            </a:endParaRPr>
          </a:p>
        </p:txBody>
      </p:sp>
      <p:sp>
        <p:nvSpPr>
          <p:cNvPr id="580"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81" name="Picture 4" descr=""/>
          <p:cNvPicPr/>
          <p:nvPr/>
        </p:nvPicPr>
        <p:blipFill>
          <a:blip r:embed="rId1"/>
          <a:stretch/>
        </p:blipFill>
        <p:spPr>
          <a:xfrm>
            <a:off x="1692360" y="2637000"/>
            <a:ext cx="6696000" cy="2139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Proxy Firewalls</a:t>
            </a:r>
            <a:endParaRPr b="0" lang="en-US" sz="2800" spc="-1" strike="noStrike">
              <a:solidFill>
                <a:srgbClr val="006666"/>
              </a:solidFill>
              <a:latin typeface="Arial"/>
            </a:endParaRPr>
          </a:p>
        </p:txBody>
      </p:sp>
      <p:sp>
        <p:nvSpPr>
          <p:cNvPr id="58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	</a:t>
            </a:r>
            <a:r>
              <a:rPr b="0" lang="es-ES" sz="2000" spc="-1" strike="noStrike">
                <a:solidFill>
                  <a:srgbClr val="000000"/>
                </a:solidFill>
                <a:latin typeface="Verdana"/>
              </a:rPr>
              <a:t>Este tipo de servicios/servidores proveen funcionalidad para usuarios internos y externos mientras están fuera del perímetro de la red Interna. La figura de la página siguiente provee una ilustración de servidores múltiples fuera de una red protegida.</a:t>
            </a: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Idealmente un bastion host sería usado para direccionar un servicio proxy, el principio de separación de la seguridad. Ninguna cuenta de usuario compilador o programas deben estar en los bastion host. Ademas cualquier servicio no usado debe ser deshabilitado.</a:t>
            </a:r>
            <a:endParaRPr b="0" lang="en-US" sz="20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Proxy firewalls</a:t>
            </a:r>
            <a:endParaRPr b="0" lang="en-US" sz="2800" spc="-1" strike="noStrike">
              <a:solidFill>
                <a:srgbClr val="006666"/>
              </a:solidFill>
              <a:latin typeface="Arial"/>
            </a:endParaRPr>
          </a:p>
        </p:txBody>
      </p:sp>
      <p:sp>
        <p:nvSpPr>
          <p:cNvPr id="585"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586" name="Picture 4" descr=""/>
          <p:cNvPicPr/>
          <p:nvPr/>
        </p:nvPicPr>
        <p:blipFill>
          <a:blip r:embed="rId1"/>
          <a:stretch/>
        </p:blipFill>
        <p:spPr>
          <a:xfrm>
            <a:off x="1763640" y="2205000"/>
            <a:ext cx="6120000" cy="301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Indice</a:t>
            </a:r>
            <a:endParaRPr b="0" lang="en-US" sz="2800" spc="-1" strike="noStrike">
              <a:solidFill>
                <a:srgbClr val="006666"/>
              </a:solidFill>
              <a:latin typeface="Arial"/>
            </a:endParaRPr>
          </a:p>
        </p:txBody>
      </p:sp>
      <p:sp>
        <p:nvSpPr>
          <p:cNvPr id="550" name="PlaceHolder 2"/>
          <p:cNvSpPr>
            <a:spLocks noGrp="1"/>
          </p:cNvSpPr>
          <p:nvPr>
            <p:ph/>
          </p:nvPr>
        </p:nvSpPr>
        <p:spPr>
          <a:xfrm>
            <a:off x="1331640" y="1700280"/>
            <a:ext cx="731340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ntroducción</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Fundamentos</a:t>
            </a:r>
            <a:r>
              <a:rPr b="0" lang="es-ES_tradnl" sz="2000" spc="-1" strike="noStrike">
                <a:solidFill>
                  <a:srgbClr val="000000"/>
                </a:solidFill>
                <a:latin typeface="Verdana"/>
              </a:rPr>
              <a:t> de seguridad perimetral</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Fundamentos de diseñ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undamentos de diseño </a:t>
            </a:r>
            <a:endParaRPr b="0" lang="en-US" sz="2800" spc="-1" strike="noStrike">
              <a:solidFill>
                <a:srgbClr val="006666"/>
              </a:solidFill>
              <a:latin typeface="Arial"/>
            </a:endParaRPr>
          </a:p>
        </p:txBody>
      </p:sp>
      <p:sp>
        <p:nvSpPr>
          <p:cNvPr id="58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l diseño consiste en a partir de una red desde cero valorando la resistencia de una infraestructura existente, determinando donde pones un dispositivo de seguridad o decidir si emplear uno despues de todo. Esta parte se concentra en los pros y contras del diseño del perimetro de seguridad.</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Para cumplir tal objetivo tu necesitas determinar:</a:t>
            </a:r>
            <a:endParaRPr b="0" lang="en-US" sz="2000" spc="-1" strike="noStrike">
              <a:solidFill>
                <a:srgbClr val="000000"/>
              </a:solidFill>
              <a:latin typeface="Verdana"/>
            </a:endParaRPr>
          </a:p>
          <a:p>
            <a:pPr lvl="1" marL="743040" indent="-285840" algn="just">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Que recursos deben ser protegidos</a:t>
            </a:r>
            <a:endParaRPr b="0" lang="en-US" sz="1800" spc="-1" strike="noStrike">
              <a:solidFill>
                <a:srgbClr val="000000"/>
              </a:solidFill>
              <a:latin typeface="Verdana"/>
            </a:endParaRPr>
          </a:p>
          <a:p>
            <a:pPr lvl="1" marL="743040" indent="-285840" algn="just">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ntra quien tu te estas protegiendo</a:t>
            </a:r>
            <a:endParaRPr b="0" lang="en-US" sz="1800" spc="-1" strike="noStrike">
              <a:solidFill>
                <a:srgbClr val="000000"/>
              </a:solidFill>
              <a:latin typeface="Verdana"/>
            </a:endParaRPr>
          </a:p>
          <a:p>
            <a:pPr lvl="1" marL="743040" indent="-285840" algn="just">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uales son las necesidades de tu negocio</a:t>
            </a:r>
            <a:endParaRPr b="0" lang="en-US" sz="1800" spc="-1" strike="noStrike">
              <a:solidFill>
                <a:srgbClr val="000000"/>
              </a:solidFill>
              <a:latin typeface="Verdana"/>
            </a:endParaRPr>
          </a:p>
          <a:p>
            <a:pPr lvl="1" marL="743040" indent="-285840" algn="just">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uales son tus necesidades politica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undamentos de diseño</a:t>
            </a:r>
            <a:endParaRPr b="0" lang="en-US" sz="2800" spc="-1" strike="noStrike">
              <a:solidFill>
                <a:srgbClr val="006666"/>
              </a:solidFill>
              <a:latin typeface="Arial"/>
            </a:endParaRPr>
          </a:p>
        </p:txBody>
      </p:sp>
      <p:sp>
        <p:nvSpPr>
          <p:cNvPr id="59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Decidirnos por una arquitectura de defensa en particular es una tarea complicada y gratificante que requiere tomar decisiones difíciles donde la funcionalidad y la seguridad tienden a estar reñidas una con la otra.</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Tomar decisiones de diseño de seguridad envuelve resolver conflictos que incorporan aspectos de la red y de la infraestructura de aplicaciones tales como utilidad, confiabilidad, manejabilidad y coste.</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 y Router</a:t>
            </a:r>
            <a:endParaRPr b="0" lang="en-US" sz="2800" spc="-1" strike="noStrike">
              <a:solidFill>
                <a:srgbClr val="006666"/>
              </a:solidFill>
              <a:latin typeface="Arial"/>
            </a:endParaRPr>
          </a:p>
        </p:txBody>
      </p:sp>
      <p:sp>
        <p:nvSpPr>
          <p:cNvPr id="59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l firewall y el router son dos de los componentes de seguridad perimetral mas comunes. A continuación nos concentraremos sobre la relación entre el router y el firewall y veremos varias configuraciones.</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n la página siguiente ilustra una de las formas mas comunes de emplear un router y un firewall juntos. La subnet corporativa hosts “Sistemas Privados” usados por los usuarios internos y la Screened Subnet “Servidores publicos” que necesitan ser accesibles desde internet</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 sz="2400" spc="-1" strike="noStrike">
                <a:solidFill>
                  <a:srgbClr val="006666"/>
                </a:solidFill>
                <a:latin typeface="Arial"/>
              </a:rPr>
              <a:t> </a:t>
            </a:r>
            <a:r>
              <a:rPr b="0" lang="es-ES" sz="2400" spc="-1" strike="noStrike">
                <a:solidFill>
                  <a:srgbClr val="006666"/>
                </a:solidFill>
                <a:latin typeface="Arial"/>
              </a:rPr>
              <a:t>Firewall y router</a:t>
            </a:r>
            <a:endParaRPr b="0" lang="en-US" sz="2400" spc="-1" strike="noStrike">
              <a:solidFill>
                <a:srgbClr val="006666"/>
              </a:solidFill>
              <a:latin typeface="Arial"/>
            </a:endParaRPr>
          </a:p>
        </p:txBody>
      </p:sp>
      <p:pic>
        <p:nvPicPr>
          <p:cNvPr id="594" name="Picture 4" descr=""/>
          <p:cNvPicPr/>
          <p:nvPr/>
        </p:nvPicPr>
        <p:blipFill>
          <a:blip r:embed="rId1"/>
          <a:stretch/>
        </p:blipFill>
        <p:spPr>
          <a:xfrm>
            <a:off x="2411280" y="1773360"/>
            <a:ext cx="6193080" cy="4059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 y VPN</a:t>
            </a:r>
            <a:r>
              <a:rPr b="0" lang="es-ES" sz="2800" spc="-1" strike="noStrike">
                <a:solidFill>
                  <a:srgbClr val="006666"/>
                </a:solidFill>
                <a:latin typeface="Arial"/>
              </a:rPr>
              <a:t>	</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9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Firewalls son generalmente responsables de controlar el acceso a los recursos y dispositivos VPN son responsables de asegurar enlaces de comunicación entre hosts o redes.</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xaminar como VPNs interactuan con firewall es importante por varias razones:</a:t>
            </a:r>
            <a:endParaRPr b="0" lang="en-US" sz="2000" spc="-1" strike="noStrike">
              <a:solidFill>
                <a:srgbClr val="000000"/>
              </a:solidFill>
              <a:latin typeface="Verdana"/>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gn="just">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raducción de direcciones de red NAT podría ser incompatible con algunas implementaciones VPN dependiendo de la arquitectura de red.</a:t>
            </a:r>
            <a:endParaRPr b="0" lang="en-US" sz="2000" spc="-1" strike="noStrike">
              <a:solidFill>
                <a:srgbClr val="000000"/>
              </a:solidFill>
              <a:latin typeface="Verdana"/>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 y VPN</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9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lgn="just">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VPNs podrían crear tuneles a través de tu perimetro lo que haría dificil para el firewall asegurar restricciones de acceso sobre trafico encriptado</a:t>
            </a:r>
            <a:endParaRPr b="0" lang="en-US" sz="2000" spc="-1" strike="noStrike">
              <a:solidFill>
                <a:srgbClr val="000000"/>
              </a:solidFill>
              <a:latin typeface="Verdan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os finales VPN tienen acceso a datos con texto claro debido a que dispositivos VPN son los unicos que decriptan o autentican este</a:t>
            </a:r>
            <a:endParaRPr b="0" lang="en-US" sz="2000" spc="-1" strike="noStrike">
              <a:solidFill>
                <a:srgbClr val="000000"/>
              </a:solidFill>
              <a:latin typeface="Verdan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gn="just">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VPNs protegiendo la confidencialidad de datos encriptados pueden ser usados para pasar por IDS sin ser detectad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s Multiples</a:t>
            </a:r>
            <a:r>
              <a:rPr b="0" lang="es-ES" sz="2400" spc="-1" strike="noStrike">
                <a:solidFill>
                  <a:srgbClr val="006666"/>
                </a:solidFill>
                <a:latin typeface="Arial"/>
              </a:rPr>
              <a:t>	</a:t>
            </a:r>
            <a:endParaRPr b="0" lang="en-US" sz="2400" spc="-1" strike="noStrike">
              <a:solidFill>
                <a:srgbClr val="006666"/>
              </a:solidFill>
              <a:latin typeface="Arial"/>
            </a:endParaRPr>
          </a:p>
        </p:txBody>
      </p:sp>
      <p:sp>
        <p:nvSpPr>
          <p:cNvPr id="60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Algunos diseños reclaman el uso de múltiples firewalls para proteger la red. Esto tiene sentido cuando tu quieres proveer diferentes niveles de protección para recursos con diferentes necesidades de seguridad. Tales escenarios podrían ser firewalls en línea, uno de tras de otro para segmentar recursos con diferentes requerimientos de seguridad o en paralelo una al lado del otro y equidistantes de Internet.</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Los costos de configurar y mantener la red aumentan dramáticamente cuando se añaden mas firewalls</a:t>
            </a: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s en linea </a:t>
            </a:r>
            <a:endParaRPr b="0" lang="en-US" sz="2800" spc="-1" strike="noStrike">
              <a:solidFill>
                <a:srgbClr val="006666"/>
              </a:solidFill>
              <a:latin typeface="Arial"/>
            </a:endParaRPr>
          </a:p>
        </p:txBody>
      </p:sp>
      <p:sp>
        <p:nvSpPr>
          <p:cNvPr id="6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	</a:t>
            </a:r>
            <a:r>
              <a:rPr b="0" lang="es-ES" sz="2000" spc="-1" strike="noStrike">
                <a:solidFill>
                  <a:srgbClr val="000000"/>
                </a:solidFill>
                <a:latin typeface="Verdana"/>
              </a:rPr>
              <a:t>Este tipo de arquitectura no es poco común en una configuración. Considere la arquitectura típica en la cual un simple firewall esta situado detrás del border router</a:t>
            </a:r>
            <a:r>
              <a:rPr b="0" lang="es-ES" sz="2900" spc="-1" strike="noStrike">
                <a:solidFill>
                  <a:srgbClr val="000000"/>
                </a:solidFill>
                <a:latin typeface="Verdana"/>
              </a:rPr>
              <a:t>.</a:t>
            </a:r>
            <a:r>
              <a:rPr b="0" lang="es-ES" sz="2000" spc="-1" strike="noStrike">
                <a:solidFill>
                  <a:srgbClr val="000000"/>
                </a:solidFill>
                <a:latin typeface="Verdana"/>
              </a:rPr>
              <a:t> Si tu utilizas la funcionalidad de las listas de acceso del router para controlar el acceso a los recursos en lugar del filtrado de paquetes básico, el router esta actuando de forma parecida a un firewall.</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Si la localización de un dispositivo parecido a un firewall parece un desperdicio. Otra configuración en línea presentada en la figura de la pagina siguiente tiene mas senti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s en linea</a:t>
            </a:r>
            <a:endParaRPr b="0" lang="en-US" sz="2800" spc="-1" strike="noStrike">
              <a:solidFill>
                <a:srgbClr val="006666"/>
              </a:solidFill>
              <a:latin typeface="Arial"/>
            </a:endParaRPr>
          </a:p>
        </p:txBody>
      </p:sp>
      <p:pic>
        <p:nvPicPr>
          <p:cNvPr id="604" name="Picture 4" descr=""/>
          <p:cNvPicPr/>
          <p:nvPr/>
        </p:nvPicPr>
        <p:blipFill>
          <a:blip r:embed="rId1"/>
          <a:stretch/>
        </p:blipFill>
        <p:spPr>
          <a:xfrm>
            <a:off x="2340000" y="1954080"/>
            <a:ext cx="5164200" cy="4499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s en paralelo</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6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Muchas veces se podría estar obligado a configurar firewalls en paralelo uno con el otro. En esta configuración, los firewalls protegen recursos con diferentes necesidades de seguridad. Cuando los firewalls son configurados en linea los paquetes que son destinados a los hosts dentro de la organización podrían ser retrasados debido a que necesitan ir a través de varios dispositivos de control de acceso. Con firewalls paralelos, esto no es un asunto significante debido a que los firewalls estan equidistantes de Interne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Introducción</a:t>
            </a:r>
            <a:r>
              <a:rPr b="0" lang="es-ES" sz="3600" spc="-1" strike="noStrike">
                <a:solidFill>
                  <a:srgbClr val="006666"/>
                </a:solidFill>
                <a:latin typeface="Arial"/>
              </a:rPr>
              <a:t>	</a:t>
            </a:r>
            <a:r>
              <a:rPr b="0" lang="es-ES" sz="3600" spc="-1" strike="noStrike">
                <a:solidFill>
                  <a:srgbClr val="006666"/>
                </a:solidFill>
                <a:latin typeface="Arial"/>
              </a:rPr>
              <a:t>	</a:t>
            </a:r>
            <a:endParaRPr b="0" lang="en-US" sz="36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	</a:t>
            </a:r>
            <a:endParaRPr b="0" lang="en-US" sz="29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l objetivo de este trabajo es el diseño, utilización y mantenimiento de una arquitectura de red confiable </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Proteger una red no es una tarea fácil; esta requiere del conocimiento de distintas tecnologías y como se relacionan unas con otras. Es por ello  que comenza-</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remos la exposición breve de los diferentes compo-nentes que configuran una arquitectura de red luego veremos como integrar estos dispositivos uno con otro para proporcionar un todo unificad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s en paralelo</a:t>
            </a:r>
            <a:endParaRPr b="0" lang="en-US" sz="2800" spc="-1" strike="noStrike">
              <a:solidFill>
                <a:srgbClr val="006666"/>
              </a:solidFill>
              <a:latin typeface="Arial"/>
            </a:endParaRPr>
          </a:p>
        </p:txBody>
      </p:sp>
      <p:sp>
        <p:nvSpPr>
          <p:cNvPr id="60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n una configuración paralela nosotros podemos emplear firewalls que son tuneados cada uno especifícamente para recursos que ellos estan protegiendo. Uno de tales escenarios se muestra en la página siguiente. Aquí mostramos una compuerta de aplicación y un stateful firewall cada uno protegiendo un conjunto diferente de sistemas.</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s en paralelo</a:t>
            </a:r>
            <a:endParaRPr b="0" lang="en-US" sz="2800" spc="-1" strike="noStrike">
              <a:solidFill>
                <a:srgbClr val="006666"/>
              </a:solidFill>
              <a:latin typeface="Arial"/>
            </a:endParaRPr>
          </a:p>
        </p:txBody>
      </p:sp>
      <p:pic>
        <p:nvPicPr>
          <p:cNvPr id="610" name="Picture 4" descr=""/>
          <p:cNvPicPr/>
          <p:nvPr/>
        </p:nvPicPr>
        <p:blipFill>
          <a:blip r:embed="rId1"/>
          <a:stretch/>
        </p:blipFill>
        <p:spPr>
          <a:xfrm>
            <a:off x="1908000" y="2421000"/>
            <a:ext cx="5904000" cy="3673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s en paralelo</a:t>
            </a:r>
            <a:endParaRPr b="0" lang="en-US" sz="2800" spc="-1" strike="noStrike">
              <a:solidFill>
                <a:srgbClr val="006666"/>
              </a:solidFill>
              <a:latin typeface="Arial"/>
            </a:endParaRPr>
          </a:p>
        </p:txBody>
      </p:sp>
      <p:sp>
        <p:nvSpPr>
          <p:cNvPr id="61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En este ejemplo nosotros asumimos que nuestro negocio requiere el uso de robustas capacidades a nivel proxy de una compuerta de aplicación para proteger sistemas accesibles a Internet tales como servidores web, SMTP y DNS. Al mismo tiempo nosotros necesitamos la flexibilidad de un stateful firewall para la red corporativa, constituida por estaciones de trabajo y servidor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006666"/>
                </a:solidFill>
                <a:latin typeface="Arial"/>
              </a:rPr>
              <a:t>Fundamentos Seguridad Perimetral</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perimetro</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 la frontera fortificada de nuestra red e incluye:</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outers</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irewalls</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IDS</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VPN</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quitectura Software</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MZ y screened subne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Border router</a:t>
            </a:r>
            <a:endParaRPr b="0" lang="en-US" sz="2800" spc="-1" strike="noStrike">
              <a:solidFill>
                <a:srgbClr val="006666"/>
              </a:solidFill>
              <a:latin typeface="Arial"/>
            </a:endParaRPr>
          </a:p>
        </p:txBody>
      </p:sp>
      <p:sp>
        <p:nvSpPr>
          <p:cNvPr id="55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Los routers son los policías de tráfico. Ellos dirigen el trafico hacia dentro hacia fuera o en el interior de nuestras propias redes. El border router es el último router que tu controlas antes de internet. Debido a que todo el tráfico interno va a través de este router    este funciona como el principio de una red y la ultima linea de defensa a través del filtro inicial y final.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irewall</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5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endParaRPr b="0" lang="en-US" sz="24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000" spc="-1" strike="noStrike">
                <a:solidFill>
                  <a:srgbClr val="000000"/>
                </a:solidFill>
                <a:latin typeface="Verdana"/>
              </a:rPr>
              <a:t>Es un dispositivo que tiene un conjunto de reglas especificas que determina cual tráfico se permite y cual se deniega. Un firewall recoge todo lo que el border router abandona y hace una pasada mas minuciosa para filtrar el tráfico. Existen diferentes tipos de firewall tales como: </a:t>
            </a:r>
            <a:r>
              <a:rPr b="0" i="1" lang="es-ES" sz="2000" spc="-1" strike="noStrike">
                <a:solidFill>
                  <a:srgbClr val="000000"/>
                </a:solidFill>
                <a:latin typeface="Verdana"/>
              </a:rPr>
              <a:t>static packet filter, stateful firewalls y Proxy firewal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IDS</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6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000" spc="-1" strike="noStrike">
                <a:solidFill>
                  <a:srgbClr val="000000"/>
                </a:solidFill>
                <a:latin typeface="Verdana"/>
              </a:rPr>
              <a:t>Un IDS es como un sistema de alarmas de ladrones para tu red que es usado para detectar una alerta sobre eventos maliciosos. El sistema puede estar compuesto de muchos y diferentes sensores posicionados en puntos estratégicos en tu red. Existen dos tipos de sensores: basados en red (NIDS ) y basados en hosts (HIDS). Frecuentemente residen en subredes que esta conectadas directamente al firewall, así como en puntos críticos de la red interna.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VPN</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6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	</a:t>
            </a:r>
            <a:r>
              <a:rPr b="0" lang="es-ES" sz="2000" spc="-1" strike="noStrike">
                <a:solidFill>
                  <a:srgbClr val="000000"/>
                </a:solidFill>
                <a:latin typeface="Verdana"/>
              </a:rPr>
              <a:t>Una VPN ( Red Privada Virtual ) es una sesión de red protegida formada a través de canales no protegidos, tale como Internet. Frecuentemente nos referimos a un VPN en términos del dispositivo sobre el perímetro que permite la sesión encriptada. Una VPN permite a un usuario participar en la red interna como si estuviera conectado directamente a esta. Muchas organizaciones, tienen un falso sentido de la seguridad en cuanto a su acceso remoto debido a que ellos tiene una VPN. Si un agresor compromete la máquina de un usuario legitimo una VPN puede dar a este agresor un canal encriptado dentro de la r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MZ y Screened Subnets</a:t>
            </a:r>
            <a:r>
              <a:rPr b="0" lang="es-ES" sz="2800" spc="-1" strike="noStrike">
                <a:solidFill>
                  <a:srgbClr val="006666"/>
                </a:solidFill>
                <a:latin typeface="Arial"/>
              </a:rPr>
              <a:t>	</a:t>
            </a:r>
            <a:r>
              <a:rPr b="0" lang="es-ES" sz="2800" spc="-1" strike="noStrike">
                <a:solidFill>
                  <a:srgbClr val="006666"/>
                </a:solidFill>
                <a:latin typeface="Arial"/>
              </a:rPr>
              <a:t>	</a:t>
            </a:r>
            <a:r>
              <a:rPr b="0" lang="es-ES" sz="2800" spc="-1" strike="noStrike">
                <a:solidFill>
                  <a:srgbClr val="006666"/>
                </a:solidFill>
                <a:latin typeface="Arial"/>
              </a:rPr>
              <a:t>	</a:t>
            </a:r>
            <a:endParaRPr b="0" lang="en-US" sz="2800" spc="-1" strike="noStrike">
              <a:solidFill>
                <a:srgbClr val="006666"/>
              </a:solidFill>
              <a:latin typeface="Arial"/>
            </a:endParaRPr>
          </a:p>
        </p:txBody>
      </p:sp>
      <p:sp>
        <p:nvSpPr>
          <p:cNvPr id="56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	</a:t>
            </a:r>
            <a:r>
              <a:rPr b="0" lang="es-ES" sz="2000" spc="-1" strike="noStrike">
                <a:solidFill>
                  <a:srgbClr val="000000"/>
                </a:solidFill>
                <a:latin typeface="Verdana"/>
              </a:rPr>
              <a:t>Nosotros usamos los términos DMZ y screened subnet en referencia a una red pequeña conteniendo servicios públicos que son conectados directamente a y desde la protección ofrecida por el firewall u otro dispositivo de filtrado. Una DMZ y una screened subnet son diferentes aunque mucha gente utiliza estos términos intercambiablemente</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0:14:06Z</dcterms:created>
  <dc:creator>Pablo Turmero</dc:creator>
  <dc:description/>
  <dc:language>en-US</dc:language>
  <cp:lastModifiedBy>Pablo</cp:lastModifiedBy>
  <dcterms:modified xsi:type="dcterms:W3CDTF">2015-11-02T13:17:25Z</dcterms:modified>
  <cp:revision>15</cp:revision>
  <dc:subject/>
  <dc:title/>
</cp:coreProperties>
</file>