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B95-5E82-4796-9D28-4D14B680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191-D7EA-4BF3-B082-AC587900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251-2A4A-409F-A701-DF53F246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A51-42E8-4554-A8A9-C7C8F9FA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F93-F3CA-4AE9-85FA-DCAAA9D1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9F5-9982-4776-B7FA-56A3CC6C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FA0-F1BA-4BF8-9D2F-45B84CCC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716-02B6-44B2-8C30-A674C489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A30-D37D-41EC-A2F0-0130941B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496-8016-40EC-9800-170E1AA8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C6A-DB47-4070-8305-2AECDCD6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01C-4576-4B62-BA55-64ECDF2C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1CC9-F4F2-4F76-B82C-E9598F791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Competencias Directivas en la Gestión de una Organ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rtín Taype M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áster en Administración de Negocios –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SimSun"/>
              </a:rPr>
              <a:t>Especialización en Dirección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859280" y="227160"/>
            <a:ext cx="4110120" cy="465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ETENCIAS INTRATÉ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549360"/>
            <a:ext cx="79390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3300"/>
                </a:solidFill>
                <a:uFillTx/>
                <a:latin typeface="Times New Roman"/>
              </a:rPr>
              <a:t>DELE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reocupa de que los integrantes de su equipo dispo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capacidad de tomar decisiones y de l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cesarios para lograr  sus o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3300"/>
                </a:solidFill>
                <a:uFillTx/>
                <a:latin typeface="Times New Roman"/>
              </a:rPr>
              <a:t>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yuda a sus colaboradores a descubrir sus áreas de mejora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 desarrollar sus habilidades y  capacidades profes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3300"/>
                </a:solidFill>
                <a:uFillTx/>
                <a:latin typeface="Times New Roman"/>
              </a:rPr>
              <a:t>TRABAJO EN EQU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menta un ambiente de  colaboración, comunicación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fianza entre los miembros de su equipo y los estimula ha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logro de los objetivos comu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907920"/>
            <a:ext cx="874872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93300"/>
                </a:solidFill>
                <a:uFillTx/>
                <a:latin typeface="Times New Roman"/>
              </a:rPr>
              <a:t>PROA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3300"/>
                </a:solidFill>
                <a:latin typeface="Times New Roman"/>
              </a:rPr>
              <a:t>INICIATIVA 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Muestra un comportamiento emprendedo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ndo y empujando los cambios necesarios 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nac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3300"/>
                </a:solidFill>
                <a:latin typeface="Times New Roman"/>
              </a:rPr>
              <a:t>CREATIVIDAD 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Genera planteamientos y soluci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novadoras a los problemas que se le present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3300"/>
                </a:solidFill>
                <a:latin typeface="Times New Roman"/>
              </a:rPr>
              <a:t>AUTONOMÍA PERSONAL 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Toma decisiones con crite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pio, no como resultado de una simple reacción a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to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52280"/>
            <a:ext cx="807696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MPETENCIAS DE EFICA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76720" y="404640"/>
            <a:ext cx="5340240" cy="503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ETENCIAS DE EFICACIA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052640"/>
            <a:ext cx="8280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93300"/>
                </a:solidFill>
                <a:uFillTx/>
                <a:latin typeface="Times New Roman"/>
              </a:rPr>
              <a:t>AUTOGOBI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3300"/>
                </a:solidFill>
                <a:latin typeface="Times New Roman"/>
              </a:rPr>
              <a:t>DISCIPLINA 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Hace en cada momento lo que 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 propuesto realizar, sin abandonar su pro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pesar de la dificultad de llevarlo a cab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3300"/>
                </a:solidFill>
                <a:latin typeface="Times New Roman"/>
              </a:rPr>
              <a:t>CONCENTRACIÓN 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Mantiene un alto grado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tención ante uno o varios problemas dur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largo período de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3300"/>
                </a:solidFill>
                <a:latin typeface="Times New Roman"/>
              </a:rPr>
              <a:t>AUTOCONTROL 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Controla sus emociones y actú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era apropiada ante distintas personas y situ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07920"/>
            <a:ext cx="829944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93300"/>
                </a:solidFill>
                <a:uFillTx/>
                <a:latin typeface="Times New Roman"/>
              </a:rPr>
              <a:t>GESTIÓN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3300"/>
                </a:solidFill>
                <a:latin typeface="Times New Roman"/>
              </a:rPr>
              <a:t>GESTIÓN DEL TIEMPO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 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Prioriza sus objetiv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gramando sus actividades de manera adecu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ejecutándolas en el tiempo prev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3300"/>
                </a:solidFill>
                <a:latin typeface="Times New Roman"/>
              </a:rPr>
              <a:t>GESTIÓN DEL ESTRÉS 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iene el equilib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onal ante situaciones de especial ten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3300"/>
                </a:solidFill>
                <a:latin typeface="Times New Roman"/>
              </a:rPr>
              <a:t>GESTIÓN DEL RIESGO 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Toma decisiones adecu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ituaciones de gran responsabilidad y de a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ado de incertidu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09880" y="260280"/>
            <a:ext cx="5838840" cy="504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ETENCIAS DE EFICACIA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09880" y="260280"/>
            <a:ext cx="5838840" cy="504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ETENCIAS DE EFICACIA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981000"/>
            <a:ext cx="8299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93300"/>
                </a:solidFill>
                <a:uFillTx/>
                <a:latin typeface="Times New Roman"/>
              </a:rPr>
              <a:t>DESARROLLO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3300"/>
                </a:solidFill>
                <a:latin typeface="Times New Roman"/>
              </a:rPr>
              <a:t>AUTOCRÍTICA 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valúa con frecuencia y  profund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 propio comportamiento y la realidad que le circu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3300"/>
                </a:solidFill>
                <a:latin typeface="Times New Roman"/>
              </a:rPr>
              <a:t>AUTOCONOCIMIENTO 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Conoce sus puntos fuertes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s puntos débiles, tanto en el ámbito profesional 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3300"/>
                </a:solidFill>
                <a:latin typeface="Times New Roman"/>
              </a:rPr>
              <a:t>CAMBIO PERSONAL 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Cambia sus comportamient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 el fin de fortalecer sus puntos fuertes y superar 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untos déb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onclusión, la competencia es una característica profunda de la personalidad con relación a un estándar superior de éxito. La adopción de competencias directivas en la gestión de una organización está relacionada directamente al logro de calidad y competitividad en las organizaciones, por lo tanto ello implicará dejar atrás algunas actitudes y desarrollar nuevas, cambiar algunos hábitos e incorporar otros, que permitan a los directivos ser más competitivos y así alcanzar altos niveles de efectividad y efici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o de los temas de gestión en las organizaciones más debatidos en las últimas décadas, es el enfoque de administración por competencias y por consiguiente una preocupación en las organizaciones ha sido el conocer cuales son las competencias directivas que se deben poseer para administrar exitosamente un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mos definir a l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encias com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todas aquellas capacidades humanas observables y medibles, necesarias para lograr un desempeño de excelencia y resultados de alta calidad. Estas capacidades incluyen tanto destrezas y conocimientos, así como también actitudes, motivación y compromiso”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tal sentido, numerosos investigadores de las organizaciones han planteado diversos modelos de competencias directivas en la gestión de una organización, encontrándose muchas coincidencias en ellas, por ello voy a considerar tres que a mi entender son las más relevantes: Competencias estratégicas, intratégicas y de efica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828800"/>
            <a:ext cx="3581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993300"/>
                </a:solidFill>
                <a:uFillTx/>
                <a:latin typeface="Times New Roman"/>
              </a:rPr>
              <a:t>ESTRATÉ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RATÉ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 EFICA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92720" y="1268280"/>
            <a:ext cx="3276720" cy="387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IMPLICA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CAPAC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DE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DIRECTIVO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A SU RE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CO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ENTO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EXT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286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3300"/>
                </a:solidFill>
                <a:latin typeface="Times New Roman"/>
              </a:rPr>
              <a:t>COMPETENCIAS DIRECTIV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514600"/>
            <a:ext cx="762120" cy="485640"/>
          </a:xfrm>
          <a:prstGeom prst="rightArrow">
            <a:avLst>
              <a:gd name="adj1" fmla="val 50000"/>
              <a:gd name="adj2" fmla="val 3923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828800"/>
            <a:ext cx="3581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RATÉ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993300"/>
                </a:solidFill>
                <a:uFillTx/>
                <a:latin typeface="Times New Roman"/>
              </a:rPr>
              <a:t>INTRATÉ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 EFICA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2205000"/>
            <a:ext cx="3276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IMPLICA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CAPAC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EJECUTIVA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DE LIDERAZ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Y A SU RE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CO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ENTO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INTERNO DE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286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3300"/>
                </a:solidFill>
                <a:latin typeface="Times New Roman"/>
              </a:rPr>
              <a:t>COMPETENCIAS DIRECTIV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3933720"/>
            <a:ext cx="762120" cy="486000"/>
          </a:xfrm>
          <a:prstGeom prst="rightArrow">
            <a:avLst>
              <a:gd name="adj1" fmla="val 50000"/>
              <a:gd name="adj2" fmla="val 39204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066680"/>
            <a:ext cx="35812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RATÉ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RATÉ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993300"/>
                </a:solidFill>
                <a:uFillTx/>
                <a:latin typeface="Times New Roman"/>
              </a:rPr>
              <a:t>DE EFICA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r>
              <a:rPr b="1" lang="es-ES_tradnl" sz="3200" spc="-1" strike="noStrike" u="sng">
                <a:solidFill>
                  <a:srgbClr val="993300"/>
                </a:solidFill>
                <a:uFillTx/>
                <a:latin typeface="Times New Roman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3124080"/>
            <a:ext cx="327636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SON AQUEL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HÁB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QUE FACILI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UNA RE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EFICAZ DE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CON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993300"/>
                </a:solidFill>
                <a:latin typeface="Times New Roman"/>
              </a:rPr>
              <a:t>ENTO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286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3300"/>
                </a:solidFill>
                <a:latin typeface="Times New Roman"/>
              </a:rPr>
              <a:t>COMPETENCIAS DIRECTIV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695840"/>
            <a:ext cx="762120" cy="485640"/>
          </a:xfrm>
          <a:prstGeom prst="rightArrow">
            <a:avLst>
              <a:gd name="adj1" fmla="val 50000"/>
              <a:gd name="adj2" fmla="val 3923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98440"/>
            <a:ext cx="8001000" cy="609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MPETENCIAS ESTRATÉG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249200"/>
            <a:ext cx="867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3300"/>
                </a:solidFill>
                <a:uFillTx/>
                <a:latin typeface="Arial"/>
              </a:rPr>
              <a:t>VISIÓN DE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onoce y aprovecha las  oportunidades, los peligros y las  fuerzas externas que repercuten  en la competitividad y efectividad del nego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3300"/>
                </a:solidFill>
                <a:uFillTx/>
                <a:latin typeface="Arial"/>
              </a:rPr>
              <a:t>RESOLUCIÓN DE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fica los puntos clave de una situación o problema complejo  y  tiene capacidad de síntesis y  de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3300"/>
                </a:solidFill>
                <a:uFillTx/>
                <a:latin typeface="Arial"/>
              </a:rPr>
              <a:t>GEST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 los recursos del modo más idóneo, rápido, económico y eficaz  para obtener los resultados deseados.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08360" y="260280"/>
            <a:ext cx="5334120" cy="60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TENCIAS ESTRATÉ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981000"/>
            <a:ext cx="8137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93300"/>
                </a:solidFill>
                <a:uFillTx/>
                <a:latin typeface="Times New Roman"/>
              </a:rPr>
              <a:t>ORIENTACIÓN AL 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de con prontitud  y eficacia a las sug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necesidades del c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93300"/>
                </a:solidFill>
                <a:uFillTx/>
                <a:latin typeface="Times New Roman"/>
              </a:rPr>
              <a:t>RED DE RELACIONES EFEC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arrolla y mantiene una amplia  red de 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 personas  clave dentro de la empresa  y del s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93300"/>
                </a:solidFill>
                <a:uFillTx/>
                <a:latin typeface="Times New Roman"/>
              </a:rPr>
              <a:t>NEGO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igue el apoyo y  la  conformidad   de 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onas y grupos clave que  influyen en su á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responsabilidad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692280"/>
            <a:ext cx="81360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93300"/>
                </a:solidFill>
                <a:uFillTx/>
                <a:latin typeface="Times New Roman"/>
              </a:rPr>
              <a:t>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unica de manera efectiva, empleando ta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formales como informales, y proporci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 concretos para respaldar sus observaciones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lu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93300"/>
                </a:solidFill>
                <a:uFillTx/>
                <a:latin typeface="Times New Roman"/>
              </a:rPr>
              <a:t>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signa objetivos y tareas a las personas adecu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 realizar el trabajo y planifica su segu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93300"/>
                </a:solidFill>
                <a:uFillTx/>
                <a:latin typeface="Times New Roman"/>
              </a:rPr>
              <a:t>EMPAT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ucha, tiene en cuenta las preocupaciones de los dem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respeta sus senti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76320"/>
            <a:ext cx="8001000" cy="609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MPETENCIAS INTRATÉG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9T00:37:00Z</dcterms:created>
  <dc:creator>MARTIN TAYPE</dc:creator>
  <dc:description/>
  <dc:language>en-US</dc:language>
  <cp:lastModifiedBy>MARTIN</cp:lastModifiedBy>
  <dcterms:modified xsi:type="dcterms:W3CDTF">2015-10-10T02:21:39Z</dcterms:modified>
  <cp:revision>12</cp:revision>
  <dc:subject/>
  <dc:title>Competencias Directivas en la Gestión de una Organización</dc:title>
</cp:coreProperties>
</file>