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3A3-472A-41B9-BB20-CCD6393E2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08C7-E22C-46F3-84F7-AD319E84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4F18C-CCE8-43D3-B46B-A64314D7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D1FA9-4E45-45D4-87AA-87BBF0CE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20FA0-3B52-498D-A036-33FEA4AF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C80DA-C39C-4FEF-B503-FA4189E9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0EC62-F1D7-44C6-9500-70A70755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75A06-8810-4A46-B584-B97BD7C2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959193-A365-4EA3-B3C8-C9307FAE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91FB2-7AE9-47FD-8BD6-335DF5E3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1F391-F596-465C-9B61-1EEA70D8B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9213FF-3CA0-4A2B-8595-52B7F917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DAD8-AD18-4143-9992-4CE5B5D1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ED637C-45A1-46BC-9E58-849C068B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4E31D-DCE8-4C85-B5DF-9DF722D7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46A6F-3678-4F87-BDD6-24C723AA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38AE5-6E69-418E-989E-3D2AFB6B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9120E-77F2-496A-8644-C40EA98A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2CDAB-C095-4E9D-B370-DB6D5D3E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7CBDE-F685-452E-9B85-E99EDEC2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4B78B-29A1-4A3E-96D4-92021FBF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54E12-6338-4D06-8D0D-EC68D3C0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FD61A-D416-41CD-912D-E374C441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EEDC-9E75-4433-BAED-60EB010D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FCB622-E662-4130-AEC7-487C34B2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58220-B142-4884-A5D3-3FF2A27E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EACF5-C244-41D3-9905-45894E73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D76F3-812D-4DBD-864E-89D21741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316F1-BE92-476A-8F83-19C5AF23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03597-B623-406D-AB98-01B23B29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DE7E4-38B3-44D8-B044-1C0F5502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88289-BB71-47D0-994F-32020DC9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6E62A-D6A2-431C-B156-0AB8045C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48E32-ED7D-4FDF-A96E-FCAB5716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B4779F-AC45-4141-B8E5-223062FB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C7397-5DFA-4D9E-84CE-B8DBEA81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A514D-DF63-4B67-909D-63918F0D6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58F7C-7DA3-4723-89B4-62C906D92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6EFF1E-588C-4AFE-BD55-A5BE05E7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66F12-B6F0-45E3-A774-FA6936F3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32AFE1-106D-447F-A51A-4DF27D73F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42952D-B798-4642-A6C6-3CB12136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1466D-3F29-4EAC-AC25-A232FFC1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C97FD-9EDB-425A-9EB2-58C81FC9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3572B-9C20-49D3-A3E9-C8F47049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5A9BF-769F-4F50-B195-47FE8342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8A44B6-5059-4108-8C2D-2A45928D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3ED2B-C6D2-44AB-846E-9C7A23DF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48C285-1DB1-4DCB-AB92-01F9A865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9B490-E472-4722-8A4D-E35853C4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FE85B1-DEF8-4CA2-915B-4A83185A1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8F40C6-603D-4800-ADFA-BBABEA51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536105-B509-41E7-AC94-6DC6EEE7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D57EE-7058-4DD8-99BB-6C304C45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A3DAF-EB73-4635-A896-7B38DCF8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EB209-5746-4901-AD9B-E51577AC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0D4-7C52-45BA-A6D7-CD68A98F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913A4-E5BA-479E-9929-F334FED7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571EA-870B-4D50-8788-280640B0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B6823-2F42-435A-B14C-BE6BC61A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C44931-A545-48F8-8BDF-78B067EB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EFA9D-1B50-490C-B986-5E1992441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12544-F420-4B04-89D0-C16F853B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6928D-4B99-4CD3-BD76-986DA127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A48D4-B3B8-433C-B763-DB43C3F0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2B480-AD32-4CC1-9550-BAEFB4D1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30B7B-73BF-4D4E-847D-D49E4DE5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7E49-54EC-4546-9C45-081E403F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4BCDE-D809-4E91-AEEB-0129A35D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4A661-81DF-4F43-8DCB-BAB9AE8A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33CC4-EF91-4410-8E4D-D4E47046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478D2-4CF5-4E06-BD3D-8DB78E70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AE2E7-06E5-426D-AACD-5630D6822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BFAD7-BBD0-4F5C-976F-F3D29011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751A0-D8BF-433D-8455-7688C1A9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D52BD-E9F7-43B0-A573-F44D0BCB2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16316-A7B4-4818-8804-BED53557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0F92F-23A4-4058-93A7-F1723535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0770-0CBB-4B94-A6DA-B9F10A4E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566D3-D533-44A5-9E81-3836BA39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20A6D-09E3-4C34-996F-A78CF6CE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36A92-01E5-4E26-9025-9740C700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853B0-CE27-42FB-B1D3-9D407B38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AEF4F-DA62-46A2-B4B7-39D5A316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FEFF2-CAE8-4873-AB81-5DE0AB41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25FD0-CE19-4732-B8E7-284ACFB3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9C755-25C6-45AD-B2BB-21F3526B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87352-712B-4D46-BD1B-2FE62AAE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EC620-8C77-4750-8A1A-CB196487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96C-E771-44EF-BF63-4AAFF8B5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FC1A2-7B51-4F84-B7E4-CB1F805F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0A0EA-BFDF-437C-B34E-1E6C4C8B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A3D9E-8BE8-40C9-8E88-E8F8D005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5C9F2-EBB5-417D-A9A7-7BF57E40C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8A514-0A33-453B-9A65-8CC424B6C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F08EA-9A13-4030-A221-FC5ADBF6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CBE75-FD53-48AB-B27F-40C99339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A32F7-A169-43D9-BC9D-9323F938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46A29-86C8-4427-8B85-5A55AE3F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BE025-FA06-4282-B456-9E003946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09E7-3CF8-4ABA-9B47-57920324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1D1FB-0AA7-4358-A7F0-C3646C19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CA94B-99B7-4736-81D7-F8D48C07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87B49-AFD4-4A78-9397-2A8B59485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D2BB7-E8EC-4D97-B48A-737340B3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E3268-5C08-414C-BE41-4EE58103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DCDDA-E7C9-4701-AC49-CB7C4BC6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02FF5-39D5-4C06-A647-2EAF09C0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5C501-3E14-4804-80CF-2D5EE587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9618F-55A7-4597-B361-1C19688E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C32DB-45F1-43B2-B55B-FF1AA2E1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A26A-925E-4B1C-8986-5F6F1B06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AD594-65E0-4240-BC82-02172694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5F6EC-1D91-4F13-9985-656B3873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7AE09-41D9-46DC-B927-68B19CD8D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0BE86-B5F0-4391-9CD5-9301F909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08215-ECFD-4303-8BCF-0A724A2F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B6193-D1AF-440F-99B7-5F19265B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8A4D6-D3D0-4320-881A-934808D3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6ABF9-4457-4732-B76C-18FA1699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52F84-9618-45B4-80AF-552D2A90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F5459-19EC-47E8-BE25-AD8C0E57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61D1-CA9A-42F4-A5AF-7F9E9881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9F648-848D-4CE4-95CE-C125FD40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334F9-BD1E-4ED4-AEFC-0F201DCA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1B068-173C-42E2-A05E-36741389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BC75F-02A3-4670-8953-3F66668F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743DF-D46E-43DC-B3CC-FC67C4E4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734D2-3105-471A-A28F-0DE3D45E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B43A2-0710-45A4-B6F4-819FB02A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718D0-6275-4A05-8C1E-AB365163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19DE7-3477-4554-B78B-8550CDFF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A7CCA-1F24-4AD4-A09F-A530758C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8D52-DD59-43B4-8EE9-9C8AA3D2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A4199-6796-497D-815E-5BA8BC4E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71574-FD9E-4898-829D-CE834692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B466D-1E5E-4D7D-A276-7B7E09E9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FC767-F614-41BA-8011-A0DB8ECE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6D83A-4C9E-4B11-AFC4-EDE5DC03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CEFD3-FC8C-4FF7-85A2-D18C21AC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00E94-4DFE-4B52-B47F-EA280F490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453A1-5E77-4D5C-9583-4AAC1BD7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F6225-39C3-4C3E-84FA-8A543E59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BC508-249A-4C1F-B2A9-E8D72120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FAC1-31DB-4734-AADB-5D80A7383A2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6534-8F27-4B00-AE0A-3EE9DF468B4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438A-F52A-4424-898F-7AA0C9C9659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9ABF-E0B5-4A70-A7CF-770BEA658C0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2C53-B4D5-4F57-A2E3-C4DCFEF065C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D0E5-758F-47EE-A456-E1F6AA8993A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3811-E708-4914-8049-15FA6A0A92D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6A7C-AC74-4226-822F-D4601B2EBDB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C588-B7E3-4FF7-AE4A-B317333B61E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6124-A072-491A-8FA7-270676D6A21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B66E-CBD0-4A28-B850-0A0F553ACB5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4EC3-C8A8-4BC0-8FE7-0B49B50B394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3"/>
          <p:cNvSpPr/>
          <p:nvPr/>
        </p:nvSpPr>
        <p:spPr>
          <a:xfrm>
            <a:off x="611280" y="1341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Tahoma"/>
              </a:rPr>
              <a:t>LOS ESTRÓNGILOS DE LOS EQUINO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EstrongilosPeqPatol2Marc"/>
          <p:cNvPicPr/>
          <p:nvPr/>
        </p:nvPicPr>
        <p:blipFill>
          <a:blip r:embed="rId1"/>
          <a:stretch/>
        </p:blipFill>
        <p:spPr>
          <a:xfrm>
            <a:off x="1187280" y="765000"/>
            <a:ext cx="6697800" cy="588816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3"/>
          <p:cNvSpPr/>
          <p:nvPr/>
        </p:nvSpPr>
        <p:spPr>
          <a:xfrm>
            <a:off x="590400" y="260280"/>
            <a:ext cx="855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PATOLOGÍA CAUSADA POR LOS ESTRÓNGILOS PEQUEÑOS (2)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Strongylus_vulgarisCVMarc"/>
          <p:cNvPicPr/>
          <p:nvPr/>
        </p:nvPicPr>
        <p:blipFill>
          <a:blip r:embed="rId1"/>
          <a:stretch/>
        </p:blipFill>
        <p:spPr>
          <a:xfrm>
            <a:off x="611280" y="765000"/>
            <a:ext cx="7959600" cy="578340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3"/>
          <p:cNvSpPr/>
          <p:nvPr/>
        </p:nvSpPr>
        <p:spPr>
          <a:xfrm>
            <a:off x="1214280" y="260280"/>
            <a:ext cx="66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CICLO DE VIDA Y PATOGENIA DE </a:t>
            </a:r>
            <a:r>
              <a:rPr b="1" i="1" lang="es-ES" sz="2000" spc="-1" strike="noStrike">
                <a:solidFill>
                  <a:srgbClr val="ffff00"/>
                </a:solidFill>
                <a:latin typeface="Tahoma"/>
              </a:rPr>
              <a:t>Strongylus vulgari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" descr="Stroingylus_vulgarisPatolMarc"/>
          <p:cNvPicPr/>
          <p:nvPr/>
        </p:nvPicPr>
        <p:blipFill>
          <a:blip r:embed="rId1"/>
          <a:stretch/>
        </p:blipFill>
        <p:spPr>
          <a:xfrm>
            <a:off x="1332000" y="836640"/>
            <a:ext cx="6624720" cy="579132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3"/>
          <p:cNvSpPr/>
          <p:nvPr/>
        </p:nvSpPr>
        <p:spPr>
          <a:xfrm>
            <a:off x="1028520" y="260280"/>
            <a:ext cx="751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PATOLOGÍA CAUSADA POR </a:t>
            </a:r>
            <a:r>
              <a:rPr b="1" i="1" lang="es-ES" sz="2400" spc="-1" strike="noStrike">
                <a:solidFill>
                  <a:srgbClr val="ffff00"/>
                </a:solidFill>
                <a:latin typeface="Tahoma"/>
              </a:rPr>
              <a:t>Strongylus vulgaris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(1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3"/>
          <p:cNvSpPr/>
          <p:nvPr/>
        </p:nvSpPr>
        <p:spPr>
          <a:xfrm>
            <a:off x="741240" y="620640"/>
            <a:ext cx="751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PATOLOGÍA CAUSADA POR </a:t>
            </a:r>
            <a:r>
              <a:rPr b="1" i="1" lang="es-ES" sz="2400" spc="-1" strike="noStrike">
                <a:solidFill>
                  <a:srgbClr val="ffff00"/>
                </a:solidFill>
                <a:latin typeface="Tahoma"/>
              </a:rPr>
              <a:t>Strongylus vulgaris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(3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9" name="Picture 5" descr="StrongylusVulgLes2Marc"/>
          <p:cNvPicPr/>
          <p:nvPr/>
        </p:nvPicPr>
        <p:blipFill>
          <a:blip r:embed="rId1"/>
          <a:stretch/>
        </p:blipFill>
        <p:spPr>
          <a:xfrm>
            <a:off x="324000" y="1700280"/>
            <a:ext cx="85690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StrongylusVulgLes3Marc"/>
          <p:cNvPicPr/>
          <p:nvPr/>
        </p:nvPicPr>
        <p:blipFill>
          <a:blip r:embed="rId1"/>
          <a:stretch/>
        </p:blipFill>
        <p:spPr>
          <a:xfrm>
            <a:off x="250920" y="1268280"/>
            <a:ext cx="8642160" cy="491328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3"/>
          <p:cNvSpPr/>
          <p:nvPr/>
        </p:nvSpPr>
        <p:spPr>
          <a:xfrm>
            <a:off x="793440" y="417600"/>
            <a:ext cx="751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PATOLOGÍA CAUSADA POR </a:t>
            </a:r>
            <a:r>
              <a:rPr b="1" i="1" lang="es-ES" sz="2400" spc="-1" strike="noStrike">
                <a:solidFill>
                  <a:srgbClr val="ffff00"/>
                </a:solidFill>
                <a:latin typeface="Tahoma"/>
              </a:rPr>
              <a:t>Strongylus vulgaris 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(3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Strongylus_vulgarisSintomasMarc"/>
          <p:cNvPicPr/>
          <p:nvPr/>
        </p:nvPicPr>
        <p:blipFill>
          <a:blip r:embed="rId1"/>
          <a:stretch/>
        </p:blipFill>
        <p:spPr>
          <a:xfrm>
            <a:off x="395280" y="1546200"/>
            <a:ext cx="8497800" cy="451332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3"/>
          <p:cNvSpPr/>
          <p:nvPr/>
        </p:nvSpPr>
        <p:spPr>
          <a:xfrm>
            <a:off x="395280" y="549360"/>
            <a:ext cx="85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SÍNTOMAS DE LA INFECCIÓN POR </a:t>
            </a:r>
            <a:r>
              <a:rPr b="1" i="1" lang="es-ES" sz="2400" spc="-1" strike="noStrike">
                <a:solidFill>
                  <a:srgbClr val="ffff00"/>
                </a:solidFill>
                <a:latin typeface="Tahoma"/>
              </a:rPr>
              <a:t>Strongylus vulgari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3"/>
          <p:cNvSpPr/>
          <p:nvPr/>
        </p:nvSpPr>
        <p:spPr>
          <a:xfrm>
            <a:off x="250920" y="333360"/>
            <a:ext cx="91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CICLO DE VIDA Y PATOGENIA DE </a:t>
            </a:r>
            <a:r>
              <a:rPr b="1" i="1" lang="es-ES" sz="2400" spc="-1" strike="noStrike">
                <a:solidFill>
                  <a:srgbClr val="ffff00"/>
                </a:solidFill>
                <a:latin typeface="Tahoma"/>
              </a:rPr>
              <a:t>Strongylus edentatu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5" name="Picture 4" descr="Strongylus_edentatusCVMarc"/>
          <p:cNvPicPr/>
          <p:nvPr/>
        </p:nvPicPr>
        <p:blipFill>
          <a:blip r:embed="rId1"/>
          <a:stretch/>
        </p:blipFill>
        <p:spPr>
          <a:xfrm>
            <a:off x="395280" y="836640"/>
            <a:ext cx="835200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2" descr="Strongylus_edentatusPatolMarc"/>
          <p:cNvPicPr/>
          <p:nvPr/>
        </p:nvPicPr>
        <p:blipFill>
          <a:blip r:embed="rId1"/>
          <a:stretch/>
        </p:blipFill>
        <p:spPr>
          <a:xfrm>
            <a:off x="1258920" y="836640"/>
            <a:ext cx="6697800" cy="571176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3"/>
          <p:cNvSpPr/>
          <p:nvPr/>
        </p:nvSpPr>
        <p:spPr>
          <a:xfrm>
            <a:off x="971640" y="260280"/>
            <a:ext cx="75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DAÑO CAUSADO POR </a:t>
            </a:r>
            <a:r>
              <a:rPr b="1" i="1" lang="es-ES" sz="2400" spc="-1" strike="noStrike">
                <a:solidFill>
                  <a:srgbClr val="ffff00"/>
                </a:solidFill>
                <a:latin typeface="Tahoma"/>
              </a:rPr>
              <a:t>Strongylus edentatus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(1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Strongylus_edentatusPatol2Marc"/>
          <p:cNvPicPr/>
          <p:nvPr/>
        </p:nvPicPr>
        <p:blipFill>
          <a:blip r:embed="rId1"/>
          <a:stretch/>
        </p:blipFill>
        <p:spPr>
          <a:xfrm>
            <a:off x="324000" y="1413000"/>
            <a:ext cx="8496000" cy="472104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3"/>
          <p:cNvSpPr/>
          <p:nvPr/>
        </p:nvSpPr>
        <p:spPr>
          <a:xfrm>
            <a:off x="900000" y="404640"/>
            <a:ext cx="7832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DAÑO CAUSADO POR </a:t>
            </a:r>
            <a:r>
              <a:rPr b="1" i="1" lang="es-ES" sz="2400" spc="-1" strike="noStrike">
                <a:solidFill>
                  <a:srgbClr val="ffff00"/>
                </a:solidFill>
                <a:latin typeface="Tahoma"/>
              </a:rPr>
              <a:t>Strongylus edentatus</a:t>
            </a: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 (2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Strongylus_equinusCVMarc"/>
          <p:cNvPicPr/>
          <p:nvPr/>
        </p:nvPicPr>
        <p:blipFill>
          <a:blip r:embed="rId1"/>
          <a:stretch/>
        </p:blipFill>
        <p:spPr>
          <a:xfrm>
            <a:off x="611280" y="765000"/>
            <a:ext cx="7945200" cy="579924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3"/>
          <p:cNvSpPr/>
          <p:nvPr/>
        </p:nvSpPr>
        <p:spPr>
          <a:xfrm>
            <a:off x="613800" y="260280"/>
            <a:ext cx="78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CICLO DE VIDA Y PATOGENIA DE </a:t>
            </a:r>
            <a:r>
              <a:rPr b="1" i="1" lang="es-ES" sz="2400" spc="-1" strike="noStrike">
                <a:solidFill>
                  <a:srgbClr val="ffff00"/>
                </a:solidFill>
                <a:latin typeface="Tahoma"/>
              </a:rPr>
              <a:t>Strongylus equinu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6"/>
          <p:cNvSpPr/>
          <p:nvPr/>
        </p:nvSpPr>
        <p:spPr>
          <a:xfrm>
            <a:off x="395280" y="692280"/>
            <a:ext cx="91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ESTRÓNGILOS GRANDES Y PEQUEÑOS DEL CABALL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5" name="Picture 7" descr="EstrongilosGrand&amp;PeqMarc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Strongylus_equinusPatolMarc"/>
          <p:cNvPicPr/>
          <p:nvPr/>
        </p:nvPicPr>
        <p:blipFill>
          <a:blip r:embed="rId1"/>
          <a:stretch/>
        </p:blipFill>
        <p:spPr>
          <a:xfrm>
            <a:off x="1476360" y="922320"/>
            <a:ext cx="5904000" cy="568152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3"/>
          <p:cNvSpPr/>
          <p:nvPr/>
        </p:nvSpPr>
        <p:spPr>
          <a:xfrm>
            <a:off x="1240920" y="260280"/>
            <a:ext cx="62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DAÑO CAUSADO POR </a:t>
            </a:r>
            <a:r>
              <a:rPr b="1" i="1" lang="es-ES" sz="2400" spc="-1" strike="noStrike">
                <a:solidFill>
                  <a:srgbClr val="ffff00"/>
                </a:solidFill>
                <a:latin typeface="Tahoma"/>
              </a:rPr>
              <a:t>Strongylus equinu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StrongylusDiagnMarc"/>
          <p:cNvPicPr/>
          <p:nvPr/>
        </p:nvPicPr>
        <p:blipFill>
          <a:blip r:embed="rId1"/>
          <a:stretch/>
        </p:blipFill>
        <p:spPr>
          <a:xfrm>
            <a:off x="468360" y="1125360"/>
            <a:ext cx="8280360" cy="542952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3"/>
          <p:cNvSpPr/>
          <p:nvPr/>
        </p:nvSpPr>
        <p:spPr>
          <a:xfrm>
            <a:off x="1403280" y="26028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ELEMENTOS PARA EL DIAGNÓSTICO DE LA ESTRONGILIASIS EQUIN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3"/>
          <p:cNvSpPr/>
          <p:nvPr/>
        </p:nvSpPr>
        <p:spPr>
          <a:xfrm>
            <a:off x="250920" y="33336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FLUCTUACIONES EN LA CONCENTRACIÓN DE HUEVOS DE ESTRÓNGILOS EN LAS HECES DE LOS CABALLOS EN EL AÑO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7" name="Picture 4" descr="StrongylusEpidemiolMarc"/>
          <p:cNvPicPr/>
          <p:nvPr/>
        </p:nvPicPr>
        <p:blipFill>
          <a:blip r:embed="rId1"/>
          <a:stretch/>
        </p:blipFill>
        <p:spPr>
          <a:xfrm>
            <a:off x="324000" y="1341360"/>
            <a:ext cx="84978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StrongylusEpidemiolChileMarc"/>
          <p:cNvPicPr/>
          <p:nvPr/>
        </p:nvPicPr>
        <p:blipFill>
          <a:blip r:embed="rId1"/>
          <a:stretch/>
        </p:blipFill>
        <p:spPr>
          <a:xfrm>
            <a:off x="611280" y="981000"/>
            <a:ext cx="8010360" cy="549900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"/>
          <p:cNvSpPr/>
          <p:nvPr/>
        </p:nvSpPr>
        <p:spPr>
          <a:xfrm>
            <a:off x="468360" y="2602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VARIACIONES DE LA DENSIDAD DE HUEVOS DE ESTRÓNGILOS EN LAS HECES DE LOS CABALLOS DE CHIL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StrongylusEpidemiolChile2Marc"/>
          <p:cNvPicPr/>
          <p:nvPr/>
        </p:nvPicPr>
        <p:blipFill>
          <a:blip r:embed="rId1"/>
          <a:stretch/>
        </p:blipFill>
        <p:spPr>
          <a:xfrm>
            <a:off x="324000" y="1125360"/>
            <a:ext cx="8496000" cy="510876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3"/>
          <p:cNvSpPr/>
          <p:nvPr/>
        </p:nvSpPr>
        <p:spPr>
          <a:xfrm>
            <a:off x="1052280" y="250920"/>
            <a:ext cx="74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DISTRIBUCIÓN POSTULADA DE LA CONTAMINACIÓN CON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ESTRÓNGILOS DE LOS CABALLOS EN CHILE CENTRA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4"/>
          <p:cNvSpPr/>
          <p:nvPr/>
        </p:nvSpPr>
        <p:spPr>
          <a:xfrm>
            <a:off x="395280" y="260280"/>
            <a:ext cx="8300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EL PIRANTEL SUPRIME EL PASAJE DE HUEVOS POR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4 SEMANAS Y LO DEPRIME POR 2 SEMANAS MÁ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3" name="Picture 5" descr="StrongylusPirantelMarcPh"/>
          <p:cNvPicPr/>
          <p:nvPr/>
        </p:nvPicPr>
        <p:blipFill>
          <a:blip r:embed="rId1"/>
          <a:stretch/>
        </p:blipFill>
        <p:spPr>
          <a:xfrm>
            <a:off x="324000" y="1197000"/>
            <a:ext cx="849600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3"/>
          <p:cNvSpPr/>
          <p:nvPr/>
        </p:nvSpPr>
        <p:spPr>
          <a:xfrm>
            <a:off x="900000" y="260280"/>
            <a:ext cx="768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LA IVERMECTINA SUPRIME EL PASAJE DE HUEVOS POR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6 SEMANAS Y LO DEPRIME POR 4 SEMANAS MÁ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5" name="Picture 4" descr="StrongylusIvermectinaMarcPh"/>
          <p:cNvPicPr/>
          <p:nvPr/>
        </p:nvPicPr>
        <p:blipFill>
          <a:blip r:embed="rId1"/>
          <a:stretch/>
        </p:blipFill>
        <p:spPr>
          <a:xfrm>
            <a:off x="324000" y="1052640"/>
            <a:ext cx="8569080" cy="52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5" descr="StrongylusControlMarcPh"/>
          <p:cNvPicPr/>
          <p:nvPr/>
        </p:nvPicPr>
        <p:blipFill>
          <a:blip r:embed="rId1"/>
          <a:stretch/>
        </p:blipFill>
        <p:spPr>
          <a:xfrm>
            <a:off x="1332000" y="981000"/>
            <a:ext cx="6697440" cy="55548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6"/>
          <p:cNvSpPr/>
          <p:nvPr/>
        </p:nvSpPr>
        <p:spPr>
          <a:xfrm>
            <a:off x="468360" y="260280"/>
            <a:ext cx="844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TRATAMIENTOS RECOMENDADOS PARA EL CONTROL DE ESTRÓNGILOS EN EL HEMISFERIO NORT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2" descr="StrongylusControlChileMarc"/>
          <p:cNvPicPr/>
          <p:nvPr/>
        </p:nvPicPr>
        <p:blipFill>
          <a:blip r:embed="rId1"/>
          <a:stretch/>
        </p:blipFill>
        <p:spPr>
          <a:xfrm>
            <a:off x="468360" y="1047600"/>
            <a:ext cx="8207280" cy="52786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3"/>
          <p:cNvSpPr/>
          <p:nvPr/>
        </p:nvSpPr>
        <p:spPr>
          <a:xfrm>
            <a:off x="971640" y="260280"/>
            <a:ext cx="70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TRATAMIENTOS RECOMENDADOS PARA EL CONTROL DE ESTRÓNGILOS EN CHIL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4" descr="StrongylusInfPotrillosMarcPh"/>
          <p:cNvPicPr/>
          <p:nvPr/>
        </p:nvPicPr>
        <p:blipFill>
          <a:blip r:embed="rId1"/>
          <a:stretch/>
        </p:blipFill>
        <p:spPr>
          <a:xfrm>
            <a:off x="755640" y="1052640"/>
            <a:ext cx="7201080" cy="555300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5"/>
          <p:cNvSpPr/>
          <p:nvPr/>
        </p:nvSpPr>
        <p:spPr>
          <a:xfrm>
            <a:off x="1042920" y="260280"/>
            <a:ext cx="682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LOS POTROILLOS SE INFECTAN CON ESTRÓNGILOS ENTRE LOS 4 Y 6 MESES DE EDAD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0" y="836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LOS ESTRÓNGILOS SE DIVIDEN E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ESTRÓNGILOS GRANDES Y EN ESTRÓNGILOS PEQUEÑOS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Text Box 4"/>
          <p:cNvSpPr/>
          <p:nvPr/>
        </p:nvSpPr>
        <p:spPr>
          <a:xfrm>
            <a:off x="324000" y="2349360"/>
            <a:ext cx="8497800" cy="3022200"/>
          </a:xfrm>
          <a:prstGeom prst="rect">
            <a:avLst/>
          </a:prstGeom>
          <a:solidFill>
            <a:srgbClr val="3333cc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ESTRÓNGILOS GRANDES            ESTRÓNGILOS PEQUEÑO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Género </a:t>
            </a:r>
            <a:r>
              <a:rPr b="1" i="1" lang="es-ES" sz="2000" spc="-1" strike="noStrike">
                <a:solidFill>
                  <a:srgbClr val="ffff00"/>
                </a:solidFill>
                <a:latin typeface="Tahoma"/>
              </a:rPr>
              <a:t>Strongylus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 y otros     1. Familia </a:t>
            </a:r>
            <a:r>
              <a:rPr b="1" i="1" lang="es-ES" sz="2000" spc="-1" strike="noStrike">
                <a:solidFill>
                  <a:srgbClr val="ffff00"/>
                </a:solidFill>
                <a:latin typeface="Tahoma"/>
              </a:rPr>
              <a:t>Cyathostomum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 y otra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Tamaño grande (&gt;1,5 cm)     2. Tamaño pequeño (&lt;1,5 cm)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Cápsula bucal grande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      3. Cápsula bucal pequeña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Bolsa copuladora sin “cola”    4. Bolsa copuladora con “cola”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ffff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Migración extra-enteral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      5. Sin migración extra-enteral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324000" y="981000"/>
            <a:ext cx="8497800" cy="5582520"/>
          </a:xfrm>
          <a:prstGeom prst="rect">
            <a:avLst/>
          </a:prstGeom>
          <a:solidFill>
            <a:srgbClr val="3333cc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DEFINICIÓN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: infeccion del int. grueso por </a:t>
            </a:r>
            <a:r>
              <a:rPr b="1" i="1" lang="es-MX" sz="2000" spc="-1" strike="noStrike">
                <a:solidFill>
                  <a:srgbClr val="ffff00"/>
                </a:solidFill>
                <a:latin typeface="Tahoma"/>
              </a:rPr>
              <a:t>Strongylidae: Stron-</a:t>
            </a:r>
            <a:r>
              <a:rPr b="1" i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s-MX" sz="2000" spc="-1" strike="noStrike">
                <a:solidFill>
                  <a:srgbClr val="ffff00"/>
                </a:solidFill>
                <a:latin typeface="Tahoma"/>
              </a:rPr>
              <a:t>gylus vulgaris, S. edentatus, S. equinus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, (</a:t>
            </a:r>
            <a:r>
              <a:rPr b="1" lang="es-MX" sz="2000" spc="-1" strike="noStrike" u="sng">
                <a:solidFill>
                  <a:srgbClr val="ffff00"/>
                </a:solidFill>
                <a:uFillTx/>
                <a:latin typeface="Tahoma"/>
              </a:rPr>
              <a:t>estróngilos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 u="sng">
                <a:solidFill>
                  <a:srgbClr val="ffff00"/>
                </a:solidFill>
                <a:uFillTx/>
                <a:latin typeface="Tahoma"/>
              </a:rPr>
              <a:t>grande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s), </a:t>
            </a:r>
            <a:r>
              <a:rPr b="1" i="1" lang="es-MX" sz="2000" spc="-1" strike="noStrike">
                <a:solidFill>
                  <a:srgbClr val="ffff00"/>
                </a:solidFill>
                <a:latin typeface="Tahoma"/>
              </a:rPr>
              <a:t>Cyathostomum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 y otros (</a:t>
            </a:r>
            <a:r>
              <a:rPr b="1" lang="es-MX" sz="2000" spc="-1" strike="noStrike" u="sng">
                <a:solidFill>
                  <a:srgbClr val="ffff00"/>
                </a:solidFill>
                <a:uFillTx/>
                <a:latin typeface="Tahoma"/>
              </a:rPr>
              <a:t>estróngilos pequeños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RECONOCIMIENTO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: Ord. Estrongilida: bolsa copuladora en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machos; S.F. Estrongiloídea: boca grande; F. Strongilidae: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flecos en boca (corona radiada). </a:t>
            </a:r>
            <a:r>
              <a:rPr b="1" i="1" lang="es-MX" sz="2000" spc="-1" strike="noStrike">
                <a:solidFill>
                  <a:srgbClr val="ffff00"/>
                </a:solidFill>
                <a:latin typeface="Tahoma"/>
              </a:rPr>
              <a:t>S. vulg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: 2 paletas, </a:t>
            </a:r>
            <a:r>
              <a:rPr b="1" i="1" lang="es-MX" sz="2000" spc="-1" strike="noStrike">
                <a:solidFill>
                  <a:srgbClr val="ffff00"/>
                </a:solidFill>
                <a:latin typeface="Tahoma"/>
              </a:rPr>
              <a:t>S. </a:t>
            </a:r>
            <a:r>
              <a:rPr b="1" i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es-MX" sz="2000" spc="-1" strike="noStrike">
                <a:solidFill>
                  <a:srgbClr val="ffff00"/>
                </a:solidFill>
                <a:latin typeface="Tahoma"/>
              </a:rPr>
              <a:t>edent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: sin dientes, </a:t>
            </a:r>
            <a:r>
              <a:rPr b="1" i="1" lang="es-MX" sz="2000" spc="-1" strike="noStrike">
                <a:solidFill>
                  <a:srgbClr val="ffff00"/>
                </a:solidFill>
                <a:latin typeface="Tahoma"/>
              </a:rPr>
              <a:t>S. equinus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: 4 dientes puntudos  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BIOLOGÍA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: en int. grueso, huevos ovales, cáscara delgada,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con 4-16 blastómeros (tipo estróngilo), L1, L2 y L3 libre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en suelo (geohelmintos). Infección oral, estrongilos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grandes con migración sistémica, estrongilos pequeños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sin migración sistémica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IMPORTANCIA MÉDICA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1" lang="es-MX" sz="2000" spc="-1" strike="noStrike" u="sng">
                <a:solidFill>
                  <a:srgbClr val="ffff00"/>
                </a:solidFill>
                <a:uFillTx/>
                <a:latin typeface="Tahoma"/>
              </a:rPr>
              <a:t>Estrong. grandes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 (100s): invaden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tejidos, migran, nodulos int., muerden mucosa y chupan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sangre. Fiebre, anorexia, cólicos, diarrea, anemia, </a:t>
            </a:r>
            <a:r>
              <a:rPr b="1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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ganancia peso. </a:t>
            </a:r>
            <a:r>
              <a:rPr b="1" lang="es-MX" sz="2000" spc="-1" strike="noStrike" u="sng">
                <a:solidFill>
                  <a:srgbClr val="ffff00"/>
                </a:solidFill>
                <a:uFillTx/>
                <a:latin typeface="Tahoma"/>
              </a:rPr>
              <a:t>Estrong. pequeños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 (10 ó 100 de miles):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úlceras. Fiebre, anorexia, cólicos, diarrea, </a:t>
            </a:r>
            <a:r>
              <a:rPr b="1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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 ganancia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peso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Text Box 3"/>
          <p:cNvSpPr/>
          <p:nvPr/>
        </p:nvSpPr>
        <p:spPr>
          <a:xfrm>
            <a:off x="250920" y="260280"/>
            <a:ext cx="86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RESUMEN SOBRE ESTRÓNGILOS DE LOS EQUINOS (1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250920" y="836640"/>
            <a:ext cx="8642160" cy="5887440"/>
          </a:xfrm>
          <a:prstGeom prst="rect">
            <a:avLst/>
          </a:prstGeom>
          <a:solidFill>
            <a:srgbClr val="3333cc"/>
          </a:solidFill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DIAGNÓSTICO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: clínica mejor que carga de huevos (5000/h/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hembr/día los strong. grandes; 200/h/d los strong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pequeños). ¿Tratamiento cuando &gt;500hgh?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TRATAMIENTO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: benzimidazoles, ivermectinas y otros son efecti-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vos en &gt;90% contra adultos (¡resistencia!). Ivermectinas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o benzimidazoles repetidos efectivos contra larvas.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EPIDEMIOLOGÍA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: patencia en 6-11 meses (estr gr) o 1-3-¡5!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meses (estr peq, ¡hipobiosis!). Huevos en heces </a:t>
            </a:r>
            <a:r>
              <a:rPr b="1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 a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comienzos primavera hasta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mediados de otoño; L3 en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pastos </a:t>
            </a:r>
            <a:r>
              <a:rPr b="1" lang="es-MX" sz="2000" spc="-1" strike="noStrike">
                <a:solidFill>
                  <a:srgbClr val="ffff00"/>
                </a:solidFill>
                <a:latin typeface="Symbol"/>
                <a:ea typeface="Symbol"/>
              </a:rPr>
              <a:t>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2 a 6 semanas después (prolongado por sequía)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L3 en 20-5-3 días a 8-20/25-36ºC; L3 viven 0,5 mes en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verano y 3 meses en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invierno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s-MX" sz="2000" spc="-1" strike="noStrike">
                <a:solidFill>
                  <a:srgbClr val="ffcc00"/>
                </a:solidFill>
                <a:latin typeface="Tahoma"/>
              </a:rPr>
              <a:t>CONTROL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1" lang="es-MX" sz="2000" spc="-1" strike="noStrike" u="sng">
                <a:solidFill>
                  <a:srgbClr val="ffff00"/>
                </a:solidFill>
                <a:uFillTx/>
                <a:latin typeface="Tahoma"/>
              </a:rPr>
              <a:t>Tradicional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: antihemínticos cada 6-8 semanas todo el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año. ¡Resistencia! </a:t>
            </a:r>
            <a:r>
              <a:rPr b="1" lang="es-MX" sz="2000" spc="-1" strike="noStrike" u="sng">
                <a:solidFill>
                  <a:srgbClr val="ffff00"/>
                </a:solidFill>
                <a:uFillTx/>
                <a:latin typeface="Tahoma"/>
              </a:rPr>
              <a:t>Nuevo: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 antihemínticos cada 6-16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semanas (según fármaco) sólo en primavera y verano: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chequear huevos en heces (ideal &lt;100 hpg y &gt;90%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supresion) y L3 en pastos (ideal &lt;5.000/kg) por 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resisten-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s-MX" sz="2000" spc="-1" strike="noStrike">
                <a:solidFill>
                  <a:srgbClr val="ffff00"/>
                </a:solidFill>
                <a:latin typeface="Tahoma"/>
              </a:rPr>
              <a:t>cia.  Sacar deposiciones de los pastos 2 veces por semana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524880" y="201600"/>
            <a:ext cx="80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RESUMEN SOBRE ESTRÓNGILOS DE LOS EQUINOS (2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3" descr="EstrongilosGrand&amp;Peq2Marc"/>
          <p:cNvPicPr/>
          <p:nvPr/>
        </p:nvPicPr>
        <p:blipFill>
          <a:blip r:embed="rId1"/>
          <a:stretch/>
        </p:blipFill>
        <p:spPr>
          <a:xfrm>
            <a:off x="250920" y="1989000"/>
            <a:ext cx="8642160" cy="343548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4"/>
          <p:cNvSpPr/>
          <p:nvPr/>
        </p:nvSpPr>
        <p:spPr>
          <a:xfrm>
            <a:off x="85680" y="404640"/>
            <a:ext cx="905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MORFOLOGÍA COMPARATIVA DE LOS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ESTRÓNGILOS GRANDES Y PEQUEÑ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EstrongilosGrandesMarc"/>
          <p:cNvPicPr/>
          <p:nvPr/>
        </p:nvPicPr>
        <p:blipFill>
          <a:blip r:embed="rId1"/>
          <a:stretch/>
        </p:blipFill>
        <p:spPr>
          <a:xfrm>
            <a:off x="324000" y="1484280"/>
            <a:ext cx="8496000" cy="466560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3"/>
          <p:cNvSpPr/>
          <p:nvPr/>
        </p:nvSpPr>
        <p:spPr>
          <a:xfrm>
            <a:off x="1258920" y="333360"/>
            <a:ext cx="6537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MORFOLOGÍA COMPARATIVA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DE LOS ESTRÓNGILOS GRAND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3"/>
          <p:cNvSpPr/>
          <p:nvPr/>
        </p:nvSpPr>
        <p:spPr>
          <a:xfrm>
            <a:off x="986400" y="260280"/>
            <a:ext cx="69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CICLO DE VIDA DE LOS ESTRÓNGILOS EN EL AMBIENT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3" name="Picture 4" descr="EstrongilosCV"/>
          <p:cNvPicPr/>
          <p:nvPr/>
        </p:nvPicPr>
        <p:blipFill>
          <a:blip r:embed="rId1"/>
          <a:stretch/>
        </p:blipFill>
        <p:spPr>
          <a:xfrm>
            <a:off x="755640" y="692280"/>
            <a:ext cx="741672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EstrongilosTemp&amp;HuevosMarc"/>
          <p:cNvPicPr/>
          <p:nvPr/>
        </p:nvPicPr>
        <p:blipFill>
          <a:blip r:embed="rId1"/>
          <a:stretch/>
        </p:blipFill>
        <p:spPr>
          <a:xfrm>
            <a:off x="1042920" y="1268280"/>
            <a:ext cx="6826320" cy="531972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3"/>
          <p:cNvSpPr/>
          <p:nvPr/>
        </p:nvSpPr>
        <p:spPr>
          <a:xfrm>
            <a:off x="505080" y="260280"/>
            <a:ext cx="84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EFICIENCIA DE LA MADURACIÓN DE HUEVOS HASTA L3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Tahoma"/>
              </a:rPr>
              <a:t>DE ACUERDO A LA TEMPERATURA AMBIENT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EstrongilosPeqCVMarc"/>
          <p:cNvPicPr/>
          <p:nvPr/>
        </p:nvPicPr>
        <p:blipFill>
          <a:blip r:embed="rId1"/>
          <a:stretch/>
        </p:blipFill>
        <p:spPr>
          <a:xfrm>
            <a:off x="900000" y="765000"/>
            <a:ext cx="7559640" cy="573588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3"/>
          <p:cNvSpPr/>
          <p:nvPr/>
        </p:nvSpPr>
        <p:spPr>
          <a:xfrm>
            <a:off x="635400" y="260280"/>
            <a:ext cx="807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CICLO DE VIDA Y PATOGENIA DE LOS ESTRÓNGILOS PEQUEÑO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EstrongilosPeqPatolMarc"/>
          <p:cNvPicPr/>
          <p:nvPr/>
        </p:nvPicPr>
        <p:blipFill>
          <a:blip r:embed="rId1"/>
          <a:stretch/>
        </p:blipFill>
        <p:spPr>
          <a:xfrm>
            <a:off x="250920" y="1844640"/>
            <a:ext cx="8497800" cy="367992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3"/>
          <p:cNvSpPr/>
          <p:nvPr/>
        </p:nvSpPr>
        <p:spPr>
          <a:xfrm>
            <a:off x="826920" y="836640"/>
            <a:ext cx="237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1908000" y="13413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698040" y="907920"/>
            <a:ext cx="77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Tahoma"/>
              </a:rPr>
              <a:t>PATOLOGÍA CAUSADA POR LOS ESTRÓNGILOS PEQUEÑOS (1)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2:00:01Z</dcterms:created>
  <dc:creator>Pablo Turmero</dc:creator>
  <dc:description/>
  <dc:language>en-US</dc:language>
  <cp:lastModifiedBy>Pablo</cp:lastModifiedBy>
  <dcterms:modified xsi:type="dcterms:W3CDTF">2015-09-04T00:24:37Z</dcterms:modified>
  <cp:revision>104</cp:revision>
  <dc:subject/>
  <dc:title/>
</cp:coreProperties>
</file>