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AE53-AEC1-4BAF-A1B7-FB4F0C56E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7430-9ECC-4FB8-8E70-85E3E73F0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F94-A989-401E-BEB8-32220C9D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6FE-D137-49C5-A6E3-B416ADA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839-80D1-4E0A-AF14-92157C73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1E1-2EFB-419B-AFB8-6E12A338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6BFF-EE67-4FF5-BA14-49EB8F65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9756-F905-45A6-960F-5EF3830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51F0-20DE-4F6A-9578-9C9D9A47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8058-B8D6-4629-B1D4-A669E7E4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14F9-610C-4D9F-B760-E7FCA317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133F-36FC-4628-81E0-DC1BCF04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2EB-4F89-4EE5-948C-FF80498C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A2C-96BB-4199-A2E0-09D1C2F3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0F21-209A-4D96-A2BB-BA4285DC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90FA-6914-4EE6-A917-7F473FC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BA34-41E6-4278-8C36-859442C4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E651-45AC-472E-AE44-ED7AAA4D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7D20-EAB6-44A5-A3E7-9919A33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AEE6-44DB-4B1F-936E-F180CAF1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6E39-AD11-47F3-9F84-0F4D5802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DB9B-CDA5-44A6-87D6-7ED52B3E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CBBB-233C-4439-999F-7C93C814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6972-ED84-43A5-B756-9C30362B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735-613D-4C99-8D19-0671A22C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F3A3-2E96-4179-A201-57B0BB4F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FE66-4A3F-4E9A-8D65-972A567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AABA-C763-463A-9A1F-CDF51A1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4E825-FE3E-405C-AA7E-5C22D35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DE33-4BBA-4796-9682-1F3BC2C0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3EEF-AFD6-4F51-8830-9A237030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73622-7B59-482B-AE7E-3D052C90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12E5-BE94-4E10-9E69-D4104A05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1AE15-DA42-43E4-976B-5E0914AE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A3D8-FAD3-48BE-B28D-374D142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FB7-1BC1-4FB7-A189-F3D96B77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F347-2B7A-401B-835A-6493B83A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12BA-5D70-4236-9547-983834E8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7222-03D3-4747-8A44-E78E3348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DB0A6-FEC8-45EC-902A-74E5838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56F6-BA67-494C-89FE-7E036AF4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2C37-0089-4CD2-B922-7D939ED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77E9-E47F-4980-A5E8-B7C674AF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3E50-32FC-4DDF-A9B8-4EC4CD56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9D4F6-3C87-45E1-92A7-1AD6C435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1A3-55C7-4DA0-8075-3643539D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614-11AA-4B7A-B799-59AE1896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F74-75F6-4E63-B37B-70E226D7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605-3BBA-42E6-B5EC-428993A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C02-406E-49C3-8FEB-5D721FF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1879-E4FD-4990-9092-313945ED87A3}" type="slidenum">
              <a:rPr b="0" lang="es-ES_trad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9C84-9B07-47DA-9116-1BB4ED378E0A}" type="slidenum">
              <a:rPr b="0" lang="es-ES_trad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6639-4A31-48A1-A0C4-D9CC3346F122}" type="slidenum">
              <a:rPr b="0" lang="es-ES_trad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3CD9-1735-4143-BE5B-6D047E43BC61}" type="slidenum">
              <a:rPr b="0" lang="es-ES_trad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OL PROTAGONICO DE LOS RECURSOS HUMANO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4360" y="46641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Juan Manuel Gutierrez Tor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Peru - L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-457200" y="6858000"/>
            <a:ext cx="914400" cy="914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1371600" cy="1143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772400" y="0"/>
            <a:ext cx="1371600" cy="1143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Object 8" descr=""/>
          <p:cNvPicPr/>
          <p:nvPr/>
        </p:nvPicPr>
        <p:blipFill>
          <a:blip r:embed="rId1"/>
          <a:stretch/>
        </p:blipFill>
        <p:spPr>
          <a:xfrm>
            <a:off x="4876920" y="3581280"/>
            <a:ext cx="25905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AMBIOS DRAMÁTICOS EN EL PENSAMIENTO Y EN EL ACTUAR DE LOS RECURSOS HUMANO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980720"/>
            <a:ext cx="8076960" cy="4496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"/>
              </a:rPr>
              <a:t>David Ulrich señala cuatro maneras como los gerentes de RR.HH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"/>
              </a:rPr>
              <a:t>pueden crear una era en la cual Recursos Humanos esté centrado e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"/>
              </a:rPr>
              <a:t>resultados en vez de actividad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"/>
              </a:rPr>
              <a:t>Comuniquemos a la organización que los asuntos típicos de RH, como el cambio de cultura y el capital intelectual son definitivos para el éxito del negoc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"/>
              </a:rPr>
              <a:t>Definamos explícitamente lo que se puede obtener de Recursos Humanos y haga que RH sea responsable por los resultad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"/>
              </a:rPr>
              <a:t>Invirtamos en prácticas innovadoras de RH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"/>
              </a:rPr>
              <a:t>Actualicemos a los profesionales de RH. Las empresas necesitan gente que sepa del negocio, entienda la teoría y práctica de RH, que pueda manejar su cultura, que sea propiciador del cambio y que tenga credibilidad persona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3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30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ff33"/>
                </a:solidFill>
                <a:latin typeface="Arial"/>
              </a:rPr>
              <a:t>CAMBIOS DRAMÁTICOS EN EL PENSAMIENTO Y EN EL ACTUAR DE LOS RECURSOS HUMANO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2438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RH tenemos un duro trabajo por delante…debemos concentrarnos más en nuestro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bajo que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sólo hacer nuestro trabajo. Debemos medir nuestra efectividad en términos de competitividad en el mercado, en vez de comodidad del empleado y dirigir la transformación cultural en vez de aplicar la reingeniería o el downsizing para cambiar a una compañí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“</a:t>
            </a: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s tiempo de destruir el antiguo estereotipo y revelar el potencial verdadero de RH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-457200" y="6858000"/>
            <a:ext cx="914400" cy="914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1371600" cy="1143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772400" y="0"/>
            <a:ext cx="1371600" cy="1143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3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3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4876920" cy="1143000"/>
          </a:xfrm>
          <a:prstGeom prst="rect">
            <a:avLst/>
          </a:prstGeom>
          <a:solidFill>
            <a:srgbClr val="003300"/>
          </a:solidFill>
          <a:ln w="76320">
            <a:solidFill>
              <a:srgbClr val="ffff00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 DESCONOCID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2120" y="2437920"/>
            <a:ext cx="7772400" cy="3581640"/>
          </a:xfrm>
          <a:prstGeom prst="rect">
            <a:avLst/>
          </a:prstGeom>
          <a:solidFill>
            <a:srgbClr val="0033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ál es el papel futuro de la función de RR.HH.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inistrativo vs Estratégico….Un Re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partamentos de RR.HH: Existir vs Transformar vs Desaparecer…Estos debates continuará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cer el trabajo de los RR.HH: Los RH vs Los Directivos de línea vs El Personal…tema de discusión durante los próximos a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3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3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3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3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4648320" cy="11430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66ff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LO DESCONOCID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etáforas para los profesionales de los RR.HH ……Líderes, Arquitectos, Administradores o Jugadores ??? Cuál debería ser la identidad de los RH en el futur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gresividad de los RH Defensa vs Consentimiento, Activo vs Reactivo.. Bajo que circunstancias los RH deberían ser más asertivos y tomar postura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FLEXIBILIDAD-DINAMISMO- RESPONSABILIDAD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3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3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3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dfd0"/>
                </a:solidFill>
                <a:latin typeface="Arial"/>
              </a:rPr>
              <a:t>¿CUÁLES SON LAS ACTIVIDADES</a:t>
            </a:r>
            <a:br>
              <a:rPr sz="2800"/>
            </a:br>
            <a:r>
              <a:rPr b="1" lang="en-US" sz="2800" spc="-1" strike="noStrike">
                <a:solidFill>
                  <a:srgbClr val="85dfd0"/>
                </a:solidFill>
                <a:latin typeface="Arial"/>
              </a:rPr>
              <a:t> EMERGENTES 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ruir Liderazgo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áles son las competencias del líder del futuro ? Cómo pueden las actividades de RR.HH destinarse al desarrollo de líderes que descubran hoy las necesidades del mañana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rear capacidades organizativa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áles son las fundamentales ? Cómo se crean? Cómo se cambian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imar la transferencia de conocimiento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minar las herramientas de aprendizaje como la generación y generalización de conocimient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 influencia de la tecnología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ómo conectará la tecnología a los empleados sin contacto cara a cara? Cómo cambiará la tecnología los modelos de comunicación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0"/>
            <a:ext cx="1371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7772400" y="0"/>
            <a:ext cx="1371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6095880"/>
            <a:ext cx="12952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7848720" y="6095880"/>
            <a:ext cx="12952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3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3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3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3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3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Arial"/>
              </a:rPr>
              <a:t>¿EL FUTURO 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Las funciones tradicionales de los RR.HH. que abarcaban la contratación, formación y desarrollo, gestión del conocimiento, beneficios, regulaciones, relaciones laborales,etc., no desaparecerán, pero se convertirán en temas de debate para los Recursos Humanos, con nuevas actividades emergiendo constantement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Constantia"/>
              </a:rPr>
              <a:t>                                     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David Ulri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3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3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4617b"/>
                </a:solidFill>
                <a:latin typeface="Arial"/>
              </a:rPr>
              <a:t>ROL PROTAGONICO DE LOS RECURSOS HUMANO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3505320" y="3429000"/>
            <a:ext cx="2057400" cy="129528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457200" y="1828800"/>
            <a:ext cx="3352680" cy="17524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 Hist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812400" y="373392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5257800" y="1752480"/>
            <a:ext cx="3429000" cy="175284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o Man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7"/>
          <p:cNvSpPr/>
          <p:nvPr/>
        </p:nvSpPr>
        <p:spPr>
          <a:xfrm>
            <a:off x="533520" y="4648320"/>
            <a:ext cx="3429000" cy="19047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5257800" y="4648320"/>
            <a:ext cx="3505320" cy="19047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mbios dramá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el pensamiento y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533520" y="4876920"/>
            <a:ext cx="33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3962520" y="22860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6629400" y="365760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2"/>
          <p:cNvSpPr/>
          <p:nvPr/>
        </p:nvSpPr>
        <p:spPr>
          <a:xfrm>
            <a:off x="4038480" y="5410080"/>
            <a:ext cx="990720" cy="609840"/>
          </a:xfrm>
          <a:prstGeom prst="leftArrow">
            <a:avLst>
              <a:gd name="adj1" fmla="val 50000"/>
              <a:gd name="adj2" fmla="val 40614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3"/>
          <p:cNvSpPr/>
          <p:nvPr/>
        </p:nvSpPr>
        <p:spPr>
          <a:xfrm rot="18716400">
            <a:off x="3245760" y="3231360"/>
            <a:ext cx="534960" cy="473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DESARROLLO HISTORICO DE LA FUNCIÓN DE RECURSOS HUMANO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3505320" y="3429000"/>
            <a:ext cx="2057400" cy="1295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380880" y="1752480"/>
            <a:ext cx="335304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812400" y="373392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24160" y="1828800"/>
            <a:ext cx="317808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IN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ff66"/>
                </a:solidFill>
                <a:latin typeface="Arial"/>
              </a:rPr>
              <a:t>(1880 - 194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Hombre como má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Organización Científica del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Se le llamab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de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257800" y="1752480"/>
            <a:ext cx="3429000" cy="17528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533520" y="4648320"/>
            <a:ext cx="3429000" cy="190476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5257800" y="4648320"/>
            <a:ext cx="3505320" cy="190476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410080" y="1828800"/>
            <a:ext cx="31323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ff66"/>
                </a:solidFill>
                <a:latin typeface="Arial"/>
              </a:rPr>
              <a:t>(1945 - 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Hombre como miemb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un GRUPO, Hombre como pers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Escuela de Relaciones Huma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Se le llamó RR.II / 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de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631120" y="4724280"/>
            <a:ext cx="27349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ff66"/>
                </a:solidFill>
                <a:latin typeface="Arial"/>
              </a:rPr>
              <a:t>(1970 -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Conducta Organizac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Teoría General de Sistemas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Teoría Conting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Se le conoce como 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de Recursos Human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533520" y="4876920"/>
            <a:ext cx="332424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ff66"/>
                </a:solidFill>
                <a:latin typeface="Arial"/>
              </a:rPr>
              <a:t>(1990 - actualida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Conducta organiz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Teoría contingente / Configur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Dirección Estratégic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66"/>
                </a:solidFill>
                <a:latin typeface="Arial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3962520" y="22860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6629400" y="365760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4038480" y="5410080"/>
            <a:ext cx="990720" cy="609840"/>
          </a:xfrm>
          <a:prstGeom prst="leftArrow">
            <a:avLst>
              <a:gd name="adj1" fmla="val 50000"/>
              <a:gd name="adj2" fmla="val 4061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16"/>
          <p:cNvSpPr/>
          <p:nvPr/>
        </p:nvSpPr>
        <p:spPr>
          <a:xfrm rot="18716400">
            <a:off x="3245760" y="3231360"/>
            <a:ext cx="534960" cy="473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4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9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Arial"/>
              </a:rPr>
              <a:t>DESARROLLO HISTORICO DE LA FUNCIÓN DE RECURSOS HUMANOS EN EL PERU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440" y="2819520"/>
            <a:ext cx="3809880" cy="3200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AN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Mercado laboral loc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Baja diversidad de la fuerza labor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Alta participación del Ministerio de Trabaj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Estabilidad, autoritarismo, paternalismo: manejador de conflict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Relación obrero - patro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724280" y="2819520"/>
            <a:ext cx="3810240" cy="3200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AHOR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Mercado laboral internacio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Alta diversidad de la fuerza labor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Nuevos roles Estado - Empresa - Trabajado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Adaptabilidad, empleabilidad, liderazgo y visión compartid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Relación Líder - Trabajad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8686800" y="0"/>
            <a:ext cx="0" cy="685800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3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3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3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3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3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3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3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3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3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"/>
              </a:rPr>
              <a:t>DESARROLLO HISTORICO DE LA FUNCIÓN DE RECURSOS HUMANOS EN EL PERU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440" y="2819520"/>
            <a:ext cx="3809880" cy="304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AN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Mano de obra y contrato de trabajo con la empresa princip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Ascensos lentos y pocos cambios de emple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Inversión: condiciones de trabajo y sociales, sueldos y salarios, adiestramien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4280" y="2819520"/>
            <a:ext cx="3810240" cy="304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AHOR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Empleo e intermediación en los contratos de trabaj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Ascensos tempranos y rápidos cambios de emple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Inversión: condiciones de trabajo sociales y tecnológicas, incentivos y premios y talento huma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3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3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3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3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3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3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3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UEVO MANDATO PARA RECURSOS HUMANO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440" y="2286000"/>
            <a:ext cx="3809880" cy="3657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 su tradicional función de establecer reglas, políticas y procedimientos; de manejar el papeleo sobre contrataciones y despidos y el aspecto burocrático de los beneficios y compensaciones, generalmente establecidos por otr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7960" y="2286000"/>
            <a:ext cx="3809880" cy="3657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asta un nuevo rol que lo convierta en un gran contribuyente en el desarrollo de la excelencia organizacion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3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cc66"/>
          </a:solidFill>
          <a:ln w="76320">
            <a:solidFill>
              <a:srgbClr val="cc9900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NUEVO MANDATO PARA RECURSOS HUMANO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2590920"/>
            <a:ext cx="3809880" cy="312408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Si RH permanece estancado en su rol tradicional, definitivamente, ninguna institución que quiera tener el liderazgo en el mercado propiciará su participación,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800240" y="2590920"/>
            <a:ext cx="3809880" cy="312408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Sin embargo, si se conecta al trabajo real de la organización influyendo en la mejor atención a sus clientes, en los mejores resultados económicos y en el desarrollo de sus empleados, su función no sólo será necesaria sino trascendent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3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CÓMO DESARROLLAR LA EXCELENCIA ORGANIZACIONAL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ff"/>
                </a:solidFill>
                <a:latin typeface="Arial"/>
              </a:rPr>
              <a:t>Compartiendo la responsabilidad con todo el cuerpo gerencial de la institución en la ejecución estratégi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ff"/>
                </a:solidFill>
                <a:latin typeface="Arial"/>
              </a:rPr>
              <a:t>Proporcionando eficiencia administrativa para asegurar que se mantenga la calidad a  costos reduci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ff"/>
                </a:solidFill>
                <a:latin typeface="Arial"/>
              </a:rPr>
              <a:t>Convirtiéndose en un  campeón para los empleados al representarlos vigorosamente ante la alta dirección y al mismo tiempo incrementar la contribución de los trabajador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ff"/>
                </a:solidFill>
                <a:latin typeface="Arial"/>
              </a:rPr>
              <a:t>Siendo un agente de cambio continu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0" y="5105520"/>
            <a:ext cx="1981080" cy="1752480"/>
          </a:xfrm>
          <a:prstGeom prst="rtTriangl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6"/>
          <p:cNvSpPr/>
          <p:nvPr/>
        </p:nvSpPr>
        <p:spPr>
          <a:xfrm rot="10861200">
            <a:off x="7162200" y="0"/>
            <a:ext cx="1981080" cy="1752480"/>
          </a:xfrm>
          <a:prstGeom prst="rtTriangl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7"/>
          <p:cNvSpPr/>
          <p:nvPr/>
        </p:nvSpPr>
        <p:spPr>
          <a:xfrm rot="16102800">
            <a:off x="7277040" y="4990680"/>
            <a:ext cx="1981080" cy="1752480"/>
          </a:xfrm>
          <a:prstGeom prst="rtTriangl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8"/>
          <p:cNvSpPr/>
          <p:nvPr/>
        </p:nvSpPr>
        <p:spPr>
          <a:xfrm rot="5400000">
            <a:off x="-114120" y="114120"/>
            <a:ext cx="1981080" cy="1752480"/>
          </a:xfrm>
          <a:prstGeom prst="rtTriangl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3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3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3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ÓMO DESARROLLAR LA EXCELENCIA ORGANIZACIONAL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ddddd"/>
                </a:solidFill>
                <a:latin typeface="Arial"/>
              </a:rPr>
              <a:t>Asegurándose que la visión, objetivos y estrategias institucionales estén basados en un valor fundamental como es el respeto a la dignidad y valor de la persona como ser humano, como un ser humano que se sienta real e incesantemente valorado y reconocido en todo su potencial y apoyado para que constantemente aspire a mejorar su calidad de vid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ddddd"/>
                </a:solidFill>
                <a:latin typeface="Arial"/>
              </a:rPr>
              <a:t>Alentando constantemente una comunicación permanente en todos los niveles de la institución</a:t>
            </a:r>
            <a:r>
              <a:rPr b="1" lang="es-ES_tradnl" sz="1800" spc="-1" strike="noStrike">
                <a:solidFill>
                  <a:srgbClr val="ddddd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0"/>
            <a:ext cx="190512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7238880" y="5562720"/>
            <a:ext cx="190512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0" y="5562720"/>
            <a:ext cx="190512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7238880" y="0"/>
            <a:ext cx="190512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3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3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6:00:59Z</dcterms:created>
  <dc:creator>Subgerencia de Informatica</dc:creator>
  <dc:description/>
  <dc:language>en-US</dc:language>
  <cp:lastModifiedBy>Juan Manuel</cp:lastModifiedBy>
  <cp:lastPrinted>2001-09-08T00:41:46Z</cp:lastPrinted>
  <dcterms:modified xsi:type="dcterms:W3CDTF">2015-10-15T15:21:10Z</dcterms:modified>
  <cp:revision>10</cp:revision>
  <dc:subject/>
  <dc:title>DESARROLLO HISTORICO DE LA FUNCIÓN DE RECURSOS HUMANOS</dc:title>
</cp:coreProperties>
</file>