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D76-F6DC-47C5-AB95-C599EBD3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AAE-EAE7-464E-9DC5-B36D7FEC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AB9A9-BBA1-436C-910E-41B16734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9A4E2-9B70-497E-9181-9BCD311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49FA7-0987-4534-8E52-C657702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0BB71-1FFA-4CA0-8822-9C7A43B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9E3CF-51CA-4EA5-861A-8BC37677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29505-0318-4E6E-97D8-ADE98BC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A727-BA60-4FAF-88D3-E5084FD2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D6A3-5ECE-4ABF-ABFD-8FC79828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48F61-151D-4A0C-AA1A-391D47C4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E1712-22D3-43C8-AACA-48EEF4A0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478-5E29-4DE9-9AB4-8716C956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F870C-D318-42DB-9DE9-1CCDDFA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8C196-7C09-4ED2-98B6-96FFCA7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AF0A-E641-4400-B9D4-CBC9C916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25F72-391F-435E-AA6E-9D021403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D4CB6-B6B2-49C6-A257-4EE970E1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C03D8-FC8E-4E2F-8672-9659BB00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10CA-2394-4EC8-B43C-2508F86C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B96CD-3830-427D-BF48-C93F577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40624-436F-4302-8CE5-00D90815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B3F93-A4CF-4778-9B3B-B4DFD55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87F-E91B-4A44-BE62-36D821E4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DEB9-AE34-487B-A434-E40D3C76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7753-90BE-4246-A0B0-6BCF3915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F5B17-D59D-4D32-A874-492698B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98492-D081-46F7-BE68-E1791F3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16FE4-1D9E-41CD-9BF3-EA2E2FA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703F-B580-470A-AD3B-34D99445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9B709-3AF2-428E-92BB-DC9A4DA7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0475D-8D07-440B-82AE-5F5F30F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C6CE0-872A-49F3-922F-A281A38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C300-9BCD-44F2-8101-A739A1D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A074-39F8-4FE5-A24D-AE1E6E1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D27CE-82E8-4DE1-8AE3-01ED655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2ADA6-A8E7-45C6-B068-3633DA18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1422-630D-4A25-9E81-3C7EA1A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43C56-F6BE-4FA4-AC95-17C3A8A2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C7025-005B-430E-ADD9-16865E5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7FD5B-9D25-4655-954C-C2817057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6B7F6-FFCC-4EE4-B989-E51A5BE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06B49-E336-4FF6-B0C4-D69F3B90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29D07-F129-4C21-9EC4-9DE3C587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2CBC3-013C-4215-98E4-DF20168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4320-B780-48E1-A0DD-EC367E90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4CA8-E0A0-4E6E-857A-1C66C0B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83E3-5924-4EF4-A7E2-9D8D612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72474-D34D-4547-BF61-D5E7B792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775DF-4F34-438F-8B5B-9F187AD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47B1B-E762-4B40-A911-8A25C455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3C1F-6601-4C80-B4C0-4E7F18A1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D21-BCBF-4617-8ADD-0619A5F4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042E-91A4-41DF-82A3-21C17F3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2FA3-4116-4E30-89AD-B774A87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CF17-8FA5-4751-9692-820C272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E4C-091F-491D-9C8B-73968C7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DF2C-6E96-4034-9CDF-20EF34D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DF2E-416B-4814-BA4A-B3FAD88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1FEC-D4F3-472A-A77E-217FE140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510-C3C3-4CED-A8C7-0DAE7E5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177-0D73-4BA6-87C3-10916B02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84D7-12DC-49F1-896B-7BB97E71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EA62-681C-4ABF-8F8A-3E398FE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B970-7A1C-4394-AC28-CC38316A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3872-FC06-45F5-85DC-39FD20F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9C78-16C2-4C35-81B3-55BB605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BAE-01A4-4498-B7DD-074CF623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1162-AD2A-4BE9-9BB5-0B062B3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0275-B461-4184-B4AE-19ED1EF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E3A4-997D-432C-8C02-75F059F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434F-7038-44D6-849A-9D0AE7D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AB67-61CC-4AFD-A683-25DC1B3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E913-0209-4813-A8E1-87416010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DE4F-B81E-4C8C-A337-451E04D4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B374-B59F-46D7-B10B-4B4E007B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FE5E-2AC2-4BBC-A5FA-2954007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89C5-9B93-48E6-9349-F5EAD7D6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7E0-FB78-4D25-99DB-7EDDAE94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4AAC-879E-420D-8B66-9BEC3E8E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1EDE-0DED-47EB-8642-EA2272A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5B5D-748D-4823-94BE-46D1584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23EB2-3EA6-46F8-8955-8469844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AFAC-99EA-4AED-9394-114B1E7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A101-9B10-4A79-AFB3-32F6A0C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88A9-11F1-4A9E-A432-135B444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FE2A-E9A0-40A7-9BBF-C41499F6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3785-2B52-47E2-A3A5-1A863DA8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1043-AC5A-4447-B0BE-C96E6B40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D9F-466C-4779-AED4-0FAED5D1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9F08-2A10-4CAF-8677-9D3AEAE2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E249-F9D5-46D8-B2DB-9C1D492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60DA-0843-499D-A914-EE0DE649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46C5-E7F9-4E63-95D9-AE0D9B8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E60BA-C735-4542-8B4A-89D54857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B6A60-D31B-4374-A2B6-5D4494F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9827-7350-43F8-BC5A-9CDE983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48CD-9863-4701-87D4-F3C78C70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168A-47CC-46C6-85E0-BBD75DA6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0B93-5CA3-4BD2-98F9-45650F6F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4C9-B657-4C51-BCEE-F169AC0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F98E-2F46-4D89-85C0-1A322EBC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FF9C-2546-4DAF-BFAE-A39E299B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8A00-E95F-4673-9161-172EBD2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71E9-822D-4B47-9942-03DDBEC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DB40-0DE1-4175-B98F-9AAB313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34D7-482E-4FEB-85B3-839D572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B216-711D-40FE-B64B-232E02D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3BC5-AB76-4691-9B41-982E97A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4C25-B12E-4B63-A4CF-ADC0A4F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26B60-8D00-4BC0-8F05-CBA1B47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0F0-496C-4F42-A8D8-2B9EE92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D4879-8860-4A27-81DC-312C66C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850B-8670-4B90-AA69-6D08915B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3741-0E73-4E4A-BB39-38F1B653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8A2B8-7375-4F33-812F-4082A07C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D1D8B-AB7E-40D7-AF7E-0B85964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E496-1100-4FAE-AE2F-87C5567C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7E1B-CF38-4DCA-8AB3-AD44CD3D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000A-0511-4B94-830B-F37ACA0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20ED-FA22-465A-A384-8015D4FE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DE95-F196-479B-A301-D90D6765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6E9-20C8-435A-A128-1772D61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B24F-918E-4C8D-9444-EE8AB83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4289-87DF-4BD4-AA6B-8F5894D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8A7D2-CAC3-45B6-9B7B-3E0C415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4A2C-92CE-4859-A288-8C85FA0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B1823-5BD2-4552-99FE-079F83C4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BFF9A-963F-4B8D-83A4-9CA55527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8315-17C7-4C55-BD5E-41613CA1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A5ED-BCD2-42FD-B3AE-8E1D4E5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237FB-2459-4EF4-9CA4-D435BE1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F0EB-4D2D-4F4C-80CE-B4EC6C1F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B5F-DA7B-4B51-B842-40DDA8F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0C022-51AE-42C0-ADC8-8246E78B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0BA99-A7C8-4FC2-A5A3-297BD42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4D980-B623-4400-A26D-C628ACE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0300-37F4-48FF-9D1D-F5ABCE9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E0CD-E2FA-4614-863A-6527209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88B3-D36F-448E-90D3-4580E1A4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5BA9-1EF9-43A7-98D3-23736446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F640-8583-492C-907F-C2DA511E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8F169-2282-4F6F-ADAD-F30A11A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0EDC-88F2-4C75-9070-63EE2B08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BD8-1D19-48A8-8995-639FEF108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7BD-EBC2-4E50-930A-F2FD429B6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0EF2-00E7-4318-AB9B-D0A289B92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F7B-E94F-41DC-B859-16DE7B368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C0E7-2131-46B4-AAA4-B483B308AA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3E9-B45B-4247-B147-EAD5FD81B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49EE-A32D-4B76-96F8-9EAF292574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886-A5CA-4EEC-A54D-8C8325FB8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D857-5349-4C12-9481-302E82930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A4F-9F2E-4B87-9550-E846BF36B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8E42-C545-470F-8238-CAEEBECA4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21E2-FAF7-47CD-BC82-1361AB289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92C-55EE-40B8-9AAB-DAF875A05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73A9-5250-490F-88BE-D4ED81E78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3264-A268-40EB-A975-0E8C2AC3ED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40D-7248-45AF-9BD1-417F7959C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E968-5335-4000-A86D-1410C2BF9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CD9-93DF-4927-90EF-BB1DD3FE9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D62-D005-47EF-94F1-1E559AC2D3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5AB4-E634-4115-944C-070CCB9CA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309-9163-4492-BC4B-9353D279A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5EB-EBF4-44F8-AC19-CE9BB38C4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8B4-5D22-418F-A782-392FB96F2B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5630-3BF8-4763-B576-83663B5C9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352520"/>
            <a:ext cx="861048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Descripción y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898989"/>
                </a:solidFill>
                <a:latin typeface="Calibri"/>
              </a:rPr>
              <a:t>Sistemas Operativos Avanz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478-DDEC-49A9-A2F8-4FB241E09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ablas de mem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Mapeo de porciones de memo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rincipal y secund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Gestión y prote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ablas de E/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dministración de dispositivos y canales de E/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stado de las operaciones de E/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jemplo D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FCA-7074-4B03-B03C-7B06C368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ablas de arch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formación de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osicion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s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Trabajo en conjunto con el sistema de gestión de archiv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ablas de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Qué tendrá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2865-5560-43B9-A9DF-37EF94ABB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ablas de proc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1° conside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Interconexión o referencias cruzadas entre tab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2° conside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¿Cómo sabe el SO crear las tablas por primera ve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Conocimiento básico del ento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Cantidad de 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Dispositivos de E/S e identifica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¿Cómo se logra este conocimiento del entorn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DF3-9E97-4E74-8624-ACE4529E6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Qué debe saber el SO si tiene que administrar y controlar los proces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Dónde está ubicado el proc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tributos del proc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ID del proce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s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Ubicación en memo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EDE-13C3-4F83-9720-ACFD356A5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Cuál es la manifestación física de un proce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mo míni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rogra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D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Locales, globales, cons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i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Atributos </a:t>
            </a:r>
            <a:r>
              <a:rPr b="0" lang="es-V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 PC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Programa + Datos + Pila + Atributos = Im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9C8-6BBD-45C3-A93E-A74592B23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Programa + Datos + Pila + Atributos = Ima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E6F0-E3B0-4FFE-B153-8BE74792A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632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De qué depende la ubicación de la imagen de un proce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squema de gestión de memo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Administr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jecu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784-77D3-484E-821A-421174B24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l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6840" y="15998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PC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Process Control Bl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Visión gen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E31-D78B-450B-BF5B-825B98DD4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2860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Información requerida puede agruparse 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dentificación del proc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formación del estado del procesad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formación de control del proc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78F3-A438-459C-A00C-00FCE7D1B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E64-EE60-48E5-977A-B48880BD7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834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diseño de un SO debe reflejar ciertos requisitos gener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Dichos requisitos están construidos bajo el concepto de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tercalar la ejecución de múltiples proces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signar los recursos a los proces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municación y creación de proces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0AC-D000-4CDF-9498-212C5AC5E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E2C6-A7ED-4451-8730-B17CDA7BD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09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30A-A87B-4158-A040-374BA7F9D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4581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Papel o rol que desempeñ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ntiene toda la información necesaria acerca de un proce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sta estructura es usada por casi todos los módulos de un 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Planificación, asignación de recurs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l conjunto formado por todos los PCBs define el estado del 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F6D-8A6C-4BDB-9262-EC836900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Opiniones acerca del diseño del PC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Es un problema el acceso a los PCB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Existe algún proble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Prote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960-1B8E-499D-89E0-38AE8A7A7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Bloque de control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Existe algún proble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Un error en una sola rutina </a:t>
            </a:r>
            <a:r>
              <a:rPr b="0" lang="es-V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 Implic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Un cambio de diseño en la estructura o semántica del PCB </a:t>
            </a:r>
            <a:r>
              <a:rPr b="0" lang="es-V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 Implic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Sol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Rutina de gestión de PC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nside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FAEB-B22D-4906-8B5A-031CEB3FD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jecución del 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Consider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l SO funciona de la misma forma que un SW corr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Es un programa ejecutado por el proces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l SO abandona frecuentemente el control y debe depender de que el procesador le permita recupera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6E2-C7DB-4F8D-80B5-F04A5F4A6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jecución del 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Pregunt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Es el SO un proces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Cómo se control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stas preguntas merecen atención, por ello estudiaremos diferente enfoque que pueden encontrarse en los 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2BD4-77DD-4753-A0C4-82BB3CC33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Núcleo fuera de todo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nfoque tradici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núcleo del SO esta separado de cualquier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concepto de proceso se reserva sólo para programas de us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Funcionami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código del SO se ejecuta como una entidad separ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8AF2-5F5A-4F8B-926A-7CC68014D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Núcleo fuera de todo pro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67B-A646-45F7-AD5E-7E087674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7684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jecución dentro de los procesos de usu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Alternativa común para estaciones pequeñ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P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Se ejecuta casi todo el SW del SO en el contexto de un proceso de us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Con este enfoque el SO 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lección de rutinas, ejecutadas dentro del entorno del proceso de usu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3C9-60CA-441C-B559-03713173E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Qué es un proces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451-086A-400C-BF84-C0D283ECB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87789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jecución dentro de los procesos de usu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6B39-D78E-45FE-A729-BE7B8B06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024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Ejecución dentro de los procesos de usu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Bajo este esqu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Cómo seria la imagen de un proces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Id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Qué pasa cuando el SO es invoca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Cómo se protege el código del S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Diferencia entre proceso y progr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B57-66C6-4EEB-BCBC-85E67C6A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Otra imagen de proces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50D-1E4D-4DB1-9478-1F078C1B4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358164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SO basado en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SO se implementa como una colección de procesos del sist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El SW que forma parte del núcleo se ejecutará se modo núcl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Las funciones más importantes del núcleo se organizan en procesos separ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6B83-B44F-440E-B016-6CB5FE040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SO basado en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BEE-8791-4AAA-8C1E-C6BCA3ED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136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Creación de proc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Asignar el espacio de direcciones en la memoria princip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Construir estructuras de datos para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Raz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Nuevo trabajo por l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Conexión interac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Creado por el So para brindar un servic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Generado por un proceso exist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C7FD-4419-4C1F-9E9B-A63B6901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erminación de proc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Nor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Tiempo limite exced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¿Cómo medir el tiemp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No hay memoria dispon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Segmentation fa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rror de prote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Error aritmét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E1AB-4C41-4CEE-A4C8-9347A4845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Terminación de proces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Tiempo máximo de espera rebas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Fallo de E/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strucción ileg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strucción privilegi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Mal uso de los da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ntervención del operador o el 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Terminación del padre. -OJO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Solicitud del pad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3A3-5A41-4798-8826-1BD565F96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Descripción de proce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¿Qué necesita el SO para ser capaz de controlar los procesos y administrar los recursos para el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2F3A-5352-422E-9EE4-641872C22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Calibri"/>
              </a:rPr>
              <a:t>Método universal para administrar la inform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Tabl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Construcción y manteni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Calibri"/>
              </a:rPr>
              <a:t>¿Qué tipo de tabl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alibri"/>
              </a:rPr>
              <a:t>Memoria, Dispositivos de E/S, Archivos, Proce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260-55DD-4060-BD38-7D5D8E5DA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Estructura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5EC-FB9C-40F7-A790-9055DCE82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5:17:59Z</dcterms:created>
  <dc:creator>Pablo Turmero</dc:creator>
  <dc:description/>
  <dc:language>en-US</dc:language>
  <cp:lastModifiedBy>Pablo</cp:lastModifiedBy>
  <dcterms:modified xsi:type="dcterms:W3CDTF">2016-01-04T23:16:59Z</dcterms:modified>
  <cp:revision>60</cp:revision>
  <dc:subject/>
  <dc:title/>
</cp:coreProperties>
</file>