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1FB-BFAB-4538-AFBE-064279F9A70B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Hacer ejemplos de nomb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F27-5E6F-4FFD-A5A6-BC83FDF85C66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5D0-89DD-4363-B220-1A47D77F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084-63E5-4C66-9FBF-224A79A7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CF41F-F210-4672-89CD-55160F5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BA341-C954-4D7C-9026-650C7685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D6CBB-DF6D-4F86-8B3A-E549C12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1FFC-A0E4-4B3B-8756-113B6DA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D5B32-B51D-4B2E-97CB-D97F22B3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09465-ADFE-4E22-BCDD-40D6804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FD3BC-549B-4239-A1C6-9A26A798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D650-FD51-46B4-B5E4-CDC62F04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5E51-DB4E-436B-BB3C-4D845FA1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0B21-AB60-4DD9-B0F7-99784510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568-ED3A-4E2B-B306-1CBD8559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B1846-3627-4CD5-8D49-EEDA2F8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E3BFC-E8F4-4AB4-9020-39860A56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32E0-12DA-41F8-930B-A0A8A84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25C70-3015-4907-ACE4-D67FA70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71774-C898-40CA-BA34-ABBA16CC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4028E-3B00-46B0-89C1-89B2CA9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9729C-88BE-420F-ABB2-0F68F91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B205-A149-4523-A61E-954D0E1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B768B-B3BA-476F-B18E-7614E81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E2605-3C26-4B3E-8530-DB243117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322-7AA8-4EA2-8101-06BB1A4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ED345-31A9-46E8-A71D-BFDE7FEF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169AB-3D82-4E08-AAED-3B261680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FE753-EB81-4B39-B028-C1DD0B1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C2F7-BC81-4DA9-9F13-152140C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97CD-004B-45E8-AD52-53E0C1F3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8FFAD-CE5C-4A1F-9759-FBAE06D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D01DA-A995-45E1-8532-C48EE19F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577B0-A9CE-4446-A3C6-C9450BF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22E14-95B4-463F-9CF5-60BA581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74EC-85FA-4290-9A55-A5BBD8B4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D6C-BCB9-48F0-ADD4-685B65FE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8DEBB-2C45-4C90-A4C1-E1922A9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2A605-A843-4930-90B3-5727A7CE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6752C-C1A9-4FFA-9BCA-B1AF1282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8B1D5-0C6F-4A52-B404-368E35D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3B95-D4AC-44BF-8C30-5B781C3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4B7E3-AC6A-411A-B8B5-2375181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1F6E-3344-4C49-B14E-03AF12D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DE9AD-2D40-4941-A05D-622C86F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6B53D-0131-430C-9865-64936B6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ECAA2-0096-488B-9750-7E4C03E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2848-D05B-4318-979E-53BC33AB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0250-2B51-4C2C-895F-3F5F33FE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64E30-943E-4B44-AB55-41DAD1D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7D864-2A1A-4F2F-8E1C-2BDCBB5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91082-9E56-4237-BA18-0993CEA0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A076E-D605-4A3C-97D1-6B8DD683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255F-FBDF-4F61-B717-B6B50C0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FC2-8D92-4575-A91A-8EFBF9CE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F9E-EDD5-4B7E-89B2-AD0B0F8F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0FD2-54D2-4832-904D-306AC5E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FB9F-9D29-48C2-8B36-93149EB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C39-D6AF-4642-B7E2-DC099CD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9870-235C-4F71-949E-9DF0B62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8074-934D-48F2-A31B-7E2F412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BC26-E6C6-49A2-923B-BB87F65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B304-71D5-4045-9E18-96E2000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34B8-B680-48A6-AA7E-6BB981E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5AE9-632C-4ED4-9679-3F75614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3BCC-A8F2-432E-804E-4B1C2817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24C3-666B-424D-B542-F229BFC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EF3F-B20B-4C66-864F-D7642ED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3C94-93A3-4981-84A5-BE27C38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616-E1D7-4DD1-8AE5-68B41D2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FE1B-2DDE-4DEC-ADD0-AF6CE4C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C982-199A-41AD-B48D-B396ABE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1D9F-0928-4986-8C84-C2E3D16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9B43-9A4B-48CF-ADD9-E503730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2171-2E3F-4000-AC9A-59AA8E43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FBE4-C98C-425F-9463-EFBD2033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84D3-3F43-4309-AE77-DE500E0A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96C4-FB55-4A4D-8C04-4151AAE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EF19-1587-4175-AC5F-F61F32B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FD4C-9226-4E23-96BF-A407494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8A1-E7B7-444B-83F8-CC51A826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0786-F558-435D-8771-6C471D3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DEAE-BC10-4C30-A554-5A65B8A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C75E-1F24-4407-896B-C5FC582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32BC-6008-4571-9F8C-726FDE7B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A51A-2227-4ADC-A4F5-FC2F4C5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2E00-DA68-401B-B3EA-DDE5638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64E4-A915-4442-8381-B0409CB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453B-3C5B-4389-BD61-FAD63DF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A198-16B5-4E36-927A-F7A3E9A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3E87-FB9D-4EAF-BBCD-49FBC04A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08A-3940-4E26-AF5E-A0D9F3C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F975-7611-4CBA-97FD-26DBDD58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3033-7C82-4787-B75A-970DC41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E126D-7DC0-4ACF-BA13-C1203AF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5D7E-FFEB-40BE-8B22-9297C14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FC26-57E0-4027-B93B-9CBCB9DC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1D4F8-F8D2-4D53-B2A8-9B6C490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9823-4E73-436A-A055-5C94274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24FB-CC8D-4459-A305-11B1233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97DF-87B3-4500-B78F-CE2206A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D2AD-88F2-4955-A480-FE849F3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BF5-6A06-4A5E-909C-757A5029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CEB9-6CB9-4BFE-B2FC-1B8AC77D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2998-AAC0-4F23-9351-5D032C86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E191-6CF3-4E49-9E8F-08D4BEA7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9818-329F-4C4B-A195-8C0BF31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ED24-D3BE-4C9F-B9C6-1A201BAF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B878-E25E-4F2B-836E-59BCBD39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AABF-9FE2-4692-8A5C-70C3A03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219A-E714-4B7A-8B2D-99B56C1A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8EDF-A1EE-400E-AB70-9C192A7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0F68-1365-4D28-8803-9E4A57A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368-B2AC-44E7-845D-9B755F4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50F3-6666-41A9-9524-4E153E0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84A2-44AC-49C3-978E-EF4D5585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CEC87-279E-4864-A2B0-E4CAE82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D630D-77D9-48D6-A7CE-3E06D873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CCF8-FEE6-484E-8FDF-CC2FA4F6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6FE5-8E61-4FAE-A5E2-06D607A5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7F246-BFBB-4721-B401-122D2EBD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C5C9-677B-4C43-B961-984E096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A393-ECF6-443E-B1DD-9D562E24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AD49-DB90-41BC-8F58-C9013E4B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D57-8A3D-425C-AF48-6A2B8FA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8ABA-4138-44C1-A7CC-49013A5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E9E70-D427-4C5E-96EF-6721A19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3166-7D48-46E1-BF3E-5FF05B67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3448-6537-449F-AA7D-D668AF2E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1130-E47A-41F9-A5F9-88737933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6A5A-E5A1-48B3-820B-6FCB17E3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294A-CC82-4A62-8E37-3FD12D34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12076-0579-44DE-B833-986EE06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EBF2-BB66-4C4C-BB99-B073718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3AA4-E626-44DF-9E46-DFB8D05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7FB-CF5B-4709-B366-7C01E7D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862D-550E-43A2-9A68-11F97B0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29BC-3198-4232-85BE-4C2520B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F6FD-A551-4680-8116-9B0F38C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AA964-75DF-416B-91EA-B8DDB43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49A8E-E09D-470F-B515-F4EEB4D3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493C5-337D-41B4-B97A-7195F558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D027D-8242-455D-84D1-C269EBD0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4066-143F-4282-98F9-4A2FEF8C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C5A1-EC31-41E7-9175-A1F1EC9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7EB9A-DE67-41D2-A399-0FCA6B7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66A-8BA2-4765-9D0F-EB80BE1D7520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10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11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12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68B-EC5E-42F3-B991-FEB5359C5B2E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D908-1B3C-4DCA-9F5F-920D2515FEA9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F9F-8784-47BC-AE06-70EC0048E67C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12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6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9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10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319-8AEB-41A6-8D00-85BA38E006EF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A05-A7B3-482D-9E37-4EEA2A50924C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1" name="9 Rectángulo redondeado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4" name="6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7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8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B6C-6FE4-4AB8-94F8-3C71B49CCCB6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B12-DB85-41B1-8E96-DF4861D8DF7D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DAF9-3173-4FBA-8469-811EF357C5FA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596-3F6D-40CF-9852-BF799CB1B0EE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CE5-0D59-4C02-8619-AA8F1BBFFD6B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7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8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9C5-7614-4221-AA19-F80EB6E968F6}" type="slidenum">
              <a:rPr b="0" lang="es-VE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ff"/>
                </a:solidFill>
                <a:latin typeface="Franklin Gothic Book"/>
              </a:rPr>
              <a:t>Introducción a lenguaje de programación Visual Basic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1 Rectángulo"/>
          <p:cNvSpPr/>
          <p:nvPr/>
        </p:nvSpPr>
        <p:spPr>
          <a:xfrm>
            <a:off x="642960" y="64296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2d050"/>
                </a:solidFill>
                <a:latin typeface="Perpetu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Cómo se declararían las variables Nombre_estudiante, nota1, nota2, promedio, en un programa que calcula el promedio de un estudiant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155520" y="-1554120"/>
            <a:ext cx="266688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8" name="Picture 6" descr="http://blogs.unlp.edu.ar/matematica1fdf/files/2013/09/INTERROGACION-HOMBRE-PENSANDO.jpg"/>
          <p:cNvPicPr/>
          <p:nvPr/>
        </p:nvPicPr>
        <p:blipFill>
          <a:blip r:embed="rId1"/>
          <a:stretch/>
        </p:blipFill>
        <p:spPr>
          <a:xfrm>
            <a:off x="3500280" y="3286080"/>
            <a:ext cx="1785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4617b"/>
                </a:solidFill>
                <a:latin typeface="Franklin Gothic Book"/>
              </a:rPr>
              <a:t>Reglas que deben cumplir los nombres (identificadores) de variables y constantes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1000080" y="1146240"/>
            <a:ext cx="7500960" cy="59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1. El nombre de una variable o constante tiene que comenzar siempre por una letra o por el carácter de subrayado, y puede contener hasta 255 caracte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2. El nombre sólo puede contener letras, números y el carácter de subrayado _ .  No se aceptan espacios en blanco ni otros símbol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3. No pueden utilizarse como nombres de variables o constantes, las palabras reservadas de Visual Basic, por ejemplo:  if, next, for, val, caption, const, integer,  etc. Las palabras reservadas aparecen en color azul cuando se escribe el código del progra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4617b"/>
                </a:solidFill>
                <a:latin typeface="Franklin Gothic Book"/>
              </a:rPr>
              <a:t>Instrucción de asignación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52" name="3 Rectángulo"/>
          <p:cNvSpPr/>
          <p:nvPr/>
        </p:nvSpPr>
        <p:spPr>
          <a:xfrm>
            <a:off x="1000080" y="18572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Se utiliza para darle valor a una variabl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La sintaxis 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Text Box 1"/>
          <p:cNvSpPr/>
          <p:nvPr/>
        </p:nvSpPr>
        <p:spPr>
          <a:xfrm>
            <a:off x="1214280" y="3429000"/>
            <a:ext cx="75726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nombre_Variable = valor o expresió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5 Rectángulo"/>
          <p:cNvSpPr/>
          <p:nvPr/>
        </p:nvSpPr>
        <p:spPr>
          <a:xfrm>
            <a:off x="1071720" y="45007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Salario = 10500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Z= X + 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Trabajador= “Juan Ramírez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357120" y="31320"/>
            <a:ext cx="82155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2d050"/>
                </a:solidFill>
                <a:latin typeface="Perpetua"/>
                <a:ea typeface="Times New Roman"/>
              </a:rPr>
              <a:t>Reglas que hay que tener presente en las instrucciones  de asignació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Sólo un nombre de variable puede ir  a la izquierda del signo igual, porque indica la ubicación de memoria que cambiará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      </a:t>
            </a:r>
            <a:r>
              <a:rPr b="0" lang="es-E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Ejemplo:   X = Y/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c00000"/>
                </a:solidFill>
                <a:latin typeface="Perpetu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2.  El valor a la derecha del signo igual puede ser una constante, otra variable o una fórmula o expresión que combine constantes y variabl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  </a:t>
            </a:r>
            <a:r>
              <a:rPr b="0" lang="es-ES" sz="2800" spc="-1" strike="noStrike">
                <a:solidFill>
                  <a:srgbClr val="c00000"/>
                </a:solidFill>
                <a:latin typeface="Perpetua"/>
                <a:ea typeface="Arial"/>
              </a:rPr>
              <a:t>Ejemplo:    Longitud = 2* valorPI * 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Perpetua"/>
                <a:ea typeface="Arial"/>
              </a:rPr>
              <a:t>                          </a:t>
            </a:r>
            <a:r>
              <a:rPr b="0" lang="es-ES" sz="2800" spc="-1" strike="noStrike">
                <a:solidFill>
                  <a:srgbClr val="c00000"/>
                </a:solidFill>
                <a:latin typeface="Perpetua"/>
                <a:ea typeface="Arial"/>
              </a:rPr>
              <a:t>B = 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3.  La variable y su valor deben ser del mismo tipo de dato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2 Rectángulo"/>
          <p:cNvSpPr/>
          <p:nvPr/>
        </p:nvSpPr>
        <p:spPr>
          <a:xfrm>
            <a:off x="1000080" y="54936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Ejercicio: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a) </a:t>
            </a:r>
            <a:r>
              <a:rPr b="0" lang="es-VE" sz="2800" spc="-1" strike="noStrike">
                <a:solidFill>
                  <a:srgbClr val="00b050"/>
                </a:solidFill>
                <a:latin typeface="Perpetua"/>
              </a:rPr>
              <a:t>¿</a:t>
            </a: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Cuál es el valor de la variable A, después de ejecutar el valor de las siguientes instrucciones de asignación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A= 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A= A+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A=3*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3 Rectángulo"/>
          <p:cNvSpPr/>
          <p:nvPr/>
        </p:nvSpPr>
        <p:spPr>
          <a:xfrm>
            <a:off x="971640" y="350028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b) </a:t>
            </a:r>
            <a:r>
              <a:rPr b="0" lang="es-VE" sz="2800" spc="-1" strike="noStrike">
                <a:solidFill>
                  <a:srgbClr val="00b050"/>
                </a:solidFill>
                <a:latin typeface="Perpetua"/>
              </a:rPr>
              <a:t>¿</a:t>
            </a:r>
            <a:r>
              <a:rPr b="0" lang="es-ES" sz="2800" spc="-1" strike="noStrike">
                <a:solidFill>
                  <a:srgbClr val="00b050"/>
                </a:solidFill>
                <a:latin typeface="Perpetua"/>
              </a:rPr>
              <a:t>Cuál es el valor de las variables Z y X, después de ejecutar el valor de las siguientes instrucciones de asignación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Z= 8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X= 2+Z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Z= 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Z= Z+ 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6150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4617b"/>
                </a:solidFill>
                <a:latin typeface="Franklin Gothic Book"/>
              </a:rPr>
              <a:t>Operaciones de entrada/salida simple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59" name="2 Rectángulo"/>
          <p:cNvSpPr/>
          <p:nvPr/>
        </p:nvSpPr>
        <p:spPr>
          <a:xfrm>
            <a:off x="571680" y="1285920"/>
            <a:ext cx="857232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Perpetua"/>
              </a:rPr>
              <a:t>Operaciones de entrada:  Método Console.Readli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Permite leer (obtener y guardar) lo que escribe un usuario en la cónsola (ventana donde se ejecuta un programa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Sintaxis para leer una variabl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1428840" y="4143240"/>
            <a:ext cx="65721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Nombre_variable = console.Readline( 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6 Rectángulo"/>
          <p:cNvSpPr/>
          <p:nvPr/>
        </p:nvSpPr>
        <p:spPr>
          <a:xfrm>
            <a:off x="642960" y="54291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Perpetua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Nota = Console.Readline( 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2 Rectángulo"/>
          <p:cNvSpPr/>
          <p:nvPr/>
        </p:nvSpPr>
        <p:spPr>
          <a:xfrm>
            <a:off x="571680" y="357120"/>
            <a:ext cx="857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Perpetua"/>
              </a:rPr>
              <a:t>Operaciones de salida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Perpetua"/>
              </a:rPr>
              <a:t>1)Método Console.Wr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2d05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Escribe un mensaje y/o el valor de una variable y deja el cursor en la misma línea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1000080" y="4214880"/>
            <a:ext cx="4572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sole.Write (“ Mensaje “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5 Rectángulo"/>
          <p:cNvSpPr/>
          <p:nvPr/>
        </p:nvSpPr>
        <p:spPr>
          <a:xfrm>
            <a:off x="642960" y="30718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) Sintaxis para escribir un mensaj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1 Rectángulo"/>
          <p:cNvSpPr/>
          <p:nvPr/>
        </p:nvSpPr>
        <p:spPr>
          <a:xfrm>
            <a:off x="214200" y="35712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2d050"/>
                </a:solidFill>
                <a:latin typeface="Perpetua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Console.Write (“Esta es la primera clase de Visual Basic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85880" y="1928880"/>
            <a:ext cx="777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 Rectángulo"/>
          <p:cNvSpPr/>
          <p:nvPr/>
        </p:nvSpPr>
        <p:spPr>
          <a:xfrm>
            <a:off x="214200" y="-2858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b)  Sintaxis para escribir el valor de una variabl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785880" y="857160"/>
            <a:ext cx="62150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sole.Write (Nombre_variable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9" name="3 Rectángulo"/>
          <p:cNvSpPr/>
          <p:nvPr/>
        </p:nvSpPr>
        <p:spPr>
          <a:xfrm>
            <a:off x="357120" y="164304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2d050"/>
                </a:solidFill>
                <a:latin typeface="Perpetua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Num=25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Console.Write (num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3286080"/>
            <a:ext cx="55008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1 Rectángulo"/>
          <p:cNvSpPr/>
          <p:nvPr/>
        </p:nvSpPr>
        <p:spPr>
          <a:xfrm>
            <a:off x="500040" y="-285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Sintaxis para escribir un mensaje y el valor de una variabl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1071720" y="1214280"/>
            <a:ext cx="62150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sole.Write (“Mensaje ”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&amp; variable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3 Rectángulo"/>
          <p:cNvSpPr/>
          <p:nvPr/>
        </p:nvSpPr>
        <p:spPr>
          <a:xfrm>
            <a:off x="357120" y="200016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2d050"/>
                </a:solidFill>
                <a:latin typeface="Perpetua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Console.Write (“El valor es ” &amp; Num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000080" y="3071880"/>
            <a:ext cx="71438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Franklin Gothic Book"/>
              </a:rPr>
              <a:t>Contenido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288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Visual Basic: definición, versiones, partes de una aplicación (código e interfaz gráfica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Tipos  básicos de datos en  Visual Basi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Declaración de constantes y variables (Const y Dim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Reglas de los identificado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Instrucción de asignació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Operaciones simples de Entrada/Salid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Codificación de programa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Operadores aritméticos. Orden de priorida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Funciones matemáticas y trigonométric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Uso de Inputbox y Msgbox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2 Rectángulo"/>
          <p:cNvSpPr/>
          <p:nvPr/>
        </p:nvSpPr>
        <p:spPr>
          <a:xfrm>
            <a:off x="0" y="-1429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Perpetua"/>
              </a:rPr>
              <a:t>2)   Método Console.Writeli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2d050"/>
                </a:solidFill>
                <a:latin typeface="Perpetu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Escribe un mensaje y/o el valor de una variable y cambia el cursor a la línea siguiente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La sintaxis es igual al m</a:t>
            </a: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é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todo Console.Wr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3 Rectángulo"/>
          <p:cNvSpPr/>
          <p:nvPr/>
        </p:nvSpPr>
        <p:spPr>
          <a:xfrm>
            <a:off x="357120" y="242892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2d050"/>
                </a:solidFill>
                <a:latin typeface="Perpetua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Console.Writeline</a:t>
            </a: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 (“El valor es ” &amp; Nu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60721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2 Rectángulo"/>
          <p:cNvSpPr/>
          <p:nvPr/>
        </p:nvSpPr>
        <p:spPr>
          <a:xfrm>
            <a:off x="285840" y="98100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2d050"/>
                </a:solidFill>
                <a:latin typeface="Perpetua"/>
              </a:rPr>
              <a:t>Ejemplo 1: Realizar un programa para calcular el área de un trapeci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9" name="Picture 2" descr="https://encrypted-tbn3.gstatic.com/images?q=tbn:ANd9GcQfOXy_KzbqeywYvzAf1ptiAaGEsnQ3GYca9BsvIfYIDM6tDf7Z"/>
          <p:cNvPicPr/>
          <p:nvPr/>
        </p:nvPicPr>
        <p:blipFill>
          <a:blip r:embed="rId1"/>
          <a:stretch/>
        </p:blipFill>
        <p:spPr>
          <a:xfrm>
            <a:off x="755640" y="2276640"/>
            <a:ext cx="2268720" cy="1163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509724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5 Rectángulo"/>
          <p:cNvSpPr/>
          <p:nvPr/>
        </p:nvSpPr>
        <p:spPr>
          <a:xfrm>
            <a:off x="285840" y="3071880"/>
            <a:ext cx="4429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Perpetua"/>
              </a:rPr>
              <a:t>Análisis E-P-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92d050"/>
                </a:solidFill>
                <a:latin typeface="Perpetua"/>
              </a:rPr>
              <a:t> </a:t>
            </a:r>
            <a:r>
              <a:rPr b="0" lang="es-VE" sz="3000" spc="-1" strike="noStrike" u="sng">
                <a:solidFill>
                  <a:srgbClr val="000000"/>
                </a:solidFill>
                <a:uFillTx/>
                <a:latin typeface="Perpetua"/>
              </a:rPr>
              <a:t>Entrada </a:t>
            </a: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B1: base menor.  Tipo: Real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B2: base mayor. Tipo: Real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h: altura. Tipo: Real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5786280" y="4357800"/>
                <a:ext cx="24051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6 Rectángulo"/>
          <p:cNvSpPr/>
          <p:nvPr/>
        </p:nvSpPr>
        <p:spPr>
          <a:xfrm>
            <a:off x="4429080" y="3714840"/>
            <a:ext cx="43578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3000" spc="-1" strike="noStrike" u="sng">
                <a:solidFill>
                  <a:srgbClr val="000000"/>
                </a:solidFill>
                <a:uFillTx/>
                <a:latin typeface="Perpetua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s-VE" sz="3000" spc="-1" strike="noStrike" u="sng">
                <a:solidFill>
                  <a:srgbClr val="000000"/>
                </a:solidFill>
                <a:uFillTx/>
                <a:latin typeface="Perpetua"/>
              </a:rPr>
              <a:t>Salida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A:  Área del trapecio.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      </a:t>
            </a: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Tipo: Real.    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000000"/>
                </a:solidFill>
                <a:latin typeface="Perpetu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4617b"/>
                </a:solidFill>
                <a:latin typeface="Franklin Gothic Book"/>
              </a:rPr>
              <a:t>Codificación de programas en Visual Basic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2 Rectángulo"/>
          <p:cNvSpPr/>
          <p:nvPr/>
        </p:nvSpPr>
        <p:spPr>
          <a:xfrm>
            <a:off x="1000080" y="642960"/>
            <a:ext cx="75726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Perpetua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0.   Inici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Solicitar base menor del trapecio (B1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Solicitar base mayor del trapecio (B2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Solicitar altura del trapecio (h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Mostrar el área (A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1500120" y="3714840"/>
                <a:ext cx="2205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2 Rectángulo"/>
          <p:cNvSpPr/>
          <p:nvPr/>
        </p:nvSpPr>
        <p:spPr>
          <a:xfrm>
            <a:off x="762840" y="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Perpetu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8" name="3 Rectángulo"/>
          <p:cNvSpPr/>
          <p:nvPr/>
        </p:nvSpPr>
        <p:spPr>
          <a:xfrm>
            <a:off x="1071720" y="487440"/>
            <a:ext cx="65721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Dim B1 As Sing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Dim B2 As Sing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Dim h As Sing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Dim A As Sing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Console.Write("Introduzca la base menor: 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B1 = Console.ReadLine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Console.Write("Introduzca la base mayor: 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B2 = Console.ReadLine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Console.Write("Introduzca la altura: 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h = Console.ReadLine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 = (B1 + B2) * h / 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Console.WriteLine("El área del trapecio es: " &amp; 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Console.ReadLine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92d050"/>
                </a:solidFill>
                <a:latin typeface="Franklin Gothic Book"/>
              </a:rPr>
              <a:t>¿Qué es Visual Basic?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14400" y="1447560"/>
            <a:ext cx="58723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Es un lenguaje de programación que permite crear aplicaciones (programas) para Window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ermite construir en forma fácil, programas con una interfaz gráfica que puede incorporar elementos com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ventanas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uadros de tex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botones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uadros de diálog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botones de opción y  de selec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barras de desplazamien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menús…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8800" y="-14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4617b"/>
                </a:solidFill>
                <a:latin typeface="Franklin Gothic Book"/>
              </a:rPr>
              <a:t>Versiones de Visual Basic.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85840" y="1428840"/>
            <a:ext cx="6929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Primera versión Visual Basic 1.0 (1991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Última versión Visual Basic 6.0 (1998 con soporte hasta 2008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Visual  Basic.NET fue el sucesor de Visual Basic 6.0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Parecido a Visual Basic 6.0, pero tienen diferencias significativas que hacen que ambos no sean compatibl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000000"/>
                </a:solidFill>
                <a:latin typeface="Perpetua"/>
              </a:rPr>
              <a:t>Para trabajar en Visual Basic.net se utiliza generalmente el entorno de desarrollo Visual Studio de Microsoft, el cual incluye varios lenguajes de programación como: tales como Visual C++, Visual C#, Visual F#, y Visual Basic .NE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5" name="Picture 2" descr="http://www.returngis.net/wp-content/uploads/pics/VisualStudio2010.jpg"/>
          <p:cNvPicPr/>
          <p:nvPr/>
        </p:nvPicPr>
        <p:blipFill>
          <a:blip r:embed="rId1"/>
          <a:stretch/>
        </p:blipFill>
        <p:spPr>
          <a:xfrm>
            <a:off x="7143840" y="5072040"/>
            <a:ext cx="1714320" cy="1314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ttp://upload.wikimedia.org/wikipedia/en/a/a6/VisualBasicLogo.gif"/>
          <p:cNvPicPr/>
          <p:nvPr/>
        </p:nvPicPr>
        <p:blipFill>
          <a:blip r:embed="rId2"/>
          <a:stretch/>
        </p:blipFill>
        <p:spPr>
          <a:xfrm>
            <a:off x="6715080" y="1785960"/>
            <a:ext cx="2209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4 Rectángulo"/>
          <p:cNvSpPr/>
          <p:nvPr/>
        </p:nvSpPr>
        <p:spPr>
          <a:xfrm>
            <a:off x="642960" y="285840"/>
            <a:ext cx="6786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Las siguientes versiones de Visual Basic (todas basadas en Visual Basic.NET) s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Visual Basic 7.0, para Visual Studio .NET 2002 y 2003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Visual Basic 8.0 (Visual Basic 2005), para Visual Studio 2005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Visual Basic 9.0 (Visual Basic 2008), para Visual Studio 2008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b0f0"/>
                </a:solidFill>
                <a:latin typeface="Perpetua"/>
              </a:rPr>
              <a:t>Visual Basic 10.0 (Visual Basic 2010) para Visual Studio 2010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Visual  Basic 11.0, para Visual Studio 201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8" name="Picture 2" descr="https://encrypted-tbn2.gstatic.com/images?q=tbn:ANd9GcRLZ7HFClxsklcg4mlXCM2x4d-XMV9GUdKB-uR8gDxV_T7ETn1IrA"/>
          <p:cNvPicPr/>
          <p:nvPr/>
        </p:nvPicPr>
        <p:blipFill>
          <a:blip r:embed="rId1"/>
          <a:stretch/>
        </p:blipFill>
        <p:spPr>
          <a:xfrm>
            <a:off x="7429680" y="4572000"/>
            <a:ext cx="1500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1 CuadroTexto"/>
          <p:cNvSpPr/>
          <p:nvPr/>
        </p:nvSpPr>
        <p:spPr>
          <a:xfrm>
            <a:off x="1071720" y="50004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Perpetua"/>
              </a:rPr>
              <a:t>Un programa en Visual Basic consta d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2 CuadroTexto"/>
          <p:cNvSpPr/>
          <p:nvPr/>
        </p:nvSpPr>
        <p:spPr>
          <a:xfrm>
            <a:off x="714240" y="1428840"/>
            <a:ext cx="3429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70c0"/>
                </a:solidFill>
                <a:latin typeface="Perpetua"/>
              </a:rPr>
              <a:t>1. Código: </a:t>
            </a: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Instrucciones que le indican a la computadora qué hacer.</a:t>
            </a:r>
            <a:r>
              <a:rPr b="0" lang="es-VE" sz="2800" spc="-1" strike="noStrike">
                <a:solidFill>
                  <a:srgbClr val="0070c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642960" y="3714840"/>
            <a:ext cx="4286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70c0"/>
                </a:solidFill>
                <a:latin typeface="Perpetua"/>
              </a:rPr>
              <a:t>2.Interfaz gráfica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Perpetua"/>
              </a:rPr>
              <a:t>Conjunto de elementos gráficos (ventanas, botones, menús, imágenes, etc.) que permiten la interacción usuario programa. Tema 10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70c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5286240" y="4071960"/>
            <a:ext cx="3357720" cy="24462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2"/>
          <a:stretch/>
        </p:blipFill>
        <p:spPr>
          <a:xfrm>
            <a:off x="5286240" y="142884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4617b"/>
                </a:solidFill>
                <a:latin typeface="Franklin Gothic Book"/>
              </a:rPr>
              <a:t>Tipos básicos de datos en Visual Basic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85880" y="1500120"/>
          <a:ext cx="7858080" cy="4332240"/>
        </p:xfrm>
        <a:graphic>
          <a:graphicData uri="http://schemas.openxmlformats.org/drawingml/2006/table">
            <a:tbl>
              <a:tblPr/>
              <a:tblGrid>
                <a:gridCol w="1504800"/>
                <a:gridCol w="3511800"/>
                <a:gridCol w="284148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 (1 by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a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  corto  (2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768 a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 (4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47483648 a 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o largo (8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9223372036854775808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2233720368547758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 de simple precisión. (4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0 E+38 a 3.40E+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 de doble precisión (8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9E+308  a 1.79E+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dena de caract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a 2 millones de caracteres apro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ha y hora   (8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ha:  01/01/100  a 31/12/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a:  0:00:00   a 23:59: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ógico o boole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 o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4617b"/>
                </a:solidFill>
                <a:latin typeface="Franklin Gothic Book"/>
              </a:rPr>
              <a:t>Declaración de constantes y variables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1071720" y="3929040"/>
            <a:ext cx="7572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Const</a:t>
            </a:r>
            <a:r>
              <a:rPr b="1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 nombre_constante  </a:t>
            </a:r>
            <a:r>
              <a:rPr b="1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as </a:t>
            </a:r>
            <a:r>
              <a:rPr b="0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Tipo_de_dato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=  val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5 Rectángulo"/>
          <p:cNvSpPr/>
          <p:nvPr/>
        </p:nvSpPr>
        <p:spPr>
          <a:xfrm>
            <a:off x="642960" y="12859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Consiste en  decirle a la computadora cuántas variables y/o constantes se utilizarán en el programa, cómo se llamarán  y el tipo de datos que contendrá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6 Rectángulo"/>
          <p:cNvSpPr/>
          <p:nvPr/>
        </p:nvSpPr>
        <p:spPr>
          <a:xfrm>
            <a:off x="714240" y="27860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f0"/>
                </a:solidFill>
                <a:latin typeface="Perpetua"/>
              </a:rPr>
              <a:t>Declaración de constant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La sintaxis 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0" name="7 Rectángulo"/>
          <p:cNvSpPr/>
          <p:nvPr/>
        </p:nvSpPr>
        <p:spPr>
          <a:xfrm>
            <a:off x="714240" y="471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Perpetua"/>
              </a:rPr>
              <a:t>Nombre_constante: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es el nombre que el programador le da a la consta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Perpetua"/>
              </a:rPr>
              <a:t>Tipo_de_dato: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uno de los tipos de datos de Visual Bas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Perpetua"/>
              </a:rPr>
              <a:t>Valor: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valor asignado a la consta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2 Rectángulo"/>
          <p:cNvSpPr/>
          <p:nvPr/>
        </p:nvSpPr>
        <p:spPr>
          <a:xfrm>
            <a:off x="642960" y="64296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2d050"/>
                </a:solidFill>
                <a:latin typeface="Perpetu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Const</a:t>
            </a:r>
            <a:r>
              <a:rPr b="0" lang="es-ES" sz="2800" spc="-1" strike="noStrike">
                <a:solidFill>
                  <a:srgbClr val="00b0f0"/>
                </a:solidFill>
                <a:latin typeface="Perpetu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valorPI as Single = 3.1416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Const Maximo as Byte = 50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Const Saludo as String = “Hola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1071720" y="3929040"/>
            <a:ext cx="75722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Dim</a:t>
            </a:r>
            <a:r>
              <a:rPr b="1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 nombre_Variable  </a:t>
            </a:r>
            <a:r>
              <a:rPr b="1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as </a:t>
            </a:r>
            <a:r>
              <a:rPr b="0" lang="es-ES" sz="2800" spc="-1" strike="noStrike">
                <a:solidFill>
                  <a:srgbClr val="0070c0"/>
                </a:solidFill>
                <a:latin typeface="Perpetua"/>
                <a:ea typeface="Times New Roman"/>
              </a:rPr>
              <a:t>Tipo_de_dato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4 Rectángulo"/>
          <p:cNvSpPr/>
          <p:nvPr/>
        </p:nvSpPr>
        <p:spPr>
          <a:xfrm>
            <a:off x="714240" y="27860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b0f0"/>
                </a:solidFill>
                <a:latin typeface="Perpetua"/>
              </a:rPr>
              <a:t>Declaración de Variab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La sintaxis 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5 Rectángulo"/>
          <p:cNvSpPr/>
          <p:nvPr/>
        </p:nvSpPr>
        <p:spPr>
          <a:xfrm>
            <a:off x="714240" y="485784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Perpetua"/>
              </a:rPr>
              <a:t>Nombre_variable: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 es el nombre que el programador le da a la varia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Perpetua"/>
              </a:rPr>
              <a:t>Tipo_de_dato: </a:t>
            </a:r>
            <a:r>
              <a:rPr b="0" lang="es-VE" sz="2400" spc="-1" strike="noStrike">
                <a:solidFill>
                  <a:srgbClr val="000000"/>
                </a:solidFill>
                <a:latin typeface="Perpetua"/>
              </a:rPr>
              <a:t>uno de los tipos de datos de Visual Bas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3:51:19Z</dcterms:created>
  <dc:creator>Pablo Turmero</dc:creator>
  <dc:description/>
  <dc:language>en-US</dc:language>
  <cp:lastModifiedBy>Pablo</cp:lastModifiedBy>
  <dcterms:modified xsi:type="dcterms:W3CDTF">2016-01-15T19:14:49Z</dcterms:modified>
  <cp:revision>92</cp:revision>
  <dc:subject/>
  <dc:title/>
</cp:coreProperties>
</file>