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297-997C-4AAB-9037-1FCC4276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889-AE8D-467B-853E-7D42C9FC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06310-E71D-4755-A40B-DE7B28E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07ADC-FA7F-4363-BA2C-3C44193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8072E-E118-455E-B35D-5564B5AC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37A4A-5FAC-42D0-8256-48381EB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88F9A-0850-448B-B335-15712D8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1464C-F4CF-46EB-9714-F8E9943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61FD0-055D-43B4-8060-C5090B7C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FF460-5BFB-4085-9482-721B7896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0B00F-F4BF-4CD5-B8C2-48F645AE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02CEC-10E0-4E8E-AD71-B5CA07B5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588-BB92-4C7E-8524-056E9788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AE381-D825-4D41-A09C-E837BE8C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D5AF7-B736-4FC8-8CFF-9510DB3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1BABE-41C0-4BD2-9FA6-625E6926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BDBC5-C37B-4C9D-94BF-5942FBBA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7870F-CCC9-45FF-9C6C-84D2F69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741C5-5225-40F6-AB2A-30131F0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49F0D-0143-41E8-B96E-78E7565F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2E3D7-8D53-4E57-87EB-04B1FD34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5359C-A002-43AB-ADCD-8E6B48D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87D3C-459C-489A-8482-D6233345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71B-F866-46D8-BA05-DBC7B151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6D0B6-C924-4369-B702-039D2FA0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D0C3-6786-4969-B5D4-7CAB2923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4C752-4E7E-4758-A7DB-9D15F06C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3AB71-11C4-4000-803C-0F3E0330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A3FB0-1A1D-4C91-B7D9-085C4DFC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AD574-EEEC-45CD-B9CD-FACE889C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797C6-B9FF-4B6D-8665-941D5B51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78589-D339-4116-BE97-BB2C20EE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D0321-F336-4750-97BA-94AF5F1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4C7F1-B9BA-4CA1-972B-165C963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D988-B67C-4BD2-8A90-AD3DB327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F03F9-8EBB-4D34-B48B-1FED2AC5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5082F-1800-4263-88BF-74BC314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C66AC-CBFD-450E-AFD0-13B14CE8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24852-4AFC-4FE6-B385-FB7B881D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19DB2-4412-4CF6-AF01-38C9DFF5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C4B8-3826-4CC8-BC1D-1B3879A8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1F444-E292-406B-B152-A641AEC9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A34F9-5E80-40CC-B795-9E12A5D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E24E8-D5FD-445C-A399-3D04FAFB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157D8-2F30-4B5E-BDAF-1059EB9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B7CF-E78B-43CD-8706-32742574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A6169-9C1C-47AC-933C-9B86B1AF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AD8BB-B8CC-4A63-887F-13051F03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D6AA0-CE5F-4079-84E4-78FD42E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304DA-51A9-4C76-A9CE-EDF3E9AD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E352C-BBBD-445F-AAEC-2D4B8516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1469-E098-4B80-B888-A3EB7768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BCB3-20BB-4544-8303-D1AA557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444-A9BB-486A-8DC3-AB4BE54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6A85-ACAC-468A-A5BD-89126D60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D3E9-9024-474F-BF54-2E49FE84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7F9-C652-4712-BCE9-7264FA76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BA5E-E7E0-4A15-B292-7D5D3AE9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0EC-8784-4404-976C-BBF6505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EA08-D4A3-4861-938F-3D5C6DAA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83E1-2B52-4614-811B-D18FA84A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F4F-F042-4CB7-B68F-2823ABC1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4EBA-24A7-495E-BB52-047196B5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731A-D798-4E48-B3B5-FE1E635A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B7B2B-716E-4857-A1A0-6EEA17A8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3DF1-B390-4280-AB20-10C33D10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3BB1-659F-41A2-97BD-3840C6B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AEA-E136-46BC-B478-E46968F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19EF-000E-484C-89C8-E5A291FD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FBB3-588D-4CAC-8984-F0FA06D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059F-DF22-4E0D-84B7-4BE698A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C0E3-A898-4C35-9F58-640F9EC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AD05-96B0-421F-9190-E529114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341A-5B40-43C9-BF43-5225949E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A341-2274-4F9C-9864-BE741EAF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0BE4-3904-43FC-A0B6-439A9162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0168-E4EC-47D4-A67A-46031B7A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F741-EDAF-4091-BA59-2A2982F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CB2-CDA5-4D38-9BA4-D73FE6C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700E-689C-4F88-9B66-AB2E6EE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E155-F0EE-4186-B2AB-7734AF80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806A-7314-4714-AEE1-FD274B85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CE31-56B4-4E89-B60F-6B723AD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F6B2-DD76-42D9-8473-B2DD182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2FFB-90DD-4E9F-8514-B8D8647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2ABB-7230-43C6-B7B6-202A253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E700-F74C-494C-834D-9454A056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BAD6-4E7E-412E-82A1-352FDEAB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FC8E-AF7B-4092-9D7E-A1A93858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EB3-4E68-451A-90A4-676FA7DC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F796-40C6-4E76-AA8C-89C3B4CB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02E2-C840-4A49-BAE5-61F5179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60FD8-861B-422B-93ED-D36BB3B8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AADD8-7187-4CC0-AA5C-1B12745D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FCCC-B105-48D9-9A81-EDDA8548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AA1A2-1413-4440-84A2-05967E8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54F8C-7DB0-498F-AC37-1C4CAAD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E6406-1EFA-4C43-9BC1-0203544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C85E7-4346-49A8-ABDB-C47692E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47EFA-6DC8-486E-99A6-51F2D4AE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59B-901E-40A0-ADBF-4754DF8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1622-1901-4618-A7EA-737AA793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69E52-055B-4E55-ACE0-46947F0A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43244-BF7D-4FA2-9369-E4E1356D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9F1CE-79C5-4D28-BB5E-8665FF35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A32A3-4CCE-494F-8B3A-261D796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7F94E-71ED-46CD-9E79-2AD9BD4C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580F2-AB20-4E4C-8326-A6365BDA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CD3F1-362D-4D48-BD6B-77B615CC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E552D-08AA-463A-BAC2-0A13C67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1202-8D36-44C7-850C-B06AD12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CC4-6AB3-42A7-8F97-6DD98B4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DB76-FE8D-4236-851A-DB9C6643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61A6-F440-4858-99CE-AD154560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5D242-981B-41C4-A7D8-A8F7BE76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0188-AF70-4D37-90BF-51DD0F54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AC90-C257-45DC-8B03-3BA861F5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0582-7829-48BB-A5E3-2959D68E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75F9E-CB1E-461A-823B-910D5DD8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0DD5C-B721-46F4-A45F-6037FEB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E64F-422B-489D-95A4-EEFC86A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DB90-223D-4717-B511-4F2BE194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480-1BDE-4626-B9B8-8CBE2119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9EB69-B66D-4976-A413-39A9F0C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BE3E-AF6B-4A1C-AD00-77DF202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3201-1528-45DA-9900-A79A5AFE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82C1-9BE2-4412-AFFF-3A129A72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35E70-FFC6-4157-8535-8193D71E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897F9-E0D8-42A0-94E4-31B81265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23F1-700B-49B8-B85A-8ED3D6E2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BBCB6-BE6F-4FEE-96AD-35C5D8BF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BCE7B-BD86-411E-8A42-BF5F5562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C6A2-2478-46B7-A5F4-84E490D4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E19-EE9E-456C-A800-2740C295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1AB1-4918-4EC0-82F0-BDD287E6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F383B-A1D3-48C7-8870-515C23D4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949EE-3C7C-450D-9C65-25F8225B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ACA3C-60AD-4130-85F9-05A8F73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9B7D-7C1F-42BD-A9D3-FDF7A593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5883F-FB77-487D-9001-FEC06CF8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9C433-342F-490D-8483-638DFD93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42C6D-5DD4-40F4-924F-B57F50E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B9C5E-2D20-4574-83B7-4E9A1F1F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46771-6D7E-4661-9BBF-051CC8F1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EFB6-1674-40AD-B423-E2942DCCD737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BFD-D400-4089-B620-536EB085D146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0C6-497C-468C-A58C-E8AC352C532D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9DBB-3093-4040-A0E6-5ACA1C1E6FA0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0CFF-B102-4A2E-B31C-702D48A3BA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2225-FEBF-4548-B387-30BC9A477C8C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6B7A-F36A-40B6-8898-3AC67D82C6A2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E4B4-C7BD-4FD4-84B2-51F686F875C8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6D35-2452-4FFB-A503-FAE7879DEBD3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390F-AF2F-461B-8A1A-5EFD82E14DC7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D8E7-4894-4512-A71B-40E4817F23E0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8E1-3E92-4B38-92C8-181F5E1C300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85A8-C096-45C8-9BE3-95D5EB185017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Problemas lineales (forma estándar)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min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s.a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studiaremos sus propiedades especiale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Métodos específicos de solución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Método Simplex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Métodos de puntos interiore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8436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5400" spc="-1" strike="noStrike">
              <a:solidFill>
                <a:srgbClr val="333333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248-92EC-4237-A2BD-B7D712E51565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aracterización algebraica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aras:    {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|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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}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Vértices: existe una partición de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y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,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3200" spc="-1" strike="noStrike">
                <a:solidFill>
                  <a:srgbClr val="00264c"/>
                </a:solidFill>
                <a:latin typeface="Trebuchet MS"/>
              </a:rPr>
              <a:t>   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=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 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  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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 baseline="30000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,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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,   det(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)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,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,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A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599" name="Group 12"/>
          <p:cNvGrpSpPr/>
          <p:nvPr/>
        </p:nvGrpSpPr>
        <p:grpSpPr>
          <a:xfrm>
            <a:off x="2971800" y="3657600"/>
            <a:ext cx="685800" cy="990360"/>
            <a:chOff x="2971800" y="3657600"/>
            <a:chExt cx="685800" cy="990360"/>
          </a:xfrm>
        </p:grpSpPr>
        <p:sp>
          <p:nvSpPr>
            <p:cNvPr id="600" name="AutoShape 7"/>
            <p:cNvSpPr/>
            <p:nvPr/>
          </p:nvSpPr>
          <p:spPr>
            <a:xfrm>
              <a:off x="2971800" y="365760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01" name="AutoShape 9"/>
            <p:cNvSpPr/>
            <p:nvPr/>
          </p:nvSpPr>
          <p:spPr>
            <a:xfrm>
              <a:off x="3581280" y="3657600"/>
              <a:ext cx="76320" cy="99036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02" name="Group 11"/>
          <p:cNvGrpSpPr/>
          <p:nvPr/>
        </p:nvGrpSpPr>
        <p:grpSpPr>
          <a:xfrm>
            <a:off x="5105520" y="3657600"/>
            <a:ext cx="761760" cy="990720"/>
            <a:chOff x="5105520" y="3657600"/>
            <a:chExt cx="761760" cy="990720"/>
          </a:xfrm>
        </p:grpSpPr>
        <p:sp>
          <p:nvSpPr>
            <p:cNvPr id="603" name="AutoShape 8"/>
            <p:cNvSpPr/>
            <p:nvPr/>
          </p:nvSpPr>
          <p:spPr>
            <a:xfrm>
              <a:off x="5105520" y="3657600"/>
              <a:ext cx="75960" cy="9907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04" name="AutoShape 10"/>
            <p:cNvSpPr/>
            <p:nvPr/>
          </p:nvSpPr>
          <p:spPr>
            <a:xfrm>
              <a:off x="5791320" y="3657600"/>
              <a:ext cx="75960" cy="99072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E12-3203-4B2E-AB67-94C5448BB59A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Vértices de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,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,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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m</a:t>
            </a:r>
            <a:r>
              <a:rPr b="0" lang="es-ES_tradnl" sz="2800" spc="-1" strike="noStrike" baseline="30000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empre existen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m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restricciones activas,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Necesitamos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 - m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restricciones activas e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n un vértice al menos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 - m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variables deben ser iguales a cero: variables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o básica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s distintas de cero: variables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ásica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7D3-556A-4506-9D1E-99ADD48E7AB6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Ejemplo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min  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3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s.a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3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12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9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05600" indent="-271440"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mprobar si son vértice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( 1  1  2  1  1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  ( -3  4  0  0  -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( 9/2  1/4  5/2  0  1/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 ( 3  1  2  0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BE3A-830A-460C-8A09-A81C78E44D9B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Procedimiento básic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1225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Método Simplex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uponemos conocido un vértice factibl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omprobamos si es solución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876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Comprobar condiciones necesarias y suficientes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 no lo es, buscamos un vértice contiguo mejor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876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Criterio de selección entre vértices contiguos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9A94-27C8-4E1D-BA75-C780D536F776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Método Simplex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Aspectos básico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Cómo podemos calcular un vértice factible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Qué debemos comprobar para saber si un vértice es solución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Cómo podemos escoger un vértice contiguo mejor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2136-F187-4A7B-82F6-6DA7B96775CE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mprobar si un vértice es óptimo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1. ¿Es un vértice factible?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Es factible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Tiene al menos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 - m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variables iguales a cero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2. ¿Es solución?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ondiciones de óptim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Signo de los multiplicadores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E567-5090-4C1D-9C92-F325BBF01CF7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ndiciones de óptimo en un vértice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blema en forma estándar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Versión más eficiente de las condicione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stema de ecuaciones de tamaño reducid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Basado en partición de variables para un vértice factibl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=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c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(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)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623" name="Group 8"/>
          <p:cNvGrpSpPr/>
          <p:nvPr/>
        </p:nvGrpSpPr>
        <p:grpSpPr>
          <a:xfrm>
            <a:off x="2590920" y="4876920"/>
            <a:ext cx="685800" cy="990360"/>
            <a:chOff x="2590920" y="4876920"/>
            <a:chExt cx="685800" cy="990360"/>
          </a:xfrm>
        </p:grpSpPr>
        <p:sp>
          <p:nvSpPr>
            <p:cNvPr id="624" name="AutoShape 4"/>
            <p:cNvSpPr/>
            <p:nvPr/>
          </p:nvSpPr>
          <p:spPr>
            <a:xfrm>
              <a:off x="2590920" y="487692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25" name="AutoShape 6"/>
            <p:cNvSpPr/>
            <p:nvPr/>
          </p:nvSpPr>
          <p:spPr>
            <a:xfrm>
              <a:off x="3200400" y="4876920"/>
              <a:ext cx="76320" cy="99036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26" name="Group 9"/>
          <p:cNvGrpSpPr/>
          <p:nvPr/>
        </p:nvGrpSpPr>
        <p:grpSpPr>
          <a:xfrm>
            <a:off x="4572000" y="4876920"/>
            <a:ext cx="685800" cy="990360"/>
            <a:chOff x="4572000" y="4876920"/>
            <a:chExt cx="685800" cy="990360"/>
          </a:xfrm>
        </p:grpSpPr>
        <p:sp>
          <p:nvSpPr>
            <p:cNvPr id="627" name="AutoShape 5"/>
            <p:cNvSpPr/>
            <p:nvPr/>
          </p:nvSpPr>
          <p:spPr>
            <a:xfrm>
              <a:off x="4572000" y="487692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28" name="AutoShape 7"/>
            <p:cNvSpPr/>
            <p:nvPr/>
          </p:nvSpPr>
          <p:spPr>
            <a:xfrm>
              <a:off x="5181480" y="4876920"/>
              <a:ext cx="76320" cy="99036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3FF-4222-4D58-903C-9E842499C2A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Derivación de condiciones de óptim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ndiciones generales de extremo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ndición basada en ausencia de descenso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studiar las direcciones factibles en el vértic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studiar solo las aristas que salen del vértic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eterminar si la función objetivo decrec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értice solución: si la f. objetivo no decrece a lo largo de ninguna arista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ECD8-DC58-4C54-8C67-5777CBE5FB30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ndiciones necesarias y suficientes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264c"/>
                </a:solidFill>
                <a:latin typeface="Trebuchet MS"/>
              </a:rPr>
              <a:t> 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0 ,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ra comprobar si un punto es solución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Factibilidad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xistencia de multiplicadore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gno de multiplicadores 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FD5D-5B28-42F5-9FFC-F4175BD7F40B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264c"/>
                </a:solidFill>
                <a:latin typeface="Trebuchet MS"/>
              </a:rPr>
              <a:t>Ejemplo:</a:t>
            </a:r>
            <a:endParaRPr b="0" lang="en-US" sz="3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min   2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3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endParaRPr b="0" lang="en-US" sz="30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s.a   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= 3</a:t>
            </a:r>
            <a:endParaRPr b="0" lang="en-US" sz="30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                      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= 12</a:t>
            </a:r>
            <a:endParaRPr b="0" lang="en-US" sz="30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                      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= 9</a:t>
            </a:r>
            <a:endParaRPr b="0" lang="en-US" sz="30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                                      </a:t>
            </a:r>
            <a:r>
              <a:rPr b="0" i="1" lang="es-ES_tradnl" sz="3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30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30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30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mprobar si  ( 3  1  2  0  0 )</a:t>
            </a:r>
            <a:r>
              <a:rPr b="0" i="1" lang="es-ES_tradnl" sz="32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  es solución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6EBD-179A-4FDE-B295-1A2A5243D7F1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Propiedades especiales del problema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La región factible es convexa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Toda solución local es global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Las condiciones necesarias de primer orden son suficiente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piedad de convexidad: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e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y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factibles,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(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+(1-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y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 =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x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+ (1-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y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+ (1-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+(1-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y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6C9A-3E3A-4028-B441-720125651BA8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ndiciones simplificadas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  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      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=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+                   ,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20720" indent="-277200">
              <a:spcBef>
                <a:spcPts val="174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quivalentes a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264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,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, 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o bien      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 -T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-2214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 resuelve un sistema de dimensión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m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m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641" name="Group 1035"/>
          <p:cNvGrpSpPr/>
          <p:nvPr/>
        </p:nvGrpSpPr>
        <p:grpSpPr>
          <a:xfrm>
            <a:off x="1828800" y="2590920"/>
            <a:ext cx="685800" cy="990360"/>
            <a:chOff x="1828800" y="2590920"/>
            <a:chExt cx="685800" cy="990360"/>
          </a:xfrm>
        </p:grpSpPr>
        <p:sp>
          <p:nvSpPr>
            <p:cNvPr id="642" name="AutoShape 1029"/>
            <p:cNvSpPr/>
            <p:nvPr/>
          </p:nvSpPr>
          <p:spPr>
            <a:xfrm>
              <a:off x="1828800" y="259092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43" name="AutoShape 1031"/>
            <p:cNvSpPr/>
            <p:nvPr/>
          </p:nvSpPr>
          <p:spPr>
            <a:xfrm>
              <a:off x="2438640" y="2590920"/>
              <a:ext cx="75960" cy="99036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44" name="Group 1038"/>
          <p:cNvGrpSpPr/>
          <p:nvPr/>
        </p:nvGrpSpPr>
        <p:grpSpPr>
          <a:xfrm>
            <a:off x="3352680" y="2514600"/>
            <a:ext cx="609480" cy="990720"/>
            <a:chOff x="3352680" y="2514600"/>
            <a:chExt cx="609480" cy="990720"/>
          </a:xfrm>
        </p:grpSpPr>
        <p:sp>
          <p:nvSpPr>
            <p:cNvPr id="645" name="AutoShape 1030"/>
            <p:cNvSpPr/>
            <p:nvPr/>
          </p:nvSpPr>
          <p:spPr>
            <a:xfrm>
              <a:off x="3352680" y="2514600"/>
              <a:ext cx="75960" cy="9907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46" name="AutoShape 1032"/>
            <p:cNvSpPr/>
            <p:nvPr/>
          </p:nvSpPr>
          <p:spPr>
            <a:xfrm>
              <a:off x="3885840" y="2514600"/>
              <a:ext cx="76320" cy="9907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47" name="Group 1037"/>
          <p:cNvGrpSpPr/>
          <p:nvPr/>
        </p:nvGrpSpPr>
        <p:grpSpPr>
          <a:xfrm>
            <a:off x="4952880" y="2514600"/>
            <a:ext cx="685800" cy="990720"/>
            <a:chOff x="4952880" y="2514600"/>
            <a:chExt cx="685800" cy="990720"/>
          </a:xfrm>
        </p:grpSpPr>
        <p:sp>
          <p:nvSpPr>
            <p:cNvPr id="648" name="AutoShape 1033"/>
            <p:cNvSpPr/>
            <p:nvPr/>
          </p:nvSpPr>
          <p:spPr>
            <a:xfrm>
              <a:off x="4952880" y="2514600"/>
              <a:ext cx="76320" cy="9907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49" name="AutoShape 1034"/>
            <p:cNvSpPr/>
            <p:nvPr/>
          </p:nvSpPr>
          <p:spPr>
            <a:xfrm>
              <a:off x="5562720" y="2514600"/>
              <a:ext cx="75960" cy="99072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41040 h 990720"/>
                <a:gd name="textAreaBottom" fmla="*/ 9496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101-4081-4C7D-B377-46213D77D3B7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mprobación de las condiciones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1. Se resuelve el sistema de ecuacione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264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 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2. Se calcula el multiplicador como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3. Se comprueba la condició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E805-B4DE-4959-9BC8-CDAA322E7959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ndiciones de óptimo en un vértice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sfuerzo a realiza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Factibilidad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Multiplicar matriz por vector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xistencia de multiplicadore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Resolver un sistema de ecuaciones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Dimensión  </a:t>
            </a:r>
            <a:r>
              <a:rPr b="0" i="1" lang="es-ES_tradnl" sz="20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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000" spc="-1" strike="noStrike">
                <a:solidFill>
                  <a:srgbClr val="00264c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gno de los multiplicadore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Comparación simple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2BC-D9A4-4F47-AFAD-905330DE9FCB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álculo de los multiplicadores para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( 3  1  2  0  0 )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1  2  -1             1   1               2               3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 2  4   1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   2  -1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   1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1  4   1             -1  2              -1              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T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5/6  4/3  -3/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-2  7/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omo  (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&lt; 0 , el punto no es solució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659" name="Group 19"/>
          <p:cNvGrpSpPr/>
          <p:nvPr/>
        </p:nvGrpSpPr>
        <p:grpSpPr>
          <a:xfrm>
            <a:off x="1752480" y="3048120"/>
            <a:ext cx="1295640" cy="990360"/>
            <a:chOff x="1752480" y="3048120"/>
            <a:chExt cx="1295640" cy="990360"/>
          </a:xfrm>
        </p:grpSpPr>
        <p:sp>
          <p:nvSpPr>
            <p:cNvPr id="660" name="AutoShape 7"/>
            <p:cNvSpPr/>
            <p:nvPr/>
          </p:nvSpPr>
          <p:spPr>
            <a:xfrm>
              <a:off x="1752480" y="304812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61" name="AutoShape 9"/>
            <p:cNvSpPr/>
            <p:nvPr/>
          </p:nvSpPr>
          <p:spPr>
            <a:xfrm>
              <a:off x="2971800" y="3048120"/>
              <a:ext cx="76320" cy="99036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62" name="Group 20"/>
          <p:cNvGrpSpPr/>
          <p:nvPr/>
        </p:nvGrpSpPr>
        <p:grpSpPr>
          <a:xfrm>
            <a:off x="4038480" y="3048120"/>
            <a:ext cx="990720" cy="990360"/>
            <a:chOff x="4038480" y="3048120"/>
            <a:chExt cx="990720" cy="990360"/>
          </a:xfrm>
        </p:grpSpPr>
        <p:sp>
          <p:nvSpPr>
            <p:cNvPr id="663" name="AutoShape 8"/>
            <p:cNvSpPr/>
            <p:nvPr/>
          </p:nvSpPr>
          <p:spPr>
            <a:xfrm>
              <a:off x="4038480" y="304812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64" name="AutoShape 10"/>
            <p:cNvSpPr/>
            <p:nvPr/>
          </p:nvSpPr>
          <p:spPr>
            <a:xfrm>
              <a:off x="4952880" y="3048120"/>
              <a:ext cx="76320" cy="99036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65" name="Group 18"/>
          <p:cNvGrpSpPr/>
          <p:nvPr/>
        </p:nvGrpSpPr>
        <p:grpSpPr>
          <a:xfrm>
            <a:off x="7924680" y="3048120"/>
            <a:ext cx="380880" cy="990360"/>
            <a:chOff x="7924680" y="3048120"/>
            <a:chExt cx="380880" cy="990360"/>
          </a:xfrm>
        </p:grpSpPr>
        <p:sp>
          <p:nvSpPr>
            <p:cNvPr id="666" name="AutoShape 11"/>
            <p:cNvSpPr/>
            <p:nvPr/>
          </p:nvSpPr>
          <p:spPr>
            <a:xfrm>
              <a:off x="7924680" y="304812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67" name="AutoShape 12"/>
            <p:cNvSpPr/>
            <p:nvPr/>
          </p:nvSpPr>
          <p:spPr>
            <a:xfrm>
              <a:off x="8229600" y="3048120"/>
              <a:ext cx="75960" cy="99036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668" name="Group 17"/>
          <p:cNvGrpSpPr/>
          <p:nvPr/>
        </p:nvGrpSpPr>
        <p:grpSpPr>
          <a:xfrm>
            <a:off x="6172200" y="3048120"/>
            <a:ext cx="457200" cy="990360"/>
            <a:chOff x="6172200" y="3048120"/>
            <a:chExt cx="457200" cy="990360"/>
          </a:xfrm>
        </p:grpSpPr>
        <p:sp>
          <p:nvSpPr>
            <p:cNvPr id="669" name="AutoShape 13"/>
            <p:cNvSpPr/>
            <p:nvPr/>
          </p:nvSpPr>
          <p:spPr>
            <a:xfrm>
              <a:off x="6172200" y="3048120"/>
              <a:ext cx="76320" cy="9903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670" name="AutoShape 14"/>
            <p:cNvSpPr/>
            <p:nvPr/>
          </p:nvSpPr>
          <p:spPr>
            <a:xfrm>
              <a:off x="6553440" y="3048120"/>
              <a:ext cx="75960" cy="99036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41040 h 990360"/>
                <a:gd name="textAreaBottom" fmla="*/ 9493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876-02A0-49E6-A935-ACD75CC457A1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Método Simplex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Nos dan un vértice factible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 es solución, se termina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 no lo es, buscar un nuevo vértic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álculo de un nuevo vértice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ra alcanzar la solución más rápidamente, se calcula un vértice mejor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ra facilitar el cálculo del nuevo vértice, se elige un vértice contigu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4A7A-6761-435E-BB97-EC3508D3B8BA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álculo del nuevo vértice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Buscar entre vértices contiguo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blema en forma estánda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Un vértice contiguo comparte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- 1  restricciones activa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Un vértice contiguo comparte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m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- 1  variables no básica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Una variable no básica diferent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xisten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m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vértices contiguo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A34-1CEE-45B7-AAE7-8861ECCF1D72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¿Qué vértice contiguo escoger?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l mejo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értice contiguo con el menor valor de la función objetiv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emasiado caro de calcular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l que resulte más prometedo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értice contiguo en la arista con el mayor descenso en la función objetiv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524D-F756-4D30-942B-65F1E8059248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Vértice más prometedor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683" name="Freeform 4"/>
          <p:cNvSpPr/>
          <p:nvPr/>
        </p:nvSpPr>
        <p:spPr>
          <a:xfrm>
            <a:off x="3200400" y="2743200"/>
            <a:ext cx="3352680" cy="2876400"/>
          </a:xfrm>
          <a:custGeom>
            <a:avLst/>
            <a:gdLst/>
            <a:ahLst/>
            <a:rect l="l" t="t" r="r" b="b"/>
            <a:pathLst>
              <a:path w="2598" h="2046">
                <a:moveTo>
                  <a:pt x="0" y="2045"/>
                </a:moveTo>
                <a:lnTo>
                  <a:pt x="2597" y="2045"/>
                </a:lnTo>
                <a:lnTo>
                  <a:pt x="1625" y="1026"/>
                </a:lnTo>
                <a:lnTo>
                  <a:pt x="0" y="0"/>
                </a:lnTo>
                <a:lnTo>
                  <a:pt x="0" y="2045"/>
                </a:lnTo>
              </a:path>
            </a:pathLst>
          </a:custGeom>
          <a:solidFill>
            <a:srgbClr val="598bbd">
              <a:alpha val="50000"/>
            </a:srgbClr>
          </a:solidFill>
          <a:ln cap="rnd" w="381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 flipV="1">
            <a:off x="2743200" y="3429000"/>
            <a:ext cx="2514600" cy="1828800"/>
          </a:xfrm>
          <a:prstGeom prst="line">
            <a:avLst/>
          </a:prstGeom>
          <a:ln w="2556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5" name="Line 6"/>
          <p:cNvSpPr/>
          <p:nvPr/>
        </p:nvSpPr>
        <p:spPr>
          <a:xfrm flipV="1">
            <a:off x="2286000" y="2666880"/>
            <a:ext cx="2514600" cy="1828800"/>
          </a:xfrm>
          <a:prstGeom prst="line">
            <a:avLst/>
          </a:prstGeom>
          <a:ln w="2556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 flipV="1">
            <a:off x="2438280" y="2819520"/>
            <a:ext cx="2514600" cy="1828800"/>
          </a:xfrm>
          <a:prstGeom prst="line">
            <a:avLst/>
          </a:prstGeom>
          <a:ln w="2556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7" name="Line 8"/>
          <p:cNvSpPr/>
          <p:nvPr/>
        </p:nvSpPr>
        <p:spPr>
          <a:xfrm flipV="1">
            <a:off x="2514600" y="3048120"/>
            <a:ext cx="2514600" cy="1828800"/>
          </a:xfrm>
          <a:prstGeom prst="line">
            <a:avLst/>
          </a:prstGeom>
          <a:ln w="2556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8" name="Line 9"/>
          <p:cNvSpPr/>
          <p:nvPr/>
        </p:nvSpPr>
        <p:spPr>
          <a:xfrm flipV="1">
            <a:off x="2590920" y="3276720"/>
            <a:ext cx="2514600" cy="1828800"/>
          </a:xfrm>
          <a:prstGeom prst="line">
            <a:avLst/>
          </a:prstGeom>
          <a:ln w="25560">
            <a:solidFill>
              <a:srgbClr val="0026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9" name="Line 10"/>
          <p:cNvSpPr/>
          <p:nvPr/>
        </p:nvSpPr>
        <p:spPr>
          <a:xfrm flipH="1" flipV="1">
            <a:off x="2971800" y="3276360"/>
            <a:ext cx="990720" cy="1447560"/>
          </a:xfrm>
          <a:prstGeom prst="line">
            <a:avLst/>
          </a:prstGeom>
          <a:ln w="25560">
            <a:solidFill>
              <a:srgbClr val="00264c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3048120" y="5486400"/>
            <a:ext cx="228600" cy="228600"/>
          </a:xfrm>
          <a:prstGeom prst="ellipse">
            <a:avLst/>
          </a:prstGeom>
          <a:solidFill>
            <a:srgbClr val="598bbd">
              <a:alpha val="50000"/>
            </a:srgbClr>
          </a:solidFill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1" name="Line 12"/>
          <p:cNvSpPr/>
          <p:nvPr/>
        </p:nvSpPr>
        <p:spPr>
          <a:xfrm flipV="1">
            <a:off x="3276720" y="4952880"/>
            <a:ext cx="0" cy="533520"/>
          </a:xfrm>
          <a:prstGeom prst="line">
            <a:avLst/>
          </a:prstGeom>
          <a:ln w="25560">
            <a:solidFill>
              <a:srgbClr val="00264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2" name="Line 13"/>
          <p:cNvSpPr/>
          <p:nvPr/>
        </p:nvSpPr>
        <p:spPr>
          <a:xfrm>
            <a:off x="3276720" y="5486400"/>
            <a:ext cx="533160" cy="0"/>
          </a:xfrm>
          <a:prstGeom prst="line">
            <a:avLst/>
          </a:prstGeom>
          <a:ln w="25560">
            <a:solidFill>
              <a:srgbClr val="00264c"/>
            </a:solidFill>
            <a:prstDash val="dash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3" name="Oval 14"/>
          <p:cNvSpPr/>
          <p:nvPr/>
        </p:nvSpPr>
        <p:spPr>
          <a:xfrm>
            <a:off x="6477120" y="5486400"/>
            <a:ext cx="228600" cy="228600"/>
          </a:xfrm>
          <a:prstGeom prst="ellipse">
            <a:avLst/>
          </a:prstGeom>
          <a:solidFill>
            <a:srgbClr val="598bbd">
              <a:alpha val="50000"/>
            </a:srgbClr>
          </a:solidFill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4" name="Line 15"/>
          <p:cNvSpPr/>
          <p:nvPr/>
        </p:nvSpPr>
        <p:spPr>
          <a:xfrm flipH="1" flipV="1">
            <a:off x="5922000" y="5094360"/>
            <a:ext cx="349560" cy="402840"/>
          </a:xfrm>
          <a:prstGeom prst="line">
            <a:avLst/>
          </a:prstGeom>
          <a:ln w="25560">
            <a:solidFill>
              <a:srgbClr val="00264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5" name="Line 16"/>
          <p:cNvSpPr/>
          <p:nvPr/>
        </p:nvSpPr>
        <p:spPr>
          <a:xfrm flipH="1">
            <a:off x="5715000" y="5486400"/>
            <a:ext cx="53352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6" name="Text Box 17"/>
          <p:cNvSpPr/>
          <p:nvPr/>
        </p:nvSpPr>
        <p:spPr>
          <a:xfrm>
            <a:off x="5568480" y="5029200"/>
            <a:ext cx="269280" cy="337320"/>
          </a:xfrm>
          <a:prstGeom prst="rect">
            <a:avLst/>
          </a:prstGeom>
          <a:solidFill>
            <a:srgbClr val="598b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264c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89F-908D-4EE9-9B58-3864962FE739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Selección de vértice contigu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lave: valor de los multiplicadore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Multiplicador: cambio en la función objetivo al alejarse de la restricció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Supongamos que  </a:t>
            </a:r>
            <a:r>
              <a:rPr b="0" i="1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0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&lt; 0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Si aumenta  </a:t>
            </a:r>
            <a:r>
              <a:rPr b="0" i="1" lang="es-ES_tradnl" sz="2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0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, la función objetivo disminuye a un ritmo dado por  </a:t>
            </a:r>
            <a:r>
              <a:rPr b="0" i="1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0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Multiplicador más negativo: decrecimiento más rápid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626D-05A6-4F0C-8090-0BA0A0D93F51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álculo del vértice contigu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 el vértice no es solución, existe algún multiplicador negativ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leccionar el multiplicador más negativ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esplazarse a lo largo de la arista asociada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xpresión de la arista:  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 vector que representa la dirección de la arista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escalar que indica distancia sobre la arista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Cuanto mayor es </a:t>
            </a:r>
            <a:r>
              <a:rPr b="0" i="1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, más nos alejamos del vértice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DDB-7D40-48E5-B4E1-4CCDAF71760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Propiedades especiales del problema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La región factible es un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olitopo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Figura limitada por hiperplano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lementos de un politopo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aras, aristas, vértice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Algunos de estos elementos son importantes para el cálculo de la solució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ómo identificarlos: caracterización algebraica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FCA-0F35-4528-B983-883E40B69A08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álculo de dirección de movimiento,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irección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tal que a lo largo de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24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Aumente  </a:t>
            </a:r>
            <a:r>
              <a:rPr b="0" i="1" lang="es-ES_tradnl" sz="20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0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24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Las restricciones de igualdad se cumplan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24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Las demás variables no básicas sean cero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álculo de componentes básicas y no básicas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2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2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706" name="Group 13"/>
          <p:cNvGrpSpPr/>
          <p:nvPr/>
        </p:nvGrpSpPr>
        <p:grpSpPr>
          <a:xfrm>
            <a:off x="3962520" y="4419720"/>
            <a:ext cx="532800" cy="838080"/>
            <a:chOff x="3962520" y="4419720"/>
            <a:chExt cx="532800" cy="838080"/>
          </a:xfrm>
        </p:grpSpPr>
        <p:sp>
          <p:nvSpPr>
            <p:cNvPr id="707" name="AutoShape 7"/>
            <p:cNvSpPr/>
            <p:nvPr/>
          </p:nvSpPr>
          <p:spPr>
            <a:xfrm>
              <a:off x="3962520" y="4419720"/>
              <a:ext cx="75960" cy="83808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708" name="AutoShape 8"/>
            <p:cNvSpPr/>
            <p:nvPr/>
          </p:nvSpPr>
          <p:spPr>
            <a:xfrm>
              <a:off x="4419360" y="4419720"/>
              <a:ext cx="75960" cy="83808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3020-C43B-4515-B0D8-10ECF58859EC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Información de partida: vértice factible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        ,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 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0 ,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ndiciones que debe cumplir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p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ebe aumentar  (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(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&gt;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emás variables no básicas iguales a cero  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(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0 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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712" name="Group 1030"/>
          <p:cNvGrpSpPr/>
          <p:nvPr/>
        </p:nvGrpSpPr>
        <p:grpSpPr>
          <a:xfrm>
            <a:off x="2666880" y="2514600"/>
            <a:ext cx="533520" cy="838080"/>
            <a:chOff x="2666880" y="2514600"/>
            <a:chExt cx="533520" cy="838080"/>
          </a:xfrm>
        </p:grpSpPr>
        <p:sp>
          <p:nvSpPr>
            <p:cNvPr id="713" name="AutoShape 1028"/>
            <p:cNvSpPr/>
            <p:nvPr/>
          </p:nvSpPr>
          <p:spPr>
            <a:xfrm>
              <a:off x="2666880" y="2514600"/>
              <a:ext cx="74880" cy="838080"/>
            </a:xfrm>
            <a:custGeom>
              <a:avLst/>
              <a:gdLst>
                <a:gd name="textAreaLeft" fmla="*/ 21960 w 74880"/>
                <a:gd name="textAreaRight" fmla="*/ 75240 w 7488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714" name="AutoShape 1029"/>
            <p:cNvSpPr/>
            <p:nvPr/>
          </p:nvSpPr>
          <p:spPr>
            <a:xfrm>
              <a:off x="3124080" y="2514600"/>
              <a:ext cx="76320" cy="83808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A83E-732D-4A61-BCE2-74E95B2C2E5A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ndiciones que debe cumplir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 p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 deben cumplir las restricciones de igualdad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 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(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p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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0 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¿Qué queda por determinar?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omponente no básica a aumentar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lor de la componente  (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Se toma el valor 1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007D-99AC-4659-B302-A6E0B299A84E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Resumen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35480" indent="-282960">
              <a:spcBef>
                <a:spcPts val="876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Forma de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,  B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35480" indent="-282960">
              <a:spcBef>
                <a:spcPts val="876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¿Qué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se selecciona?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31480" indent="-22608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 no básica con  (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más negativ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31480" indent="-22608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Justificación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(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 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-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9149-4633-45F8-BED4-B841C7E5248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álculo de </a:t>
            </a:r>
            <a:r>
              <a:rPr b="0" i="1" lang="es-ES_tradnl" sz="32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Dado un vértice factible no solució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1. Encontrar el multiplicador más negativo, (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2. Definir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como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3. Resolver el sistema de ecuacione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6890-8365-4564-AFE5-1A6BC14954CB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Ejemplo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min  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3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s.a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3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12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9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studiar el punto   ( 3  1  2  0  0 )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-2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7/2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727" name="Group 10"/>
          <p:cNvGrpSpPr/>
          <p:nvPr/>
        </p:nvGrpSpPr>
        <p:grpSpPr>
          <a:xfrm>
            <a:off x="5105520" y="5029200"/>
            <a:ext cx="685800" cy="914400"/>
            <a:chOff x="5105520" y="5029200"/>
            <a:chExt cx="685800" cy="914400"/>
          </a:xfrm>
        </p:grpSpPr>
        <p:sp>
          <p:nvSpPr>
            <p:cNvPr id="728" name="AutoShape 7"/>
            <p:cNvSpPr/>
            <p:nvPr/>
          </p:nvSpPr>
          <p:spPr>
            <a:xfrm>
              <a:off x="5105520" y="502920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729" name="AutoShape 8"/>
            <p:cNvSpPr/>
            <p:nvPr/>
          </p:nvSpPr>
          <p:spPr>
            <a:xfrm>
              <a:off x="5715000" y="502920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5A6-0C1D-49B6-991D-E27559A48FB5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Definición de </a:t>
            </a:r>
            <a:r>
              <a:rPr b="0" i="1" lang="es-ES_tradnl" sz="32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mponentes no básicas: 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mponentes básica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264c"/>
                </a:solidFill>
                <a:latin typeface="Trebuchet MS"/>
              </a:rPr>
              <a:t>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2  1               1   1            -1                -3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Bp</a:t>
            </a:r>
            <a:r>
              <a:rPr b="0" i="1" lang="es-ES_tradnl" sz="22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Ne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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2  4  1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2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-   2  -1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  -2 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2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4  1               1   2             1                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Dirección de movimiento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-3  1  0  1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733" name="Group 15"/>
          <p:cNvGrpSpPr/>
          <p:nvPr/>
        </p:nvGrpSpPr>
        <p:grpSpPr>
          <a:xfrm>
            <a:off x="2590920" y="3657600"/>
            <a:ext cx="914400" cy="1066680"/>
            <a:chOff x="2590920" y="3657600"/>
            <a:chExt cx="914400" cy="1066680"/>
          </a:xfrm>
        </p:grpSpPr>
        <p:sp>
          <p:nvSpPr>
            <p:cNvPr id="734" name="AutoShape 7"/>
            <p:cNvSpPr/>
            <p:nvPr/>
          </p:nvSpPr>
          <p:spPr>
            <a:xfrm>
              <a:off x="2590920" y="36576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735" name="AutoShape 8"/>
            <p:cNvSpPr/>
            <p:nvPr/>
          </p:nvSpPr>
          <p:spPr>
            <a:xfrm>
              <a:off x="3429360" y="3657600"/>
              <a:ext cx="75960" cy="106668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736" name="Group 19"/>
          <p:cNvGrpSpPr/>
          <p:nvPr/>
        </p:nvGrpSpPr>
        <p:grpSpPr>
          <a:xfrm>
            <a:off x="4572000" y="3657600"/>
            <a:ext cx="762120" cy="1066680"/>
            <a:chOff x="4572000" y="3657600"/>
            <a:chExt cx="762120" cy="1066680"/>
          </a:xfrm>
        </p:grpSpPr>
        <p:sp>
          <p:nvSpPr>
            <p:cNvPr id="737" name="AutoShape 9"/>
            <p:cNvSpPr/>
            <p:nvPr/>
          </p:nvSpPr>
          <p:spPr>
            <a:xfrm>
              <a:off x="4572000" y="36576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738" name="AutoShape 10"/>
            <p:cNvSpPr/>
            <p:nvPr/>
          </p:nvSpPr>
          <p:spPr>
            <a:xfrm>
              <a:off x="5257800" y="3657600"/>
              <a:ext cx="76320" cy="106668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739" name="Group 17"/>
          <p:cNvGrpSpPr/>
          <p:nvPr/>
        </p:nvGrpSpPr>
        <p:grpSpPr>
          <a:xfrm>
            <a:off x="6095880" y="3657600"/>
            <a:ext cx="458640" cy="1066680"/>
            <a:chOff x="6095880" y="3657600"/>
            <a:chExt cx="458640" cy="1066680"/>
          </a:xfrm>
        </p:grpSpPr>
        <p:sp>
          <p:nvSpPr>
            <p:cNvPr id="740" name="AutoShape 11"/>
            <p:cNvSpPr/>
            <p:nvPr/>
          </p:nvSpPr>
          <p:spPr>
            <a:xfrm>
              <a:off x="6095880" y="3657600"/>
              <a:ext cx="75960" cy="106668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741" name="AutoShape 12"/>
            <p:cNvSpPr/>
            <p:nvPr/>
          </p:nvSpPr>
          <p:spPr>
            <a:xfrm>
              <a:off x="6476760" y="3657600"/>
              <a:ext cx="77760" cy="1066680"/>
            </a:xfrm>
            <a:custGeom>
              <a:avLst/>
              <a:gdLst>
                <a:gd name="textAreaLeft" fmla="*/ 0 w 77760"/>
                <a:gd name="textAreaRight" fmla="*/ 54720 w 7776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742" name="Group 18"/>
          <p:cNvGrpSpPr/>
          <p:nvPr/>
        </p:nvGrpSpPr>
        <p:grpSpPr>
          <a:xfrm>
            <a:off x="7696080" y="3657600"/>
            <a:ext cx="457200" cy="1066680"/>
            <a:chOff x="7696080" y="3657600"/>
            <a:chExt cx="457200" cy="1066680"/>
          </a:xfrm>
        </p:grpSpPr>
        <p:sp>
          <p:nvSpPr>
            <p:cNvPr id="743" name="AutoShape 13"/>
            <p:cNvSpPr/>
            <p:nvPr/>
          </p:nvSpPr>
          <p:spPr>
            <a:xfrm>
              <a:off x="7696080" y="36576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744" name="AutoShape 14"/>
            <p:cNvSpPr/>
            <p:nvPr/>
          </p:nvSpPr>
          <p:spPr>
            <a:xfrm>
              <a:off x="8076960" y="3657600"/>
              <a:ext cx="76320" cy="106668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F141-2C6A-4820-B0BC-68DD7F529761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Justificación de la condición de óptim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¿Se tiene ascenso en el vértice a lo largo de todas las aristas?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-21924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álculo de todas las aristas en un vértice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0" algn="ctr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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  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-21924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untos a lo largo de la arista:    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-21924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Descenso o ascenso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0" algn="ctr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(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+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 -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0" algn="ctr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&lt; 0   descenso, 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&gt; 0    ascens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5911-4648-443E-BEB6-859530FE70F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Justificación de la condición de óptim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xpresión formal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(-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 -</a:t>
            </a:r>
            <a:r>
              <a:rPr b="0" lang="es-ES_tradnl" sz="2400" spc="-1" strike="noStrike" baseline="30000">
                <a:solidFill>
                  <a:srgbClr val="00264c"/>
                </a:solidFill>
                <a:latin typeface="Trebuchet MS"/>
              </a:rPr>
              <a:t>1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e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   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=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(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 -T</a:t>
            </a:r>
            <a:r>
              <a:rPr b="0" lang="es-ES_tradnl" sz="24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 =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ond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 -T</a:t>
            </a:r>
            <a:r>
              <a:rPr b="0" lang="es-ES_tradnl" sz="24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 tiene una solución (para minimización) si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467-B5FC-4AF1-B869-FF6AD278A7EE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álculo de la longitud de paso </a:t>
            </a:r>
            <a:r>
              <a:rPr b="0" i="1" lang="es-ES_tradnl" sz="32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Trebuchet MS"/>
              </a:rPr>
              <a:t>+1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¿Cómo interesaría moverse?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A lo largo de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la función objetivo decrece linealment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Moverse tan lejos como sea posibl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Unica limitación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Restricciones de cota de las variables básicas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CFC-DB2C-4081-8192-8F63D8E026F6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Politopos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grpSp>
        <p:nvGrpSpPr>
          <p:cNvPr id="514" name="Group 56"/>
          <p:cNvGrpSpPr/>
          <p:nvPr/>
        </p:nvGrpSpPr>
        <p:grpSpPr>
          <a:xfrm>
            <a:off x="1143000" y="2819160"/>
            <a:ext cx="3677760" cy="2743560"/>
            <a:chOff x="1143000" y="2819160"/>
            <a:chExt cx="3677760" cy="2743560"/>
          </a:xfrm>
        </p:grpSpPr>
        <p:sp>
          <p:nvSpPr>
            <p:cNvPr id="515" name="Line 4"/>
            <p:cNvSpPr/>
            <p:nvPr/>
          </p:nvSpPr>
          <p:spPr>
            <a:xfrm flipV="1">
              <a:off x="2746440" y="4893840"/>
              <a:ext cx="2063520" cy="6685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16" name="Line 5"/>
            <p:cNvSpPr/>
            <p:nvPr/>
          </p:nvSpPr>
          <p:spPr>
            <a:xfrm flipH="1" flipV="1">
              <a:off x="1143000" y="4695840"/>
              <a:ext cx="1603440" cy="8668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1154160" y="4702320"/>
              <a:ext cx="2079720" cy="936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 flipH="1" flipV="1">
              <a:off x="1143000" y="4695840"/>
              <a:ext cx="2101680" cy="223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 flipH="1">
              <a:off x="1143000" y="3992400"/>
              <a:ext cx="147600" cy="70344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0" name="Line 9"/>
            <p:cNvSpPr/>
            <p:nvPr/>
          </p:nvSpPr>
          <p:spPr>
            <a:xfrm>
              <a:off x="1154160" y="4708440"/>
              <a:ext cx="1581120" cy="8413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1" name="Line 10"/>
            <p:cNvSpPr/>
            <p:nvPr/>
          </p:nvSpPr>
          <p:spPr>
            <a:xfrm flipV="1">
              <a:off x="2746440" y="4893840"/>
              <a:ext cx="2063520" cy="6685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2" name="Line 11"/>
            <p:cNvSpPr/>
            <p:nvPr/>
          </p:nvSpPr>
          <p:spPr>
            <a:xfrm flipV="1">
              <a:off x="1290600" y="3504960"/>
              <a:ext cx="733320" cy="4870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>
              <a:off x="3440160" y="3676680"/>
              <a:ext cx="1369800" cy="12175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4" name="Line 13"/>
            <p:cNvSpPr/>
            <p:nvPr/>
          </p:nvSpPr>
          <p:spPr>
            <a:xfrm>
              <a:off x="2741760" y="5556240"/>
              <a:ext cx="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5" name="Line 14"/>
            <p:cNvSpPr/>
            <p:nvPr/>
          </p:nvSpPr>
          <p:spPr>
            <a:xfrm flipV="1">
              <a:off x="2741760" y="3682800"/>
              <a:ext cx="0" cy="187956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6" name="Line 15"/>
            <p:cNvSpPr/>
            <p:nvPr/>
          </p:nvSpPr>
          <p:spPr>
            <a:xfrm>
              <a:off x="2035080" y="3517920"/>
              <a:ext cx="700200" cy="16524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7" name="Line 16"/>
            <p:cNvSpPr/>
            <p:nvPr/>
          </p:nvSpPr>
          <p:spPr>
            <a:xfrm>
              <a:off x="2035080" y="3517920"/>
              <a:ext cx="700200" cy="16524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8" name="Line 17"/>
            <p:cNvSpPr/>
            <p:nvPr/>
          </p:nvSpPr>
          <p:spPr>
            <a:xfrm flipH="1" flipV="1">
              <a:off x="2023560" y="3504960"/>
              <a:ext cx="722520" cy="1918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29" name="Line 18"/>
            <p:cNvSpPr/>
            <p:nvPr/>
          </p:nvSpPr>
          <p:spPr>
            <a:xfrm flipH="1" flipV="1">
              <a:off x="1143000" y="2819160"/>
              <a:ext cx="6480" cy="18889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30" name="Line 19"/>
            <p:cNvSpPr/>
            <p:nvPr/>
          </p:nvSpPr>
          <p:spPr>
            <a:xfrm flipH="1" flipV="1">
              <a:off x="3227400" y="4694400"/>
              <a:ext cx="1587600" cy="20160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31" name="Line 20"/>
            <p:cNvSpPr/>
            <p:nvPr/>
          </p:nvSpPr>
          <p:spPr>
            <a:xfrm flipH="1" flipV="1">
              <a:off x="1277640" y="3979440"/>
              <a:ext cx="1966680" cy="73836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32" name="Line 21"/>
            <p:cNvSpPr/>
            <p:nvPr/>
          </p:nvSpPr>
          <p:spPr>
            <a:xfrm flipH="1" flipV="1">
              <a:off x="3428640" y="3664080"/>
              <a:ext cx="1392120" cy="12427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33" name="Line 22"/>
            <p:cNvSpPr/>
            <p:nvPr/>
          </p:nvSpPr>
          <p:spPr>
            <a:xfrm flipH="1" flipV="1">
              <a:off x="2023920" y="3505320"/>
              <a:ext cx="1416240" cy="17136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34" name="Line 23"/>
            <p:cNvSpPr/>
            <p:nvPr/>
          </p:nvSpPr>
          <p:spPr>
            <a:xfrm flipH="1">
              <a:off x="1277640" y="3517920"/>
              <a:ext cx="757080" cy="4618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35" name="Line 24"/>
            <p:cNvSpPr/>
            <p:nvPr/>
          </p:nvSpPr>
          <p:spPr>
            <a:xfrm flipV="1">
              <a:off x="2746440" y="3664080"/>
              <a:ext cx="682560" cy="331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536" name="Line 27"/>
          <p:cNvSpPr/>
          <p:nvPr/>
        </p:nvSpPr>
        <p:spPr>
          <a:xfrm>
            <a:off x="4800600" y="2533680"/>
            <a:ext cx="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7" name="Line 28"/>
          <p:cNvSpPr/>
          <p:nvPr/>
        </p:nvSpPr>
        <p:spPr>
          <a:xfrm>
            <a:off x="8923320" y="5780160"/>
            <a:ext cx="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8" name="Line 31"/>
          <p:cNvSpPr/>
          <p:nvPr/>
        </p:nvSpPr>
        <p:spPr>
          <a:xfrm>
            <a:off x="4800600" y="5780160"/>
            <a:ext cx="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800600" y="2540160"/>
            <a:ext cx="0" cy="2520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0" name="Line 44"/>
          <p:cNvSpPr/>
          <p:nvPr/>
        </p:nvSpPr>
        <p:spPr>
          <a:xfrm>
            <a:off x="4807080" y="523728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1" name="Line 45"/>
          <p:cNvSpPr/>
          <p:nvPr/>
        </p:nvSpPr>
        <p:spPr>
          <a:xfrm>
            <a:off x="4807080" y="469440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2" name="Line 46"/>
          <p:cNvSpPr/>
          <p:nvPr/>
        </p:nvSpPr>
        <p:spPr>
          <a:xfrm>
            <a:off x="4807080" y="416232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3" name="Line 47"/>
          <p:cNvSpPr/>
          <p:nvPr/>
        </p:nvSpPr>
        <p:spPr>
          <a:xfrm>
            <a:off x="4807080" y="361944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4807080" y="307656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5" name="Line 49"/>
          <p:cNvSpPr/>
          <p:nvPr/>
        </p:nvSpPr>
        <p:spPr>
          <a:xfrm>
            <a:off x="4807080" y="253368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6" name="Freeform 53"/>
          <p:cNvSpPr/>
          <p:nvPr/>
        </p:nvSpPr>
        <p:spPr>
          <a:xfrm>
            <a:off x="5029200" y="2590920"/>
            <a:ext cx="3352680" cy="2876400"/>
          </a:xfrm>
          <a:custGeom>
            <a:avLst/>
            <a:gdLst/>
            <a:ahLst/>
            <a:rect l="l" t="t" r="r" b="b"/>
            <a:pathLst>
              <a:path w="2598" h="2046">
                <a:moveTo>
                  <a:pt x="0" y="2045"/>
                </a:moveTo>
                <a:lnTo>
                  <a:pt x="2597" y="2045"/>
                </a:lnTo>
                <a:lnTo>
                  <a:pt x="1625" y="1026"/>
                </a:lnTo>
                <a:lnTo>
                  <a:pt x="0" y="0"/>
                </a:lnTo>
                <a:lnTo>
                  <a:pt x="0" y="2045"/>
                </a:lnTo>
              </a:path>
            </a:pathLst>
          </a:custGeom>
          <a:solidFill>
            <a:srgbClr val="598bbd">
              <a:alpha val="50000"/>
            </a:srgbClr>
          </a:solidFill>
          <a:ln cap="rnd" w="381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9E3A-6635-4E63-AFEA-3EBA87BA3ABA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álculo de la longitud de paso  </a:t>
            </a:r>
            <a:r>
              <a:rPr b="0" i="1" lang="es-ES_tradnl" sz="32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ondición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 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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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ra cada componente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 básica calculamos el mayor paso factible,   -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/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l paso se define como el menor de los cocientes para los pasos positivo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= min { -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/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|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&lt; 0 }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6751-D708-44D3-90DA-B3506EAD1FDC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Ejemplo: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in  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3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3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1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4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5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9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n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( 3  1  2  0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hemos obtenido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-3  1  0  1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olo existe una componente negativa en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= -3/(-3) = 1 ,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2  2  1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508C-A737-411D-B8CF-87E400399A54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álculo del vértice factible inicial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ra aplicar el método Simplex falta un vértice inicial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ero el método Simplex es capaz de generar vértices factible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Las soluciones de un problema lineal lo so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Basta con encontrar un problema lineal con las propiedades adecuada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ECD2-2639-4672-B55C-8DB6ED6F198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Problema lineal auxiliar (fase I)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blema lineal relacionado con el de partida, pero distinto de él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piedades deseada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ebe tener un vértice factible que se pueda calcular de forma trivial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La solución del problema auxiliar debe ser un vértice factible del problema de partida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4C9-A5DF-4D21-BD1E-55F809F78CF9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upondremos que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blema auxiliar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min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 min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w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s.a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s.a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0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,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értice inicial:   (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 = ( 0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 la solución del problema modificado resultase ser (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0 ) ,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sería un vértice factible del problema original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D6E3-4D88-4B3F-B319-8BC7A056E5F4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1. Asegurar que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2. Construir el problema modificad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3. Resolver dicho problema partiendo de ( 0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)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4. Si en la solución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0 , resolver el problema original desde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5. Si en la solución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 , el problema original no es factibl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370-1C8F-4711-B171-99B67D0A09D6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040" y="198252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Ejemplo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ax  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3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-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-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Lado derecho mayor que cero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ax  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3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-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A84C-854A-4795-B9B4-06D485F6B0CA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82520"/>
            <a:ext cx="7543800" cy="40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blema en forma estándar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ax  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3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-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roblema auxilia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in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-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4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B038-ACB9-408F-BB80-B74F08F7134B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Ejempl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unto inicial del problema auxilia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0  0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2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1  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unto solución del problema auxilia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0  0  1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1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Vértice factible del problema inicial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0  0  1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666-F1C0-4423-AF28-FD2C9F5304D3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Los cálculos del método Simplex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1. Obtener un vértice factible inicial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1.1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37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Asegurar que  </a:t>
            </a:r>
            <a:r>
              <a:rPr b="0" i="1" lang="es-ES_tradnl" sz="20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37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Añadir variables auxiliares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37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Formar problema auxiliar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1.2  Fase I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37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Resolver el problema auxiliar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37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Determinar un vértice factible para el problema original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2066-E864-4C24-9936-B1996F2D238A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Soluciones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50" name="Line 1050"/>
          <p:cNvSpPr/>
          <p:nvPr/>
        </p:nvSpPr>
        <p:spPr>
          <a:xfrm>
            <a:off x="4800600" y="2533680"/>
            <a:ext cx="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1" name="Line 1051"/>
          <p:cNvSpPr/>
          <p:nvPr/>
        </p:nvSpPr>
        <p:spPr>
          <a:xfrm>
            <a:off x="8923320" y="5780160"/>
            <a:ext cx="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2" name="Line 1052"/>
          <p:cNvSpPr/>
          <p:nvPr/>
        </p:nvSpPr>
        <p:spPr>
          <a:xfrm>
            <a:off x="4800600" y="5780160"/>
            <a:ext cx="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3" name="Line 1053"/>
          <p:cNvSpPr/>
          <p:nvPr/>
        </p:nvSpPr>
        <p:spPr>
          <a:xfrm>
            <a:off x="4800600" y="2540160"/>
            <a:ext cx="0" cy="2520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4" name="Line 1054"/>
          <p:cNvSpPr/>
          <p:nvPr/>
        </p:nvSpPr>
        <p:spPr>
          <a:xfrm>
            <a:off x="4807080" y="523728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5" name="Line 1055"/>
          <p:cNvSpPr/>
          <p:nvPr/>
        </p:nvSpPr>
        <p:spPr>
          <a:xfrm>
            <a:off x="4807080" y="469440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6" name="Line 1056"/>
          <p:cNvSpPr/>
          <p:nvPr/>
        </p:nvSpPr>
        <p:spPr>
          <a:xfrm>
            <a:off x="4807080" y="416232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7" name="Line 1057"/>
          <p:cNvSpPr/>
          <p:nvPr/>
        </p:nvSpPr>
        <p:spPr>
          <a:xfrm>
            <a:off x="4807080" y="361944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8" name="Line 1058"/>
          <p:cNvSpPr/>
          <p:nvPr/>
        </p:nvSpPr>
        <p:spPr>
          <a:xfrm>
            <a:off x="4807080" y="307656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9" name="Line 1059"/>
          <p:cNvSpPr/>
          <p:nvPr/>
        </p:nvSpPr>
        <p:spPr>
          <a:xfrm>
            <a:off x="4807080" y="2533680"/>
            <a:ext cx="25200" cy="0"/>
          </a:xfrm>
          <a:prstGeom prst="line">
            <a:avLst/>
          </a:prstGeom>
          <a:ln w="12600">
            <a:solidFill>
              <a:srgbClr val="1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560" name="Group 1084"/>
          <p:cNvGrpSpPr/>
          <p:nvPr/>
        </p:nvGrpSpPr>
        <p:grpSpPr>
          <a:xfrm>
            <a:off x="3505320" y="3505320"/>
            <a:ext cx="2666880" cy="2438280"/>
            <a:chOff x="3505320" y="3505320"/>
            <a:chExt cx="2666880" cy="2438280"/>
          </a:xfrm>
        </p:grpSpPr>
        <p:sp>
          <p:nvSpPr>
            <p:cNvPr id="561" name="Freeform 1060"/>
            <p:cNvSpPr/>
            <p:nvPr/>
          </p:nvSpPr>
          <p:spPr>
            <a:xfrm>
              <a:off x="3505320" y="3505320"/>
              <a:ext cx="2300760" cy="1878120"/>
            </a:xfrm>
            <a:custGeom>
              <a:avLst/>
              <a:gdLst/>
              <a:ahLst/>
              <a:rect l="l" t="t" r="r" b="b"/>
              <a:pathLst>
                <a:path w="2598" h="2046">
                  <a:moveTo>
                    <a:pt x="0" y="2045"/>
                  </a:moveTo>
                  <a:lnTo>
                    <a:pt x="2597" y="2045"/>
                  </a:lnTo>
                  <a:lnTo>
                    <a:pt x="1625" y="1026"/>
                  </a:lnTo>
                  <a:lnTo>
                    <a:pt x="0" y="0"/>
                  </a:lnTo>
                  <a:lnTo>
                    <a:pt x="0" y="2045"/>
                  </a:lnTo>
                </a:path>
              </a:pathLst>
            </a:custGeom>
            <a:solidFill>
              <a:srgbClr val="598bbd">
                <a:alpha val="50000"/>
              </a:srgbClr>
            </a:solidFill>
            <a:ln cap="rnd" w="3816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62" name="Line 1066"/>
            <p:cNvSpPr/>
            <p:nvPr/>
          </p:nvSpPr>
          <p:spPr>
            <a:xfrm flipV="1">
              <a:off x="5021640" y="4550040"/>
              <a:ext cx="627480" cy="8956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63" name="Line 1069"/>
            <p:cNvSpPr/>
            <p:nvPr/>
          </p:nvSpPr>
          <p:spPr>
            <a:xfrm flipV="1">
              <a:off x="5126040" y="4649760"/>
              <a:ext cx="627480" cy="8956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64" name="Line 1070"/>
            <p:cNvSpPr/>
            <p:nvPr/>
          </p:nvSpPr>
          <p:spPr>
            <a:xfrm flipV="1">
              <a:off x="5230800" y="4749120"/>
              <a:ext cx="627480" cy="8956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65" name="Line 1071"/>
            <p:cNvSpPr/>
            <p:nvPr/>
          </p:nvSpPr>
          <p:spPr>
            <a:xfrm flipV="1">
              <a:off x="5335200" y="4848840"/>
              <a:ext cx="627480" cy="8956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66" name="Line 1072"/>
            <p:cNvSpPr/>
            <p:nvPr/>
          </p:nvSpPr>
          <p:spPr>
            <a:xfrm flipV="1">
              <a:off x="5439960" y="4948200"/>
              <a:ext cx="627480" cy="8956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67" name="Line 1073"/>
            <p:cNvSpPr/>
            <p:nvPr/>
          </p:nvSpPr>
          <p:spPr>
            <a:xfrm flipV="1">
              <a:off x="5544720" y="5047920"/>
              <a:ext cx="627480" cy="8956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68" name="Oval 1074"/>
            <p:cNvSpPr/>
            <p:nvPr/>
          </p:nvSpPr>
          <p:spPr>
            <a:xfrm>
              <a:off x="5701320" y="5296680"/>
              <a:ext cx="156600" cy="149040"/>
            </a:xfrm>
            <a:prstGeom prst="ellipse">
              <a:avLst/>
            </a:prstGeom>
            <a:solidFill>
              <a:srgbClr val="598bbd">
                <a:alpha val="50000"/>
              </a:srgbClr>
            </a:solidFill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569" name="Group 1085"/>
          <p:cNvGrpSpPr/>
          <p:nvPr/>
        </p:nvGrpSpPr>
        <p:grpSpPr>
          <a:xfrm>
            <a:off x="1066680" y="2590920"/>
            <a:ext cx="2286000" cy="1904760"/>
            <a:chOff x="1066680" y="2590920"/>
            <a:chExt cx="2286000" cy="1904760"/>
          </a:xfrm>
        </p:grpSpPr>
        <p:sp>
          <p:nvSpPr>
            <p:cNvPr id="570" name="Freeform 1061"/>
            <p:cNvSpPr/>
            <p:nvPr/>
          </p:nvSpPr>
          <p:spPr>
            <a:xfrm>
              <a:off x="1066680" y="2590920"/>
              <a:ext cx="2286000" cy="1904760"/>
            </a:xfrm>
            <a:custGeom>
              <a:avLst/>
              <a:gdLst/>
              <a:ahLst/>
              <a:rect l="l" t="t" r="r" b="b"/>
              <a:pathLst>
                <a:path w="2598" h="2046">
                  <a:moveTo>
                    <a:pt x="0" y="2045"/>
                  </a:moveTo>
                  <a:lnTo>
                    <a:pt x="2597" y="2045"/>
                  </a:lnTo>
                  <a:lnTo>
                    <a:pt x="1625" y="1026"/>
                  </a:lnTo>
                  <a:lnTo>
                    <a:pt x="0" y="0"/>
                  </a:lnTo>
                  <a:lnTo>
                    <a:pt x="0" y="2045"/>
                  </a:lnTo>
                </a:path>
              </a:pathLst>
            </a:custGeom>
            <a:solidFill>
              <a:srgbClr val="598bbd">
                <a:alpha val="50000"/>
              </a:srgbClr>
            </a:solidFill>
            <a:ln cap="rnd" w="3816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71" name="Line 1077"/>
            <p:cNvSpPr/>
            <p:nvPr/>
          </p:nvSpPr>
          <p:spPr>
            <a:xfrm>
              <a:off x="2053800" y="3044880"/>
              <a:ext cx="986760" cy="75672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72" name="Line 1079"/>
            <p:cNvSpPr/>
            <p:nvPr/>
          </p:nvSpPr>
          <p:spPr>
            <a:xfrm>
              <a:off x="2001600" y="3145680"/>
              <a:ext cx="987120" cy="75672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73" name="Line 1080"/>
            <p:cNvSpPr/>
            <p:nvPr/>
          </p:nvSpPr>
          <p:spPr>
            <a:xfrm>
              <a:off x="1949760" y="3246840"/>
              <a:ext cx="987120" cy="75672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74" name="Line 1081"/>
            <p:cNvSpPr/>
            <p:nvPr/>
          </p:nvSpPr>
          <p:spPr>
            <a:xfrm>
              <a:off x="1897920" y="3347640"/>
              <a:ext cx="986760" cy="75672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75" name="Line 1082"/>
            <p:cNvSpPr/>
            <p:nvPr/>
          </p:nvSpPr>
          <p:spPr>
            <a:xfrm>
              <a:off x="1845720" y="3448440"/>
              <a:ext cx="987120" cy="75672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76" name="Oval 1083"/>
            <p:cNvSpPr/>
            <p:nvPr/>
          </p:nvSpPr>
          <p:spPr>
            <a:xfrm>
              <a:off x="2417400" y="3499200"/>
              <a:ext cx="155520" cy="151200"/>
            </a:xfrm>
            <a:prstGeom prst="ellipse">
              <a:avLst/>
            </a:prstGeom>
            <a:solidFill>
              <a:srgbClr val="598bbd">
                <a:alpha val="50000"/>
              </a:srgbClr>
            </a:solidFill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577" name="Group 1098"/>
          <p:cNvGrpSpPr/>
          <p:nvPr/>
        </p:nvGrpSpPr>
        <p:grpSpPr>
          <a:xfrm>
            <a:off x="5638680" y="2209680"/>
            <a:ext cx="2743200" cy="2362320"/>
            <a:chOff x="5638680" y="2209680"/>
            <a:chExt cx="2743200" cy="2362320"/>
          </a:xfrm>
        </p:grpSpPr>
        <p:sp>
          <p:nvSpPr>
            <p:cNvPr id="578" name="Freeform 1087"/>
            <p:cNvSpPr/>
            <p:nvPr/>
          </p:nvSpPr>
          <p:spPr>
            <a:xfrm>
              <a:off x="6095880" y="2666880"/>
              <a:ext cx="2286000" cy="1905120"/>
            </a:xfrm>
            <a:custGeom>
              <a:avLst/>
              <a:gdLst/>
              <a:ahLst/>
              <a:rect l="l" t="t" r="r" b="b"/>
              <a:pathLst>
                <a:path w="2598" h="2046">
                  <a:moveTo>
                    <a:pt x="0" y="2045"/>
                  </a:moveTo>
                  <a:lnTo>
                    <a:pt x="2597" y="2045"/>
                  </a:lnTo>
                  <a:lnTo>
                    <a:pt x="1625" y="1026"/>
                  </a:lnTo>
                  <a:lnTo>
                    <a:pt x="0" y="0"/>
                  </a:lnTo>
                  <a:lnTo>
                    <a:pt x="0" y="2045"/>
                  </a:lnTo>
                </a:path>
              </a:pathLst>
            </a:custGeom>
            <a:solidFill>
              <a:srgbClr val="598bbd">
                <a:alpha val="50000"/>
              </a:srgbClr>
            </a:solidFill>
            <a:ln cap="rnd" w="38160">
              <a:solidFill>
                <a:srgbClr val="0026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79" name="Oval 1093"/>
            <p:cNvSpPr/>
            <p:nvPr/>
          </p:nvSpPr>
          <p:spPr>
            <a:xfrm>
              <a:off x="6019920" y="2590920"/>
              <a:ext cx="155520" cy="152280"/>
            </a:xfrm>
            <a:prstGeom prst="ellipse">
              <a:avLst/>
            </a:prstGeom>
            <a:solidFill>
              <a:srgbClr val="598bbd">
                <a:alpha val="50000"/>
              </a:srgbClr>
            </a:solidFill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80" name="Line 1094"/>
            <p:cNvSpPr/>
            <p:nvPr/>
          </p:nvSpPr>
          <p:spPr>
            <a:xfrm flipV="1">
              <a:off x="5867280" y="2438280"/>
              <a:ext cx="914400" cy="60984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81" name="Line 1095"/>
            <p:cNvSpPr/>
            <p:nvPr/>
          </p:nvSpPr>
          <p:spPr>
            <a:xfrm flipV="1">
              <a:off x="5943600" y="2590560"/>
              <a:ext cx="914400" cy="6094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82" name="Line 1096"/>
            <p:cNvSpPr/>
            <p:nvPr/>
          </p:nvSpPr>
          <p:spPr>
            <a:xfrm flipV="1">
              <a:off x="5791320" y="2285640"/>
              <a:ext cx="914400" cy="60948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583" name="Line 1097"/>
            <p:cNvSpPr/>
            <p:nvPr/>
          </p:nvSpPr>
          <p:spPr>
            <a:xfrm flipV="1">
              <a:off x="5638680" y="2209680"/>
              <a:ext cx="914400" cy="60984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75E-C1C6-4B6D-8D92-97877897E4EC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876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2.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omprobar si el vértice factible es solució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 ?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27920" indent="-280080">
              <a:spcBef>
                <a:spcPts val="876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3.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alcular la dirección de movimiento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arg min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(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D49-A347-4BEB-BBC4-11EE94283911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4.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alcular la longitud de paso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= min { -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/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|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&lt; 0 }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5.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Obtener el nuevo vértic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’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p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9A57-E8EB-4FAE-AB04-BDA301C08CA1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Ejempl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in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0. Poner en forma estándar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in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=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25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D8BC-6E42-4F05-89D8-2D3E83C500CC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34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1. Vértice factible inicial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roblema auxiliar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in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a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értice factible inicial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0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1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olución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1  0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0  1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74B-C8B5-4D92-BD32-8F3DBB6FC27C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so 2. Solución del problema original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s básicas: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Es solución el vértice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1  0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-2  -2  1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irección de movimiento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( 1  0  0 )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( 0  -2 )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( 0  1  0  0  -2 )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Longitud de paso: 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1/2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Nuevo vértice: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’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( 1  1/2  0  0  0 )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8467-751F-46F8-BB60-E2F33E02C482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iguiente iteración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s básicas: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Es solución el vértice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2  -1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-1  2  1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irección de movimiento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9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19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1900" spc="-1" strike="noStrike">
                <a:solidFill>
                  <a:srgbClr val="00264c"/>
                </a:solidFill>
                <a:latin typeface="Trebuchet MS"/>
              </a:rPr>
              <a:t> = ( 1  0  0 )</a:t>
            </a:r>
            <a:r>
              <a:rPr b="0" i="1" lang="es-ES_tradnl" sz="19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19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19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19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1900" spc="-1" strike="noStrike">
                <a:solidFill>
                  <a:srgbClr val="00264c"/>
                </a:solidFill>
                <a:latin typeface="Trebuchet MS"/>
              </a:rPr>
              <a:t> = -</a:t>
            </a:r>
            <a:r>
              <a:rPr b="0" i="1" lang="es-ES_tradnl" sz="19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19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19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1900" spc="-1" strike="noStrike">
                <a:solidFill>
                  <a:srgbClr val="00264c"/>
                </a:solidFill>
                <a:latin typeface="Trebuchet MS"/>
              </a:rPr>
              <a:t>Np</a:t>
            </a:r>
            <a:r>
              <a:rPr b="0" i="1" lang="es-ES_tradnl" sz="19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1900" spc="-1" strike="noStrike">
                <a:solidFill>
                  <a:srgbClr val="00264c"/>
                </a:solidFill>
                <a:latin typeface="Trebuchet MS"/>
              </a:rPr>
              <a:t> = ( -1  -1/2 )</a:t>
            </a:r>
            <a:r>
              <a:rPr b="0" i="1" lang="es-ES_tradnl" sz="19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19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19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1900" spc="-1" strike="noStrike">
                <a:solidFill>
                  <a:srgbClr val="00264c"/>
                </a:solidFill>
                <a:latin typeface="Trebuchet MS"/>
              </a:rPr>
              <a:t> = ( -1  -1/2  1  0  0 )</a:t>
            </a:r>
            <a:r>
              <a:rPr b="0" i="1" lang="es-ES_tradnl" sz="19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19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Longitud de paso: </a:t>
            </a:r>
            <a:r>
              <a:rPr b="0" i="1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 = min{ 1/1 , (1/2)/(1/2) } = 1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Nuevo vértice: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’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( 0  0  1  0  0 )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A21-E703-453A-A3AF-D7E3C93BB178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iguiente iteración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s básicas: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Es solución el vértice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3  -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2  3  2 )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l vértice es solució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értice degenerad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Qué habría sucedido si hubiésemos considerado como variables básicas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926D-B707-4362-8497-3C37EA31D5D8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nvergencia del método Simplex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Un problema lineal puede ser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No factibl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29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No acotad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     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max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+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     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.a  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Factible y acotado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óptim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808" name="Group 26"/>
          <p:cNvGrpSpPr/>
          <p:nvPr/>
        </p:nvGrpSpPr>
        <p:grpSpPr>
          <a:xfrm>
            <a:off x="5410080" y="3200400"/>
            <a:ext cx="2457360" cy="1771560"/>
            <a:chOff x="5410080" y="3200400"/>
            <a:chExt cx="2457360" cy="1771560"/>
          </a:xfrm>
        </p:grpSpPr>
        <p:sp>
          <p:nvSpPr>
            <p:cNvPr id="809" name="Line 7"/>
            <p:cNvSpPr/>
            <p:nvPr/>
          </p:nvSpPr>
          <p:spPr>
            <a:xfrm>
              <a:off x="5419800" y="3295800"/>
              <a:ext cx="2438280" cy="144756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10" name="Freeform 23"/>
            <p:cNvSpPr/>
            <p:nvPr/>
          </p:nvSpPr>
          <p:spPr>
            <a:xfrm>
              <a:off x="5419800" y="3200400"/>
              <a:ext cx="2447640" cy="704880"/>
            </a:xfrm>
            <a:custGeom>
              <a:avLst/>
              <a:gdLst/>
              <a:ahLst/>
              <a:rect l="l" t="t" r="r" b="b"/>
              <a:pathLst>
                <a:path w="1542" h="444">
                  <a:moveTo>
                    <a:pt x="0" y="0"/>
                  </a:moveTo>
                  <a:lnTo>
                    <a:pt x="1536" y="18"/>
                  </a:lnTo>
                  <a:lnTo>
                    <a:pt x="1542" y="444"/>
                  </a:lnTo>
                  <a:lnTo>
                    <a:pt x="0" y="3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8bbd">
                <a:alpha val="50000"/>
              </a:srgbClr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11" name="Freeform 24"/>
            <p:cNvSpPr/>
            <p:nvPr/>
          </p:nvSpPr>
          <p:spPr>
            <a:xfrm>
              <a:off x="5410080" y="3295800"/>
              <a:ext cx="2448000" cy="1676160"/>
            </a:xfrm>
            <a:custGeom>
              <a:avLst/>
              <a:gdLst/>
              <a:ahLst/>
              <a:rect l="l" t="t" r="r" b="b"/>
              <a:pathLst>
                <a:path w="1542" h="1056">
                  <a:moveTo>
                    <a:pt x="0" y="0"/>
                  </a:moveTo>
                  <a:lnTo>
                    <a:pt x="1536" y="912"/>
                  </a:lnTo>
                  <a:lnTo>
                    <a:pt x="1542" y="1056"/>
                  </a:lnTo>
                  <a:lnTo>
                    <a:pt x="23" y="10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8bbd">
                <a:alpha val="50000"/>
              </a:srgbClr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12" name="Freeform 25"/>
            <p:cNvSpPr/>
            <p:nvPr/>
          </p:nvSpPr>
          <p:spPr>
            <a:xfrm>
              <a:off x="5800680" y="3686040"/>
              <a:ext cx="2057400" cy="1285920"/>
            </a:xfrm>
            <a:custGeom>
              <a:avLst/>
              <a:gdLst/>
              <a:ahLst/>
              <a:rect l="l" t="t" r="r" b="b"/>
              <a:pathLst>
                <a:path w="1296" h="810">
                  <a:moveTo>
                    <a:pt x="1290" y="810"/>
                  </a:moveTo>
                  <a:lnTo>
                    <a:pt x="72" y="792"/>
                  </a:lnTo>
                  <a:lnTo>
                    <a:pt x="0" y="762"/>
                  </a:lnTo>
                  <a:lnTo>
                    <a:pt x="1296" y="0"/>
                  </a:lnTo>
                  <a:lnTo>
                    <a:pt x="1290" y="810"/>
                  </a:lnTo>
                  <a:close/>
                </a:path>
              </a:pathLst>
            </a:custGeom>
            <a:solidFill>
              <a:srgbClr val="598bbd">
                <a:alpha val="50000"/>
              </a:srgbClr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13" name="Line 5"/>
            <p:cNvSpPr/>
            <p:nvPr/>
          </p:nvSpPr>
          <p:spPr>
            <a:xfrm>
              <a:off x="5724360" y="3219480"/>
              <a:ext cx="0" cy="17524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14" name="Line 6"/>
            <p:cNvSpPr/>
            <p:nvPr/>
          </p:nvSpPr>
          <p:spPr>
            <a:xfrm>
              <a:off x="5419800" y="4667400"/>
              <a:ext cx="243828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15" name="Line 9"/>
            <p:cNvSpPr/>
            <p:nvPr/>
          </p:nvSpPr>
          <p:spPr>
            <a:xfrm>
              <a:off x="5419800" y="3676680"/>
              <a:ext cx="2438280" cy="22860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16" name="Line 8"/>
            <p:cNvSpPr/>
            <p:nvPr/>
          </p:nvSpPr>
          <p:spPr>
            <a:xfrm flipV="1">
              <a:off x="5800680" y="3676320"/>
              <a:ext cx="2057400" cy="1219320"/>
            </a:xfrm>
            <a:prstGeom prst="line">
              <a:avLst/>
            </a:prstGeom>
            <a:ln w="255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BD28-6617-4A3F-88FE-B5EFD9A5D3BE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onvergencia del método Simplex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876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i el problema no tiene solución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Basta con poder identificar la situació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876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i el problema no es factible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La fase I acaba con una solución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w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876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i el problema no está acotado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l método Simplex encuentra un paso 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n alguna iteración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C6A1-D094-4EDC-B928-75BC5319CB6D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Si el problema es óptim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n cada iteración la función objetivo decrece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Descenso: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= (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&lt;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empre que 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&gt;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 sigue descendiendo hasta que  </a:t>
            </a:r>
            <a:r>
              <a:rPr b="0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xiste un número finito de vértice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l argumento solo puede fallar si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7DD1-4B16-4D09-A311-D4C1C9E5B4E7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Teorema básico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“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Si existe una solución del problema lineal, existe un vértice solución”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Importancia de los vértice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Basta con buscar soluciones en vértices (número finito)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Método Simplex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robar vértices eficientemente hasta encontrar la solución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9C5A-5C49-4DA3-8009-F3F078929ED2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Vértices degenerados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ara que 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0  se debe tener que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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 (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0  y  (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p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&lt;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uede suceder en vértices degenerado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Posibilidad de ciclo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Intercambiar variables básicas y no básica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n modificar el valor de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D0A4-4C74-4F00-8AFE-79FB47D47E7A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ómo evitar ciclos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i no hay empate, no pueden existir ciclo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n caso de empates: regla de Bland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-21924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 que entra en la base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536120" indent="-219240">
              <a:spcBef>
                <a:spcPts val="37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Primera con el menor valor del multiplicador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-21924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 que sale de la base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536120" indent="-219240">
              <a:spcBef>
                <a:spcPts val="374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Primera con el menor cociente para  </a:t>
            </a:r>
            <a:r>
              <a:rPr b="0" i="1" lang="es-ES_tradnl" sz="20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2" marL="1097280" indent="-21924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Orden de variables: cualquiera pero fij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13160" indent="-274320">
              <a:spcBef>
                <a:spcPts val="524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Ineficiencia en la práctica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BB99-9A4E-4B74-ACA1-D00FFE9140E2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Organización de los cálculos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ra su aplicación manual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 disponen los datos en una tabla,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0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En un vértice, la tabla se reajusta com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    -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 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832" name="Group 11"/>
          <p:cNvGrpSpPr/>
          <p:nvPr/>
        </p:nvGrpSpPr>
        <p:grpSpPr>
          <a:xfrm>
            <a:off x="4114800" y="3429000"/>
            <a:ext cx="1066680" cy="838080"/>
            <a:chOff x="4114800" y="3429000"/>
            <a:chExt cx="1066680" cy="838080"/>
          </a:xfrm>
        </p:grpSpPr>
        <p:sp>
          <p:nvSpPr>
            <p:cNvPr id="833" name="Line 6"/>
            <p:cNvSpPr/>
            <p:nvPr/>
          </p:nvSpPr>
          <p:spPr>
            <a:xfrm>
              <a:off x="4647960" y="3429000"/>
              <a:ext cx="0" cy="8380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34" name="Line 7"/>
            <p:cNvSpPr/>
            <p:nvPr/>
          </p:nvSpPr>
          <p:spPr>
            <a:xfrm>
              <a:off x="4114800" y="3809880"/>
              <a:ext cx="106668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35" name="Group 10"/>
          <p:cNvGrpSpPr/>
          <p:nvPr/>
        </p:nvGrpSpPr>
        <p:grpSpPr>
          <a:xfrm>
            <a:off x="3429000" y="4876920"/>
            <a:ext cx="3581280" cy="914400"/>
            <a:chOff x="3429000" y="4876920"/>
            <a:chExt cx="3581280" cy="914400"/>
          </a:xfrm>
        </p:grpSpPr>
        <p:sp>
          <p:nvSpPr>
            <p:cNvPr id="836" name="Line 8"/>
            <p:cNvSpPr/>
            <p:nvPr/>
          </p:nvSpPr>
          <p:spPr>
            <a:xfrm>
              <a:off x="5181480" y="4876920"/>
              <a:ext cx="0" cy="91440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37" name="Line 9"/>
            <p:cNvSpPr/>
            <p:nvPr/>
          </p:nvSpPr>
          <p:spPr>
            <a:xfrm>
              <a:off x="3429000" y="5257800"/>
              <a:ext cx="358128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94C-2B1B-4BA8-9360-E0AB2145E5A6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¿Qué información proporciona la tabla?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    -c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 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    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Multiplicadores           Función objetivo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Dir. de movimiento     Valores de variables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ada vértice corresponde a diferentes valores de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y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B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841" name="Group 19"/>
          <p:cNvGrpSpPr/>
          <p:nvPr/>
        </p:nvGrpSpPr>
        <p:grpSpPr>
          <a:xfrm>
            <a:off x="2971800" y="2666880"/>
            <a:ext cx="3448080" cy="838440"/>
            <a:chOff x="2971800" y="2666880"/>
            <a:chExt cx="3448080" cy="838440"/>
          </a:xfrm>
        </p:grpSpPr>
        <p:sp>
          <p:nvSpPr>
            <p:cNvPr id="842" name="Line 15"/>
            <p:cNvSpPr/>
            <p:nvPr/>
          </p:nvSpPr>
          <p:spPr>
            <a:xfrm>
              <a:off x="4876920" y="2666880"/>
              <a:ext cx="0" cy="83844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43" name="Line 16"/>
            <p:cNvSpPr/>
            <p:nvPr/>
          </p:nvSpPr>
          <p:spPr>
            <a:xfrm>
              <a:off x="2971800" y="3048120"/>
              <a:ext cx="3448080" cy="936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1752480" y="3581280"/>
            <a:ext cx="6629040" cy="838080"/>
            <a:chOff x="1752480" y="3581280"/>
            <a:chExt cx="6629040" cy="838080"/>
          </a:xfrm>
        </p:grpSpPr>
        <p:sp>
          <p:nvSpPr>
            <p:cNvPr id="845" name="Line 17"/>
            <p:cNvSpPr/>
            <p:nvPr/>
          </p:nvSpPr>
          <p:spPr>
            <a:xfrm>
              <a:off x="4948560" y="3581280"/>
              <a:ext cx="0" cy="8380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46" name="Line 18"/>
            <p:cNvSpPr/>
            <p:nvPr/>
          </p:nvSpPr>
          <p:spPr>
            <a:xfrm>
              <a:off x="1752480" y="3924000"/>
              <a:ext cx="662904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610F-F5D1-4250-B437-94B920A9A703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¿Cómo actualizar la tabla al cambiar </a:t>
            </a:r>
            <a:r>
              <a:rPr b="0" i="1" lang="es-ES_tradnl" sz="3200" spc="-1" strike="noStrike">
                <a:solidFill>
                  <a:srgbClr val="00264c"/>
                </a:solidFill>
                <a:latin typeface="Trebuchet MS"/>
              </a:rPr>
              <a:t>B </a:t>
            </a: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ambio de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 no básica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básica: multiplicador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Variable básica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no básica: longitud de pas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Una columna de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 cambia por otra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(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...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...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m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 </a:t>
            </a:r>
            <a:r>
              <a:rPr b="0" lang="es-ES_tradnl" sz="26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(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...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...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m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’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(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(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+ (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 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E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5307-1055-416B-A278-85EABE99B936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La matriz de interés en la tabla es la inversa,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(1/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 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(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 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 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 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-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-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- (1/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)(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j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  - 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 </a:t>
            </a:r>
            <a:r>
              <a:rPr b="0" lang="es-ES_tradnl" sz="2600" spc="-1" strike="noStrike">
                <a:solidFill>
                  <a:srgbClr val="00264c"/>
                </a:solidFill>
                <a:latin typeface="Trebuchet MS"/>
              </a:rPr>
              <a:t>)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e</a:t>
            </a:r>
            <a:r>
              <a:rPr b="0" i="1" lang="es-ES_tradnl" sz="2600" spc="-1" strike="noStrike" baseline="-25000">
                <a:solidFill>
                  <a:srgbClr val="00264c"/>
                </a:solidFill>
                <a:latin typeface="Trebuchet MS"/>
              </a:rPr>
              <a:t>k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600" spc="-1" strike="noStrike" baseline="30000">
                <a:solidFill>
                  <a:srgbClr val="00264c"/>
                </a:solidFill>
                <a:latin typeface="Trebuchet MS"/>
              </a:rPr>
              <a:t> -</a:t>
            </a:r>
            <a:r>
              <a:rPr b="0" lang="es-ES_tradnl" sz="2600" spc="-1" strike="noStrike" baseline="30000">
                <a:solidFill>
                  <a:srgbClr val="00264c"/>
                </a:solidFill>
                <a:latin typeface="Trebuchet MS"/>
              </a:rPr>
              <a:t>1</a:t>
            </a:r>
            <a:r>
              <a:rPr b="0" i="1" lang="es-ES_tradnl" sz="2600" spc="-1" strike="noStrike">
                <a:solidFill>
                  <a:srgbClr val="00264c"/>
                </a:solidFill>
                <a:latin typeface="Trebuchet MS"/>
              </a:rPr>
              <a:t>A</a:t>
            </a:r>
            <a:endParaRPr b="0" lang="en-US" sz="26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Operaciones sobre la tabla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A cada fila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se le resta la fila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k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multiplicada por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j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/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kj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 pivota sobre el elemento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kj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F8C9-7DD5-4A69-BC98-9BE0705D4511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La misma operación de pivotaje se aplica al lado derecho y a la fila superior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Introducir en la base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y eliminar 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-5   3  0  -1   26             -3  -2  0  0   2   2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 2  -3  1   1    2  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3  -1  0  1  -2    8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-1   </a:t>
            </a:r>
            <a:r>
              <a:rPr b="1" lang="es-ES_tradnl" sz="2200" spc="-1" strike="noStrike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0  -1 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2               1  -1  1  0  -1   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ropiedad de las columnas básicas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Matriz identidad más ceros en la fila superior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grpSp>
        <p:nvGrpSpPr>
          <p:cNvPr id="856" name="Group 13"/>
          <p:cNvGrpSpPr/>
          <p:nvPr/>
        </p:nvGrpSpPr>
        <p:grpSpPr>
          <a:xfrm>
            <a:off x="1981080" y="3809880"/>
            <a:ext cx="2362320" cy="1143000"/>
            <a:chOff x="1981080" y="3809880"/>
            <a:chExt cx="2362320" cy="1143000"/>
          </a:xfrm>
        </p:grpSpPr>
        <p:sp>
          <p:nvSpPr>
            <p:cNvPr id="857" name="Line 9"/>
            <p:cNvSpPr/>
            <p:nvPr/>
          </p:nvSpPr>
          <p:spPr>
            <a:xfrm>
              <a:off x="1981080" y="4190760"/>
              <a:ext cx="236232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58" name="Line 10"/>
            <p:cNvSpPr/>
            <p:nvPr/>
          </p:nvSpPr>
          <p:spPr>
            <a:xfrm>
              <a:off x="3886200" y="3809880"/>
              <a:ext cx="0" cy="114300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59" name="Group 14"/>
          <p:cNvGrpSpPr/>
          <p:nvPr/>
        </p:nvGrpSpPr>
        <p:grpSpPr>
          <a:xfrm>
            <a:off x="5410080" y="3809880"/>
            <a:ext cx="2438280" cy="1143000"/>
            <a:chOff x="5410080" y="3809880"/>
            <a:chExt cx="2438280" cy="1143000"/>
          </a:xfrm>
        </p:grpSpPr>
        <p:sp>
          <p:nvSpPr>
            <p:cNvPr id="860" name="Line 11"/>
            <p:cNvSpPr/>
            <p:nvPr/>
          </p:nvSpPr>
          <p:spPr>
            <a:xfrm>
              <a:off x="5410080" y="4190760"/>
              <a:ext cx="243828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61" name="Line 12"/>
            <p:cNvSpPr/>
            <p:nvPr/>
          </p:nvSpPr>
          <p:spPr>
            <a:xfrm>
              <a:off x="7238880" y="3809880"/>
              <a:ext cx="0" cy="114300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7A65-97FB-4924-9EC6-3BF28CEB06A7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Ejemplo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in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-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2" marL="1131480" indent="-226080"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roblema auxiliar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min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a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s.a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-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=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+ 2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3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+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=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         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s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, </a:t>
            </a:r>
            <a:r>
              <a:rPr b="0" i="1" lang="es-ES_tradnl" sz="2200" spc="-1" strike="noStrike">
                <a:solidFill>
                  <a:srgbClr val="00264c"/>
                </a:solidFill>
                <a:latin typeface="Trebuchet MS"/>
              </a:rPr>
              <a:t>a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683-A6DE-42B0-A7D9-5D365A1FC5A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Tablas para el problema auxiliar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-2  -1   0   0  0   0              1  -2  -1   0   0   0   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 0   0   0   0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   0             -1   0  -1   1   0   0   -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0   1  -1   0 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1  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00264c"/>
                </a:solidFill>
                <a:latin typeface="Trebuchet MS"/>
              </a:rPr>
              <a:t>1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0   1  -1   0   1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2   2   0   1 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 2              1   2   2   0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1   0    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11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2.1. ¿Son positivos los multiplicadores?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aso 2.2. Dir. de movimiento y long. de paso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3" marL="1568160" indent="-22392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Columna multipl. más negativo, fila cociente menor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  <a:p>
            <a:pPr lvl="3" marL="1568160" indent="-22392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Trebuchet MS"/>
              </a:rPr>
              <a:t>Se pivota sobre el valor  </a:t>
            </a:r>
            <a:r>
              <a:rPr b="1" lang="es-ES_tradnl" sz="2000" spc="-1" strike="noStrike">
                <a:solidFill>
                  <a:srgbClr val="00264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868" name="Group 9"/>
          <p:cNvGrpSpPr/>
          <p:nvPr/>
        </p:nvGrpSpPr>
        <p:grpSpPr>
          <a:xfrm>
            <a:off x="1752480" y="2514600"/>
            <a:ext cx="2743200" cy="1447920"/>
            <a:chOff x="1752480" y="2514600"/>
            <a:chExt cx="2743200" cy="1447920"/>
          </a:xfrm>
        </p:grpSpPr>
        <p:sp>
          <p:nvSpPr>
            <p:cNvPr id="869" name="Line 5"/>
            <p:cNvSpPr/>
            <p:nvPr/>
          </p:nvSpPr>
          <p:spPr>
            <a:xfrm>
              <a:off x="1752480" y="2819520"/>
              <a:ext cx="274320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70" name="Line 6"/>
            <p:cNvSpPr/>
            <p:nvPr/>
          </p:nvSpPr>
          <p:spPr>
            <a:xfrm>
              <a:off x="3962520" y="2514600"/>
              <a:ext cx="0" cy="14479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71" name="Group 10"/>
          <p:cNvGrpSpPr/>
          <p:nvPr/>
        </p:nvGrpSpPr>
        <p:grpSpPr>
          <a:xfrm>
            <a:off x="5410080" y="2514600"/>
            <a:ext cx="2743200" cy="1523880"/>
            <a:chOff x="5410080" y="2514600"/>
            <a:chExt cx="2743200" cy="1523880"/>
          </a:xfrm>
        </p:grpSpPr>
        <p:sp>
          <p:nvSpPr>
            <p:cNvPr id="872" name="Line 7"/>
            <p:cNvSpPr/>
            <p:nvPr/>
          </p:nvSpPr>
          <p:spPr>
            <a:xfrm>
              <a:off x="5410080" y="2819520"/>
              <a:ext cx="274320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73" name="Line 8"/>
            <p:cNvSpPr/>
            <p:nvPr/>
          </p:nvSpPr>
          <p:spPr>
            <a:xfrm>
              <a:off x="7772400" y="2514600"/>
              <a:ext cx="0" cy="15238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D97-ED6F-4F0E-9532-6837AD966189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Nueva tabla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-2  -1  0   0  0    0              0  -2  -2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  0  -1   -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-1   0  -1  1   0  0   -1              0   0   0   0  0   1   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0   1  -1  0  1    1  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   0   1  -1  0   1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2   2  0   1  0    2              0   2   1   1  1  -1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Nueva tabla es óptima para problema auxiliar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-2  -2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  0   -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0   1  -1  0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        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 </a:t>
            </a:r>
            <a:r>
              <a:rPr b="1" lang="es-ES_tradnl" sz="2200" spc="-1" strike="noStrike">
                <a:solidFill>
                  <a:srgbClr val="00264c"/>
                </a:solidFill>
                <a:latin typeface="Trebuchet MS"/>
              </a:rPr>
              <a:t>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1   1  1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877" name="Group 13"/>
          <p:cNvGrpSpPr/>
          <p:nvPr/>
        </p:nvGrpSpPr>
        <p:grpSpPr>
          <a:xfrm>
            <a:off x="1905120" y="2514600"/>
            <a:ext cx="2590560" cy="1447920"/>
            <a:chOff x="1905120" y="2514600"/>
            <a:chExt cx="2590560" cy="1447920"/>
          </a:xfrm>
        </p:grpSpPr>
        <p:sp>
          <p:nvSpPr>
            <p:cNvPr id="878" name="Line 7"/>
            <p:cNvSpPr/>
            <p:nvPr/>
          </p:nvSpPr>
          <p:spPr>
            <a:xfrm>
              <a:off x="1905120" y="2819520"/>
              <a:ext cx="259056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79" name="Line 8"/>
            <p:cNvSpPr/>
            <p:nvPr/>
          </p:nvSpPr>
          <p:spPr>
            <a:xfrm>
              <a:off x="3962520" y="2514600"/>
              <a:ext cx="0" cy="14479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80" name="Group 14"/>
          <p:cNvGrpSpPr/>
          <p:nvPr/>
        </p:nvGrpSpPr>
        <p:grpSpPr>
          <a:xfrm>
            <a:off x="5562720" y="2514600"/>
            <a:ext cx="2590560" cy="1447920"/>
            <a:chOff x="5562720" y="2514600"/>
            <a:chExt cx="2590560" cy="1447920"/>
          </a:xfrm>
        </p:grpSpPr>
        <p:sp>
          <p:nvSpPr>
            <p:cNvPr id="881" name="Line 9"/>
            <p:cNvSpPr/>
            <p:nvPr/>
          </p:nvSpPr>
          <p:spPr>
            <a:xfrm>
              <a:off x="5562720" y="2819520"/>
              <a:ext cx="259056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82" name="Line 10"/>
            <p:cNvSpPr/>
            <p:nvPr/>
          </p:nvSpPr>
          <p:spPr>
            <a:xfrm>
              <a:off x="7696080" y="2514600"/>
              <a:ext cx="0" cy="14479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83" name="Group 15"/>
          <p:cNvGrpSpPr/>
          <p:nvPr/>
        </p:nvGrpSpPr>
        <p:grpSpPr>
          <a:xfrm>
            <a:off x="2971800" y="4572000"/>
            <a:ext cx="2437920" cy="990720"/>
            <a:chOff x="2971800" y="4572000"/>
            <a:chExt cx="2437920" cy="990720"/>
          </a:xfrm>
        </p:grpSpPr>
        <p:sp>
          <p:nvSpPr>
            <p:cNvPr id="884" name="Line 11"/>
            <p:cNvSpPr/>
            <p:nvPr/>
          </p:nvSpPr>
          <p:spPr>
            <a:xfrm>
              <a:off x="2971800" y="4876920"/>
              <a:ext cx="243792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85" name="Line 12"/>
            <p:cNvSpPr/>
            <p:nvPr/>
          </p:nvSpPr>
          <p:spPr>
            <a:xfrm>
              <a:off x="4974480" y="4572000"/>
              <a:ext cx="0" cy="99072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ABA-6EFC-453B-9BC0-9BDF36272818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Justificación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Resultado básico (teor. de representación)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Todo punto de un conjunto convexo puede expresarse como combinación convexa de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+1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untos extremos del conjunt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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, 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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1,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0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=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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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min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c</a:t>
            </a:r>
            <a:r>
              <a:rPr b="0" i="1" lang="es-ES_tradnl" sz="2800" spc="-1" strike="noStrike" baseline="30000">
                <a:solidFill>
                  <a:srgbClr val="00264c"/>
                </a:solidFill>
                <a:latin typeface="Trebuchet MS"/>
              </a:rPr>
              <a:t>T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x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F80F-6A96-4B31-BFC0-76215C85EBB9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De vuelta al problema original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-2  -2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1  0   -1             0   0    -1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2     1      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0   1  -1  0    1  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1   0     1      -1     0  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 2   1   1  1    1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     0   1   </a:t>
            </a:r>
            <a:r>
              <a:rPr b="1" lang="es-ES_tradnl" sz="2200" spc="-1" strike="noStrike">
                <a:solidFill>
                  <a:srgbClr val="00264c"/>
                </a:solidFill>
                <a:latin typeface="Trebuchet MS"/>
              </a:rPr>
              <a:t>1/2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1/2  1/2    1/2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¿Es solución? N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iguiente vértice: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 0    -1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2     1       0             0   2    0 </a:t>
            </a:r>
            <a:r>
              <a:rPr b="0" lang="es-ES_tradnl" sz="2200" spc="-1" strike="noStrike" baseline="-25000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1   2 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1   0     1    -1     0      1     </a:t>
            </a:r>
            <a:r>
              <a:rPr b="0" lang="es-ES_tradnl" sz="22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1   -2   0  -2   -1    0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       </a:t>
            </a:r>
            <a:r>
              <a:rPr b="0" lang="es-ES_tradnl" sz="2200" spc="-1" strike="noStrike">
                <a:solidFill>
                  <a:srgbClr val="00264c"/>
                </a:solidFill>
                <a:latin typeface="Trebuchet MS"/>
              </a:rPr>
              <a:t>0   1   1/2  1/2  1/2    1/2           0   2    1   1   1     1</a:t>
            </a:r>
            <a:endParaRPr b="0" lang="en-US" sz="2200" spc="-1" strike="noStrike">
              <a:solidFill>
                <a:srgbClr val="00264c"/>
              </a:solidFill>
              <a:latin typeface="Trebuchet MS"/>
            </a:endParaRPr>
          </a:p>
        </p:txBody>
      </p:sp>
      <p:grpSp>
        <p:nvGrpSpPr>
          <p:cNvPr id="889" name="Group 15"/>
          <p:cNvGrpSpPr/>
          <p:nvPr/>
        </p:nvGrpSpPr>
        <p:grpSpPr>
          <a:xfrm>
            <a:off x="1371600" y="2514600"/>
            <a:ext cx="2437920" cy="1066680"/>
            <a:chOff x="1371600" y="2514600"/>
            <a:chExt cx="2437920" cy="1066680"/>
          </a:xfrm>
        </p:grpSpPr>
        <p:sp>
          <p:nvSpPr>
            <p:cNvPr id="890" name="Line 7"/>
            <p:cNvSpPr/>
            <p:nvPr/>
          </p:nvSpPr>
          <p:spPr>
            <a:xfrm>
              <a:off x="1371600" y="2819520"/>
              <a:ext cx="243792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91" name="Line 8"/>
            <p:cNvSpPr/>
            <p:nvPr/>
          </p:nvSpPr>
          <p:spPr>
            <a:xfrm>
              <a:off x="3287160" y="2514600"/>
              <a:ext cx="0" cy="106668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92" name="Group 16"/>
          <p:cNvGrpSpPr/>
          <p:nvPr/>
        </p:nvGrpSpPr>
        <p:grpSpPr>
          <a:xfrm>
            <a:off x="4648320" y="2514600"/>
            <a:ext cx="3428640" cy="1143000"/>
            <a:chOff x="4648320" y="2514600"/>
            <a:chExt cx="3428640" cy="1143000"/>
          </a:xfrm>
        </p:grpSpPr>
        <p:sp>
          <p:nvSpPr>
            <p:cNvPr id="893" name="Line 9"/>
            <p:cNvSpPr/>
            <p:nvPr/>
          </p:nvSpPr>
          <p:spPr>
            <a:xfrm>
              <a:off x="4648320" y="2819520"/>
              <a:ext cx="342864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94" name="Line 10"/>
            <p:cNvSpPr/>
            <p:nvPr/>
          </p:nvSpPr>
          <p:spPr>
            <a:xfrm>
              <a:off x="7445520" y="2514600"/>
              <a:ext cx="0" cy="114300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95" name="Group 17"/>
          <p:cNvGrpSpPr/>
          <p:nvPr/>
        </p:nvGrpSpPr>
        <p:grpSpPr>
          <a:xfrm>
            <a:off x="1219320" y="4572000"/>
            <a:ext cx="3276000" cy="1143000"/>
            <a:chOff x="1219320" y="4572000"/>
            <a:chExt cx="3276000" cy="1143000"/>
          </a:xfrm>
        </p:grpSpPr>
        <p:sp>
          <p:nvSpPr>
            <p:cNvPr id="896" name="Line 11"/>
            <p:cNvSpPr/>
            <p:nvPr/>
          </p:nvSpPr>
          <p:spPr>
            <a:xfrm>
              <a:off x="1219320" y="4876920"/>
              <a:ext cx="327600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897" name="Line 12"/>
            <p:cNvSpPr/>
            <p:nvPr/>
          </p:nvSpPr>
          <p:spPr>
            <a:xfrm>
              <a:off x="3964320" y="4572000"/>
              <a:ext cx="0" cy="114300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898" name="Group 18"/>
          <p:cNvGrpSpPr/>
          <p:nvPr/>
        </p:nvGrpSpPr>
        <p:grpSpPr>
          <a:xfrm>
            <a:off x="5334120" y="4495680"/>
            <a:ext cx="2742840" cy="1142640"/>
            <a:chOff x="5334120" y="4495680"/>
            <a:chExt cx="2742840" cy="1142640"/>
          </a:xfrm>
        </p:grpSpPr>
        <p:sp>
          <p:nvSpPr>
            <p:cNvPr id="899" name="Line 13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900" name="Line 14"/>
            <p:cNvSpPr/>
            <p:nvPr/>
          </p:nvSpPr>
          <p:spPr>
            <a:xfrm>
              <a:off x="7562880" y="4495680"/>
              <a:ext cx="0" cy="114264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6E4B-FD04-4F9E-AC77-C5D7A9B2384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Resumen: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n la tabla se selecciona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olumna del multiplicador más negativo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Fila con menor cociente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b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k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’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/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k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para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400" spc="-1" strike="noStrike" baseline="-25000">
                <a:solidFill>
                  <a:srgbClr val="00264c"/>
                </a:solidFill>
                <a:latin typeface="Trebuchet MS"/>
              </a:rPr>
              <a:t>ik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&gt; 0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Se pivota sobre el elemento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i="1" lang="es-ES_tradnl" sz="2800" spc="-1" strike="noStrike" baseline="-25000">
                <a:solidFill>
                  <a:srgbClr val="00264c"/>
                </a:solidFill>
                <a:latin typeface="Trebuchet MS"/>
              </a:rPr>
              <a:t>ik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’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El proceso se repite hasta que los multiplicadores tienen el signo correcto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C086-EDB7-4881-BEB6-7AEDBA985A23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Caracterización algebraica de vértices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Representación gráfica solo válida si  </a:t>
            </a:r>
            <a:r>
              <a:rPr b="0" i="1" lang="es-ES_tradnl" sz="28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 3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aracterización general basada en la de otras partes de un politopo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aras, aristas, etc.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Marcador de número de diapositiv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B1C9-5F1F-4EB2-B881-93568770036F}" type="slidenum">
              <a:rPr b="0" lang="es-ES" sz="1400" spc="-1" strike="noStrike">
                <a:solidFill>
                  <a:srgbClr val="ffffe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33"/>
                </a:solidFill>
                <a:latin typeface="Trebuchet MS"/>
              </a:rPr>
              <a:t>Programación lineal</a:t>
            </a:r>
            <a:endParaRPr b="0" lang="en-US" sz="44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Partes de un politopo, </a:t>
            </a:r>
            <a:r>
              <a:rPr b="0" i="1" lang="es-ES_tradnl" sz="3200" spc="-1" strike="noStrike">
                <a:solidFill>
                  <a:srgbClr val="00264c"/>
                </a:solidFill>
                <a:latin typeface="Trebuchet MS"/>
              </a:rPr>
              <a:t>Ax</a:t>
            </a: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lang="es-ES_tradnl" sz="32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264c"/>
                </a:solidFill>
                <a:latin typeface="Trebuchet MS"/>
              </a:rPr>
              <a:t> </a:t>
            </a:r>
            <a:r>
              <a:rPr b="0" i="1" lang="es-ES_tradnl" sz="3200" spc="-1" strike="noStrike">
                <a:solidFill>
                  <a:srgbClr val="00264c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Caras: subconjuntos de hiperplanos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Vértices: 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Puntos intersección de al menos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  cara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Arista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Segmentos intersección de </a:t>
            </a:r>
            <a:r>
              <a:rPr b="0" i="1" lang="es-ES_tradnl" sz="2400" spc="-1" strike="noStrike">
                <a:solidFill>
                  <a:srgbClr val="00264c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- 1  caras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Comienzan y acaban en un vértice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rebuchet MS"/>
              </a:rPr>
              <a:t>Vértices contiguos:</a:t>
            </a:r>
            <a:endParaRPr b="0" lang="en-US" sz="2800" spc="-1" strike="noStrike">
              <a:solidFill>
                <a:srgbClr val="00264c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Trebuchet MS"/>
              </a:rPr>
              <a:t>unidos por una misma arista</a:t>
            </a:r>
            <a:endParaRPr b="0" lang="en-US" sz="2400" spc="-1" strike="noStrike">
              <a:solidFill>
                <a:srgbClr val="00264c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6T09:00:56Z</dcterms:created>
  <dc:creator>Pablo Turmero</dc:creator>
  <dc:description/>
  <cp:keywords/>
  <dc:language>en-US</dc:language>
  <cp:lastModifiedBy>Pablo</cp:lastModifiedBy>
  <cp:lastPrinted>2001-10-04T12:45:51Z</cp:lastPrinted>
  <dcterms:modified xsi:type="dcterms:W3CDTF">2016-01-15T19:30:02Z</dcterms:modified>
  <cp:revision>219</cp:revision>
  <dc:subject>Programacion Lineal</dc:subject>
  <dc:title/>
</cp:coreProperties>
</file>