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86.png" ContentType="image/png"/>
  <Override PartName="/ppt/media/image42.wmf" ContentType="image/x-wmf"/>
  <Override PartName="/ppt/media/image85.png" ContentType="image/png"/>
  <Override PartName="/ppt/media/image41.wmf" ContentType="image/x-wmf"/>
  <Override PartName="/ppt/media/whoosh.wav" ContentType="audio/x-wav"/>
  <Override PartName="/ppt/media/image40.wmf" ContentType="image/x-wmf"/>
  <Override PartName="/ppt/media/camera.wav" ContentType="audio/x-wav"/>
  <Override PartName="/ppt/media/image35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29.wmf" ContentType="image/x-wmf"/>
  <Override PartName="/ppt/media/image39.wmf" ContentType="image/x-wmf"/>
  <Override PartName="/ppt/media/image9.wmf" ContentType="image/x-wmf"/>
  <Override PartName="/ppt/media/image54.wmf" ContentType="image/x-wmf"/>
  <Override PartName="/ppt/media/image14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79.wmf" ContentType="image/x-wmf"/>
  <Override PartName="/ppt/media/image67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5.png" ContentType="image/png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6.wmf" ContentType="image/x-wmf"/>
  <Override PartName="/ppt/media/image82.wmf" ContentType="image/x-wmf"/>
  <Override PartName="/ppt/media/image17.wmf" ContentType="image/x-wmf"/>
  <Override PartName="/ppt/media/image1.jpeg" ContentType="image/jpeg"/>
  <Override PartName="/ppt/media/image50.wmf" ContentType="image/x-wmf"/>
  <Override PartName="/ppt/media/image10.png" ContentType="image/png"/>
  <Override PartName="/ppt/media/image78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25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  <p:sldId id="285" r:id="rId67"/>
    <p:sldId id="286" r:id="rId68"/>
    <p:sldId id="287" r:id="rId69"/>
    <p:sldId id="288" r:id="rId70"/>
    <p:sldId id="289" r:id="rId71"/>
    <p:sldId id="290" r:id="rId72"/>
    <p:sldId id="291" r:id="rId73"/>
    <p:sldId id="292" r:id="rId74"/>
    <p:sldId id="293" r:id="rId75"/>
    <p:sldId id="294" r:id="rId76"/>
    <p:sldId id="295" r:id="rId77"/>
    <p:sldId id="296" r:id="rId78"/>
    <p:sldId id="297" r:id="rId79"/>
    <p:sldId id="298" r:id="rId80"/>
    <p:sldId id="299" r:id="rId81"/>
    <p:sldId id="300" r:id="rId82"/>
    <p:sldId id="301" r:id="rId83"/>
    <p:sldId id="30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slide" Target="slides/slide30.xml"/><Relationship Id="rId68" Type="http://schemas.openxmlformats.org/officeDocument/2006/relationships/slide" Target="slides/slide31.xml"/><Relationship Id="rId69" Type="http://schemas.openxmlformats.org/officeDocument/2006/relationships/slide" Target="slides/slide32.xml"/><Relationship Id="rId70" Type="http://schemas.openxmlformats.org/officeDocument/2006/relationships/slide" Target="slides/slide33.xml"/><Relationship Id="rId71" Type="http://schemas.openxmlformats.org/officeDocument/2006/relationships/slide" Target="slides/slide34.xml"/><Relationship Id="rId72" Type="http://schemas.openxmlformats.org/officeDocument/2006/relationships/slide" Target="slides/slide35.xml"/><Relationship Id="rId73" Type="http://schemas.openxmlformats.org/officeDocument/2006/relationships/slide" Target="slides/slide36.xml"/><Relationship Id="rId74" Type="http://schemas.openxmlformats.org/officeDocument/2006/relationships/slide" Target="slides/slide37.xml"/><Relationship Id="rId75" Type="http://schemas.openxmlformats.org/officeDocument/2006/relationships/slide" Target="slides/slide38.xml"/><Relationship Id="rId76" Type="http://schemas.openxmlformats.org/officeDocument/2006/relationships/slide" Target="slides/slide39.xml"/><Relationship Id="rId77" Type="http://schemas.openxmlformats.org/officeDocument/2006/relationships/slide" Target="slides/slide40.xml"/><Relationship Id="rId78" Type="http://schemas.openxmlformats.org/officeDocument/2006/relationships/slide" Target="slides/slide41.xml"/><Relationship Id="rId79" Type="http://schemas.openxmlformats.org/officeDocument/2006/relationships/slide" Target="slides/slide42.xml"/><Relationship Id="rId80" Type="http://schemas.openxmlformats.org/officeDocument/2006/relationships/slide" Target="slides/slide43.xml"/><Relationship Id="rId81" Type="http://schemas.openxmlformats.org/officeDocument/2006/relationships/slide" Target="slides/slide44.xml"/><Relationship Id="rId82" Type="http://schemas.openxmlformats.org/officeDocument/2006/relationships/slide" Target="slides/slide45.xml"/><Relationship Id="rId83" Type="http://schemas.openxmlformats.org/officeDocument/2006/relationships/slide" Target="slides/slide46.xml"/><Relationship Id="rId84" Type="http://schemas.openxmlformats.org/officeDocument/2006/relationships/slide" Target="slides/slide47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dt" idx="10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ftr" idx="10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 type="sldNum" idx="10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958A-A839-4992-A4E2-3566D1DBC9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://asyali.org/Projects/Project6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AB13-B949-45FB-93C3-55AFBD2EA0A6}" type="slidenum">
              <a:rPr b="0" lang="es-E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354-8C1A-4733-AACE-FFAD3D2F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9EE-49F9-49C8-B1DF-4BDE7B2B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945E8-DD13-4BD2-A3A3-D4079622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488A2-71D6-4CB7-8D55-63D6113B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450E2-0B0C-44CB-A7CB-BD702FBD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E0A8F-6256-4234-B34A-1DA8AFED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62C0C-AC46-4287-B0DC-8C1E7EE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D3AEA-5C33-4B01-B3EE-B598FB12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0908A-4093-4102-AB75-2632738A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DB82F-9AC4-447A-A295-16B75060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5CF94-436A-497D-B3AC-E99DF55D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C7F01-351A-4E48-AEB8-B8368AF5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5F6-93C1-4CD8-9B8C-3FAB88DD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14441-660B-48CF-BBDA-5313C8FC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E4CDC-0253-41A1-ACE6-602FFADB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1E144-C678-4A7F-92BD-7FDB33AE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5363F-4823-47DB-BB7C-15F2A011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980E4-2C1E-4F78-A0A6-274F3358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32CE6-461D-4750-954C-7507264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34B0C-5F6A-4C11-9A3D-CD58D9D0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E092E-3992-400E-ABA5-71D13D6D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3D3E6-DDF2-4624-9F40-1963940F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7B53D-B79E-4F5A-BEF8-DE2B94DB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7F5-4D7C-4574-A012-50DE486E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06F58-7635-46F1-B646-1927A706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CF360-FB5C-437D-AEFB-1A5A8320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EA12A-C768-4FBB-9F7D-819ADD22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B8475-A2C5-4F75-BEBD-CEBFA94F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BA543-6348-46EE-A94E-DFEE3CDF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C7AB0-C259-4E5D-BEEC-C9DB232B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72CB5-4BB0-4CC7-ABF6-EEFBA549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536F1-6FF0-455F-A1CF-34E8DDE8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568CC-D196-44A9-A4A3-5609FBAD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00DA4-BB1D-4198-BE81-1E007B4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BEF2-8208-4B3A-BBC1-34E899F9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B154B-17C9-48ED-B803-52AE023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C398F-87DC-4BB0-842F-B381BA72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1B914-E320-4374-A3FA-1B705FC9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8061F-16A1-43D6-9745-2F5F2005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8335E-DE2B-409A-8AC4-83AE4378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A2EC2-7E0C-49A3-A3FE-B2D4601A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5F668-DDF7-49CD-83A7-BD0B1A57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3B652-6D1E-4DAC-A046-F80EF0B9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24B2D-6D84-41C7-99FD-C3498E58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2C2C0-53E7-4A6D-A276-F7A59730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9137-1AF7-4ED0-B2CE-50851578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5B2F4-49A0-43A1-9306-D57798FD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3BD1F-321B-4F72-B8A8-D6E39CCF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BFC82-2491-49CB-85F8-AF53BED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0FEEB-F298-4975-B2CF-35976CCE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5A59B-91C0-46BA-BDE9-0F6B0F5F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5A29B-5A7D-4ACE-A121-CE4754FD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AD3CB-5E88-4B97-88A6-CECF991F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A4BA3-CFA6-4239-B075-761F65BE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418C3-B83E-48A2-A6B7-28A5EE90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71365-AE39-4C00-BCB0-258B76A0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088D-B245-4869-BD82-A0CC03CB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AA3B5-C957-4794-A3CF-3803F1ED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A0E1B-C663-45A2-A0A9-5876B724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41F11-A3FA-45EC-8E69-7595E585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0CFAF-7345-4B6E-9264-848CC9E9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3CC6D-BC3B-44BF-B164-CFE164AB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16DD8-846E-4AC6-9B78-EE9564BC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46CC6-1A62-4EED-A030-7B7E5BE3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DB00E-019D-494D-BECF-7C5737E1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215F0-1907-4928-B541-2AF658B2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A01FF-E18F-4D3B-86BA-DD2CC166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05F2-2ED3-41E0-ADB0-F5E54173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AE944-8578-4630-A046-B7E7E678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AB1E7-816A-4EF2-A1D8-0A4D52A7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DF5F4-9C5D-4A16-BC2B-9A7DE59F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E973C-25CF-4B6E-A735-9B3DB8E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AE110-B325-4078-AA58-199C6A3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20AA2-DB15-4B87-9C44-AD4728AB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625C6-AFF5-4463-B7CD-35D12F93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01B92-E260-48DE-9229-879BF90E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F4A70-56F3-453D-9474-8F4D2E71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99A3D-EB5F-4243-A435-03A7271D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6D2E-BE7F-4BAD-90F2-34CACF4E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0761B-40BD-4D7E-8251-60C974A2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7E9DB5-9742-4059-83CE-87648FF2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E1B4F-30E5-4293-8136-8D1CC763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BBEC9-B76A-445F-9D1E-D97EBF96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00D80-D90D-4DA8-B70C-94B4FF95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DDAA69-5C4E-4257-BB28-DB8C56A1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8D431-9DE2-4330-8ABC-252181C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CEC71-322D-4FE4-8FD7-78B2514C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6CF9D-9D18-41F1-A49A-C948664C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19C33-6DC3-468F-9674-13C7D5D6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F1C8-AAFC-4625-A74F-D38356CD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7A069-79F1-48BE-A145-C3BFBF6B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3397C-8A7D-4667-867C-25D2EB27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2C238-215A-46B7-A4AD-DA2E5030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27E4F-7449-40CE-8B06-0E1C7E6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0E87B-7D39-4ABB-895E-A84C4190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0041D-B7C6-4CB7-9040-CFA409AD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EE093-5656-4F57-A36B-E918562B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741C5-4DB3-43A6-A7BC-DAB2FF9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6F396-2060-4D2E-A8B3-8D8E4EA2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4223C-82F1-4C51-96DF-137455E0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3D14-BF6C-4AFE-B3A4-3B3F516E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2E020-E7FC-42C2-9E2E-8F7CD68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E0F0C-F3BC-4784-B3FA-B4592A65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6BCE14-BFE4-4363-9517-2287B27A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836FF-5AAB-4D33-AC12-A2ADBCCC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EDD60-09C9-4AFD-838F-EA1F9D95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006D4-8923-44C3-8C37-FBC89BBF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E4511-1B02-4B4C-9C51-7710E9DC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1F41B1-23C9-4E6A-BB69-53B7F480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59CB9-2701-4928-A5A4-BDA8CE65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25EF6-1420-4D3E-B927-A9522A24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73D-0812-463C-BDDD-51222775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EC95-A5E5-4DC7-9E11-9148A0D5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C4098-03A5-4A4D-9CCA-A8C43D7A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455508-48C4-40EA-B951-65639DA3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1A086-25B9-4153-8272-A3C082AA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7D0AB-8328-496F-99B9-16B1547F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10CF6-C45B-4842-A686-DE8CBB0D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7797AA-CF48-4432-B7BC-AC2BE567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FD468-0D35-4538-B943-97869D90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5ED04-C232-452C-A82C-16E0EC96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1985F-1C6F-4EB6-B2C3-E3FBBABC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7A9525-A984-46FE-B9AA-5AC6D050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1E54-AFAF-403F-9850-A73387FA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385E0-662F-4D90-8672-9AB4464D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73CB1D-85C9-407F-9E98-973D124A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BB8CE-AF73-4E86-B944-EAC890E3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DE909D-9595-43E0-93C2-547021C9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7BEC8-7794-4ED0-B16F-A5B6CF86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80360-6E6F-4776-9691-6EDCF46A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6E54D-6D9C-4EA2-B91B-AEDC77C9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6DC67-77CF-4D50-BEBD-24301814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F095A5-09EE-4FB7-8EFF-0617979C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00688-2458-4204-A3C1-C81AE87D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2101-AC4D-4CBD-A038-A61AA1D4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D7E943-8439-425F-AF03-5F3F426E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BF035-7419-449A-AFE5-53A62391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A8C75-C569-446A-B6E5-54435DAE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C1AB6-1144-452B-AAA5-F70F672D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251087-29A2-49C6-AE71-B4330E03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E55D6-A9F5-46CD-910E-F613AC8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7D77E3-0621-41E5-8305-5E3E6B11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76B96-7F0B-4D1B-8E67-A8C55CD0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050E9-500F-4514-8AAA-774C3EAD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1C37B-2923-4B58-B9CF-6CA00124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3679-2E6D-497A-98E4-994BB192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C8A61-9F93-4A1E-B49C-61F23216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661FB-B209-4C57-A943-E1C19D12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035FA-9CFD-4ECF-84D8-DE6DDB0E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6C946-036B-4683-B2E1-C48CCB1C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AC1E7-197D-4E5B-8BB3-57ECC277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AD9C3-1131-427E-A614-FFDE81C1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45C85-4FE2-426D-B60E-98AC1BBB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12E67-6337-41BF-BEFF-52F62C1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66F52-9BCE-40F4-A68B-E7CF1808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E6F2A-C6D9-427F-91B2-9852A712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472A-1F65-4610-9AC0-0B77F58D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9DD13-D026-4C22-8D5D-F30236AD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EBA11D-FB33-428C-A7DB-D8F048E1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4A42B-BA3F-4C95-A776-8811FE5C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7AB6C-9A26-4530-BD8B-812C0874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ED9E54-05C7-4DAD-9B04-FF1CB0CD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E4999-62F0-4989-9BA2-DFD09DC2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3B8F18-D11F-4B04-A737-BD8A145E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A9B1E-1872-4A25-B254-6CF9638D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EE91DF-2D0D-41DC-9987-31E76C51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7B5A4-3741-4BFB-A516-9791D4EF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E211-1D9B-4D1B-BBB2-EA1222DF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D148D-2745-45A1-BECA-DDCA3686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09715-9A28-4B59-9844-0C15FAC5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5D524B-6CC6-4AD3-B325-B581C943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42D616-9357-4DF9-B41F-84F41081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B6C4A6-1521-40BC-A210-392B82F8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C325F1-8381-48DF-A77F-53A28B0C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DFD236-D933-407B-9D39-1C7B2288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3267BB-A855-4FB0-9BB3-C3328775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9C3568-D033-4C74-8CF1-7F3A6A60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F06DD9-E348-41A9-AD37-D88C0FA9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CE2E-874D-4444-9678-850911C9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AE21C1-4357-4CB4-A11A-37D3E0C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1925FD-82ED-40FE-B2AE-8F8063E8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B55ECC-DC28-4187-AF59-5AE93D81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88F1F3-9BAE-44D5-8979-510E57E7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CEE24B-A9EB-45B5-92C7-4A06C01A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E3E5D4-BD0A-4E85-8707-49DDB157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7D5752-1F53-44E2-B838-1EE840A6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098249-FF42-4AC2-B8D3-239641AF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CB8669-FCB1-4962-9F1E-E5DA251F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D00109-FFB9-46D0-9C48-FB3F2961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F2FE-3BCC-4025-A9C6-1B093E95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56B3F0-176F-4A65-9591-0DB8BAFB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59C2B4-4A05-4ABC-843D-581B8D2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065F50-7DB2-48EE-A7E9-B6E52FB9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39B266-9474-4122-8FD5-8BB8BE2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E55A9B-0039-4D71-BA0B-93B96AEA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FBCBE5-58BD-4C2C-BCE9-DAA0127F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2BD158-10C6-4A68-8E82-4D3509D7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109C43-5ACF-406E-98C9-4A2B8907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851316-2B67-48D3-BF18-9655DA07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B48AE8-251D-451D-9145-F44CC312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98C3-6375-4AEC-AA3A-7A38609D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16B5B2-67DF-44FB-B7A7-114B5006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BD004E-B13C-42B6-9052-B6E8180A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18EE8E-5C07-4F7E-B0E9-1114DD44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3F9475-8AEB-4927-9C91-D984DF9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DC56CC-F19F-4994-869E-5DF3B7D8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36ABD5-2ED7-4681-9918-3DE93071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EF108B-1575-4104-A73A-3C7472C6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4D1122-E08B-4557-8302-FD89D66A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5D4660-344B-402F-AADF-F04C61DC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5CCAE1-409F-4E0D-B65F-7542CE20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4644-F0B3-4DBE-9785-45A4C707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ABC6CE-2494-43A1-8548-14A233AA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165233-5592-4290-B391-3CC436ED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6A5359-5F59-4B46-AA75-98CB1BBF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3EF928-AE92-4641-B6F6-521303A8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19823F-48F5-4EA1-80E1-81BE287D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FF6673-5894-42D5-92EC-653DD626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80EDCA-469C-45B5-BAB7-7968B3F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965BC2-D98C-4A3D-9F9D-BE7A73C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3C72DD-759B-459B-B289-5032F77A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B80330-D574-4DCB-97A3-74576DDA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20B-2545-4B38-90D1-80E3A5D7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985E-D5D6-4952-9A51-3F6F7F33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C5FEC1-3935-4306-8047-8EA0C862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E25085-7EDD-4EDC-AB6C-2ED2B8B2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4D7E1D-5819-4F4C-8075-3BD5F4EE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5B7750-04E5-4693-8555-D211B9C9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5DD4E2-D103-4564-872E-81A8AF67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D2821D-419A-4E43-BDAE-DB2D3D8D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6E68A8-E81A-4D29-ADB8-96DFB6D1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D01578-8429-4EE5-8CFE-4DF3F13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607AAC-AB07-436C-B35F-FD65059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37CE02-9FEB-4AEF-BAC6-1AFBC10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5FAF-835C-453D-8343-B4ECFD48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1B05D3-446F-43AA-939A-964F35CF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653B70-5D36-43B2-B502-DC886C79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9288D8-0E36-41E4-9801-BA7BD6B2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6ED7E5-E607-417B-B693-594FD408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A8545D-9941-4E7C-A6E8-1FDBDE7C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9753F8-D5B1-49B1-8EBF-03A0982F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5C45D7-7624-48F2-8673-298EBF6D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94E285-77EA-4C60-868B-D1C2B3F3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483BCD-84EA-415C-9D05-CD07D3AD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F48FBF-0AA1-4845-BC93-42EC9FBC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507D-7C1A-465D-953D-389BC48A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82B1DD-31C0-445B-A8C5-EEE6DA4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ACDF78-47E8-4390-B2C2-07838427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D6802D-B88F-4F8D-A970-43CE98EB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E7032C-9902-4A40-8D21-A631112D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7A3952-1064-421B-87ED-C6B6D495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60D10F-345B-4081-9E41-2715E082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58EF65-65C3-47A5-ABB0-AEDA2970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9C38CC-9B88-4EAF-BC92-B80D444C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4BAC07-F977-4FDD-9032-88C959DB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32B1CD-E9A2-47B8-9897-BAFE8B73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8EF9-FC05-4976-9481-C1DFD4A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5A17C6-472F-4836-8100-558FFA53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639DAF-C4B5-4544-BAF5-DD44D0B0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556F29-AFC7-4B77-8F8A-42497A10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CAF8A1-A220-4F1A-B935-F3BEEF27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B1B7FE-BE5E-4CD0-949F-641EB4F4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5181C5-BED6-48F6-BD47-44CCD3D6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7630EF-D7E4-47C0-9A54-EA66F063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3F9A32-6FC5-43D9-B360-9ADE3F77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D0D46E-FB4F-4BA6-89DC-4F3353BF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7FDDB4-A2FF-4FAD-BCAF-76D2B73F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59B3-B52C-4DC7-92C8-E19FB082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ABDA25-305B-4B79-B023-D929A3A9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92B1BB-8AC7-4136-A029-C94B6FD5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9E9E65-C738-4397-94F4-BB10036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06B4D2-8857-4E72-AEBD-8E242517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778FCA-4CC0-47EE-8BE1-E611588F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A0916C-89AF-4DF0-8E96-20EBE839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49B945-58C7-45A2-8623-6116B4B1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4EED68-E976-48DB-B125-37204D26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A0AEFB-AFD6-4970-A12A-0321ACB1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30F865-5D0F-4E57-9C5C-12376EAB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A8AA-2C8D-4682-96A5-1639E364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B0A3EC-075A-4340-B85F-7D876E50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A7C404-6FC4-41E8-80E9-7FD39D58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E09A60-1B1C-4C19-81C5-82C79B32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275C05-2217-479B-8CD9-4AD3639B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8D0DC6-BBC1-40B5-B214-87218930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B8A264-A343-48C0-99C7-056EE93F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CA92E1-3499-4771-B962-E514D6C7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8BDCA8-6D72-4706-8393-E2FF7A11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626836-3E0C-46E3-B522-BF6799CC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10710F-5039-41DD-8B75-14E2145A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6CBD3-24A5-41DD-AC91-D1ADB86B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4D54EA-046F-4B7A-8822-A2751715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8397B7-FBDB-4C39-B957-2DC49596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D13F00-3C44-40D6-B83C-1FC61434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60F3DD-CE53-43EA-B01D-06C95088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47FEAD-B27B-4D99-B0BF-256D7F69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B2B773-ECE1-4A6A-805C-19716AC3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45CF3C-27E8-4704-BFCD-5AB50901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F069DE-112A-487A-B8BC-8D67E73E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6215B0-C927-4CEE-806F-D01F3DA5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966770-5942-4F56-8F6C-EA3C79C5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5CD3A-64EF-4B2D-AC22-B0365B2A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7221DF-3335-4A31-843A-586EF7D3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3BE0A1-9D64-4C76-94EC-018C39E1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002955-B526-475F-9D3B-7F44A7EB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CFDE6F-AD93-4325-9368-251AEFFB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3F161B-9C86-4CDA-A9AD-0E447917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3686EC-53F3-4D96-AD62-092AB641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F2713E-EFC8-4471-91CC-20F165C5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F5A4CF-216F-4D90-85A3-CA7D3054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A27929-5D8B-4CB7-A42D-F2FE25F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FB3486-5BCC-426A-9490-214D0C6B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27A35-156D-4A18-89BA-DAB1B2FE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44DA2E-FF00-40F9-A390-C388493C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2FE798-8ED9-41F9-B18B-595595D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567B3C-44DB-4D42-87B6-04ED3EA7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CEE4A7-00DA-4597-AB2E-43544B74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403992-18D1-4089-A9F0-B6C2406D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1FD4A6-FDB6-4AC6-AFB1-035827A1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C59E6C-2372-400B-986C-91008549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68F3BD-14B2-46DD-83F8-5C4CC153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9DEED4-4FD6-472D-B1CD-C7709FFB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6A3D0C-CD63-4F7E-86F8-221ABDDC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032D-D100-43E7-B039-924F253D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4829CB-3F14-4408-90A5-BAAE0870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D6543D-835F-4176-A369-257BE64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D87CE7-D1A7-4E13-87F3-4B76B35F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CD3A4C-B889-4D08-9FAD-E9DD4509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50CB3A-A0E7-4670-9658-5AF20F4D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D84171-B88E-4C2D-A85E-D92EDB00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571121-C9E7-44D0-9204-5BDCC137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6CDBAA-FA9F-4328-BA6C-EC09D401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680C30-6110-4224-8BDB-70B1E581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9434B4-46DA-4B29-9E9D-9256D980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E99-4D6F-4387-BF53-54B1E87C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1D2F-9F48-4775-AE31-37B02AF2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620EEF-7260-4BBC-91A6-5D773CE0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A9DDB1-3DF1-4FFA-BD10-A0B3A472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AE1635-9F09-4DBF-B8A5-3FFC0C07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4ADE3A-7DAE-403D-B812-6EB3EC0E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DA8A57-BA90-493D-8020-F22F6992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A8672D-FF75-4703-9063-20262260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00A471-27E4-4749-8AD4-F0835091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EF17BD-91EF-4C2A-ABAA-7CDE6E10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D2AD31-6C10-4E64-AA14-8DC57DB4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534485-F5F1-44FD-9566-EDBC870D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244C7-A125-47FE-A0B2-91382520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FB6F8D-D66D-44CA-8C58-276DB18B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DC62FA-0386-4983-A341-042A41FD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C7293F-6406-4D55-8B25-1EA054C7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32B21A-C883-4A9C-8AEA-E470457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EE7599-4867-4416-9DFD-27650AEE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D3EC7E-AE0B-4084-8961-AB06C151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8EB10F-EF2D-4AC5-AB2F-671E4674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03065A-F308-450F-AFB6-D74CF9DB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9F2FDF-B612-426F-8C3D-93709ADF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63F408-5E4A-4A5A-B910-0774D3EB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5900-F3F0-46B6-A67E-BBC62826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5FE414-F814-46CC-96A2-286BB315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93B8C-93F3-4A10-BA8D-A1261524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E62E-36E7-409E-AEF7-058BF80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541C4-F939-49B9-A668-196C9CC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BC56-FF01-4B57-91CF-63448E80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D59C-542E-4892-BDC2-F0F1311E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98554-18A9-48C5-8378-A37E3557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4AD77-DA0B-46B3-985C-B25509CE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DA8-212F-485C-9DBE-55D30600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00560-6ABB-4F92-BC42-CFBF70B6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9BE41-01CE-4AE0-80EA-636A8179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07656-141D-436A-8562-07CAF852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048D-E1BA-4802-88ED-48A31D5D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D2E5-B596-4016-A884-43CDA905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C1FB8-E438-4E1C-AC9B-2D14D15F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EECE8-2D77-46EF-85A2-FEBBF421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F8271-1F1A-4CC3-80CE-9877891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9451-BB5A-4546-9899-344FA548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9E7D-8A05-4CD5-A9F7-40AA028D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074-096B-4418-8065-6C50171F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013F1-E7B4-48CA-91C5-932E3081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FD43-B1A2-452D-B06E-DF14D386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3CE9C-29CE-49F1-9FF9-3C156F01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307D4-7EEF-4B83-9DCE-C84FFE93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27114-F93E-48BF-B923-82091CAC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F8EB1-89D3-4B7E-9B1B-C143FBCD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CA7AB-2728-4BA1-86CB-80EF8A83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9D58A-F83E-44AA-BFA3-959C2C3D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FBC5A-55D2-41BF-A2C0-F2037030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FB9DC-35C7-4CE6-A5A1-6BCA9CF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F9B-BA44-44C5-9C55-22ECA433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C1EF-2837-4D79-8F24-A59218C7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7B13D-5510-4995-AB32-2F4FE5A1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A37E3-630F-46B1-85C4-B74D9EAF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09B17-5244-43F3-9672-3A266C40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D071-5095-416C-B953-33EE7388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15A72-D9F9-47DA-BABE-0CF957A7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8138B-0F31-4C59-829D-40912A39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9B2E8-ECC7-47B8-90BA-05B0EEE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009B8-93EE-44A4-B9A7-EAEA709E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3B3E8-8748-45E5-8112-AFA1061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574-5A31-4514-B3A6-2D0B36B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37764-F49C-4C02-AD55-16C4BDE9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5392-3AF2-4A45-86B9-812C1AF7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9746-39D6-4E97-AF8A-20495623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B6469-6E41-4F69-A950-00F5B52D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93EB3-D858-4027-9B86-198F1F99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E3F31-0FBA-4A94-9F01-0F4C7630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D6724-1775-419C-AB3D-E71686B1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88148-8C2B-4628-9B2C-EF4000DE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27EDC-F10E-41A1-BC10-D1641BDD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C80FA-E93F-4387-B45C-BDD355F5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C17-950A-4427-B016-8F7DBAC9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40BF3-F6DC-43A4-A05B-14FBDA5C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1C734-2AF0-4DF0-91E2-1A7D985D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9F0CA-AACC-4BAE-823C-6EA4A810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038E6-0293-4C76-9713-4EB31A3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AC6A3-721C-431F-9E00-D75608D8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B738-F121-4C5A-BC10-DA55F319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7AAFF-0C99-44FF-9876-4723766A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CF413-AA1D-47E4-BCB7-1810DA9C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69CBF-707E-4EC7-A893-91CAA825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1E6CC-6307-4562-9F1A-D42941C5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0C08-FF58-46D9-BAC7-AFF825C0856C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15F3-8F26-4CAD-AFCC-6B3EEC389C0B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F3E4-58CA-4622-9CFF-5EBF2D45928A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EFDA-2988-4F4F-B7AC-E971EA0BF259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FE39-3112-4EA7-BD25-302F8D09BEA4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E1D3-50B7-4225-9E97-AF59D1FEBDE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CA69-5352-4725-B7DE-F8D0345C9CF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B45D-D432-4E9B-9031-770A9254EE9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1063-5F38-413D-8D77-03515A5A021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0115-A0D8-4729-8D39-B4FFF8ECC21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E18F-6E83-4503-848F-733BDBBF693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82F-B78A-462E-A1F5-3F3E59B0872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32D8-7A24-4C4A-999F-C4A77BAB6E8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DA6B-EE0F-4F09-8199-250C09CCEA0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D6CD-940C-4C58-A13A-24B55ECCC5D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E223-2510-47CD-B9AF-B539DD1BB74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602C-BCDA-4A5C-BFAF-B0BB7977A83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205B-7EB2-4965-B1F0-76B5DF35084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AB39-DAB6-47F6-ADCC-E3F324BDB2E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9E28-F052-4217-B35C-3C47D6F25B9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6FA0-426B-45FE-B2EC-719AEBF7F77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D13C-8C7A-4520-B7FB-F3945F3C617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9304-55B3-43B8-B12F-AAE7F10F4AC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7664-232A-424B-A2E6-2C7C574FC85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B62A-348F-45D8-B5FB-BAC4DAC1EA0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A32-F1E6-4D90-9405-31E7FFD8FC1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C1BC-7DA8-4637-A3B5-E56600888A1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053F-0683-44BD-B6F7-2D4A6355277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E925-CD3D-4839-AF48-9EF3B751564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9455-DA75-4F63-9FB2-EB8DAE3BF3CB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E7F4-DAD3-4A5F-98B3-4D174BDFD5AE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9AF7-9A48-406F-BE70-99298DB46F27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F351-617A-4236-B2C3-9BF8BB939435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682F-C580-4401-AD57-CFC7DE8C0FE5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9650-C097-4892-84CF-2756B837FBF3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.wmf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6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69.wmf"/><Relationship Id="rId45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eas.asu.edu/~tsakalis" TargetMode="Externa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11280" y="1904760"/>
            <a:ext cx="79279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336699"/>
                </a:solidFill>
                <a:latin typeface="Arial Narrow"/>
              </a:rPr>
              <a:t>Señales y sistemas de tiempo discreto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0349-5829-4A01-9E1E-A21428195F05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Sistemas de tiempo discret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285480" y="157176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Un sistema de tiempo discreto es un dispositivo o algoritmo qu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opera sobre una señal de tiempo discreto llamada la entrada o excitación, p.ej u(n),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según alguna regla, p.ej. H [.]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para producir otra señal de tiempo discreto llamada salida o respuesta, p.ej y(n).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5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D1B2-76CB-47F2-9FC4-5B1041CD72B5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06" name="Object 2"/>
          <p:cNvGraphicFramePr/>
          <p:nvPr/>
        </p:nvGraphicFramePr>
        <p:xfrm>
          <a:off x="3143160" y="5143680"/>
          <a:ext cx="264636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5143680"/>
                    <a:ext cx="2646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Sistemas de tiempo discret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4B3F-669E-4EF3-9AFB-4E541EBD7966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10" name="Object 2"/>
          <p:cNvGraphicFramePr/>
          <p:nvPr/>
        </p:nvGraphicFramePr>
        <p:xfrm>
          <a:off x="2286000" y="2643120"/>
          <a:ext cx="363996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643120"/>
                    <a:ext cx="36399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2" name="Rectangle 1029"/>
          <p:cNvSpPr/>
          <p:nvPr/>
        </p:nvSpPr>
        <p:spPr>
          <a:xfrm>
            <a:off x="500040" y="3857760"/>
            <a:ext cx="8204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Esta expresion denota tambien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a  transformacion </a:t>
            </a:r>
            <a:r>
              <a:rPr b="1" i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.] (o procesamiento) realizada por el sistema sobre </a:t>
            </a:r>
            <a:r>
              <a:rPr b="1" i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x(n)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 producir </a:t>
            </a:r>
            <a:r>
              <a:rPr b="1" i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y(n)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3" name="7 Rectángulo"/>
          <p:cNvSpPr/>
          <p:nvPr/>
        </p:nvSpPr>
        <p:spPr>
          <a:xfrm>
            <a:off x="4572000" y="1785960"/>
            <a:ext cx="42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lamada tambien operador o mape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514" name="9 Conector recto de flecha"/>
          <p:cNvCxnSpPr/>
          <p:nvPr/>
        </p:nvCxnSpPr>
        <p:spPr>
          <a:xfrm flipH="1">
            <a:off x="4142520" y="1999800"/>
            <a:ext cx="429480" cy="78660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Descripcion de entrada-salida de sistemas de tiempo discret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1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F1B-C570-448C-99F2-7E8C92C480AA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7" name="Rectangle 6"/>
          <p:cNvSpPr/>
          <p:nvPr/>
        </p:nvSpPr>
        <p:spPr>
          <a:xfrm>
            <a:off x="2971800" y="2286000"/>
            <a:ext cx="3200400" cy="1981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8" name="Line 9"/>
          <p:cNvSpPr/>
          <p:nvPr/>
        </p:nvSpPr>
        <p:spPr>
          <a:xfrm>
            <a:off x="1066680" y="3270240"/>
            <a:ext cx="19051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9" name="Line 10"/>
          <p:cNvSpPr/>
          <p:nvPr/>
        </p:nvSpPr>
        <p:spPr>
          <a:xfrm>
            <a:off x="6192720" y="3262320"/>
            <a:ext cx="19051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20" name="Group 21"/>
          <p:cNvGrpSpPr/>
          <p:nvPr/>
        </p:nvGrpSpPr>
        <p:grpSpPr>
          <a:xfrm>
            <a:off x="457200" y="2590920"/>
            <a:ext cx="2362320" cy="2007720"/>
            <a:chOff x="457200" y="2590920"/>
            <a:chExt cx="2362320" cy="2007720"/>
          </a:xfrm>
        </p:grpSpPr>
        <p:graphicFrame>
          <p:nvGraphicFramePr>
            <p:cNvPr id="1521" name="Object 6"/>
            <p:cNvGraphicFramePr/>
            <p:nvPr/>
          </p:nvGraphicFramePr>
          <p:xfrm>
            <a:off x="1523880" y="2590920"/>
            <a:ext cx="648000" cy="39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590920"/>
                      <a:ext cx="6480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3" name="Text Box 13"/>
            <p:cNvSpPr/>
            <p:nvPr/>
          </p:nvSpPr>
          <p:spPr>
            <a:xfrm>
              <a:off x="457200" y="3429360"/>
              <a:ext cx="2362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input signal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excitation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24" name="Group 23"/>
          <p:cNvGrpSpPr/>
          <p:nvPr/>
        </p:nvGrpSpPr>
        <p:grpSpPr>
          <a:xfrm>
            <a:off x="6324480" y="2666880"/>
            <a:ext cx="2362320" cy="1918440"/>
            <a:chOff x="6324480" y="2666880"/>
            <a:chExt cx="2362320" cy="1918440"/>
          </a:xfrm>
        </p:grpSpPr>
        <p:graphicFrame>
          <p:nvGraphicFramePr>
            <p:cNvPr id="1525" name="Object 5"/>
            <p:cNvGraphicFramePr/>
            <p:nvPr/>
          </p:nvGraphicFramePr>
          <p:xfrm>
            <a:off x="7010280" y="2666880"/>
            <a:ext cx="67320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10280" y="2666880"/>
                      <a:ext cx="6732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7" name="Text Box 15"/>
            <p:cNvSpPr/>
            <p:nvPr/>
          </p:nvSpPr>
          <p:spPr>
            <a:xfrm>
              <a:off x="6324480" y="3416040"/>
              <a:ext cx="2362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output signal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Times New Roman"/>
                </a:rPr>
                <a:t>response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28" name="Group 24"/>
          <p:cNvGrpSpPr/>
          <p:nvPr/>
        </p:nvGrpSpPr>
        <p:grpSpPr>
          <a:xfrm>
            <a:off x="3276720" y="4572000"/>
            <a:ext cx="2311200" cy="1218960"/>
            <a:chOff x="3276720" y="4572000"/>
            <a:chExt cx="2311200" cy="1218960"/>
          </a:xfrm>
        </p:grpSpPr>
        <p:graphicFrame>
          <p:nvGraphicFramePr>
            <p:cNvPr id="1529" name="Object 3"/>
            <p:cNvGraphicFramePr/>
            <p:nvPr/>
          </p:nvGraphicFramePr>
          <p:xfrm>
            <a:off x="3276720" y="5321160"/>
            <a:ext cx="2273040" cy="46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0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5321160"/>
                      <a:ext cx="22730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1" name="Object 4"/>
            <p:cNvGraphicFramePr/>
            <p:nvPr/>
          </p:nvGraphicFramePr>
          <p:xfrm>
            <a:off x="3352680" y="4572000"/>
            <a:ext cx="2235240" cy="482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32" name="Object 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2680" y="4572000"/>
                      <a:ext cx="2235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33" name="Object 2"/>
          <p:cNvGraphicFramePr/>
          <p:nvPr/>
        </p:nvGraphicFramePr>
        <p:xfrm>
          <a:off x="4267080" y="3622680"/>
          <a:ext cx="660600" cy="4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4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622680"/>
                    <a:ext cx="660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5" name="Text Box 18"/>
          <p:cNvSpPr/>
          <p:nvPr/>
        </p:nvSpPr>
        <p:spPr>
          <a:xfrm>
            <a:off x="3193920" y="246060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discrete-time syste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CLASIFICACION DE LOS SISTEMAS DE TIEMPO DISCRET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37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7208-DE29-4438-8740-6DAD2EB035DC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Clasificacion de los sistemas de tiempo discret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La clasificacion de los sistemas de tiempo discreto se puede hacer de manera similar a la de los sistemas continuo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Estaticos, dinamico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Lineales, No lineal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Variables o invariantes en el tiempo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Causales, no causal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C22A-3513-4AC8-9F63-9D3E3737B895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Ejemplos de sistemas de tiempo discret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Sistema de tiempo discreto estatico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Sistema de tiempo discreto dinamico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3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2278-A3FB-4B88-9A47-3F452C5F1EE0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44" name="Object 2"/>
          <p:cNvGraphicFramePr/>
          <p:nvPr/>
        </p:nvGraphicFramePr>
        <p:xfrm>
          <a:off x="2714760" y="2849400"/>
          <a:ext cx="40478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2849400"/>
                    <a:ext cx="40478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6" name="Object 3"/>
          <p:cNvGraphicFramePr/>
          <p:nvPr/>
        </p:nvGraphicFramePr>
        <p:xfrm>
          <a:off x="1287360" y="4714920"/>
          <a:ext cx="32133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7360" y="4714920"/>
                    <a:ext cx="3213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8" name="Object 4"/>
          <p:cNvGraphicFramePr/>
          <p:nvPr/>
        </p:nvGraphicFramePr>
        <p:xfrm>
          <a:off x="4930920" y="4714920"/>
          <a:ext cx="321300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0920" y="4714920"/>
                    <a:ext cx="3213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Ejemplos de sistemas de tiempo discret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Sistema de tiempo discreto variable en el tiempo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Sistema de tiempo discreto invariante en el tiempo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EB83-A8EA-4CA3-9558-02D53368D2AF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53" name="Object 2"/>
          <p:cNvGraphicFramePr/>
          <p:nvPr/>
        </p:nvGraphicFramePr>
        <p:xfrm>
          <a:off x="1147680" y="3106800"/>
          <a:ext cx="28958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3106800"/>
                    <a:ext cx="2895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5" name="Object 3"/>
          <p:cNvGraphicFramePr/>
          <p:nvPr/>
        </p:nvGraphicFramePr>
        <p:xfrm>
          <a:off x="4645080" y="2943360"/>
          <a:ext cx="3213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5080" y="2943360"/>
                    <a:ext cx="3213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7" name="Object 4"/>
          <p:cNvGraphicFramePr/>
          <p:nvPr/>
        </p:nvGraphicFramePr>
        <p:xfrm>
          <a:off x="785880" y="5357880"/>
          <a:ext cx="3492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5357880"/>
                    <a:ext cx="3492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9" name="Object 5"/>
          <p:cNvGraphicFramePr/>
          <p:nvPr/>
        </p:nvGraphicFramePr>
        <p:xfrm>
          <a:off x="4857840" y="5157720"/>
          <a:ext cx="36702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7840" y="5157720"/>
                    <a:ext cx="3670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Ejemplos de sistemas de tiempo discret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Sistema de tiempo discreto causa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Sistema de tiempo discreto no causa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3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5DF5-B7CC-416C-A4A4-D36D0420ABB0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64" name="Object 2"/>
          <p:cNvGraphicFramePr/>
          <p:nvPr/>
        </p:nvGraphicFramePr>
        <p:xfrm>
          <a:off x="733320" y="2714760"/>
          <a:ext cx="32133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2714760"/>
                    <a:ext cx="3213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6" name="Object 3"/>
          <p:cNvGraphicFramePr/>
          <p:nvPr/>
        </p:nvGraphicFramePr>
        <p:xfrm>
          <a:off x="4340160" y="2884320"/>
          <a:ext cx="33908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0160" y="2884320"/>
                    <a:ext cx="3390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8" name="Object 4"/>
          <p:cNvGraphicFramePr/>
          <p:nvPr/>
        </p:nvGraphicFramePr>
        <p:xfrm>
          <a:off x="809640" y="5000760"/>
          <a:ext cx="39369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9640" y="5000760"/>
                    <a:ext cx="3936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0" name="Object 5"/>
          <p:cNvGraphicFramePr/>
          <p:nvPr/>
        </p:nvGraphicFramePr>
        <p:xfrm>
          <a:off x="5025960" y="4807080"/>
          <a:ext cx="3403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5960" y="4807080"/>
                    <a:ext cx="3403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REPRESENTACION EN EL DOMINIO DEL TIEMPO DE SISTEMAS LTI DE TIEMPO DISCRET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73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C375-A102-4720-9F63-B303A10F34BE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4" name="16 Grupo"/>
          <p:cNvGrpSpPr/>
          <p:nvPr/>
        </p:nvGrpSpPr>
        <p:grpSpPr>
          <a:xfrm>
            <a:off x="111240" y="4714920"/>
            <a:ext cx="4460760" cy="1682640"/>
            <a:chOff x="111240" y="4714920"/>
            <a:chExt cx="4460760" cy="1682640"/>
          </a:xfrm>
        </p:grpSpPr>
        <p:pic>
          <p:nvPicPr>
            <p:cNvPr id="1575" name="Picture 5" descr=""/>
            <p:cNvPicPr/>
            <p:nvPr/>
          </p:nvPicPr>
          <p:blipFill>
            <a:blip r:embed="rId1"/>
            <a:stretch/>
          </p:blipFill>
          <p:spPr>
            <a:xfrm>
              <a:off x="111240" y="4714920"/>
              <a:ext cx="4460760" cy="1682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76" name="Object 17"/>
            <p:cNvGraphicFramePr/>
            <p:nvPr/>
          </p:nvGraphicFramePr>
          <p:xfrm>
            <a:off x="2494080" y="4897080"/>
            <a:ext cx="483480" cy="32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77" name="Object 1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94080" y="4897080"/>
                      <a:ext cx="48348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8" name="Object 18"/>
            <p:cNvGraphicFramePr/>
            <p:nvPr/>
          </p:nvGraphicFramePr>
          <p:xfrm>
            <a:off x="3900240" y="5963040"/>
            <a:ext cx="152280" cy="186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79" name="Object 1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00240" y="5963040"/>
                      <a:ext cx="152280" cy="18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La respuesta al impuls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1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72FA-6329-437F-8B27-BC7E62F404AF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2" name="Rectangle 3"/>
          <p:cNvSpPr/>
          <p:nvPr/>
        </p:nvSpPr>
        <p:spPr>
          <a:xfrm>
            <a:off x="2819520" y="2590920"/>
            <a:ext cx="3200400" cy="1981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3" name="Line 4"/>
          <p:cNvSpPr/>
          <p:nvPr/>
        </p:nvSpPr>
        <p:spPr>
          <a:xfrm>
            <a:off x="914400" y="3575160"/>
            <a:ext cx="19051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84" name="Object 2"/>
          <p:cNvGraphicFramePr/>
          <p:nvPr/>
        </p:nvGraphicFramePr>
        <p:xfrm>
          <a:off x="4114800" y="3927600"/>
          <a:ext cx="660240" cy="48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3927600"/>
                    <a:ext cx="6602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6" name="Text Box 9"/>
          <p:cNvSpPr/>
          <p:nvPr/>
        </p:nvSpPr>
        <p:spPr>
          <a:xfrm>
            <a:off x="3035160" y="30621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TI syste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87" name="Group 20"/>
          <p:cNvGrpSpPr/>
          <p:nvPr/>
        </p:nvGrpSpPr>
        <p:grpSpPr>
          <a:xfrm>
            <a:off x="762120" y="3035160"/>
            <a:ext cx="1904760" cy="1158120"/>
            <a:chOff x="762120" y="3035160"/>
            <a:chExt cx="1904760" cy="1158120"/>
          </a:xfrm>
        </p:grpSpPr>
        <p:sp>
          <p:nvSpPr>
            <p:cNvPr id="1588" name="Text Box 2"/>
            <p:cNvSpPr/>
            <p:nvPr/>
          </p:nvSpPr>
          <p:spPr>
            <a:xfrm>
              <a:off x="762120" y="373356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unit impuls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aphicFrame>
          <p:nvGraphicFramePr>
            <p:cNvPr id="1589" name="Object 3"/>
            <p:cNvGraphicFramePr/>
            <p:nvPr/>
          </p:nvGraphicFramePr>
          <p:xfrm>
            <a:off x="1447920" y="3035160"/>
            <a:ext cx="685800" cy="3938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90" name="Object 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3035160"/>
                      <a:ext cx="6858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91" name="Group 21"/>
          <p:cNvGrpSpPr/>
          <p:nvPr/>
        </p:nvGrpSpPr>
        <p:grpSpPr>
          <a:xfrm>
            <a:off x="6083280" y="2870280"/>
            <a:ext cx="2514600" cy="1323360"/>
            <a:chOff x="6083280" y="2870280"/>
            <a:chExt cx="2514600" cy="1323360"/>
          </a:xfrm>
        </p:grpSpPr>
        <p:graphicFrame>
          <p:nvGraphicFramePr>
            <p:cNvPr id="1592" name="Object 4"/>
            <p:cNvGraphicFramePr/>
            <p:nvPr/>
          </p:nvGraphicFramePr>
          <p:xfrm>
            <a:off x="6172200" y="2870280"/>
            <a:ext cx="2247840" cy="482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93" name="Object 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172200" y="2870280"/>
                      <a:ext cx="22478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4" name="Text Box 12"/>
            <p:cNvSpPr/>
            <p:nvPr/>
          </p:nvSpPr>
          <p:spPr>
            <a:xfrm>
              <a:off x="6083280" y="37339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impulse respons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595" name="Line 13"/>
          <p:cNvSpPr/>
          <p:nvPr/>
        </p:nvSpPr>
        <p:spPr>
          <a:xfrm>
            <a:off x="6019920" y="3581280"/>
            <a:ext cx="25146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6" name="15 Rectángulo"/>
          <p:cNvSpPr/>
          <p:nvPr/>
        </p:nvSpPr>
        <p:spPr>
          <a:xfrm>
            <a:off x="1963800" y="1785960"/>
            <a:ext cx="521640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La entrada es un impulso unitari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597" name="17 Conector recto de flecha"/>
          <p:cNvCxnSpPr/>
          <p:nvPr/>
        </p:nvCxnSpPr>
        <p:spPr>
          <a:xfrm flipH="1">
            <a:off x="1713960" y="2214720"/>
            <a:ext cx="286200" cy="78624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Contenido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85480" y="1600200"/>
            <a:ext cx="862956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Señales y sistemas de tiempo discreto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Clasificacion de los sistemas de tiempo discreto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Representacion en el dominio del tiempo de sistemas LTI de tiempo discreto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Representacion en el dominio de la frecuencia de sistemas LTI de tiempo discreto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Representacion en el plano </a:t>
            </a:r>
            <a:r>
              <a:rPr b="0" i="1" lang="es-ES" sz="22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 de sistemas LTI de tiempo discreto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Representacion en espacio de estado de sistemas LTI de tiempo discreto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9999"/>
                </a:solidFill>
                <a:latin typeface="Arial"/>
              </a:rPr>
              <a:t>Equivalencia de las representaciones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FE91-D124-4326-A7EE-3996824A7EBF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La respuesta al impuls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9999"/>
                </a:solidFill>
                <a:latin typeface="Arial"/>
              </a:rPr>
              <a:t>La relación entre las señales de entrada y de salida se obtiene por la convolución</a:t>
            </a:r>
            <a:r>
              <a:rPr b="0" i="1" lang="es-CO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O" sz="2800" spc="-1" strike="noStrike">
                <a:solidFill>
                  <a:srgbClr val="009999"/>
                </a:solidFill>
                <a:latin typeface="Arial"/>
              </a:rPr>
              <a:t>de</a:t>
            </a:r>
            <a:r>
              <a:rPr b="0" i="1" lang="es-CO" sz="2800" spc="-1" strike="noStrike">
                <a:solidFill>
                  <a:srgbClr val="009999"/>
                </a:solidFill>
                <a:latin typeface="Arial"/>
              </a:rPr>
              <a:t> u </a:t>
            </a:r>
            <a:r>
              <a:rPr b="0" lang="es-CO" sz="2800" spc="-1" strike="noStrike">
                <a:solidFill>
                  <a:srgbClr val="009999"/>
                </a:solidFill>
                <a:latin typeface="Arial"/>
              </a:rPr>
              <a:t>con la</a:t>
            </a:r>
            <a:r>
              <a:rPr b="0" i="1" lang="es-CO" sz="2800" spc="-1" strike="noStrike">
                <a:solidFill>
                  <a:srgbClr val="009999"/>
                </a:solidFill>
                <a:latin typeface="Arial"/>
              </a:rPr>
              <a:t> respuesta al impulso h</a:t>
            </a:r>
            <a:r>
              <a:rPr b="0" lang="es-CO" sz="2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es-CO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es-CO" sz="28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B2A8-EC1A-4C38-8307-607B9C55B5D0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1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5771-8921-4D97-A7A1-7F28DCCEFCA9}" type="slidenum">
              <a:rPr b="0" lang="en-U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02" name="Object 4"/>
          <p:cNvGraphicFramePr/>
          <p:nvPr/>
        </p:nvGraphicFramePr>
        <p:xfrm>
          <a:off x="1338120" y="3786120"/>
          <a:ext cx="6448680" cy="9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8120" y="3786120"/>
                    <a:ext cx="6448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4" name="Object 5"/>
          <p:cNvGraphicFramePr/>
          <p:nvPr/>
        </p:nvGraphicFramePr>
        <p:xfrm>
          <a:off x="2786040" y="5481720"/>
          <a:ext cx="288936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5481720"/>
                    <a:ext cx="2889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Respuesta al pas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07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C46-FBFB-4F45-86C8-6C63645A1586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8" name="Rectangle 4"/>
          <p:cNvSpPr/>
          <p:nvPr/>
        </p:nvSpPr>
        <p:spPr>
          <a:xfrm>
            <a:off x="2819520" y="1917720"/>
            <a:ext cx="3200400" cy="1981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9" name="Line 5"/>
          <p:cNvSpPr/>
          <p:nvPr/>
        </p:nvSpPr>
        <p:spPr>
          <a:xfrm>
            <a:off x="914400" y="2901960"/>
            <a:ext cx="19051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10" name="Object 2"/>
          <p:cNvGraphicFramePr/>
          <p:nvPr/>
        </p:nvGraphicFramePr>
        <p:xfrm>
          <a:off x="4114800" y="3254400"/>
          <a:ext cx="6602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254400"/>
                    <a:ext cx="6602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2" name="Line 9"/>
          <p:cNvSpPr/>
          <p:nvPr/>
        </p:nvSpPr>
        <p:spPr>
          <a:xfrm>
            <a:off x="6019920" y="2908440"/>
            <a:ext cx="25146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13" name="Group 15"/>
          <p:cNvGrpSpPr/>
          <p:nvPr/>
        </p:nvGrpSpPr>
        <p:grpSpPr>
          <a:xfrm>
            <a:off x="1066680" y="2392200"/>
            <a:ext cx="1600200" cy="963000"/>
            <a:chOff x="1066680" y="2392200"/>
            <a:chExt cx="1600200" cy="963000"/>
          </a:xfrm>
        </p:grpSpPr>
        <p:sp>
          <p:nvSpPr>
            <p:cNvPr id="1614" name="Text Box 3"/>
            <p:cNvSpPr/>
            <p:nvPr/>
          </p:nvSpPr>
          <p:spPr>
            <a:xfrm>
              <a:off x="1066680" y="2895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unit ste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aphicFrame>
          <p:nvGraphicFramePr>
            <p:cNvPr id="1615" name="Object 3"/>
            <p:cNvGraphicFramePr/>
            <p:nvPr/>
          </p:nvGraphicFramePr>
          <p:xfrm>
            <a:off x="1447920" y="2392200"/>
            <a:ext cx="64764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1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7920" y="2392200"/>
                      <a:ext cx="6476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17" name="Group 17"/>
          <p:cNvGrpSpPr/>
          <p:nvPr/>
        </p:nvGrpSpPr>
        <p:grpSpPr>
          <a:xfrm>
            <a:off x="6151680" y="2322360"/>
            <a:ext cx="2247840" cy="1904040"/>
            <a:chOff x="6151680" y="2322360"/>
            <a:chExt cx="2247840" cy="1904040"/>
          </a:xfrm>
        </p:grpSpPr>
        <p:sp>
          <p:nvSpPr>
            <p:cNvPr id="1618" name="Text Box 8"/>
            <p:cNvSpPr/>
            <p:nvPr/>
          </p:nvSpPr>
          <p:spPr>
            <a:xfrm>
              <a:off x="6184800" y="2844720"/>
              <a:ext cx="20574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step respons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unit-step response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aphicFrame>
          <p:nvGraphicFramePr>
            <p:cNvPr id="1619" name="Object 4"/>
            <p:cNvGraphicFramePr/>
            <p:nvPr/>
          </p:nvGraphicFramePr>
          <p:xfrm>
            <a:off x="6151680" y="2322360"/>
            <a:ext cx="2247840" cy="482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0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51680" y="2322360"/>
                      <a:ext cx="22478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21" name="Text Box 14"/>
          <p:cNvSpPr/>
          <p:nvPr/>
        </p:nvSpPr>
        <p:spPr>
          <a:xfrm>
            <a:off x="3035160" y="2389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TI syste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22" name="Object 5"/>
          <p:cNvGraphicFramePr/>
          <p:nvPr/>
        </p:nvGraphicFramePr>
        <p:xfrm>
          <a:off x="2000160" y="4657680"/>
          <a:ext cx="48643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0160" y="4657680"/>
                    <a:ext cx="4864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4" name="16 Rectángulo"/>
          <p:cNvSpPr/>
          <p:nvPr/>
        </p:nvSpPr>
        <p:spPr>
          <a:xfrm>
            <a:off x="2643120" y="581328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Estas expresiones relacionan la respuesta al impulso y la respuesta al pas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peradores de adelanto y de retard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Para especificar relaciones de sistemas de tiempo discreto  entre señales de entrada y salida se usan dos operadores de desplazamiento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El</a:t>
            </a:r>
            <a:r>
              <a:rPr b="0" i="1" lang="es-ES" sz="2600" spc="-1" strike="noStrike">
                <a:solidFill>
                  <a:srgbClr val="009999"/>
                </a:solidFill>
                <a:latin typeface="Arial"/>
              </a:rPr>
              <a:t> operador de</a:t>
            </a: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9999"/>
                </a:solidFill>
                <a:latin typeface="Arial"/>
              </a:rPr>
              <a:t>desplazamiento de adelanto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9999"/>
                </a:solidFill>
                <a:latin typeface="Arial"/>
              </a:rPr>
              <a:t>El operador de desplazamiento de retardo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es-ES" sz="2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−</a:t>
            </a:r>
            <a:r>
              <a:rPr b="0" lang="es-ES" sz="2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7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2978-A426-4039-8137-1701F6929367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peradores de adelanto y de retard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l</a:t>
            </a:r>
            <a:r>
              <a:rPr b="0" i="1" lang="es-ES" sz="2800" spc="-1" strike="noStrike">
                <a:solidFill>
                  <a:srgbClr val="009999"/>
                </a:solidFill>
                <a:latin typeface="Arial"/>
              </a:rPr>
              <a:t> operador de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009999"/>
                </a:solidFill>
                <a:latin typeface="Arial"/>
              </a:rPr>
              <a:t>desplazamiento de adelanto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9999"/>
                </a:solidFill>
                <a:latin typeface="Arial"/>
              </a:rPr>
              <a:t>El operador de desplazamiento de retardo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es-E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−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3F45-7A40-4303-82FA-D93EA3D7C0E0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31" name="Object 4"/>
          <p:cNvGraphicFramePr/>
          <p:nvPr/>
        </p:nvGraphicFramePr>
        <p:xfrm>
          <a:off x="2940120" y="3000240"/>
          <a:ext cx="32256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0120" y="3000240"/>
                    <a:ext cx="3225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3" name="Object 6"/>
          <p:cNvGraphicFramePr/>
          <p:nvPr/>
        </p:nvGraphicFramePr>
        <p:xfrm>
          <a:off x="2746440" y="4935600"/>
          <a:ext cx="364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6440" y="4935600"/>
                    <a:ext cx="364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Sistemas de tiempo discreto en terminos del operador de retard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Siendo </a:t>
            </a:r>
            <a:r>
              <a:rPr b="0" i="1" lang="es-ES" sz="2800" spc="-1" strike="noStrike">
                <a:solidFill>
                  <a:srgbClr val="009999"/>
                </a:solidFill>
                <a:latin typeface="Arial"/>
              </a:rPr>
              <a:t>{h(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k)} k = 0,1,  ··· la respuesta al impulso del sistema,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7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D634-47F2-4FFC-B157-72031916023B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38" name="Object 2"/>
          <p:cNvGraphicFramePr/>
          <p:nvPr/>
        </p:nvGraphicFramePr>
        <p:xfrm>
          <a:off x="1023840" y="3429000"/>
          <a:ext cx="709632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3429000"/>
                    <a:ext cx="70963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Respuesta del sistem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La “funcion de transferencia” de un sistema LTI e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3FD-2148-4458-8BA2-080CFED904E8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43" name="Object 2"/>
          <p:cNvGraphicFramePr/>
          <p:nvPr/>
        </p:nvGraphicFramePr>
        <p:xfrm>
          <a:off x="2500200" y="3000240"/>
          <a:ext cx="4286520" cy="11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3000240"/>
                    <a:ext cx="428652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5" name="Object 3"/>
          <p:cNvGraphicFramePr/>
          <p:nvPr/>
        </p:nvGraphicFramePr>
        <p:xfrm>
          <a:off x="2286000" y="4578480"/>
          <a:ext cx="413856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578480"/>
                    <a:ext cx="41385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7" name="6 Flecha arriba y abajo"/>
          <p:cNvSpPr/>
          <p:nvPr/>
        </p:nvSpPr>
        <p:spPr>
          <a:xfrm>
            <a:off x="4214880" y="4078440"/>
            <a:ext cx="142920" cy="571320"/>
          </a:xfrm>
          <a:prstGeom prst="upDownArrow">
            <a:avLst>
              <a:gd name="adj1" fmla="val 50000"/>
              <a:gd name="adj2" fmla="val 49969"/>
            </a:avLst>
          </a:pr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8" name="Text Box 21"/>
          <p:cNvSpPr/>
          <p:nvPr/>
        </p:nvSpPr>
        <p:spPr>
          <a:xfrm>
            <a:off x="571680" y="5854680"/>
            <a:ext cx="78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¡no confundir con la variable compleja </a:t>
            </a:r>
            <a:r>
              <a:rPr b="0" i="1" lang="es-E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9" name="Line 20"/>
          <p:cNvSpPr/>
          <p:nvPr/>
        </p:nvSpPr>
        <p:spPr>
          <a:xfrm flipV="1">
            <a:off x="2857680" y="5143680"/>
            <a:ext cx="1928520" cy="78552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REPRESENTACION EN EL DOMINIO DE LA FRECUENCIA DE SISTEMAS LTI DE TIEMPO DISCRET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1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1455-C803-48E6-83DE-715C95664276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Representacion en el dominio de la frecuencia de señales y sistemas LTI de tiempo discret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3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89BC-88EA-4357-860E-05CFC7E0939A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54" name="4 Grupo"/>
          <p:cNvGrpSpPr/>
          <p:nvPr/>
        </p:nvGrpSpPr>
        <p:grpSpPr>
          <a:xfrm>
            <a:off x="608040" y="2182680"/>
            <a:ext cx="8178840" cy="3960720"/>
            <a:chOff x="608040" y="2182680"/>
            <a:chExt cx="8178840" cy="3960720"/>
          </a:xfrm>
        </p:grpSpPr>
        <p:sp>
          <p:nvSpPr>
            <p:cNvPr id="1655" name="Rectangle 4"/>
            <p:cNvSpPr/>
            <p:nvPr/>
          </p:nvSpPr>
          <p:spPr>
            <a:xfrm>
              <a:off x="2894040" y="2182680"/>
              <a:ext cx="3200400" cy="198144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6" name="Line 5"/>
            <p:cNvSpPr/>
            <p:nvPr/>
          </p:nvSpPr>
          <p:spPr>
            <a:xfrm>
              <a:off x="988920" y="3166920"/>
              <a:ext cx="19047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7" name="Text Box 7"/>
            <p:cNvSpPr/>
            <p:nvPr/>
          </p:nvSpPr>
          <p:spPr>
            <a:xfrm>
              <a:off x="3440160" y="262692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LTI system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8" name="Line 9"/>
            <p:cNvSpPr/>
            <p:nvPr/>
          </p:nvSpPr>
          <p:spPr>
            <a:xfrm>
              <a:off x="6094440" y="3173400"/>
              <a:ext cx="251460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aphicFrame>
          <p:nvGraphicFramePr>
            <p:cNvPr id="1659" name="Object 5"/>
            <p:cNvGraphicFramePr/>
            <p:nvPr/>
          </p:nvGraphicFramePr>
          <p:xfrm>
            <a:off x="4176720" y="3273120"/>
            <a:ext cx="647640" cy="39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6720" y="3273120"/>
                      <a:ext cx="6476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61" name="Group 29"/>
            <p:cNvGrpSpPr/>
            <p:nvPr/>
          </p:nvGrpSpPr>
          <p:grpSpPr>
            <a:xfrm>
              <a:off x="608040" y="2638080"/>
              <a:ext cx="2286000" cy="1826280"/>
              <a:chOff x="608040" y="2638080"/>
              <a:chExt cx="2286000" cy="1826280"/>
            </a:xfrm>
          </p:grpSpPr>
          <p:sp>
            <p:nvSpPr>
              <p:cNvPr id="1662" name="Text Box 3"/>
              <p:cNvSpPr/>
              <p:nvPr/>
            </p:nvSpPr>
            <p:spPr>
              <a:xfrm>
                <a:off x="608040" y="327312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cc0000"/>
                    </a:solidFill>
                    <a:latin typeface="Times New Roman"/>
                    <a:ea typeface="Times New Roman"/>
                  </a:rPr>
                  <a:t>complex-valued exponencial signal</a:t>
                </a:r>
                <a:r>
                  <a:rPr b="1" lang="en-US" sz="2400" spc="-1" strike="noStrike">
                    <a:solidFill>
                      <a:srgbClr val="cc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aphicFrame>
            <p:nvGraphicFramePr>
              <p:cNvPr id="1663" name="Object 6"/>
              <p:cNvGraphicFramePr/>
              <p:nvPr/>
            </p:nvGraphicFramePr>
            <p:xfrm>
              <a:off x="1122120" y="2638080"/>
              <a:ext cx="1536840" cy="457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64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22120" y="2638080"/>
                        <a:ext cx="1536840" cy="45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665" name="Group 31"/>
            <p:cNvGrpSpPr/>
            <p:nvPr/>
          </p:nvGrpSpPr>
          <p:grpSpPr>
            <a:xfrm>
              <a:off x="2843280" y="3654360"/>
              <a:ext cx="3352680" cy="2489040"/>
              <a:chOff x="2843280" y="3654360"/>
              <a:chExt cx="3352680" cy="2489040"/>
            </a:xfrm>
          </p:grpSpPr>
          <p:sp>
            <p:nvSpPr>
              <p:cNvPr id="1666" name="Text Box 13"/>
              <p:cNvSpPr/>
              <p:nvPr/>
            </p:nvSpPr>
            <p:spPr>
              <a:xfrm>
                <a:off x="3236760" y="461952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cc0000"/>
                    </a:solidFill>
                    <a:latin typeface="Times New Roman"/>
                    <a:ea typeface="Times New Roman"/>
                  </a:rPr>
                  <a:t>impulse respons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7" name="Line 14"/>
              <p:cNvSpPr/>
              <p:nvPr/>
            </p:nvSpPr>
            <p:spPr>
              <a:xfrm>
                <a:off x="4494240" y="3654360"/>
                <a:ext cx="0" cy="9903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aphicFrame>
            <p:nvGraphicFramePr>
              <p:cNvPr id="1668" name="Object 7"/>
              <p:cNvGraphicFramePr/>
              <p:nvPr/>
            </p:nvGraphicFramePr>
            <p:xfrm>
              <a:off x="2843280" y="5229000"/>
              <a:ext cx="3352680" cy="914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669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843280" y="5229000"/>
                        <a:ext cx="335268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670" name="Group 30"/>
            <p:cNvGrpSpPr/>
            <p:nvPr/>
          </p:nvGrpSpPr>
          <p:grpSpPr>
            <a:xfrm>
              <a:off x="6043680" y="2638080"/>
              <a:ext cx="2743200" cy="1119960"/>
              <a:chOff x="6043680" y="2638080"/>
              <a:chExt cx="2743200" cy="1119960"/>
            </a:xfrm>
          </p:grpSpPr>
          <p:sp>
            <p:nvSpPr>
              <p:cNvPr id="1671" name="Text Box 8"/>
              <p:cNvSpPr/>
              <p:nvPr/>
            </p:nvSpPr>
            <p:spPr>
              <a:xfrm>
                <a:off x="6043680" y="329832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cc0000"/>
                    </a:solidFill>
                    <a:latin typeface="Times New Roman"/>
                    <a:ea typeface="Times New Roman"/>
                  </a:rPr>
                  <a:t>LTI system output</a:t>
                </a:r>
                <a:r>
                  <a:rPr b="1" lang="en-US" sz="2400" spc="-1" strike="noStrike">
                    <a:solidFill>
                      <a:srgbClr val="009999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aphicFrame>
            <p:nvGraphicFramePr>
              <p:cNvPr id="1672" name="Object 8"/>
              <p:cNvGraphicFramePr/>
              <p:nvPr/>
            </p:nvGraphicFramePr>
            <p:xfrm>
              <a:off x="6932520" y="2638080"/>
              <a:ext cx="673200" cy="3934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673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32520" y="2638080"/>
                        <a:ext cx="673200" cy="393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Representacion en el dominio de la frecuencia de señales y sistemas LTI de tiempo discret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Calculemos la salida del sistema . . 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4ABE-95DA-4A40-B729-D0BA3D80506B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77" name="Object 2"/>
          <p:cNvGraphicFramePr/>
          <p:nvPr/>
        </p:nvGraphicFramePr>
        <p:xfrm>
          <a:off x="2295360" y="4572000"/>
          <a:ext cx="455148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5360" y="4572000"/>
                    <a:ext cx="455148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9" name="Object 8"/>
          <p:cNvGraphicFramePr/>
          <p:nvPr/>
        </p:nvGraphicFramePr>
        <p:xfrm>
          <a:off x="1214280" y="2887560"/>
          <a:ext cx="7112160" cy="10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2887560"/>
                    <a:ext cx="711216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Respuesta en Frecuencia de sistemas LTI de tiempo discret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8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88A2-9107-490E-95F5-24A7A0D7D1D2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83" name="Object 2"/>
          <p:cNvGraphicFramePr/>
          <p:nvPr/>
        </p:nvGraphicFramePr>
        <p:xfrm>
          <a:off x="1857240" y="2500200"/>
          <a:ext cx="505620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500200"/>
                    <a:ext cx="50562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5" name="Text Box 5"/>
          <p:cNvSpPr/>
          <p:nvPr/>
        </p:nvSpPr>
        <p:spPr>
          <a:xfrm>
            <a:off x="5672160" y="40989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spuesta en Frecuencia</a:t>
            </a:r>
            <a:r>
              <a:rPr b="0" lang="en-GB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6" name="7 Flecha derecha"/>
          <p:cNvSpPr/>
          <p:nvPr/>
        </p:nvSpPr>
        <p:spPr>
          <a:xfrm rot="12864000">
            <a:off x="3989520" y="3722400"/>
            <a:ext cx="1844640" cy="150840"/>
          </a:xfrm>
          <a:prstGeom prst="rightArrow">
            <a:avLst>
              <a:gd name="adj1" fmla="val 50000"/>
              <a:gd name="adj2" fmla="val 50332"/>
            </a:avLst>
          </a:pr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87" name="Object 4"/>
          <p:cNvGraphicFramePr/>
          <p:nvPr/>
        </p:nvGraphicFramePr>
        <p:xfrm>
          <a:off x="1285920" y="4643280"/>
          <a:ext cx="385776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4643280"/>
                    <a:ext cx="385776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SEÑALES Y SISTEMAS DE TIEMPO DISCRET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1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D70-FF67-48AA-AE82-E2164FA500D8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Periodicidad  de la respuesta en frecuenci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a propiedad importante de la respuesta en frecuancia es que es periodic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 periodo 2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1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F083-9DC4-4BFC-8BE9-5C0693E3E83D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92" name="Object 2"/>
          <p:cNvGraphicFramePr/>
          <p:nvPr/>
        </p:nvGraphicFramePr>
        <p:xfrm>
          <a:off x="971640" y="3286080"/>
          <a:ext cx="720252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286080"/>
                    <a:ext cx="72025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4" name="Object 7"/>
          <p:cNvGraphicFramePr/>
          <p:nvPr/>
        </p:nvGraphicFramePr>
        <p:xfrm>
          <a:off x="2903400" y="4929120"/>
          <a:ext cx="424044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3400" y="4929120"/>
                    <a:ext cx="42404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0A0F-4825-48FB-AFC2-5326E8B8EF24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7" name="Text Box 8"/>
          <p:cNvSpPr/>
          <p:nvPr/>
        </p:nvSpPr>
        <p:spPr>
          <a:xfrm>
            <a:off x="533520" y="1071720"/>
            <a:ext cx="8610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odemos considerar la expresion de                como su expansion en series de Fourier donde </a:t>
            </a:r>
            <a:r>
              <a:rPr b="0" i="1" lang="en-GB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h</a:t>
            </a:r>
            <a:r>
              <a:rPr b="0" lang="en-GB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(</a:t>
            </a:r>
            <a:r>
              <a:rPr b="0" i="1" lang="en-GB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k</a:t>
            </a:r>
            <a:r>
              <a:rPr b="0" lang="en-GB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son los coeficientes de la serie. En consecuencia </a:t>
            </a:r>
            <a:r>
              <a:rPr b="0" i="1" lang="en-GB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h</a:t>
            </a:r>
            <a:r>
              <a:rPr b="0" lang="en-GB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(</a:t>
            </a:r>
            <a:r>
              <a:rPr b="0" i="1" lang="en-GB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k</a:t>
            </a:r>
            <a:r>
              <a:rPr b="0" lang="en-GB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esta relacionada con              por la integral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98" name="Object 5"/>
          <p:cNvGraphicFramePr/>
          <p:nvPr/>
        </p:nvGraphicFramePr>
        <p:xfrm>
          <a:off x="1785960" y="3786120"/>
          <a:ext cx="544680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786120"/>
                    <a:ext cx="54468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0" name="Object 6"/>
          <p:cNvGraphicFramePr/>
          <p:nvPr/>
        </p:nvGraphicFramePr>
        <p:xfrm>
          <a:off x="6286680" y="1049400"/>
          <a:ext cx="121428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6680" y="1049400"/>
                    <a:ext cx="12142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2" name="Object 7"/>
          <p:cNvGraphicFramePr/>
          <p:nvPr/>
        </p:nvGraphicFramePr>
        <p:xfrm>
          <a:off x="3071880" y="2428920"/>
          <a:ext cx="121428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2428920"/>
                    <a:ext cx="12142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Propiedades de simetria de la respuesta en frecuenci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 parte real es un funcion pa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 periodo 2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 parte imaginaria es un funcion impa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 periodo 2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858A-9AD8-4934-A0EC-8D7A3BA7C0A5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707" name="Object 2"/>
          <p:cNvGraphicFramePr/>
          <p:nvPr/>
        </p:nvGraphicFramePr>
        <p:xfrm>
          <a:off x="2286000" y="3071880"/>
          <a:ext cx="470844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071880"/>
                    <a:ext cx="47084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9" name="Object 3"/>
          <p:cNvGraphicFramePr/>
          <p:nvPr/>
        </p:nvGraphicFramePr>
        <p:xfrm>
          <a:off x="2286000" y="5040360"/>
          <a:ext cx="495792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5040360"/>
                    <a:ext cx="49579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E6FE-C9DE-4B13-89A5-586E8898E020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12" name="74 Grupo"/>
          <p:cNvGrpSpPr/>
          <p:nvPr/>
        </p:nvGrpSpPr>
        <p:grpSpPr>
          <a:xfrm>
            <a:off x="457200" y="147600"/>
            <a:ext cx="8001000" cy="6481800"/>
            <a:chOff x="457200" y="147600"/>
            <a:chExt cx="8001000" cy="6481800"/>
          </a:xfrm>
        </p:grpSpPr>
        <p:sp>
          <p:nvSpPr>
            <p:cNvPr id="1713" name="Line 2"/>
            <p:cNvSpPr/>
            <p:nvPr/>
          </p:nvSpPr>
          <p:spPr>
            <a:xfrm>
              <a:off x="761760" y="2241360"/>
              <a:ext cx="74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4" name="Line 3"/>
            <p:cNvSpPr/>
            <p:nvPr/>
          </p:nvSpPr>
          <p:spPr>
            <a:xfrm>
              <a:off x="4572000" y="304560"/>
              <a:ext cx="0" cy="586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aphicFrame>
          <p:nvGraphicFramePr>
            <p:cNvPr id="1715" name="Object 24"/>
            <p:cNvGraphicFramePr/>
            <p:nvPr/>
          </p:nvGraphicFramePr>
          <p:xfrm>
            <a:off x="4724280" y="147600"/>
            <a:ext cx="1155600" cy="58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6" name="Object 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147600"/>
                      <a:ext cx="1155600" cy="5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7" name="Object 25"/>
            <p:cNvGraphicFramePr/>
            <p:nvPr/>
          </p:nvGraphicFramePr>
          <p:xfrm>
            <a:off x="8178840" y="1936800"/>
            <a:ext cx="27936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8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78840" y="1936800"/>
                      <a:ext cx="279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9" name="Object 26"/>
            <p:cNvGraphicFramePr/>
            <p:nvPr/>
          </p:nvGraphicFramePr>
          <p:xfrm>
            <a:off x="5257800" y="2394000"/>
            <a:ext cx="25380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20" name="Object 2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57800" y="2394000"/>
                      <a:ext cx="2538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1" name="Object 27"/>
            <p:cNvGraphicFramePr/>
            <p:nvPr/>
          </p:nvGraphicFramePr>
          <p:xfrm>
            <a:off x="6000840" y="2349360"/>
            <a:ext cx="444240" cy="317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22" name="Object 2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00840" y="2349360"/>
                      <a:ext cx="44424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3" name="Object 28"/>
            <p:cNvGraphicFramePr/>
            <p:nvPr/>
          </p:nvGraphicFramePr>
          <p:xfrm>
            <a:off x="3548160" y="2394000"/>
            <a:ext cx="457200" cy="22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24" name="Object 2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48160" y="2394000"/>
                      <a:ext cx="4572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5" name="Object 29"/>
            <p:cNvGraphicFramePr/>
            <p:nvPr/>
          </p:nvGraphicFramePr>
          <p:xfrm>
            <a:off x="888840" y="2346120"/>
            <a:ext cx="634680" cy="317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26" name="Object 2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88840" y="2346120"/>
                      <a:ext cx="63468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7" name="Object 30"/>
            <p:cNvGraphicFramePr/>
            <p:nvPr/>
          </p:nvGraphicFramePr>
          <p:xfrm>
            <a:off x="1670040" y="2349360"/>
            <a:ext cx="622080" cy="317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28" name="Object 3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670040" y="2349360"/>
                      <a:ext cx="62208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9" name="Object 31"/>
            <p:cNvGraphicFramePr/>
            <p:nvPr/>
          </p:nvGraphicFramePr>
          <p:xfrm>
            <a:off x="2577960" y="2349360"/>
            <a:ext cx="634680" cy="317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30" name="Object 3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577960" y="2349360"/>
                      <a:ext cx="63468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1" name="Line 12"/>
            <p:cNvSpPr/>
            <p:nvPr/>
          </p:nvSpPr>
          <p:spPr>
            <a:xfrm>
              <a:off x="4572000" y="259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2" name="Freeform 13"/>
            <p:cNvSpPr/>
            <p:nvPr/>
          </p:nvSpPr>
          <p:spPr>
            <a:xfrm>
              <a:off x="4589640" y="1052280"/>
              <a:ext cx="838080" cy="1206360"/>
            </a:xfrm>
            <a:custGeom>
              <a:avLst/>
              <a:gdLst/>
              <a:ahLst/>
              <a:rect l="l" t="t" r="r" b="b"/>
              <a:pathLst>
                <a:path w="528" h="760">
                  <a:moveTo>
                    <a:pt x="0" y="232"/>
                  </a:moveTo>
                  <a:cubicBezTo>
                    <a:pt x="100" y="116"/>
                    <a:pt x="200" y="0"/>
                    <a:pt x="288" y="88"/>
                  </a:cubicBezTo>
                  <a:cubicBezTo>
                    <a:pt x="376" y="176"/>
                    <a:pt x="452" y="468"/>
                    <a:pt x="528" y="76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3" name="Freeform 14"/>
            <p:cNvSpPr/>
            <p:nvPr/>
          </p:nvSpPr>
          <p:spPr>
            <a:xfrm flipH="1" rot="297000">
              <a:off x="3733920" y="1074600"/>
              <a:ext cx="838080" cy="1206360"/>
            </a:xfrm>
            <a:custGeom>
              <a:avLst/>
              <a:gdLst/>
              <a:ahLst/>
              <a:rect l="l" t="t" r="r" b="b"/>
              <a:pathLst>
                <a:path w="528" h="760">
                  <a:moveTo>
                    <a:pt x="0" y="232"/>
                  </a:moveTo>
                  <a:cubicBezTo>
                    <a:pt x="100" y="116"/>
                    <a:pt x="200" y="0"/>
                    <a:pt x="288" y="88"/>
                  </a:cubicBezTo>
                  <a:cubicBezTo>
                    <a:pt x="376" y="176"/>
                    <a:pt x="452" y="468"/>
                    <a:pt x="528" y="76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4" name="Freeform 15"/>
            <p:cNvSpPr/>
            <p:nvPr/>
          </p:nvSpPr>
          <p:spPr>
            <a:xfrm>
              <a:off x="6324840" y="1063440"/>
              <a:ext cx="838080" cy="1206360"/>
            </a:xfrm>
            <a:custGeom>
              <a:avLst/>
              <a:gdLst/>
              <a:ahLst/>
              <a:rect l="l" t="t" r="r" b="b"/>
              <a:pathLst>
                <a:path w="528" h="760">
                  <a:moveTo>
                    <a:pt x="0" y="232"/>
                  </a:moveTo>
                  <a:cubicBezTo>
                    <a:pt x="100" y="116"/>
                    <a:pt x="200" y="0"/>
                    <a:pt x="288" y="88"/>
                  </a:cubicBezTo>
                  <a:cubicBezTo>
                    <a:pt x="376" y="176"/>
                    <a:pt x="452" y="468"/>
                    <a:pt x="528" y="76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5" name="Freeform 16"/>
            <p:cNvSpPr/>
            <p:nvPr/>
          </p:nvSpPr>
          <p:spPr>
            <a:xfrm flipH="1" rot="297000">
              <a:off x="5469120" y="1085760"/>
              <a:ext cx="838080" cy="1206360"/>
            </a:xfrm>
            <a:custGeom>
              <a:avLst/>
              <a:gdLst/>
              <a:ahLst/>
              <a:rect l="l" t="t" r="r" b="b"/>
              <a:pathLst>
                <a:path w="528" h="760">
                  <a:moveTo>
                    <a:pt x="0" y="232"/>
                  </a:moveTo>
                  <a:cubicBezTo>
                    <a:pt x="100" y="116"/>
                    <a:pt x="200" y="0"/>
                    <a:pt x="288" y="88"/>
                  </a:cubicBezTo>
                  <a:cubicBezTo>
                    <a:pt x="376" y="176"/>
                    <a:pt x="452" y="468"/>
                    <a:pt x="528" y="76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6" name="Freeform 17"/>
            <p:cNvSpPr/>
            <p:nvPr/>
          </p:nvSpPr>
          <p:spPr>
            <a:xfrm>
              <a:off x="2836800" y="1022040"/>
              <a:ext cx="838080" cy="1206360"/>
            </a:xfrm>
            <a:custGeom>
              <a:avLst/>
              <a:gdLst/>
              <a:ahLst/>
              <a:rect l="l" t="t" r="r" b="b"/>
              <a:pathLst>
                <a:path w="528" h="760">
                  <a:moveTo>
                    <a:pt x="0" y="232"/>
                  </a:moveTo>
                  <a:cubicBezTo>
                    <a:pt x="100" y="116"/>
                    <a:pt x="200" y="0"/>
                    <a:pt x="288" y="88"/>
                  </a:cubicBezTo>
                  <a:cubicBezTo>
                    <a:pt x="376" y="176"/>
                    <a:pt x="452" y="468"/>
                    <a:pt x="528" y="76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7" name="Freeform 18"/>
            <p:cNvSpPr/>
            <p:nvPr/>
          </p:nvSpPr>
          <p:spPr>
            <a:xfrm flipH="1" rot="297000">
              <a:off x="1981080" y="1044360"/>
              <a:ext cx="838080" cy="1206360"/>
            </a:xfrm>
            <a:custGeom>
              <a:avLst/>
              <a:gdLst/>
              <a:ahLst/>
              <a:rect l="l" t="t" r="r" b="b"/>
              <a:pathLst>
                <a:path w="528" h="760">
                  <a:moveTo>
                    <a:pt x="0" y="232"/>
                  </a:moveTo>
                  <a:cubicBezTo>
                    <a:pt x="100" y="116"/>
                    <a:pt x="200" y="0"/>
                    <a:pt x="288" y="88"/>
                  </a:cubicBezTo>
                  <a:cubicBezTo>
                    <a:pt x="376" y="176"/>
                    <a:pt x="452" y="468"/>
                    <a:pt x="528" y="76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8" name="Freeform 19"/>
            <p:cNvSpPr/>
            <p:nvPr/>
          </p:nvSpPr>
          <p:spPr>
            <a:xfrm flipH="1" rot="297000">
              <a:off x="7197840" y="1056960"/>
              <a:ext cx="838080" cy="1206360"/>
            </a:xfrm>
            <a:custGeom>
              <a:avLst/>
              <a:gdLst/>
              <a:ahLst/>
              <a:rect l="l" t="t" r="r" b="b"/>
              <a:pathLst>
                <a:path w="528" h="760">
                  <a:moveTo>
                    <a:pt x="0" y="232"/>
                  </a:moveTo>
                  <a:cubicBezTo>
                    <a:pt x="100" y="116"/>
                    <a:pt x="200" y="0"/>
                    <a:pt x="288" y="88"/>
                  </a:cubicBezTo>
                  <a:cubicBezTo>
                    <a:pt x="376" y="176"/>
                    <a:pt x="452" y="468"/>
                    <a:pt x="528" y="76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9" name="Freeform 20"/>
            <p:cNvSpPr/>
            <p:nvPr/>
          </p:nvSpPr>
          <p:spPr>
            <a:xfrm>
              <a:off x="1083960" y="1022040"/>
              <a:ext cx="838080" cy="1206360"/>
            </a:xfrm>
            <a:custGeom>
              <a:avLst/>
              <a:gdLst/>
              <a:ahLst/>
              <a:rect l="l" t="t" r="r" b="b"/>
              <a:pathLst>
                <a:path w="528" h="760">
                  <a:moveTo>
                    <a:pt x="0" y="232"/>
                  </a:moveTo>
                  <a:cubicBezTo>
                    <a:pt x="100" y="116"/>
                    <a:pt x="200" y="0"/>
                    <a:pt x="288" y="88"/>
                  </a:cubicBezTo>
                  <a:cubicBezTo>
                    <a:pt x="376" y="176"/>
                    <a:pt x="452" y="468"/>
                    <a:pt x="528" y="760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aphicFrame>
          <p:nvGraphicFramePr>
            <p:cNvPr id="1740" name="Object 32"/>
            <p:cNvGraphicFramePr/>
            <p:nvPr/>
          </p:nvGraphicFramePr>
          <p:xfrm>
            <a:off x="6896160" y="2334960"/>
            <a:ext cx="419040" cy="3171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1" name="Object 3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96160" y="2334960"/>
                      <a:ext cx="41904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2" name="Object 33"/>
            <p:cNvGraphicFramePr/>
            <p:nvPr/>
          </p:nvGraphicFramePr>
          <p:xfrm>
            <a:off x="7837560" y="2341440"/>
            <a:ext cx="444240" cy="3171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43" name="Object 3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37560" y="2341440"/>
                      <a:ext cx="44424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4" name="Line 23"/>
            <p:cNvSpPr/>
            <p:nvPr/>
          </p:nvSpPr>
          <p:spPr>
            <a:xfrm>
              <a:off x="3674880" y="10983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5" name="Line 24"/>
            <p:cNvSpPr/>
            <p:nvPr/>
          </p:nvSpPr>
          <p:spPr>
            <a:xfrm>
              <a:off x="5410080" y="10220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6" name="Line 25"/>
            <p:cNvSpPr/>
            <p:nvPr/>
          </p:nvSpPr>
          <p:spPr>
            <a:xfrm>
              <a:off x="7145280" y="10220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7" name="Line 26"/>
            <p:cNvSpPr/>
            <p:nvPr/>
          </p:nvSpPr>
          <p:spPr>
            <a:xfrm>
              <a:off x="1904760" y="10983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8" name="Line 27"/>
            <p:cNvSpPr/>
            <p:nvPr/>
          </p:nvSpPr>
          <p:spPr>
            <a:xfrm>
              <a:off x="2819160" y="10983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9" name="Line 28"/>
            <p:cNvSpPr/>
            <p:nvPr/>
          </p:nvSpPr>
          <p:spPr>
            <a:xfrm>
              <a:off x="1090440" y="10983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0" name="Line 29"/>
            <p:cNvSpPr/>
            <p:nvPr/>
          </p:nvSpPr>
          <p:spPr>
            <a:xfrm>
              <a:off x="6324840" y="10983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1" name="Line 30"/>
            <p:cNvSpPr/>
            <p:nvPr/>
          </p:nvSpPr>
          <p:spPr>
            <a:xfrm>
              <a:off x="8060040" y="10983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2" name="Line 31"/>
            <p:cNvSpPr/>
            <p:nvPr/>
          </p:nvSpPr>
          <p:spPr>
            <a:xfrm>
              <a:off x="757080" y="4832280"/>
              <a:ext cx="74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aphicFrame>
          <p:nvGraphicFramePr>
            <p:cNvPr id="1753" name="Object 34"/>
            <p:cNvGraphicFramePr/>
            <p:nvPr/>
          </p:nvGraphicFramePr>
          <p:xfrm>
            <a:off x="8174160" y="4527720"/>
            <a:ext cx="279360" cy="228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54" name="Object 3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174160" y="4527720"/>
                      <a:ext cx="279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5" name="Object 35"/>
            <p:cNvGraphicFramePr/>
            <p:nvPr/>
          </p:nvGraphicFramePr>
          <p:xfrm>
            <a:off x="5253120" y="4984920"/>
            <a:ext cx="253800" cy="228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756" name="Object 3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253120" y="4984920"/>
                      <a:ext cx="2538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7" name="Object 36"/>
            <p:cNvGraphicFramePr/>
            <p:nvPr/>
          </p:nvGraphicFramePr>
          <p:xfrm>
            <a:off x="5996160" y="4940280"/>
            <a:ext cx="444240" cy="3171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758" name="Object 3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996160" y="4940280"/>
                      <a:ext cx="44424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9" name="Object 37"/>
            <p:cNvGraphicFramePr/>
            <p:nvPr/>
          </p:nvGraphicFramePr>
          <p:xfrm>
            <a:off x="3543120" y="4984920"/>
            <a:ext cx="457200" cy="2286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760" name="Object 37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543120" y="4984920"/>
                      <a:ext cx="4572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1" name="Object 38"/>
            <p:cNvGraphicFramePr/>
            <p:nvPr/>
          </p:nvGraphicFramePr>
          <p:xfrm>
            <a:off x="884160" y="4937040"/>
            <a:ext cx="634680" cy="3171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762" name="Object 3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84160" y="4937040"/>
                      <a:ext cx="63468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3" name="Object 39"/>
            <p:cNvGraphicFramePr/>
            <p:nvPr/>
          </p:nvGraphicFramePr>
          <p:xfrm>
            <a:off x="1665000" y="4940280"/>
            <a:ext cx="622080" cy="3171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764" name="Object 39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665000" y="4940280"/>
                      <a:ext cx="62208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5" name="Object 40"/>
            <p:cNvGraphicFramePr/>
            <p:nvPr/>
          </p:nvGraphicFramePr>
          <p:xfrm>
            <a:off x="2573280" y="4940280"/>
            <a:ext cx="634680" cy="3171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766" name="Object 40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2573280" y="4940280"/>
                      <a:ext cx="63468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7" name="Object 41"/>
            <p:cNvGraphicFramePr/>
            <p:nvPr/>
          </p:nvGraphicFramePr>
          <p:xfrm>
            <a:off x="6891480" y="4926240"/>
            <a:ext cx="419040" cy="3171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768" name="Object 41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891480" y="4926240"/>
                      <a:ext cx="41904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9" name="Object 42"/>
            <p:cNvGraphicFramePr/>
            <p:nvPr/>
          </p:nvGraphicFramePr>
          <p:xfrm>
            <a:off x="7832880" y="4932360"/>
            <a:ext cx="444240" cy="3171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770" name="Object 42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7832880" y="4932360"/>
                      <a:ext cx="44424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1" name="Line 41"/>
            <p:cNvSpPr/>
            <p:nvPr/>
          </p:nvSpPr>
          <p:spPr>
            <a:xfrm>
              <a:off x="3670200" y="368928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2" name="Line 42"/>
            <p:cNvSpPr/>
            <p:nvPr/>
          </p:nvSpPr>
          <p:spPr>
            <a:xfrm>
              <a:off x="1900080" y="368928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3" name="Line 43"/>
            <p:cNvSpPr/>
            <p:nvPr/>
          </p:nvSpPr>
          <p:spPr>
            <a:xfrm>
              <a:off x="2814480" y="368928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4" name="Line 44"/>
            <p:cNvSpPr/>
            <p:nvPr/>
          </p:nvSpPr>
          <p:spPr>
            <a:xfrm>
              <a:off x="1085760" y="368928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5" name="Line 45"/>
            <p:cNvSpPr/>
            <p:nvPr/>
          </p:nvSpPr>
          <p:spPr>
            <a:xfrm>
              <a:off x="6319800" y="368928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6" name="Line 46"/>
            <p:cNvSpPr/>
            <p:nvPr/>
          </p:nvSpPr>
          <p:spPr>
            <a:xfrm>
              <a:off x="8055000" y="368928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7" name="Line 47"/>
            <p:cNvSpPr/>
            <p:nvPr/>
          </p:nvSpPr>
          <p:spPr>
            <a:xfrm>
              <a:off x="5410080" y="365760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8" name="Line 48"/>
            <p:cNvSpPr/>
            <p:nvPr/>
          </p:nvSpPr>
          <p:spPr>
            <a:xfrm>
              <a:off x="7145280" y="365760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9" name="Line 49"/>
            <p:cNvSpPr/>
            <p:nvPr/>
          </p:nvSpPr>
          <p:spPr>
            <a:xfrm>
              <a:off x="3674880" y="51818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0" name="Line 50"/>
            <p:cNvSpPr/>
            <p:nvPr/>
          </p:nvSpPr>
          <p:spPr>
            <a:xfrm>
              <a:off x="8077320" y="533412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1" name="Line 51"/>
            <p:cNvSpPr/>
            <p:nvPr/>
          </p:nvSpPr>
          <p:spPr>
            <a:xfrm>
              <a:off x="7140600" y="525780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2" name="Line 52"/>
            <p:cNvSpPr/>
            <p:nvPr/>
          </p:nvSpPr>
          <p:spPr>
            <a:xfrm>
              <a:off x="6324840" y="533412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3" name="Line 53"/>
            <p:cNvSpPr/>
            <p:nvPr/>
          </p:nvSpPr>
          <p:spPr>
            <a:xfrm>
              <a:off x="5410080" y="52754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4" name="Line 54"/>
            <p:cNvSpPr/>
            <p:nvPr/>
          </p:nvSpPr>
          <p:spPr>
            <a:xfrm>
              <a:off x="1904760" y="533412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5" name="Line 55"/>
            <p:cNvSpPr/>
            <p:nvPr/>
          </p:nvSpPr>
          <p:spPr>
            <a:xfrm>
              <a:off x="1083960" y="52815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6" name="Line 56"/>
            <p:cNvSpPr/>
            <p:nvPr/>
          </p:nvSpPr>
          <p:spPr>
            <a:xfrm>
              <a:off x="2819160" y="533412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7" name="Line 57"/>
            <p:cNvSpPr/>
            <p:nvPr/>
          </p:nvSpPr>
          <p:spPr>
            <a:xfrm flipH="1">
              <a:off x="4572000" y="4191120"/>
              <a:ext cx="838080" cy="6094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8" name="Line 58"/>
            <p:cNvSpPr/>
            <p:nvPr/>
          </p:nvSpPr>
          <p:spPr>
            <a:xfrm flipH="1">
              <a:off x="3733920" y="4800600"/>
              <a:ext cx="838080" cy="60948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9" name="Line 59"/>
            <p:cNvSpPr/>
            <p:nvPr/>
          </p:nvSpPr>
          <p:spPr>
            <a:xfrm flipH="1">
              <a:off x="2819160" y="4249800"/>
              <a:ext cx="838080" cy="6094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0" name="Line 60"/>
            <p:cNvSpPr/>
            <p:nvPr/>
          </p:nvSpPr>
          <p:spPr>
            <a:xfrm flipH="1">
              <a:off x="1981080" y="4859280"/>
              <a:ext cx="838080" cy="60948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1" name="Line 61"/>
            <p:cNvSpPr/>
            <p:nvPr/>
          </p:nvSpPr>
          <p:spPr>
            <a:xfrm flipH="1">
              <a:off x="1066680" y="4197240"/>
              <a:ext cx="838080" cy="6094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2" name="Line 62"/>
            <p:cNvSpPr/>
            <p:nvPr/>
          </p:nvSpPr>
          <p:spPr>
            <a:xfrm flipH="1">
              <a:off x="7169400" y="4800600"/>
              <a:ext cx="838080" cy="60948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3" name="Line 63"/>
            <p:cNvSpPr/>
            <p:nvPr/>
          </p:nvSpPr>
          <p:spPr>
            <a:xfrm flipH="1">
              <a:off x="6324840" y="4191120"/>
              <a:ext cx="838080" cy="6094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4" name="Line 64"/>
            <p:cNvSpPr/>
            <p:nvPr/>
          </p:nvSpPr>
          <p:spPr>
            <a:xfrm flipH="1">
              <a:off x="5486400" y="4800600"/>
              <a:ext cx="838080" cy="60948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5" name="Text Box 65"/>
            <p:cNvSpPr/>
            <p:nvPr/>
          </p:nvSpPr>
          <p:spPr>
            <a:xfrm>
              <a:off x="457200" y="22824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mmetry Properti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aphicFrame>
          <p:nvGraphicFramePr>
            <p:cNvPr id="1796" name="Object 43"/>
            <p:cNvGraphicFramePr/>
            <p:nvPr/>
          </p:nvGraphicFramePr>
          <p:xfrm>
            <a:off x="4667400" y="3297240"/>
            <a:ext cx="736560" cy="39348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797" name="Object 43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4667400" y="3297240"/>
                      <a:ext cx="7365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8" name="Text Box 67"/>
            <p:cNvSpPr/>
            <p:nvPr/>
          </p:nvSpPr>
          <p:spPr>
            <a:xfrm>
              <a:off x="6653160" y="2282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EVEN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9" name="Text Box 68"/>
            <p:cNvSpPr/>
            <p:nvPr/>
          </p:nvSpPr>
          <p:spPr>
            <a:xfrm>
              <a:off x="6934320" y="30481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Times New Roman"/>
                </a:rPr>
                <a:t>ODD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aphicFrame>
          <p:nvGraphicFramePr>
            <p:cNvPr id="1800" name="Object 44"/>
            <p:cNvGraphicFramePr/>
            <p:nvPr/>
          </p:nvGraphicFramePr>
          <p:xfrm>
            <a:off x="4608360" y="2257200"/>
            <a:ext cx="203040" cy="3171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801" name="Object 44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4608360" y="2257200"/>
                      <a:ext cx="20304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2" name="Object 45"/>
            <p:cNvGraphicFramePr/>
            <p:nvPr/>
          </p:nvGraphicFramePr>
          <p:xfrm>
            <a:off x="4638600" y="4888080"/>
            <a:ext cx="203040" cy="31716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803" name="Object 45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638600" y="4888080"/>
                      <a:ext cx="203040" cy="31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REPRESENTACION EN EL PLANO Z DE SISTEMAS LTI DE TIEMPO DISCRET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5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FC7D-9435-46D9-A01F-1E1EA8E8DB49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La transformada </a:t>
            </a:r>
            <a:r>
              <a:rPr b="1" i="1" lang="es-ES" sz="4800" spc="-1" strike="noStrike">
                <a:solidFill>
                  <a:srgbClr val="336699"/>
                </a:solidFill>
                <a:latin typeface="Arial Narrow"/>
              </a:rPr>
              <a:t>Z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finicion: La transformada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Z de una señal discret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sta definida como la serie de potencia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0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CC10-6AAD-41E7-8DE0-B19DE2992C25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809" name="Object 1024"/>
          <p:cNvGraphicFramePr/>
          <p:nvPr/>
        </p:nvGraphicFramePr>
        <p:xfrm>
          <a:off x="2143080" y="3429000"/>
          <a:ext cx="377496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3429000"/>
                    <a:ext cx="37749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1" name="Object 1025"/>
          <p:cNvGraphicFramePr/>
          <p:nvPr/>
        </p:nvGraphicFramePr>
        <p:xfrm>
          <a:off x="2214720" y="5214960"/>
          <a:ext cx="300960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5214960"/>
                    <a:ext cx="3009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3" name="6 Rectángulo"/>
          <p:cNvSpPr/>
          <p:nvPr/>
        </p:nvSpPr>
        <p:spPr>
          <a:xfrm>
            <a:off x="5857920" y="428616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d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 una variable complej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La transformada </a:t>
            </a:r>
            <a:r>
              <a:rPr b="1" i="1" lang="es-ES" sz="4800" spc="-1" strike="noStrike">
                <a:solidFill>
                  <a:srgbClr val="336699"/>
                </a:solidFill>
                <a:latin typeface="Arial Narrow"/>
              </a:rPr>
              <a:t>Z</a:t>
            </a: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 inverz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El procedimiento para transformar del dominio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 al dominio del tiempo es denominad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la transformad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inversa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1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3E64-5D49-4169-A9CB-568314ECD7E7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817" name="Object 1024"/>
          <p:cNvGraphicFramePr/>
          <p:nvPr/>
        </p:nvGraphicFramePr>
        <p:xfrm>
          <a:off x="1473120" y="3774960"/>
          <a:ext cx="356868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3774960"/>
                    <a:ext cx="35686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9" name="Object 1025"/>
          <p:cNvGraphicFramePr/>
          <p:nvPr/>
        </p:nvGraphicFramePr>
        <p:xfrm>
          <a:off x="5511960" y="3956040"/>
          <a:ext cx="24890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1960" y="3956040"/>
                    <a:ext cx="24890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1" name="Text Box 8"/>
          <p:cNvSpPr/>
          <p:nvPr/>
        </p:nvSpPr>
        <p:spPr>
          <a:xfrm>
            <a:off x="380880" y="51894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donde </a:t>
            </a:r>
            <a:r>
              <a:rPr b="0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denota el  contorno cerrado en la region de convergencia de  </a:t>
            </a:r>
            <a:r>
              <a:rPr b="0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X(z)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que contiene el origen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La ecuacion de diferenci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Un sistema LTI de tiempo discreto puede ser descrito por medio de un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ecuacion de diferencia con coeficientes constante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, como sigu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24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D59B-63BD-410A-A754-609EF6A07E45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825" name="Object 1024"/>
          <p:cNvGraphicFramePr/>
          <p:nvPr/>
        </p:nvGraphicFramePr>
        <p:xfrm>
          <a:off x="1000080" y="4011480"/>
          <a:ext cx="7105680" cy="11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4011480"/>
                    <a:ext cx="710568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La funcion de transferenci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2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9B0C-0D2F-45E8-A8C4-9CDF215C7D10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La aplicación de la transformada </a:t>
            </a:r>
            <a:r>
              <a:rPr b="0" i="1" lang="es-ES" sz="28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a la ecuacion de diferenci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9999"/>
                </a:solidFill>
                <a:latin typeface="Arial"/>
              </a:rPr>
              <a:t>Bajo la condicion de condiciones iniciales nula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Conduce a la nocion de </a:t>
            </a:r>
            <a:r>
              <a:rPr b="1" lang="sk-SK" sz="2800" spc="-1" strike="noStrike">
                <a:solidFill>
                  <a:srgbClr val="e95d17"/>
                </a:solidFill>
                <a:latin typeface="Arial"/>
                <a:ea typeface="Times New Roman"/>
              </a:rPr>
              <a:t>funcion</a:t>
            </a:r>
            <a:r>
              <a:rPr b="1" lang="es-ES" sz="2800" spc="-1" strike="noStrike">
                <a:solidFill>
                  <a:srgbClr val="e95d17"/>
                </a:solidFill>
                <a:latin typeface="Arial"/>
                <a:ea typeface="Times New Roman"/>
              </a:rPr>
              <a:t> de </a:t>
            </a:r>
            <a:r>
              <a:rPr b="1" lang="sk-SK" sz="2800" spc="-1" strike="noStrike">
                <a:solidFill>
                  <a:srgbClr val="e95d17"/>
                </a:solidFill>
                <a:latin typeface="Arial"/>
                <a:ea typeface="Times New Roman"/>
              </a:rPr>
              <a:t>transfer</a:t>
            </a:r>
            <a:r>
              <a:rPr b="1" lang="es-ES" sz="2800" spc="-1" strike="noStrike">
                <a:solidFill>
                  <a:srgbClr val="e95d17"/>
                </a:solidFill>
                <a:latin typeface="Arial"/>
                <a:ea typeface="Times New Roman"/>
              </a:rPr>
              <a:t>enci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La funcion de transferenci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1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2357-B04D-4141-86FC-DCFE682A47FD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832" name="27 Grupo"/>
          <p:cNvGrpSpPr/>
          <p:nvPr/>
        </p:nvGrpSpPr>
        <p:grpSpPr>
          <a:xfrm>
            <a:off x="431640" y="2143080"/>
            <a:ext cx="8102520" cy="2285640"/>
            <a:chOff x="431640" y="2143080"/>
            <a:chExt cx="8102520" cy="2285640"/>
          </a:xfrm>
        </p:grpSpPr>
        <p:grpSp>
          <p:nvGrpSpPr>
            <p:cNvPr id="1833" name="Group 4"/>
            <p:cNvGrpSpPr/>
            <p:nvPr/>
          </p:nvGrpSpPr>
          <p:grpSpPr>
            <a:xfrm>
              <a:off x="914040" y="2447640"/>
              <a:ext cx="7620120" cy="1981080"/>
              <a:chOff x="914040" y="2447640"/>
              <a:chExt cx="7620120" cy="1981080"/>
            </a:xfrm>
          </p:grpSpPr>
          <p:sp>
            <p:nvSpPr>
              <p:cNvPr id="1834" name="Rectangle 5"/>
              <p:cNvSpPr/>
              <p:nvPr/>
            </p:nvSpPr>
            <p:spPr>
              <a:xfrm>
                <a:off x="2819160" y="2447640"/>
                <a:ext cx="3200400" cy="1981080"/>
              </a:xfrm>
              <a:prstGeom prst="rect">
                <a:avLst/>
              </a:prstGeom>
              <a:noFill/>
              <a:ln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5" name="Line 6"/>
              <p:cNvSpPr/>
              <p:nvPr/>
            </p:nvSpPr>
            <p:spPr>
              <a:xfrm>
                <a:off x="914040" y="3431880"/>
                <a:ext cx="190512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6" name="Text Box 7"/>
              <p:cNvSpPr/>
              <p:nvPr/>
            </p:nvSpPr>
            <p:spPr>
              <a:xfrm>
                <a:off x="3003120" y="2622240"/>
                <a:ext cx="281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95d17"/>
                    </a:solidFill>
                    <a:latin typeface="Times New Roman"/>
                  </a:rPr>
                  <a:t>LTI System</a:t>
                </a:r>
                <a:endParaRPr b="0" lang="en-US" sz="2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7" name="Line 8"/>
              <p:cNvSpPr/>
              <p:nvPr/>
            </p:nvSpPr>
            <p:spPr>
              <a:xfrm>
                <a:off x="6019560" y="3438000"/>
                <a:ext cx="251460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38" name="Object 1024"/>
            <p:cNvGraphicFramePr/>
            <p:nvPr/>
          </p:nvGraphicFramePr>
          <p:xfrm>
            <a:off x="6248520" y="3819600"/>
            <a:ext cx="2197080" cy="48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9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8520" y="3819600"/>
                      <a:ext cx="219708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40" name="Group 10"/>
            <p:cNvGrpSpPr/>
            <p:nvPr/>
          </p:nvGrpSpPr>
          <p:grpSpPr>
            <a:xfrm>
              <a:off x="533160" y="2242800"/>
              <a:ext cx="2209680" cy="1055520"/>
              <a:chOff x="533160" y="2242800"/>
              <a:chExt cx="2209680" cy="1055520"/>
            </a:xfrm>
          </p:grpSpPr>
          <p:sp>
            <p:nvSpPr>
              <p:cNvPr id="1841" name="Text Box 11"/>
              <p:cNvSpPr/>
              <p:nvPr/>
            </p:nvSpPr>
            <p:spPr>
              <a:xfrm>
                <a:off x="533160" y="2242800"/>
                <a:ext cx="2209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e95d17"/>
                    </a:solidFill>
                    <a:latin typeface="Times New Roman"/>
                    <a:ea typeface="Times New Roman"/>
                  </a:rPr>
                  <a:t>input signal</a:t>
                </a:r>
                <a:endParaRPr b="0" lang="en-US" sz="2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aphicFrame>
            <p:nvGraphicFramePr>
              <p:cNvPr id="1842" name="Object 1031"/>
              <p:cNvGraphicFramePr/>
              <p:nvPr/>
            </p:nvGraphicFramePr>
            <p:xfrm>
              <a:off x="1561680" y="2904840"/>
              <a:ext cx="647640" cy="393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43" name="Object 103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561680" y="2904840"/>
                        <a:ext cx="647640" cy="393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44" name="Object 1025"/>
            <p:cNvGraphicFramePr/>
            <p:nvPr/>
          </p:nvGraphicFramePr>
          <p:xfrm>
            <a:off x="431640" y="3819600"/>
            <a:ext cx="2247840" cy="482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5" name="Object 10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1640" y="3819600"/>
                      <a:ext cx="22478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46" name="Group 18"/>
            <p:cNvGrpSpPr/>
            <p:nvPr/>
          </p:nvGrpSpPr>
          <p:grpSpPr>
            <a:xfrm>
              <a:off x="6172200" y="2143080"/>
              <a:ext cx="2286000" cy="1143000"/>
              <a:chOff x="6172200" y="2143080"/>
              <a:chExt cx="2286000" cy="1143000"/>
            </a:xfrm>
          </p:grpSpPr>
          <p:sp>
            <p:nvSpPr>
              <p:cNvPr id="1847" name="Text Box 19"/>
              <p:cNvSpPr/>
              <p:nvPr/>
            </p:nvSpPr>
            <p:spPr>
              <a:xfrm>
                <a:off x="6172200" y="214308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e95d17"/>
                    </a:solidFill>
                    <a:latin typeface="Times New Roman"/>
                    <a:ea typeface="Times New Roman"/>
                  </a:rPr>
                  <a:t>output signal</a:t>
                </a:r>
                <a:endParaRPr b="0" lang="en-US" sz="2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aphicFrame>
            <p:nvGraphicFramePr>
              <p:cNvPr id="1848" name="Object 1029"/>
              <p:cNvGraphicFramePr/>
              <p:nvPr/>
            </p:nvGraphicFramePr>
            <p:xfrm>
              <a:off x="6939000" y="2892240"/>
              <a:ext cx="673200" cy="39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849" name="Object 1029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39000" y="2892240"/>
                        <a:ext cx="673200" cy="39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850" name="Object 1027"/>
            <p:cNvGraphicFramePr/>
            <p:nvPr/>
          </p:nvGraphicFramePr>
          <p:xfrm>
            <a:off x="4788000" y="3527280"/>
            <a:ext cx="7747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51" name="Object 102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88000" y="3527280"/>
                      <a:ext cx="7747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2" name="Object 1026"/>
            <p:cNvGraphicFramePr/>
            <p:nvPr/>
          </p:nvGraphicFramePr>
          <p:xfrm>
            <a:off x="3695760" y="3514680"/>
            <a:ext cx="64764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53" name="Object 10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95760" y="3514680"/>
                      <a:ext cx="6476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4" name="Text Box 14"/>
          <p:cNvSpPr/>
          <p:nvPr/>
        </p:nvSpPr>
        <p:spPr>
          <a:xfrm>
            <a:off x="804960" y="4929120"/>
            <a:ext cx="74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5d17"/>
                </a:solidFill>
                <a:latin typeface="Times New Roman"/>
                <a:ea typeface="Times New Roman"/>
              </a:rPr>
              <a:t>La Funcion de Transferencia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es la razon de la transformada </a:t>
            </a:r>
            <a:r>
              <a:rPr b="0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de la salida y de la transformada </a:t>
            </a:r>
            <a:r>
              <a:rPr b="0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de la señal de entrad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Señales de tiempo discret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finicion: Definidas solamente a valores discretos del tiempo la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ñales de tiempo discreto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ueden tomar todos los valores posibl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on secuencias de numeros reales o complejo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4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DB42-FDDD-4328-91ED-C40FA22035B9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5" name="5 Rectángulo"/>
          <p:cNvSpPr/>
          <p:nvPr/>
        </p:nvSpPr>
        <p:spPr>
          <a:xfrm>
            <a:off x="785880" y="4857840"/>
            <a:ext cx="7715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ñales Digitales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Son señales de tiempo discreto que toman solo valores dentro de un conjunto finito de posibles valor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La funcion de transferenci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56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La Funcion de Transferencia es la razon de la transformada </a:t>
            </a:r>
            <a:r>
              <a:rPr b="0" i="1" lang="es-ES" sz="28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de la salida y de la transformada </a:t>
            </a:r>
            <a:r>
              <a:rPr b="0" i="1" lang="es-ES" sz="28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de la señal de entrad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7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EACB-B6F3-4F79-ACDC-75D23E5FF497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858" name="Object 1030"/>
          <p:cNvGraphicFramePr/>
          <p:nvPr/>
        </p:nvGraphicFramePr>
        <p:xfrm>
          <a:off x="2851200" y="3929040"/>
          <a:ext cx="344160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1200" y="3929040"/>
                    <a:ext cx="34416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0" name="Object 1028"/>
          <p:cNvGraphicFramePr/>
          <p:nvPr/>
        </p:nvGraphicFramePr>
        <p:xfrm>
          <a:off x="3286080" y="5429160"/>
          <a:ext cx="299412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1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5429160"/>
                    <a:ext cx="29941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Funcion de transferencia del sistema LT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285480" y="198108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 partir de la ecuacion de diferencia es posible calcular entonces la funcion de transferenci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4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E8D9-D3DF-4205-BBE6-FFA08FAD8D2F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865" name="Object 2048"/>
          <p:cNvGraphicFramePr/>
          <p:nvPr/>
        </p:nvGraphicFramePr>
        <p:xfrm>
          <a:off x="1728720" y="4729320"/>
          <a:ext cx="5702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6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8720" y="4729320"/>
                    <a:ext cx="5702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7" name="Object 2049"/>
          <p:cNvGraphicFramePr/>
          <p:nvPr/>
        </p:nvGraphicFramePr>
        <p:xfrm>
          <a:off x="1701720" y="3357720"/>
          <a:ext cx="5740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8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1720" y="3357720"/>
                    <a:ext cx="5740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Funcion de transferencia del sistema LT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7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981E-0DFD-4FED-9694-E5D78458E1CF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871" name="Object 2050"/>
          <p:cNvGraphicFramePr/>
          <p:nvPr/>
        </p:nvGraphicFramePr>
        <p:xfrm>
          <a:off x="2108160" y="2357280"/>
          <a:ext cx="4927680" cy="21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2" name="Object 20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8160" y="2357280"/>
                    <a:ext cx="492768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3" name="Text Box 9"/>
          <p:cNvSpPr/>
          <p:nvPr/>
        </p:nvSpPr>
        <p:spPr>
          <a:xfrm>
            <a:off x="343080" y="5143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1840" indent="-861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H(z)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: puede ser vista como </a:t>
            </a:r>
            <a:r>
              <a:rPr b="0" lang="en-US" sz="2800" spc="-1" strike="noStrike">
                <a:solidFill>
                  <a:srgbClr val="e95d17"/>
                </a:solidFill>
                <a:latin typeface="Times New Roman"/>
                <a:ea typeface="Times New Roman"/>
              </a:rPr>
              <a:t>una funcion racional de la variable compleja </a:t>
            </a:r>
            <a:r>
              <a:rPr b="0" i="1" lang="en-US" sz="2800" spc="-1" strike="noStrike">
                <a:solidFill>
                  <a:srgbClr val="e95d17"/>
                </a:solidFill>
                <a:latin typeface="Times New Roman"/>
                <a:ea typeface="Times New Roman"/>
              </a:rPr>
              <a:t>z </a:t>
            </a:r>
            <a:r>
              <a:rPr b="0" lang="en-US" sz="2800" spc="-1" strike="noStrike">
                <a:solidFill>
                  <a:srgbClr val="e95d17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e95d17"/>
                </a:solidFill>
                <a:latin typeface="Times New Roman"/>
                <a:ea typeface="Times New Roman"/>
              </a:rPr>
              <a:t>z</a:t>
            </a:r>
            <a:r>
              <a:rPr b="0" i="1" lang="en-US" sz="2800" spc="-1" strike="noStrike" baseline="30000">
                <a:solidFill>
                  <a:srgbClr val="e95d17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e95d17"/>
                </a:solidFill>
                <a:latin typeface="Times New Roman"/>
                <a:ea typeface="Times New Roman"/>
              </a:rPr>
              <a:t>).</a:t>
            </a:r>
            <a:r>
              <a:rPr b="0" lang="en-US" sz="2800" spc="-1" strike="noStrike">
                <a:solidFill>
                  <a:srgbClr val="e95d1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REPRESENTACION EN ESPACIO DE ESTADO DE SISTEMAS LTI DE TIEMPO DISCRET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75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57F7-D927-44E5-9032-AE2DE991FB1F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3437-F521-4496-85C6-BF3FAF167F0A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877" name="Picture 6" descr=""/>
          <p:cNvPicPr/>
          <p:nvPr/>
        </p:nvPicPr>
        <p:blipFill>
          <a:blip r:embed="rId1"/>
          <a:stretch/>
        </p:blipFill>
        <p:spPr>
          <a:xfrm>
            <a:off x="2643120" y="642960"/>
            <a:ext cx="4168800" cy="114300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4" descr=""/>
          <p:cNvPicPr/>
          <p:nvPr/>
        </p:nvPicPr>
        <p:blipFill>
          <a:blip r:embed="rId2"/>
          <a:stretch/>
        </p:blipFill>
        <p:spPr>
          <a:xfrm>
            <a:off x="1214280" y="2357280"/>
            <a:ext cx="7425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EQUIVALENCIA DE LAS REPRESENTACION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8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4BB5-4519-4AF9-B962-4A28024DB440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Equivalencia de las representacione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82" name="4 Marcador de número de diapositiv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4DC4-6423-4253-A049-24C3DAA2E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9999"/>
                </a:solidFill>
                <a:latin typeface="Arial"/>
              </a:rPr>
              <a:t>Ejercici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9999"/>
                </a:solidFill>
                <a:latin typeface="Arial"/>
              </a:rPr>
              <a:t>Investigue como Matlab representa un sistema dinámico de tiempo discreto en los diferentes dominios. Ver LTI_formats.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Fuent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ewis Andrew,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A Mathematical Introduction to Feedback Control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. Queen’s University. Kingston, Canada. Abril, 2003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sakalis Kostas, System properties, A Collection of Class Notes. </a:t>
            </a:r>
            <a:r>
              <a:rPr b="0" lang="en-US" sz="20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www.eas.asu.edu/~tsakalis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. December, 2003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oberts Clive, Fundamentals of Signals and Systems. University of Birmingham. 2003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lver Peter J. and Shakiban Chehrzad,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Applied Mathematics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. School of Mathematics, University of Minnesota and Department of Mathematics, University of St. Thomas. 1999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6" name="3 Marcador de número de diapositiv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EC01-2D46-4B7C-B908-FC4DA72DF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Representacion de señales de tiempo discret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7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CFAF-C525-43E5-826C-68D1EF18E248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8" name="Text Box 1207"/>
          <p:cNvSpPr/>
          <p:nvPr/>
        </p:nvSpPr>
        <p:spPr>
          <a:xfrm>
            <a:off x="609480" y="18381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Representacion Funciona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9" name="Text Box 1261"/>
          <p:cNvSpPr/>
          <p:nvPr/>
        </p:nvSpPr>
        <p:spPr>
          <a:xfrm>
            <a:off x="1290600" y="40006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Representacion Grafic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60" name="Object 2"/>
          <p:cNvGraphicFramePr/>
          <p:nvPr/>
        </p:nvGraphicFramePr>
        <p:xfrm>
          <a:off x="190440" y="2379600"/>
          <a:ext cx="354348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2379600"/>
                    <a:ext cx="35434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2" name="Object 3"/>
          <p:cNvGraphicFramePr/>
          <p:nvPr/>
        </p:nvGraphicFramePr>
        <p:xfrm>
          <a:off x="4216320" y="2379600"/>
          <a:ext cx="4775400" cy="15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6320" y="2379600"/>
                    <a:ext cx="47754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4" name="Group 1266"/>
          <p:cNvGrpSpPr/>
          <p:nvPr/>
        </p:nvGrpSpPr>
        <p:grpSpPr>
          <a:xfrm>
            <a:off x="3857760" y="4000680"/>
            <a:ext cx="4626000" cy="2781000"/>
            <a:chOff x="3857760" y="4000680"/>
            <a:chExt cx="4626000" cy="2781000"/>
          </a:xfrm>
        </p:grpSpPr>
        <p:pic>
          <p:nvPicPr>
            <p:cNvPr id="1465" name="Picture 1262" descr=""/>
            <p:cNvPicPr/>
            <p:nvPr/>
          </p:nvPicPr>
          <p:blipFill>
            <a:blip r:embed="rId5"/>
            <a:stretch/>
          </p:blipFill>
          <p:spPr>
            <a:xfrm>
              <a:off x="3857760" y="4000680"/>
              <a:ext cx="4626000" cy="2781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66" name="Object 4"/>
            <p:cNvGraphicFramePr/>
            <p:nvPr/>
          </p:nvGraphicFramePr>
          <p:xfrm>
            <a:off x="4534920" y="4257000"/>
            <a:ext cx="525600" cy="320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67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34920" y="4257000"/>
                      <a:ext cx="525600" cy="32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8" name="Object 5"/>
            <p:cNvGraphicFramePr/>
            <p:nvPr/>
          </p:nvGraphicFramePr>
          <p:xfrm>
            <a:off x="7724160" y="6236640"/>
            <a:ext cx="174960" cy="189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69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724160" y="6236640"/>
                      <a:ext cx="174960" cy="18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Representacion de señales de tiempo discret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1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21F2-1CF7-4DFC-BEDE-6F41A8E3A045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72" name="Group 42"/>
          <p:cNvGrpSpPr/>
          <p:nvPr/>
        </p:nvGrpSpPr>
        <p:grpSpPr>
          <a:xfrm>
            <a:off x="609480" y="4419720"/>
            <a:ext cx="7010640" cy="1295280"/>
            <a:chOff x="609480" y="4419720"/>
            <a:chExt cx="7010640" cy="1295280"/>
          </a:xfrm>
        </p:grpSpPr>
        <p:sp>
          <p:nvSpPr>
            <p:cNvPr id="1473" name="Text Box 2"/>
            <p:cNvSpPr/>
            <p:nvPr/>
          </p:nvSpPr>
          <p:spPr>
            <a:xfrm>
              <a:off x="609480" y="4419720"/>
              <a:ext cx="624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Representacion en Secuencia</a:t>
              </a:r>
              <a:endParaRPr b="0" lang="en-US" sz="2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aphicFrame>
          <p:nvGraphicFramePr>
            <p:cNvPr id="1474" name="Object 6"/>
            <p:cNvGraphicFramePr/>
            <p:nvPr/>
          </p:nvGraphicFramePr>
          <p:xfrm>
            <a:off x="711360" y="5232240"/>
            <a:ext cx="6908760" cy="48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5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1360" y="5232240"/>
                      <a:ext cx="69087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76" name=""/>
          <p:cNvGraphicFramePr/>
          <p:nvPr/>
        </p:nvGraphicFramePr>
        <p:xfrm>
          <a:off x="685800" y="2927520"/>
          <a:ext cx="7769160" cy="103644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880"/>
                <a:gridCol w="1109520"/>
                <a:gridCol w="1109520"/>
                <a:gridCol w="1109880"/>
                <a:gridCol w="1109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1368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x(n)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.12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.01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.78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5.23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.12</a:t>
                      </a:r>
                      <a:endParaRPr b="0" lang="en-US" sz="28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1368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477" name="Text Box 41"/>
          <p:cNvSpPr/>
          <p:nvPr/>
        </p:nvSpPr>
        <p:spPr>
          <a:xfrm>
            <a:off x="596880" y="1995480"/>
            <a:ext cx="49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Representacion Tabular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Señales de tiempo discreto elementale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9E7F-FE18-4357-9D49-8E9CC180FCCF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0" name="Text Box 3"/>
          <p:cNvSpPr/>
          <p:nvPr/>
        </p:nvSpPr>
        <p:spPr>
          <a:xfrm>
            <a:off x="533520" y="1762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La señal impulso unitari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81" name="Object 2"/>
          <p:cNvGraphicFramePr/>
          <p:nvPr/>
        </p:nvGraphicFramePr>
        <p:xfrm>
          <a:off x="3048120" y="2643120"/>
          <a:ext cx="304776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643120"/>
                    <a:ext cx="30477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3" name="8 Grupo"/>
          <p:cNvGrpSpPr/>
          <p:nvPr/>
        </p:nvGrpSpPr>
        <p:grpSpPr>
          <a:xfrm>
            <a:off x="1422360" y="4260960"/>
            <a:ext cx="6324480" cy="2065320"/>
            <a:chOff x="1422360" y="4260960"/>
            <a:chExt cx="6324480" cy="2065320"/>
          </a:xfrm>
        </p:grpSpPr>
        <p:pic>
          <p:nvPicPr>
            <p:cNvPr id="1484" name="Picture 5" descr=""/>
            <p:cNvPicPr/>
            <p:nvPr/>
          </p:nvPicPr>
          <p:blipFill>
            <a:blip r:embed="rId3"/>
            <a:stretch/>
          </p:blipFill>
          <p:spPr>
            <a:xfrm>
              <a:off x="1422360" y="4260960"/>
              <a:ext cx="6324480" cy="2065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85" name="Object 3"/>
            <p:cNvGraphicFramePr/>
            <p:nvPr/>
          </p:nvGraphicFramePr>
          <p:xfrm>
            <a:off x="4800600" y="4484520"/>
            <a:ext cx="685800" cy="39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86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4484520"/>
                      <a:ext cx="6858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7" name="Object 4"/>
            <p:cNvGraphicFramePr/>
            <p:nvPr/>
          </p:nvGraphicFramePr>
          <p:xfrm>
            <a:off x="6794640" y="5793120"/>
            <a:ext cx="215640" cy="228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88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94640" y="5793120"/>
                      <a:ext cx="2156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Señales de tiempo discreto elementale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0393-6688-40A0-859F-3AE7815E1515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1" name="Text Box 2"/>
          <p:cNvSpPr/>
          <p:nvPr/>
        </p:nvSpPr>
        <p:spPr>
          <a:xfrm>
            <a:off x="495360" y="1619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Señal paso unitario (secuencia Heaviside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92" name="Object 2"/>
          <p:cNvGraphicFramePr/>
          <p:nvPr/>
        </p:nvGraphicFramePr>
        <p:xfrm>
          <a:off x="3022560" y="2286000"/>
          <a:ext cx="312408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2560" y="2286000"/>
                    <a:ext cx="31240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4" name="Picture 5" descr=""/>
          <p:cNvPicPr/>
          <p:nvPr/>
        </p:nvPicPr>
        <p:blipFill>
          <a:blip r:embed="rId3"/>
          <a:stretch/>
        </p:blipFill>
        <p:spPr>
          <a:xfrm>
            <a:off x="533520" y="3606840"/>
            <a:ext cx="8096040" cy="26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5" name="Object 3"/>
          <p:cNvGraphicFramePr/>
          <p:nvPr/>
        </p:nvGraphicFramePr>
        <p:xfrm>
          <a:off x="7480440" y="5664240"/>
          <a:ext cx="215640" cy="22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0440" y="5664240"/>
                    <a:ext cx="215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7" name="Object 4"/>
          <p:cNvGraphicFramePr/>
          <p:nvPr/>
        </p:nvGraphicFramePr>
        <p:xfrm>
          <a:off x="4756320" y="3835440"/>
          <a:ext cx="647640" cy="39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56320" y="3835440"/>
                    <a:ext cx="647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6699"/>
                </a:solidFill>
                <a:latin typeface="Arial Narrow"/>
              </a:rPr>
              <a:t>Señales de tiempo discreto complej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F19F-C3A5-44DF-9AA3-AD3CEBCA5AC5}" type="slidenum">
              <a:rPr b="0" lang="es-ES" sz="20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01" name="Object 2"/>
          <p:cNvGraphicFramePr/>
          <p:nvPr/>
        </p:nvGraphicFramePr>
        <p:xfrm>
          <a:off x="2712960" y="2571840"/>
          <a:ext cx="309564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2960" y="2571840"/>
                    <a:ext cx="309564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16:50:00Z</dcterms:created>
  <dc:creator>Pablo Turmero</dc:creator>
  <dc:description/>
  <dc:language>en-US</dc:language>
  <cp:lastModifiedBy>Pablo</cp:lastModifiedBy>
  <dcterms:modified xsi:type="dcterms:W3CDTF">2015-12-02T18:44:54Z</dcterms:modified>
  <cp:revision>242</cp:revision>
  <dc:subject/>
  <dc:title/>
</cp:coreProperties>
</file>