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200" y="1371600"/>
            <a:ext cx="78710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203680" y="6461280"/>
            <a:ext cx="929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31DB-A297-4AC4-A2A5-A0A510C677CB}" type="slidenum">
              <a:rPr b="0" lang="en-US" sz="1200" spc="-1" strike="noStrike">
                <a:solidFill>
                  <a:srgbClr val="081d5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35640" y="6597720"/>
            <a:ext cx="165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Webdings"/>
                <a:ea typeface="Webdings"/>
              </a:rPr>
              <a:t>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ww.dsic.upv.es/~u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4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6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agrama de Estados - UML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528920" y="2843280"/>
            <a:ext cx="2253960" cy="1019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2528640" y="307800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5776920" y="2843280"/>
            <a:ext cx="2254320" cy="1019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6868800" y="312408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3594240" y="4665600"/>
            <a:ext cx="2253960" cy="995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4613400" y="49989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2"/>
          <p:cNvSpPr/>
          <p:nvPr/>
        </p:nvSpPr>
        <p:spPr>
          <a:xfrm>
            <a:off x="3807000" y="3363840"/>
            <a:ext cx="196992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3"/>
          <p:cNvSpPr/>
          <p:nvPr/>
        </p:nvSpPr>
        <p:spPr>
          <a:xfrm flipH="1">
            <a:off x="5491080" y="3363840"/>
            <a:ext cx="285840" cy="95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"/>
          <p:cNvSpPr/>
          <p:nvPr/>
        </p:nvSpPr>
        <p:spPr>
          <a:xfrm flipH="1" flipV="1">
            <a:off x="5491080" y="3246480"/>
            <a:ext cx="285840" cy="117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5"/>
          <p:cNvSpPr/>
          <p:nvPr/>
        </p:nvSpPr>
        <p:spPr>
          <a:xfrm>
            <a:off x="3236760" y="3862440"/>
            <a:ext cx="901800" cy="803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6"/>
          <p:cNvSpPr/>
          <p:nvPr/>
        </p:nvSpPr>
        <p:spPr>
          <a:xfrm flipH="1" flipV="1">
            <a:off x="4021200" y="4404960"/>
            <a:ext cx="117360" cy="260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7"/>
          <p:cNvSpPr/>
          <p:nvPr/>
        </p:nvSpPr>
        <p:spPr>
          <a:xfrm flipH="1" flipV="1">
            <a:off x="3854160" y="4572000"/>
            <a:ext cx="2840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"/>
          <p:cNvSpPr/>
          <p:nvPr/>
        </p:nvSpPr>
        <p:spPr>
          <a:xfrm flipH="1">
            <a:off x="5325840" y="3862440"/>
            <a:ext cx="973080" cy="803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9"/>
          <p:cNvSpPr/>
          <p:nvPr/>
        </p:nvSpPr>
        <p:spPr>
          <a:xfrm flipV="1">
            <a:off x="5326200" y="4572000"/>
            <a:ext cx="2840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0"/>
          <p:cNvSpPr/>
          <p:nvPr/>
        </p:nvSpPr>
        <p:spPr>
          <a:xfrm flipV="1">
            <a:off x="5326200" y="4404960"/>
            <a:ext cx="141120" cy="260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4682880" y="28432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3804840" y="38386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941800" y="43592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edaría co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4162320" y="5684760"/>
            <a:ext cx="1733760" cy="7765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938840" y="59389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1671480" y="2652840"/>
            <a:ext cx="6715440" cy="1479600"/>
          </a:xfrm>
          <a:prstGeom prst="roundRect">
            <a:avLst>
              <a:gd name="adj" fmla="val 853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1943280" y="3013200"/>
            <a:ext cx="173196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2804400" y="31212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5823000" y="3013200"/>
            <a:ext cx="173340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6666480" y="31212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6"/>
          <p:cNvSpPr/>
          <p:nvPr/>
        </p:nvSpPr>
        <p:spPr>
          <a:xfrm>
            <a:off x="1943280" y="3013200"/>
            <a:ext cx="173196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7"/>
          <p:cNvSpPr/>
          <p:nvPr/>
        </p:nvSpPr>
        <p:spPr>
          <a:xfrm>
            <a:off x="2673000" y="3193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5823000" y="3013200"/>
            <a:ext cx="173340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616440" y="3247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3675240" y="3392640"/>
            <a:ext cx="214776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1"/>
          <p:cNvSpPr/>
          <p:nvPr/>
        </p:nvSpPr>
        <p:spPr>
          <a:xfrm flipH="1">
            <a:off x="5624280" y="3392640"/>
            <a:ext cx="198360" cy="90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22"/>
          <p:cNvSpPr/>
          <p:nvPr/>
        </p:nvSpPr>
        <p:spPr>
          <a:xfrm flipH="1" flipV="1">
            <a:off x="5624280" y="3301920"/>
            <a:ext cx="198360" cy="90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4678200" y="2995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029200" y="4132440"/>
            <a:ext cx="0" cy="1552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5"/>
          <p:cNvSpPr/>
          <p:nvPr/>
        </p:nvSpPr>
        <p:spPr>
          <a:xfrm flipV="1">
            <a:off x="5029200" y="54687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6"/>
          <p:cNvSpPr/>
          <p:nvPr/>
        </p:nvSpPr>
        <p:spPr>
          <a:xfrm flipH="1" flipV="1">
            <a:off x="4938480" y="54687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5200200" y="4764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transiciones de entrada deben ir hacia subestados específ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1663560" y="5472000"/>
            <a:ext cx="1824120" cy="814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2498760" y="56959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1360440" y="2873520"/>
            <a:ext cx="7085160" cy="1554120"/>
          </a:xfrm>
          <a:prstGeom prst="roundRect">
            <a:avLst>
              <a:gd name="adj" fmla="val 853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1663560" y="3233880"/>
            <a:ext cx="18241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2554920" y="3365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5748480" y="3233880"/>
            <a:ext cx="18223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6639480" y="3365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6"/>
          <p:cNvSpPr/>
          <p:nvPr/>
        </p:nvSpPr>
        <p:spPr>
          <a:xfrm>
            <a:off x="1663560" y="3233880"/>
            <a:ext cx="18241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2509560" y="3436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8"/>
          <p:cNvSpPr/>
          <p:nvPr/>
        </p:nvSpPr>
        <p:spPr>
          <a:xfrm>
            <a:off x="5748480" y="3233880"/>
            <a:ext cx="18223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9"/>
          <p:cNvSpPr/>
          <p:nvPr/>
        </p:nvSpPr>
        <p:spPr>
          <a:xfrm>
            <a:off x="6583320" y="34560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3487680" y="3479760"/>
            <a:ext cx="22608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1"/>
          <p:cNvSpPr/>
          <p:nvPr/>
        </p:nvSpPr>
        <p:spPr>
          <a:xfrm flipH="1">
            <a:off x="5519520" y="3479760"/>
            <a:ext cx="2286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2"/>
          <p:cNvSpPr/>
          <p:nvPr/>
        </p:nvSpPr>
        <p:spPr>
          <a:xfrm flipH="1" flipV="1">
            <a:off x="5519520" y="3384720"/>
            <a:ext cx="22860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4530240" y="3062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4"/>
          <p:cNvSpPr/>
          <p:nvPr/>
        </p:nvSpPr>
        <p:spPr>
          <a:xfrm flipH="1">
            <a:off x="3487680" y="3840120"/>
            <a:ext cx="22608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3487680" y="3840120"/>
            <a:ext cx="2080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6"/>
          <p:cNvSpPr/>
          <p:nvPr/>
        </p:nvSpPr>
        <p:spPr>
          <a:xfrm flipV="1">
            <a:off x="3487680" y="3745080"/>
            <a:ext cx="20808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4530240" y="39546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8"/>
          <p:cNvSpPr/>
          <p:nvPr/>
        </p:nvSpPr>
        <p:spPr>
          <a:xfrm flipV="1">
            <a:off x="2575080" y="4047840"/>
            <a:ext cx="1440" cy="1423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2575080" y="4048200"/>
            <a:ext cx="950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0"/>
          <p:cNvSpPr/>
          <p:nvPr/>
        </p:nvSpPr>
        <p:spPr>
          <a:xfrm flipH="1">
            <a:off x="2480760" y="4048200"/>
            <a:ext cx="93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231640" y="4618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preferible tener estados iniciales de entrada a un nivel de manera que desde los niveles superiores no se sepa a qué subestado se ent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10"/>
          <p:cNvSpPr/>
          <p:nvPr/>
        </p:nvSpPr>
        <p:spPr>
          <a:xfrm>
            <a:off x="7232760" y="4464000"/>
            <a:ext cx="1641240" cy="716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8056080" y="4680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357120" y="3814920"/>
            <a:ext cx="6481800" cy="2184120"/>
          </a:xfrm>
          <a:prstGeom prst="roundRect">
            <a:avLst>
              <a:gd name="adj" fmla="val 546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3"/>
          <p:cNvSpPr/>
          <p:nvPr/>
        </p:nvSpPr>
        <p:spPr>
          <a:xfrm>
            <a:off x="579600" y="4105440"/>
            <a:ext cx="164124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1403640" y="4224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5"/>
          <p:cNvSpPr/>
          <p:nvPr/>
        </p:nvSpPr>
        <p:spPr>
          <a:xfrm>
            <a:off x="4255920" y="4105440"/>
            <a:ext cx="164160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5080320" y="4224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7"/>
          <p:cNvSpPr/>
          <p:nvPr/>
        </p:nvSpPr>
        <p:spPr>
          <a:xfrm>
            <a:off x="1246320" y="5435640"/>
            <a:ext cx="32544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79600" y="4105440"/>
            <a:ext cx="164124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1280520" y="4309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20"/>
          <p:cNvSpPr/>
          <p:nvPr/>
        </p:nvSpPr>
        <p:spPr>
          <a:xfrm>
            <a:off x="4255920" y="4105440"/>
            <a:ext cx="164160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1"/>
          <p:cNvSpPr/>
          <p:nvPr/>
        </p:nvSpPr>
        <p:spPr>
          <a:xfrm>
            <a:off x="5068080" y="4273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2"/>
          <p:cNvSpPr/>
          <p:nvPr/>
        </p:nvSpPr>
        <p:spPr>
          <a:xfrm>
            <a:off x="2220840" y="4309920"/>
            <a:ext cx="20350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3"/>
          <p:cNvSpPr/>
          <p:nvPr/>
        </p:nvSpPr>
        <p:spPr>
          <a:xfrm flipH="1">
            <a:off x="4068720" y="4309920"/>
            <a:ext cx="187200" cy="86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4"/>
          <p:cNvSpPr/>
          <p:nvPr/>
        </p:nvSpPr>
        <p:spPr>
          <a:xfrm flipH="1" flipV="1">
            <a:off x="4068720" y="4241520"/>
            <a:ext cx="187200" cy="68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3184560" y="3951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6"/>
          <p:cNvSpPr/>
          <p:nvPr/>
        </p:nvSpPr>
        <p:spPr>
          <a:xfrm flipH="1">
            <a:off x="2220480" y="4633920"/>
            <a:ext cx="20350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7"/>
          <p:cNvSpPr/>
          <p:nvPr/>
        </p:nvSpPr>
        <p:spPr>
          <a:xfrm>
            <a:off x="2220840" y="4633920"/>
            <a:ext cx="20628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8"/>
          <p:cNvSpPr/>
          <p:nvPr/>
        </p:nvSpPr>
        <p:spPr>
          <a:xfrm flipV="1">
            <a:off x="2220840" y="4548240"/>
            <a:ext cx="20628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9"/>
          <p:cNvSpPr/>
          <p:nvPr/>
        </p:nvSpPr>
        <p:spPr>
          <a:xfrm>
            <a:off x="3184560" y="475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0"/>
          <p:cNvSpPr/>
          <p:nvPr/>
        </p:nvSpPr>
        <p:spPr>
          <a:xfrm>
            <a:off x="1246320" y="5435640"/>
            <a:ext cx="32544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31"/>
          <p:cNvSpPr/>
          <p:nvPr/>
        </p:nvSpPr>
        <p:spPr>
          <a:xfrm flipV="1">
            <a:off x="1400040" y="4838760"/>
            <a:ext cx="1800" cy="59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2"/>
          <p:cNvSpPr/>
          <p:nvPr/>
        </p:nvSpPr>
        <p:spPr>
          <a:xfrm>
            <a:off x="1400040" y="4838760"/>
            <a:ext cx="86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3"/>
          <p:cNvSpPr/>
          <p:nvPr/>
        </p:nvSpPr>
        <p:spPr>
          <a:xfrm flipH="1">
            <a:off x="1331640" y="4838760"/>
            <a:ext cx="68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2220840" y="4309920"/>
            <a:ext cx="20350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35"/>
          <p:cNvSpPr/>
          <p:nvPr/>
        </p:nvSpPr>
        <p:spPr>
          <a:xfrm flipH="1">
            <a:off x="4068720" y="4309920"/>
            <a:ext cx="187200" cy="86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36"/>
          <p:cNvSpPr/>
          <p:nvPr/>
        </p:nvSpPr>
        <p:spPr>
          <a:xfrm flipH="1" flipV="1">
            <a:off x="4068720" y="4241520"/>
            <a:ext cx="187200" cy="68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7"/>
          <p:cNvSpPr/>
          <p:nvPr/>
        </p:nvSpPr>
        <p:spPr>
          <a:xfrm>
            <a:off x="3184560" y="3951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38"/>
          <p:cNvSpPr/>
          <p:nvPr/>
        </p:nvSpPr>
        <p:spPr>
          <a:xfrm flipV="1">
            <a:off x="1400040" y="4838760"/>
            <a:ext cx="1800" cy="59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9"/>
          <p:cNvSpPr/>
          <p:nvPr/>
        </p:nvSpPr>
        <p:spPr>
          <a:xfrm>
            <a:off x="1400040" y="4838760"/>
            <a:ext cx="86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0"/>
          <p:cNvSpPr/>
          <p:nvPr/>
        </p:nvSpPr>
        <p:spPr>
          <a:xfrm flipH="1">
            <a:off x="1331640" y="4838760"/>
            <a:ext cx="68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41"/>
          <p:cNvSpPr/>
          <p:nvPr/>
        </p:nvSpPr>
        <p:spPr>
          <a:xfrm flipH="1">
            <a:off x="6838920" y="4838760"/>
            <a:ext cx="3938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42"/>
          <p:cNvSpPr/>
          <p:nvPr/>
        </p:nvSpPr>
        <p:spPr>
          <a:xfrm>
            <a:off x="6838920" y="48387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3"/>
          <p:cNvSpPr/>
          <p:nvPr/>
        </p:nvSpPr>
        <p:spPr>
          <a:xfrm flipV="1">
            <a:off x="6838920" y="475308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44"/>
          <p:cNvSpPr/>
          <p:nvPr/>
        </p:nvSpPr>
        <p:spPr>
          <a:xfrm>
            <a:off x="6981840" y="4957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gregación de estados es la composición de un estado a partir de varios estados independ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composición es concurrente por lo que el objeto estará en alguno de los estados de cada uno de los subestados concur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953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635040" y="240984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953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611" name="Picture 6" descr=""/>
          <p:cNvPicPr/>
          <p:nvPr/>
        </p:nvPicPr>
        <p:blipFill>
          <a:blip r:embed="rId1"/>
          <a:stretch/>
        </p:blipFill>
        <p:spPr>
          <a:xfrm>
            <a:off x="1852560" y="2127240"/>
            <a:ext cx="6300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defecto, los autómatas no tienen mem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posible memorizar el último subestado visitado para recuperarlo en una transición entrante en el superestado que lo englo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ambién es posible la memorización para cualquiera de los subestados anidados (aparece un * junto a la H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4444920" y="2125800"/>
            <a:ext cx="3248280" cy="4498920"/>
          </a:xfrm>
          <a:custGeom>
            <a:avLst/>
            <a:gdLst>
              <a:gd name="textAreaLeft" fmla="*/ 36720 w 3248280"/>
              <a:gd name="textAreaRight" fmla="*/ 3211560 w 3248280"/>
              <a:gd name="textAreaTop" fmla="*/ 36720 h 4498920"/>
              <a:gd name="textAreaBottom" fmla="*/ 4462200 h 4498920"/>
            </a:gdLst>
            <a:ahLst/>
            <a:rect l="textAreaLeft" t="textAreaTop" r="textAreaRight" b="textAreaBottom"/>
            <a:pathLst>
              <a:path w="21600" h="29915">
                <a:moveTo>
                  <a:pt x="840" y="0"/>
                </a:moveTo>
                <a:arcTo wR="840" hR="840" stAng="16200000" swAng="-5400000"/>
                <a:lnTo>
                  <a:pt x="0" y="29075"/>
                </a:lnTo>
                <a:arcTo wR="840" hR="840" stAng="10800000" swAng="-5400000"/>
                <a:lnTo>
                  <a:pt x="20760" y="29915"/>
                </a:lnTo>
                <a:arcTo wR="840" hR="840" stAng="5400000" swAng="-5400000"/>
                <a:lnTo>
                  <a:pt x="21600" y="840"/>
                </a:lnTo>
                <a:arcTo wR="840" hR="840" stAng="0" swAng="-5400000"/>
                <a:close/>
              </a:path>
            </a:pathLst>
          </a:cu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6055920" y="2251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10"/>
          <p:cNvSpPr/>
          <p:nvPr/>
        </p:nvSpPr>
        <p:spPr>
          <a:xfrm>
            <a:off x="5292720" y="316872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6085800" y="3276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2"/>
          <p:cNvSpPr/>
          <p:nvPr/>
        </p:nvSpPr>
        <p:spPr>
          <a:xfrm>
            <a:off x="5292720" y="482436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085800" y="4932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4"/>
          <p:cNvSpPr/>
          <p:nvPr/>
        </p:nvSpPr>
        <p:spPr>
          <a:xfrm>
            <a:off x="5167440" y="5850000"/>
            <a:ext cx="342720" cy="36036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5"/>
          <p:cNvSpPr/>
          <p:nvPr/>
        </p:nvSpPr>
        <p:spPr>
          <a:xfrm>
            <a:off x="4606920" y="6138720"/>
            <a:ext cx="343080" cy="34128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4722480" y="6192720"/>
            <a:ext cx="19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5292720" y="316872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6135480" y="3343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9"/>
          <p:cNvSpPr/>
          <p:nvPr/>
        </p:nvSpPr>
        <p:spPr>
          <a:xfrm>
            <a:off x="5292720" y="482436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6122880" y="5003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1"/>
          <p:cNvSpPr/>
          <p:nvPr/>
        </p:nvSpPr>
        <p:spPr>
          <a:xfrm>
            <a:off x="5167440" y="5850000"/>
            <a:ext cx="342720" cy="36036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2"/>
          <p:cNvSpPr/>
          <p:nvPr/>
        </p:nvSpPr>
        <p:spPr>
          <a:xfrm flipV="1">
            <a:off x="5510160" y="5580000"/>
            <a:ext cx="270000" cy="27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3"/>
          <p:cNvSpPr/>
          <p:nvPr/>
        </p:nvSpPr>
        <p:spPr>
          <a:xfrm flipH="1">
            <a:off x="5689440" y="5580000"/>
            <a:ext cx="9072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4"/>
          <p:cNvSpPr/>
          <p:nvPr/>
        </p:nvSpPr>
        <p:spPr>
          <a:xfrm flipH="1">
            <a:off x="5564160" y="5580000"/>
            <a:ext cx="216000" cy="90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5"/>
          <p:cNvSpPr/>
          <p:nvPr/>
        </p:nvSpPr>
        <p:spPr>
          <a:xfrm flipV="1">
            <a:off x="5997600" y="3924360"/>
            <a:ext cx="1440" cy="90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6"/>
          <p:cNvSpPr/>
          <p:nvPr/>
        </p:nvSpPr>
        <p:spPr>
          <a:xfrm>
            <a:off x="5997600" y="3924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 flipH="1">
            <a:off x="5906880" y="3924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5731920" y="4230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340320" y="3924360"/>
            <a:ext cx="1800" cy="90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 flipV="1">
            <a:off x="6340320" y="4608360"/>
            <a:ext cx="9072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 flipH="1" flipV="1">
            <a:off x="6249600" y="4608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6598800" y="4230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3"/>
          <p:cNvSpPr/>
          <p:nvPr/>
        </p:nvSpPr>
        <p:spPr>
          <a:xfrm>
            <a:off x="1592280" y="399744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4"/>
          <p:cNvSpPr/>
          <p:nvPr/>
        </p:nvSpPr>
        <p:spPr>
          <a:xfrm>
            <a:off x="2357280" y="41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35"/>
          <p:cNvSpPr/>
          <p:nvPr/>
        </p:nvSpPr>
        <p:spPr>
          <a:xfrm flipV="1">
            <a:off x="3343320" y="4214880"/>
            <a:ext cx="1101600" cy="15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6"/>
          <p:cNvSpPr/>
          <p:nvPr/>
        </p:nvSpPr>
        <p:spPr>
          <a:xfrm flipH="1">
            <a:off x="4246200" y="4213080"/>
            <a:ext cx="198360" cy="88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7"/>
          <p:cNvSpPr/>
          <p:nvPr/>
        </p:nvSpPr>
        <p:spPr>
          <a:xfrm flipH="1" flipV="1">
            <a:off x="4246200" y="4122360"/>
            <a:ext cx="198360" cy="90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8"/>
          <p:cNvSpPr/>
          <p:nvPr/>
        </p:nvSpPr>
        <p:spPr>
          <a:xfrm flipH="1">
            <a:off x="3343320" y="4554360"/>
            <a:ext cx="11016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39"/>
          <p:cNvSpPr/>
          <p:nvPr/>
        </p:nvSpPr>
        <p:spPr>
          <a:xfrm>
            <a:off x="3343320" y="4554360"/>
            <a:ext cx="198360" cy="7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0"/>
          <p:cNvSpPr/>
          <p:nvPr/>
        </p:nvSpPr>
        <p:spPr>
          <a:xfrm flipV="1">
            <a:off x="3343320" y="4465800"/>
            <a:ext cx="198360" cy="8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1"/>
          <p:cNvSpPr/>
          <p:nvPr/>
        </p:nvSpPr>
        <p:spPr>
          <a:xfrm>
            <a:off x="3797640" y="4662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2"/>
          <p:cNvSpPr/>
          <p:nvPr/>
        </p:nvSpPr>
        <p:spPr>
          <a:xfrm>
            <a:off x="3851280" y="3816360"/>
            <a:ext cx="17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3"/>
          <p:cNvSpPr/>
          <p:nvPr/>
        </p:nvSpPr>
        <p:spPr>
          <a:xfrm>
            <a:off x="4606920" y="6138720"/>
            <a:ext cx="343080" cy="34128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AutoShape 49"/>
          <p:cNvSpPr/>
          <p:nvPr/>
        </p:nvSpPr>
        <p:spPr>
          <a:xfrm>
            <a:off x="1616040" y="2589120"/>
            <a:ext cx="6413400" cy="1949400"/>
          </a:xfrm>
          <a:prstGeom prst="roundRect">
            <a:avLst>
              <a:gd name="adj" fmla="val 6139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0"/>
          <p:cNvSpPr/>
          <p:nvPr/>
        </p:nvSpPr>
        <p:spPr>
          <a:xfrm>
            <a:off x="182088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51"/>
          <p:cNvSpPr/>
          <p:nvPr/>
        </p:nvSpPr>
        <p:spPr>
          <a:xfrm>
            <a:off x="2211120" y="2862360"/>
            <a:ext cx="9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52"/>
          <p:cNvSpPr/>
          <p:nvPr/>
        </p:nvSpPr>
        <p:spPr>
          <a:xfrm>
            <a:off x="401004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53"/>
          <p:cNvSpPr/>
          <p:nvPr/>
        </p:nvSpPr>
        <p:spPr>
          <a:xfrm>
            <a:off x="4509360" y="28623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54"/>
          <p:cNvSpPr/>
          <p:nvPr/>
        </p:nvSpPr>
        <p:spPr>
          <a:xfrm>
            <a:off x="6199200" y="2793960"/>
            <a:ext cx="1641600" cy="717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5"/>
          <p:cNvSpPr/>
          <p:nvPr/>
        </p:nvSpPr>
        <p:spPr>
          <a:xfrm>
            <a:off x="6684120" y="2895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56"/>
          <p:cNvSpPr/>
          <p:nvPr/>
        </p:nvSpPr>
        <p:spPr>
          <a:xfrm>
            <a:off x="1770120" y="4008600"/>
            <a:ext cx="325440" cy="32364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7"/>
          <p:cNvSpPr/>
          <p:nvPr/>
        </p:nvSpPr>
        <p:spPr>
          <a:xfrm>
            <a:off x="1900800" y="405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58"/>
          <p:cNvSpPr/>
          <p:nvPr/>
        </p:nvSpPr>
        <p:spPr>
          <a:xfrm>
            <a:off x="3343320" y="4008600"/>
            <a:ext cx="34128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59"/>
          <p:cNvSpPr/>
          <p:nvPr/>
        </p:nvSpPr>
        <p:spPr>
          <a:xfrm>
            <a:off x="182088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0"/>
          <p:cNvSpPr/>
          <p:nvPr/>
        </p:nvSpPr>
        <p:spPr>
          <a:xfrm>
            <a:off x="2211120" y="2862360"/>
            <a:ext cx="9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61"/>
          <p:cNvSpPr/>
          <p:nvPr/>
        </p:nvSpPr>
        <p:spPr>
          <a:xfrm>
            <a:off x="401004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2"/>
          <p:cNvSpPr/>
          <p:nvPr/>
        </p:nvSpPr>
        <p:spPr>
          <a:xfrm>
            <a:off x="4509360" y="28623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63"/>
          <p:cNvSpPr/>
          <p:nvPr/>
        </p:nvSpPr>
        <p:spPr>
          <a:xfrm>
            <a:off x="6199200" y="2793960"/>
            <a:ext cx="1641600" cy="717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4"/>
          <p:cNvSpPr/>
          <p:nvPr/>
        </p:nvSpPr>
        <p:spPr>
          <a:xfrm>
            <a:off x="6684120" y="2895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5"/>
          <p:cNvSpPr/>
          <p:nvPr/>
        </p:nvSpPr>
        <p:spPr>
          <a:xfrm>
            <a:off x="3462480" y="3117960"/>
            <a:ext cx="54756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66"/>
          <p:cNvSpPr/>
          <p:nvPr/>
        </p:nvSpPr>
        <p:spPr>
          <a:xfrm flipH="1">
            <a:off x="3804840" y="31179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67"/>
          <p:cNvSpPr/>
          <p:nvPr/>
        </p:nvSpPr>
        <p:spPr>
          <a:xfrm flipH="1" flipV="1">
            <a:off x="3804840" y="3033720"/>
            <a:ext cx="204840" cy="84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68"/>
          <p:cNvSpPr/>
          <p:nvPr/>
        </p:nvSpPr>
        <p:spPr>
          <a:xfrm>
            <a:off x="5651640" y="3135240"/>
            <a:ext cx="54756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69"/>
          <p:cNvSpPr/>
          <p:nvPr/>
        </p:nvSpPr>
        <p:spPr>
          <a:xfrm flipH="1" flipV="1">
            <a:off x="5994000" y="30495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70"/>
          <p:cNvSpPr/>
          <p:nvPr/>
        </p:nvSpPr>
        <p:spPr>
          <a:xfrm flipH="1">
            <a:off x="5994000" y="313524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71"/>
          <p:cNvSpPr/>
          <p:nvPr/>
        </p:nvSpPr>
        <p:spPr>
          <a:xfrm>
            <a:off x="1770120" y="4008600"/>
            <a:ext cx="325440" cy="32364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2"/>
          <p:cNvSpPr/>
          <p:nvPr/>
        </p:nvSpPr>
        <p:spPr>
          <a:xfrm>
            <a:off x="1900800" y="405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73"/>
          <p:cNvSpPr/>
          <p:nvPr/>
        </p:nvSpPr>
        <p:spPr>
          <a:xfrm>
            <a:off x="3343320" y="4008600"/>
            <a:ext cx="34128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74"/>
          <p:cNvSpPr/>
          <p:nvPr/>
        </p:nvSpPr>
        <p:spPr>
          <a:xfrm flipH="1" flipV="1">
            <a:off x="2932200" y="3495240"/>
            <a:ext cx="444240" cy="513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75"/>
          <p:cNvSpPr/>
          <p:nvPr/>
        </p:nvSpPr>
        <p:spPr>
          <a:xfrm>
            <a:off x="2932200" y="3495600"/>
            <a:ext cx="189000" cy="84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76"/>
          <p:cNvSpPr/>
          <p:nvPr/>
        </p:nvSpPr>
        <p:spPr>
          <a:xfrm>
            <a:off x="2932200" y="3495600"/>
            <a:ext cx="68040" cy="204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7"/>
          <p:cNvSpPr/>
          <p:nvPr/>
        </p:nvSpPr>
        <p:spPr>
          <a:xfrm>
            <a:off x="2608200" y="5632560"/>
            <a:ext cx="1641600" cy="7347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8"/>
          <p:cNvSpPr/>
          <p:nvPr/>
        </p:nvSpPr>
        <p:spPr>
          <a:xfrm>
            <a:off x="3110040" y="575316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9"/>
          <p:cNvSpPr/>
          <p:nvPr/>
        </p:nvSpPr>
        <p:spPr>
          <a:xfrm flipH="1" flipV="1">
            <a:off x="2077920" y="4332240"/>
            <a:ext cx="1043280" cy="1300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80"/>
          <p:cNvSpPr/>
          <p:nvPr/>
        </p:nvSpPr>
        <p:spPr>
          <a:xfrm>
            <a:off x="2077920" y="4332240"/>
            <a:ext cx="187560" cy="103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81"/>
          <p:cNvSpPr/>
          <p:nvPr/>
        </p:nvSpPr>
        <p:spPr>
          <a:xfrm>
            <a:off x="2077920" y="4332240"/>
            <a:ext cx="50760" cy="206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2"/>
          <p:cNvSpPr/>
          <p:nvPr/>
        </p:nvSpPr>
        <p:spPr>
          <a:xfrm flipH="1">
            <a:off x="3633480" y="4538520"/>
            <a:ext cx="633240" cy="1094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83"/>
          <p:cNvSpPr/>
          <p:nvPr/>
        </p:nvSpPr>
        <p:spPr>
          <a:xfrm flipV="1">
            <a:off x="3633840" y="5513040"/>
            <a:ext cx="171360" cy="119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84"/>
          <p:cNvSpPr/>
          <p:nvPr/>
        </p:nvSpPr>
        <p:spPr>
          <a:xfrm flipV="1">
            <a:off x="3633840" y="5427360"/>
            <a:ext cx="34920" cy="204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5"/>
          <p:cNvSpPr/>
          <p:nvPr/>
        </p:nvSpPr>
        <p:spPr>
          <a:xfrm>
            <a:off x="3763080" y="487980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6"/>
          <p:cNvSpPr/>
          <p:nvPr/>
        </p:nvSpPr>
        <p:spPr>
          <a:xfrm>
            <a:off x="1894320" y="4862520"/>
            <a:ext cx="130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2" name="Text Box 46"/>
          <p:cNvSpPr/>
          <p:nvPr/>
        </p:nvSpPr>
        <p:spPr>
          <a:xfrm>
            <a:off x="3584520" y="4862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Estados representan autómatas de estados finitos, desde el p.d.v. de los estados y las trans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úti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sólo para los objetos con un comportamiento signif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formalismo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do provien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los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tatechart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Har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estrucción del Objeto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estrucción de un objeto es efectiva cuando el flujo de control del autómata alcanza un estado final no anid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llegada a un estado final anidado implica la “subida” al superestado asociado, no el fin del ob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estrucción de Objeto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581040" y="2776680"/>
            <a:ext cx="105519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Transiciones temporizada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esperas son actividades que tienen asociada cierta du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ctividad de espera se interrumpe cuando el evento esperado tiene l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e evento desencadena una transición que permite salir del estado que alberga la actividad de espera. El flujo de control se transmite entonces a otro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Transiciones temporizada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02" name="AutoShape 9"/>
          <p:cNvSpPr/>
          <p:nvPr/>
        </p:nvSpPr>
        <p:spPr>
          <a:xfrm>
            <a:off x="3754440" y="1803240"/>
            <a:ext cx="1460520" cy="679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4422240" y="20430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3268800" y="3402000"/>
            <a:ext cx="2415960" cy="1374840"/>
          </a:xfrm>
          <a:prstGeom prst="roundRect">
            <a:avLst>
              <a:gd name="adj" fmla="val 8046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3891240" y="3495600"/>
            <a:ext cx="145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sperar  dine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3"/>
          <p:cNvSpPr/>
          <p:nvPr/>
        </p:nvSpPr>
        <p:spPr>
          <a:xfrm>
            <a:off x="3328920" y="3797280"/>
            <a:ext cx="2311560" cy="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330000" y="3827520"/>
            <a:ext cx="220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ntry: Mostrar mensaj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3330000" y="4092480"/>
            <a:ext cx="170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it: cerrar ranu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7"/>
          <p:cNvSpPr/>
          <p:nvPr/>
        </p:nvSpPr>
        <p:spPr>
          <a:xfrm>
            <a:off x="3754440" y="5773680"/>
            <a:ext cx="1460520" cy="679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4408200" y="59961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19"/>
          <p:cNvSpPr/>
          <p:nvPr/>
        </p:nvSpPr>
        <p:spPr>
          <a:xfrm>
            <a:off x="7077240" y="3616200"/>
            <a:ext cx="1671480" cy="870120"/>
          </a:xfrm>
          <a:prstGeom prst="roundRect">
            <a:avLst>
              <a:gd name="adj" fmla="val 1272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7372080" y="3770280"/>
            <a:ext cx="1107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ul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trans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1"/>
          <p:cNvSpPr/>
          <p:nvPr/>
        </p:nvSpPr>
        <p:spPr>
          <a:xfrm>
            <a:off x="4483080" y="2482920"/>
            <a:ext cx="1440" cy="919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2"/>
          <p:cNvSpPr/>
          <p:nvPr/>
        </p:nvSpPr>
        <p:spPr>
          <a:xfrm flipV="1">
            <a:off x="4483080" y="3211200"/>
            <a:ext cx="619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3"/>
          <p:cNvSpPr/>
          <p:nvPr/>
        </p:nvSpPr>
        <p:spPr>
          <a:xfrm flipH="1" flipV="1">
            <a:off x="4408200" y="3211200"/>
            <a:ext cx="745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4"/>
          <p:cNvSpPr/>
          <p:nvPr/>
        </p:nvSpPr>
        <p:spPr>
          <a:xfrm>
            <a:off x="4483080" y="4776840"/>
            <a:ext cx="1440" cy="996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5"/>
          <p:cNvSpPr/>
          <p:nvPr/>
        </p:nvSpPr>
        <p:spPr>
          <a:xfrm flipV="1">
            <a:off x="4483080" y="5582880"/>
            <a:ext cx="619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6"/>
          <p:cNvSpPr/>
          <p:nvPr/>
        </p:nvSpPr>
        <p:spPr>
          <a:xfrm flipH="1" flipV="1">
            <a:off x="4408200" y="5582880"/>
            <a:ext cx="745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7"/>
          <p:cNvSpPr/>
          <p:nvPr/>
        </p:nvSpPr>
        <p:spPr>
          <a:xfrm flipV="1">
            <a:off x="5540400" y="4083120"/>
            <a:ext cx="1504800" cy="9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8"/>
          <p:cNvSpPr/>
          <p:nvPr/>
        </p:nvSpPr>
        <p:spPr>
          <a:xfrm flipH="1">
            <a:off x="6924240" y="4092480"/>
            <a:ext cx="166680" cy="79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9"/>
          <p:cNvSpPr/>
          <p:nvPr/>
        </p:nvSpPr>
        <p:spPr>
          <a:xfrm flipH="1" flipV="1">
            <a:off x="6924240" y="4029120"/>
            <a:ext cx="166680" cy="63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3147120" y="2816280"/>
            <a:ext cx="132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/ Abrir ranu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"/>
          <p:cNvSpPr/>
          <p:nvPr/>
        </p:nvSpPr>
        <p:spPr>
          <a:xfrm>
            <a:off x="4577760" y="5103720"/>
            <a:ext cx="186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pósito efectua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55"/>
          <p:cNvSpPr/>
          <p:nvPr/>
        </p:nvSpPr>
        <p:spPr>
          <a:xfrm>
            <a:off x="5771160" y="3417840"/>
            <a:ext cx="1239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pués 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30 segun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Actividad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000" y="1725480"/>
            <a:ext cx="8232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Diagrama de Actividad es una especialización del Diagrama de Estado, organizado respecto de las acciones y usado para especific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mét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caso de 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proceso de negocio (Workflo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-4183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actividades se enlazan por transiciones automáticas. Cuando una actividad termina se desencadena el paso a la siguiente activ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28" name="Picture 47" descr=""/>
          <p:cNvPicPr/>
          <p:nvPr/>
        </p:nvPicPr>
        <p:blipFill>
          <a:blip r:embed="rId1"/>
          <a:stretch/>
        </p:blipFill>
        <p:spPr>
          <a:xfrm>
            <a:off x="2703600" y="304920"/>
            <a:ext cx="5661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872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Ejemplos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2706840" y="415800"/>
            <a:ext cx="6197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872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Ejemplos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2" name="Picture 5" descr=""/>
          <p:cNvPicPr/>
          <p:nvPr/>
        </p:nvPicPr>
        <p:blipFill>
          <a:blip r:embed="rId1"/>
          <a:stretch/>
        </p:blipFill>
        <p:spPr>
          <a:xfrm>
            <a:off x="506520" y="2465280"/>
            <a:ext cx="7772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componentes describen los elementos físic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el sistema y sus rel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estran las opciones de realización incluyendo código fuente, binario y ej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componentes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presentan todos los tipos de elementos software que entran en la fabricación de aplicaciones informática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 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eden ser simples archivos, paquetes de Ada, bibliotecas cargadas dinámicam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relaciones de dependencia se utilizan en los diagramas de componentes para indicar que un componente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os servicios ofrecidos por otro compon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95000" y="1725480"/>
            <a:ext cx="804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objeto está en un estado en cierto insta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estado está caracterizado parcialmente por los valores algunos de los atributos del objet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estado en el que se encuentra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 objeto determina su comportami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objeto sigue el comportamiento descrito en el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asociado a su cl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D. De Estado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y escenarios son complement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42800" y="153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s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1"/>
          <a:stretch/>
        </p:blipFill>
        <p:spPr>
          <a:xfrm>
            <a:off x="1320840" y="2189160"/>
            <a:ext cx="68324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liegu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muestran la disposición física de los distintos nodos que componen un sistema y el reparto de los componentes sobre dichos n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1"/>
          <a:stretch/>
        </p:blipFill>
        <p:spPr>
          <a:xfrm>
            <a:off x="3403440" y="4194000"/>
            <a:ext cx="2332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estereotipos permiten precisar la naturaleza del equ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posi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6044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nodos se interconectan mediante soportes bidireccionales que pueden a su vez estereoti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442800" y="153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conexión entre no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1293840" y="2641680"/>
            <a:ext cx="1901880" cy="16286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reeform 13"/>
          <p:cNvSpPr/>
          <p:nvPr/>
        </p:nvSpPr>
        <p:spPr>
          <a:xfrm>
            <a:off x="1293840" y="2452680"/>
            <a:ext cx="2281320" cy="189000"/>
          </a:xfrm>
          <a:custGeom>
            <a:avLst/>
            <a:gdLst/>
            <a:ahLst/>
            <a:rect l="l" t="t" r="r" b="b"/>
            <a:pathLst>
              <a:path w="1437" h="119">
                <a:moveTo>
                  <a:pt x="0" y="119"/>
                </a:moveTo>
                <a:lnTo>
                  <a:pt x="348" y="0"/>
                </a:lnTo>
                <a:lnTo>
                  <a:pt x="1437" y="0"/>
                </a:lnTo>
                <a:lnTo>
                  <a:pt x="1198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14"/>
          <p:cNvSpPr/>
          <p:nvPr/>
        </p:nvSpPr>
        <p:spPr>
          <a:xfrm>
            <a:off x="3195720" y="2452680"/>
            <a:ext cx="379440" cy="1817640"/>
          </a:xfrm>
          <a:custGeom>
            <a:avLst/>
            <a:gdLst/>
            <a:ahLst/>
            <a:rect l="l" t="t" r="r" b="b"/>
            <a:pathLst>
              <a:path w="239" h="1145">
                <a:moveTo>
                  <a:pt x="0" y="119"/>
                </a:moveTo>
                <a:lnTo>
                  <a:pt x="239" y="0"/>
                </a:lnTo>
                <a:lnTo>
                  <a:pt x="239" y="966"/>
                </a:lnTo>
                <a:lnTo>
                  <a:pt x="0" y="1145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1456920" y="2963880"/>
            <a:ext cx="163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erminal Pu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 Ve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1608840" y="2660760"/>
            <a:ext cx="131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liente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7"/>
          <p:cNvSpPr/>
          <p:nvPr/>
        </p:nvSpPr>
        <p:spPr>
          <a:xfrm>
            <a:off x="6426360" y="2622600"/>
            <a:ext cx="1938240" cy="16668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8"/>
          <p:cNvSpPr/>
          <p:nvPr/>
        </p:nvSpPr>
        <p:spPr>
          <a:xfrm>
            <a:off x="6426360" y="2433600"/>
            <a:ext cx="2319120" cy="189000"/>
          </a:xfrm>
          <a:custGeom>
            <a:avLst/>
            <a:gdLst/>
            <a:ahLst/>
            <a:rect l="l" t="t" r="r" b="b"/>
            <a:pathLst>
              <a:path w="1461" h="119">
                <a:moveTo>
                  <a:pt x="0" y="119"/>
                </a:moveTo>
                <a:lnTo>
                  <a:pt x="347" y="0"/>
                </a:lnTo>
                <a:lnTo>
                  <a:pt x="1461" y="0"/>
                </a:lnTo>
                <a:lnTo>
                  <a:pt x="1221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9"/>
          <p:cNvSpPr/>
          <p:nvPr/>
        </p:nvSpPr>
        <p:spPr>
          <a:xfrm>
            <a:off x="8364600" y="2433600"/>
            <a:ext cx="380880" cy="1855800"/>
          </a:xfrm>
          <a:custGeom>
            <a:avLst/>
            <a:gdLst/>
            <a:ahLst/>
            <a:rect l="l" t="t" r="r" b="b"/>
            <a:pathLst>
              <a:path w="240" h="1169">
                <a:moveTo>
                  <a:pt x="0" y="119"/>
                </a:moveTo>
                <a:lnTo>
                  <a:pt x="240" y="0"/>
                </a:lnTo>
                <a:lnTo>
                  <a:pt x="240" y="990"/>
                </a:lnTo>
                <a:lnTo>
                  <a:pt x="0" y="116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6951240" y="3075120"/>
            <a:ext cx="95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6704640" y="264168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rvidor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2"/>
          <p:cNvSpPr/>
          <p:nvPr/>
        </p:nvSpPr>
        <p:spPr>
          <a:xfrm>
            <a:off x="4087800" y="4781520"/>
            <a:ext cx="1179360" cy="10224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23"/>
          <p:cNvSpPr/>
          <p:nvPr/>
        </p:nvSpPr>
        <p:spPr>
          <a:xfrm>
            <a:off x="4087800" y="4592520"/>
            <a:ext cx="1558800" cy="189000"/>
          </a:xfrm>
          <a:custGeom>
            <a:avLst/>
            <a:gdLst/>
            <a:ahLst/>
            <a:rect l="l" t="t" r="r" b="b"/>
            <a:pathLst>
              <a:path w="982" h="119">
                <a:moveTo>
                  <a:pt x="0" y="119"/>
                </a:moveTo>
                <a:lnTo>
                  <a:pt x="348" y="0"/>
                </a:lnTo>
                <a:lnTo>
                  <a:pt x="982" y="0"/>
                </a:lnTo>
                <a:lnTo>
                  <a:pt x="743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reeform 24"/>
          <p:cNvSpPr/>
          <p:nvPr/>
        </p:nvSpPr>
        <p:spPr>
          <a:xfrm>
            <a:off x="5267160" y="4592520"/>
            <a:ext cx="379440" cy="1211400"/>
          </a:xfrm>
          <a:custGeom>
            <a:avLst/>
            <a:gdLst/>
            <a:ahLst/>
            <a:rect l="l" t="t" r="r" b="b"/>
            <a:pathLst>
              <a:path w="239" h="763">
                <a:moveTo>
                  <a:pt x="0" y="119"/>
                </a:moveTo>
                <a:lnTo>
                  <a:pt x="239" y="0"/>
                </a:lnTo>
                <a:lnTo>
                  <a:pt x="239" y="584"/>
                </a:lnTo>
                <a:lnTo>
                  <a:pt x="0" y="763"/>
                </a:lnTo>
                <a:lnTo>
                  <a:pt x="0" y="119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4257720" y="5045040"/>
            <a:ext cx="88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7"/>
          <p:cNvSpPr/>
          <p:nvPr/>
        </p:nvSpPr>
        <p:spPr>
          <a:xfrm>
            <a:off x="2924280" y="4270320"/>
            <a:ext cx="1163520" cy="927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9"/>
          <p:cNvSpPr/>
          <p:nvPr/>
        </p:nvSpPr>
        <p:spPr>
          <a:xfrm flipV="1">
            <a:off x="5456160" y="4269960"/>
            <a:ext cx="1792440" cy="927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30"/>
          <p:cNvSpPr/>
          <p:nvPr/>
        </p:nvSpPr>
        <p:spPr>
          <a:xfrm>
            <a:off x="3384720" y="3362400"/>
            <a:ext cx="30416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2"/>
          <p:cNvSpPr/>
          <p:nvPr/>
        </p:nvSpPr>
        <p:spPr>
          <a:xfrm>
            <a:off x="4300920" y="2930400"/>
            <a:ext cx="133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TCP/IP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3"/>
          <p:cNvSpPr/>
          <p:nvPr/>
        </p:nvSpPr>
        <p:spPr>
          <a:xfrm>
            <a:off x="2056680" y="4511520"/>
            <a:ext cx="113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RDSI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380880" y="5005440"/>
            <a:ext cx="309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ahoma"/>
              </a:rPr>
              <a:t>Podemos distinguir tipos de nodos y connexiones por estereotip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6428880" y="4908600"/>
            <a:ext cx="113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RDSI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on autómatas jerárquicos que permiten expresar concurrencia, sincronización y jerarquías de objet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D. de Estados son grafos dirigid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de UML son determinis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estados inicial y final están diferenciados del res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transición entre estados es instantánea y se debe a la ocurrencia de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v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dos y Trans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155600" y="3305160"/>
            <a:ext cx="2008440" cy="882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1996920" y="348624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6054840" y="3305160"/>
            <a:ext cx="2008080" cy="882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020000" y="35640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3164040" y="3746520"/>
            <a:ext cx="29113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4"/>
          <p:cNvSpPr/>
          <p:nvPr/>
        </p:nvSpPr>
        <p:spPr>
          <a:xfrm flipH="1">
            <a:off x="5824080" y="3746520"/>
            <a:ext cx="250920" cy="104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 flipH="1" flipV="1">
            <a:off x="5824080" y="3641400"/>
            <a:ext cx="250920" cy="104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3093120" y="3000240"/>
            <a:ext cx="305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ondición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/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2295360" y="4581360"/>
            <a:ext cx="492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ahoma"/>
              </a:rPr>
              <a:t>Tanto el evento como la acción se consideran instantá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un Diagrama de Estados para la clase perso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988920" y="2762280"/>
            <a:ext cx="10782360" cy="34369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emos especificar la solicitud de un servicio a otro objeto como consecuencia de la trans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1803240" y="3317760"/>
            <a:ext cx="1822680" cy="814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2638080" y="35766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1803240" y="5532480"/>
            <a:ext cx="182268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2638080" y="5695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>
            <a:off x="2714760" y="4132440"/>
            <a:ext cx="1440" cy="1400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 flipV="1">
            <a:off x="2714760" y="5324400"/>
            <a:ext cx="74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5"/>
          <p:cNvSpPr/>
          <p:nvPr/>
        </p:nvSpPr>
        <p:spPr>
          <a:xfrm flipH="1" flipV="1">
            <a:off x="2619000" y="5324400"/>
            <a:ext cx="9540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2995200" y="4616280"/>
            <a:ext cx="491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Evento [condición] / OtroObjeto.Ope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Accion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puede especificar el ejecutar una acción como consecuencia de entrar, salir, estar en un estado, o por la ocurrencia de un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2165400" y="3564000"/>
            <a:ext cx="4710240" cy="2154240"/>
          </a:xfrm>
          <a:prstGeom prst="roundRect">
            <a:avLst>
              <a:gd name="adj" fmla="val 7694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026960" y="3728880"/>
            <a:ext cx="110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1"/>
          <p:cNvSpPr/>
          <p:nvPr/>
        </p:nvSpPr>
        <p:spPr>
          <a:xfrm>
            <a:off x="2260440" y="4179960"/>
            <a:ext cx="451980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2356560" y="4203720"/>
            <a:ext cx="2876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y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r ent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367360" y="4557600"/>
            <a:ext cx="247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r sal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2429280" y="4913280"/>
            <a:ext cx="373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entras en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Accion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2428200" y="5248440"/>
            <a:ext cx="219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emos reducir la complejidad de estos diagramas usando la generalización de es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tinguimos así entre </a:t>
            </a: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superestad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subes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estado puede contener varios subestados disju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subestados heredan las variables de estado y las transiciones exter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0:43:13Z</dcterms:created>
  <dc:creator>Pablo Turmero</dc:creator>
  <dc:description/>
  <cp:keywords/>
  <dc:language>en-US</dc:language>
  <cp:lastModifiedBy>Pablo Turmero</cp:lastModifiedBy>
  <cp:lastPrinted>1998-01-29T11:34:42Z</cp:lastPrinted>
  <dcterms:modified xsi:type="dcterms:W3CDTF">2016-04-27T22:21:28Z</dcterms:modified>
  <cp:revision>609</cp:revision>
  <dc:subject/>
  <dc:title/>
</cp:coreProperties>
</file>