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180-BA17-4FB7-8D40-CB78396BFB4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20D-F408-49AF-84F0-31A4A53E6D4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527-EF4D-4730-99B6-1F8BCF5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230-040F-4BA0-A650-4318883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A1C65-8E48-47A2-B507-A6D7BBE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69C68-1A95-4CBD-9287-EF0ABDD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96F82-920F-41FA-BBD9-09331E4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B747-157A-4B68-A678-1A7077B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8C2DA-4ADE-401A-BECA-7E1BCAB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2FF64-9A08-47F4-BA4C-F7AF330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1C440-0C48-4AB4-8BEE-B0576C2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3F09C-5497-498B-AB85-C72EB743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9828-32C2-4C55-A41B-E8816553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C076B-7D35-43C2-B5EC-ADB3B299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93D-0721-4668-A001-6A94BDD1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425F3-129E-4C58-AEA3-88B7A5ED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25CF-9FCA-4067-A45A-205AE39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B6A5-93F5-4C40-8EF8-D855B2E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4D746-6553-459F-A7CC-1C1B7B14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63B9-98F2-465F-99FB-A5BDE38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FB9A9-4606-4940-AA8F-2C7E947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F8859-CDA8-4C23-A998-15621EA9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C662F-158A-4ABE-ACF8-5DB52D0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5ABEF-0065-4F50-9B35-BDD9D1C6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13DF4-285C-4C53-A302-631659BC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9D4-920B-4B29-B58C-8A01D647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272FD-5EDB-4DEA-AB41-ED2626BB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0F6AC-3A86-4822-8B90-73181286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20B63-DA85-44C1-AB1C-8A54E7C4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6D93-F7E6-4A0B-A04E-B3363D3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A448-D529-484C-BE22-F83EF78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E6835-C672-4976-98A6-CE246D8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27CDD-27A2-4A93-8481-D6D36F9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3C6A3-804E-4EF2-837C-46CB989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86B0B-56EF-4240-A922-004BC789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26BB-FE1D-454A-A432-E751881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8A2C-A681-4843-A952-04137C9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0FBC1-FDD4-4230-A296-94BB89D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ECC0C-4425-478A-B485-BFB2E949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4AFE-B3B4-4EF9-A831-1C0251EB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C676D-19D5-4C73-9E4B-45CCD7C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088C5-D4FE-4E8E-8FA6-B454C13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45B22-3E15-4B32-9B81-76B3C1D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294C9-7CD2-40BC-B02F-98435A0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DB797-8FF6-4B59-8B44-4B933690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ADCA2-4C00-4CD0-AC31-AAD2CB6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68076-8C7C-43D1-9514-9AC9BA1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A62B-F7EF-42A5-AC0A-8C54B88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EEEF8-F9E1-4D6F-BB1B-DFAE33B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552CB-CCFA-4142-83DB-9BD5D52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B8231-05A0-4852-AF97-2B0C3AC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C24B7-7A0B-4AA7-AA9E-8D2F0AB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6EDD3-FD0B-4C2C-9981-DDF5B15D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FF00A-7BBF-43CB-900F-238D9435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B6E9B-69DF-46FA-B12D-1B9B2F4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6CF98-33C6-4357-B589-37F0090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566AE-839A-4C7E-BB76-81823744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B6981-4E0D-440F-9802-2876C91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E75-D286-4FE6-A71A-6D335C55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8B1E9-A394-4F99-8BEE-935A9E11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1218E-9628-422A-9FA5-A394880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CA89F-1FA4-4C75-BC99-1B40FB7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5581C-2600-4E1F-A0F2-EB6B213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C5CA2-95E0-48A3-A977-F3B48948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0841A-D303-4F46-833B-1DC865B0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B2F87-AD91-4887-8D03-968D7AF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85912-1CEC-4A4E-B393-D96A0D8E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31A22-28D8-455B-9903-FC3C6CEB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46E08-26AA-484A-B027-56BA0EB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80EF-9D04-417E-8A97-21562A5B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3A0E1-FD6A-4DB1-BA03-4B4643DE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FA191-C586-45D0-A790-649A066D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A7B78-3560-4F03-9DB3-4C4E40F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6FAB3-73D1-4313-B8AF-D7AB8C3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87CFC-559A-4B53-BE9E-98AE7D9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D0A92-25D5-4CF8-8093-BC1BEBA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039D4-9394-4E20-A44A-9723101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2C4BB-2143-442B-8236-79B76C9B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F2229-6466-421A-98D2-838E581F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A2663-0800-4ED7-8A8F-0C1B282E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D1AC-4FDE-470E-AB73-429BE6F9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91288-6314-4B87-83AD-E863B57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1AA5E-E4CD-47B9-8AA7-D1F46B9B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30D5D-C452-4BD1-ACE2-BDFEE75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A4F79-ED0F-4FAF-BB0E-4DC9DCC0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AF88E-7C36-49E8-A262-8772D18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29C2C-6962-4335-A0AC-9F0B298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41F2C-AAB1-4E11-BAC0-EAD4CF1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404EB-0254-4511-9E3F-7D385E3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54BDD-FA99-4205-BD7A-3E728A9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1B66B-2C9E-4828-9AC1-558F3C2B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A472-EA95-4CC3-8EA8-B600866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9CF8C-6CF6-43DC-8996-E87BCD25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2CC-B98C-49A1-A6ED-C1183C9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5D4-DA27-464A-97EB-777C3624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1E8-4F6A-4F04-9BF2-24EA6F9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CDAA-94C6-49DC-A60F-61B8A8C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332C-D02A-4FC8-B248-14C65E79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BB65-210B-4B4F-8406-37B54D02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EA37-DB20-41C9-A3B6-5F9D647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CBE5-0850-4615-AC5E-04CD43FB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9A6C-86C9-423F-B3B8-69537C2C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BC43-4E51-45CD-8501-0163837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BC88-3F8B-45CA-8C5D-F234C5A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E3A9-7A25-4570-B466-67A0E37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F86-CE3C-4C3E-A958-120EE706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5DF2-2863-4667-846E-4ADFFF7E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22D2-ECC6-4090-B356-F67B5A4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93B6-25D4-4FBB-8CA8-4C1608B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5676-C701-4907-B5D4-AD40400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CC99-F4B1-4B20-B844-AD2F127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5187-FF45-4DB8-84C7-6D49981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CA36-B6C8-4BE1-937E-B6896FC9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B27D-5E5A-4736-AE70-A534E1B9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E79C-7244-4460-9465-EA8EE6B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BD89-346B-417C-8BFE-29AD296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37B-6540-4FD7-9D86-75816A6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FF15-A84D-4ED2-A782-C01BC45F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F138-E227-4816-A7A3-588A3FA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F183-134B-4D6B-9B7C-7C59311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9EF1-FF11-4281-A71E-DE8DEFC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4F96-E901-4EDA-B690-C48FA47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D67C-E082-4EF3-9366-4D554F9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2FB7-826D-4E79-A362-ED5E8FD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C457-FCEE-4C2D-871B-355197F1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AB07-C15A-4CDE-8442-2B88CA31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A4A6-FCA7-49F4-A36D-C12901C7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E19-6DF8-46C2-BF1E-76E6C94C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68860-35F6-4AA7-92F4-04B09601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B4FD-E3EF-45A6-B5FF-0144D6D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DDEA-DF3E-4AE6-AD11-E9E208F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C04F-C6F5-46C0-9D1E-A02AB35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79D4-93DE-4D74-BA1F-BDA9081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EB24-BA88-4C7F-B49A-BBCD5E1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3670-9B00-4B03-8877-50A5569D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3C0E-8552-4557-B66E-EC86D1C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F3BCC-BAEB-47FC-ADCE-40143C1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84F0-0AAC-45EA-8684-0411B298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AD-D761-4D51-88B3-C44E9A6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8383-D0B8-4567-8EEE-3D88148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25ED-30F0-43E4-A8CB-ED97399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5C89-B579-4736-BF87-5A952432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0E238-207C-4613-B2CF-421AEC4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650E-7718-4E2A-9E2F-D33FE62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72E1C-E41A-4A8A-8A39-A6BB646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5B105-A9AA-4D9B-B21D-8FC7AAE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920D-947E-40E6-8699-7D74B12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9E78-6A4E-4297-A405-CBF3E48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FEA1-49B9-481A-A9B2-EAA5C94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FFD-31E5-4172-AD0B-8AD0968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0723-0483-4332-AD82-20808B6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DA5F-CCD7-42E1-9EF6-62DD19B6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E6F5-768C-45CC-A37F-1A5B2E33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03A6-5DFF-4B07-8881-8A55AB10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66B8-5D3D-47B1-83C7-63226F46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5100-075A-4BB3-92DC-F5D7A334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50BC-DB95-4522-99FF-F7513AA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2696-2509-4F70-BC95-41278141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5F34-5A42-440E-BFF0-721AF5F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CE044-7F81-452A-908D-C536D40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7F3-C970-496C-A2FF-1CB1704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EA80-8697-49F8-80AF-867941E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F0F6-FD37-4D05-9D8B-AC9FA3F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F3EC8-1A67-4508-B68A-D7B03AA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4619-07C9-42EA-83F6-B059D1BA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5FA2-CF06-4284-AD0E-3C0BFFD9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1CA03-A856-4424-9D20-603ECA0C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71B4-564A-4D86-82D7-4A4D8B3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75201-CB25-4560-A213-0DFAE9C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8AEA7-ED7E-433B-A72B-22889576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4F42-BC70-429C-8BFB-9A41AD5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8CB-90CA-4821-9275-70AA070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94DD2-B3CD-40C6-832A-80A1EA7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CFD8E-74D0-4808-B288-F8F68B8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0B01A-0114-43E9-BFC6-D2C6CF6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0F2E-EBAE-408A-8C4D-E97301B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8A56-84AC-4BE7-8EBA-FEA5522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3C04-FE49-4901-A8AE-6F36CB70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87031-0276-43B9-86C3-9A9EF8B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70978-763A-4D95-9EA8-D4FAA2BD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43713-94C2-49BE-89DF-9F43C54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CF4A8-FD07-4F82-A6F9-571B7E5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551-F14E-41EF-BD20-1C3E6FC4145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9B1-62A8-4E6B-8F9C-25F3240757B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4BD-246D-4FE7-9D6F-F7918CAD24E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EC8-BC35-4EE5-A9B1-388CF5DAE75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90B3-67BA-4FB3-9278-8B9AFFF7864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215-AE8B-4B4F-BA15-8EB40F94DD9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AB48-DCC3-4C87-8722-5265DDD05A2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4F6F-0F42-43E0-9C90-0753C84F1DF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E02-4387-47EB-BCD4-941763FCED7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F6B-0A9C-42E4-8CFE-FB5A398CDAB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FFF-8831-409E-B7CA-EA64F5696BD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262-9CF3-4377-8B4D-2862DC40ABA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BAB4-977C-45FF-9C05-AC77E7BA9D1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7DB4-C8EA-4E47-8B1A-FB78F4237AA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5"/>
            </a:gs>
            <a:gs pos="100000">
              <a:srgbClr val="ffe0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E790-B3A5-4DC6-9DE0-A2685F88A10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1"/>
          <p:cNvSpPr/>
          <p:nvPr/>
        </p:nvSpPr>
        <p:spPr>
          <a:xfrm>
            <a:off x="7391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15F7-B0B2-4B59-8D7C-CE867A7F094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64840" y="1806120"/>
            <a:ext cx="7894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6633"/>
                </a:solidFill>
                <a:latin typeface="Albertus Extra Bold"/>
              </a:rPr>
              <a:t>Inconsciente Cognitivo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357C-6B68-4585-B055-B363336DA8F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a) Estrategia metodológica para evidenciar P</a:t>
            </a: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OCIACIÓN   ICC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I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CC:  AUSENCIA DE CONCIENCIA DEL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IM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PI 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SAMIENTO  DEL ESTIM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A IMPORTANT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FIRMA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SENCIA DE CONCIENCIA EN CONDICIONES EN LAS QUE PUEDA DARSE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89F-F91F-4603-89DE-5C0C2D75098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EMA IMPORTANTE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usencia de conciencia del estímulo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i los E inadvertidos afectan TR y otros procesos como si hubieran sido reconocidos, es fácil confundir Pe Conciente precaria –mal estimada– con P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te problema ha recibido soluciones con ventajas e inconven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AUTOI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DISCRIMINACIÓN PERCEPTUAL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(&lt; del umb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Criterio de det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Criterio de 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El umbral objetivo se sitúa en el nivel de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339-1104-4BBF-A200-59D1F7B060B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)  TÉCNICAS PARA INDUCIR  P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E LAS TÉCNICAS EMPLEADAS PARA SUPRIMIR EL CC  (i.e., ICC=0),   SIN ANULAR EL PI  (i.e., IPI&gt;0),  DESTA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IMULACIÓN SUBLIMINAL (i.e., DEGRADAR o ACORTAR LA SEÑ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NIPULACIÓN DE LA ATENCIÓN (e.g., ESCUCHA DICO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MASCARAMIENTO, SOBRE TODO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431-5B01-480B-8BF3-F77914AFB76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996633"/>
                </a:solidFill>
                <a:latin typeface="Times New Roman"/>
              </a:rPr>
              <a:t>ESTIMULACIÓN SUBLIMINAL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17400" y="1988640"/>
            <a:ext cx="7375320" cy="44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e utilizaron los paradigma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imes New Roman"/>
              </a:rPr>
              <a:t>Condicionamiento Clás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 (señal subsensorial 5 – 12 Db) ---- R n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 (eléctrico)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------  RPG / EEG / pup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Times New Roman"/>
              </a:rPr>
              <a:t>Defensa percept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 (sub) Emocionalmente Neg. &gt; TR y &gt; R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cesamiento anterior al re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erceptual o de ejecu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4245-1B4D-4B11-9536-7F64DC11960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6633"/>
                </a:solidFill>
                <a:latin typeface="Times New Roman"/>
              </a:rPr>
              <a:t>CONTROL DE LA ATENCIÓN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lección temprana precategorial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Broadb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ist. Preatencional de rasgos sens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istema integrador (serial - 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lección tardía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Deuts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SCUCHA DICO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recarga de actividad a un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F62-CCCC-4977-BC76-6E320AAA285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996633"/>
                </a:solidFill>
                <a:latin typeface="Times New Roman"/>
              </a:rPr>
              <a:t>ENMASCARAMIENTO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obrecarga información, como la dicoica, y reduce el tiempo como la subl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os estímulos visuales en suc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1) Objetivo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2) Más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 se percibe el objetivo aún cuando hubiese sido reconocido de no ser seguido por la más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Marcador de número de diapositiva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8E6-9B94-4CB8-8A7F-F79009D91FA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PARADIGMAS EXPERIMENTALES PA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STAT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acilitación o Priming como 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nómeno Str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08000" y="3213000"/>
          <a:ext cx="6624720" cy="294984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Ensa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g.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ru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o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Ve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ngru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Rojo</a:t>
                      </a:r>
                      <a:r>
                        <a:rPr b="0" lang="es-AR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Ve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A81-16E2-486B-8A78-D86B5B46020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nfluencia de EE enmascarados en tareas de decisión, evaluación, categorización y otros efectos conductuales indicativos de su procesamiento semántico y emocional incons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gistros eléctrico fisiológicos e imágene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uncionales del cerebro como IPI de EE inadver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Veamos otro ejemplo de comparación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8D0C-3BC4-47EE-95B7-767E5679578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Efectos funcionales en el cerebro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CE de preparación lateralizada indica activación cortical  inducida por el objetivo (curva verde) y por el EP (curva roja). Además, el índice hemodinámico (fMRI) indica que parte de esa actividad es generada por el EP en las áreas motoras de la corteza : se observa mayor actividad en las del H ‘incorrecto’ en los ensayos incongruentes que en los congru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B22-0989-4CD5-921A-F392AC423A0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) ALGUNAS CONSIDERACIONES ADICIONALES SOBRE LA P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TRE LA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CONSCIENTE  E INCONSCIENTE EXISTEN DIFERENCIAS CUANTITATIVAS y CUALIT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 pierde la capacidad de planificar acciones estratég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ENÓMENO STROOP CON 2 COLORES Y 85% DE ENSAYOS INCONGRU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VERSIÓN ESTRATÉGICA DEL PATRÓN DEL EFECTO, PERO SÓLO CON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SCIENTE DE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8B10-DFB1-4045-957C-BD431B72AD4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Cognición Inconscien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ercepción Inconsciente (P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trategia metodológica para evidenci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Técnicas para inducirla sin destruir el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aradigmas experi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2. Memoria Inconsciente (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3. Aprendizaje Inconsciente (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4. Manifestaciones Pat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5. Usos aplicados de la CI: Efectos práct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A8D-FF7D-45FE-918A-8225A023B16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Hipótesis explicativas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de la P</a:t>
            </a: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ólo EE con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RESENTACION CRONICA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specífica en el sistema de conocimiento. Por tanto P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IVACION,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 construcción de re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ómo actúan los EE inadverti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pótesis de las dos v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9C89-F49F-4602-865F-85A2A01D6B7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La hipótesis de P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eI es sólida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presentan lo EE de modo que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visiblemente pasen inadver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Ss dicen no haberlos recono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observan efectos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alitativamente diferent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a los de su presentación “normal”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herent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con lo que habría que espe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C0B-E571-41A9-88DF-0E54CC5A226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. Memoria Inconsciente (MI) </a:t>
            </a:r>
            <a:br>
              <a:rPr sz="3600"/>
            </a:b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124000" y="2637000"/>
            <a:ext cx="648036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presentación y reten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iva 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 contenidos de episo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lvidados”(IPI &gt; I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19F-CDCC-49FB-99BA-916F40069E1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Amnesias y población general</a:t>
            </a:r>
            <a:r>
              <a:rPr b="1" lang="es-AR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Muchos Pacientes Amnésicos (ie. con pérdida de memoria </a:t>
            </a: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Conciente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)  muestran un rendimiento casi normal en pruebas de Memoria Implí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Bajo ciertas condiciones, la población general también da pruebas de Memoria Implícita de contenidos de episodios “olvidados”. Disociación funcional según niveles de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7A9D-6BFD-4866-85D8-35C25A96364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3. Aprendizaje Inconsciente (AI)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1547640" y="2492280"/>
            <a:ext cx="7128000" cy="331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similación mental de patron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gularidades, covariaciones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estructuras de eventos ambient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nos pasan inadver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CB43-1B9F-4AD1-A1F8-42D0860ED86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Métodos y alcanc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anto en AI como en AI se están refinando los métodos para no confundir Cognición Conciente e Incons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ha observado AI de diferentes regularidades y covariaciones ambientales en situaciones complejas, con experiencia muy dila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9D01-428E-4E44-BB0E-D8A6EE1DDD9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. Manifestaciones patológicas de CI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ISTE TODA UNA SERIE DE SÍNDROMES PSICOPATOLÓGICOS DEBIDOS A LESIONES CEREBRALES CARACTERIZADOS POR LA PÉRDIDA DE CONCIENCIA Y MANEJO VOLUNTARIO DE CIERTA INFORMACIÓN, PESE A QUE CONSERVAN UNA NOTABLE CAPACIDAD PARA MANEJARLA DE FORMA TÁ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Object 2"/>
          <p:cNvGraphicFramePr/>
          <p:nvPr/>
        </p:nvGraphicFramePr>
        <p:xfrm>
          <a:off x="152280" y="363600"/>
          <a:ext cx="8839440" cy="61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63600"/>
                    <a:ext cx="8839440" cy="6130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0" y="-774720"/>
          <a:ext cx="8991720" cy="772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74720"/>
                    <a:ext cx="8991720" cy="77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Clarendon Condensed"/>
              </a:rPr>
              <a:t>ESO SUGIERE ALGUNAS IDEAS SOBRE</a:t>
            </a:r>
            <a:r>
              <a:rPr b="1" lang="es-ES_tradnl" sz="2400" spc="-1" strike="noStrike">
                <a:solidFill>
                  <a:srgbClr val="996633"/>
                </a:solidFill>
                <a:latin typeface="Clarendon Condensed"/>
              </a:rPr>
              <a:t> LA</a:t>
            </a:r>
            <a:r>
              <a:rPr b="1" lang="es-ES" sz="2400" spc="-1" strike="noStrike">
                <a:solidFill>
                  <a:srgbClr val="996633"/>
                </a:solidFill>
                <a:latin typeface="Clarendon Condensed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Clarendon Condensed"/>
              </a:rPr>
              <a:t> </a:t>
            </a:r>
            <a:r>
              <a:rPr b="1" lang="es-ES" sz="2400" spc="-1" strike="noStrike">
                <a:solidFill>
                  <a:srgbClr val="996633"/>
                </a:solidFill>
                <a:latin typeface="Clarendon Condensed"/>
              </a:rPr>
              <a:t>ORGANIZACIÓN </a:t>
            </a:r>
            <a:r>
              <a:rPr b="1" lang="es-ES_tradnl" sz="2400" spc="-1" strike="noStrike">
                <a:solidFill>
                  <a:srgbClr val="996633"/>
                </a:solidFill>
                <a:latin typeface="Clarendon Condensed"/>
              </a:rPr>
              <a:t>DE LA </a:t>
            </a:r>
            <a:r>
              <a:rPr b="1" lang="es-ES" sz="2400" spc="-1" strike="noStrike">
                <a:solidFill>
                  <a:srgbClr val="996633"/>
                </a:solidFill>
                <a:latin typeface="Clarendon Condensed"/>
              </a:rPr>
              <a:t>MENTE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749" name="Picture 3" descr="ModeloDesconexion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0" name="Text Box 5"/>
          <p:cNvSpPr/>
          <p:nvPr/>
        </p:nvSpPr>
        <p:spPr>
          <a:xfrm>
            <a:off x="0" y="5300640"/>
            <a:ext cx="9144000" cy="1554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larendon Condensed"/>
              </a:rPr>
              <a:t>A LA HIPÓTESIS DE LA DESCONEXIÓN PATOLÓGICA ENTRE MÓDULOS ESPECÍFICOS DE CONOCIMIENTO Y SISTEMA DE CONCIENCIA HABRÍA QUE AÑADIR EL EFECTO PERNICIOSO DEL ENMASCARAMIENTO, LA FALTA DE ATENCIÓN, ETC SOBRE EL ÚLTIMO, ASÍ COMO LO QUE SUGIEREN AL RESPECTO LOS FENÓMENOS DE MEMORIA Y APRENDIZAJE INCONSCIENTE, LAS DOBLES DISOCIACIONES, ETC.  TODO ESO APUNTA A UN MODELO DE LA MENTE VERDADERAMENTE MUCHO MÁS COMPLEJO QUE EL REPRESENTADO AQUÍ.</a:t>
            </a:r>
            <a:r>
              <a:rPr b="0" lang="es-ES_tradnl" sz="1400" spc="-1" strike="noStrike">
                <a:solidFill>
                  <a:srgbClr val="000000"/>
                </a:solidFill>
                <a:latin typeface="Clarendon Condense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A57-9706-4D90-829B-A4596D39C50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upuestos básicos sobre el funcionamiento mental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xiste un solo procesador central que toma información computada por módulos de entr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procesamiento es s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Marcador de número de diapositiva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2A8-96E5-4106-AB02-742BE137C4B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Object 4"/>
          <p:cNvGraphicFramePr/>
          <p:nvPr/>
        </p:nvGraphicFramePr>
        <p:xfrm>
          <a:off x="1332000" y="2708280"/>
          <a:ext cx="74865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74865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5. Usos aplicados de la CI: 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Efectos práctico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6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alvo casos muy aislados se ha restringido a P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to limita notablemente su aplicabilidad pero no la eli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6D9A-C6C1-4E61-B1A0-7AAC667808E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Algunos resultado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7760" y="2133360"/>
            <a:ext cx="762624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intas / CDs con mensajes subliminales para potenciar recursos humanos: datos escasos e incons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mbatir hurtos (conciencia electrónica): datos aún más escasos e interes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agnóstico e interpretación de ansiedad generalizada y desordenes de pá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ntrenamiento amnésicos. Interpretación pla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EF1-DE63-4653-8D76-6F18EB48B7C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Secuencia de procesami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661" name="Organization Chart 16"/>
          <p:cNvGrpSpPr/>
          <p:nvPr/>
        </p:nvGrpSpPr>
        <p:grpSpPr>
          <a:xfrm>
            <a:off x="4113360" y="2628720"/>
            <a:ext cx="2286000" cy="3419280"/>
            <a:chOff x="4113360" y="2628720"/>
            <a:chExt cx="2286000" cy="3419280"/>
          </a:xfrm>
        </p:grpSpPr>
        <p:cxnSp>
          <p:nvCxnSpPr>
            <p:cNvPr id="662" name="_s1028"/>
            <p:cNvCxnSpPr>
              <a:stCxn id="663" idx="0"/>
              <a:endCxn id="664" idx="2"/>
            </p:cNvCxnSpPr>
            <p:nvPr/>
          </p:nvCxnSpPr>
          <p:spPr>
            <a:xfrm flipV="1">
              <a:off x="5713560" y="5645160"/>
              <a:ext cx="2160" cy="13536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cxnSp>
          <p:nvCxnSpPr>
            <p:cNvPr id="665" name="_s1029"/>
            <p:cNvCxnSpPr>
              <a:stCxn id="666" idx="0"/>
              <a:endCxn id="667" idx="2"/>
            </p:cNvCxnSpPr>
            <p:nvPr/>
          </p:nvCxnSpPr>
          <p:spPr>
            <a:xfrm flipV="1">
              <a:off x="5713560" y="4546080"/>
              <a:ext cx="2160" cy="13356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cxnSp>
          <p:nvCxnSpPr>
            <p:cNvPr id="668" name="_s1030"/>
            <p:cNvCxnSpPr>
              <a:stCxn id="669" idx="0"/>
              <a:endCxn id="670" idx="2"/>
            </p:cNvCxnSpPr>
            <p:nvPr/>
          </p:nvCxnSpPr>
          <p:spPr>
            <a:xfrm flipV="1">
              <a:off x="5713560" y="3445560"/>
              <a:ext cx="2160" cy="13356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cxnSp>
          <p:nvCxnSpPr>
            <p:cNvPr id="671" name="_s1031"/>
            <p:cNvCxnSpPr>
              <a:stCxn id="664" idx="1"/>
              <a:endCxn id="672" idx="2"/>
            </p:cNvCxnSpPr>
            <p:nvPr/>
          </p:nvCxnSpPr>
          <p:spPr>
            <a:xfrm rot="10800000">
              <a:off x="4798440" y="2895840"/>
              <a:ext cx="229320" cy="254088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cxnSp>
          <p:nvCxnSpPr>
            <p:cNvPr id="673" name="_s1032"/>
            <p:cNvCxnSpPr>
              <a:stCxn id="667" idx="1"/>
              <a:endCxn id="672" idx="2"/>
            </p:cNvCxnSpPr>
            <p:nvPr/>
          </p:nvCxnSpPr>
          <p:spPr>
            <a:xfrm rot="10800000">
              <a:off x="4798440" y="2895840"/>
              <a:ext cx="229320" cy="144252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cxnSp>
          <p:nvCxnSpPr>
            <p:cNvPr id="674" name="_s1033"/>
            <p:cNvCxnSpPr>
              <a:stCxn id="670" idx="1"/>
              <a:endCxn id="672" idx="2"/>
            </p:cNvCxnSpPr>
            <p:nvPr/>
          </p:nvCxnSpPr>
          <p:spPr>
            <a:xfrm rot="10800000">
              <a:off x="4798440" y="2895840"/>
              <a:ext cx="229320" cy="342000"/>
            </a:xfrm>
            <a:prstGeom prst="bentConnector2">
              <a:avLst/>
            </a:prstGeom>
            <a:ln w="28440">
              <a:solidFill>
                <a:srgbClr val="cc6600"/>
              </a:solidFill>
              <a:miter/>
            </a:ln>
          </p:spPr>
        </p:cxnSp>
        <p:sp>
          <p:nvSpPr>
            <p:cNvPr id="672" name="_s1034"/>
            <p:cNvSpPr/>
            <p:nvPr/>
          </p:nvSpPr>
          <p:spPr>
            <a:xfrm>
              <a:off x="4113360" y="2628720"/>
              <a:ext cx="1371600" cy="26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99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_s1035"/>
            <p:cNvSpPr/>
            <p:nvPr/>
          </p:nvSpPr>
          <p:spPr>
            <a:xfrm>
              <a:off x="5027760" y="3030480"/>
              <a:ext cx="1371600" cy="415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3366"/>
              </a:solidFill>
              <a:miter/>
            </a:ln>
            <a:effectLst>
              <a:outerShdw dist="63504" dir="19383909" blurRad="0" rotWithShape="0">
                <a:srgbClr val="99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Memor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Sens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_s1036"/>
            <p:cNvSpPr/>
            <p:nvPr/>
          </p:nvSpPr>
          <p:spPr>
            <a:xfrm>
              <a:off x="5027760" y="4130280"/>
              <a:ext cx="1371600" cy="415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3366"/>
              </a:solidFill>
              <a:miter/>
            </a:ln>
            <a:effectLst>
              <a:outerShdw dist="63504" dir="19383909" blurRad="0" rotWithShape="0">
                <a:srgbClr val="99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M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_s1037"/>
            <p:cNvSpPr/>
            <p:nvPr/>
          </p:nvSpPr>
          <p:spPr>
            <a:xfrm>
              <a:off x="5027760" y="5229720"/>
              <a:ext cx="1371600" cy="41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3366"/>
              </a:solidFill>
              <a:miter/>
            </a:ln>
            <a:effectLst>
              <a:outerShdw dist="63504" dir="19383909" blurRad="0" rotWithShape="0">
                <a:srgbClr val="99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M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_s1038"/>
            <p:cNvSpPr/>
            <p:nvPr/>
          </p:nvSpPr>
          <p:spPr>
            <a:xfrm>
              <a:off x="5027760" y="3580560"/>
              <a:ext cx="1371600" cy="268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Trans. Com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_s1039"/>
            <p:cNvSpPr/>
            <p:nvPr/>
          </p:nvSpPr>
          <p:spPr>
            <a:xfrm>
              <a:off x="5027760" y="4680000"/>
              <a:ext cx="1371600" cy="268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9240" bIns="39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Cod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_s1040"/>
            <p:cNvSpPr/>
            <p:nvPr/>
          </p:nvSpPr>
          <p:spPr>
            <a:xfrm>
              <a:off x="5027760" y="5779440"/>
              <a:ext cx="1371600" cy="268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Times New Roman"/>
                </a:rPr>
                <a:t>Repres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9625-5C0C-4BD7-8D44-15571EC365E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Cognición Inconsciente (CI)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79600" y="2637000"/>
            <a:ext cx="762624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larendon"/>
              </a:rPr>
              <a:t>CI: REGISTRO DE INFORMACIÓN  INADVERTIDA CON DESARROLLO O ACTIVACIÓN DE</a:t>
            </a:r>
            <a:r>
              <a:rPr b="1" lang="es-ES_tradnl" sz="2400" spc="-1" strike="noStrike">
                <a:solidFill>
                  <a:srgbClr val="000000"/>
                </a:solidFill>
                <a:latin typeface="Clarendo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larendon"/>
              </a:rPr>
              <a:t>CONSIGUIENTE REPRESENTACIÓN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larendon"/>
              </a:rPr>
              <a:t>VERIFICACIÓN CI: </a:t>
            </a:r>
            <a:r>
              <a:rPr b="1" lang="es-ES" sz="2400" spc="-1" strike="noStrike">
                <a:solidFill>
                  <a:srgbClr val="0000cc"/>
                </a:solidFill>
                <a:latin typeface="Clarendon"/>
              </a:rPr>
              <a:t>PARADIGMA DE DI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larendon"/>
              </a:rPr>
              <a:t>DISOCIACIÓN ENTRE DOS ÍNDICES, UNO SENSIBLE AL PROCESAMIENTO DE LA INFORMACIÓN (IPI) Y OTRO QUE REQUIERE, ADEMÁS, SU CONOCIMIENTO CONSCIENTE (I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4D4B-1593-460F-8A1C-73A76546301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6633"/>
                </a:solidFill>
                <a:latin typeface="Times New Roman"/>
              </a:rPr>
              <a:t>Verificación de C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CC: Comunicación directa de la información por el sujeto. Se puede recurrir a métodos psicofísicos estándar como Detección de señ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PI: Influencia de esa información en esa tar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Times New Roman"/>
              </a:rPr>
              <a:t>Efecto Conductual: TR, acierto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Times New Roman"/>
              </a:rPr>
              <a:t>Registro psiconeurológico: PCE, 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A1B-1C97-4F7F-A18C-9FA5DAE3141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6633"/>
                </a:solidFill>
                <a:latin typeface="Times New Roman"/>
              </a:rPr>
              <a:t>Verificación de C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xiste Cognición Inconsciente cu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CC = 0  y  IPI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, lo que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PI &gt; I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B0A-C85D-4DD9-8824-16FA4289F71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1. Percepción Inconsciente (</a:t>
            </a: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PeI</a:t>
            </a: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SO COMPLEJO EN EL QUE SUELE ACCEDER A LA CONCIENCIA SÓLO EL PRODUCT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 OCASIONES NI ÉSTE, DEBIDO A LAS LIMITACIONES DEL SISTEMA DE CC, TANTO POR LO QUE RESPECTA A AMPLITUD DE APREHENSIÓN COMO A RESOLUCIÓN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Marcador de número de diapositiva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4FA-0756-453D-B245-FBA603EB35B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Percepción Inconscient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Registro inadvertido de estímulos y consecuente activación de representación mental de su inform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blo Turmero</dc:creator>
  <dc:description/>
  <dc:language>en-US</dc:language>
  <cp:lastModifiedBy>Pablo Turmero</cp:lastModifiedBy>
  <dcterms:modified xsi:type="dcterms:W3CDTF">2016-05-23T23:00:44Z</dcterms:modified>
  <cp:revision>90</cp:revision>
  <dc:subject/>
  <dc:title/>
</cp:coreProperties>
</file>