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133-74FA-4ECC-A1CE-21951EE2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341-2D4C-4B34-B735-708803F6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503-D7BD-49A2-A27C-CD3F14C1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564-CABF-47DF-8A7C-CE3D59CF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5218-9A2F-4DAE-8ECD-0E99C45C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3695-3A2C-40F9-8FA3-8A8F4C2A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CE84-837E-4A33-B3D8-85D05529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C5BF-0622-404E-8383-F91B83D2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A4AD-AA0C-4A83-81CC-2881578A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DE01-3AB0-437A-8AED-E246B7F0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7AF8-CFA9-44AD-AFE4-45A77A73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EA3-5305-48F5-A404-03BCCB92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4AAB-0A86-46CE-9E8A-5F90D805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BCF8-E8A9-4984-A86F-329B0E34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1041-F8E7-42C6-BA8C-27D7516B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3324-0D0B-4AFD-B672-0179A5D1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7D0D-8E28-46B8-9E21-AA257E08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925-4388-47D6-AAFD-82D3B33E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C1B-0DDD-42A5-AEA3-978BA80A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433-654E-442C-AACE-AB31B828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37D-4D46-480E-AC58-01BD9B01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C3D-9D52-430D-AED9-CA7E534F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4FF-9967-4D27-88FF-12AEEBC9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0F0-9150-4AC5-93D3-53EB8EE1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37B2-2842-415F-A9D8-35D9EAB80A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4324-DEA3-44FC-8B56-2439EBC8FB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60520" y="533520"/>
            <a:ext cx="64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VERSIDAD MEXICANA “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55480" y="2819520"/>
            <a:ext cx="50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ÁLISIS Y DISEÑO DE SISTEM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0880" y="3809880"/>
            <a:ext cx="51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fesor Angel Martínez Aceve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rardo Moreno Martínez 29921686-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0240" y="6095880"/>
            <a:ext cx="51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uautitlán Izcalli a 12 de Junio de 2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14640" y="30492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DEL PROCESO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TES PARA LOS D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" y="2895480"/>
            <a:ext cx="80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las decisiones que se toman bajo tres condiciones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ertidumb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certidumbr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riesg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4440" y="2022480"/>
            <a:ext cx="41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a de decisiones bajo Riesg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14640" y="30492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DEL PROCESO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TES PARA LOS D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9440" y="2895480"/>
            <a:ext cx="7907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ertidumbr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aquella que nos muestra todo por anticipado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bemos que resultados tendremos, las consecuenc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las necesidades presentadas por el Usuari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4440" y="2022480"/>
            <a:ext cx="41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a de decisiones bajo Riesg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14640" y="30492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DEL PROCESO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TES PARA LOS D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89548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certidumbr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lo contrario a la certidumbre, no tenemo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s ni probabilidades o consecuencia de la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4440" y="2022480"/>
            <a:ext cx="41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a de decisiones bajo Riesg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4640" y="30492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DEL PROCESO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TES PARA LOS D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895480"/>
            <a:ext cx="84582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riesgo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aquel que existe entre los anteriores, es decir que corresponden a los aspectos de conocimientos y las variables controlables y los no controlables variables ambientales y aquellos de los que no tenemos resultados. Todas las empresas o negocios trabajan bajo riesg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4440" y="2022480"/>
            <a:ext cx="41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a de decisiones bajo Riesg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1240" y="2895480"/>
            <a:ext cx="8044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la definición decíamos que la toma de decisio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hace mediante la recolección y proces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la información. Es por eso que determina el métod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e los tomadores de decisiones s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ític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ístic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1560" y="2022480"/>
            <a:ext cx="42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stilo de la toma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4640" y="30492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DEL PROCESO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TES PARA LOS D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480" y="2895480"/>
            <a:ext cx="8535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ític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se apoya en la información que se adquiere 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evalúa sistemáticamente. Estos tomadores de decisio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an la información cuantitativa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s Utilizan las matemáticas para generar un modelo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ndo algoritmos para resolverl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1560" y="2022480"/>
            <a:ext cx="42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stilo de la toma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4640" y="30492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DEL PROCESO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TES PARA LOS D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2895480"/>
            <a:ext cx="850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ístic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se hace ayudar de lineamientos (reglas), aunque no 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e, bajo conciencia o sistema, es decir que se bas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íficamente en la Experienci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1560" y="2022480"/>
            <a:ext cx="42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stilo de la toma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4640" y="30492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DEL PROCESO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TES PARA LOS D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1240" y="2743200"/>
            <a:ext cx="60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s entre el Analista y Heuríst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95280" y="3581280"/>
          <a:ext cx="6400800" cy="196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81280"/>
                    <a:ext cx="640080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11560" y="2022480"/>
            <a:ext cx="42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stilo de la toma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4640" y="30492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DEL PROCESO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TES PARA LOS D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3360" y="202248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 para la solución de problem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4640" y="30492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DEL PROCESO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TES PARA LOS D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96280" y="3013200"/>
            <a:ext cx="65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s tres fases la solución a problemas, las prop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imón 1965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Intelig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Dis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el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3360" y="202248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 para la solución de problem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4640" y="30492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DEL PROCESO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TES PARA LOS D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95560" y="3013200"/>
            <a:ext cx="699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eligencia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la conciencia de un problema u oportunidad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la vigilancia, búsqueda continua y la revi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228600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ANÁLISIS DE SISTEMAS DE APOYO A DECISION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SEMIESTRUCUTRADA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10040" y="38088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3360" y="202248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 para la solución de problem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4640" y="30492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DEL PROCESO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TES PARA LOS D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93760" y="3013200"/>
            <a:ext cx="71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a el problema y analiza la varia solu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as proporcionando alternativ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3360" y="202248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 para la solución de problem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4640" y="30492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DEL PROCESO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TES PARA LOS D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9080" y="3019320"/>
            <a:ext cx="780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ción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la solución al problema u oportunidad identifica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la fase de la intelig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61560" y="5257800"/>
            <a:ext cx="43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a: Algunos autores dan dos fases más que s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a Implementación y la evalua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25909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GRACIA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POR SU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ATENCIÓ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10040" y="38088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endshow"/>
          </p:cNvPr>
          <p:cNvSpPr/>
          <p:nvPr/>
        </p:nvSpPr>
        <p:spPr>
          <a:xfrm>
            <a:off x="8305920" y="6095880"/>
            <a:ext cx="585720" cy="433440"/>
          </a:xfrm>
          <a:custGeom>
            <a:avLst/>
            <a:gdLst>
              <a:gd name="textAreaLeft" fmla="*/ 28080 w 585720"/>
              <a:gd name="textAreaRight" fmla="*/ 557640 w 585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182" h="21600">
                <a:moveTo>
                  <a:pt x="0" y="0"/>
                </a:moveTo>
                <a:lnTo>
                  <a:pt x="29182" y="0"/>
                </a:lnTo>
                <a:lnTo>
                  <a:pt x="29182" y="21600"/>
                </a:lnTo>
                <a:lnTo>
                  <a:pt x="0" y="21600"/>
                </a:lnTo>
                <a:close/>
              </a:path>
              <a:path fill="lightenLess" w="29182" h="21600">
                <a:moveTo>
                  <a:pt x="0" y="0"/>
                </a:moveTo>
                <a:lnTo>
                  <a:pt x="29182" y="0"/>
                </a:lnTo>
                <a:lnTo>
                  <a:pt x="27782" y="1400"/>
                </a:lnTo>
                <a:lnTo>
                  <a:pt x="1400" y="1400"/>
                </a:lnTo>
                <a:close/>
              </a:path>
              <a:path fill="darken" w="29182" h="21600">
                <a:moveTo>
                  <a:pt x="29182" y="0"/>
                </a:moveTo>
                <a:lnTo>
                  <a:pt x="29182" y="21600"/>
                </a:lnTo>
                <a:lnTo>
                  <a:pt x="27782" y="20200"/>
                </a:lnTo>
                <a:lnTo>
                  <a:pt x="27782" y="1400"/>
                </a:lnTo>
                <a:close/>
              </a:path>
              <a:path fill="darkenLess" w="29182" h="21600">
                <a:moveTo>
                  <a:pt x="29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82" y="20200"/>
                </a:lnTo>
                <a:close/>
              </a:path>
              <a:path fill="lighten" w="29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3440" y="914400"/>
            <a:ext cx="2233440" cy="5638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30492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ISPONI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32160" y="3317760"/>
            <a:ext cx="439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 Si es analítico o heurí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La resolución de problem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) Para la resolución de problem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iestructur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1886040" cy="4057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41080" y="304920"/>
            <a:ext cx="38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APOYO A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7036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1120" y="3505320"/>
            <a:ext cx="576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 sistema de apoyo a Decisiones se le def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Organizar la Informació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 = (Sistema de apoyo a decision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304920"/>
            <a:ext cx="50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ACTERÍSTICAS DEL SISTEM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APOYO A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0160" y="3352680"/>
            <a:ext cx="710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- Un DSS le permite la Interacción (Usuario - Interfaz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- Un DSS Da soporte a las decisiones del analis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- Se diseña para un particular o un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- Hace uso de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41080" y="304920"/>
            <a:ext cx="38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DEL SISTEM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APOYO A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7440" y="2666880"/>
            <a:ext cx="4556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isten Tres Niveles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tratégic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ministrativ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41080" y="304920"/>
            <a:ext cx="38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DEL SISTEM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APOYO A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7920" y="2851200"/>
            <a:ext cx="47876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vel Operacional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decisiones se pueden tom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ser automatizadas satisfactor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completamen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41080" y="304920"/>
            <a:ext cx="38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DEL SISTEM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APOYO A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5160" y="2851200"/>
            <a:ext cx="82944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vel Estratégico y Administrativo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tipos de problemas que ayudará a solucionar el DS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complejos y semiestructurados y es tarea de es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eles es ayudar a solucionar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4640" y="30492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DEL PROCESO DE DECI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TES PARA LOS D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8640" y="2286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ME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2666880"/>
            <a:ext cx="8382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necesario tener en cuenta para la toma de decisiones l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formación, los métodos, teorías y que tienen com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acier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certidumbr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iesg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6:48Z</dcterms:created>
  <dc:creator>Gerardo Moreno Martínez</dc:creator>
  <dc:description/>
  <dc:language>en-US</dc:language>
  <cp:lastModifiedBy>Gerardo Moreno Martínez</cp:lastModifiedBy>
  <dcterms:modified xsi:type="dcterms:W3CDTF">2000-06-14T00:39:26Z</dcterms:modified>
  <cp:revision>13</cp:revision>
  <dc:subject/>
  <dc:title>Sin título de diapositiva</dc:title>
</cp:coreProperties>
</file>