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C609A-B200-49B5-992A-BD2F957C5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200FC-4ABA-4D04-B715-5C22D857A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BE692-CED3-48B6-8D4F-107EDA58E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3AEB5-7AB2-4EC9-B28A-DF512F08E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3A3B3-B60E-4C4D-92A6-1EB5DF03E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F908B-2FC6-417E-AE12-F88F5AB7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1D275-C01E-406A-B434-B4444340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692D3-D554-493B-A0B9-14DB5DC37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2238D-5DA3-4C01-B3E4-78AE0AD64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EC0B-CA2D-4818-B03B-CED0C2DC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67B2A-CC4A-4229-8F28-655A2527C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D118-7C09-474B-B817-F190F11EF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AB7F-6D8E-4A80-88D9-C119F464F9AD}"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64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ALIFORNIA DEL SABOR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2060280"/>
            <a:ext cx="6400800" cy="2305080"/>
          </a:xfrm>
          <a:prstGeom prst="rect">
            <a:avLst/>
          </a:prstGeom>
          <a:noFill/>
          <a:ln w="0">
            <a:noFill/>
          </a:ln>
        </p:spPr>
        <p:txBody>
          <a:bodyPr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898989"/>
                </a:solidFill>
                <a:latin typeface="Calibri"/>
              </a:rPr>
              <a:t>INTRODUCCIÓN</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898989"/>
                </a:solidFill>
                <a:latin typeface="Calibri"/>
              </a:rPr>
              <a:t> </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898989"/>
                </a:solidFill>
                <a:latin typeface="Calibri"/>
              </a:rPr>
              <a:t> </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898989"/>
                </a:solidFill>
                <a:latin typeface="Calibri"/>
              </a:rPr>
              <a:t>La empresa  CALIFORNIA DEL SABOR es planteada como una opción practica de prestar un gran servicio  a la comunidad, mediante excelentes productos con  precios favorable al alcance de su bolsillo.</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898989"/>
                </a:solidFill>
                <a:latin typeface="Calibri"/>
              </a:rPr>
              <a:t>Con este proyecto se busca crear un servicio a la comunidad pensando en el bienestar y desarrollo del sector, ya que este contribuye de una manera sana y saludable a la buena alimentación de quienes se den la oportunidad de consumir los productos y la generación de empleo</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 </a:t>
            </a:r>
            <a:br>
              <a:rPr sz="4000"/>
            </a:br>
            <a:r>
              <a:rPr b="1" lang="es-ES" sz="4000" spc="-1" strike="noStrike">
                <a:solidFill>
                  <a:srgbClr val="000000"/>
                </a:solidFill>
                <a:latin typeface="Calibri"/>
              </a:rPr>
              <a:t>CAPACIDAD DE PRODUCCIÓN</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 </a:t>
            </a:r>
            <a:r>
              <a:rPr b="0" lang="es-CO" sz="3000" spc="-1" strike="noStrike">
                <a:solidFill>
                  <a:srgbClr val="000000"/>
                </a:solidFill>
                <a:latin typeface="Calibri"/>
              </a:rPr>
              <a:t>Se cuenta con un equipo para hornear la galleta con capacidad de producir 800 galletas por hora y trabajando 8 horas  diarias se logra un total de 6.400 galletas para un total de 800 paquetes  al día, si trabajamos 8 horas diarias y 25 días al mes, se produciría  aproximadamente 20.000 paquetes de galletas “La Ricura” al mes; el peso promedio de un paquete de galleta es 106 gramos, costo unitario de producción de un paquete de galletas equivale $272, se estima que el v/r de venta por paquete será de $500.</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STUDIO DE MERCADO</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ara la idea de negocio  GALLETA LA RICURA  se plantea definir como estrategia el precio según la cantidad, tipo de empaque y fecha especial se manej</a:t>
            </a:r>
            <a:r>
              <a:rPr b="0" lang="es-ES" sz="2200" spc="-1" strike="noStrike">
                <a:solidFill>
                  <a:srgbClr val="000000"/>
                </a:solidFill>
                <a:latin typeface="Calibri"/>
              </a:rPr>
              <a:t> Aquí se plasma todo lo referente a las ventas que se ofertan en la idea de negocio, conociendo de antemano el sector donde se ubicará la empresa y la  investigación realizada acerca de la competenci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omo el negocio va estar ubicado en la comuna 12 (Barrio Santa Monica Popular), se toma como referencia de posibles consumidores a los habitantes menores de edad, padres de familia (laborando), que pueden adquirir el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ran tres tipos de presentación; fechas especiales (cajas),sin relleno  y con relleno, ya que en este sector seria innovador , económico, para brindar facilidades a los posibles clientes a la hora de elegir los productos que requier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líticas de precio de la competencia:</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ara la idea de negocio GALLETA LA RICURA  se plantea definir como estrategia el precio según la cantidad, tipo de empaque y fecha especial se manejaran tres tipos de presentación; fechas especiales (cajas),sin relleno  y con relleno, ya que en este sector seria innovador , económico, para brindar facilidades a los posibles clientes a la hora de elegir los productos que requie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UBLICIDAD</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Calibri"/>
              </a:rPr>
              <a:t> </a:t>
            </a:r>
            <a:r>
              <a:rPr b="1" lang="es-ES" sz="3000" spc="-1" strike="noStrike">
                <a:solidFill>
                  <a:srgbClr val="000000"/>
                </a:solidFill>
                <a:latin typeface="Calibri"/>
              </a:rPr>
              <a:t>PROMOCIÓ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 producto galleta la ricura  se promocionara inicialmente en colegios y tiendas utilizando como estrategias de muestr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agina de internet  www.californiadelsabor.co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ublicidad T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volantes y tarjet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Teléfon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Calibri"/>
              </a:rPr>
              <a:t>Estrategia promocional</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Como estrategia promocional se pretende implementar diferentes clases de presentación del producto como estímulo de compra y fidelización del cliente, entre ellas se plantean las siguien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xcelente publicidad para hacernos conoc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Desarrollar una campaña agresiva de marketing con precios altamente competitivo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Ofrecer una excelente presentació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Calibri"/>
              </a:rPr>
              <a:t>OBJETIVOS</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alibri"/>
              </a:rPr>
              <a:t>Objetivo Gener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Ofrecer unos excelentes productos mediante la producción de galletas con unos variados surtidos a diferentes prec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aborar  productos de alta c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alibri"/>
              </a:rPr>
              <a:t>Objetivo Especific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roporcionar un servicio con calidad donde los clientes puedan escoger del variado surtido de galletas con diferentes sabo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Reducir tiempo ya que la producción estará cerca de su  lugar  de trabajo o casa mediante el servicio de mensajer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Calibri"/>
              </a:rPr>
              <a:t>HISTORIA</a:t>
            </a:r>
            <a:br>
              <a:rPr sz="4000"/>
            </a:b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La empresa CALIFORNIA DEL SABOR  nace con una idea que rondaba varios años atrás, donde abuelos que elaboraban un similar producto como una oportunidad de negocio de familia, con el fin de deleitar a la comunidad ofreciendo productos de  excelente calidad al consumidor y con una determinación de expansión a nivel local y region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Calibri"/>
              </a:rPr>
              <a:t>MISIÓ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La empresa </a:t>
            </a:r>
            <a:r>
              <a:rPr b="1" lang="es-CO" sz="3200" spc="-1" strike="noStrike">
                <a:solidFill>
                  <a:srgbClr val="000000"/>
                </a:solidFill>
                <a:latin typeface="Calibri"/>
              </a:rPr>
              <a:t>CALIFORNIA DEL SABOR </a:t>
            </a:r>
            <a:r>
              <a:rPr b="0" lang="es-CO" sz="3200" spc="-1" strike="noStrike">
                <a:solidFill>
                  <a:srgbClr val="000000"/>
                </a:solidFill>
                <a:latin typeface="Calibri"/>
              </a:rPr>
              <a:t>asume con responsabilidad social, la  Producción  y comercialización de productos de alta calidad que mejore la forma de alimentación del ser humano, estando enfocada en brindar un excelente servicio, teniendo en cuenta los productos para un buen deleite y nutrición del consumidor, brindando  excelente comodidad a los clientes y desarrollo al secto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Calibri"/>
              </a:rPr>
              <a:t>VISIÓ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S</a:t>
            </a:r>
            <a:r>
              <a:rPr b="0" lang="es-AR" sz="3200" spc="-1" strike="noStrike">
                <a:solidFill>
                  <a:srgbClr val="000000"/>
                </a:solidFill>
                <a:latin typeface="Calibri"/>
              </a:rPr>
              <a:t>er reconocidos como una Empresa líder en el año </a:t>
            </a:r>
            <a:r>
              <a:rPr b="0" lang="es-CO" sz="3200" spc="-1" strike="noStrike">
                <a:solidFill>
                  <a:srgbClr val="000000"/>
                </a:solidFill>
                <a:latin typeface="Calibri"/>
              </a:rPr>
              <a:t>2016 en la </a:t>
            </a:r>
            <a:r>
              <a:rPr b="0" lang="es-AR" sz="3200" spc="-1" strike="noStrike">
                <a:solidFill>
                  <a:srgbClr val="000000"/>
                </a:solidFill>
                <a:latin typeface="Calibri"/>
              </a:rPr>
              <a:t> elaboración y comercialización de productos  comestibles de excelente calidad</a:t>
            </a:r>
            <a:r>
              <a:rPr b="0" lang="es-CO" sz="3200" spc="-1" strike="noStrike">
                <a:solidFill>
                  <a:srgbClr val="000000"/>
                </a:solidFill>
                <a:latin typeface="Calibri"/>
              </a:rPr>
              <a:t>, contando con proyección expansión de más sedes en el departamento del Valle y  a nivel nacional convirtiéndonos en ser competitivos  con una alta  calidad de productos y servicios para satisfacer a todos los consumi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Calibri"/>
              </a:rPr>
              <a:t>DESCRIPCIÓN DEL PROYECTO.</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Nuestro proyecto  es la fabricación de galletas,  donde ofrecemos variedad de galletas: sencillas y rellenas de dulce mecato típico del Valle del Cauca, su presentación es creativo en los diferentes productos donde el cliente tendrá la oportunidad de deleitarse con las  deliciosas galletas la ricura que son destacadas en nuestra regió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INGREDIENTE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Calibri"/>
              </a:rPr>
              <a:t>Los ingredientes de estos productos son</a:t>
            </a:r>
            <a:r>
              <a:rPr b="0" lang="es-CO" sz="3000" spc="-1" strike="noStrike">
                <a:solidFill>
                  <a:srgbClr val="000000"/>
                </a:solidFill>
                <a:latin typeface="Calibri"/>
              </a:rPr>
              <a:t>: Harina de trigo, Huevos frescos, Leche en polvo, Mantequilla,  Azúcar refinada,  saborizantes artificiales, colorantes, Ariquipe y chocolat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Calibri"/>
              </a:rPr>
              <a:t>Presentación sencilla</a:t>
            </a:r>
            <a:r>
              <a:rPr b="0" lang="es-CO" sz="3000" spc="-1" strike="noStrike">
                <a:solidFill>
                  <a:srgbClr val="000000"/>
                </a:solidFill>
                <a:latin typeface="Calibri"/>
              </a:rPr>
              <a:t>, Contiene 106 gramos aproximadament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Calibri"/>
              </a:rPr>
              <a:t>Presentación con chocolate,</a:t>
            </a:r>
            <a:r>
              <a:rPr b="0" lang="es-CO" sz="3000" spc="-1" strike="noStrike">
                <a:solidFill>
                  <a:srgbClr val="000000"/>
                </a:solidFill>
                <a:latin typeface="Calibri"/>
              </a:rPr>
              <a:t> Contiene 122 gramos aproximadam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Calibri"/>
              </a:rPr>
              <a:t>Presentación con ariquipe;</a:t>
            </a:r>
            <a:r>
              <a:rPr b="0" lang="es-CO" sz="3000" spc="-1" strike="noStrike">
                <a:solidFill>
                  <a:srgbClr val="000000"/>
                </a:solidFill>
                <a:latin typeface="Calibri"/>
              </a:rPr>
              <a:t>  contiene 122 gramos aproximadam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Calibri"/>
              </a:rPr>
              <a:t>CLIENTES</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Todas las personas que gusten el deleite de galletas, podrán consumir nuestros deliciosos productos, lo cual estará dirigido a niños y niñas, hombres y mujeres de todas las edades. En el nicho de mercado está dirigido en la comuna 12 al Barrio Santa Mónica popular tenemos tiendas y colegios.  </a:t>
            </a:r>
            <a:r>
              <a:rPr b="1" lang="es-CO" sz="2700" spc="-1" strike="noStrike">
                <a:solidFill>
                  <a:srgbClr val="000000"/>
                </a:solidFill>
                <a:latin typeface="Calibri"/>
              </a:rPr>
              <a:t>CALIFORNIA DEL SABOR </a:t>
            </a:r>
            <a:r>
              <a:rPr b="0" lang="es-CO" sz="2700" spc="-1" strike="noStrike">
                <a:solidFill>
                  <a:srgbClr val="000000"/>
                </a:solidFill>
                <a:latin typeface="Calibri"/>
              </a:rPr>
              <a:t>ofrecerá un variado surtido de galletas con  precios  al  alcance de todas las personas. Cabe destacar que  los clientes pueden programar sus pedidos   sin ningún contra tiempo o por nuestra </a:t>
            </a:r>
            <a:r>
              <a:rPr b="1" lang="es-CO" sz="2700" spc="-1" strike="noStrike">
                <a:solidFill>
                  <a:srgbClr val="000000"/>
                </a:solidFill>
                <a:latin typeface="Calibri"/>
              </a:rPr>
              <a:t>web www.californiadelsabor.com.c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Calibri"/>
              </a:rPr>
              <a:t>COMPETENCIA </a:t>
            </a:r>
            <a:br>
              <a:rPr sz="4000"/>
            </a:b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La empresa  </a:t>
            </a:r>
            <a:r>
              <a:rPr b="1" lang="es-CO" sz="3000" spc="-1" strike="noStrike">
                <a:solidFill>
                  <a:srgbClr val="000000"/>
                </a:solidFill>
                <a:latin typeface="Calibri"/>
              </a:rPr>
              <a:t>CALIFORNIA DEL SABOR</a:t>
            </a:r>
            <a:r>
              <a:rPr b="0" lang="es-CO" sz="3000" spc="-1" strike="noStrike">
                <a:solidFill>
                  <a:srgbClr val="000000"/>
                </a:solidFill>
                <a:latin typeface="Calibri"/>
              </a:rPr>
              <a:t>  desea posicionarse en el mercado preferiblemente a nivel regional pero cabe destacar que para ello debe hacerlo primeramente en la ciudad de Cali (en la comuna 12 en el barrio SANTA MONICA POPULAR)  posteriormente a nivel municipal, regional; teniendo como competencia directa la </a:t>
            </a:r>
            <a:r>
              <a:rPr b="0" lang="es-CO" sz="3000" spc="-1" strike="noStrike" u="sng">
                <a:solidFill>
                  <a:srgbClr val="000000"/>
                </a:solidFill>
                <a:uFillTx/>
                <a:latin typeface="Calibri"/>
              </a:rPr>
              <a:t>panadería y pastelería mixta</a:t>
            </a:r>
            <a:r>
              <a:rPr b="0" lang="es-CO" sz="3000" spc="-1" strike="noStrike">
                <a:solidFill>
                  <a:srgbClr val="000000"/>
                </a:solidFill>
                <a:latin typeface="Calibri"/>
              </a:rPr>
              <a:t> quien elabora una similar galleta     entre otras que serán  competidores  indirectos para llevar a cabo dicho proyect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01:08:25Z</dcterms:created>
  <dc:creator>HERNANDO</dc:creator>
  <dc:description/>
  <dc:language>en-US</dc:language>
  <cp:lastModifiedBy>Intel</cp:lastModifiedBy>
  <dcterms:modified xsi:type="dcterms:W3CDTF">2011-05-27T03:11:32Z</dcterms:modified>
  <cp:revision>6</cp:revision>
  <dc:subject/>
  <dc:title>Presentación de PowerPoint</dc:title>
</cp:coreProperties>
</file>