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3B9D-8276-4F25-AFAE-486E47ACD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D573-62D0-4D42-AF10-DA195969A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5FF2-9DE1-42F1-89C4-1FD7244CD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0E40-A9DF-4037-8D28-D2A127DED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BD1D-6749-4EB3-8B71-E4BFB4D42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D0DF-673E-479C-9CF0-3A76C3991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79AE-9FFF-4AC4-929D-C9F2743D7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4471-A648-441E-88E4-972CB6432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1E45-69FF-409A-80E4-6EFF1E0F2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7F9F-BFBC-43A8-B7D8-5E1F7F77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1FE6-37B7-4A10-A95A-D9BE4706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0C10-F706-43C6-93C3-E8C19AE0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DE2EA-53DA-4F75-8067-6A05AF20157C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3.jpeg"/><Relationship Id="rId9" Type="http://schemas.openxmlformats.org/officeDocument/2006/relationships/image" Target="../media/image4.jpeg"/><Relationship Id="rId10" Type="http://schemas.openxmlformats.org/officeDocument/2006/relationships/image" Target="../media/image5.jpeg"/><Relationship Id="rId11" Type="http://schemas.openxmlformats.org/officeDocument/2006/relationships/image" Target="../media/image6.jpe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Rectangle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1"/>
          <p:cNvSpPr/>
          <p:nvPr/>
        </p:nvSpPr>
        <p:spPr>
          <a:xfrm>
            <a:off x="1995120" y="2859120"/>
            <a:ext cx="49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Matura MT Script Capitals"/>
                <a:ea typeface="Calibri"/>
              </a:rPr>
              <a:t>Desarrollo End</a:t>
            </a:r>
            <a:r>
              <a:rPr b="1" lang="es-ES" sz="3600" spc="-1" strike="noStrike">
                <a:solidFill>
                  <a:srgbClr val="000000"/>
                </a:solidFill>
                <a:latin typeface="Calibri"/>
                <a:ea typeface="Calibri"/>
              </a:rPr>
              <a:t>ó</a:t>
            </a:r>
            <a:r>
              <a:rPr b="1" lang="es-ES" sz="3600" spc="-1" strike="noStrike">
                <a:solidFill>
                  <a:srgbClr val="000000"/>
                </a:solidFill>
                <a:latin typeface="Matura MT Script Capitals"/>
                <a:ea typeface="Calibri"/>
              </a:rPr>
              <a:t>gen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285920" y="237240"/>
            <a:ext cx="7072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Calibri"/>
              </a:rPr>
              <a:t>Rep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Calibri"/>
              </a:rPr>
              <a:t>ú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Calibri"/>
              </a:rPr>
              <a:t>blica Bolivariana de Venezuel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Calibri"/>
              </a:rPr>
              <a:t>Ministerio del Poder Popular para la  Educaci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Calibri"/>
              </a:rPr>
              <a:t>ó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Calibri"/>
              </a:rPr>
              <a:t>n Universitar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Calibri"/>
              </a:rPr>
              <a:t>UNIVERSIDAD NACIONAL EXPERIMENTAL R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Calibri"/>
              </a:rPr>
              <a:t>Ó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Calibri"/>
              </a:rPr>
              <a:t>MULO GALLEGO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Á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ea Ciencias Pol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í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icas y Jur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í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ica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ú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leo: Calabozo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do- Gu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á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i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Imagen 1" descr=""/>
          <p:cNvPicPr/>
          <p:nvPr/>
        </p:nvPicPr>
        <p:blipFill>
          <a:blip r:embed="rId2"/>
          <a:srcRect l="3297" t="10427" r="3796" b="6093"/>
          <a:stretch/>
        </p:blipFill>
        <p:spPr>
          <a:xfrm>
            <a:off x="3357720" y="1428840"/>
            <a:ext cx="2390760" cy="9144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644400" y="155484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27"/>
          <p:cNvSpPr/>
          <p:nvPr/>
        </p:nvSpPr>
        <p:spPr>
          <a:xfrm>
            <a:off x="0" y="214200"/>
            <a:ext cx="9144000" cy="6643800"/>
          </a:xfrm>
          <a:prstGeom prst="rect">
            <a:avLst/>
          </a:prstGeom>
          <a:noFill/>
          <a:ln w="76320">
            <a:solidFill>
              <a:srgbClr val="00cc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7" descr="IM000464"/>
          <p:cNvPicPr/>
          <p:nvPr/>
        </p:nvPicPr>
        <p:blipFill>
          <a:blip r:embed="rId3"/>
          <a:stretch/>
        </p:blipFill>
        <p:spPr>
          <a:xfrm>
            <a:off x="0" y="1785960"/>
            <a:ext cx="1571760" cy="1025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0" name="Picture 28" descr="IM000458"/>
          <p:cNvPicPr/>
          <p:nvPr/>
        </p:nvPicPr>
        <p:blipFill>
          <a:blip r:embed="rId4"/>
          <a:stretch/>
        </p:blipFill>
        <p:spPr>
          <a:xfrm>
            <a:off x="1857240" y="4286160"/>
            <a:ext cx="2016360" cy="1063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1" name="Picture 32" descr="IM000476"/>
          <p:cNvPicPr/>
          <p:nvPr/>
        </p:nvPicPr>
        <p:blipFill>
          <a:blip r:embed="rId5"/>
          <a:stretch/>
        </p:blipFill>
        <p:spPr>
          <a:xfrm>
            <a:off x="285840" y="3071880"/>
            <a:ext cx="1995480" cy="1052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2" name="Picture 35" descr="Cap0028"/>
          <p:cNvPicPr/>
          <p:nvPr/>
        </p:nvPicPr>
        <p:blipFill>
          <a:blip r:embed="rId6"/>
          <a:stretch/>
        </p:blipFill>
        <p:spPr>
          <a:xfrm>
            <a:off x="3643200" y="5357880"/>
            <a:ext cx="2016360" cy="1065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3" name="Rectangle 5"/>
          <p:cNvSpPr/>
          <p:nvPr/>
        </p:nvSpPr>
        <p:spPr>
          <a:xfrm>
            <a:off x="3749400" y="6491160"/>
            <a:ext cx="164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Calibri"/>
              </a:rPr>
              <a:t>Septiembre, de 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Picture 2" descr="img_%5B48_3%5D"/>
          <p:cNvPicPr/>
          <p:nvPr/>
        </p:nvPicPr>
        <p:blipFill>
          <a:blip r:embed="rId2"/>
          <a:stretch/>
        </p:blipFill>
        <p:spPr>
          <a:xfrm>
            <a:off x="1139760" y="0"/>
            <a:ext cx="5857920" cy="685800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28400" y="1700280"/>
            <a:ext cx="80722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99"/>
                </a:solidFill>
                <a:latin typeface="Arial"/>
                <a:ea typeface="Arial"/>
              </a:rPr>
              <a:t>   </a:t>
            </a:r>
            <a:r>
              <a:rPr b="0" lang="es-MX" sz="2600" spc="-1" strike="noStrike">
                <a:solidFill>
                  <a:srgbClr val="000099"/>
                </a:solidFill>
                <a:latin typeface="Arial"/>
                <a:ea typeface="Arial"/>
              </a:rPr>
              <a:t>DEFINICIÓN DE DESARROLLO ENDÓGENO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99"/>
                </a:solidFill>
                <a:latin typeface="Arial"/>
                <a:ea typeface="Arial"/>
              </a:rPr>
              <a:t>   </a:t>
            </a:r>
            <a:r>
              <a:rPr b="0" lang="es-MX" sz="2600" spc="-1" strike="noStrike">
                <a:solidFill>
                  <a:srgbClr val="000099"/>
                </a:solidFill>
                <a:latin typeface="Arial"/>
                <a:ea typeface="Arial"/>
              </a:rPr>
              <a:t>CARACTERÍSTICA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99"/>
                </a:solidFill>
                <a:latin typeface="Arial"/>
                <a:ea typeface="Arial"/>
              </a:rPr>
              <a:t>   </a:t>
            </a:r>
            <a:r>
              <a:rPr b="0" lang="es-MX" sz="2600" spc="-1" strike="noStrike">
                <a:solidFill>
                  <a:srgbClr val="000099"/>
                </a:solidFill>
                <a:latin typeface="Arial"/>
                <a:ea typeface="Arial"/>
              </a:rPr>
              <a:t>OBJETIVO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99"/>
                </a:solidFill>
                <a:latin typeface="Arial"/>
                <a:ea typeface="Arial"/>
              </a:rPr>
              <a:t>   </a:t>
            </a:r>
            <a:r>
              <a:rPr b="0" lang="es-MX" sz="2600" spc="-1" strike="noStrike">
                <a:solidFill>
                  <a:srgbClr val="000099"/>
                </a:solidFill>
                <a:latin typeface="Arial"/>
                <a:ea typeface="Arial"/>
              </a:rPr>
              <a:t>VENTAJA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99"/>
                </a:solidFill>
                <a:latin typeface="Arial"/>
                <a:ea typeface="Arial"/>
              </a:rPr>
              <a:t>   </a:t>
            </a:r>
            <a:r>
              <a:rPr b="0" lang="es-MX" sz="2600" spc="-1" strike="noStrike">
                <a:solidFill>
                  <a:srgbClr val="000099"/>
                </a:solidFill>
                <a:latin typeface="Arial"/>
                <a:ea typeface="Arial"/>
              </a:rPr>
              <a:t>DESVENTAJ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s-MX" sz="2600" spc="-1" strike="noStrike">
                <a:solidFill>
                  <a:srgbClr val="000099"/>
                </a:solidFill>
                <a:latin typeface="Arial"/>
              </a:rPr>
              <a:t>BASAMENTO LEG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s-MX" sz="2600" spc="-1" strike="noStrike">
                <a:solidFill>
                  <a:srgbClr val="000099"/>
                </a:solidFill>
                <a:latin typeface="Arial"/>
              </a:rPr>
              <a:t>TIPOS DE DESARROLLO ECONÓMIC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s-MX" sz="2600" spc="-1" strike="noStrike">
                <a:solidFill>
                  <a:srgbClr val="000099"/>
                </a:solidFill>
                <a:latin typeface="Arial"/>
              </a:rPr>
              <a:t>DIFERENCIAS ENTRE TIPOS DE    DESARROLLO ECONÓMICO</a:t>
            </a:r>
            <a:r>
              <a:rPr b="0" lang="es-MX" sz="26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3132000" y="476280"/>
            <a:ext cx="2248200" cy="571320"/>
          </a:xfrm>
          <a:prstGeom prst="rect">
            <a:avLst/>
          </a:prstGeom>
        </p:spPr>
        <p:txBody>
          <a:bodyPr wrap="none" lIns="90000" rIns="90000" tIns="46800" bIns="46800" anchor="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ntenid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7" name="Picture 12" descr="IM000468"/>
          <p:cNvPicPr/>
          <p:nvPr/>
        </p:nvPicPr>
        <p:blipFill>
          <a:blip r:embed="rId4"/>
          <a:stretch/>
        </p:blipFill>
        <p:spPr>
          <a:xfrm>
            <a:off x="0" y="5977080"/>
            <a:ext cx="9144000" cy="981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27"/>
          <p:cNvSpPr/>
          <p:nvPr/>
        </p:nvSpPr>
        <p:spPr>
          <a:xfrm>
            <a:off x="0" y="428760"/>
            <a:ext cx="9144000" cy="6429240"/>
          </a:xfrm>
          <a:prstGeom prst="rect">
            <a:avLst/>
          </a:prstGeom>
          <a:noFill/>
          <a:ln w="76320">
            <a:solidFill>
              <a:srgbClr val="00cc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7" descr="IM000464"/>
          <p:cNvPicPr/>
          <p:nvPr/>
        </p:nvPicPr>
        <p:blipFill>
          <a:blip r:embed="rId5"/>
          <a:stretch/>
        </p:blipFill>
        <p:spPr>
          <a:xfrm>
            <a:off x="7858080" y="500040"/>
            <a:ext cx="1214640" cy="1025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0" name="Picture 28" descr="IM000458"/>
          <p:cNvPicPr/>
          <p:nvPr/>
        </p:nvPicPr>
        <p:blipFill>
          <a:blip r:embed="rId6"/>
          <a:stretch/>
        </p:blipFill>
        <p:spPr>
          <a:xfrm>
            <a:off x="7858080" y="3357720"/>
            <a:ext cx="1214640" cy="1063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1" name="Picture 32" descr="IM000476"/>
          <p:cNvPicPr/>
          <p:nvPr/>
        </p:nvPicPr>
        <p:blipFill>
          <a:blip r:embed="rId7"/>
          <a:stretch/>
        </p:blipFill>
        <p:spPr>
          <a:xfrm>
            <a:off x="7858080" y="1785960"/>
            <a:ext cx="1214640" cy="1052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2" name="Picture 35" descr="Cap0028"/>
          <p:cNvPicPr/>
          <p:nvPr/>
        </p:nvPicPr>
        <p:blipFill>
          <a:blip r:embed="rId8"/>
          <a:stretch/>
        </p:blipFill>
        <p:spPr>
          <a:xfrm>
            <a:off x="7858080" y="4857840"/>
            <a:ext cx="1285920" cy="1065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65" name="Rectangle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Desarrollo Endógeno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6 Sol"/>
          <p:cNvSpPr/>
          <p:nvPr/>
        </p:nvSpPr>
        <p:spPr>
          <a:xfrm>
            <a:off x="1643040" y="1428840"/>
            <a:ext cx="5572080" cy="3786120"/>
          </a:xfrm>
          <a:prstGeom prst="sun">
            <a:avLst>
              <a:gd name="adj" fmla="val 25000"/>
            </a:avLst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Desarrollo Endógeno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7 Forma libre"/>
          <p:cNvSpPr/>
          <p:nvPr/>
        </p:nvSpPr>
        <p:spPr>
          <a:xfrm>
            <a:off x="4419720" y="873000"/>
            <a:ext cx="2160360" cy="554040"/>
          </a:xfrm>
          <a:custGeom>
            <a:avLst/>
            <a:gdLst/>
            <a:ahLst/>
            <a:rect l="l" t="t" r="r" b="b"/>
            <a:pathLst>
              <a:path w="2161309" h="554182">
                <a:moveTo>
                  <a:pt x="0" y="554182"/>
                </a:moveTo>
                <a:cubicBezTo>
                  <a:pt x="10369" y="523076"/>
                  <a:pt x="27761" y="468191"/>
                  <a:pt x="41564" y="443346"/>
                </a:cubicBezTo>
                <a:cubicBezTo>
                  <a:pt x="80298" y="373624"/>
                  <a:pt x="73159" y="401445"/>
                  <a:pt x="124691" y="360219"/>
                </a:cubicBezTo>
                <a:cubicBezTo>
                  <a:pt x="167649" y="325853"/>
                  <a:pt x="137102" y="333231"/>
                  <a:pt x="193964" y="304800"/>
                </a:cubicBezTo>
                <a:cubicBezTo>
                  <a:pt x="213837" y="294864"/>
                  <a:pt x="273193" y="281529"/>
                  <a:pt x="290945" y="277091"/>
                </a:cubicBezTo>
                <a:cubicBezTo>
                  <a:pt x="862944" y="289008"/>
                  <a:pt x="1083824" y="306914"/>
                  <a:pt x="1662545" y="263237"/>
                </a:cubicBezTo>
                <a:cubicBezTo>
                  <a:pt x="1675570" y="262254"/>
                  <a:pt x="1680055" y="243688"/>
                  <a:pt x="1690255" y="235528"/>
                </a:cubicBezTo>
                <a:cubicBezTo>
                  <a:pt x="1703257" y="225126"/>
                  <a:pt x="1717964" y="217055"/>
                  <a:pt x="1731818" y="207819"/>
                </a:cubicBezTo>
                <a:cubicBezTo>
                  <a:pt x="1758791" y="126902"/>
                  <a:pt x="1724569" y="201214"/>
                  <a:pt x="1787236" y="138546"/>
                </a:cubicBezTo>
                <a:cubicBezTo>
                  <a:pt x="1799010" y="126772"/>
                  <a:pt x="1804543" y="109984"/>
                  <a:pt x="1814945" y="96982"/>
                </a:cubicBezTo>
                <a:cubicBezTo>
                  <a:pt x="1823105" y="86782"/>
                  <a:pt x="1834495" y="79473"/>
                  <a:pt x="1842655" y="69273"/>
                </a:cubicBezTo>
                <a:cubicBezTo>
                  <a:pt x="1853057" y="56271"/>
                  <a:pt x="1856244" y="36534"/>
                  <a:pt x="1870364" y="27709"/>
                </a:cubicBezTo>
                <a:cubicBezTo>
                  <a:pt x="1895132" y="12229"/>
                  <a:pt x="1953491" y="0"/>
                  <a:pt x="1953491" y="0"/>
                </a:cubicBezTo>
                <a:cubicBezTo>
                  <a:pt x="2124288" y="15527"/>
                  <a:pt x="2054882" y="13855"/>
                  <a:pt x="2161309" y="13855"/>
                </a:cubicBezTo>
              </a:path>
            </a:pathLst>
          </a:custGeom>
          <a:solidFill>
            <a:srgbClr val="ff0000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8 Forma libre"/>
          <p:cNvSpPr/>
          <p:nvPr/>
        </p:nvSpPr>
        <p:spPr>
          <a:xfrm>
            <a:off x="6357960" y="4286160"/>
            <a:ext cx="2160720" cy="554040"/>
          </a:xfrm>
          <a:custGeom>
            <a:avLst/>
            <a:gdLst/>
            <a:ahLst/>
            <a:rect l="l" t="t" r="r" b="b"/>
            <a:pathLst>
              <a:path w="2161309" h="554182">
                <a:moveTo>
                  <a:pt x="0" y="554182"/>
                </a:moveTo>
                <a:cubicBezTo>
                  <a:pt x="10369" y="523076"/>
                  <a:pt x="27761" y="468191"/>
                  <a:pt x="41564" y="443346"/>
                </a:cubicBezTo>
                <a:cubicBezTo>
                  <a:pt x="80298" y="373624"/>
                  <a:pt x="73159" y="401445"/>
                  <a:pt x="124691" y="360219"/>
                </a:cubicBezTo>
                <a:cubicBezTo>
                  <a:pt x="167649" y="325853"/>
                  <a:pt x="137102" y="333231"/>
                  <a:pt x="193964" y="304800"/>
                </a:cubicBezTo>
                <a:cubicBezTo>
                  <a:pt x="213837" y="294864"/>
                  <a:pt x="273193" y="281529"/>
                  <a:pt x="290945" y="277091"/>
                </a:cubicBezTo>
                <a:cubicBezTo>
                  <a:pt x="862944" y="289008"/>
                  <a:pt x="1083824" y="306914"/>
                  <a:pt x="1662545" y="263237"/>
                </a:cubicBezTo>
                <a:cubicBezTo>
                  <a:pt x="1675570" y="262254"/>
                  <a:pt x="1680055" y="243688"/>
                  <a:pt x="1690255" y="235528"/>
                </a:cubicBezTo>
                <a:cubicBezTo>
                  <a:pt x="1703257" y="225126"/>
                  <a:pt x="1717964" y="217055"/>
                  <a:pt x="1731818" y="207819"/>
                </a:cubicBezTo>
                <a:cubicBezTo>
                  <a:pt x="1758791" y="126902"/>
                  <a:pt x="1724569" y="201214"/>
                  <a:pt x="1787236" y="138546"/>
                </a:cubicBezTo>
                <a:cubicBezTo>
                  <a:pt x="1799010" y="126772"/>
                  <a:pt x="1804543" y="109984"/>
                  <a:pt x="1814945" y="96982"/>
                </a:cubicBezTo>
                <a:cubicBezTo>
                  <a:pt x="1823105" y="86782"/>
                  <a:pt x="1834495" y="79473"/>
                  <a:pt x="1842655" y="69273"/>
                </a:cubicBezTo>
                <a:cubicBezTo>
                  <a:pt x="1853057" y="56271"/>
                  <a:pt x="1856244" y="36534"/>
                  <a:pt x="1870364" y="27709"/>
                </a:cubicBezTo>
                <a:cubicBezTo>
                  <a:pt x="1895132" y="12229"/>
                  <a:pt x="1953491" y="0"/>
                  <a:pt x="1953491" y="0"/>
                </a:cubicBezTo>
                <a:cubicBezTo>
                  <a:pt x="2124288" y="15527"/>
                  <a:pt x="2054882" y="13855"/>
                  <a:pt x="2161309" y="13855"/>
                </a:cubicBezTo>
              </a:path>
            </a:pathLst>
          </a:custGeom>
          <a:solidFill>
            <a:srgbClr val="0070c0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9 Forma libre"/>
          <p:cNvSpPr/>
          <p:nvPr/>
        </p:nvSpPr>
        <p:spPr>
          <a:xfrm>
            <a:off x="6786720" y="3071880"/>
            <a:ext cx="2160360" cy="554040"/>
          </a:xfrm>
          <a:custGeom>
            <a:avLst/>
            <a:gdLst/>
            <a:ahLst/>
            <a:rect l="l" t="t" r="r" b="b"/>
            <a:pathLst>
              <a:path w="2161309" h="554182">
                <a:moveTo>
                  <a:pt x="0" y="554182"/>
                </a:moveTo>
                <a:cubicBezTo>
                  <a:pt x="10369" y="523076"/>
                  <a:pt x="27761" y="468191"/>
                  <a:pt x="41564" y="443346"/>
                </a:cubicBezTo>
                <a:cubicBezTo>
                  <a:pt x="80298" y="373624"/>
                  <a:pt x="73159" y="401445"/>
                  <a:pt x="124691" y="360219"/>
                </a:cubicBezTo>
                <a:cubicBezTo>
                  <a:pt x="167649" y="325853"/>
                  <a:pt x="137102" y="333231"/>
                  <a:pt x="193964" y="304800"/>
                </a:cubicBezTo>
                <a:cubicBezTo>
                  <a:pt x="213837" y="294864"/>
                  <a:pt x="273193" y="281529"/>
                  <a:pt x="290945" y="277091"/>
                </a:cubicBezTo>
                <a:cubicBezTo>
                  <a:pt x="862944" y="289008"/>
                  <a:pt x="1083824" y="306914"/>
                  <a:pt x="1662545" y="263237"/>
                </a:cubicBezTo>
                <a:cubicBezTo>
                  <a:pt x="1675570" y="262254"/>
                  <a:pt x="1680055" y="243688"/>
                  <a:pt x="1690255" y="235528"/>
                </a:cubicBezTo>
                <a:cubicBezTo>
                  <a:pt x="1703257" y="225126"/>
                  <a:pt x="1717964" y="217055"/>
                  <a:pt x="1731818" y="207819"/>
                </a:cubicBezTo>
                <a:cubicBezTo>
                  <a:pt x="1758791" y="126902"/>
                  <a:pt x="1724569" y="201214"/>
                  <a:pt x="1787236" y="138546"/>
                </a:cubicBezTo>
                <a:cubicBezTo>
                  <a:pt x="1799010" y="126772"/>
                  <a:pt x="1804543" y="109984"/>
                  <a:pt x="1814945" y="96982"/>
                </a:cubicBezTo>
                <a:cubicBezTo>
                  <a:pt x="1823105" y="86782"/>
                  <a:pt x="1834495" y="79473"/>
                  <a:pt x="1842655" y="69273"/>
                </a:cubicBezTo>
                <a:cubicBezTo>
                  <a:pt x="1853057" y="56271"/>
                  <a:pt x="1856244" y="36534"/>
                  <a:pt x="1870364" y="27709"/>
                </a:cubicBezTo>
                <a:cubicBezTo>
                  <a:pt x="1895132" y="12229"/>
                  <a:pt x="1953491" y="0"/>
                  <a:pt x="1953491" y="0"/>
                </a:cubicBezTo>
                <a:cubicBezTo>
                  <a:pt x="2124288" y="15527"/>
                  <a:pt x="2054882" y="13855"/>
                  <a:pt x="2161309" y="13855"/>
                </a:cubicBezTo>
              </a:path>
            </a:pathLst>
          </a:custGeom>
          <a:solidFill>
            <a:srgbClr val="00b050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10 Forma libre"/>
          <p:cNvSpPr/>
          <p:nvPr/>
        </p:nvSpPr>
        <p:spPr>
          <a:xfrm>
            <a:off x="6215040" y="1785960"/>
            <a:ext cx="2160720" cy="554040"/>
          </a:xfrm>
          <a:custGeom>
            <a:avLst/>
            <a:gdLst/>
            <a:ahLst/>
            <a:rect l="l" t="t" r="r" b="b"/>
            <a:pathLst>
              <a:path w="2161309" h="554182">
                <a:moveTo>
                  <a:pt x="0" y="554182"/>
                </a:moveTo>
                <a:cubicBezTo>
                  <a:pt x="10369" y="523076"/>
                  <a:pt x="27761" y="468191"/>
                  <a:pt x="41564" y="443346"/>
                </a:cubicBezTo>
                <a:cubicBezTo>
                  <a:pt x="80298" y="373624"/>
                  <a:pt x="73159" y="401445"/>
                  <a:pt x="124691" y="360219"/>
                </a:cubicBezTo>
                <a:cubicBezTo>
                  <a:pt x="167649" y="325853"/>
                  <a:pt x="137102" y="333231"/>
                  <a:pt x="193964" y="304800"/>
                </a:cubicBezTo>
                <a:cubicBezTo>
                  <a:pt x="213837" y="294864"/>
                  <a:pt x="273193" y="281529"/>
                  <a:pt x="290945" y="277091"/>
                </a:cubicBezTo>
                <a:cubicBezTo>
                  <a:pt x="862944" y="289008"/>
                  <a:pt x="1083824" y="306914"/>
                  <a:pt x="1662545" y="263237"/>
                </a:cubicBezTo>
                <a:cubicBezTo>
                  <a:pt x="1675570" y="262254"/>
                  <a:pt x="1680055" y="243688"/>
                  <a:pt x="1690255" y="235528"/>
                </a:cubicBezTo>
                <a:cubicBezTo>
                  <a:pt x="1703257" y="225126"/>
                  <a:pt x="1717964" y="217055"/>
                  <a:pt x="1731818" y="207819"/>
                </a:cubicBezTo>
                <a:cubicBezTo>
                  <a:pt x="1758791" y="126902"/>
                  <a:pt x="1724569" y="201214"/>
                  <a:pt x="1787236" y="138546"/>
                </a:cubicBezTo>
                <a:cubicBezTo>
                  <a:pt x="1799010" y="126772"/>
                  <a:pt x="1804543" y="109984"/>
                  <a:pt x="1814945" y="96982"/>
                </a:cubicBezTo>
                <a:cubicBezTo>
                  <a:pt x="1823105" y="86782"/>
                  <a:pt x="1834495" y="79473"/>
                  <a:pt x="1842655" y="69273"/>
                </a:cubicBezTo>
                <a:cubicBezTo>
                  <a:pt x="1853057" y="56271"/>
                  <a:pt x="1856244" y="36534"/>
                  <a:pt x="1870364" y="27709"/>
                </a:cubicBezTo>
                <a:cubicBezTo>
                  <a:pt x="1895132" y="12229"/>
                  <a:pt x="1953491" y="0"/>
                  <a:pt x="1953491" y="0"/>
                </a:cubicBezTo>
                <a:cubicBezTo>
                  <a:pt x="2124288" y="15527"/>
                  <a:pt x="2054882" y="13855"/>
                  <a:pt x="2161309" y="13855"/>
                </a:cubicBezTo>
              </a:path>
            </a:pathLst>
          </a:custGeom>
          <a:solidFill>
            <a:srgbClr val="ffff00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13 Rectángulo"/>
          <p:cNvSpPr/>
          <p:nvPr/>
        </p:nvSpPr>
        <p:spPr>
          <a:xfrm>
            <a:off x="4578120" y="78588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14 Rectángulo"/>
          <p:cNvSpPr/>
          <p:nvPr/>
        </p:nvSpPr>
        <p:spPr>
          <a:xfrm>
            <a:off x="6720120" y="157176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esarroll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15 Rectángulo"/>
          <p:cNvSpPr/>
          <p:nvPr/>
        </p:nvSpPr>
        <p:spPr>
          <a:xfrm>
            <a:off x="7295040" y="292896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otencia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16 Rectángulo"/>
          <p:cNvSpPr/>
          <p:nvPr/>
        </p:nvSpPr>
        <p:spPr>
          <a:xfrm>
            <a:off x="6795360" y="41432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apacidad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17 Forma libre"/>
          <p:cNvSpPr/>
          <p:nvPr/>
        </p:nvSpPr>
        <p:spPr>
          <a:xfrm>
            <a:off x="3286080" y="5214960"/>
            <a:ext cx="2160720" cy="554040"/>
          </a:xfrm>
          <a:custGeom>
            <a:avLst/>
            <a:gdLst/>
            <a:ahLst/>
            <a:rect l="l" t="t" r="r" b="b"/>
            <a:pathLst>
              <a:path w="2161309" h="554182">
                <a:moveTo>
                  <a:pt x="0" y="554182"/>
                </a:moveTo>
                <a:cubicBezTo>
                  <a:pt x="10369" y="523076"/>
                  <a:pt x="27761" y="468191"/>
                  <a:pt x="41564" y="443346"/>
                </a:cubicBezTo>
                <a:cubicBezTo>
                  <a:pt x="80298" y="373624"/>
                  <a:pt x="73159" y="401445"/>
                  <a:pt x="124691" y="360219"/>
                </a:cubicBezTo>
                <a:cubicBezTo>
                  <a:pt x="167649" y="325853"/>
                  <a:pt x="137102" y="333231"/>
                  <a:pt x="193964" y="304800"/>
                </a:cubicBezTo>
                <a:cubicBezTo>
                  <a:pt x="213837" y="294864"/>
                  <a:pt x="273193" y="281529"/>
                  <a:pt x="290945" y="277091"/>
                </a:cubicBezTo>
                <a:cubicBezTo>
                  <a:pt x="862944" y="289008"/>
                  <a:pt x="1083824" y="306914"/>
                  <a:pt x="1662545" y="263237"/>
                </a:cubicBezTo>
                <a:cubicBezTo>
                  <a:pt x="1675570" y="262254"/>
                  <a:pt x="1680055" y="243688"/>
                  <a:pt x="1690255" y="235528"/>
                </a:cubicBezTo>
                <a:cubicBezTo>
                  <a:pt x="1703257" y="225126"/>
                  <a:pt x="1717964" y="217055"/>
                  <a:pt x="1731818" y="207819"/>
                </a:cubicBezTo>
                <a:cubicBezTo>
                  <a:pt x="1758791" y="126902"/>
                  <a:pt x="1724569" y="201214"/>
                  <a:pt x="1787236" y="138546"/>
                </a:cubicBezTo>
                <a:cubicBezTo>
                  <a:pt x="1799010" y="126772"/>
                  <a:pt x="1804543" y="109984"/>
                  <a:pt x="1814945" y="96982"/>
                </a:cubicBezTo>
                <a:cubicBezTo>
                  <a:pt x="1823105" y="86782"/>
                  <a:pt x="1834495" y="79473"/>
                  <a:pt x="1842655" y="69273"/>
                </a:cubicBezTo>
                <a:cubicBezTo>
                  <a:pt x="1853057" y="56271"/>
                  <a:pt x="1856244" y="36534"/>
                  <a:pt x="1870364" y="27709"/>
                </a:cubicBezTo>
                <a:cubicBezTo>
                  <a:pt x="1895132" y="12229"/>
                  <a:pt x="1953491" y="0"/>
                  <a:pt x="1953491" y="0"/>
                </a:cubicBezTo>
                <a:cubicBezTo>
                  <a:pt x="2124288" y="15527"/>
                  <a:pt x="2054882" y="13855"/>
                  <a:pt x="2161309" y="13855"/>
                </a:cubicBezTo>
              </a:path>
            </a:pathLst>
          </a:custGeom>
          <a:solidFill>
            <a:srgbClr val="7030a0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18 Forma libre"/>
          <p:cNvSpPr/>
          <p:nvPr/>
        </p:nvSpPr>
        <p:spPr>
          <a:xfrm>
            <a:off x="714240" y="4643280"/>
            <a:ext cx="2160720" cy="554040"/>
          </a:xfrm>
          <a:custGeom>
            <a:avLst/>
            <a:gdLst/>
            <a:ahLst/>
            <a:rect l="l" t="t" r="r" b="b"/>
            <a:pathLst>
              <a:path w="2161309" h="554182">
                <a:moveTo>
                  <a:pt x="0" y="554182"/>
                </a:moveTo>
                <a:cubicBezTo>
                  <a:pt x="10369" y="523076"/>
                  <a:pt x="27761" y="468191"/>
                  <a:pt x="41564" y="443346"/>
                </a:cubicBezTo>
                <a:cubicBezTo>
                  <a:pt x="80298" y="373624"/>
                  <a:pt x="73159" y="401445"/>
                  <a:pt x="124691" y="360219"/>
                </a:cubicBezTo>
                <a:cubicBezTo>
                  <a:pt x="167649" y="325853"/>
                  <a:pt x="137102" y="333231"/>
                  <a:pt x="193964" y="304800"/>
                </a:cubicBezTo>
                <a:cubicBezTo>
                  <a:pt x="213837" y="294864"/>
                  <a:pt x="273193" y="281529"/>
                  <a:pt x="290945" y="277091"/>
                </a:cubicBezTo>
                <a:cubicBezTo>
                  <a:pt x="862944" y="289008"/>
                  <a:pt x="1083824" y="306914"/>
                  <a:pt x="1662545" y="263237"/>
                </a:cubicBezTo>
                <a:cubicBezTo>
                  <a:pt x="1675570" y="262254"/>
                  <a:pt x="1680055" y="243688"/>
                  <a:pt x="1690255" y="235528"/>
                </a:cubicBezTo>
                <a:cubicBezTo>
                  <a:pt x="1703257" y="225126"/>
                  <a:pt x="1717964" y="217055"/>
                  <a:pt x="1731818" y="207819"/>
                </a:cubicBezTo>
                <a:cubicBezTo>
                  <a:pt x="1758791" y="126902"/>
                  <a:pt x="1724569" y="201214"/>
                  <a:pt x="1787236" y="138546"/>
                </a:cubicBezTo>
                <a:cubicBezTo>
                  <a:pt x="1799010" y="126772"/>
                  <a:pt x="1804543" y="109984"/>
                  <a:pt x="1814945" y="96982"/>
                </a:cubicBezTo>
                <a:cubicBezTo>
                  <a:pt x="1823105" y="86782"/>
                  <a:pt x="1834495" y="79473"/>
                  <a:pt x="1842655" y="69273"/>
                </a:cubicBezTo>
                <a:cubicBezTo>
                  <a:pt x="1853057" y="56271"/>
                  <a:pt x="1856244" y="36534"/>
                  <a:pt x="1870364" y="27709"/>
                </a:cubicBezTo>
                <a:cubicBezTo>
                  <a:pt x="1895132" y="12229"/>
                  <a:pt x="1953491" y="0"/>
                  <a:pt x="1953491" y="0"/>
                </a:cubicBezTo>
                <a:cubicBezTo>
                  <a:pt x="2124288" y="15527"/>
                  <a:pt x="2054882" y="13855"/>
                  <a:pt x="2161309" y="13855"/>
                </a:cubicBezTo>
              </a:path>
            </a:pathLst>
          </a:custGeom>
          <a:solidFill>
            <a:srgbClr val="e46c0a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19 Forma libre"/>
          <p:cNvSpPr/>
          <p:nvPr/>
        </p:nvSpPr>
        <p:spPr>
          <a:xfrm>
            <a:off x="214200" y="3500280"/>
            <a:ext cx="2160720" cy="554040"/>
          </a:xfrm>
          <a:custGeom>
            <a:avLst/>
            <a:gdLst/>
            <a:ahLst/>
            <a:rect l="l" t="t" r="r" b="b"/>
            <a:pathLst>
              <a:path w="2161309" h="554182">
                <a:moveTo>
                  <a:pt x="0" y="554182"/>
                </a:moveTo>
                <a:cubicBezTo>
                  <a:pt x="10369" y="523076"/>
                  <a:pt x="27761" y="468191"/>
                  <a:pt x="41564" y="443346"/>
                </a:cubicBezTo>
                <a:cubicBezTo>
                  <a:pt x="80298" y="373624"/>
                  <a:pt x="73159" y="401445"/>
                  <a:pt x="124691" y="360219"/>
                </a:cubicBezTo>
                <a:cubicBezTo>
                  <a:pt x="167649" y="325853"/>
                  <a:pt x="137102" y="333231"/>
                  <a:pt x="193964" y="304800"/>
                </a:cubicBezTo>
                <a:cubicBezTo>
                  <a:pt x="213837" y="294864"/>
                  <a:pt x="273193" y="281529"/>
                  <a:pt x="290945" y="277091"/>
                </a:cubicBezTo>
                <a:cubicBezTo>
                  <a:pt x="862944" y="289008"/>
                  <a:pt x="1083824" y="306914"/>
                  <a:pt x="1662545" y="263237"/>
                </a:cubicBezTo>
                <a:cubicBezTo>
                  <a:pt x="1675570" y="262254"/>
                  <a:pt x="1680055" y="243688"/>
                  <a:pt x="1690255" y="235528"/>
                </a:cubicBezTo>
                <a:cubicBezTo>
                  <a:pt x="1703257" y="225126"/>
                  <a:pt x="1717964" y="217055"/>
                  <a:pt x="1731818" y="207819"/>
                </a:cubicBezTo>
                <a:cubicBezTo>
                  <a:pt x="1758791" y="126902"/>
                  <a:pt x="1724569" y="201214"/>
                  <a:pt x="1787236" y="138546"/>
                </a:cubicBezTo>
                <a:cubicBezTo>
                  <a:pt x="1799010" y="126772"/>
                  <a:pt x="1804543" y="109984"/>
                  <a:pt x="1814945" y="96982"/>
                </a:cubicBezTo>
                <a:cubicBezTo>
                  <a:pt x="1823105" y="86782"/>
                  <a:pt x="1834495" y="79473"/>
                  <a:pt x="1842655" y="69273"/>
                </a:cubicBezTo>
                <a:cubicBezTo>
                  <a:pt x="1853057" y="56271"/>
                  <a:pt x="1856244" y="36534"/>
                  <a:pt x="1870364" y="27709"/>
                </a:cubicBezTo>
                <a:cubicBezTo>
                  <a:pt x="1895132" y="12229"/>
                  <a:pt x="1953491" y="0"/>
                  <a:pt x="1953491" y="0"/>
                </a:cubicBezTo>
                <a:cubicBezTo>
                  <a:pt x="2124288" y="15527"/>
                  <a:pt x="2054882" y="13855"/>
                  <a:pt x="2161309" y="13855"/>
                </a:cubicBezTo>
              </a:path>
            </a:pathLst>
          </a:custGeom>
          <a:solidFill>
            <a:srgbClr val="ff0000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20 Forma libre"/>
          <p:cNvSpPr/>
          <p:nvPr/>
        </p:nvSpPr>
        <p:spPr>
          <a:xfrm>
            <a:off x="428760" y="1928880"/>
            <a:ext cx="2160360" cy="554040"/>
          </a:xfrm>
          <a:custGeom>
            <a:avLst/>
            <a:gdLst/>
            <a:ahLst/>
            <a:rect l="l" t="t" r="r" b="b"/>
            <a:pathLst>
              <a:path w="2161309" h="554182">
                <a:moveTo>
                  <a:pt x="0" y="554182"/>
                </a:moveTo>
                <a:cubicBezTo>
                  <a:pt x="10369" y="523076"/>
                  <a:pt x="27761" y="468191"/>
                  <a:pt x="41564" y="443346"/>
                </a:cubicBezTo>
                <a:cubicBezTo>
                  <a:pt x="80298" y="373624"/>
                  <a:pt x="73159" y="401445"/>
                  <a:pt x="124691" y="360219"/>
                </a:cubicBezTo>
                <a:cubicBezTo>
                  <a:pt x="167649" y="325853"/>
                  <a:pt x="137102" y="333231"/>
                  <a:pt x="193964" y="304800"/>
                </a:cubicBezTo>
                <a:cubicBezTo>
                  <a:pt x="213837" y="294864"/>
                  <a:pt x="273193" y="281529"/>
                  <a:pt x="290945" y="277091"/>
                </a:cubicBezTo>
                <a:cubicBezTo>
                  <a:pt x="862944" y="289008"/>
                  <a:pt x="1083824" y="306914"/>
                  <a:pt x="1662545" y="263237"/>
                </a:cubicBezTo>
                <a:cubicBezTo>
                  <a:pt x="1675570" y="262254"/>
                  <a:pt x="1680055" y="243688"/>
                  <a:pt x="1690255" y="235528"/>
                </a:cubicBezTo>
                <a:cubicBezTo>
                  <a:pt x="1703257" y="225126"/>
                  <a:pt x="1717964" y="217055"/>
                  <a:pt x="1731818" y="207819"/>
                </a:cubicBezTo>
                <a:cubicBezTo>
                  <a:pt x="1758791" y="126902"/>
                  <a:pt x="1724569" y="201214"/>
                  <a:pt x="1787236" y="138546"/>
                </a:cubicBezTo>
                <a:cubicBezTo>
                  <a:pt x="1799010" y="126772"/>
                  <a:pt x="1804543" y="109984"/>
                  <a:pt x="1814945" y="96982"/>
                </a:cubicBezTo>
                <a:cubicBezTo>
                  <a:pt x="1823105" y="86782"/>
                  <a:pt x="1834495" y="79473"/>
                  <a:pt x="1842655" y="69273"/>
                </a:cubicBezTo>
                <a:cubicBezTo>
                  <a:pt x="1853057" y="56271"/>
                  <a:pt x="1856244" y="36534"/>
                  <a:pt x="1870364" y="27709"/>
                </a:cubicBezTo>
                <a:cubicBezTo>
                  <a:pt x="1895132" y="12229"/>
                  <a:pt x="1953491" y="0"/>
                  <a:pt x="1953491" y="0"/>
                </a:cubicBezTo>
                <a:cubicBezTo>
                  <a:pt x="2124288" y="15527"/>
                  <a:pt x="2054882" y="13855"/>
                  <a:pt x="2161309" y="13855"/>
                </a:cubicBezTo>
              </a:path>
            </a:pathLst>
          </a:custGeom>
          <a:solidFill>
            <a:srgbClr val="ffc000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21 Rectángulo"/>
          <p:cNvSpPr/>
          <p:nvPr/>
        </p:nvSpPr>
        <p:spPr>
          <a:xfrm>
            <a:off x="8089920" y="3857760"/>
            <a:ext cx="10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Internas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22 Rectángulo"/>
          <p:cNvSpPr/>
          <p:nvPr/>
        </p:nvSpPr>
        <p:spPr>
          <a:xfrm>
            <a:off x="3219120" y="5072040"/>
            <a:ext cx="9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egión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23 Rectángulo"/>
          <p:cNvSpPr/>
          <p:nvPr/>
        </p:nvSpPr>
        <p:spPr>
          <a:xfrm>
            <a:off x="791280" y="450072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ortalecer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24 Rectángulo"/>
          <p:cNvSpPr/>
          <p:nvPr/>
        </p:nvSpPr>
        <p:spPr>
          <a:xfrm>
            <a:off x="223560" y="3071880"/>
            <a:ext cx="146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a sociedad 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a economía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7" descr="IM000464"/>
          <p:cNvPicPr/>
          <p:nvPr/>
        </p:nvPicPr>
        <p:blipFill>
          <a:blip r:embed="rId2"/>
          <a:stretch/>
        </p:blipFill>
        <p:spPr>
          <a:xfrm>
            <a:off x="411120" y="5789520"/>
            <a:ext cx="1943280" cy="1025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4" name="Picture 28" descr="IM000458"/>
          <p:cNvPicPr/>
          <p:nvPr/>
        </p:nvPicPr>
        <p:blipFill>
          <a:blip r:embed="rId3"/>
          <a:stretch/>
        </p:blipFill>
        <p:spPr>
          <a:xfrm>
            <a:off x="4659480" y="5794200"/>
            <a:ext cx="2016000" cy="1063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5" name="Picture 32" descr="IM000476"/>
          <p:cNvPicPr/>
          <p:nvPr/>
        </p:nvPicPr>
        <p:blipFill>
          <a:blip r:embed="rId4"/>
          <a:stretch/>
        </p:blipFill>
        <p:spPr>
          <a:xfrm>
            <a:off x="2500200" y="5786280"/>
            <a:ext cx="1995480" cy="1052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6" name="Picture 35" descr="Cap0028"/>
          <p:cNvPicPr/>
          <p:nvPr/>
        </p:nvPicPr>
        <p:blipFill>
          <a:blip r:embed="rId5"/>
          <a:stretch/>
        </p:blipFill>
        <p:spPr>
          <a:xfrm>
            <a:off x="6819840" y="5792760"/>
            <a:ext cx="2016360" cy="1065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7" name="29 Rectángulo"/>
          <p:cNvSpPr/>
          <p:nvPr/>
        </p:nvSpPr>
        <p:spPr>
          <a:xfrm>
            <a:off x="223200" y="1785960"/>
            <a:ext cx="23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 dentro hacia afuera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0" y="142920"/>
            <a:ext cx="9144000" cy="6715080"/>
          </a:xfrm>
          <a:prstGeom prst="rect">
            <a:avLst/>
          </a:prstGeom>
          <a:noFill/>
          <a:ln w="76320">
            <a:solidFill>
              <a:srgbClr val="00cc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WordArt 7"/>
          <p:cNvSpPr txBox="1"/>
          <p:nvPr/>
        </p:nvSpPr>
        <p:spPr>
          <a:xfrm>
            <a:off x="357120" y="428760"/>
            <a:ext cx="7286760" cy="571320"/>
          </a:xfrm>
          <a:prstGeom prst="rect">
            <a:avLst/>
          </a:prstGeom>
        </p:spPr>
        <p:txBody>
          <a:bodyPr wrap="none" lIns="90000" rIns="90000" tIns="46800" bIns="46800" anchor="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NCEPTO  DE  DESARROLLO ENDÓGENO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92" name="Rectangle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WordArt 7"/>
          <p:cNvSpPr txBox="1"/>
          <p:nvPr/>
        </p:nvSpPr>
        <p:spPr>
          <a:xfrm>
            <a:off x="1000080" y="214200"/>
            <a:ext cx="7286760" cy="738360"/>
          </a:xfrm>
          <a:prstGeom prst="rect">
            <a:avLst/>
          </a:prstGeom>
        </p:spPr>
        <p:txBody>
          <a:bodyPr wrap="none" lIns="90000" rIns="90000" tIns="46800" bIns="46800" anchor="t">
            <a:prstTxWarp prst="textDoubleWave1">
              <a:avLst>
                <a:gd name="adj1" fmla="val 6481"/>
                <a:gd name="adj2" fmla="val 3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ARACTERÍSTICAS DEL DESARROLLO ENDÓGENO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8 Pentágono"/>
          <p:cNvSpPr/>
          <p:nvPr/>
        </p:nvSpPr>
        <p:spPr>
          <a:xfrm>
            <a:off x="1285920" y="1357200"/>
            <a:ext cx="6572160" cy="428760"/>
          </a:xfrm>
          <a:custGeom>
            <a:avLst/>
            <a:gdLst>
              <a:gd name="textAreaLeft" fmla="*/ 0 w 6572160"/>
              <a:gd name="textAreaRight" fmla="*/ 6572520 w 657216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96" y="0"/>
                </a:lnTo>
                <a:lnTo>
                  <a:pt x="21600" y="10800"/>
                </a:lnTo>
                <a:lnTo>
                  <a:pt x="2089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lternativa ante el modo de vida integr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9 Pentágono"/>
          <p:cNvSpPr/>
          <p:nvPr/>
        </p:nvSpPr>
        <p:spPr>
          <a:xfrm>
            <a:off x="1357200" y="2357280"/>
            <a:ext cx="6572520" cy="428760"/>
          </a:xfrm>
          <a:custGeom>
            <a:avLst/>
            <a:gdLst>
              <a:gd name="textAreaLeft" fmla="*/ 0 w 6572520"/>
              <a:gd name="textAreaRight" fmla="*/ 6572880 w 657252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96" y="0"/>
                </a:lnTo>
                <a:lnTo>
                  <a:pt x="21600" y="10800"/>
                </a:lnTo>
                <a:lnTo>
                  <a:pt x="2089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Visión centrada en valores comunitar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10 Pentágono"/>
          <p:cNvSpPr/>
          <p:nvPr/>
        </p:nvSpPr>
        <p:spPr>
          <a:xfrm>
            <a:off x="1285920" y="3357720"/>
            <a:ext cx="6572160" cy="428400"/>
          </a:xfrm>
          <a:custGeom>
            <a:avLst/>
            <a:gdLst>
              <a:gd name="textAreaLeft" fmla="*/ 0 w 6572160"/>
              <a:gd name="textAreaRight" fmla="*/ 6572520 w 657216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96" y="0"/>
                </a:lnTo>
                <a:lnTo>
                  <a:pt x="21600" y="10800"/>
                </a:lnTo>
                <a:lnTo>
                  <a:pt x="2089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Modos y medios de producció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11 Pentágono"/>
          <p:cNvSpPr/>
          <p:nvPr/>
        </p:nvSpPr>
        <p:spPr>
          <a:xfrm>
            <a:off x="1357200" y="4500720"/>
            <a:ext cx="6572520" cy="428400"/>
          </a:xfrm>
          <a:custGeom>
            <a:avLst/>
            <a:gdLst>
              <a:gd name="textAreaLeft" fmla="*/ 0 w 6572520"/>
              <a:gd name="textAreaRight" fmla="*/ 6572880 w 657252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96" y="0"/>
                </a:lnTo>
                <a:lnTo>
                  <a:pt x="21600" y="10800"/>
                </a:lnTo>
                <a:lnTo>
                  <a:pt x="2089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oder a las comunidades organizada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13 Pentágono"/>
          <p:cNvSpPr/>
          <p:nvPr/>
        </p:nvSpPr>
        <p:spPr>
          <a:xfrm>
            <a:off x="1428840" y="5715000"/>
            <a:ext cx="6572160" cy="428760"/>
          </a:xfrm>
          <a:custGeom>
            <a:avLst/>
            <a:gdLst>
              <a:gd name="textAreaLeft" fmla="*/ 0 w 6572160"/>
              <a:gd name="textAreaRight" fmla="*/ 6572520 w 657216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96" y="0"/>
                </a:lnTo>
                <a:lnTo>
                  <a:pt x="21600" y="10800"/>
                </a:lnTo>
                <a:lnTo>
                  <a:pt x="2089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ustentable y sostenib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14 Flecha abajo"/>
          <p:cNvSpPr/>
          <p:nvPr/>
        </p:nvSpPr>
        <p:spPr>
          <a:xfrm>
            <a:off x="3857760" y="928800"/>
            <a:ext cx="1143000" cy="428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15 Flecha abajo"/>
          <p:cNvSpPr/>
          <p:nvPr/>
        </p:nvSpPr>
        <p:spPr>
          <a:xfrm>
            <a:off x="3929040" y="2857680"/>
            <a:ext cx="1143000" cy="428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16 Flecha abajo"/>
          <p:cNvSpPr/>
          <p:nvPr/>
        </p:nvSpPr>
        <p:spPr>
          <a:xfrm>
            <a:off x="3929040" y="1857240"/>
            <a:ext cx="114300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17 Flecha abajo"/>
          <p:cNvSpPr/>
          <p:nvPr/>
        </p:nvSpPr>
        <p:spPr>
          <a:xfrm>
            <a:off x="4000680" y="3929040"/>
            <a:ext cx="114300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18 Flecha abajo"/>
          <p:cNvSpPr/>
          <p:nvPr/>
        </p:nvSpPr>
        <p:spPr>
          <a:xfrm>
            <a:off x="4000680" y="5143680"/>
            <a:ext cx="1143000" cy="428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27"/>
          <p:cNvSpPr/>
          <p:nvPr/>
        </p:nvSpPr>
        <p:spPr>
          <a:xfrm>
            <a:off x="0" y="142920"/>
            <a:ext cx="9144000" cy="6715080"/>
          </a:xfrm>
          <a:prstGeom prst="rect">
            <a:avLst/>
          </a:prstGeom>
          <a:noFill/>
          <a:ln w="76320">
            <a:solidFill>
              <a:srgbClr val="00cc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7" descr="IM000464"/>
          <p:cNvPicPr/>
          <p:nvPr/>
        </p:nvPicPr>
        <p:blipFill>
          <a:blip r:embed="rId4"/>
          <a:stretch/>
        </p:blipFill>
        <p:spPr>
          <a:xfrm>
            <a:off x="0" y="1214280"/>
            <a:ext cx="1214280" cy="1025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6" name="Picture 28" descr="IM000458"/>
          <p:cNvPicPr/>
          <p:nvPr/>
        </p:nvPicPr>
        <p:blipFill>
          <a:blip r:embed="rId5"/>
          <a:stretch/>
        </p:blipFill>
        <p:spPr>
          <a:xfrm>
            <a:off x="0" y="4071960"/>
            <a:ext cx="1214280" cy="1063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7" name="Picture 32" descr="IM000476"/>
          <p:cNvPicPr/>
          <p:nvPr/>
        </p:nvPicPr>
        <p:blipFill>
          <a:blip r:embed="rId6"/>
          <a:stretch/>
        </p:blipFill>
        <p:spPr>
          <a:xfrm>
            <a:off x="0" y="2500200"/>
            <a:ext cx="1214280" cy="1052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8" name="Picture 35" descr="Cap0028"/>
          <p:cNvPicPr/>
          <p:nvPr/>
        </p:nvPicPr>
        <p:blipFill>
          <a:blip r:embed="rId7"/>
          <a:stretch/>
        </p:blipFill>
        <p:spPr>
          <a:xfrm>
            <a:off x="0" y="5572080"/>
            <a:ext cx="1285920" cy="1065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9" name="Picture 27" descr="IM000464"/>
          <p:cNvPicPr/>
          <p:nvPr/>
        </p:nvPicPr>
        <p:blipFill>
          <a:blip r:embed="rId8"/>
          <a:stretch/>
        </p:blipFill>
        <p:spPr>
          <a:xfrm>
            <a:off x="7858080" y="1214280"/>
            <a:ext cx="1214640" cy="1025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0" name="Picture 28" descr="IM000458"/>
          <p:cNvPicPr/>
          <p:nvPr/>
        </p:nvPicPr>
        <p:blipFill>
          <a:blip r:embed="rId9"/>
          <a:stretch/>
        </p:blipFill>
        <p:spPr>
          <a:xfrm>
            <a:off x="7858080" y="4071960"/>
            <a:ext cx="1214640" cy="1063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1" name="Picture 32" descr="IM000476"/>
          <p:cNvPicPr/>
          <p:nvPr/>
        </p:nvPicPr>
        <p:blipFill>
          <a:blip r:embed="rId10"/>
          <a:stretch/>
        </p:blipFill>
        <p:spPr>
          <a:xfrm>
            <a:off x="7858080" y="2500200"/>
            <a:ext cx="1214640" cy="1052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2" name="Picture 35" descr="Cap0028"/>
          <p:cNvPicPr/>
          <p:nvPr/>
        </p:nvPicPr>
        <p:blipFill>
          <a:blip r:embed="rId11"/>
          <a:stretch/>
        </p:blipFill>
        <p:spPr>
          <a:xfrm>
            <a:off x="7858080" y="5572080"/>
            <a:ext cx="1285920" cy="1065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15" name="Rectangle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romover, garantiza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y fomenta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WordArt 7"/>
          <p:cNvSpPr txBox="1"/>
          <p:nvPr/>
        </p:nvSpPr>
        <p:spPr>
          <a:xfrm>
            <a:off x="928800" y="0"/>
            <a:ext cx="7143480" cy="906480"/>
          </a:xfrm>
          <a:prstGeom prst="rect">
            <a:avLst/>
          </a:prstGeom>
        </p:spPr>
        <p:txBody>
          <a:bodyPr wrap="none" lIns="90000" rIns="90000" tIns="46800" bIns="46800" anchor="t">
            <a:prstTxWarp prst="textDoubleWave1">
              <a:avLst>
                <a:gd name="adj1" fmla="val 6481"/>
                <a:gd name="adj2" fmla="val 3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OBJETIVOS DEL DESARROLLO ENDÓGENO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" name="42 Rectángulo"/>
          <p:cNvSpPr/>
          <p:nvPr/>
        </p:nvSpPr>
        <p:spPr>
          <a:xfrm>
            <a:off x="214200" y="19288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esarrollo armónico,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olíticas, plan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43 Rectángulo"/>
          <p:cNvSpPr/>
          <p:nvPr/>
        </p:nvSpPr>
        <p:spPr>
          <a:xfrm>
            <a:off x="1857240" y="264312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esarrollo endóge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44 Rectángulo"/>
          <p:cNvSpPr/>
          <p:nvPr/>
        </p:nvSpPr>
        <p:spPr>
          <a:xfrm>
            <a:off x="6572160" y="578628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a economía comu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45 Rectángulo"/>
          <p:cNvSpPr/>
          <p:nvPr/>
        </p:nvSpPr>
        <p:spPr>
          <a:xfrm>
            <a:off x="4429080" y="3929040"/>
            <a:ext cx="28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Uso eficiente y responsabl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e los recurs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46 Rectángulo"/>
          <p:cNvSpPr/>
          <p:nvPr/>
        </p:nvSpPr>
        <p:spPr>
          <a:xfrm>
            <a:off x="5429160" y="4714920"/>
            <a:ext cx="30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apacitación y formació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e las organizacion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49 Conector angular"/>
          <p:cNvCxnSpPr/>
          <p:nvPr/>
        </p:nvCxnSpPr>
        <p:spPr>
          <a:xfrm flipV="1" rot="16200000">
            <a:off x="642600" y="1142280"/>
            <a:ext cx="1286640" cy="429120"/>
          </a:xfrm>
          <a:prstGeom prst="bentConnector3">
            <a:avLst>
              <a:gd name="adj1" fmla="val 49986"/>
            </a:avLst>
          </a:prstGeom>
          <a:ln w="9360">
            <a:solidFill>
              <a:srgbClr val="e46c0a"/>
            </a:solidFill>
            <a:miter/>
            <a:tailEnd len="med" type="arrow" w="med"/>
          </a:ln>
        </p:spPr>
      </p:cxnSp>
      <p:cxnSp>
        <p:nvCxnSpPr>
          <p:cNvPr id="123" name="53 Conector angular"/>
          <p:cNvCxnSpPr/>
          <p:nvPr/>
        </p:nvCxnSpPr>
        <p:spPr>
          <a:xfrm flipV="1" rot="16200000">
            <a:off x="1928520" y="1642320"/>
            <a:ext cx="2000880" cy="286560"/>
          </a:xfrm>
          <a:prstGeom prst="bentConnector3">
            <a:avLst>
              <a:gd name="adj1" fmla="val 49991"/>
            </a:avLst>
          </a:prstGeom>
          <a:ln w="9360">
            <a:solidFill>
              <a:srgbClr val="e46c0a"/>
            </a:solidFill>
            <a:miter/>
            <a:tailEnd len="med" type="arrow" w="med"/>
          </a:ln>
        </p:spPr>
      </p:cxnSp>
      <p:cxnSp>
        <p:nvCxnSpPr>
          <p:cNvPr id="124" name="58 Conector angular"/>
          <p:cNvCxnSpPr/>
          <p:nvPr/>
        </p:nvCxnSpPr>
        <p:spPr>
          <a:xfrm flipV="1" rot="16200000">
            <a:off x="4142520" y="2071080"/>
            <a:ext cx="3072600" cy="500760"/>
          </a:xfrm>
          <a:prstGeom prst="bentConnector3">
            <a:avLst>
              <a:gd name="adj1" fmla="val 50000"/>
            </a:avLst>
          </a:prstGeom>
          <a:ln w="9360">
            <a:solidFill>
              <a:srgbClr val="e46c0a"/>
            </a:solidFill>
            <a:miter/>
            <a:tailEnd len="med" type="arrow" w="med"/>
          </a:ln>
        </p:spPr>
      </p:cxnSp>
      <p:cxnSp>
        <p:nvCxnSpPr>
          <p:cNvPr id="125" name="59 Conector angular"/>
          <p:cNvCxnSpPr/>
          <p:nvPr/>
        </p:nvCxnSpPr>
        <p:spPr>
          <a:xfrm flipV="1" rot="16200000">
            <a:off x="3106800" y="1820880"/>
            <a:ext cx="235836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e46c0a"/>
            </a:solidFill>
            <a:miter/>
            <a:tailEnd len="med" type="arrow" w="med"/>
          </a:ln>
        </p:spPr>
      </p:cxnSp>
      <p:cxnSp>
        <p:nvCxnSpPr>
          <p:cNvPr id="126" name="65 Conector angular"/>
          <p:cNvCxnSpPr/>
          <p:nvPr/>
        </p:nvCxnSpPr>
        <p:spPr>
          <a:xfrm flipV="1" rot="16200000">
            <a:off x="5107320" y="2535480"/>
            <a:ext cx="4001040" cy="500760"/>
          </a:xfrm>
          <a:prstGeom prst="bentConnector3">
            <a:avLst>
              <a:gd name="adj1" fmla="val 49995"/>
            </a:avLst>
          </a:prstGeom>
          <a:ln w="9360">
            <a:solidFill>
              <a:srgbClr val="e46c0a"/>
            </a:solidFill>
            <a:miter/>
            <a:tailEnd len="med" type="arrow" w="med"/>
          </a:ln>
        </p:spPr>
      </p:cxnSp>
      <p:cxnSp>
        <p:nvCxnSpPr>
          <p:cNvPr id="127" name="66 Conector angular"/>
          <p:cNvCxnSpPr/>
          <p:nvPr/>
        </p:nvCxnSpPr>
        <p:spPr>
          <a:xfrm flipV="1" rot="16200000">
            <a:off x="5643000" y="3070800"/>
            <a:ext cx="5001480" cy="572400"/>
          </a:xfrm>
          <a:prstGeom prst="bentConnector3">
            <a:avLst>
              <a:gd name="adj1" fmla="val 50000"/>
            </a:avLst>
          </a:prstGeom>
          <a:ln w="9360">
            <a:solidFill>
              <a:srgbClr val="e46c0a"/>
            </a:solidFill>
            <a:miter/>
            <a:tailEnd len="med" type="arrow" w="med"/>
          </a:ln>
        </p:spPr>
      </p:cxnSp>
      <p:sp>
        <p:nvSpPr>
          <p:cNvPr id="128" name="Rectangle 2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00cc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7" descr="IM000464"/>
          <p:cNvPicPr/>
          <p:nvPr/>
        </p:nvPicPr>
        <p:blipFill>
          <a:blip r:embed="rId4"/>
          <a:stretch/>
        </p:blipFill>
        <p:spPr>
          <a:xfrm>
            <a:off x="0" y="2643120"/>
            <a:ext cx="1785960" cy="882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0" name="Picture 28" descr="IM000458"/>
          <p:cNvPicPr/>
          <p:nvPr/>
        </p:nvPicPr>
        <p:blipFill>
          <a:blip r:embed="rId5"/>
          <a:stretch/>
        </p:blipFill>
        <p:spPr>
          <a:xfrm>
            <a:off x="3000240" y="4643280"/>
            <a:ext cx="2016360" cy="1063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1" name="Picture 32" descr="IM000476"/>
          <p:cNvPicPr/>
          <p:nvPr/>
        </p:nvPicPr>
        <p:blipFill>
          <a:blip r:embed="rId6"/>
          <a:stretch/>
        </p:blipFill>
        <p:spPr>
          <a:xfrm>
            <a:off x="1714680" y="3500280"/>
            <a:ext cx="1995480" cy="1052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2" name="Picture 35" descr="Cap0028"/>
          <p:cNvPicPr/>
          <p:nvPr/>
        </p:nvPicPr>
        <p:blipFill>
          <a:blip r:embed="rId7"/>
          <a:stretch/>
        </p:blipFill>
        <p:spPr>
          <a:xfrm>
            <a:off x="4357800" y="5792760"/>
            <a:ext cx="2016000" cy="1065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644400" y="155484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2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00cc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WordArt 7"/>
          <p:cNvSpPr txBox="1"/>
          <p:nvPr/>
        </p:nvSpPr>
        <p:spPr>
          <a:xfrm>
            <a:off x="928800" y="0"/>
            <a:ext cx="7143480" cy="906480"/>
          </a:xfrm>
          <a:prstGeom prst="rect">
            <a:avLst/>
          </a:prstGeom>
        </p:spPr>
        <p:txBody>
          <a:bodyPr wrap="none" lIns="90000" rIns="90000" tIns="46800" bIns="46800" anchor="t">
            <a:prstTxWarp prst="textDoubleWave1">
              <a:avLst>
                <a:gd name="adj1" fmla="val 6481"/>
                <a:gd name="adj2" fmla="val 3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VENTAJAS DEL DESARROLLO ENDÓGENO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" name="Oval 8"/>
          <p:cNvSpPr/>
          <p:nvPr/>
        </p:nvSpPr>
        <p:spPr>
          <a:xfrm>
            <a:off x="1071720" y="2500200"/>
            <a:ext cx="3357360" cy="1428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ropicia valor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Oval 8"/>
          <p:cNvSpPr/>
          <p:nvPr/>
        </p:nvSpPr>
        <p:spPr>
          <a:xfrm>
            <a:off x="2571840" y="1357200"/>
            <a:ext cx="3357360" cy="1428840"/>
          </a:xfrm>
          <a:prstGeom prst="ellipse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onstrucción 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redes productiva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Oval 8"/>
          <p:cNvSpPr/>
          <p:nvPr/>
        </p:nvSpPr>
        <p:spPr>
          <a:xfrm>
            <a:off x="2428920" y="3571920"/>
            <a:ext cx="3595680" cy="143352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incorporación al sistem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Oval 8"/>
          <p:cNvSpPr/>
          <p:nvPr/>
        </p:nvSpPr>
        <p:spPr>
          <a:xfrm>
            <a:off x="4000680" y="2428920"/>
            <a:ext cx="3357360" cy="1593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toma del po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Oval 8"/>
          <p:cNvSpPr/>
          <p:nvPr/>
        </p:nvSpPr>
        <p:spPr>
          <a:xfrm>
            <a:off x="2500200" y="4643280"/>
            <a:ext cx="3357720" cy="1428840"/>
          </a:xfrm>
          <a:prstGeom prst="ellipse">
            <a:avLst/>
          </a:prstGeom>
          <a:solidFill>
            <a:srgbClr val="e46c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infraestructur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l servicio 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la gent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AutoShape 14"/>
          <p:cNvSpPr/>
          <p:nvPr/>
        </p:nvSpPr>
        <p:spPr>
          <a:xfrm>
            <a:off x="357120" y="785880"/>
            <a:ext cx="3857760" cy="6286320"/>
          </a:xfrm>
          <a:custGeom>
            <a:avLst/>
            <a:gdLst>
              <a:gd name="textAreaLeft" fmla="*/ 516600 w 3857760"/>
              <a:gd name="textAreaRight" fmla="*/ 3341160 w 3857760"/>
              <a:gd name="textAreaTop" fmla="*/ 1428840 h 6286320"/>
              <a:gd name="textAreaBottom" fmla="*/ 4569480 h 6286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820" stAng="-5400000" swAng="-5400000"/>
                <a:lnTo>
                  <a:pt x="0" y="10791"/>
                </a:lnTo>
                <a:arcTo wR="21600" hR="9820" stAng="10800000" swAng="-2781947"/>
                <a:lnTo>
                  <a:pt x="13010" y="20790"/>
                </a:lnTo>
                <a:lnTo>
                  <a:pt x="21600" y="20125"/>
                </a:lnTo>
                <a:lnTo>
                  <a:pt x="13010" y="17839"/>
                </a:lnTo>
                <a:lnTo>
                  <a:pt x="13010" y="18829"/>
                </a:lnTo>
                <a:arcTo wR="21600" hR="9820" stAng="8018053" swAng="2704595"/>
                <a:lnTo>
                  <a:pt x="26" y="10305"/>
                </a:lnTo>
                <a:arcTo wR="21600" hR="9820" stAng="-10722649" swAng="5322649"/>
                <a:close/>
              </a:path>
              <a:path fill="darkenLess" w="21600" h="21600">
                <a:moveTo>
                  <a:pt x="21600" y="0"/>
                </a:moveTo>
                <a:arcTo wR="21600" hR="9820" stAng="-5400000" swAng="-5400000"/>
                <a:lnTo>
                  <a:pt x="0" y="9820"/>
                </a:lnTo>
                <a:arcTo wR="21600" hR="9820" stAng="10800000" swAng="-77351"/>
                <a:lnTo>
                  <a:pt x="26" y="10305"/>
                </a:lnTo>
                <a:arcTo wR="21600" hR="9820" stAng="-10722649" swAng="5322649"/>
                <a:close/>
              </a:path>
            </a:pathLst>
          </a:cu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AutoShape 14"/>
          <p:cNvSpPr/>
          <p:nvPr/>
        </p:nvSpPr>
        <p:spPr>
          <a:xfrm rot="10800000">
            <a:off x="4214880" y="428760"/>
            <a:ext cx="4186080" cy="6276960"/>
          </a:xfrm>
          <a:custGeom>
            <a:avLst/>
            <a:gdLst>
              <a:gd name="textAreaLeft" fmla="*/ 560520 w 4186080"/>
              <a:gd name="textAreaRight" fmla="*/ 3625560 w 4186080"/>
              <a:gd name="textAreaTop" fmla="*/ 1414440 h 6276960"/>
              <a:gd name="textAreaBottom" fmla="*/ 4550040 h 6276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735" stAng="-5400000" swAng="-5400000"/>
                <a:lnTo>
                  <a:pt x="0" y="10790"/>
                </a:lnTo>
                <a:arcTo wR="21600" hR="9735" stAng="10800000" swAng="-2767017"/>
                <a:lnTo>
                  <a:pt x="13010" y="20797"/>
                </a:lnTo>
                <a:lnTo>
                  <a:pt x="21600" y="19997"/>
                </a:lnTo>
                <a:lnTo>
                  <a:pt x="13010" y="17590"/>
                </a:lnTo>
                <a:lnTo>
                  <a:pt x="13010" y="18666"/>
                </a:lnTo>
                <a:arcTo wR="21600" hR="9735" stAng="8032983" swAng="2682956"/>
                <a:lnTo>
                  <a:pt x="32" y="10262"/>
                </a:lnTo>
                <a:arcTo wR="21600" hR="9735" stAng="-10715939" swAng="5315939"/>
                <a:close/>
              </a:path>
              <a:path fill="darkenLess" w="21600" h="21600">
                <a:moveTo>
                  <a:pt x="21600" y="0"/>
                </a:moveTo>
                <a:arcTo wR="21600" hR="9735" stAng="-5400000" swAng="-5400000"/>
                <a:lnTo>
                  <a:pt x="0" y="9735"/>
                </a:lnTo>
                <a:arcTo wR="21600" hR="9735" stAng="10800000" swAng="-84061"/>
                <a:lnTo>
                  <a:pt x="32" y="10262"/>
                </a:lnTo>
                <a:arcTo wR="21600" hR="9735" stAng="-10715939" swAng="5315939"/>
                <a:close/>
              </a:path>
            </a:pathLst>
          </a:cu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644400" y="155484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2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00cc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WordArt 7"/>
          <p:cNvSpPr txBox="1"/>
          <p:nvPr/>
        </p:nvSpPr>
        <p:spPr>
          <a:xfrm>
            <a:off x="928800" y="0"/>
            <a:ext cx="7143480" cy="906480"/>
          </a:xfrm>
          <a:prstGeom prst="rect">
            <a:avLst/>
          </a:prstGeom>
        </p:spPr>
        <p:txBody>
          <a:bodyPr wrap="none" lIns="90000" rIns="90000" tIns="46800" bIns="46800" anchor="t">
            <a:prstTxWarp prst="textDoubleWave1">
              <a:avLst>
                <a:gd name="adj1" fmla="val 6481"/>
                <a:gd name="adj2" fmla="val 3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ESVENTAJAS DEL DESARROLLO ENDÓGENO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" name="Oval 8"/>
          <p:cNvSpPr/>
          <p:nvPr/>
        </p:nvSpPr>
        <p:spPr>
          <a:xfrm>
            <a:off x="571680" y="3357720"/>
            <a:ext cx="3357360" cy="1428480"/>
          </a:xfrm>
          <a:prstGeom prst="ellipse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nivel de concienc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Oval 8"/>
          <p:cNvSpPr/>
          <p:nvPr/>
        </p:nvSpPr>
        <p:spPr>
          <a:xfrm>
            <a:off x="571680" y="2214720"/>
            <a:ext cx="3357360" cy="1428480"/>
          </a:xfrm>
          <a:prstGeom prst="ellipse">
            <a:avLst/>
          </a:prstGeom>
          <a:solidFill>
            <a:srgbClr val="e46c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plicación 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istem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AutoShape 14"/>
          <p:cNvSpPr/>
          <p:nvPr/>
        </p:nvSpPr>
        <p:spPr>
          <a:xfrm>
            <a:off x="357120" y="785880"/>
            <a:ext cx="3857760" cy="6286320"/>
          </a:xfrm>
          <a:custGeom>
            <a:avLst/>
            <a:gdLst>
              <a:gd name="textAreaLeft" fmla="*/ 516600 w 3857760"/>
              <a:gd name="textAreaRight" fmla="*/ 3341160 w 3857760"/>
              <a:gd name="textAreaTop" fmla="*/ 1428840 h 6286320"/>
              <a:gd name="textAreaBottom" fmla="*/ 4569480 h 6286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820" stAng="-5400000" swAng="-5400000"/>
                <a:lnTo>
                  <a:pt x="0" y="10791"/>
                </a:lnTo>
                <a:arcTo wR="21600" hR="9820" stAng="10800000" swAng="-2781947"/>
                <a:lnTo>
                  <a:pt x="13010" y="20790"/>
                </a:lnTo>
                <a:lnTo>
                  <a:pt x="21600" y="20125"/>
                </a:lnTo>
                <a:lnTo>
                  <a:pt x="13010" y="17839"/>
                </a:lnTo>
                <a:lnTo>
                  <a:pt x="13010" y="18829"/>
                </a:lnTo>
                <a:arcTo wR="21600" hR="9820" stAng="8018053" swAng="2704595"/>
                <a:lnTo>
                  <a:pt x="26" y="10305"/>
                </a:lnTo>
                <a:arcTo wR="21600" hR="9820" stAng="-10722649" swAng="5322649"/>
                <a:close/>
              </a:path>
              <a:path fill="darkenLess" w="21600" h="21600">
                <a:moveTo>
                  <a:pt x="21600" y="0"/>
                </a:moveTo>
                <a:arcTo wR="21600" hR="9820" stAng="-5400000" swAng="-5400000"/>
                <a:lnTo>
                  <a:pt x="0" y="9820"/>
                </a:lnTo>
                <a:arcTo wR="21600" hR="9820" stAng="10800000" swAng="-77351"/>
                <a:lnTo>
                  <a:pt x="26" y="10305"/>
                </a:lnTo>
                <a:arcTo wR="21600" hR="9820" stAng="-10722649" swAng="5322649"/>
                <a:close/>
              </a:path>
            </a:pathLst>
          </a:cu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AutoShape 14"/>
          <p:cNvSpPr/>
          <p:nvPr/>
        </p:nvSpPr>
        <p:spPr>
          <a:xfrm rot="10800000">
            <a:off x="4214880" y="428760"/>
            <a:ext cx="4186080" cy="6276960"/>
          </a:xfrm>
          <a:custGeom>
            <a:avLst/>
            <a:gdLst>
              <a:gd name="textAreaLeft" fmla="*/ 560520 w 4186080"/>
              <a:gd name="textAreaRight" fmla="*/ 3625560 w 4186080"/>
              <a:gd name="textAreaTop" fmla="*/ 1414440 h 6276960"/>
              <a:gd name="textAreaBottom" fmla="*/ 4550040 h 6276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735" stAng="-5400000" swAng="-5400000"/>
                <a:lnTo>
                  <a:pt x="0" y="10790"/>
                </a:lnTo>
                <a:arcTo wR="21600" hR="9735" stAng="10800000" swAng="-2767017"/>
                <a:lnTo>
                  <a:pt x="13010" y="20797"/>
                </a:lnTo>
                <a:lnTo>
                  <a:pt x="21600" y="19997"/>
                </a:lnTo>
                <a:lnTo>
                  <a:pt x="13010" y="17590"/>
                </a:lnTo>
                <a:lnTo>
                  <a:pt x="13010" y="18666"/>
                </a:lnTo>
                <a:arcTo wR="21600" hR="9735" stAng="8032983" swAng="2682956"/>
                <a:lnTo>
                  <a:pt x="32" y="10262"/>
                </a:lnTo>
                <a:arcTo wR="21600" hR="9735" stAng="-10715939" swAng="5315939"/>
                <a:close/>
              </a:path>
              <a:path fill="darkenLess" w="21600" h="21600">
                <a:moveTo>
                  <a:pt x="21600" y="0"/>
                </a:moveTo>
                <a:arcTo wR="21600" hR="9735" stAng="-5400000" swAng="-5400000"/>
                <a:lnTo>
                  <a:pt x="0" y="9735"/>
                </a:lnTo>
                <a:arcTo wR="21600" hR="9735" stAng="10800000" swAng="-84061"/>
                <a:lnTo>
                  <a:pt x="32" y="10262"/>
                </a:lnTo>
                <a:arcTo wR="21600" hR="9735" stAng="-10715939" swAng="5315939"/>
                <a:close/>
              </a:path>
            </a:pathLst>
          </a:cu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Oval 8"/>
          <p:cNvSpPr/>
          <p:nvPr/>
        </p:nvSpPr>
        <p:spPr>
          <a:xfrm>
            <a:off x="4857840" y="3357720"/>
            <a:ext cx="3357360" cy="1428480"/>
          </a:xfrm>
          <a:prstGeom prst="ellipse">
            <a:avLst/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arte del ciudada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Oval 8"/>
          <p:cNvSpPr/>
          <p:nvPr/>
        </p:nvSpPr>
        <p:spPr>
          <a:xfrm>
            <a:off x="4500720" y="2071800"/>
            <a:ext cx="3500280" cy="1428480"/>
          </a:xfrm>
          <a:prstGeom prst="ellipse">
            <a:avLst/>
          </a:prstGeom>
          <a:solidFill>
            <a:srgbClr val="e6b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falta de preparació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8" name="28 Conector angular"/>
          <p:cNvCxnSpPr/>
          <p:nvPr/>
        </p:nvCxnSpPr>
        <p:spPr>
          <a:xfrm flipV="1" rot="10800000">
            <a:off x="642240" y="1361160"/>
            <a:ext cx="4929840" cy="4429800"/>
          </a:xfrm>
          <a:prstGeom prst="bentConnector3">
            <a:avLst>
              <a:gd name="adj1" fmla="val 49996"/>
            </a:avLst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159" name="36 Conector angular"/>
          <p:cNvCxnSpPr/>
          <p:nvPr/>
        </p:nvCxnSpPr>
        <p:spPr>
          <a:xfrm flipV="1" rot="10800000">
            <a:off x="794520" y="1513440"/>
            <a:ext cx="4929840" cy="4429800"/>
          </a:xfrm>
          <a:prstGeom prst="bentConnector3">
            <a:avLst>
              <a:gd name="adj1" fmla="val 49996"/>
            </a:avLst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160" name="37 Conector angular"/>
          <p:cNvCxnSpPr/>
          <p:nvPr/>
        </p:nvCxnSpPr>
        <p:spPr>
          <a:xfrm flipV="1" rot="10800000">
            <a:off x="947160" y="1665720"/>
            <a:ext cx="4929840" cy="4429800"/>
          </a:xfrm>
          <a:prstGeom prst="bentConnector3">
            <a:avLst>
              <a:gd name="adj1" fmla="val 49996"/>
            </a:avLst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161" name="38 Conector angular"/>
          <p:cNvCxnSpPr/>
          <p:nvPr/>
        </p:nvCxnSpPr>
        <p:spPr>
          <a:xfrm flipV="1" rot="10800000">
            <a:off x="1099440" y="1818360"/>
            <a:ext cx="4929840" cy="4429800"/>
          </a:xfrm>
          <a:prstGeom prst="bentConnector3">
            <a:avLst>
              <a:gd name="adj1" fmla="val 49996"/>
            </a:avLst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162" name="39 Conector angular"/>
          <p:cNvCxnSpPr/>
          <p:nvPr/>
        </p:nvCxnSpPr>
        <p:spPr>
          <a:xfrm flipV="1" rot="10800000">
            <a:off x="1251720" y="1970640"/>
            <a:ext cx="4929840" cy="4429800"/>
          </a:xfrm>
          <a:prstGeom prst="bentConnector3">
            <a:avLst>
              <a:gd name="adj1" fmla="val 49996"/>
            </a:avLst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163" name="40 Conector angular"/>
          <p:cNvCxnSpPr/>
          <p:nvPr/>
        </p:nvCxnSpPr>
        <p:spPr>
          <a:xfrm flipV="1" rot="10800000">
            <a:off x="1404360" y="2122920"/>
            <a:ext cx="4929840" cy="4429800"/>
          </a:xfrm>
          <a:prstGeom prst="bentConnector3">
            <a:avLst>
              <a:gd name="adj1" fmla="val 49996"/>
            </a:avLst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164" name="41 Conector angular"/>
          <p:cNvCxnSpPr/>
          <p:nvPr/>
        </p:nvCxnSpPr>
        <p:spPr>
          <a:xfrm flipV="1" rot="10800000">
            <a:off x="1556640" y="2275560"/>
            <a:ext cx="4929840" cy="4429800"/>
          </a:xfrm>
          <a:prstGeom prst="bentConnector3">
            <a:avLst>
              <a:gd name="adj1" fmla="val 49996"/>
            </a:avLst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165" name="42 Conector angular"/>
          <p:cNvCxnSpPr/>
          <p:nvPr/>
        </p:nvCxnSpPr>
        <p:spPr>
          <a:xfrm flipV="1" rot="10800000">
            <a:off x="1708920" y="2427840"/>
            <a:ext cx="4929840" cy="4429800"/>
          </a:xfrm>
          <a:prstGeom prst="bentConnector3">
            <a:avLst>
              <a:gd name="adj1" fmla="val 49996"/>
            </a:avLst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166" name="43 Conector angular"/>
          <p:cNvCxnSpPr/>
          <p:nvPr/>
        </p:nvCxnSpPr>
        <p:spPr>
          <a:xfrm flipV="1" rot="10800000">
            <a:off x="1861560" y="2580120"/>
            <a:ext cx="4929840" cy="4429800"/>
          </a:xfrm>
          <a:prstGeom prst="bentConnector3">
            <a:avLst>
              <a:gd name="adj1" fmla="val 49996"/>
            </a:avLst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167" name="44 Conector angular"/>
          <p:cNvCxnSpPr/>
          <p:nvPr/>
        </p:nvCxnSpPr>
        <p:spPr>
          <a:xfrm flipV="1" rot="10800000">
            <a:off x="428040" y="1213920"/>
            <a:ext cx="4929840" cy="4430160"/>
          </a:xfrm>
          <a:prstGeom prst="bentConnector3">
            <a:avLst>
              <a:gd name="adj1" fmla="val 49996"/>
            </a:avLst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168" name="45 Conector angular"/>
          <p:cNvCxnSpPr/>
          <p:nvPr/>
        </p:nvCxnSpPr>
        <p:spPr>
          <a:xfrm flipV="1" rot="10800000">
            <a:off x="213480" y="927720"/>
            <a:ext cx="4930200" cy="4429800"/>
          </a:xfrm>
          <a:prstGeom prst="bentConnector3">
            <a:avLst>
              <a:gd name="adj1" fmla="val 50000"/>
            </a:avLst>
          </a:prstGeom>
          <a:ln w="9360">
            <a:solidFill>
              <a:srgbClr val="ff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71" name="Rectangle 12"/>
          <p:cNvSpPr/>
          <p:nvPr/>
        </p:nvSpPr>
        <p:spPr>
          <a:xfrm>
            <a:off x="35712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644400" y="155484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27"/>
          <p:cNvSpPr/>
          <p:nvPr/>
        </p:nvSpPr>
        <p:spPr>
          <a:xfrm>
            <a:off x="0" y="0"/>
            <a:ext cx="9144000" cy="6643800"/>
          </a:xfrm>
          <a:prstGeom prst="rect">
            <a:avLst/>
          </a:prstGeom>
          <a:noFill/>
          <a:ln w="76320">
            <a:solidFill>
              <a:srgbClr val="00cc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Oval 8"/>
          <p:cNvSpPr/>
          <p:nvPr/>
        </p:nvSpPr>
        <p:spPr>
          <a:xfrm>
            <a:off x="214200" y="0"/>
            <a:ext cx="3357720" cy="1428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Basamentos Leg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5" name="7 Conector angular"/>
          <p:cNvCxnSpPr/>
          <p:nvPr/>
        </p:nvCxnSpPr>
        <p:spPr>
          <a:xfrm flipV="1" rot="10800000">
            <a:off x="2642400" y="1356120"/>
            <a:ext cx="3358440" cy="1072440"/>
          </a:xfrm>
          <a:prstGeom prst="bentConnector3">
            <a:avLst>
              <a:gd name="adj1" fmla="val 50000"/>
            </a:avLst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176" name="15 Conector angular"/>
          <p:cNvCxnSpPr/>
          <p:nvPr/>
        </p:nvCxnSpPr>
        <p:spPr>
          <a:xfrm flipV="1" rot="10800000">
            <a:off x="3404520" y="2118240"/>
            <a:ext cx="3358080" cy="1072440"/>
          </a:xfrm>
          <a:prstGeom prst="bentConnector3">
            <a:avLst>
              <a:gd name="adj1" fmla="val 49994"/>
            </a:avLst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177" name="18 Conector angular"/>
          <p:cNvCxnSpPr/>
          <p:nvPr/>
        </p:nvCxnSpPr>
        <p:spPr>
          <a:xfrm flipV="1" rot="10800000">
            <a:off x="4571280" y="3142080"/>
            <a:ext cx="3358440" cy="1072440"/>
          </a:xfrm>
          <a:prstGeom prst="bentConnector3">
            <a:avLst>
              <a:gd name="adj1" fmla="val 50000"/>
            </a:avLst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178" name="19 Conector angular"/>
          <p:cNvCxnSpPr/>
          <p:nvPr/>
        </p:nvCxnSpPr>
        <p:spPr>
          <a:xfrm flipV="1" rot="10800000">
            <a:off x="5428440" y="5285160"/>
            <a:ext cx="3358440" cy="1072440"/>
          </a:xfrm>
          <a:prstGeom prst="bentConnector3">
            <a:avLst>
              <a:gd name="adj1" fmla="val 50000"/>
            </a:avLst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179" name="20 Conector angular"/>
          <p:cNvCxnSpPr/>
          <p:nvPr/>
        </p:nvCxnSpPr>
        <p:spPr>
          <a:xfrm flipV="1" rot="10800000">
            <a:off x="5071320" y="4142160"/>
            <a:ext cx="3358440" cy="1072440"/>
          </a:xfrm>
          <a:prstGeom prst="bentConnector3">
            <a:avLst>
              <a:gd name="adj1" fmla="val 50000"/>
            </a:avLst>
          </a:prstGeom>
          <a:ln w="9360">
            <a:solidFill>
              <a:srgbClr val="ff0000"/>
            </a:solidFill>
            <a:miter/>
          </a:ln>
        </p:spPr>
      </p:cxnSp>
      <p:pic>
        <p:nvPicPr>
          <p:cNvPr id="180" name="Picture 2" descr=""/>
          <p:cNvPicPr/>
          <p:nvPr/>
        </p:nvPicPr>
        <p:blipFill>
          <a:blip r:embed="rId2"/>
          <a:srcRect l="18187" t="0" r="13640" b="0"/>
          <a:stretch/>
        </p:blipFill>
        <p:spPr>
          <a:xfrm>
            <a:off x="2786040" y="3500280"/>
            <a:ext cx="2786040" cy="2786400"/>
          </a:xfrm>
          <a:prstGeom prst="rect">
            <a:avLst/>
          </a:prstGeom>
          <a:ln w="0">
            <a:noFill/>
          </a:ln>
        </p:spPr>
      </p:pic>
      <p:sp>
        <p:nvSpPr>
          <p:cNvPr id="181" name="23 Rectángulo"/>
          <p:cNvSpPr/>
          <p:nvPr/>
        </p:nvSpPr>
        <p:spPr>
          <a:xfrm>
            <a:off x="4643280" y="928800"/>
            <a:ext cx="10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rt. 6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24 Rectángulo"/>
          <p:cNvSpPr/>
          <p:nvPr/>
        </p:nvSpPr>
        <p:spPr>
          <a:xfrm>
            <a:off x="5929200" y="24289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rt. 29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25 Rectángulo"/>
          <p:cNvSpPr/>
          <p:nvPr/>
        </p:nvSpPr>
        <p:spPr>
          <a:xfrm>
            <a:off x="7000920" y="371484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rt. 0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26 Rectángulo"/>
          <p:cNvSpPr/>
          <p:nvPr/>
        </p:nvSpPr>
        <p:spPr>
          <a:xfrm>
            <a:off x="7286760" y="478620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rt. 8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27 Rectángulo"/>
          <p:cNvSpPr/>
          <p:nvPr/>
        </p:nvSpPr>
        <p:spPr>
          <a:xfrm>
            <a:off x="5214960" y="171468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rt. 1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Oval 8"/>
          <p:cNvSpPr/>
          <p:nvPr/>
        </p:nvSpPr>
        <p:spPr>
          <a:xfrm>
            <a:off x="357120" y="500040"/>
            <a:ext cx="3357720" cy="1428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Basamentos Leg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Oval 8"/>
          <p:cNvSpPr/>
          <p:nvPr/>
        </p:nvSpPr>
        <p:spPr>
          <a:xfrm>
            <a:off x="500040" y="928800"/>
            <a:ext cx="3357720" cy="1428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Basamentos Leg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Oval 8"/>
          <p:cNvSpPr/>
          <p:nvPr/>
        </p:nvSpPr>
        <p:spPr>
          <a:xfrm>
            <a:off x="642960" y="1428840"/>
            <a:ext cx="3357720" cy="1428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Basamentos Leg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Oval 8"/>
          <p:cNvSpPr/>
          <p:nvPr/>
        </p:nvSpPr>
        <p:spPr>
          <a:xfrm>
            <a:off x="928800" y="1928880"/>
            <a:ext cx="3357360" cy="1428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Basamentos Leg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92" name="Rectangle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644400" y="155484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Rectangle 27"/>
          <p:cNvSpPr/>
          <p:nvPr/>
        </p:nvSpPr>
        <p:spPr>
          <a:xfrm>
            <a:off x="0" y="0"/>
            <a:ext cx="9144000" cy="6643800"/>
          </a:xfrm>
          <a:prstGeom prst="rect">
            <a:avLst/>
          </a:prstGeom>
          <a:noFill/>
          <a:ln w="76320">
            <a:solidFill>
              <a:srgbClr val="00cc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5" name="7 Conector angular"/>
          <p:cNvCxnSpPr/>
          <p:nvPr/>
        </p:nvCxnSpPr>
        <p:spPr>
          <a:xfrm rot="5400000">
            <a:off x="2214000" y="1143000"/>
            <a:ext cx="1000800" cy="1000800"/>
          </a:xfrm>
          <a:prstGeom prst="bentConnector3">
            <a:avLst>
              <a:gd name="adj1" fmla="val 49982"/>
            </a:avLst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196" name="15 Conector angular"/>
          <p:cNvCxnSpPr/>
          <p:nvPr/>
        </p:nvCxnSpPr>
        <p:spPr>
          <a:xfrm rot="5400000">
            <a:off x="4202280" y="1225800"/>
            <a:ext cx="1191240" cy="1024920"/>
          </a:xfrm>
          <a:prstGeom prst="bentConnector3">
            <a:avLst>
              <a:gd name="adj1" fmla="val 50000"/>
            </a:avLst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197" name="18 Conector angular"/>
          <p:cNvCxnSpPr/>
          <p:nvPr/>
        </p:nvCxnSpPr>
        <p:spPr>
          <a:xfrm rot="5400000">
            <a:off x="6285960" y="1142640"/>
            <a:ext cx="114372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ff0000"/>
            </a:solidFill>
            <a:miter/>
          </a:ln>
        </p:spPr>
      </p:cxnSp>
      <p:sp>
        <p:nvSpPr>
          <p:cNvPr id="198" name="23 Rectángulo"/>
          <p:cNvSpPr/>
          <p:nvPr/>
        </p:nvSpPr>
        <p:spPr>
          <a:xfrm>
            <a:off x="4643280" y="928800"/>
            <a:ext cx="10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24 Rectángulo"/>
          <p:cNvSpPr/>
          <p:nvPr/>
        </p:nvSpPr>
        <p:spPr>
          <a:xfrm>
            <a:off x="5643720" y="2357280"/>
            <a:ext cx="2500200" cy="368280"/>
          </a:xfrm>
          <a:prstGeom prst="rect">
            <a:avLst/>
          </a:prstGeom>
          <a:solidFill>
            <a:srgbClr val="ff5050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esarrollo Endóge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25 Rectángulo"/>
          <p:cNvSpPr/>
          <p:nvPr/>
        </p:nvSpPr>
        <p:spPr>
          <a:xfrm>
            <a:off x="500040" y="2214720"/>
            <a:ext cx="2286000" cy="368280"/>
          </a:xfrm>
          <a:prstGeom prst="rect">
            <a:avLst/>
          </a:prstGeom>
          <a:solidFill>
            <a:srgbClr val="ff5050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esarrollo Neoliber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26 Rectángulo"/>
          <p:cNvSpPr/>
          <p:nvPr/>
        </p:nvSpPr>
        <p:spPr>
          <a:xfrm>
            <a:off x="3143160" y="2357280"/>
            <a:ext cx="2143080" cy="368280"/>
          </a:xfrm>
          <a:prstGeom prst="rect">
            <a:avLst/>
          </a:prstGeom>
          <a:solidFill>
            <a:srgbClr val="ff5050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esarrollo Exóge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27 Rectángulo"/>
          <p:cNvSpPr/>
          <p:nvPr/>
        </p:nvSpPr>
        <p:spPr>
          <a:xfrm>
            <a:off x="285840" y="214200"/>
            <a:ext cx="8643960" cy="947160"/>
          </a:xfrm>
          <a:prstGeom prst="rect">
            <a:avLst/>
          </a:prstGeom>
          <a:solidFill>
            <a:srgbClr val="ff5050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Diferencias entre los diferentes tipos de desarrollo económ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29 Rectángulo"/>
          <p:cNvSpPr/>
          <p:nvPr/>
        </p:nvSpPr>
        <p:spPr>
          <a:xfrm>
            <a:off x="1785960" y="3500280"/>
            <a:ext cx="5857920" cy="368280"/>
          </a:xfrm>
          <a:prstGeom prst="rect">
            <a:avLst/>
          </a:prstGeom>
          <a:solidFill>
            <a:srgbClr val="ff5050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esarrollo Nacional depende de 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30 Conector angular"/>
          <p:cNvCxnSpPr/>
          <p:nvPr/>
        </p:nvCxnSpPr>
        <p:spPr>
          <a:xfrm rot="5400000">
            <a:off x="3606840" y="3036240"/>
            <a:ext cx="929520" cy="429120"/>
          </a:xfrm>
          <a:prstGeom prst="bentConnector3">
            <a:avLst>
              <a:gd name="adj1" fmla="val 49980"/>
            </a:avLst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205" name="31 Conector angular"/>
          <p:cNvCxnSpPr/>
          <p:nvPr/>
        </p:nvCxnSpPr>
        <p:spPr>
          <a:xfrm rot="5400000">
            <a:off x="1785240" y="2571840"/>
            <a:ext cx="1000800" cy="1000800"/>
          </a:xfrm>
          <a:prstGeom prst="bentConnector3">
            <a:avLst>
              <a:gd name="adj1" fmla="val 49982"/>
            </a:avLst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206" name="33 Conector angular"/>
          <p:cNvCxnSpPr/>
          <p:nvPr/>
        </p:nvCxnSpPr>
        <p:spPr>
          <a:xfrm rot="5400000">
            <a:off x="6143040" y="2643120"/>
            <a:ext cx="1000800" cy="1000800"/>
          </a:xfrm>
          <a:prstGeom prst="bentConnector3">
            <a:avLst>
              <a:gd name="adj1" fmla="val 49982"/>
            </a:avLst>
          </a:prstGeom>
          <a:ln w="9360">
            <a:solidFill>
              <a:srgbClr val="ff0000"/>
            </a:solidFill>
            <a:miter/>
          </a:ln>
        </p:spPr>
      </p:cxnSp>
      <p:sp>
        <p:nvSpPr>
          <p:cNvPr id="207" name="34 Rectángulo"/>
          <p:cNvSpPr/>
          <p:nvPr/>
        </p:nvSpPr>
        <p:spPr>
          <a:xfrm>
            <a:off x="357120" y="4857840"/>
            <a:ext cx="2143080" cy="642600"/>
          </a:xfrm>
          <a:prstGeom prst="rect">
            <a:avLst/>
          </a:prstGeom>
          <a:solidFill>
            <a:srgbClr val="ff5050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rivatizan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todo, no particip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8" name="35 Conector angular"/>
          <p:cNvCxnSpPr/>
          <p:nvPr/>
        </p:nvCxnSpPr>
        <p:spPr>
          <a:xfrm rot="5400000">
            <a:off x="785160" y="3857760"/>
            <a:ext cx="1000800" cy="1000800"/>
          </a:xfrm>
          <a:prstGeom prst="bentConnector3">
            <a:avLst>
              <a:gd name="adj1" fmla="val 49982"/>
            </a:avLst>
          </a:prstGeom>
          <a:ln w="9360">
            <a:solidFill>
              <a:srgbClr val="ff0000"/>
            </a:solidFill>
            <a:miter/>
          </a:ln>
        </p:spPr>
      </p:cxnSp>
      <p:sp>
        <p:nvSpPr>
          <p:cNvPr id="209" name="36 Rectángulo"/>
          <p:cNvSpPr/>
          <p:nvPr/>
        </p:nvSpPr>
        <p:spPr>
          <a:xfrm>
            <a:off x="3214800" y="4929120"/>
            <a:ext cx="2143080" cy="368280"/>
          </a:xfrm>
          <a:prstGeom prst="rect">
            <a:avLst/>
          </a:prstGeom>
          <a:solidFill>
            <a:srgbClr val="ff5050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ámbito internaci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10" name="37 Conector angular"/>
          <p:cNvCxnSpPr/>
          <p:nvPr/>
        </p:nvCxnSpPr>
        <p:spPr>
          <a:xfrm rot="5400000">
            <a:off x="3642480" y="3929040"/>
            <a:ext cx="1000800" cy="1000800"/>
          </a:xfrm>
          <a:prstGeom prst="bentConnector3">
            <a:avLst>
              <a:gd name="adj1" fmla="val 49982"/>
            </a:avLst>
          </a:prstGeom>
          <a:ln w="9360">
            <a:solidFill>
              <a:srgbClr val="ff0000"/>
            </a:solidFill>
            <a:miter/>
          </a:ln>
        </p:spPr>
      </p:cxnSp>
      <p:sp>
        <p:nvSpPr>
          <p:cNvPr id="211" name="38 Rectángulo"/>
          <p:cNvSpPr/>
          <p:nvPr/>
        </p:nvSpPr>
        <p:spPr>
          <a:xfrm>
            <a:off x="6143760" y="4929120"/>
            <a:ext cx="2143080" cy="642600"/>
          </a:xfrm>
          <a:prstGeom prst="rect">
            <a:avLst/>
          </a:prstGeom>
          <a:solidFill>
            <a:srgbClr val="ff5050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dentro hacia afue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12" name="39 Conector angular"/>
          <p:cNvCxnSpPr/>
          <p:nvPr/>
        </p:nvCxnSpPr>
        <p:spPr>
          <a:xfrm rot="5400000">
            <a:off x="6571440" y="3929040"/>
            <a:ext cx="1000800" cy="1000800"/>
          </a:xfrm>
          <a:prstGeom prst="bentConnector3">
            <a:avLst>
              <a:gd name="adj1" fmla="val 49982"/>
            </a:avLst>
          </a:prstGeom>
          <a:ln w="9360">
            <a:solidFill>
              <a:srgbClr val="ff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2T19:10:54Z</dcterms:created>
  <dc:creator>usuario</dc:creator>
  <dc:description/>
  <dc:language>en-US</dc:language>
  <cp:lastModifiedBy>acc</cp:lastModifiedBy>
  <dcterms:modified xsi:type="dcterms:W3CDTF">2011-10-18T11:59:17Z</dcterms:modified>
  <cp:revision>34</cp:revision>
  <dc:subject/>
  <dc:title>Diapositiva 1</dc:title>
</cp:coreProperties>
</file>