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gif" ContentType="image/gif"/>
  <Override PartName="/ppt/media/image15.png" ContentType="image/png"/>
  <Override PartName="/ppt/media/image14.png" ContentType="image/png"/>
  <Override PartName="/ppt/media/image54.wmf" ContentType="image/x-wmf"/>
  <Override PartName="/ppt/media/image19.gif" ContentType="image/gif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43.wmf" ContentType="image/x-wmf"/>
  <Override PartName="/ppt/media/image30.gif" ContentType="image/gif"/>
  <Override PartName="/ppt/media/image53.wmf" ContentType="image/x-wmf"/>
  <Override PartName="/ppt/media/image45.wmf" ContentType="image/x-wmf"/>
  <Override PartName="/ppt/media/image44.wmf" ContentType="image/x-wmf"/>
  <Override PartName="/ppt/media/image46.jpeg" ContentType="image/jpeg"/>
  <Override PartName="/ppt/media/image48.wmf" ContentType="image/x-wmf"/>
  <Override PartName="/ppt/media/image49.wmf" ContentType="image/x-wmf"/>
  <Override PartName="/ppt/media/image13.gif" ContentType="image/gif"/>
  <Override PartName="/ppt/media/image16.jpeg" ContentType="image/jpeg"/>
  <Override PartName="/ppt/media/image40.png" ContentType="image/png"/>
  <Override PartName="/ppt/media/image8.png" ContentType="image/png"/>
  <Override PartName="/ppt/media/image38.png" ContentType="image/png"/>
  <Override PartName="/ppt/media/image52.png" ContentType="image/png"/>
  <Override PartName="/ppt/media/image4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51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50.wmf" ContentType="image/x-wmf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456-AFA7-4344-9DFF-A5F8A404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5B4-071A-4812-87FB-4AB4C88F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F12-47BA-4627-923E-42FA334E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F9B-CC98-4AF6-93D0-38E27536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9C0-CF24-467B-91B1-FDFFDD2E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D6D-4E9A-4908-A1B4-04E6ACD0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BFCD-D553-48FF-9A0D-CC7D2C69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FFD-8179-40A8-8C1C-F35D93FB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3989-FD88-451B-B885-BE0D8B5E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B70-A506-449C-A731-CC677C0D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762B-4D5C-40BA-A8FD-69742937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5FC7-D4CD-4181-A047-B8CEC934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40044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0"/>
          <p:cNvSpPr/>
          <p:nvPr/>
        </p:nvSpPr>
        <p:spPr>
          <a:xfrm>
            <a:off x="0" y="1052640"/>
            <a:ext cx="9144000" cy="21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21"/>
          <p:cNvGrpSpPr/>
          <p:nvPr/>
        </p:nvGrpSpPr>
        <p:grpSpPr>
          <a:xfrm>
            <a:off x="8370720" y="6161040"/>
            <a:ext cx="747720" cy="658800"/>
            <a:chOff x="8370720" y="6161040"/>
            <a:chExt cx="747720" cy="658800"/>
          </a:xfrm>
        </p:grpSpPr>
        <p:sp>
          <p:nvSpPr>
            <p:cNvPr id="3" name="AutoShape 4"/>
            <p:cNvSpPr/>
            <p:nvPr/>
          </p:nvSpPr>
          <p:spPr>
            <a:xfrm>
              <a:off x="8370720" y="6161040"/>
              <a:ext cx="747720" cy="6588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400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2900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" name="Picture 23" descr=""/>
            <p:cNvPicPr/>
            <p:nvPr/>
          </p:nvPicPr>
          <p:blipFill>
            <a:blip r:embed="rId3"/>
            <a:stretch/>
          </p:blipFill>
          <p:spPr>
            <a:xfrm>
              <a:off x="8570880" y="6327360"/>
              <a:ext cx="331560" cy="3243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6A79-2C59-4A09-A214-B354F4B9A10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25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eb.educastur.princast.es/conc/patronatosanjose/Temp/Curso%202007-08/16%20Libros/libros.gif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wo.xthost.info/ytrio40/img/pensando.gif" TargetMode="External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00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840360" y="4941720"/>
            <a:ext cx="284508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Pristina"/>
              </a:rPr>
              <a:t>Bermúdez Je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ristina"/>
              </a:rPr>
              <a:t>Campos Daynub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Pristina"/>
              </a:rPr>
              <a:t>Morales Cé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ristina"/>
              </a:rPr>
              <a:t>Muñoz An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ristina"/>
              </a:rPr>
              <a:t>Roa Am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971640" y="1125360"/>
            <a:ext cx="576000" cy="5732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7020000" y="4437000"/>
            <a:ext cx="18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40044"/>
                </a:solidFill>
                <a:latin typeface="Bradley Hand ITC"/>
              </a:rPr>
              <a:t>Realizado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762200" y="4869000"/>
            <a:ext cx="2881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40044"/>
                </a:solidFill>
                <a:latin typeface="Segoe UI"/>
              </a:rPr>
              <a:t>Profesor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40044"/>
                </a:solidFill>
                <a:latin typeface="Segoe UI"/>
              </a:rPr>
              <a:t>Scandra M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0"/>
          <p:cNvSpPr/>
          <p:nvPr/>
        </p:nvSpPr>
        <p:spPr>
          <a:xfrm rot="16200000">
            <a:off x="5022000" y="-2781720"/>
            <a:ext cx="287280" cy="795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484360" y="447840"/>
            <a:ext cx="496908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Maiandra GD"/>
              </a:rPr>
              <a:t>Universidad Nacional Experimental Politéc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Maiandra GD"/>
              </a:rPr>
              <a:t>“</a:t>
            </a:r>
            <a:r>
              <a:rPr b="1" lang="es-ES" sz="1600" spc="-1" strike="noStrike">
                <a:solidFill>
                  <a:srgbClr val="ffffff"/>
                </a:solidFill>
                <a:latin typeface="Maiandra GD"/>
              </a:rPr>
              <a:t>Antonio José de Sucr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Maiandra GD"/>
              </a:rPr>
              <a:t>Vice-Rectorado Puerto Orda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Maiandra GD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Maiandra GD"/>
              </a:rPr>
              <a:t>Cátedra: Calidad. Sección 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68360" y="476280"/>
            <a:ext cx="1611360" cy="14508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4400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2900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7" descr=""/>
          <p:cNvPicPr/>
          <p:nvPr/>
        </p:nvPicPr>
        <p:blipFill>
          <a:blip r:embed="rId3"/>
          <a:stretch/>
        </p:blipFill>
        <p:spPr>
          <a:xfrm>
            <a:off x="900000" y="843120"/>
            <a:ext cx="714600" cy="71424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1"/>
          <p:cNvGrpSpPr/>
          <p:nvPr/>
        </p:nvGrpSpPr>
        <p:grpSpPr>
          <a:xfrm>
            <a:off x="468360" y="476280"/>
            <a:ext cx="1611360" cy="1450800"/>
            <a:chOff x="468360" y="476280"/>
            <a:chExt cx="1611360" cy="1450800"/>
          </a:xfrm>
        </p:grpSpPr>
        <p:sp>
          <p:nvSpPr>
            <p:cNvPr id="104" name="AutoShape 4"/>
            <p:cNvSpPr/>
            <p:nvPr/>
          </p:nvSpPr>
          <p:spPr>
            <a:xfrm>
              <a:off x="468360" y="476280"/>
              <a:ext cx="1611360" cy="14508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400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2900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30" descr=""/>
            <p:cNvPicPr/>
            <p:nvPr/>
          </p:nvPicPr>
          <p:blipFill>
            <a:blip r:embed="rId4"/>
            <a:stretch/>
          </p:blipFill>
          <p:spPr>
            <a:xfrm>
              <a:off x="900000" y="843120"/>
              <a:ext cx="71460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Picture 32" descr=""/>
          <p:cNvPicPr/>
          <p:nvPr/>
        </p:nvPicPr>
        <p:blipFill>
          <a:blip r:embed="rId5"/>
          <a:stretch/>
        </p:blipFill>
        <p:spPr>
          <a:xfrm>
            <a:off x="2255760" y="2492280"/>
            <a:ext cx="947880" cy="1008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2"/>
          <p:cNvSpPr txBox="1"/>
          <p:nvPr/>
        </p:nvSpPr>
        <p:spPr>
          <a:xfrm>
            <a:off x="1763640" y="2779560"/>
            <a:ext cx="633564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44004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Maiandra GD"/>
              </a:rPr>
              <a:t>                  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44004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Maiandra GD"/>
              <a:ea typeface="Maiandra G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44004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Maiandra GD"/>
              </a:rPr>
              <a:t>                                  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44004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Maiandra GD"/>
              <a:ea typeface="Maiandra GD"/>
            </a:endParaRPr>
          </a:p>
        </p:txBody>
      </p:sp>
      <p:pic>
        <p:nvPicPr>
          <p:cNvPr id="108" name="15 Rectángulo" descr=""/>
          <p:cNvPicPr/>
          <p:nvPr/>
        </p:nvPicPr>
        <p:blipFill>
          <a:blip r:embed="rId6"/>
          <a:stretch/>
        </p:blipFill>
        <p:spPr>
          <a:xfrm>
            <a:off x="927000" y="2987640"/>
            <a:ext cx="8388360" cy="12794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7"/>
          <p:cNvSpPr/>
          <p:nvPr/>
        </p:nvSpPr>
        <p:spPr>
          <a:xfrm>
            <a:off x="2832840" y="6237360"/>
            <a:ext cx="38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ERTO ORDAZ, ENERO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7"/>
          <p:cNvSpPr/>
          <p:nvPr/>
        </p:nvSpPr>
        <p:spPr>
          <a:xfrm>
            <a:off x="7164360" y="646128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790571"/>
                </a:solidFill>
                <a:latin typeface="Pristina"/>
              </a:rPr>
              <a:t>Amys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4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7" descr=""/>
          <p:cNvPicPr/>
          <p:nvPr/>
        </p:nvPicPr>
        <p:blipFill>
          <a:blip r:embed="rId1"/>
          <a:stretch/>
        </p:blipFill>
        <p:spPr>
          <a:xfrm>
            <a:off x="324000" y="1327320"/>
            <a:ext cx="7848360" cy="5486400"/>
          </a:xfrm>
          <a:prstGeom prst="rect">
            <a:avLst/>
          </a:prstGeom>
          <a:ln w="0">
            <a:noFill/>
          </a:ln>
        </p:spPr>
      </p:pic>
      <p:sp>
        <p:nvSpPr>
          <p:cNvPr id="203" name="WordArt 2"/>
          <p:cNvSpPr txBox="1"/>
          <p:nvPr/>
        </p:nvSpPr>
        <p:spPr>
          <a:xfrm>
            <a:off x="324000" y="404640"/>
            <a:ext cx="84294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Copperplate Gothic Bold"/>
              </a:rPr>
              <a:t>                                                  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204" name="6 CuadroTexto"/>
          <p:cNvSpPr/>
          <p:nvPr/>
        </p:nvSpPr>
        <p:spPr>
          <a:xfrm>
            <a:off x="112680" y="-6048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omprensión del enfoque de sistema para la gest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7"/>
          <p:cNvSpPr/>
          <p:nvPr/>
        </p:nvSpPr>
        <p:spPr>
          <a:xfrm>
            <a:off x="7164360" y="646128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790571"/>
                </a:solidFill>
                <a:latin typeface="Pristina"/>
              </a:rPr>
              <a:t>Amys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4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711360" y="1308240"/>
            <a:ext cx="7591320" cy="5533920"/>
          </a:xfrm>
          <a:prstGeom prst="rect">
            <a:avLst/>
          </a:prstGeom>
          <a:ln w="0">
            <a:noFill/>
          </a:ln>
        </p:spPr>
      </p:pic>
      <p:sp>
        <p:nvSpPr>
          <p:cNvPr id="209" name="WordArt 2"/>
          <p:cNvSpPr txBox="1"/>
          <p:nvPr/>
        </p:nvSpPr>
        <p:spPr>
          <a:xfrm>
            <a:off x="324000" y="404640"/>
            <a:ext cx="84294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Copperplate Gothic Bold"/>
              </a:rPr>
              <a:t>                                                  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210" name="6 CuadroTexto"/>
          <p:cNvSpPr/>
          <p:nvPr/>
        </p:nvSpPr>
        <p:spPr>
          <a:xfrm>
            <a:off x="112680" y="-6048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omprensión del enfoque de sistema para la gest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3" descr="Pensando"/>
          <p:cNvPicPr/>
          <p:nvPr/>
        </p:nvPicPr>
        <p:blipFill>
          <a:blip r:embed="rId1"/>
          <a:stretch/>
        </p:blipFill>
        <p:spPr>
          <a:xfrm>
            <a:off x="7885080" y="1341360"/>
            <a:ext cx="819360" cy="1343160"/>
          </a:xfrm>
          <a:prstGeom prst="rect">
            <a:avLst/>
          </a:prstGeom>
          <a:ln w="0">
            <a:noFill/>
          </a:ln>
        </p:spPr>
      </p:pic>
      <p:grpSp>
        <p:nvGrpSpPr>
          <p:cNvPr id="212" name="Rectangle 37"/>
          <p:cNvGrpSpPr/>
          <p:nvPr/>
        </p:nvGrpSpPr>
        <p:grpSpPr>
          <a:xfrm>
            <a:off x="212760" y="1500120"/>
            <a:ext cx="7645320" cy="1797480"/>
            <a:chOff x="212760" y="1500120"/>
            <a:chExt cx="7645320" cy="1797480"/>
          </a:xfrm>
        </p:grpSpPr>
        <p:pic>
          <p:nvPicPr>
            <p:cNvPr id="213" name="Rectangle 37" descr=""/>
            <p:cNvPicPr/>
            <p:nvPr/>
          </p:nvPicPr>
          <p:blipFill>
            <a:blip r:embed="rId2"/>
            <a:stretch/>
          </p:blipFill>
          <p:spPr>
            <a:xfrm>
              <a:off x="212760" y="1500120"/>
              <a:ext cx="764532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214200" y="1500120"/>
              <a:ext cx="764388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as interacciones entre los procesos de una organización pueden ser frecuentemente complejas, resultando en una red de procesos interdependient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a entrada y la salida de los procesos normalmente están relacionados tanto con clientes externos como interno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l modelo de red de procesos indica que los clientes juegan una papel significativo en la definición de los elementos de entrad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21" descr="http://bvs.sld.cu/revistas/aci/vol14_5_06/f0211506.jpg"/>
          <p:cNvPicPr/>
          <p:nvPr/>
        </p:nvPicPr>
        <p:blipFill>
          <a:blip r:embed="rId3"/>
          <a:stretch/>
        </p:blipFill>
        <p:spPr>
          <a:xfrm>
            <a:off x="357120" y="3214800"/>
            <a:ext cx="4429080" cy="3209760"/>
          </a:xfrm>
          <a:prstGeom prst="rect">
            <a:avLst/>
          </a:prstGeom>
          <a:ln w="9360">
            <a:solidFill>
              <a:srgbClr val="7030a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16" name="Rectangle 37"/>
          <p:cNvGrpSpPr/>
          <p:nvPr/>
        </p:nvGrpSpPr>
        <p:grpSpPr>
          <a:xfrm>
            <a:off x="5072040" y="3498840"/>
            <a:ext cx="3571920" cy="2552400"/>
            <a:chOff x="5072040" y="3498840"/>
            <a:chExt cx="3571920" cy="2552400"/>
          </a:xfrm>
        </p:grpSpPr>
        <p:pic>
          <p:nvPicPr>
            <p:cNvPr id="217" name="Rectangle 37" descr=""/>
            <p:cNvPicPr/>
            <p:nvPr/>
          </p:nvPicPr>
          <p:blipFill>
            <a:blip r:embed="rId4"/>
            <a:stretch/>
          </p:blipFill>
          <p:spPr>
            <a:xfrm>
              <a:off x="5072040" y="3498840"/>
              <a:ext cx="3571920" cy="25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072040" y="3499920"/>
              <a:ext cx="35719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a retroalimentación de la satisfacción o insatisfacción del cliente por los resultados del proceso es un elemento esencial para el proceso de mejora continua del SG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l ciclo de mejora continua puede ser aplicado tanto a cada proceso por individual como a la red de procesos como un tod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WordArt 2"/>
          <p:cNvSpPr txBox="1"/>
          <p:nvPr/>
        </p:nvSpPr>
        <p:spPr>
          <a:xfrm>
            <a:off x="324000" y="404640"/>
            <a:ext cx="84294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Copperplate Gothic Bold"/>
              </a:rPr>
              <a:t>                                                  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220" name="7 CuadroTexto"/>
          <p:cNvSpPr/>
          <p:nvPr/>
        </p:nvSpPr>
        <p:spPr>
          <a:xfrm>
            <a:off x="112680" y="-6048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omprensión del enfoque de sistema para la gest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55"/>
          <p:cNvSpPr/>
          <p:nvPr/>
        </p:nvSpPr>
        <p:spPr>
          <a:xfrm>
            <a:off x="3824280" y="7977240"/>
            <a:ext cx="146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28" descr="http://www.pasarlascanutas.com/estacd/cornershelving032.JPG"/>
          <p:cNvPicPr/>
          <p:nvPr/>
        </p:nvPicPr>
        <p:blipFill>
          <a:blip r:embed="rId1"/>
          <a:stretch/>
        </p:blipFill>
        <p:spPr>
          <a:xfrm>
            <a:off x="-14400" y="14241600"/>
            <a:ext cx="1400400" cy="10476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64"/>
          <p:cNvSpPr/>
          <p:nvPr/>
        </p:nvSpPr>
        <p:spPr>
          <a:xfrm>
            <a:off x="3824280" y="14195520"/>
            <a:ext cx="1467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89"/>
          <p:cNvSpPr/>
          <p:nvPr/>
        </p:nvSpPr>
        <p:spPr>
          <a:xfrm>
            <a:off x="-14400" y="334800"/>
            <a:ext cx="933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91"/>
          <p:cNvSpPr/>
          <p:nvPr/>
        </p:nvSpPr>
        <p:spPr>
          <a:xfrm>
            <a:off x="387180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3"/>
          <p:cNvSpPr/>
          <p:nvPr/>
        </p:nvSpPr>
        <p:spPr>
          <a:xfrm>
            <a:off x="387180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6" descr="Pensando"/>
          <p:cNvPicPr/>
          <p:nvPr/>
        </p:nvPicPr>
        <p:blipFill>
          <a:blip r:embed="rId2"/>
          <a:stretch/>
        </p:blipFill>
        <p:spPr>
          <a:xfrm>
            <a:off x="71280" y="5526000"/>
            <a:ext cx="1332000" cy="1332000"/>
          </a:xfrm>
          <a:prstGeom prst="rect">
            <a:avLst/>
          </a:prstGeom>
          <a:ln w="0">
            <a:noFill/>
          </a:ln>
        </p:spPr>
      </p:pic>
      <p:grpSp>
        <p:nvGrpSpPr>
          <p:cNvPr id="228" name="Rectangle 37"/>
          <p:cNvGrpSpPr/>
          <p:nvPr/>
        </p:nvGrpSpPr>
        <p:grpSpPr>
          <a:xfrm>
            <a:off x="384120" y="1274760"/>
            <a:ext cx="8358120" cy="584280"/>
            <a:chOff x="384120" y="1274760"/>
            <a:chExt cx="8358120" cy="584280"/>
          </a:xfrm>
        </p:grpSpPr>
        <p:pic>
          <p:nvPicPr>
            <p:cNvPr id="229" name="Rectangle 37" descr=""/>
            <p:cNvPicPr/>
            <p:nvPr/>
          </p:nvPicPr>
          <p:blipFill>
            <a:blip r:embed="rId3"/>
            <a:stretch/>
          </p:blipFill>
          <p:spPr>
            <a:xfrm>
              <a:off x="384120" y="1274760"/>
              <a:ext cx="835812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84120" y="1274760"/>
              <a:ext cx="8358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	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l enfoque basado en procesos (según el apartado 0.2 en la introducción de la Norma ISO 9001:2000). establece qu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ectangle 37"/>
          <p:cNvGrpSpPr/>
          <p:nvPr/>
        </p:nvGrpSpPr>
        <p:grpSpPr>
          <a:xfrm>
            <a:off x="1335240" y="1847880"/>
            <a:ext cx="6729120" cy="1401840"/>
            <a:chOff x="1335240" y="1847880"/>
            <a:chExt cx="6729120" cy="1401840"/>
          </a:xfrm>
        </p:grpSpPr>
        <p:pic>
          <p:nvPicPr>
            <p:cNvPr id="232" name="Rectangle 37" descr=""/>
            <p:cNvPicPr/>
            <p:nvPr/>
          </p:nvPicPr>
          <p:blipFill>
            <a:blip r:embed="rId4"/>
            <a:stretch/>
          </p:blipFill>
          <p:spPr>
            <a:xfrm>
              <a:off x="1335240" y="1847880"/>
              <a:ext cx="672912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341360" y="1855800"/>
              <a:ext cx="67150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“</a:t>
              </a:r>
              <a:r>
                <a:rPr b="1" lang="es-ES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Un enfoque basado en procesos, cuando se utiliza dentro de un sistema de gestión de calidad, enfatiza la importancia d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Arial Narrow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La comprensión y el cumplimiento de los requisi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Arial Narrow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La necesidad de considerar los procesos en términos que aporten valo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Arial Narrow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La obtención de resultados del desempeño y eficacia del proceso,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Arial Narrow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La mejora continua de los procesos con base en mediciones objetivas.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Rectangle 37"/>
          <p:cNvGrpSpPr/>
          <p:nvPr/>
        </p:nvGrpSpPr>
        <p:grpSpPr>
          <a:xfrm>
            <a:off x="401760" y="3438360"/>
            <a:ext cx="8357760" cy="824040"/>
            <a:chOff x="401760" y="3438360"/>
            <a:chExt cx="8357760" cy="824040"/>
          </a:xfrm>
        </p:grpSpPr>
        <p:pic>
          <p:nvPicPr>
            <p:cNvPr id="235" name="Rectangle 37" descr=""/>
            <p:cNvPicPr/>
            <p:nvPr/>
          </p:nvPicPr>
          <p:blipFill>
            <a:blip r:embed="rId5"/>
            <a:stretch/>
          </p:blipFill>
          <p:spPr>
            <a:xfrm>
              <a:off x="403200" y="3438360"/>
              <a:ext cx="835632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01760" y="3438360"/>
              <a:ext cx="8356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	</a:t>
              </a:r>
              <a:r>
                <a:rPr b="1" lang="es-VE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egún la Norma ISO 9001:2000, el enfoque basado en procesos incluye los procesos necesarios para la realización del producto, y los otros procesos necesarios para la implementación eficaz del SGC, tales como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Rectangle 37"/>
          <p:cNvGrpSpPr/>
          <p:nvPr/>
        </p:nvGrpSpPr>
        <p:grpSpPr>
          <a:xfrm>
            <a:off x="1335240" y="4297320"/>
            <a:ext cx="6729120" cy="1212840"/>
            <a:chOff x="1335240" y="4297320"/>
            <a:chExt cx="6729120" cy="1212840"/>
          </a:xfrm>
        </p:grpSpPr>
        <p:pic>
          <p:nvPicPr>
            <p:cNvPr id="238" name="Rectangle 37" descr=""/>
            <p:cNvPicPr/>
            <p:nvPr/>
          </p:nvPicPr>
          <p:blipFill>
            <a:blip r:embed="rId6"/>
            <a:stretch/>
          </p:blipFill>
          <p:spPr>
            <a:xfrm>
              <a:off x="1335240" y="4297320"/>
              <a:ext cx="67291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341360" y="4302000"/>
              <a:ext cx="67150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El proceso de auditoria intern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El proceso de revisión por la direcció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El proceso de análisis de da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El proceso de gestión de recurs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Entre otr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Rectangle 37"/>
          <p:cNvGrpSpPr/>
          <p:nvPr/>
        </p:nvGrpSpPr>
        <p:grpSpPr>
          <a:xfrm>
            <a:off x="1189080" y="5668920"/>
            <a:ext cx="6759000" cy="585360"/>
            <a:chOff x="1189080" y="5668920"/>
            <a:chExt cx="6759000" cy="585360"/>
          </a:xfrm>
        </p:grpSpPr>
        <p:pic>
          <p:nvPicPr>
            <p:cNvPr id="241" name="Rectangle 37" descr=""/>
            <p:cNvPicPr/>
            <p:nvPr/>
          </p:nvPicPr>
          <p:blipFill>
            <a:blip r:embed="rId7"/>
            <a:stretch/>
          </p:blipFill>
          <p:spPr>
            <a:xfrm>
              <a:off x="1189080" y="5670000"/>
              <a:ext cx="675612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190160" y="5668920"/>
              <a:ext cx="675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odos ellos pueden gestionarse utilizando el concepto del Ciclo de Mejora Continu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Rectangle 37"/>
          <p:cNvGrpSpPr/>
          <p:nvPr/>
        </p:nvGrpSpPr>
        <p:grpSpPr>
          <a:xfrm>
            <a:off x="384120" y="1274760"/>
            <a:ext cx="8358120" cy="584280"/>
            <a:chOff x="384120" y="1274760"/>
            <a:chExt cx="8358120" cy="584280"/>
          </a:xfrm>
        </p:grpSpPr>
        <p:pic>
          <p:nvPicPr>
            <p:cNvPr id="244" name="Rectangle 37" descr=""/>
            <p:cNvPicPr/>
            <p:nvPr/>
          </p:nvPicPr>
          <p:blipFill>
            <a:blip r:embed="rId8"/>
            <a:stretch/>
          </p:blipFill>
          <p:spPr>
            <a:xfrm>
              <a:off x="384120" y="1274760"/>
              <a:ext cx="835812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84120" y="1274760"/>
              <a:ext cx="8358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	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l enfoque basado en procesos (según el apartado 0.2 en la introducción de la Norma ISO 9001:2000). establece qu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Rectangle 37"/>
          <p:cNvGrpSpPr/>
          <p:nvPr/>
        </p:nvGrpSpPr>
        <p:grpSpPr>
          <a:xfrm>
            <a:off x="1335240" y="1847880"/>
            <a:ext cx="6729120" cy="1401840"/>
            <a:chOff x="1335240" y="1847880"/>
            <a:chExt cx="6729120" cy="1401840"/>
          </a:xfrm>
        </p:grpSpPr>
        <p:pic>
          <p:nvPicPr>
            <p:cNvPr id="247" name="Rectangle 37" descr=""/>
            <p:cNvPicPr/>
            <p:nvPr/>
          </p:nvPicPr>
          <p:blipFill>
            <a:blip r:embed="rId9"/>
            <a:stretch/>
          </p:blipFill>
          <p:spPr>
            <a:xfrm>
              <a:off x="1335240" y="1847880"/>
              <a:ext cx="672912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1341360" y="1855800"/>
              <a:ext cx="67150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“</a:t>
              </a:r>
              <a:r>
                <a:rPr b="1" lang="es-ES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Un enfoque basado en procesos, cuando se utiliza dentro de un sistema de gestión de calidad, enfatiza la importancia d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Arial Narrow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La comprensión y el cumplimiento de los requisi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Arial Narrow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La necesidad de considerar los procesos en términos que aporten valo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Arial Narrow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La obtención de resultados del desempeño y eficacia del proceso,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Arial Narrow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La mejora continua de los procesos con base en mediciones objetivas.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20 CuadroTexto"/>
          <p:cNvSpPr/>
          <p:nvPr/>
        </p:nvSpPr>
        <p:spPr>
          <a:xfrm>
            <a:off x="-214200" y="-60480"/>
            <a:ext cx="95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Implementación del enfoque basado en procesos de acuerdo con los requisitos de la Norma ISO 9001: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2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1"/>
          <p:cNvSpPr/>
          <p:nvPr/>
        </p:nvSpPr>
        <p:spPr>
          <a:xfrm>
            <a:off x="0" y="226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5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8" descr="Pensando"/>
          <p:cNvPicPr/>
          <p:nvPr/>
        </p:nvPicPr>
        <p:blipFill>
          <a:blip r:embed="rId1"/>
          <a:stretch/>
        </p:blipFill>
        <p:spPr>
          <a:xfrm>
            <a:off x="250920" y="5300640"/>
            <a:ext cx="869760" cy="1270080"/>
          </a:xfrm>
          <a:prstGeom prst="rect">
            <a:avLst/>
          </a:prstGeom>
          <a:ln w="0">
            <a:noFill/>
          </a:ln>
        </p:spPr>
      </p:pic>
      <p:grpSp>
        <p:nvGrpSpPr>
          <p:cNvPr id="255" name="Rectangle 37"/>
          <p:cNvGrpSpPr/>
          <p:nvPr/>
        </p:nvGrpSpPr>
        <p:grpSpPr>
          <a:xfrm>
            <a:off x="384120" y="1274760"/>
            <a:ext cx="8358120" cy="584280"/>
            <a:chOff x="384120" y="1274760"/>
            <a:chExt cx="8358120" cy="584280"/>
          </a:xfrm>
        </p:grpSpPr>
        <p:pic>
          <p:nvPicPr>
            <p:cNvPr id="256" name="Rectangle 37" descr=""/>
            <p:cNvPicPr/>
            <p:nvPr/>
          </p:nvPicPr>
          <p:blipFill>
            <a:blip r:embed="rId2"/>
            <a:stretch/>
          </p:blipFill>
          <p:spPr>
            <a:xfrm>
              <a:off x="384120" y="1274760"/>
              <a:ext cx="835812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84120" y="1274760"/>
              <a:ext cx="8358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	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os requisitos para estos procesos se especifican en los siguientes capítulos de la Norma ISO 9001:2000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Rectangle 37"/>
          <p:cNvGrpSpPr/>
          <p:nvPr/>
        </p:nvGrpSpPr>
        <p:grpSpPr>
          <a:xfrm>
            <a:off x="2766960" y="1847880"/>
            <a:ext cx="3389400" cy="1292040"/>
            <a:chOff x="2766960" y="1847880"/>
            <a:chExt cx="3389400" cy="1292040"/>
          </a:xfrm>
        </p:grpSpPr>
        <p:pic>
          <p:nvPicPr>
            <p:cNvPr id="259" name="Rectangle 37" descr=""/>
            <p:cNvPicPr/>
            <p:nvPr/>
          </p:nvPicPr>
          <p:blipFill>
            <a:blip r:embed="rId3"/>
            <a:stretch/>
          </p:blipFill>
          <p:spPr>
            <a:xfrm>
              <a:off x="2766960" y="1847880"/>
              <a:ext cx="338940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2776680" y="1854360"/>
              <a:ext cx="3373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660066"/>
                  </a:solidFill>
                  <a:latin typeface="Arial Narrow"/>
                  <a:ea typeface="Arial Unicode MS"/>
                </a:rPr>
                <a:t>4.- Sistema de Gestión de Calida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660066"/>
                  </a:solidFill>
                  <a:latin typeface="Arial Narrow"/>
                  <a:ea typeface="Arial Unicode MS"/>
                </a:rPr>
                <a:t>5.- Responsabilidad de la direcció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660066"/>
                  </a:solidFill>
                  <a:latin typeface="Arial Narrow"/>
                  <a:ea typeface="Arial Unicode MS"/>
                </a:rPr>
                <a:t>6.- Gestión de los recurs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660066"/>
                  </a:solidFill>
                  <a:latin typeface="Arial Narrow"/>
                  <a:ea typeface="Arial Unicode MS"/>
                </a:rPr>
                <a:t>7.- Realización del produc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660066"/>
                  </a:solidFill>
                  <a:latin typeface="Arial Narrow"/>
                  <a:ea typeface="Arial Unicode MS"/>
                </a:rPr>
                <a:t>8.- Medición, análisis y mejor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Rectangle 37"/>
          <p:cNvGrpSpPr/>
          <p:nvPr/>
        </p:nvGrpSpPr>
        <p:grpSpPr>
          <a:xfrm>
            <a:off x="401760" y="3371760"/>
            <a:ext cx="8357760" cy="1067400"/>
            <a:chOff x="401760" y="3371760"/>
            <a:chExt cx="8357760" cy="1067400"/>
          </a:xfrm>
        </p:grpSpPr>
        <p:pic>
          <p:nvPicPr>
            <p:cNvPr id="262" name="Rectangle 37" descr=""/>
            <p:cNvPicPr/>
            <p:nvPr/>
          </p:nvPicPr>
          <p:blipFill>
            <a:blip r:embed="rId4"/>
            <a:stretch/>
          </p:blipFill>
          <p:spPr>
            <a:xfrm>
              <a:off x="403200" y="3374640"/>
              <a:ext cx="835632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01760" y="3371760"/>
              <a:ext cx="8356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	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os requisitos generales para un SGC se especifican en el apartado 4.1 de la Norma ISO 9001:2000, y para que una organización pueda alcanzar alcanzar el cumplimiento de éstos requisitos pueden orientarse formulándose ciertas preguntas (aunque no son la única manera de cumplirlos), tales como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Rectangle 37"/>
          <p:cNvGrpSpPr/>
          <p:nvPr/>
        </p:nvGrpSpPr>
        <p:grpSpPr>
          <a:xfrm>
            <a:off x="1407960" y="4516560"/>
            <a:ext cx="6724800" cy="1805040"/>
            <a:chOff x="1407960" y="4516560"/>
            <a:chExt cx="6724800" cy="1805040"/>
          </a:xfrm>
        </p:grpSpPr>
        <p:pic>
          <p:nvPicPr>
            <p:cNvPr id="265" name="Rectangle 37" descr=""/>
            <p:cNvPicPr/>
            <p:nvPr/>
          </p:nvPicPr>
          <p:blipFill>
            <a:blip r:embed="rId5"/>
            <a:stretch/>
          </p:blipFill>
          <p:spPr>
            <a:xfrm>
              <a:off x="1407960" y="4516560"/>
              <a:ext cx="672480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413000" y="4522680"/>
              <a:ext cx="671508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660066"/>
                  </a:solidFill>
                  <a:latin typeface="Arial Narrow"/>
                  <a:ea typeface="Arial Unicode MS"/>
                </a:rPr>
                <a:t>a) Identificar los procesos necesarios para el SGC y su aplicación a través de la organizació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660066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Cuáles son los procesos necesarios para nuestro SGC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Quiénes son los clientes de cada proceso (internos y externos)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Cuáles son los requisitos de éstos client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Quién es el “dueño” del proceso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Se contrata externamente alguno de estos proceso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Cuáles son los elementos de entrada y los resultados de cada proceso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12 CuadroTexto"/>
          <p:cNvSpPr/>
          <p:nvPr/>
        </p:nvSpPr>
        <p:spPr>
          <a:xfrm>
            <a:off x="-214200" y="-60480"/>
            <a:ext cx="95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Implementación del enfoque basado en procesos de acuerdo con los requisitos de la Norma ISO 9001: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2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6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1"/>
          <p:cNvSpPr/>
          <p:nvPr/>
        </p:nvSpPr>
        <p:spPr>
          <a:xfrm>
            <a:off x="0" y="226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5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Rectangle 37"/>
          <p:cNvGrpSpPr/>
          <p:nvPr/>
        </p:nvGrpSpPr>
        <p:grpSpPr>
          <a:xfrm>
            <a:off x="1189080" y="1414440"/>
            <a:ext cx="6729480" cy="1197000"/>
            <a:chOff x="1189080" y="1414440"/>
            <a:chExt cx="6729480" cy="1197000"/>
          </a:xfrm>
        </p:grpSpPr>
        <p:pic>
          <p:nvPicPr>
            <p:cNvPr id="273" name="Rectangle 37" descr=""/>
            <p:cNvPicPr/>
            <p:nvPr/>
          </p:nvPicPr>
          <p:blipFill>
            <a:blip r:embed="rId1"/>
            <a:stretch/>
          </p:blipFill>
          <p:spPr>
            <a:xfrm>
              <a:off x="1189080" y="1414440"/>
              <a:ext cx="67294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197000" y="1422360"/>
              <a:ext cx="67150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660066"/>
                  </a:solidFill>
                  <a:latin typeface="Arial Narrow"/>
                  <a:ea typeface="Arial Unicode MS"/>
                </a:rPr>
                <a:t>b) Determinar la secuencia e interacción de estos proces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660066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Cuál es el flujo global de nuestros procesos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Cómo podemos describirlo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Cuáles son las interfaces entre los procesos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Qué documentación necesitamos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Rectangle 37"/>
          <p:cNvGrpSpPr/>
          <p:nvPr/>
        </p:nvGrpSpPr>
        <p:grpSpPr>
          <a:xfrm>
            <a:off x="1189080" y="2730600"/>
            <a:ext cx="6729480" cy="1744560"/>
            <a:chOff x="1189080" y="2730600"/>
            <a:chExt cx="6729480" cy="1744560"/>
          </a:xfrm>
        </p:grpSpPr>
        <p:pic>
          <p:nvPicPr>
            <p:cNvPr id="276" name="Rectangle 37" descr=""/>
            <p:cNvPicPr/>
            <p:nvPr/>
          </p:nvPicPr>
          <p:blipFill>
            <a:blip r:embed="rId2"/>
            <a:stretch/>
          </p:blipFill>
          <p:spPr>
            <a:xfrm>
              <a:off x="1189080" y="2730600"/>
              <a:ext cx="672948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1197000" y="2738520"/>
              <a:ext cx="6715080" cy="17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660066"/>
                  </a:solidFill>
                  <a:latin typeface="Arial Narrow"/>
                  <a:ea typeface="Arial Unicode MS"/>
                </a:rPr>
                <a:t>c) Determinar los criterios y métodos necesarios para asegurarse de que tanto la operación como el control de éstos procesos sean eficac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660066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Cuáles son las características de los productos intencionados y no intencionados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Cuáles son los criterios para el seguimiento, análisis y medición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Cómo podemos incorporar esto dentro de la planificación de nuestro SGC y de los </a:t>
              </a: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  procesos de realización del producto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Cuáles son los aspectos económicos (costo, tiempo, desperdicio, etc.)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Qué métodos son apropiados para recopilar datos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Rectangle 37"/>
          <p:cNvGrpSpPr/>
          <p:nvPr/>
        </p:nvGrpSpPr>
        <p:grpSpPr>
          <a:xfrm>
            <a:off x="1189080" y="4614840"/>
            <a:ext cx="6729480" cy="1743120"/>
            <a:chOff x="1189080" y="4614840"/>
            <a:chExt cx="6729480" cy="1743120"/>
          </a:xfrm>
        </p:grpSpPr>
        <p:pic>
          <p:nvPicPr>
            <p:cNvPr id="279" name="Rectangle 37" descr=""/>
            <p:cNvPicPr/>
            <p:nvPr/>
          </p:nvPicPr>
          <p:blipFill>
            <a:blip r:embed="rId3"/>
            <a:stretch/>
          </p:blipFill>
          <p:spPr>
            <a:xfrm>
              <a:off x="1189080" y="4614840"/>
              <a:ext cx="672948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1197000" y="4621320"/>
              <a:ext cx="6715080" cy="17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660066"/>
                  </a:solidFill>
                  <a:latin typeface="Arial Narrow"/>
                  <a:ea typeface="Arial Unicode MS"/>
                </a:rPr>
                <a:t>d) Asegurarse de la disponibilidad de recursos e información necesarios para apoyar la operación y el seguimiento de éstos proce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660066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Qué recursos son necesarios para cada proceso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Cuáles son los canales de comunicación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Cómo podemos proporcionar información externa e interna sobre el proceso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Cómo obtenemos la retroalimentación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Qué datos necesitamos recopilar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2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Qué registros necesitamos mantener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10 CuadroTexto"/>
          <p:cNvSpPr/>
          <p:nvPr/>
        </p:nvSpPr>
        <p:spPr>
          <a:xfrm>
            <a:off x="-214200" y="-60480"/>
            <a:ext cx="95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Implementación del enfoque basado en procesos de acuerdo con los requisitos de la Norma ISO 9001: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2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6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1"/>
          <p:cNvSpPr/>
          <p:nvPr/>
        </p:nvSpPr>
        <p:spPr>
          <a:xfrm>
            <a:off x="0" y="226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5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Rectangle 37"/>
          <p:cNvGrpSpPr/>
          <p:nvPr/>
        </p:nvGrpSpPr>
        <p:grpSpPr>
          <a:xfrm>
            <a:off x="1189080" y="1706400"/>
            <a:ext cx="6729480" cy="1807200"/>
            <a:chOff x="1189080" y="1706400"/>
            <a:chExt cx="6729480" cy="1807200"/>
          </a:xfrm>
        </p:grpSpPr>
        <p:pic>
          <p:nvPicPr>
            <p:cNvPr id="287" name="Rectangle 37" descr=""/>
            <p:cNvPicPr/>
            <p:nvPr/>
          </p:nvPicPr>
          <p:blipFill>
            <a:blip r:embed="rId1"/>
            <a:stretch/>
          </p:blipFill>
          <p:spPr>
            <a:xfrm>
              <a:off x="1189080" y="1706400"/>
              <a:ext cx="672948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197000" y="1714680"/>
              <a:ext cx="671508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660066"/>
                  </a:solidFill>
                  <a:latin typeface="Arial Narrow"/>
                  <a:ea typeface="Arial Unicode MS"/>
                </a:rPr>
                <a:t>e) Realizar el seguimiento, la medición y el análisis de estos proces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660066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Cómo podemos hacer el seguimiento del desempeño del proceso (capacidad </a:t>
              </a: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  de procesos, satisfacción del cliente)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Qué mediciones son necesaria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Cómo podemos analizar de la mejor manera la información recopilada </a:t>
              </a: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 </a:t>
              </a: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 (técnicas estadísticas)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Qué nos dice el resultado de éstos análisi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ectangle 37"/>
          <p:cNvGrpSpPr/>
          <p:nvPr/>
        </p:nvGrpSpPr>
        <p:grpSpPr>
          <a:xfrm>
            <a:off x="1189080" y="3786120"/>
            <a:ext cx="6729480" cy="1593720"/>
            <a:chOff x="1189080" y="3786120"/>
            <a:chExt cx="6729480" cy="1593720"/>
          </a:xfrm>
        </p:grpSpPr>
        <p:pic>
          <p:nvPicPr>
            <p:cNvPr id="290" name="Rectangle 37" descr=""/>
            <p:cNvPicPr/>
            <p:nvPr/>
          </p:nvPicPr>
          <p:blipFill>
            <a:blip r:embed="rId2"/>
            <a:stretch/>
          </p:blipFill>
          <p:spPr>
            <a:xfrm>
              <a:off x="1189080" y="3786120"/>
              <a:ext cx="6729480" cy="15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1197000" y="3794040"/>
              <a:ext cx="67150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660066"/>
                  </a:solidFill>
                  <a:latin typeface="Arial Narrow"/>
                  <a:ea typeface="Arial Unicode MS"/>
                </a:rPr>
                <a:t>f) Implementar las acciones necesarias para alcanzar los resultados planificados y la mejora continua de éstos proces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660066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Cómo podemos mejorar el proceso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Qué acciones correctivas y preventivas son necesaria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Se han implementado estas acciones correctivas/preventiva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-¿Son eficac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937593"/>
                  </a:solidFill>
                  <a:latin typeface="Arial Narrow"/>
                  <a:ea typeface="Arial Unicode MS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9 CuadroTexto"/>
          <p:cNvSpPr/>
          <p:nvPr/>
        </p:nvSpPr>
        <p:spPr>
          <a:xfrm>
            <a:off x="-214200" y="-60480"/>
            <a:ext cx="95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Implementación del enfoque basado en procesos de acuerdo con los requisitos de la Norma ISO 9001: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2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6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1"/>
          <p:cNvSpPr/>
          <p:nvPr/>
        </p:nvSpPr>
        <p:spPr>
          <a:xfrm>
            <a:off x="0" y="226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5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Rectangle 37"/>
          <p:cNvGrpSpPr/>
          <p:nvPr/>
        </p:nvGrpSpPr>
        <p:grpSpPr>
          <a:xfrm>
            <a:off x="401760" y="1292400"/>
            <a:ext cx="8357760" cy="2438280"/>
            <a:chOff x="401760" y="1292400"/>
            <a:chExt cx="8357760" cy="2438280"/>
          </a:xfrm>
        </p:grpSpPr>
        <p:pic>
          <p:nvPicPr>
            <p:cNvPr id="298" name="Rectangle 37" descr=""/>
            <p:cNvPicPr/>
            <p:nvPr/>
          </p:nvPicPr>
          <p:blipFill>
            <a:blip r:embed="rId1"/>
            <a:stretch/>
          </p:blipFill>
          <p:spPr>
            <a:xfrm>
              <a:off x="403200" y="1292400"/>
              <a:ext cx="8356320" cy="21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401760" y="1292400"/>
              <a:ext cx="83563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n este punto, los procesos ya existen dentro de la organización y el enfoque inicial debería limitarse a identificarlos y gestionarlos de la manera mas apropiada. La Norma ISO 9002:2000 requiere que todos los procesos “necesarios para el sistema de gestión de calidad” se gestionen según el apartado 4.1 </a:t>
              </a:r>
              <a:r>
                <a:rPr b="1" i="1" lang="es-ES" sz="1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equisitos Generales.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o hay un “catalogo” o una lista de  procesos que deben documentarse en función de los requisitos de su cliente y de los legales o reglamentos aplicables, de la naturaleza de sus actividades y de su estrategia global. </a:t>
              </a:r>
              <a:r>
                <a:rPr b="1" lang="es-VE" sz="1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	</a:t>
              </a:r>
              <a:r>
                <a:rPr b="1" lang="es-VE" sz="1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Al determinar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ué procesos deberían documentarse la organización podría considerar factores tales com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Rectangle 37"/>
          <p:cNvGrpSpPr/>
          <p:nvPr/>
        </p:nvGrpSpPr>
        <p:grpSpPr>
          <a:xfrm>
            <a:off x="2914560" y="3071880"/>
            <a:ext cx="3241800" cy="1595160"/>
            <a:chOff x="2914560" y="3071880"/>
            <a:chExt cx="3241800" cy="1595160"/>
          </a:xfrm>
        </p:grpSpPr>
        <p:pic>
          <p:nvPicPr>
            <p:cNvPr id="301" name="Rectangle 37" descr=""/>
            <p:cNvPicPr/>
            <p:nvPr/>
          </p:nvPicPr>
          <p:blipFill>
            <a:blip r:embed="rId2"/>
            <a:stretch/>
          </p:blipFill>
          <p:spPr>
            <a:xfrm>
              <a:off x="2914560" y="3071880"/>
              <a:ext cx="324180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2921040" y="3081240"/>
              <a:ext cx="32320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El efecto sobre la calida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El riesgo de insatisfacción del cli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Los requisitos legales y reglamentari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El riesgo económic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La eficacia y eficienci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La competencia del person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La complejidad de los proces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Rectangle 37"/>
          <p:cNvGrpSpPr/>
          <p:nvPr/>
        </p:nvGrpSpPr>
        <p:grpSpPr>
          <a:xfrm>
            <a:off x="401760" y="4730760"/>
            <a:ext cx="8357760" cy="734760"/>
            <a:chOff x="401760" y="4730760"/>
            <a:chExt cx="8357760" cy="734760"/>
          </a:xfrm>
        </p:grpSpPr>
        <p:pic>
          <p:nvPicPr>
            <p:cNvPr id="304" name="Rectangle 37" descr=""/>
            <p:cNvPicPr/>
            <p:nvPr/>
          </p:nvPicPr>
          <p:blipFill>
            <a:blip r:embed="rId3"/>
            <a:stretch/>
          </p:blipFill>
          <p:spPr>
            <a:xfrm>
              <a:off x="403200" y="4730760"/>
              <a:ext cx="83563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01760" y="4732200"/>
              <a:ext cx="8356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uando sea necesario documentar los procesos, pueden utilizarse diferentes medios, tales como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Rectangle 37"/>
          <p:cNvGrpSpPr/>
          <p:nvPr/>
        </p:nvGrpSpPr>
        <p:grpSpPr>
          <a:xfrm>
            <a:off x="2914560" y="5162400"/>
            <a:ext cx="3241800" cy="1427400"/>
            <a:chOff x="2914560" y="5162400"/>
            <a:chExt cx="3241800" cy="1427400"/>
          </a:xfrm>
        </p:grpSpPr>
        <p:pic>
          <p:nvPicPr>
            <p:cNvPr id="307" name="Rectangle 37" descr=""/>
            <p:cNvPicPr/>
            <p:nvPr/>
          </p:nvPicPr>
          <p:blipFill>
            <a:blip r:embed="rId4"/>
            <a:stretch/>
          </p:blipFill>
          <p:spPr>
            <a:xfrm>
              <a:off x="2914560" y="5162400"/>
              <a:ext cx="32418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921040" y="5168880"/>
              <a:ext cx="32320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Representaciones Gráfic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Las instrucciones escrit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Las listas de Verificació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Diagramas de fluj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Medios audiovisu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7030a0"/>
                  </a:solidFill>
                  <a:latin typeface="Arial Narrow"/>
                  <a:ea typeface="Arial Unicode MS"/>
                </a:rPr>
                <a:t>Medios electrónic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11 CuadroTexto"/>
          <p:cNvSpPr/>
          <p:nvPr/>
        </p:nvSpPr>
        <p:spPr>
          <a:xfrm>
            <a:off x="-357120" y="285840"/>
            <a:ext cx="95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Documentación de los Proce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2 Marcador de contenido"/>
          <p:cNvSpPr/>
          <p:nvPr/>
        </p:nvSpPr>
        <p:spPr>
          <a:xfrm>
            <a:off x="60156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¿ Porque documentar un sistema de gestión de calida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Para comunicar e propósito y la coherencia de la a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Su utilización contribuye 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Lograr la conformidad con los requisitos del cliente y la mejora de la cal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Proveer la formación apropi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Proporcionar evidencia obje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Evaluar la eficacia y la adecuación continua del sistema de gestión de la calida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4 CuadroTexto"/>
          <p:cNvSpPr/>
          <p:nvPr/>
        </p:nvSpPr>
        <p:spPr>
          <a:xfrm>
            <a:off x="-35712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Documentación de sistemas de gestión de la cal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7 CuadroTexto"/>
          <p:cNvSpPr/>
          <p:nvPr/>
        </p:nvSpPr>
        <p:spPr>
          <a:xfrm>
            <a:off x="1224000" y="1413000"/>
            <a:ext cx="6588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Broadway"/>
              </a:rPr>
              <a:t>PROPÓSITOS Y BENEFICIOS DE TENER UN SISTEMA DOCUMEN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2 Marcador de contenido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248680" cy="3756240"/>
          </a:xfrm>
          <a:prstGeom prst="rect">
            <a:avLst/>
          </a:prstGeom>
          <a:ln w="0">
            <a:noFill/>
          </a:ln>
        </p:spPr>
      </p:pic>
      <p:sp>
        <p:nvSpPr>
          <p:cNvPr id="314" name="5 CuadroTexto"/>
          <p:cNvSpPr/>
          <p:nvPr/>
        </p:nvSpPr>
        <p:spPr>
          <a:xfrm>
            <a:off x="-35712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Documentación de sistemas de gestión de la cal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324000" y="404640"/>
            <a:ext cx="36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Copperplate Gothic Bold"/>
              </a:rPr>
              <a:t>           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111" name="6 CuadroTexto"/>
          <p:cNvSpPr/>
          <p:nvPr/>
        </p:nvSpPr>
        <p:spPr>
          <a:xfrm>
            <a:off x="1571760" y="301680"/>
            <a:ext cx="61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Rectangle 4"/>
          <p:cNvGrpSpPr/>
          <p:nvPr/>
        </p:nvGrpSpPr>
        <p:grpSpPr>
          <a:xfrm>
            <a:off x="1352520" y="1639800"/>
            <a:ext cx="6370560" cy="1079640"/>
            <a:chOff x="1352520" y="1639800"/>
            <a:chExt cx="6370560" cy="1079640"/>
          </a:xfrm>
        </p:grpSpPr>
        <p:pic>
          <p:nvPicPr>
            <p:cNvPr id="113" name="Rectangle 4" descr=""/>
            <p:cNvPicPr/>
            <p:nvPr/>
          </p:nvPicPr>
          <p:blipFill>
            <a:blip r:embed="rId1"/>
            <a:stretch/>
          </p:blipFill>
          <p:spPr>
            <a:xfrm>
              <a:off x="1352520" y="1639800"/>
              <a:ext cx="63705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357200" y="1646280"/>
              <a:ext cx="635796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ORIENTACION ACERCA DEL ENFOQUE BASADO EN PROCESOS PA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LOS SISTEMAS DE GESTION DE CA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AutoShape 7"/>
          <p:cNvSpPr/>
          <p:nvPr/>
        </p:nvSpPr>
        <p:spPr>
          <a:xfrm>
            <a:off x="2124000" y="3089160"/>
            <a:ext cx="250920" cy="625680"/>
          </a:xfrm>
          <a:prstGeom prst="downArrow">
            <a:avLst>
              <a:gd name="adj1" fmla="val 50000"/>
              <a:gd name="adj2" fmla="val 7165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6715080" y="3071880"/>
            <a:ext cx="216000" cy="595080"/>
          </a:xfrm>
          <a:prstGeom prst="downArrow">
            <a:avLst>
              <a:gd name="adj1" fmla="val 50000"/>
              <a:gd name="adj2" fmla="val 7916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3"/>
          <p:cNvSpPr/>
          <p:nvPr/>
        </p:nvSpPr>
        <p:spPr>
          <a:xfrm>
            <a:off x="4964040" y="3857760"/>
            <a:ext cx="3751200" cy="2428920"/>
          </a:xfrm>
          <a:prstGeom prst="ellipse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BUSCA  EXPLICAR EN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LENGUAJE SENCILLO QUE 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NTIENDE POR UN PROCESO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MO ESTOS PU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TERACCIONAR DENT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 UN SISTEMA Y TAMB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MO EN CICLO PLANIFICAR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CER – VERIFICAR – ACTUA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UEDE USARSE PA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GESTIONAR ES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CES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4"/>
          <p:cNvSpPr/>
          <p:nvPr/>
        </p:nvSpPr>
        <p:spPr>
          <a:xfrm>
            <a:off x="428760" y="3857760"/>
            <a:ext cx="3751200" cy="2428920"/>
          </a:xfrm>
          <a:prstGeom prst="ellipse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U PROPOSITO ES AYU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 LOS USUARIOS DE 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RMAS ISO 9000:2000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TENDER LOS CONCEP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Y LAS INTENSIONES 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FOQUE BASADO EN PROCESO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2 Marcador de contenido"/>
          <p:cNvSpPr/>
          <p:nvPr/>
        </p:nvSpPr>
        <p:spPr>
          <a:xfrm>
            <a:off x="468360" y="1312920"/>
            <a:ext cx="82296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440044"/>
              </a:buClr>
              <a:buSzPct val="75000"/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Declaración documentada de una política de calidad y de objetivos de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40044"/>
                </a:solidFill>
                <a:latin typeface="Arial Unicode MS"/>
              </a:rPr>
              <a:t>La Dirección General deberá asegurarse de que la política de calid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Sea adecuada al objetivo de la empres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Abarque un compromiso con el cumplimiento de los requisitos y la mejora constante del SG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Provea un cuadro para determinar y rever los objetivos de calida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Sea comunicada y comprendida por toda la empres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Sea revisada para asegurar una estabilidad continu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4.2.3  Control de los doc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c) Asegurarse de que se identifican los cambios y el estado de revisión actual de los document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d) Asegurarse de que las versiones pertinentes de los documentos aplicables se encuentran disponibles en los puntos de us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g) Prevenir el uso no intencionado de documentos obsoletos, y aplicarles una identificación adecuada en el caso de que se mantengan por cualquier raz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4 CuadroTexto"/>
          <p:cNvSpPr/>
          <p:nvPr/>
        </p:nvSpPr>
        <p:spPr>
          <a:xfrm>
            <a:off x="-35712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Documentación de sistemas de gestión de la cal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2 Marcador de contenido"/>
          <p:cNvSpPr/>
          <p:nvPr/>
        </p:nvSpPr>
        <p:spPr>
          <a:xfrm>
            <a:off x="457200" y="1332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Los Objetivos de Calidad deben establecerse en los niveles y en las funciones correspondientes dentro de la organiza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Los objetivos de calidad deben ser mensurables y conformes a la política de calida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Los objetivos de calidad deben comprender aquellos necesarios para cumplir con los requisitos del produc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Objetivos de CVG VENAL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"/>
              </a:rPr>
              <a:t>Medir  la satisfacción del cliente y mejorar cumplimi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"/>
              </a:rPr>
              <a:t>Mantener y mejorar el sistema de gestión de calidad según ISO 9001: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"/>
              </a:rPr>
              <a:t>Disponer de personal capacitado que labore en condiciones seguras  y con tecnologías competi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"/>
              </a:rPr>
              <a:t>Mejora continua de los procesos con la participación de todo el pers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"/>
              </a:rPr>
              <a:t>Mejorar relaciones de mutuo beneficio con los proveed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4.2.3 Control de los docum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a) aprobar los documentos en cuanto a su adecuación antes de su emisió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b) revisar y actualizar los documentos cuando sea necesario y aprobarlos nuevam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c) asegurarse de que se identifican los cambios y el estado de revisión actual de los document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d) asegurarse de que las versiones pertinentes de los documentos aplicables se encuentran disponibles en los puntos de us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e) asegurarse de que los documentos permanecen legibles y fácilmente identificabl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f) asegurarse de que se identifican los documentos de origen externo y se controla su distribució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g) prevenir el uso no intencionado de documentos obsoletos, y aplicarles una identificación adecuada en el caso de que se mantengan por cualquier raz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4 CuadroTexto"/>
          <p:cNvSpPr/>
          <p:nvPr/>
        </p:nvSpPr>
        <p:spPr>
          <a:xfrm>
            <a:off x="-35712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Documentación de sistemas de gestión de la cal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2 Marcador de contenido"/>
          <p:cNvSpPr/>
          <p:nvPr/>
        </p:nvSpPr>
        <p:spPr>
          <a:xfrm>
            <a:off x="600120" y="1643040"/>
            <a:ext cx="785952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451"/>
              </a:spcBef>
              <a:buClr>
                <a:srgbClr val="440044"/>
              </a:buClr>
              <a:buSzPct val="75000"/>
              <a:buFont typeface="Arial Unicode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Manual de la calid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La organización deberá establecer un manual de calidad que incluy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El ámbito del sistema de calidad, incluidos los detalles de justificación de toda exclus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Los procedimientos documentados o una referencia a los mism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Una descripción de la interacción entre los procesos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  <a:ea typeface="Arial Unicode MS"/>
              </a:rPr>
              <a:t>Prevenir la contaminación asociada a las emisiones atmosféricas, efluentes líquidos y desec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  <a:ea typeface="Arial Unicode MS"/>
              </a:rPr>
              <a:t>Cumplir la legislación y otros requisitos que suscriba la empresa, en materia de calidad y ambi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  <a:ea typeface="Arial Unicode MS"/>
              </a:rPr>
              <a:t>CVG Venalum, con la participación de sus trabajadores y proveedores, produce, comercializa aluminio y mejora de forma continua su sistema de gestión, comprometiéndose 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  <a:ea typeface="Arial Unicode MS"/>
              </a:rPr>
              <a:t>Prevenir la contaminación asociada a las emisiones atmosféricas, efluentes líquidos y desec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  <a:ea typeface="Arial Unicode MS"/>
              </a:rPr>
              <a:t>Cumplir la legislación y otros requisitos que suscriba la empresa, en materia de calidad y ambien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  <a:ea typeface="Arial Unicode MS"/>
              </a:rPr>
              <a:t>Garantizar los requerimientos del cli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Arial Unicode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Procedimientos documentad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4 CuadroTexto"/>
          <p:cNvSpPr/>
          <p:nvPr/>
        </p:nvSpPr>
        <p:spPr>
          <a:xfrm>
            <a:off x="-35712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Documentación de sistemas de gestión de la cal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2 Marcador de contenido"/>
          <p:cNvSpPr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Control de docu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Control de regis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Los registros deben establecerse y mantenerse para proporcionar evidencia de la conformidad con los requisitos así como de la operación eficaz del sistema de gestión de la calidad. Los registros deben permanecer legibles, fácilmente identificables y recuperables. Debe establecerse un procedimiento documentado para definir los controles necesarios para la identificación, el almacenamiento, la protección, la recuperación, el tiempo de retención y la disposición de los registr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440044"/>
              </a:buClr>
              <a:buSzPct val="75000"/>
              <a:buFont typeface="Arial Unicode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Auditorias inter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La organización debe llevar a cabo a intervalos planificados auditorias internas para determinar si el sistema de gestión de la calid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a) Es conforme con las disposiciones planificadas , con los requisitos de esta Norma Internacional y con los requisitos del sistema de gestión de la calidad establecidos por la organización,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b) Se ha implementado y se mantiene de manera efica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440044"/>
              </a:buClr>
              <a:buSzPct val="75000"/>
              <a:buFont typeface="Arial Unicode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Control de producto no confor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La organización debe asegurarse de que el producto que no sea conforme con los requisitos, se identifica y controla para prevenir su uso o entrega no intencional. Los controles, las responsabilidades y autoridades relacionadas con el tratamiento del producto no conforme deben estar definidos en un procedimiento documentado. La organización debe tratar los productos no conformes mediante una o más de las siguientes maner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Tomando acciones para eliminar la no conformidad detectad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Autorizando su uso, liberación o aceptación bajo concesión por una autoridad pertinente y, cuando sea aplicable, por el clien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Tomando acciones para impedir su uso o aplicación originalmente previst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4 CuadroTexto"/>
          <p:cNvSpPr/>
          <p:nvPr/>
        </p:nvSpPr>
        <p:spPr>
          <a:xfrm>
            <a:off x="-35712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Documentación de sistemas de gestión de la cal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2 Marcador de contenido"/>
          <p:cNvSpPr/>
          <p:nvPr/>
        </p:nvSpPr>
        <p:spPr>
          <a:xfrm>
            <a:off x="457200" y="1673280"/>
            <a:ext cx="8229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Arial Unicode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Acción cor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66"/>
                </a:solidFill>
                <a:latin typeface="Arial Unicode MS"/>
              </a:rPr>
              <a:t>	</a:t>
            </a:r>
            <a:r>
              <a:rPr b="0" lang="es-ES_tradnl" sz="1600" spc="-1" strike="noStrike">
                <a:solidFill>
                  <a:srgbClr val="660066"/>
                </a:solidFill>
                <a:latin typeface="Arial Unicode MS"/>
              </a:rPr>
              <a:t>La organización debe tomar acciones para eliminar la causa de no conformidades con objeto de prevenir que vuelva a ocurrir. Las acciones correctivas deben ser apropiadas a los efectos de las no conformidades encontr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66"/>
                </a:solidFill>
                <a:latin typeface="Arial Unicode MS"/>
              </a:rPr>
              <a:t>Debe establecerse un procedimiento documentado para definir los requisitos pa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66"/>
                </a:solidFill>
                <a:latin typeface="Arial Unicode MS"/>
              </a:rPr>
              <a:t>Revisar las no conformidades (incluyendo las quejas de los cliente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66"/>
                </a:solidFill>
                <a:latin typeface="Arial Unicode MS"/>
              </a:rPr>
              <a:t>Determinar las causas de las no conformidad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66"/>
                </a:solidFill>
                <a:latin typeface="Arial Unicode MS"/>
              </a:rPr>
              <a:t>Evaluar la necesidad de adoptar acciones para asegurarse de que las no conformidades no vuelvan a ocurri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66"/>
                </a:solidFill>
                <a:latin typeface="Arial Unicode MS"/>
              </a:rPr>
              <a:t>Determinar e implementar las acciones necesari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66"/>
                </a:solidFill>
                <a:latin typeface="Arial Unicode MS"/>
              </a:rPr>
              <a:t>Registrar los resultados de las acciones tomadas ,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66"/>
                </a:solidFill>
                <a:latin typeface="Arial Unicode MS"/>
              </a:rPr>
              <a:t>Revisar las acciones correctivas tom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4 CuadroTexto"/>
          <p:cNvSpPr/>
          <p:nvPr/>
        </p:nvSpPr>
        <p:spPr>
          <a:xfrm>
            <a:off x="-35712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Documentación de sistemas de gestión de la cal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2 Marcador de contenido"/>
          <p:cNvSpPr/>
          <p:nvPr/>
        </p:nvSpPr>
        <p:spPr>
          <a:xfrm>
            <a:off x="457200" y="145728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6. Acción preven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La organización debe determinar acciones para eliminar las causas de no conformidades potenciales para prevenir su ocurrencia. Las acciones preventivas deben ser apropiadas a los efectos de los problemas potenci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Debe establecerse un procedimiento documentado para definir los requisitos par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a) Determinar las no conformidades potenciales y sus causa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b) Evaluar la necesidad de actuar para prevenir la ocurrencia de no conformidad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c) Determinar e implementar las acciones necesaria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d) Registrar los resultados de las acciones tomadas (véase 4.2.4),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e) Revisar las acciones preventivas tomad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d) Documentos necesitados por la organización para asegurarse de la eficaz planificación, operación y control de sus proce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Política de 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Objetivos de 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Arial Unicode MS"/>
              </a:rPr>
              <a:t>Manual  de 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3 CuadroTexto"/>
          <p:cNvSpPr/>
          <p:nvPr/>
        </p:nvSpPr>
        <p:spPr>
          <a:xfrm>
            <a:off x="-35712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Documentación de sistemas de gestión de la cal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2 Marcador de contenido"/>
          <p:cNvSpPr/>
          <p:nvPr/>
        </p:nvSpPr>
        <p:spPr>
          <a:xfrm>
            <a:off x="457200" y="1816200"/>
            <a:ext cx="822960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Broadway"/>
              </a:rPr>
              <a:t>Otros docume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Mapas de procesos, diagramas  de flujo de procesos y descripciones de proc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Organigra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Especif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Instrucciones de trabajo, de ensayo / prueb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Documentos  de comunicaciones inter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Programas de producción lista de 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Planes de ensayo / pruebas e insp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Planes de la 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4004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4 CuadroTexto"/>
          <p:cNvSpPr/>
          <p:nvPr/>
        </p:nvSpPr>
        <p:spPr>
          <a:xfrm>
            <a:off x="-35712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Documentación de sistemas de gestión de la cal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4 CuadroTexto"/>
          <p:cNvSpPr/>
          <p:nvPr/>
        </p:nvSpPr>
        <p:spPr>
          <a:xfrm>
            <a:off x="-21420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APARTADO 4.2: REQUISITOS DE LA DOCUM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2 Subtítulo"/>
          <p:cNvSpPr/>
          <p:nvPr/>
        </p:nvSpPr>
        <p:spPr>
          <a:xfrm>
            <a:off x="857160" y="2357280"/>
            <a:ext cx="76438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4.2.1 GENER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4.2.2 MANUAL DE LA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4.2.3 CONTROL DE LOS DOC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4.2.4 CONTROL DE LOS REG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4 CuadroTexto"/>
          <p:cNvSpPr/>
          <p:nvPr/>
        </p:nvSpPr>
        <p:spPr>
          <a:xfrm>
            <a:off x="-21420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APARTADO 4.2: REQUISITOS DE LA DOCUM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2 Marcador de contenido"/>
          <p:cNvSpPr/>
          <p:nvPr/>
        </p:nvSpPr>
        <p:spPr>
          <a:xfrm>
            <a:off x="457200" y="2046240"/>
            <a:ext cx="822960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 Unicode MS"/>
              </a:rPr>
              <a:t>4.2.1 GENERALIDA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La documentaci</a:t>
            </a:r>
            <a:r>
              <a:rPr b="0" lang="es-ES_tradnl" sz="2000" spc="-1" strike="noStrike">
                <a:solidFill>
                  <a:srgbClr val="660066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n debe inclui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a) Declaraciones documentadas de una pol</a:t>
            </a:r>
            <a:r>
              <a:rPr b="0" lang="es-VE" sz="2000" spc="-1" strike="noStrike">
                <a:solidFill>
                  <a:srgbClr val="660066"/>
                </a:solidFill>
                <a:latin typeface="Arial"/>
              </a:rPr>
              <a:t>í</a:t>
            </a: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tica de la calidad y de objetivos de l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b) Un manual de l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c) Los procedimientos documentados requeridos en esta Norma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d) Los documentos necesitados por la organizaci</a:t>
            </a:r>
            <a:r>
              <a:rPr b="0" lang="es-VE" sz="2000" spc="-1" strike="noStrike">
                <a:solidFill>
                  <a:srgbClr val="660066"/>
                </a:solidFill>
                <a:latin typeface="Arial"/>
              </a:rPr>
              <a:t>ó</a:t>
            </a: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n para asegurarse de la eficaz planificaci</a:t>
            </a:r>
            <a:r>
              <a:rPr b="0" lang="es-VE" sz="2000" spc="-1" strike="noStrike">
                <a:solidFill>
                  <a:srgbClr val="660066"/>
                </a:solidFill>
                <a:latin typeface="Arial"/>
              </a:rPr>
              <a:t>ó</a:t>
            </a: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n, operaci</a:t>
            </a:r>
            <a:r>
              <a:rPr b="0" lang="es-VE" sz="2000" spc="-1" strike="noStrike">
                <a:solidFill>
                  <a:srgbClr val="660066"/>
                </a:solidFill>
                <a:latin typeface="Arial"/>
              </a:rPr>
              <a:t>ó</a:t>
            </a: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n y control de sus pro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e) Los registros requeridos por esta Norma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C:\Documents and Settings\usuario2\Configuración local\Archivos temporales de Internet\Content.IE5\67GBBO9K\MCj04298270000[1].wmf"/>
          <p:cNvPicPr/>
          <p:nvPr/>
        </p:nvPicPr>
        <p:blipFill>
          <a:blip r:embed="rId1"/>
          <a:stretch/>
        </p:blipFill>
        <p:spPr>
          <a:xfrm>
            <a:off x="6500880" y="1285920"/>
            <a:ext cx="12999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4 CuadroTexto"/>
          <p:cNvSpPr/>
          <p:nvPr/>
        </p:nvSpPr>
        <p:spPr>
          <a:xfrm>
            <a:off x="-21420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APARTADO 4.2: REQUISITOS DE LA DOCUM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2 Marcador de contenido"/>
          <p:cNvSpPr/>
          <p:nvPr/>
        </p:nvSpPr>
        <p:spPr>
          <a:xfrm>
            <a:off x="500040" y="2000160"/>
            <a:ext cx="822960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 Unicode MS"/>
              </a:rPr>
              <a:t>4.2.2</a:t>
            </a:r>
            <a:r>
              <a:rPr b="0" lang="es-ES_tradnl" sz="25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2500" spc="-1" strike="noStrike">
                <a:solidFill>
                  <a:srgbClr val="000000"/>
                </a:solidFill>
                <a:latin typeface="Arial Unicode MS"/>
              </a:rPr>
              <a:t>MANUAL DE LA CALIDA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El manual de calidad debe inclui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a) El alcance del sistema de gesti</a:t>
            </a:r>
            <a:r>
              <a:rPr b="0" lang="es-VE" sz="2000" spc="-1" strike="noStrike">
                <a:solidFill>
                  <a:srgbClr val="660066"/>
                </a:solidFill>
                <a:latin typeface="Arial"/>
              </a:rPr>
              <a:t>ó</a:t>
            </a: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n de la calidad, incluyendo los detalles y la justificaci</a:t>
            </a:r>
            <a:r>
              <a:rPr b="0" lang="es-VE" sz="2000" spc="-1" strike="noStrike">
                <a:solidFill>
                  <a:srgbClr val="660066"/>
                </a:solidFill>
                <a:latin typeface="Arial"/>
              </a:rPr>
              <a:t>ó</a:t>
            </a: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n de cualquier exclusi</a:t>
            </a:r>
            <a:r>
              <a:rPr b="0" lang="es-VE" sz="2000" spc="-1" strike="noStrike">
                <a:solidFill>
                  <a:srgbClr val="660066"/>
                </a:solidFill>
                <a:latin typeface="Arial"/>
              </a:rPr>
              <a:t>ó</a:t>
            </a: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b) Los procedimientos documentados establecidos para el sistema de gesti</a:t>
            </a:r>
            <a:r>
              <a:rPr b="0" lang="es-VE" sz="2000" spc="-1" strike="noStrike">
                <a:solidFill>
                  <a:srgbClr val="660066"/>
                </a:solidFill>
                <a:latin typeface="Arial"/>
              </a:rPr>
              <a:t>ó</a:t>
            </a: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n de la calidad o referencia a los mis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c) Una descripci</a:t>
            </a:r>
            <a:r>
              <a:rPr b="0" lang="es-VE" sz="2000" spc="-1" strike="noStrike">
                <a:solidFill>
                  <a:srgbClr val="660066"/>
                </a:solidFill>
                <a:latin typeface="Arial"/>
              </a:rPr>
              <a:t>ó</a:t>
            </a: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n de la interacci</a:t>
            </a:r>
            <a:r>
              <a:rPr b="0" lang="es-VE" sz="2000" spc="-1" strike="noStrike">
                <a:solidFill>
                  <a:srgbClr val="660066"/>
                </a:solidFill>
                <a:latin typeface="Arial"/>
              </a:rPr>
              <a:t>ó</a:t>
            </a: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n entre los procesos del sistema de gesti</a:t>
            </a:r>
            <a:r>
              <a:rPr b="0" lang="es-VE" sz="2000" spc="-1" strike="noStrike">
                <a:solidFill>
                  <a:srgbClr val="660066"/>
                </a:solidFill>
                <a:latin typeface="Arial"/>
              </a:rPr>
              <a:t>ó</a:t>
            </a: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n de la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42 CuadroTexto"/>
          <p:cNvSpPr/>
          <p:nvPr/>
        </p:nvSpPr>
        <p:spPr>
          <a:xfrm>
            <a:off x="214200" y="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opperplate Gothic Bold"/>
              </a:rPr>
              <a:t>COMPRENSION DEL ENFOQUE BASADO EN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423720" y="1932120"/>
            <a:ext cx="2735280" cy="15843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FOQUE BAS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2943360" y="1500120"/>
            <a:ext cx="215640" cy="2448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3236040" y="2363760"/>
            <a:ext cx="513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UN RESULTADO DESEADO SE ALCANZA MÀ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FICIENTEMENTE CUANDO LAS ACRÇTIVIDA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 LOS RECURSOS RELACIONADOS SE GESTI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 UN PROC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463680" y="4164120"/>
            <a:ext cx="2735280" cy="15843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2800440" y="4092480"/>
            <a:ext cx="393480" cy="1943280"/>
          </a:xfrm>
          <a:custGeom>
            <a:avLst/>
            <a:gdLst>
              <a:gd name="textAreaLeft" fmla="*/ 251280 w 393480"/>
              <a:gd name="textAreaRight" fmla="*/ 393840 w 39348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3016080" y="4524480"/>
            <a:ext cx="5770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JUNTO DE ACTIVIDADES MUTUAMANTE RELACIONADOS O QUE INTERACTUAN, LAS CUALES TRANSFORMAN ELEMETOS DE ENTRADA EN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4 CuadroTexto"/>
          <p:cNvSpPr/>
          <p:nvPr/>
        </p:nvSpPr>
        <p:spPr>
          <a:xfrm>
            <a:off x="-21420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APARTADO 4.2: REQUISITOS DE LA DOCUM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2 Marcador de contenido"/>
          <p:cNvSpPr/>
          <p:nvPr/>
        </p:nvSpPr>
        <p:spPr>
          <a:xfrm>
            <a:off x="485640" y="1500120"/>
            <a:ext cx="82296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Unicode MS"/>
              </a:rPr>
              <a:t>4.2.3</a:t>
            </a: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 Unicode MS"/>
              </a:rPr>
              <a:t>CONTROL DE LOS DOC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a) Aprobar los documentos en cuanto a su adecuaci</a:t>
            </a:r>
            <a:r>
              <a:rPr b="0" lang="es-VE" sz="2000" spc="-1" strike="noStrike">
                <a:solidFill>
                  <a:srgbClr val="660066"/>
                </a:solidFill>
                <a:latin typeface="Arial"/>
              </a:rPr>
              <a:t>ó</a:t>
            </a: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n antes de su emisi</a:t>
            </a:r>
            <a:r>
              <a:rPr b="0" lang="es-VE" sz="2000" spc="-1" strike="noStrike">
                <a:solidFill>
                  <a:srgbClr val="660066"/>
                </a:solidFill>
                <a:latin typeface="Arial"/>
              </a:rPr>
              <a:t>ó</a:t>
            </a: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b) Revisar y actualizar los documentos cuando sea necesario y aprobarlos nue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c) Asegurarse de que se identifican los cambios y el estado de revisi</a:t>
            </a:r>
            <a:r>
              <a:rPr b="0" lang="es-VE" sz="2000" spc="-1" strike="noStrike">
                <a:solidFill>
                  <a:srgbClr val="660066"/>
                </a:solidFill>
                <a:latin typeface="Arial"/>
              </a:rPr>
              <a:t>ó</a:t>
            </a: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n actuales de los docu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d) Asegurarse de que la versiones pertinentes de los documentos aplicables se encuentran disponibles en los puntos de 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e) Asegurarse de que los documentos permanecen legibles y f</a:t>
            </a:r>
            <a:r>
              <a:rPr b="0" lang="es-ES_tradnl" sz="2000" spc="-1" strike="noStrike">
                <a:solidFill>
                  <a:srgbClr val="660066"/>
                </a:solidFill>
                <a:latin typeface="Arial"/>
              </a:rPr>
              <a:t>á</a:t>
            </a: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cilmente identific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f) Asegurarse de que identifican los documentos de origen externo y se controla su distribuci</a:t>
            </a:r>
            <a:r>
              <a:rPr b="0" lang="es-ES_tradnl" sz="2000" spc="-1" strike="noStrike">
                <a:solidFill>
                  <a:srgbClr val="660066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g) Prevenir el uso no intencionado de obsoletos, y aplicarles una identificaci</a:t>
            </a:r>
            <a:r>
              <a:rPr b="0" lang="es-ES_tradnl" sz="2000" spc="-1" strike="noStrike">
                <a:solidFill>
                  <a:srgbClr val="660066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n adecuada en el caso de que se mantengan por cualquier raz</a:t>
            </a:r>
            <a:r>
              <a:rPr b="0" lang="es-ES_tradnl" sz="2000" spc="-1" strike="noStrike">
                <a:solidFill>
                  <a:srgbClr val="660066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4 CuadroTexto"/>
          <p:cNvSpPr/>
          <p:nvPr/>
        </p:nvSpPr>
        <p:spPr>
          <a:xfrm>
            <a:off x="-21420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APARTADO 4.2: REQUISITOS DE LA DOCUM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2 Marcador de contenido"/>
          <p:cNvSpPr/>
          <p:nvPr/>
        </p:nvSpPr>
        <p:spPr>
          <a:xfrm>
            <a:off x="446040" y="1844640"/>
            <a:ext cx="82296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Unicode MS"/>
              </a:rPr>
              <a:t>4.2.4 CONTROL DE LOS REG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Los registros deb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	</a:t>
            </a: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a) Permanecer legibles, f</a:t>
            </a:r>
            <a:r>
              <a:rPr b="0" lang="es-VE" sz="2000" spc="-1" strike="noStrike">
                <a:solidFill>
                  <a:srgbClr val="660066"/>
                </a:solidFill>
                <a:latin typeface="Arial"/>
              </a:rPr>
              <a:t>á</a:t>
            </a: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cilmente identificables y recup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Debe establecerse un procedimiento documentado para defin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los controles necesarios para 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	</a:t>
            </a: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b) Identificaci</a:t>
            </a:r>
            <a:r>
              <a:rPr b="0" lang="es-VE" sz="2000" spc="-1" strike="noStrike">
                <a:solidFill>
                  <a:srgbClr val="660066"/>
                </a:solidFill>
                <a:latin typeface="Arial"/>
              </a:rPr>
              <a:t>ó</a:t>
            </a: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	</a:t>
            </a:r>
            <a:r>
              <a:rPr b="0" lang="es-VE" sz="2000" spc="-1" strike="noStrike">
                <a:solidFill>
                  <a:srgbClr val="660066"/>
                </a:solidFill>
                <a:latin typeface="Arial Unicode MS"/>
              </a:rPr>
              <a:t>c)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	</a:t>
            </a: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d) Protecci</a:t>
            </a:r>
            <a:r>
              <a:rPr b="0" lang="es-ES_tradnl" sz="2000" spc="-1" strike="noStrike">
                <a:solidFill>
                  <a:srgbClr val="660066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	</a:t>
            </a: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e) Recuperaci</a:t>
            </a:r>
            <a:r>
              <a:rPr b="0" lang="es-ES_tradnl" sz="2000" spc="-1" strike="noStrike">
                <a:solidFill>
                  <a:srgbClr val="660066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	</a:t>
            </a: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f) El tiempo de retenci</a:t>
            </a:r>
            <a:r>
              <a:rPr b="0" lang="es-ES_tradnl" sz="2000" spc="-1" strike="noStrike">
                <a:solidFill>
                  <a:srgbClr val="660066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n y la disposici</a:t>
            </a:r>
            <a:r>
              <a:rPr b="0" lang="es-ES_tradnl" sz="2000" spc="-1" strike="noStrike">
                <a:solidFill>
                  <a:srgbClr val="660066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660066"/>
                </a:solidFill>
                <a:latin typeface="Arial Unicode MS"/>
              </a:rPr>
              <a:t>n de los regis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7" descr="MCj02374930000[1]"/>
          <p:cNvPicPr/>
          <p:nvPr/>
        </p:nvPicPr>
        <p:blipFill>
          <a:blip r:embed="rId1"/>
          <a:stretch/>
        </p:blipFill>
        <p:spPr>
          <a:xfrm>
            <a:off x="6516720" y="4076640"/>
            <a:ext cx="216072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4 CuadroTexto"/>
          <p:cNvSpPr/>
          <p:nvPr/>
        </p:nvSpPr>
        <p:spPr>
          <a:xfrm>
            <a:off x="-214200" y="353880"/>
            <a:ext cx="95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FUNDAMENTOS Y VOCABUL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2 Marcador de contenido"/>
          <p:cNvSpPr/>
          <p:nvPr/>
        </p:nvSpPr>
        <p:spPr>
          <a:xfrm>
            <a:off x="457200" y="1814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s-VE" sz="2400" spc="-1" strike="noStrike">
                <a:solidFill>
                  <a:srgbClr val="660066"/>
                </a:solidFill>
                <a:latin typeface="Arial"/>
              </a:rPr>
              <a:t>Algunos de los objetivos principales de la documentación de una organización, independientemente de que tenga o no implementado un SGC formal serí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440044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660066"/>
                </a:solidFill>
                <a:latin typeface="Arial"/>
              </a:rPr>
              <a:t>Comunicación de la información como una herramienta para la comunicación y la transmisión de l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440044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660066"/>
                </a:solidFill>
                <a:latin typeface="Arial"/>
              </a:rPr>
              <a:t>Evidencia de la conform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660066"/>
                </a:solidFill>
                <a:latin typeface="Arial"/>
              </a:rPr>
              <a:t>c)   Compartir conoc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4 CuadroTexto"/>
          <p:cNvSpPr/>
          <p:nvPr/>
        </p:nvSpPr>
        <p:spPr>
          <a:xfrm>
            <a:off x="-214200" y="353880"/>
            <a:ext cx="95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FUNDAMENTOS Y VOCABUL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6 Rectángulo"/>
          <p:cNvSpPr/>
          <p:nvPr/>
        </p:nvSpPr>
        <p:spPr>
          <a:xfrm>
            <a:off x="755640" y="1844640"/>
            <a:ext cx="7358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660066"/>
                </a:solidFill>
                <a:latin typeface="Calibri"/>
              </a:rPr>
              <a:t>De acuerdo con la Norma ISO 9001, apartado 4.2 </a:t>
            </a:r>
            <a:r>
              <a:rPr b="0" i="1" lang="es-VE" sz="2400" spc="-1" strike="noStrike">
                <a:solidFill>
                  <a:srgbClr val="660066"/>
                </a:solidFill>
                <a:latin typeface="Calibri"/>
              </a:rPr>
              <a:t>Requisitos de la documentación, los documentos </a:t>
            </a:r>
            <a:r>
              <a:rPr b="0" lang="es-VE" sz="2400" spc="-1" strike="noStrike">
                <a:solidFill>
                  <a:srgbClr val="660066"/>
                </a:solidFill>
                <a:latin typeface="Calibri"/>
              </a:rPr>
              <a:t>pueden encontrarse en cualquier forma o tipo de medio, y la definición de “documento” ofrece los siguientes ej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660066"/>
                </a:solidFill>
                <a:latin typeface="Calibri"/>
              </a:rPr>
              <a:t>- pa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660066"/>
                </a:solidFill>
                <a:latin typeface="Calibri"/>
              </a:rPr>
              <a:t>- disco magnético, electrónico u óp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660066"/>
                </a:solidFill>
                <a:latin typeface="Calibri"/>
              </a:rPr>
              <a:t>- fot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660066"/>
                </a:solidFill>
                <a:latin typeface="Calibri"/>
              </a:rPr>
              <a:t>muestra pat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C:\Documents and Settings\usuario2\Configuración local\Archivos temporales de Internet\Content.IE5\O38D8RSN\MCj02294310000[1].wmf"/>
          <p:cNvPicPr/>
          <p:nvPr/>
        </p:nvPicPr>
        <p:blipFill>
          <a:blip r:embed="rId1"/>
          <a:stretch/>
        </p:blipFill>
        <p:spPr>
          <a:xfrm>
            <a:off x="6443640" y="3789360"/>
            <a:ext cx="181764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4 CuadroTexto"/>
          <p:cNvSpPr/>
          <p:nvPr/>
        </p:nvSpPr>
        <p:spPr>
          <a:xfrm>
            <a:off x="-214200" y="353880"/>
            <a:ext cx="95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FUNDAMENTOS Y VOCABUL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357120" y="1428840"/>
          <a:ext cx="8501040" cy="4744800"/>
        </p:xfrm>
        <a:graphic>
          <a:graphicData uri="http://schemas.openxmlformats.org/drawingml/2006/table">
            <a:tbl>
              <a:tblPr/>
              <a:tblGrid>
                <a:gridCol w="4251240"/>
                <a:gridCol w="424980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400" spc="-1" strike="noStrike">
                          <a:solidFill>
                            <a:srgbClr val="000000"/>
                          </a:solidFill>
                          <a:latin typeface="Helvetica-Bold"/>
                          <a:ea typeface="Calibri"/>
                        </a:rPr>
                        <a:t>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400" spc="-1" strike="noStrike">
                          <a:solidFill>
                            <a:srgbClr val="000000"/>
                          </a:solidFill>
                          <a:latin typeface="Helvetica-Bold"/>
                          <a:ea typeface="Calibri"/>
                        </a:rPr>
                        <a:t>Defini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ocu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formación y su medio de sopo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 especificada de para llevar a cabo u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tividad o un proceso (Nota: los procedimi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eden estar o no documentad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ual de la c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ocumento que especifica el sistema de gestión de la</a:t>
                      </a: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lidad de una organ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lan de la c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ocumento que especifica qué procedimientos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cursos asociados deben aplicarse, quién de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plicarlos y cuándo deben aplicarse a un proyecto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ceso, producto o contrato específ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gis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ocumento que presenta resultados obtenidos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porciona evidencia de las ac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empeñ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specific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ocumento que establece requisi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4 CuadroTexto"/>
          <p:cNvSpPr/>
          <p:nvPr/>
        </p:nvSpPr>
        <p:spPr>
          <a:xfrm>
            <a:off x="-214200" y="353880"/>
            <a:ext cx="95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FUNDAMENTOS Y VOCABUL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2 Marcador de contenido"/>
          <p:cNvSpPr/>
          <p:nvPr/>
        </p:nvSpPr>
        <p:spPr>
          <a:xfrm>
            <a:off x="214200" y="13572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660066"/>
                </a:solidFill>
                <a:latin typeface="Arial"/>
              </a:rPr>
              <a:t>Toda empresa que decida implementar un sistema de gestión de la calidad, debe tener en cuenta que existen dentro de la empresa dos tipos de docume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40044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ocumentos del sistema de gestión de la calidad: </a:t>
            </a: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se habla de los 4 niveles o categorías que forman un sistema de gestión de calid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1. Manual de la 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2. Procedimientos y proc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3.Instrucciones de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4. Registros y otros documentos de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40044"/>
              </a:buClr>
              <a:buSzPct val="75000"/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ocumentos cubiertos por el sistema: </a:t>
            </a: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se refiere a los documentos de trabajo que cualquier empresa puede tener, tales com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Se refiere a los documentos que cualquier empresa puede tener, tales com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- Ordenes de 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-Factu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- Hojas de espec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- Ordenes de 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- Ped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660066"/>
                </a:solidFill>
                <a:latin typeface="Arial"/>
              </a:rPr>
              <a:t>- Contr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40044"/>
              </a:buClr>
              <a:buSzPct val="75000"/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1116000" y="1698480"/>
            <a:ext cx="5616720" cy="360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Arial Unicode MS"/>
              </a:rPr>
              <a:t>Política de la calidad y sus 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Arial Unicode MS"/>
              </a:rPr>
              <a:t>Manual de la 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Arial Unicode MS"/>
              </a:rPr>
              <a:t>Procedimientos documen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Arial Unicode MS"/>
              </a:rPr>
              <a:t>Instrucciones de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Arial Unicode MS"/>
              </a:rPr>
              <a:t>Formul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Arial Unicode MS"/>
              </a:rPr>
              <a:t>Planes de 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Arial Unicode MS"/>
              </a:rPr>
              <a:t>Especificac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Arial Unicode MS"/>
              </a:rPr>
              <a:t>Documentos ex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44004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Arial Unicode MS"/>
              </a:rPr>
              <a:t>Reg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4 CuadroTexto"/>
          <p:cNvSpPr/>
          <p:nvPr/>
        </p:nvSpPr>
        <p:spPr>
          <a:xfrm>
            <a:off x="-35712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Documentación de sistemas de gestión de la cal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10" descr="Ver imagen en tamaño completo">
            <a:hlinkClick r:id="rId1"/>
          </p:cNvPr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34920" y="5465880"/>
            <a:ext cx="1584360" cy="139212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5"/>
          <p:cNvSpPr/>
          <p:nvPr/>
        </p:nvSpPr>
        <p:spPr>
          <a:xfrm>
            <a:off x="789120" y="1341360"/>
            <a:ext cx="7238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40044"/>
                </a:solidFill>
                <a:latin typeface="Broadway"/>
              </a:rPr>
              <a:t>Política de la calidad y sus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468360" y="1773360"/>
            <a:ext cx="83516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La Política de Calidad es un documento auditable ya sea por los auditores internos de la empresa o por externos en busca de una certificación , este documento debe ser entendido a todos los niveles, desde el personal operario hasta los altos man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Una Política de Calidad es como una carta de presentación de la empresa donde se expone los puntos que requiero dar a conocer de mi empres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¿A qué me dedic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¿Qué quiero logr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¿Bajo que método trabaj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¿Cómo lo quiero lograr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Estas 4 preguntas son la estructura que debe de llevar mi carta de presentación ante el cliente, el cual al leer estos 4 puntos va a tener una idea muy clara de la empresa a la que esta a punto de comprar productos o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781200" y="4581360"/>
            <a:ext cx="7238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440044"/>
                </a:solidFill>
                <a:latin typeface="Broadway"/>
              </a:rPr>
              <a:t>Manual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468360" y="4975200"/>
            <a:ext cx="8353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Documento que refleja el sistema de la calidad implantado en una organización  y hace una descripción del sistem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También tiene mucha importancia en el ámbito externo ya que sirve de referencia al cliente porque sirve como indicador de como funciona la empresa en relación con la calida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8 CuadroTexto"/>
          <p:cNvSpPr/>
          <p:nvPr/>
        </p:nvSpPr>
        <p:spPr>
          <a:xfrm>
            <a:off x="-35712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Documentación de sistemas de gestión de la cal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11" descr="20060928225117-obreros"/>
          <p:cNvPicPr/>
          <p:nvPr/>
        </p:nvPicPr>
        <p:blipFill>
          <a:blip r:embed="rId1"/>
          <a:stretch/>
        </p:blipFill>
        <p:spPr>
          <a:xfrm>
            <a:off x="6875640" y="2637000"/>
            <a:ext cx="1800000" cy="173664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61840" y="1341360"/>
            <a:ext cx="7239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440044"/>
                </a:solidFill>
                <a:latin typeface="Broadway"/>
              </a:rPr>
              <a:t>¿Qué incluye un manual de la calid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611280" y="1916280"/>
            <a:ext cx="698508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Titulo, alcance y campo de aplic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Tabla de conte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Introducción acerca de la organización y del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Política y objetivos de la calidad de la organ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Organización, funciones y responsabi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Descripción del sistema de gestión de la 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Sección de definiciones,  apéndices y guía para el u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Anex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933480" y="4413240"/>
            <a:ext cx="7238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440044"/>
                </a:solidFill>
                <a:latin typeface="Broadway"/>
              </a:rPr>
              <a:t>Instrucciones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611280" y="4975200"/>
            <a:ext cx="78483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Son documentos en los que se define específicamente una secuencia paso a paso de la actividad a desarrollar dentro de una organización, por ejemplo: un instructivo para calibrar un equipo; un método de análisis químico; la aplicación de un método estadístico específico a una población determinada; la puesta en operación de un equipo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2" descr="MCj02318110000[1]"/>
          <p:cNvPicPr/>
          <p:nvPr/>
        </p:nvPicPr>
        <p:blipFill>
          <a:blip r:embed="rId2"/>
          <a:stretch/>
        </p:blipFill>
        <p:spPr>
          <a:xfrm>
            <a:off x="5148360" y="1916280"/>
            <a:ext cx="2089080" cy="1322280"/>
          </a:xfrm>
          <a:prstGeom prst="rect">
            <a:avLst/>
          </a:prstGeom>
          <a:ln w="0">
            <a:noFill/>
          </a:ln>
        </p:spPr>
      </p:pic>
      <p:sp>
        <p:nvSpPr>
          <p:cNvPr id="364" name="9 CuadroTexto"/>
          <p:cNvSpPr/>
          <p:nvPr/>
        </p:nvSpPr>
        <p:spPr>
          <a:xfrm>
            <a:off x="-35712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Documentación de sistemas de gestión de la cal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933480" y="3789360"/>
            <a:ext cx="7238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440044"/>
                </a:solidFill>
                <a:latin typeface="Broadway"/>
              </a:rPr>
              <a:t>Formul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971640" y="1341360"/>
            <a:ext cx="7238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440044"/>
                </a:solidFill>
                <a:latin typeface="Broadway"/>
              </a:rPr>
              <a:t>¿Qué incluye una Instrucción de trabaj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670680" y="1857240"/>
            <a:ext cx="2672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Tit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Clave o códi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Objetivo o propós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alc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Responsab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Datos de ident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Autoriz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Reg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7" descr="MCj02417630000[1]"/>
          <p:cNvPicPr/>
          <p:nvPr/>
        </p:nvPicPr>
        <p:blipFill>
          <a:blip r:embed="rId1"/>
          <a:stretch/>
        </p:blipFill>
        <p:spPr>
          <a:xfrm>
            <a:off x="3995640" y="1916280"/>
            <a:ext cx="787320" cy="7887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MCj02417790000[1]"/>
          <p:cNvPicPr/>
          <p:nvPr/>
        </p:nvPicPr>
        <p:blipFill>
          <a:blip r:embed="rId2"/>
          <a:stretch/>
        </p:blipFill>
        <p:spPr>
          <a:xfrm>
            <a:off x="5076720" y="2779560"/>
            <a:ext cx="863640" cy="854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MCj02417450000[1]"/>
          <p:cNvPicPr/>
          <p:nvPr/>
        </p:nvPicPr>
        <p:blipFill>
          <a:blip r:embed="rId3"/>
          <a:stretch/>
        </p:blipFill>
        <p:spPr>
          <a:xfrm>
            <a:off x="6516720" y="2349360"/>
            <a:ext cx="984240" cy="97164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5"/>
          <p:cNvSpPr/>
          <p:nvPr/>
        </p:nvSpPr>
        <p:spPr>
          <a:xfrm>
            <a:off x="898560" y="4221000"/>
            <a:ext cx="712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Documentos con espacios en blanco, utilizado para registrar los datos requeridos por el sistema de gestión de 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925560" y="4844880"/>
            <a:ext cx="7238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440044"/>
                </a:solidFill>
                <a:latin typeface="Broadway"/>
              </a:rPr>
              <a:t>¿Qué incluye un formular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853920" y="5229360"/>
            <a:ext cx="792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Tit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Clave o códi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Datos de ident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Autoriz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12 CuadroTexto"/>
          <p:cNvSpPr/>
          <p:nvPr/>
        </p:nvSpPr>
        <p:spPr>
          <a:xfrm>
            <a:off x="-35712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Documentación de sistemas de gestión de la cal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42 CuadroTexto"/>
          <p:cNvSpPr/>
          <p:nvPr/>
        </p:nvSpPr>
        <p:spPr>
          <a:xfrm>
            <a:off x="214200" y="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opperplate Gothic Bold"/>
              </a:rPr>
              <a:t>MODELO DE UN SISTEMA DE GESTION DE LA C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Oval 10"/>
          <p:cNvGrpSpPr/>
          <p:nvPr/>
        </p:nvGrpSpPr>
        <p:grpSpPr>
          <a:xfrm>
            <a:off x="1736640" y="1908000"/>
            <a:ext cx="5254560" cy="4383360"/>
            <a:chOff x="1736640" y="1908000"/>
            <a:chExt cx="5254560" cy="4383360"/>
          </a:xfrm>
        </p:grpSpPr>
        <p:pic>
          <p:nvPicPr>
            <p:cNvPr id="128" name="Oval 10" descr=""/>
            <p:cNvPicPr/>
            <p:nvPr/>
          </p:nvPicPr>
          <p:blipFill>
            <a:blip r:embed="rId1"/>
            <a:stretch/>
          </p:blipFill>
          <p:spPr>
            <a:xfrm>
              <a:off x="1736640" y="1908000"/>
              <a:ext cx="5254560" cy="438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508120" y="2556000"/>
              <a:ext cx="3710160" cy="30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Oval 14"/>
          <p:cNvSpPr/>
          <p:nvPr/>
        </p:nvSpPr>
        <p:spPr>
          <a:xfrm>
            <a:off x="3862440" y="2214720"/>
            <a:ext cx="1488960" cy="7286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RESPONSABILID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E LA DIRECC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1844640" y="3510000"/>
            <a:ext cx="1488960" cy="7286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GESTION DE 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5302080" y="3654360"/>
            <a:ext cx="1489320" cy="7286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EDICION, ANALISI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EJO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3502080" y="5454720"/>
            <a:ext cx="1488960" cy="7286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REALIZACION 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7"/>
          <p:cNvSpPr/>
          <p:nvPr/>
        </p:nvSpPr>
        <p:spPr>
          <a:xfrm>
            <a:off x="216000" y="1557360"/>
            <a:ext cx="1261800" cy="430380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ISO 9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Y OTR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AR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ERES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ISO 9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 flipV="1">
            <a:off x="1557360" y="2646000"/>
            <a:ext cx="2136600" cy="66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1"/>
          <p:cNvSpPr/>
          <p:nvPr/>
        </p:nvSpPr>
        <p:spPr>
          <a:xfrm rot="19221000">
            <a:off x="2469960" y="4546080"/>
            <a:ext cx="453960" cy="1060560"/>
          </a:xfrm>
          <a:custGeom>
            <a:avLst/>
            <a:gdLst>
              <a:gd name="textAreaLeft" fmla="*/ 60840 w 453960"/>
              <a:gd name="textAreaRight" fmla="*/ 393120 w 453960"/>
              <a:gd name="textAreaTop" fmla="*/ 187200 h 1060560"/>
              <a:gd name="textAreaBottom" fmla="*/ 769680 h 106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32" stAng="-5400000" swAng="-5400000"/>
                <a:lnTo>
                  <a:pt x="0" y="11856"/>
                </a:lnTo>
                <a:arcTo wR="21600" hR="7632" stAng="10800000" swAng="-2698817"/>
                <a:lnTo>
                  <a:pt x="14400" y="21164"/>
                </a:lnTo>
                <a:lnTo>
                  <a:pt x="21600" y="17375"/>
                </a:lnTo>
                <a:lnTo>
                  <a:pt x="14400" y="12714"/>
                </a:lnTo>
                <a:lnTo>
                  <a:pt x="14400" y="14827"/>
                </a:lnTo>
                <a:arcTo wR="21600" hR="7632" stAng="8101183" swAng="2350220"/>
                <a:lnTo>
                  <a:pt x="844" y="9744"/>
                </a:lnTo>
                <a:arcTo wR="21600" hR="7632" stAng="-10451402" swAng="5051402"/>
                <a:close/>
              </a:path>
              <a:path fill="darkenLess" w="21600" h="21600">
                <a:moveTo>
                  <a:pt x="21600" y="0"/>
                </a:moveTo>
                <a:arcTo wR="21600" hR="7632" stAng="-5400000" swAng="-5400000"/>
                <a:lnTo>
                  <a:pt x="0" y="7632"/>
                </a:lnTo>
                <a:arcTo wR="21600" hR="7632" stAng="10800000" swAng="-348598"/>
                <a:lnTo>
                  <a:pt x="844" y="9744"/>
                </a:lnTo>
                <a:arcTo wR="21600" hR="7632" stAng="-10451402" swAng="5051402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2"/>
          <p:cNvSpPr/>
          <p:nvPr/>
        </p:nvSpPr>
        <p:spPr>
          <a:xfrm rot="2344200">
            <a:off x="3031920" y="2279160"/>
            <a:ext cx="453960" cy="1060560"/>
          </a:xfrm>
          <a:custGeom>
            <a:avLst/>
            <a:gdLst>
              <a:gd name="textAreaLeft" fmla="*/ 60840 w 453960"/>
              <a:gd name="textAreaRight" fmla="*/ 393120 w 453960"/>
              <a:gd name="textAreaTop" fmla="*/ 187200 h 1060560"/>
              <a:gd name="textAreaBottom" fmla="*/ 769680 h 106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32" stAng="-5400000" swAng="-5400000"/>
                <a:lnTo>
                  <a:pt x="0" y="11856"/>
                </a:lnTo>
                <a:arcTo wR="21600" hR="7632" stAng="10800000" swAng="-2698817"/>
                <a:lnTo>
                  <a:pt x="14400" y="21164"/>
                </a:lnTo>
                <a:lnTo>
                  <a:pt x="21600" y="17375"/>
                </a:lnTo>
                <a:lnTo>
                  <a:pt x="14400" y="12714"/>
                </a:lnTo>
                <a:lnTo>
                  <a:pt x="14400" y="14827"/>
                </a:lnTo>
                <a:arcTo wR="21600" hR="7632" stAng="8101183" swAng="2350220"/>
                <a:lnTo>
                  <a:pt x="844" y="9744"/>
                </a:lnTo>
                <a:arcTo wR="21600" hR="7632" stAng="-10451402" swAng="5051402"/>
                <a:close/>
              </a:path>
              <a:path fill="darkenLess" w="21600" h="21600">
                <a:moveTo>
                  <a:pt x="21600" y="0"/>
                </a:moveTo>
                <a:arcTo wR="21600" hR="7632" stAng="-5400000" swAng="-5400000"/>
                <a:lnTo>
                  <a:pt x="0" y="7632"/>
                </a:lnTo>
                <a:arcTo wR="21600" hR="7632" stAng="10800000" swAng="-348598"/>
                <a:lnTo>
                  <a:pt x="844" y="9744"/>
                </a:lnTo>
                <a:arcTo wR="21600" hR="7632" stAng="-10451402" swAng="5051402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3"/>
          <p:cNvSpPr/>
          <p:nvPr/>
        </p:nvSpPr>
        <p:spPr>
          <a:xfrm rot="13038600">
            <a:off x="5514480" y="4692240"/>
            <a:ext cx="454320" cy="1060560"/>
          </a:xfrm>
          <a:custGeom>
            <a:avLst/>
            <a:gdLst>
              <a:gd name="textAreaLeft" fmla="*/ 60840 w 454320"/>
              <a:gd name="textAreaRight" fmla="*/ 393480 w 454320"/>
              <a:gd name="textAreaTop" fmla="*/ 187200 h 1060560"/>
              <a:gd name="textAreaBottom" fmla="*/ 769680 h 106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32" stAng="-5400000" swAng="-5400000"/>
                <a:lnTo>
                  <a:pt x="0" y="11856"/>
                </a:lnTo>
                <a:arcTo wR="21600" hR="7632" stAng="10800000" swAng="-2698817"/>
                <a:lnTo>
                  <a:pt x="14400" y="21164"/>
                </a:lnTo>
                <a:lnTo>
                  <a:pt x="21600" y="17375"/>
                </a:lnTo>
                <a:lnTo>
                  <a:pt x="14400" y="12714"/>
                </a:lnTo>
                <a:lnTo>
                  <a:pt x="14400" y="14827"/>
                </a:lnTo>
                <a:arcTo wR="21600" hR="7632" stAng="8101183" swAng="2350220"/>
                <a:lnTo>
                  <a:pt x="844" y="9744"/>
                </a:lnTo>
                <a:arcTo wR="21600" hR="7632" stAng="-10451402" swAng="5051402"/>
                <a:close/>
              </a:path>
              <a:path fill="darkenLess" w="21600" h="21600">
                <a:moveTo>
                  <a:pt x="21600" y="0"/>
                </a:moveTo>
                <a:arcTo wR="21600" hR="7632" stAng="-5400000" swAng="-5400000"/>
                <a:lnTo>
                  <a:pt x="0" y="7632"/>
                </a:lnTo>
                <a:arcTo wR="21600" hR="7632" stAng="10800000" swAng="-348598"/>
                <a:lnTo>
                  <a:pt x="844" y="9744"/>
                </a:lnTo>
                <a:arcTo wR="21600" hR="7632" stAng="-10451402" swAng="5051402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4"/>
          <p:cNvSpPr/>
          <p:nvPr/>
        </p:nvSpPr>
        <p:spPr>
          <a:xfrm rot="7939800">
            <a:off x="5616720" y="2399400"/>
            <a:ext cx="463680" cy="1036440"/>
          </a:xfrm>
          <a:custGeom>
            <a:avLst/>
            <a:gdLst>
              <a:gd name="textAreaLeft" fmla="*/ 61920 w 463680"/>
              <a:gd name="textAreaRight" fmla="*/ 401760 w 463680"/>
              <a:gd name="textAreaTop" fmla="*/ 179640 h 1036440"/>
              <a:gd name="textAreaBottom" fmla="*/ 750960 h 103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87" stAng="-5400000" swAng="-5400000"/>
                <a:lnTo>
                  <a:pt x="0" y="11904"/>
                </a:lnTo>
                <a:arcTo wR="21600" hR="7487" stAng="10800000" swAng="-2665961"/>
                <a:lnTo>
                  <a:pt x="14400" y="21172"/>
                </a:lnTo>
                <a:lnTo>
                  <a:pt x="21600" y="17183"/>
                </a:lnTo>
                <a:lnTo>
                  <a:pt x="14400" y="12337"/>
                </a:lnTo>
                <a:lnTo>
                  <a:pt x="14400" y="14546"/>
                </a:lnTo>
                <a:arcTo wR="21600" hR="7487" stAng="8134039" swAng="2299493"/>
                <a:lnTo>
                  <a:pt x="961" y="9696"/>
                </a:lnTo>
                <a:arcTo wR="21600" hR="7487" stAng="-10433532" swAng="5033532"/>
                <a:close/>
              </a:path>
              <a:path fill="darkenLess" w="21600" h="21600">
                <a:moveTo>
                  <a:pt x="21600" y="0"/>
                </a:moveTo>
                <a:arcTo wR="21600" hR="7487" stAng="-5400000" swAng="-5400000"/>
                <a:lnTo>
                  <a:pt x="0" y="7487"/>
                </a:lnTo>
                <a:arcTo wR="21600" hR="7487" stAng="10800000" swAng="-366468"/>
                <a:lnTo>
                  <a:pt x="961" y="9696"/>
                </a:lnTo>
                <a:arcTo wR="21600" hR="7487" stAng="-10433532" swAng="5033532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5"/>
          <p:cNvSpPr/>
          <p:nvPr/>
        </p:nvSpPr>
        <p:spPr>
          <a:xfrm>
            <a:off x="7667640" y="1557360"/>
            <a:ext cx="1333440" cy="430380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ISO 9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Y OTR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AR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ERES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ISO 9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TISFAC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6"/>
          <p:cNvSpPr/>
          <p:nvPr/>
        </p:nvSpPr>
        <p:spPr>
          <a:xfrm>
            <a:off x="6997680" y="3932280"/>
            <a:ext cx="646200" cy="4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7"/>
          <p:cNvSpPr/>
          <p:nvPr/>
        </p:nvSpPr>
        <p:spPr>
          <a:xfrm>
            <a:off x="1871640" y="5654520"/>
            <a:ext cx="1108080" cy="3070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8"/>
          <p:cNvSpPr/>
          <p:nvPr/>
        </p:nvSpPr>
        <p:spPr>
          <a:xfrm>
            <a:off x="1701720" y="5886360"/>
            <a:ext cx="174780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9"/>
          <p:cNvSpPr/>
          <p:nvPr/>
        </p:nvSpPr>
        <p:spPr>
          <a:xfrm>
            <a:off x="5375160" y="5959440"/>
            <a:ext cx="174780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0"/>
          <p:cNvSpPr/>
          <p:nvPr/>
        </p:nvSpPr>
        <p:spPr>
          <a:xfrm>
            <a:off x="5614920" y="5743440"/>
            <a:ext cx="865080" cy="3070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330200" y="1459080"/>
            <a:ext cx="6697800" cy="4706640"/>
          </a:xfrm>
          <a:prstGeom prst="rect">
            <a:avLst/>
          </a:prstGeom>
          <a:ln w="0">
            <a:noFill/>
          </a:ln>
        </p:spPr>
      </p:pic>
      <p:sp>
        <p:nvSpPr>
          <p:cNvPr id="376" name="4 CuadroTexto"/>
          <p:cNvSpPr/>
          <p:nvPr/>
        </p:nvSpPr>
        <p:spPr>
          <a:xfrm>
            <a:off x="-35712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Documentación de sistemas de gestión de la cal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Object 5"/>
          <p:cNvGraphicFramePr/>
          <p:nvPr/>
        </p:nvGraphicFramePr>
        <p:xfrm>
          <a:off x="1116000" y="1484280"/>
          <a:ext cx="686736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84280"/>
                    <a:ext cx="686736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4 CuadroTexto"/>
          <p:cNvSpPr/>
          <p:nvPr/>
        </p:nvSpPr>
        <p:spPr>
          <a:xfrm>
            <a:off x="-35712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Documentación de sistemas de gestión de la cal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5"/>
          <p:cNvSpPr/>
          <p:nvPr/>
        </p:nvSpPr>
        <p:spPr>
          <a:xfrm>
            <a:off x="925560" y="2647800"/>
            <a:ext cx="7238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440044"/>
                </a:solidFill>
                <a:latin typeface="Broadway"/>
              </a:rPr>
              <a:t>¿ Que incluye un plan de calid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933480" y="1268280"/>
            <a:ext cx="7238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440044"/>
                </a:solidFill>
                <a:latin typeface="Broadway"/>
              </a:rPr>
              <a:t>Planes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611280" y="1773360"/>
            <a:ext cx="792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Documento que especifica que procedimientos y recursos asociados deben aplicarse, quien debe aplicarlos y cuando deben aplicarse a un proyecto, proceso, producto o contrato especif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MCj02403650000[1]"/>
          <p:cNvPicPr/>
          <p:nvPr/>
        </p:nvPicPr>
        <p:blipFill>
          <a:blip r:embed="rId1"/>
          <a:stretch/>
        </p:blipFill>
        <p:spPr>
          <a:xfrm>
            <a:off x="4284720" y="3152880"/>
            <a:ext cx="3457440" cy="181908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6"/>
          <p:cNvSpPr/>
          <p:nvPr/>
        </p:nvSpPr>
        <p:spPr>
          <a:xfrm>
            <a:off x="1190880" y="3152880"/>
            <a:ext cx="2815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Tit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alc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Datos de ident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Autoriz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Proced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Instrucciones de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Reg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755640" y="5084640"/>
            <a:ext cx="784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Los planes de calidad muestran como la documentación del sistema de gestión ha de ser aplicado a la situación especifica en cuestión, e identifica y documenta como la organización lograra aquellos requisitos que son únicos a los procesos , proyectos o contra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9 CuadroTexto"/>
          <p:cNvSpPr/>
          <p:nvPr/>
        </p:nvSpPr>
        <p:spPr>
          <a:xfrm>
            <a:off x="-35712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Documentación de sistemas de gestión de la cal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826920" y="1317600"/>
            <a:ext cx="7239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440044"/>
                </a:solidFill>
                <a:latin typeface="Broadway"/>
              </a:rPr>
              <a:t>Especif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826920" y="2109960"/>
            <a:ext cx="7239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440044"/>
                </a:solidFill>
                <a:latin typeface="Broadway"/>
              </a:rPr>
              <a:t>Documentos ex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755640" y="1755720"/>
            <a:ext cx="770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Documentos que declara requisitos y son únicos para el producto y la organiz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755640" y="2509920"/>
            <a:ext cx="785016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Son documentos que se deben considerar para el control dentro del sistema de gestión de la calidad de toda organización, estos pueden s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Dibujo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Plano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Especificaciones del client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Requisitos reglamentario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Normas códi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y Manuales de manteni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717480" y="4989600"/>
            <a:ext cx="7239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440044"/>
                </a:solidFill>
                <a:latin typeface="Broadway"/>
              </a:rPr>
              <a:t>Regis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755640" y="544032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Documentos que presenta resultados obtenidos o proporciona evidencia de actividades desempeñ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9 CuadroTexto"/>
          <p:cNvSpPr/>
          <p:nvPr/>
        </p:nvSpPr>
        <p:spPr>
          <a:xfrm>
            <a:off x="-35712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Documentación de sistemas de gestión de la cal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5"/>
          <p:cNvSpPr/>
          <p:nvPr/>
        </p:nvSpPr>
        <p:spPr>
          <a:xfrm>
            <a:off x="696960" y="1341360"/>
            <a:ext cx="7762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440044"/>
                </a:solidFill>
                <a:latin typeface="Broadway"/>
              </a:rPr>
              <a:t>Proceso de preparación de la documentación del sistema de gestión de la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611280" y="2316240"/>
            <a:ext cx="7416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Definir el sistema a documen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Elección de los responsables de la prepa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Estudio preliminar de la organ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Planificación de las actividades a realiz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Levantamiento de la infor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Documentación propiamente dic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           </a:t>
            </a: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. Red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           </a:t>
            </a: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. Diagra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           </a:t>
            </a: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. Formato o tam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           </a:t>
            </a: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. Cod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           </a:t>
            </a: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. Impr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           </a:t>
            </a: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. Encuadern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Definir proceso de edición , revisión, aprobación y control de los cambios y copias no control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Formación de los us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Distrib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Unicode MS"/>
              </a:rPr>
              <a:t>Segu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5 CuadroTexto"/>
          <p:cNvSpPr/>
          <p:nvPr/>
        </p:nvSpPr>
        <p:spPr>
          <a:xfrm>
            <a:off x="-35712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Documentación de sistemas de gestión de la cal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"/>
          <p:cNvSpPr/>
          <p:nvPr/>
        </p:nvSpPr>
        <p:spPr>
          <a:xfrm>
            <a:off x="611280" y="1749600"/>
            <a:ext cx="7670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440044"/>
                </a:solidFill>
                <a:latin typeface="Broadway"/>
              </a:rPr>
              <a:t> </a:t>
            </a:r>
            <a:r>
              <a:rPr b="0" lang="es-VE" sz="2400" spc="-1" strike="noStrike">
                <a:solidFill>
                  <a:srgbClr val="440044"/>
                </a:solidFill>
                <a:latin typeface="Broadway"/>
              </a:rPr>
              <a:t>Verificación del Proceso de doc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826920" y="2548080"/>
            <a:ext cx="7417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La fase inicia de la auditoria comienza con la revisión del manual de 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El primer punto es conocer que forma o modo ha seleccionad la organización para cumplir con el requisito de la docu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Verificar el cumplimento del requinto que señala que debe existir un procedimiento documentado para el control de los documentos y para el control de los registros, cumpliendo con la forma o modo seleccionado por la organ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La verificación del documento  de lo señalado en el punto anterior  se debe hacer  en las diferentes áreas de la empresas, en el desarrollo de la audito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5 CuadroTexto"/>
          <p:cNvSpPr/>
          <p:nvPr/>
        </p:nvSpPr>
        <p:spPr>
          <a:xfrm>
            <a:off x="-35712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Documentación de sistemas de gestión de la cal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6"/>
          <p:cNvSpPr/>
          <p:nvPr/>
        </p:nvSpPr>
        <p:spPr>
          <a:xfrm>
            <a:off x="1292400" y="1714680"/>
            <a:ext cx="6408720" cy="67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roadway"/>
              </a:rPr>
              <a:t>Verificación del Proceso de doc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571680" y="2563920"/>
            <a:ext cx="7921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66"/>
                </a:solidFill>
                <a:latin typeface="Arial Unicode MS"/>
              </a:rPr>
              <a:t>La fase inicia de la auditoria comienza con la revisión del manual de ca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66"/>
                </a:solidFill>
                <a:latin typeface="Arial Unicode MS"/>
              </a:rPr>
              <a:t>El primer punto es conocer que forma o modo ha seleccionad la organización para cumplir con el requisito de la document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66"/>
                </a:solidFill>
                <a:latin typeface="Arial Unicode MS"/>
              </a:rPr>
              <a:t>Verificar el cumplimento del requinto que señala que debe existir un procedimiento documentado para el control de los documentos y para el control de los registros, cumpliendo con la forma o modo seleccionado por la organiz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66"/>
                </a:solidFill>
                <a:latin typeface="Arial Unicode MS"/>
              </a:rPr>
              <a:t>La verificación del documento  de lo señalado en el punto anterior  se debe hacer  en las diferentes áreas de la empresas, en el desarrollo de la auditor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5 CuadroTexto"/>
          <p:cNvSpPr/>
          <p:nvPr/>
        </p:nvSpPr>
        <p:spPr>
          <a:xfrm>
            <a:off x="-357120" y="-71280"/>
            <a:ext cx="95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pperplate Gothic Bold"/>
              </a:rPr>
              <a:t>Documentación de sistemas de gestión de la cal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42 CuadroTexto"/>
          <p:cNvSpPr/>
          <p:nvPr/>
        </p:nvSpPr>
        <p:spPr>
          <a:xfrm>
            <a:off x="214200" y="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opperplate Gothic Bold"/>
              </a:rPr>
              <a:t>REPRESENTACION ESQUEMATICA DE UN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9 Rectángulo"/>
          <p:cNvSpPr/>
          <p:nvPr/>
        </p:nvSpPr>
        <p:spPr>
          <a:xfrm>
            <a:off x="2332080" y="3209760"/>
            <a:ext cx="2382840" cy="1148040"/>
          </a:xfrm>
          <a:prstGeom prst="rect">
            <a:avLst/>
          </a:prstGeom>
          <a:solidFill>
            <a:srgbClr val="cc99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10 Conector recto de flecha"/>
          <p:cNvCxnSpPr/>
          <p:nvPr/>
        </p:nvCxnSpPr>
        <p:spPr>
          <a:xfrm>
            <a:off x="642600" y="3784680"/>
            <a:ext cx="1369080" cy="2160"/>
          </a:xfrm>
          <a:prstGeom prst="straightConnector1">
            <a:avLst/>
          </a:prstGeom>
          <a:ln w="9360">
            <a:solidFill>
              <a:srgbClr val="333333"/>
            </a:solidFill>
            <a:miter/>
            <a:tailEnd len="med" type="arrow" w="med"/>
          </a:ln>
        </p:spPr>
      </p:cxnSp>
      <p:sp>
        <p:nvSpPr>
          <p:cNvPr id="149" name="12 CuadroTexto"/>
          <p:cNvSpPr/>
          <p:nvPr/>
        </p:nvSpPr>
        <p:spPr>
          <a:xfrm>
            <a:off x="669960" y="33577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12 Conector recto de flecha"/>
          <p:cNvCxnSpPr/>
          <p:nvPr/>
        </p:nvCxnSpPr>
        <p:spPr>
          <a:xfrm>
            <a:off x="5000400" y="3785760"/>
            <a:ext cx="1470240" cy="2520"/>
          </a:xfrm>
          <a:prstGeom prst="straightConnector1">
            <a:avLst/>
          </a:prstGeom>
          <a:ln w="9360">
            <a:solidFill>
              <a:srgbClr val="333333"/>
            </a:solidFill>
            <a:miter/>
            <a:tailEnd len="med" type="arrow" w="med"/>
          </a:ln>
        </p:spPr>
      </p:cxnSp>
      <p:sp>
        <p:nvSpPr>
          <p:cNvPr id="151" name="15 CuadroTexto"/>
          <p:cNvSpPr/>
          <p:nvPr/>
        </p:nvSpPr>
        <p:spPr>
          <a:xfrm>
            <a:off x="5143680" y="3357720"/>
            <a:ext cx="12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ALIDA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7 CuadroTexto"/>
          <p:cNvSpPr/>
          <p:nvPr/>
        </p:nvSpPr>
        <p:spPr>
          <a:xfrm>
            <a:off x="2805120" y="356724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8 CuadroTexto"/>
          <p:cNvSpPr/>
          <p:nvPr/>
        </p:nvSpPr>
        <p:spPr>
          <a:xfrm>
            <a:off x="6643800" y="35384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6 Elipse"/>
          <p:cNvSpPr/>
          <p:nvPr/>
        </p:nvSpPr>
        <p:spPr>
          <a:xfrm>
            <a:off x="6072120" y="1357200"/>
            <a:ext cx="2098800" cy="92880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FICACIA DEL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7 Elipse"/>
          <p:cNvSpPr/>
          <p:nvPr/>
        </p:nvSpPr>
        <p:spPr>
          <a:xfrm>
            <a:off x="6188040" y="5000760"/>
            <a:ext cx="2098800" cy="92844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FICIENCIA DEL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42 CuadroTexto"/>
          <p:cNvSpPr/>
          <p:nvPr/>
        </p:nvSpPr>
        <p:spPr>
          <a:xfrm>
            <a:off x="214200" y="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opperplate Gothic Bold"/>
              </a:rPr>
              <a:t>CICLO PLANIFICAR-HACER-VERIFICAR-ACT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9 O"/>
          <p:cNvSpPr/>
          <p:nvPr/>
        </p:nvSpPr>
        <p:spPr>
          <a:xfrm>
            <a:off x="5214960" y="1857240"/>
            <a:ext cx="3429000" cy="3357720"/>
          </a:xfrm>
          <a:prstGeom prst="flowChartOr">
            <a:avLst/>
          </a:prstGeom>
          <a:solidFill>
            <a:srgbClr val="7030a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CuadroTexto"/>
          <p:cNvSpPr/>
          <p:nvPr/>
        </p:nvSpPr>
        <p:spPr>
          <a:xfrm>
            <a:off x="5500800" y="27860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CuadroTexto"/>
          <p:cNvSpPr/>
          <p:nvPr/>
        </p:nvSpPr>
        <p:spPr>
          <a:xfrm>
            <a:off x="6929280" y="278604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LAN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5 CuadroTexto"/>
          <p:cNvSpPr/>
          <p:nvPr/>
        </p:nvSpPr>
        <p:spPr>
          <a:xfrm>
            <a:off x="5357880" y="40006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6 CuadroTexto"/>
          <p:cNvSpPr/>
          <p:nvPr/>
        </p:nvSpPr>
        <p:spPr>
          <a:xfrm>
            <a:off x="7215120" y="407196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4 Flecha curvada hacia la izquierda"/>
          <p:cNvSpPr/>
          <p:nvPr/>
        </p:nvSpPr>
        <p:spPr>
          <a:xfrm>
            <a:off x="7113600" y="3286080"/>
            <a:ext cx="357120" cy="714600"/>
          </a:xfrm>
          <a:custGeom>
            <a:avLst/>
            <a:gdLst>
              <a:gd name="textAreaLeft" fmla="*/ 47880 w 357120"/>
              <a:gd name="textAreaRight" fmla="*/ 309240 w 357120"/>
              <a:gd name="textAreaTop" fmla="*/ 145080 h 714600"/>
              <a:gd name="textAreaBottom" fmla="*/ 52488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3453680"/>
                <a:lnTo>
                  <a:pt x="5400" y="21321"/>
                </a:lnTo>
                <a:lnTo>
                  <a:pt x="0" y="18900"/>
                </a:lnTo>
                <a:lnTo>
                  <a:pt x="5400" y="15921"/>
                </a:lnTo>
                <a:lnTo>
                  <a:pt x="5400" y="17271"/>
                </a:lnTo>
                <a:arcTo wR="21600" hR="8775" stAng="3453680" swAng="-3236521"/>
                <a:lnTo>
                  <a:pt x="21343" y="10125"/>
                </a:lnTo>
                <a:arcTo wR="21600" hR="8775" stAng="-217159" swAng="-5182841"/>
                <a:close/>
              </a:path>
              <a:path fill="darkenLess"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-217159"/>
                <a:lnTo>
                  <a:pt x="21343" y="10125"/>
                </a:lnTo>
                <a:arcTo wR="21600" hR="8775" stAng="-217159" swAng="-5182841"/>
                <a:close/>
              </a:path>
            </a:pathLst>
          </a:custGeom>
          <a:solidFill>
            <a:srgbClr val="0000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5 Flecha curvada hacia la izquierda"/>
          <p:cNvSpPr/>
          <p:nvPr/>
        </p:nvSpPr>
        <p:spPr>
          <a:xfrm flipH="1" flipV="1">
            <a:off x="6255720" y="3285360"/>
            <a:ext cx="500040" cy="714600"/>
          </a:xfrm>
          <a:custGeom>
            <a:avLst/>
            <a:gdLst>
              <a:gd name="textAreaLeft" fmla="*/ 66960 w 500040"/>
              <a:gd name="textAreaRight" fmla="*/ 433080 w 500040"/>
              <a:gd name="textAreaTop" fmla="*/ 131400 h 714600"/>
              <a:gd name="textAreaBottom" fmla="*/ 52020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65" stAng="-5400000" swAng="5400000"/>
                <a:lnTo>
                  <a:pt x="21600" y="11745"/>
                </a:lnTo>
                <a:arcTo wR="21600" hR="7965" stAng="0" swAng="3300017"/>
                <a:lnTo>
                  <a:pt x="5400" y="21347"/>
                </a:lnTo>
                <a:lnTo>
                  <a:pt x="0" y="17820"/>
                </a:lnTo>
                <a:lnTo>
                  <a:pt x="5400" y="13787"/>
                </a:lnTo>
                <a:lnTo>
                  <a:pt x="5400" y="15677"/>
                </a:lnTo>
                <a:arcTo wR="21600" hR="7965" stAng="3300017" swAng="-2991203"/>
                <a:lnTo>
                  <a:pt x="20983" y="9855"/>
                </a:lnTo>
                <a:arcTo wR="21600" hR="7965" stAng="-308813" swAng="-5091187"/>
                <a:close/>
              </a:path>
              <a:path fill="darkenLess" w="21600" h="21600">
                <a:moveTo>
                  <a:pt x="0" y="0"/>
                </a:moveTo>
                <a:arcTo wR="21600" hR="7965" stAng="-5400000" swAng="5400000"/>
                <a:lnTo>
                  <a:pt x="21600" y="11745"/>
                </a:lnTo>
                <a:arcTo wR="21600" hR="7965" stAng="0" swAng="-308813"/>
                <a:lnTo>
                  <a:pt x="20983" y="9855"/>
                </a:lnTo>
                <a:arcTo wR="21600" hR="7965" stAng="-308813" swAng="-5091187"/>
                <a:close/>
              </a:path>
            </a:pathLst>
          </a:custGeom>
          <a:solidFill>
            <a:srgbClr val="0000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16 Rectángulo"/>
          <p:cNvGrpSpPr/>
          <p:nvPr/>
        </p:nvGrpSpPr>
        <p:grpSpPr>
          <a:xfrm>
            <a:off x="414360" y="1414440"/>
            <a:ext cx="3882960" cy="4956120"/>
            <a:chOff x="414360" y="1414440"/>
            <a:chExt cx="3882960" cy="4956120"/>
          </a:xfrm>
        </p:grpSpPr>
        <p:pic>
          <p:nvPicPr>
            <p:cNvPr id="165" name="16 Rectángulo" descr=""/>
            <p:cNvPicPr/>
            <p:nvPr/>
          </p:nvPicPr>
          <p:blipFill>
            <a:blip r:embed="rId1"/>
            <a:stretch/>
          </p:blipFill>
          <p:spPr>
            <a:xfrm>
              <a:off x="414360" y="1414440"/>
              <a:ext cx="38829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28760" y="1428840"/>
              <a:ext cx="3857400" cy="49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15 CuadroTexto"/>
          <p:cNvSpPr/>
          <p:nvPr/>
        </p:nvSpPr>
        <p:spPr>
          <a:xfrm>
            <a:off x="500040" y="1643040"/>
            <a:ext cx="37148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NTRO DEL CONCEPTO DE UN SISTEMA DE GESTION DE  LA CALIDAD ES UN CICLO DINAMICO QUE PUEDE DESARROLLARSE DENTRO DE CADA PROCESO DE LA ORGANIZACIÓN, Y EN EL SISTEMA DE PROCESOS COMO UN TODO. ESTA INTIMAMENTE ASOCIADO CON  LA PLANIFICACION, IMPLEMENTACION, CONTROL Y MEJORA CONTINUA, TANTO EN LA REALIZACION DEL PRODUCTO COMO EN OTROS PROCESOS DEL SISTEMA DE GESTION DE LA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42 CuadroTexto"/>
          <p:cNvSpPr/>
          <p:nvPr/>
        </p:nvSpPr>
        <p:spPr>
          <a:xfrm>
            <a:off x="214200" y="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opperplate Gothic Bold"/>
              </a:rPr>
              <a:t>CICLO PLANIFICAR-HACER-VERIFICAR-ACT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CuadroTexto"/>
          <p:cNvSpPr/>
          <p:nvPr/>
        </p:nvSpPr>
        <p:spPr>
          <a:xfrm>
            <a:off x="285840" y="1600200"/>
            <a:ext cx="82868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MANTENIMIENTO Y LA MEJORA CONTINUA DE LA  CAPACIDAD DE PROCESO PUEDE LOGRARSE APLICANDO EL CONCEPTO DE PHVA  EN TODOS LOS NIVELES DENTRO DE LA ORGANIZACIÓN. ESTO APLICA POR IGUAL A LOS PROCESOS ESTRATEGICOS DE ALTO NIVEL, TALES COMO LOS SISTEMAS DE GESTION DE LA CALIDAD O LA REVISION POR LA DIRECCION, Y A LAS  ACTIVIDADES OPERACIONALES  SIMPLES LLEVADAS  A CABO COMO UNA PARTE DE LOS PROCESOS DE LA REALIZACION DEL PRODUC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NOTA EN EL APARTADO 0.2 DE LA NORMA ISO 9001:2000 EXPLICA QUE EL CICLO DE PHVA  APLICA  A LOS PROCESOS TAL COMO SIGU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LANIFICAR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ABLECER LOS OBJETIVOS Y PROCESOS NECESARIOS PARA CONSEGUIRV RESULTADOS DE ACUERDO CON LOS REQUISITOS DEL CLIENTE Y LAS POLITICAS DE ORGANIZ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ACER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MPLEMENTAR LOS PROCESO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ERIFICAR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ALIZAR EL SEGUIMIENTO Y LA MEDICIÓN DE LOS PROCESOS Y LOS PRODUCTOS RESPECTO A LAS POLITICAS, LOS OBJETIVOS Y LOS REQUISITOS PARA  EL PRODUCTO, INFORMAR SOBRE LOS RESULTADO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TUA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TOMAR ACCIONES PARA MEJORAR EL DESEMPEÑO DE LOS PROCES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0" descr="HOMBRE%20PENSANDO"/>
          <p:cNvPicPr/>
          <p:nvPr/>
        </p:nvPicPr>
        <p:blipFill>
          <a:blip r:embed="rId1"/>
          <a:stretch/>
        </p:blipFill>
        <p:spPr>
          <a:xfrm>
            <a:off x="7451640" y="5175360"/>
            <a:ext cx="1079640" cy="990360"/>
          </a:xfrm>
          <a:prstGeom prst="rect">
            <a:avLst/>
          </a:prstGeom>
          <a:ln w="0">
            <a:noFill/>
          </a:ln>
        </p:spPr>
      </p:pic>
      <p:grpSp>
        <p:nvGrpSpPr>
          <p:cNvPr id="171" name="Rectangle 37"/>
          <p:cNvGrpSpPr/>
          <p:nvPr/>
        </p:nvGrpSpPr>
        <p:grpSpPr>
          <a:xfrm>
            <a:off x="749160" y="1646280"/>
            <a:ext cx="2109600" cy="645840"/>
            <a:chOff x="749160" y="1646280"/>
            <a:chExt cx="2109600" cy="645840"/>
          </a:xfrm>
        </p:grpSpPr>
        <p:pic>
          <p:nvPicPr>
            <p:cNvPr id="172" name="Rectangle 37" descr=""/>
            <p:cNvPicPr/>
            <p:nvPr/>
          </p:nvPicPr>
          <p:blipFill>
            <a:blip r:embed="rId2"/>
            <a:stretch/>
          </p:blipFill>
          <p:spPr>
            <a:xfrm>
              <a:off x="750240" y="1649160"/>
              <a:ext cx="210852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49160" y="1646280"/>
              <a:ext cx="210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7030a0"/>
                  </a:solidFill>
                  <a:latin typeface="Arial Unicode MS"/>
                  <a:ea typeface="Arial Unicode MS"/>
                </a:rPr>
                <a:t>Enfoque Basado en Proce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ectangle 37"/>
          <p:cNvGrpSpPr/>
          <p:nvPr/>
        </p:nvGrpSpPr>
        <p:grpSpPr>
          <a:xfrm>
            <a:off x="749160" y="2712960"/>
            <a:ext cx="2109600" cy="925560"/>
            <a:chOff x="749160" y="2712960"/>
            <a:chExt cx="2109600" cy="925560"/>
          </a:xfrm>
        </p:grpSpPr>
        <p:pic>
          <p:nvPicPr>
            <p:cNvPr id="175" name="Rectangle 37" descr=""/>
            <p:cNvPicPr/>
            <p:nvPr/>
          </p:nvPicPr>
          <p:blipFill>
            <a:blip r:embed="rId3"/>
            <a:stretch/>
          </p:blipFill>
          <p:spPr>
            <a:xfrm>
              <a:off x="750240" y="2712960"/>
              <a:ext cx="210852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49160" y="2714760"/>
              <a:ext cx="2108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7030a0"/>
                  </a:solidFill>
                  <a:latin typeface="Arial Unicode MS"/>
                  <a:ea typeface="Arial Unicode MS"/>
                </a:rPr>
                <a:t>Enfoque de Sistema para la Gest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30 Flecha derecha"/>
          <p:cNvSpPr/>
          <p:nvPr/>
        </p:nvSpPr>
        <p:spPr>
          <a:xfrm>
            <a:off x="3214800" y="3071880"/>
            <a:ext cx="71424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7030a0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Rectangle 37"/>
          <p:cNvGrpSpPr/>
          <p:nvPr/>
        </p:nvGrpSpPr>
        <p:grpSpPr>
          <a:xfrm>
            <a:off x="4359240" y="2687760"/>
            <a:ext cx="3998880" cy="957240"/>
            <a:chOff x="4359240" y="2687760"/>
            <a:chExt cx="3998880" cy="957240"/>
          </a:xfrm>
        </p:grpSpPr>
        <p:pic>
          <p:nvPicPr>
            <p:cNvPr id="179" name="Rectangle 37" descr=""/>
            <p:cNvPicPr/>
            <p:nvPr/>
          </p:nvPicPr>
          <p:blipFill>
            <a:blip r:embed="rId4"/>
            <a:stretch/>
          </p:blipFill>
          <p:spPr>
            <a:xfrm>
              <a:off x="4360320" y="2687760"/>
              <a:ext cx="39974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359240" y="2689200"/>
              <a:ext cx="3998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Identificar, entender y gestionar los procesos interrelacionados como un sistema,  contribuye a la eficacia y eficiencia de una organización en el logro de sus obje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1" name="33 Forma"/>
          <p:cNvCxnSpPr/>
          <p:nvPr/>
        </p:nvCxnSpPr>
        <p:spPr>
          <a:xfrm flipH="1" flipV="1" rot="10800000">
            <a:off x="747360" y="1965960"/>
            <a:ext cx="1054800" cy="748440"/>
          </a:xfrm>
          <a:prstGeom prst="curvedConnector5">
            <a:avLst>
              <a:gd name="adj1" fmla="val -21645"/>
              <a:gd name="adj2" fmla="val 35755"/>
              <a:gd name="adj3" fmla="val -21645"/>
            </a:avLst>
          </a:prstGeom>
          <a:ln w="9360">
            <a:solidFill>
              <a:srgbClr val="7030a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182" name="Rectangle 37"/>
          <p:cNvGrpSpPr/>
          <p:nvPr/>
        </p:nvGrpSpPr>
        <p:grpSpPr>
          <a:xfrm>
            <a:off x="573120" y="4114800"/>
            <a:ext cx="7930800" cy="2284200"/>
            <a:chOff x="573120" y="4114800"/>
            <a:chExt cx="7930800" cy="2284200"/>
          </a:xfrm>
        </p:grpSpPr>
        <p:pic>
          <p:nvPicPr>
            <p:cNvPr id="183" name="Rectangle 37" descr=""/>
            <p:cNvPicPr/>
            <p:nvPr/>
          </p:nvPicPr>
          <p:blipFill>
            <a:blip r:embed="rId5"/>
            <a:stretch/>
          </p:blipFill>
          <p:spPr>
            <a:xfrm>
              <a:off x="574200" y="4114800"/>
              <a:ext cx="792972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73120" y="4114800"/>
              <a:ext cx="79279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	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ncluy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-Numerosos procesos interrelacionados entre sí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-Procesos de realización del producto (aquellos que directamente contribuyen directamente  a realizar el producto o a la provisión del servicio)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-Procesos de Gestió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-Procesos de Seguimient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-Procesos de Medició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WordArt 2"/>
          <p:cNvSpPr txBox="1"/>
          <p:nvPr/>
        </p:nvSpPr>
        <p:spPr>
          <a:xfrm>
            <a:off x="324000" y="404640"/>
            <a:ext cx="84294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Copperplate Gothic Bold"/>
              </a:rPr>
              <a:t>                                                  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186" name="10 CuadroTexto"/>
          <p:cNvSpPr/>
          <p:nvPr/>
        </p:nvSpPr>
        <p:spPr>
          <a:xfrm>
            <a:off x="112680" y="-6048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omprension del enfoque de sistema para la gest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Line 73"/>
          <p:cNvSpPr/>
          <p:nvPr/>
        </p:nvSpPr>
        <p:spPr>
          <a:xfrm>
            <a:off x="5651640" y="2884320"/>
            <a:ext cx="2930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4"/>
          <p:cNvSpPr/>
          <p:nvPr/>
        </p:nvSpPr>
        <p:spPr>
          <a:xfrm>
            <a:off x="5651640" y="3584520"/>
            <a:ext cx="2930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3" descr="pensan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810400"/>
            <a:ext cx="1047600" cy="1047600"/>
          </a:xfrm>
          <a:prstGeom prst="rect">
            <a:avLst/>
          </a:prstGeom>
          <a:ln w="0">
            <a:noFill/>
          </a:ln>
        </p:spPr>
      </p:pic>
      <p:grpSp>
        <p:nvGrpSpPr>
          <p:cNvPr id="190" name="Rectangle 37"/>
          <p:cNvGrpSpPr/>
          <p:nvPr/>
        </p:nvGrpSpPr>
        <p:grpSpPr>
          <a:xfrm>
            <a:off x="500040" y="1573200"/>
            <a:ext cx="7931160" cy="1564560"/>
            <a:chOff x="500040" y="1573200"/>
            <a:chExt cx="7931160" cy="1564560"/>
          </a:xfrm>
        </p:grpSpPr>
        <p:pic>
          <p:nvPicPr>
            <p:cNvPr id="191" name="Rectangle 37" descr=""/>
            <p:cNvPicPr/>
            <p:nvPr/>
          </p:nvPicPr>
          <p:blipFill>
            <a:blip r:embed="rId3"/>
            <a:stretch/>
          </p:blipFill>
          <p:spPr>
            <a:xfrm>
              <a:off x="500040" y="1574280"/>
              <a:ext cx="7931160" cy="15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00040" y="1573200"/>
              <a:ext cx="79297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	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stos procesos pueden ser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- Procesos de Gestión de recurso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- Procesos de Comunicació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- Auditorias Interna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- Revisión por la direcció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- Entre otro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Rectangle 37"/>
          <p:cNvGrpSpPr/>
          <p:nvPr/>
        </p:nvGrpSpPr>
        <p:grpSpPr>
          <a:xfrm>
            <a:off x="573120" y="3346560"/>
            <a:ext cx="7930800" cy="824040"/>
            <a:chOff x="573120" y="3346560"/>
            <a:chExt cx="7930800" cy="824040"/>
          </a:xfrm>
        </p:grpSpPr>
        <p:pic>
          <p:nvPicPr>
            <p:cNvPr id="194" name="Rectangle 37" descr=""/>
            <p:cNvPicPr/>
            <p:nvPr/>
          </p:nvPicPr>
          <p:blipFill>
            <a:blip r:embed="rId4"/>
            <a:stretch/>
          </p:blipFill>
          <p:spPr>
            <a:xfrm>
              <a:off x="574200" y="3348000"/>
              <a:ext cx="792972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73120" y="3346560"/>
              <a:ext cx="7927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7030a0"/>
                  </a:solidFill>
                  <a:latin typeface="Arial Unicode MS"/>
                  <a:ea typeface="Arial Unicode MS"/>
                </a:rPr>
                <a:t>	</a:t>
              </a:r>
              <a:r>
                <a:rPr b="1" lang="es-ES" sz="1600" spc="-1" strike="noStrike">
                  <a:solidFill>
                    <a:srgbClr val="7030a0"/>
                  </a:solidFill>
                  <a:latin typeface="Arial Unicode MS"/>
                  <a:ea typeface="Arial Unicode MS"/>
                </a:rPr>
                <a:t>Estos procesos raramente ocurren d e forma aislada, ya que la salida de un proceso normalmente forma parte de la entrada de otros procesos subsecuentes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31 Imagen" descr="RED"/>
          <p:cNvPicPr/>
          <p:nvPr/>
        </p:nvPicPr>
        <p:blipFill>
          <a:blip r:embed="rId5"/>
          <a:srcRect l="0" t="31113" r="0" b="14304"/>
          <a:stretch/>
        </p:blipFill>
        <p:spPr>
          <a:xfrm>
            <a:off x="2000160" y="4071960"/>
            <a:ext cx="4962600" cy="2038320"/>
          </a:xfrm>
          <a:prstGeom prst="rect">
            <a:avLst/>
          </a:prstGeom>
          <a:ln w="9360">
            <a:solidFill>
              <a:srgbClr val="7030a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7" name="WordArt 2"/>
          <p:cNvSpPr txBox="1"/>
          <p:nvPr/>
        </p:nvSpPr>
        <p:spPr>
          <a:xfrm>
            <a:off x="324000" y="404640"/>
            <a:ext cx="84294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Copperplate Gothic Bold"/>
              </a:rPr>
              <a:t>                                                  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198" name="9 CuadroTexto"/>
          <p:cNvSpPr/>
          <p:nvPr/>
        </p:nvSpPr>
        <p:spPr>
          <a:xfrm>
            <a:off x="112680" y="-6048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omprensión del enfoque de sistema para la gest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2:31:38Z</dcterms:created>
  <dc:creator>Valentina</dc:creator>
  <dc:description/>
  <dc:language>en-US</dc:language>
  <cp:lastModifiedBy>Ivan Turmero</cp:lastModifiedBy>
  <dcterms:modified xsi:type="dcterms:W3CDTF">2013-05-17T23:32:12Z</dcterms:modified>
  <cp:revision>37</cp:revision>
  <dc:subject/>
  <dc:title>Diapositiva 1</dc:title>
</cp:coreProperties>
</file>