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4.jpeg" ContentType="image/jpeg"/>
  <Override PartName="/ppt/media/image25.png" ContentType="image/png"/>
  <Override PartName="/ppt/media/image2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0829-0BF5-467C-B085-BB581C486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FC1C-D1C3-470E-B0AF-27B6EFE8E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EFB12F-400F-4360-B468-EF002C47A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DD08FA-CA17-4118-937C-AC7C872F8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FA22D1-35C7-4A82-97C1-C542A3C70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17E9A2-C22C-4F4E-8066-C47F8F119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67721E-7FCA-43F2-9E04-EACDC759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2F155E-21AF-48A2-99E3-45FC26BD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33B9D9-47F8-4AB9-8D7C-8F5B7B7B5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2B8D33-E7AA-4881-9EBF-B98630950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6F6957-341E-435B-B623-F948F2D85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A017-9AA3-4EA0-8D3C-087DEF8B5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5B37-F377-409C-85AD-6B630B665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10D1B-5883-48DE-AEBA-4C9111509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678AB-572D-4920-A5FB-6E07A0086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2927A-AEE5-4A8F-8D9C-3803FA008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427DB-FA3C-4D35-BB25-0A3BAFA0E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ACBEF-8126-4FB0-9BFE-EFD02D119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99C48-9408-4DD3-8565-5CA0A6702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F789F-E8F1-46CC-B12A-8CD641E7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1BDA-55A7-4A95-A317-B623D798F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A1D7C-D919-4966-BEFA-B59C7B5E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0B345-D540-40BA-A243-25227D1A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61145-B87E-4AF9-839C-8594B8A29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B9EE1-B35B-450E-92D0-F64E2D860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3345B-A260-4063-83EE-DBD5D0007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E1520-A71B-4F04-A3BA-8B5DD1D76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5CEE9-C103-4D55-832C-00DCC29BD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F0FB9-4DBC-4C41-AD9F-79B3152FC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4ABCE-25C4-49D9-B875-7ACA5553D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E5C6F-F948-433B-879E-B7553CF31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8CA5-CBCD-4F30-BA83-DCDE02159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147C6-5F01-4C30-B80F-A2D8F52A9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856D2-CFD5-47D2-B0C4-90E8FCAD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EBCA6-1D92-4D5F-9360-46EBF9117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16486-B69C-4EAE-B6D7-333056940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B6819-185C-40D4-BB76-549990BB8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F410B-BA5A-43D3-A2D6-EFA9AF163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2B2D5-1177-4F6C-B3F1-644F2E955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9E864-CD8E-490C-9194-193406B1B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6A1EB-78A7-4739-8965-6176CCC85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886C2-3954-476E-9DCB-662AA5B77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7685-420B-4E92-ABA1-0D557BB6F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2D6F0-968A-45D7-BCF5-1BA0C69D9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5EAD7-8725-40D7-BAEC-2DED1B69E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8BA8C-CA43-4964-B011-CD044A228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56DC2-E8EA-4311-B816-A2598A73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A7662-CD3A-4103-88E0-5FCB57934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F762A-D375-4250-9376-9FDD1E18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623BE-4768-40E3-AEEB-98CC1A199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4E93B-9180-445D-AE3B-72D069BAC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B57AA-C76D-48DA-A1A0-64892261D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D1947C-5BA2-4657-9FEB-55B593596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A011-B99E-4585-A78D-CB36A4BCB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603BC-9EE4-4EE4-A5BE-2078AAD94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3E5AA-0542-473D-AA81-96B25FCE7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F9435E-3B52-4077-BC60-5B89127E1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1ADB57-6161-4D28-915E-F0EA3BCEE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BA02A-E42B-41E2-89D9-9B0753519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C15FE8-A7AD-410A-9E32-104A5EA2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3EFACE-89C0-407A-A578-89F78F9A3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ED661B-B860-4F09-9FDB-0DF21390D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5A9407-8FE6-418E-8279-6919F411A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FAA672-5FB1-4FCB-96F6-6CD19F404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1686-2116-4FF3-9CBD-E97EB90E9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EEF7B-C7B0-4E85-9C1C-6AF66A268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6D57C0-64C9-48DC-BDA8-B3465A2C3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7ABED5-34CA-47D8-95E9-D65353992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4B2AC4-9D51-4ED0-BD7D-0AA4CAED0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A4A965-111A-4790-B931-5C62B2256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F0CB22-A373-448D-9600-A6602F6DD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A79AD-4EB7-48DA-8C0B-130F751A2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1A95CD-C454-4A78-B072-098D59DE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74C9C4-1566-4D5F-8436-2F87AF61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9581DC-2BDB-4365-A2CC-BE7BAED08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3334-16D1-4084-A275-67807D11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0F4904-172F-4A11-BAF1-A0CDACF2A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E3C1FD-A21C-4495-84EE-BFE0E82AD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AC7734-0D02-4901-ADBF-E711873BB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662B52-5B4A-4B13-9895-D055C9B4B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3BB0FC-1913-4D49-B052-2498FC921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0A39BA-0B7C-41C2-8657-C6EAB9270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FD03D5-F73C-4507-88F5-00B26CB83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B3D0B5-C4A6-4F77-BAE3-F1135D6D1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555CC6-272E-4627-A1C5-4059D205E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332C83-D60E-478C-B934-45CBE0FDF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56B7-C1E8-4351-AA08-B785C9FC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40D824-8066-42AA-B3EB-2A35D7E4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5186A0-20BE-4F7B-8373-EA703BD6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E1E335-94FB-4F9A-A6FE-F144CF55C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716EB0-AB86-47B0-B5D3-4FB209BAD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58A736-9A27-4C6A-A744-B1F8F02C1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F01E2D-E1C2-416E-A525-297A62618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AD1DF3-C9AD-472A-8806-25C30E7A0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27CD04-7176-42D3-A6B8-61FC009AA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DF8681-AA40-4E60-9CD2-2161CF1D2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1FBBE2-2646-4B62-84CD-A7AA366B2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1697-E33E-4E41-9060-9360DC5B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CBB9A7-2449-4628-B325-526D4B1B6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EB4A0E-F984-498D-8DD5-57734A26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76D1DF-129A-4CD5-B87D-7CF2B3F1F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4E218F-A938-489B-A5E5-6ECC38678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9B3F27-EFD1-4559-B728-950C136E8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9D8A4A-C6B7-4759-B170-88195C056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A0CD1F-F119-4DB2-AA6B-D3D199988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EF1BFF-CBC8-478F-AF33-AE1022892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B4EAC0-EE00-4A5F-9B7A-82DAC2767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F1B36B-8738-4696-9E74-B52DDC8C7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6 Conector recto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6 Conector recto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AF452-042F-4D16-A1AB-35376AB6B321}" type="slidenum">
              <a:rPr b="0" lang="es-ES_tradnl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8 Conector recto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8 Conector recto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11 Conector recto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11 Conector recto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12 Conector recto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12 Conector recto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EB01A-1F85-4B59-84EE-AE9B1D41D37B}" type="slidenum">
              <a:rPr b="0" lang="es-ES_tradnl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6 Conector recto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6 Conector recto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8 Conector recto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8 Conector recto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11 Conector recto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11 Conector recto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173D2-17F7-4656-AB1D-EEB27C93C00C}" type="slidenum">
              <a:rPr b="0" lang="es-ES_tradnl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12 Conector recto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12 Conector recto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839C7-F81B-418A-A8B9-49B5307C6DE7}" type="slidenum">
              <a:rPr b="0" lang="es-ES_tradnl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12 Conector recto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12 Conector recto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CFE37-77C7-4D53-A5E5-4C4259E72F9D}" type="slidenum">
              <a:rPr b="0" lang="es-ES_tradnl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97A46-4EC4-45AE-96EB-DA39BA396E7E}" type="slidenum">
              <a:rPr b="0" lang="es-ES_tradnl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12 Conector recto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12 Conector recto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D1FE3-0746-4B5E-BB7E-EAB9979525EC}" type="slidenum">
              <a:rPr b="0" lang="es-ES_tradnl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BFBF1-32B7-4D11-B725-2952666649CE}" type="slidenum">
              <a:rPr b="0" lang="es-ES_tradnl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71438-48C8-4971-8D6E-66812FE8A929}" type="slidenum">
              <a:rPr b="0" lang="es-ES_tradnl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10 Rectángulo redondeado" descr=""/>
          <p:cNvPicPr/>
          <p:nvPr/>
        </p:nvPicPr>
        <p:blipFill>
          <a:blip r:embed="rId1"/>
          <a:stretch/>
        </p:blipFill>
        <p:spPr>
          <a:xfrm>
            <a:off x="6480" y="-66600"/>
            <a:ext cx="9137520" cy="2352600"/>
          </a:xfrm>
          <a:prstGeom prst="rect">
            <a:avLst/>
          </a:prstGeom>
          <a:ln w="0">
            <a:noFill/>
          </a:ln>
        </p:spPr>
      </p:pic>
      <p:sp>
        <p:nvSpPr>
          <p:cNvPr id="400" name="Rectangle 2"/>
          <p:cNvSpPr/>
          <p:nvPr/>
        </p:nvSpPr>
        <p:spPr>
          <a:xfrm>
            <a:off x="1311120" y="214200"/>
            <a:ext cx="10461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520" rIns="74520" tIns="37440" bIns="37440" anchor="t">
            <a:noAutofit/>
          </a:bodyPr>
          <a:p>
            <a:pPr lvl="1" marL="457200"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100" spc="-1" strike="noStrike">
                <a:solidFill>
                  <a:srgbClr val="000000"/>
                </a:solidFill>
                <a:latin typeface="Calibri"/>
              </a:rPr>
              <a:t>U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457200"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1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457200"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1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457200"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1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457200"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1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457200"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1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01" name="7 Imagen" descr=""/>
          <p:cNvPicPr/>
          <p:nvPr/>
        </p:nvPicPr>
        <p:blipFill>
          <a:blip r:embed="rId2"/>
          <a:stretch/>
        </p:blipFill>
        <p:spPr>
          <a:xfrm>
            <a:off x="357120" y="357120"/>
            <a:ext cx="1428840" cy="1357560"/>
          </a:xfrm>
          <a:prstGeom prst="rect">
            <a:avLst/>
          </a:prstGeom>
          <a:ln w="0">
            <a:noFill/>
          </a:ln>
        </p:spPr>
      </p:pic>
      <p:pic>
        <p:nvPicPr>
          <p:cNvPr id="402" name="8 Diagrama" descr=""/>
          <p:cNvPicPr/>
          <p:nvPr/>
        </p:nvPicPr>
        <p:blipFill>
          <a:blip r:embed="rId3"/>
          <a:stretch/>
        </p:blipFill>
        <p:spPr>
          <a:xfrm>
            <a:off x="5078520" y="3432240"/>
            <a:ext cx="3925800" cy="2955960"/>
          </a:xfrm>
          <a:prstGeom prst="rect">
            <a:avLst/>
          </a:prstGeom>
          <a:ln w="0">
            <a:noFill/>
          </a:ln>
        </p:spPr>
      </p:pic>
      <p:pic>
        <p:nvPicPr>
          <p:cNvPr id="403" name="13 Diagrama" descr=""/>
          <p:cNvPicPr/>
          <p:nvPr/>
        </p:nvPicPr>
        <p:blipFill>
          <a:blip r:embed="rId4"/>
          <a:stretch/>
        </p:blipFill>
        <p:spPr>
          <a:xfrm>
            <a:off x="139680" y="3090960"/>
            <a:ext cx="3925800" cy="2931840"/>
          </a:xfrm>
          <a:prstGeom prst="rect">
            <a:avLst/>
          </a:prstGeom>
          <a:ln w="0">
            <a:noFill/>
          </a:ln>
        </p:spPr>
      </p:pic>
      <p:pic>
        <p:nvPicPr>
          <p:cNvPr id="404" name="9 CuadroTexto" descr=""/>
          <p:cNvPicPr/>
          <p:nvPr/>
        </p:nvPicPr>
        <p:blipFill>
          <a:blip r:embed="rId5"/>
          <a:stretch/>
        </p:blipFill>
        <p:spPr>
          <a:xfrm>
            <a:off x="738360" y="2620800"/>
            <a:ext cx="7948440" cy="1109880"/>
          </a:xfrm>
          <a:prstGeom prst="rect">
            <a:avLst/>
          </a:prstGeom>
          <a:ln w="0">
            <a:noFill/>
          </a:ln>
        </p:spPr>
      </p:pic>
      <p:pic>
        <p:nvPicPr>
          <p:cNvPr id="405" name="Rectangle 3" descr=""/>
          <p:cNvPicPr/>
          <p:nvPr/>
        </p:nvPicPr>
        <p:blipFill>
          <a:blip r:embed="rId6"/>
          <a:stretch/>
        </p:blipFill>
        <p:spPr>
          <a:xfrm>
            <a:off x="1359000" y="73080"/>
            <a:ext cx="5986440" cy="185256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7"/>
          <p:cNvSpPr/>
          <p:nvPr/>
        </p:nvSpPr>
        <p:spPr>
          <a:xfrm>
            <a:off x="1619280" y="637524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IUDAD GUAYANA, MARZO DE 2009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80520" y="4852800"/>
            <a:ext cx="845820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2400" spc="-1" strike="noStrike">
              <a:solidFill>
                <a:srgbClr val="443329"/>
              </a:solidFill>
              <a:latin typeface="Franklin Gothic Book"/>
            </a:endParaRPr>
          </a:p>
        </p:txBody>
      </p:sp>
      <p:pic>
        <p:nvPicPr>
          <p:cNvPr id="50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501" name="4 Elipse"/>
          <p:cNvSpPr/>
          <p:nvPr/>
        </p:nvSpPr>
        <p:spPr>
          <a:xfrm>
            <a:off x="0" y="3643200"/>
            <a:ext cx="3429000" cy="28576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1 Recortar rectángulo de esquina diagonal"/>
          <p:cNvSpPr/>
          <p:nvPr/>
        </p:nvSpPr>
        <p:spPr>
          <a:xfrm>
            <a:off x="928800" y="785880"/>
            <a:ext cx="7358040" cy="4643280"/>
          </a:xfrm>
          <a:custGeom>
            <a:avLst/>
            <a:gdLst/>
            <a:ahLst/>
            <a:rect l="l" t="t" r="r" b="b"/>
            <a:pathLst>
              <a:path w="7358114" h="4643470">
                <a:moveTo>
                  <a:pt x="0" y="0"/>
                </a:moveTo>
                <a:lnTo>
                  <a:pt x="6584187" y="0"/>
                </a:lnTo>
                <a:lnTo>
                  <a:pt x="7358114" y="773927"/>
                </a:lnTo>
                <a:lnTo>
                  <a:pt x="7358114" y="4643470"/>
                </a:lnTo>
                <a:lnTo>
                  <a:pt x="7358114" y="4643470"/>
                </a:lnTo>
                <a:lnTo>
                  <a:pt x="773927" y="4643470"/>
                </a:lnTo>
                <a:lnTo>
                  <a:pt x="0" y="3869543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b076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503" name=""/>
          <p:cNvGraphicFramePr/>
          <p:nvPr/>
        </p:nvGraphicFramePr>
        <p:xfrm>
          <a:off x="1285920" y="2082960"/>
          <a:ext cx="6691320" cy="2560320"/>
        </p:xfrm>
        <a:graphic>
          <a:graphicData uri="http://schemas.openxmlformats.org/drawingml/2006/table">
            <a:tbl>
              <a:tblPr/>
              <a:tblGrid>
                <a:gridCol w="1149480"/>
                <a:gridCol w="1882440"/>
                <a:gridCol w="1986120"/>
                <a:gridCol w="16732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Precio 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Tasa de Cup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F. Vencimien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Rendimiento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7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1 Julio 20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8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7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1 Julio 20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7.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7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1 Julio 20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7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90,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7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1 Julio 20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8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81,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7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1 Julio 20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9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00,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7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1 Julio 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6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</a:tbl>
          </a:graphicData>
        </a:graphic>
      </p:graphicFrame>
      <p:sp>
        <p:nvSpPr>
          <p:cNvPr id="504" name="4 CuadroTexto"/>
          <p:cNvSpPr/>
          <p:nvPr/>
        </p:nvSpPr>
        <p:spPr>
          <a:xfrm>
            <a:off x="3286080" y="876240"/>
            <a:ext cx="2357640" cy="642600"/>
          </a:xfrm>
          <a:prstGeom prst="pie">
            <a:avLst/>
          </a:prstGeom>
          <a:solidFill>
            <a:srgbClr val="ffffff"/>
          </a:solidFill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Book"/>
              </a:rPr>
              <a:t>Tabla de Respuestas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5 Recortar rectángulo de esquina del mismo lado"/>
          <p:cNvGrpSpPr/>
          <p:nvPr/>
        </p:nvGrpSpPr>
        <p:grpSpPr>
          <a:xfrm>
            <a:off x="189000" y="828720"/>
            <a:ext cx="8766000" cy="5559480"/>
            <a:chOff x="189000" y="828720"/>
            <a:chExt cx="8766000" cy="5559480"/>
          </a:xfrm>
        </p:grpSpPr>
        <p:pic>
          <p:nvPicPr>
            <p:cNvPr id="506" name="5 Recortar rectángulo de esquina del mismo lado" descr=""/>
            <p:cNvPicPr/>
            <p:nvPr/>
          </p:nvPicPr>
          <p:blipFill>
            <a:blip r:embed="rId1"/>
            <a:stretch/>
          </p:blipFill>
          <p:spPr>
            <a:xfrm>
              <a:off x="189000" y="828720"/>
              <a:ext cx="8766000" cy="555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7" name=""/>
            <p:cNvSpPr/>
            <p:nvPr/>
          </p:nvSpPr>
          <p:spPr>
            <a:xfrm>
              <a:off x="673200" y="1316160"/>
              <a:ext cx="7797600" cy="504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08" name="1 Rectángulo"/>
          <p:cNvSpPr/>
          <p:nvPr/>
        </p:nvSpPr>
        <p:spPr>
          <a:xfrm>
            <a:off x="857160" y="1000080"/>
            <a:ext cx="74296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Book"/>
              </a:rPr>
              <a:t>6. ¿Por qué el precio del bono de la pregunta 5 es mayor que el precio del bono de la pregunta 4?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Book"/>
              </a:rPr>
              <a:t>R: El precio de un bono y de cualquier activo financiero es el equivalente al valor presente de su flujo de caja. A medida que el retorno requerido es mayor el valor presente de los flujos de caja disminuye y el precio disminuye también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Book"/>
              </a:rPr>
              <a:t>Si graficamos una relación precio / retorno veremos que la forma es convexa, esto es importante dentro de las propiedades de inversión sobre un bono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09" name="Picture 3" descr=""/>
          <p:cNvPicPr/>
          <p:nvPr/>
        </p:nvPicPr>
        <p:blipFill>
          <a:blip r:embed="rId2"/>
          <a:stretch/>
        </p:blipFill>
        <p:spPr>
          <a:xfrm>
            <a:off x="2643120" y="3786120"/>
            <a:ext cx="33051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2 Diagrama" descr=""/>
          <p:cNvPicPr/>
          <p:nvPr/>
        </p:nvPicPr>
        <p:blipFill>
          <a:blip r:embed="rId1"/>
          <a:stretch/>
        </p:blipFill>
        <p:spPr>
          <a:xfrm>
            <a:off x="122400" y="743040"/>
            <a:ext cx="8899200" cy="6114960"/>
          </a:xfrm>
          <a:prstGeom prst="rect">
            <a:avLst/>
          </a:prstGeom>
          <a:ln w="0">
            <a:noFill/>
          </a:ln>
        </p:spPr>
      </p:pic>
      <p:pic>
        <p:nvPicPr>
          <p:cNvPr id="408" name="4 Rectángulo" descr=""/>
          <p:cNvPicPr/>
          <p:nvPr/>
        </p:nvPicPr>
        <p:blipFill>
          <a:blip r:embed="rId2"/>
          <a:stretch/>
        </p:blipFill>
        <p:spPr>
          <a:xfrm>
            <a:off x="2975040" y="-92160"/>
            <a:ext cx="31701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3 Recortar rectángulo de esquina sencilla" descr=""/>
          <p:cNvPicPr/>
          <p:nvPr/>
        </p:nvPicPr>
        <p:blipFill>
          <a:blip r:embed="rId1"/>
          <a:stretch/>
        </p:blipFill>
        <p:spPr>
          <a:xfrm>
            <a:off x="324000" y="444600"/>
            <a:ext cx="8611920" cy="6254640"/>
          </a:xfrm>
          <a:prstGeom prst="rect">
            <a:avLst/>
          </a:prstGeom>
          <a:ln w="0">
            <a:noFill/>
          </a:ln>
        </p:spPr>
      </p:pic>
      <p:grpSp>
        <p:nvGrpSpPr>
          <p:cNvPr id="410" name="4 Recortar y redondear rectángulo de esquina sencilla"/>
          <p:cNvGrpSpPr/>
          <p:nvPr/>
        </p:nvGrpSpPr>
        <p:grpSpPr>
          <a:xfrm>
            <a:off x="401760" y="1450800"/>
            <a:ext cx="8265960" cy="5053320"/>
            <a:chOff x="401760" y="1450800"/>
            <a:chExt cx="8265960" cy="5053320"/>
          </a:xfrm>
        </p:grpSpPr>
        <p:pic>
          <p:nvPicPr>
            <p:cNvPr id="411" name="4 Recortar y redondear rectángulo de esquina sencilla" descr=""/>
            <p:cNvPicPr/>
            <p:nvPr/>
          </p:nvPicPr>
          <p:blipFill>
            <a:blip r:embed="rId2"/>
            <a:stretch/>
          </p:blipFill>
          <p:spPr>
            <a:xfrm>
              <a:off x="401760" y="1450800"/>
              <a:ext cx="8265960" cy="505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"/>
            <p:cNvSpPr/>
            <p:nvPr/>
          </p:nvSpPr>
          <p:spPr>
            <a:xfrm>
              <a:off x="736560" y="1736640"/>
              <a:ext cx="7431120" cy="46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pic>
        <p:nvPicPr>
          <p:cNvPr id="413" name="6 CuadroTexto" descr=""/>
          <p:cNvPicPr/>
          <p:nvPr/>
        </p:nvPicPr>
        <p:blipFill>
          <a:blip r:embed="rId3"/>
          <a:stretch/>
        </p:blipFill>
        <p:spPr>
          <a:xfrm>
            <a:off x="268200" y="523800"/>
            <a:ext cx="8736120" cy="1030320"/>
          </a:xfrm>
          <a:prstGeom prst="rect">
            <a:avLst/>
          </a:prstGeom>
          <a:ln w="0">
            <a:noFill/>
          </a:ln>
        </p:spPr>
      </p:pic>
      <p:sp>
        <p:nvSpPr>
          <p:cNvPr id="414" name="9 Conector recto"/>
          <p:cNvSpPr/>
          <p:nvPr/>
        </p:nvSpPr>
        <p:spPr>
          <a:xfrm>
            <a:off x="1357200" y="2500200"/>
            <a:ext cx="57150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cxnSp>
        <p:nvCxnSpPr>
          <p:cNvPr id="415" name="11 Conector recto de flecha"/>
          <p:cNvCxnSpPr/>
          <p:nvPr/>
        </p:nvCxnSpPr>
        <p:spPr>
          <a:xfrm flipH="1">
            <a:off x="1714320" y="2500200"/>
            <a:ext cx="2160" cy="2865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16" name="12 Conector recto de flecha"/>
          <p:cNvCxnSpPr/>
          <p:nvPr/>
        </p:nvCxnSpPr>
        <p:spPr>
          <a:xfrm flipH="1">
            <a:off x="3428640" y="2500200"/>
            <a:ext cx="2160" cy="2865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17" name="14 Conector recto"/>
          <p:cNvSpPr/>
          <p:nvPr/>
        </p:nvSpPr>
        <p:spPr>
          <a:xfrm>
            <a:off x="1714680" y="2786040"/>
            <a:ext cx="17143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cxnSp>
        <p:nvCxnSpPr>
          <p:cNvPr id="418" name="16 Conector recto de flecha"/>
          <p:cNvCxnSpPr/>
          <p:nvPr/>
        </p:nvCxnSpPr>
        <p:spPr>
          <a:xfrm flipV="1">
            <a:off x="3711960" y="2071440"/>
            <a:ext cx="2520" cy="4291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19" name="17 Conector recto de flecha"/>
          <p:cNvCxnSpPr/>
          <p:nvPr/>
        </p:nvCxnSpPr>
        <p:spPr>
          <a:xfrm flipV="1">
            <a:off x="7071120" y="2071440"/>
            <a:ext cx="2520" cy="4291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20" name="19 Conector recto"/>
          <p:cNvSpPr/>
          <p:nvPr/>
        </p:nvSpPr>
        <p:spPr>
          <a:xfrm>
            <a:off x="3714840" y="2071800"/>
            <a:ext cx="33573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1" name="22 CuadroTexto"/>
          <p:cNvSpPr/>
          <p:nvPr/>
        </p:nvSpPr>
        <p:spPr>
          <a:xfrm>
            <a:off x="1214280" y="2478240"/>
            <a:ext cx="35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Franklin Gothic Book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2" name="23 CuadroTexto"/>
          <p:cNvSpPr/>
          <p:nvPr/>
        </p:nvSpPr>
        <p:spPr>
          <a:xfrm>
            <a:off x="1571760" y="2192400"/>
            <a:ext cx="35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Franklin Gothic Boo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3" name="24 CuadroTexto"/>
          <p:cNvSpPr/>
          <p:nvPr/>
        </p:nvSpPr>
        <p:spPr>
          <a:xfrm>
            <a:off x="3214800" y="2214720"/>
            <a:ext cx="4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Franklin Gothic Book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4" name="25 CuadroTexto"/>
          <p:cNvSpPr/>
          <p:nvPr/>
        </p:nvSpPr>
        <p:spPr>
          <a:xfrm>
            <a:off x="2214720" y="2487600"/>
            <a:ext cx="78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Book"/>
              </a:rPr>
              <a:t>i=9%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5" name="26 CuadroTexto"/>
          <p:cNvSpPr/>
          <p:nvPr/>
        </p:nvSpPr>
        <p:spPr>
          <a:xfrm>
            <a:off x="3571920" y="2478240"/>
            <a:ext cx="50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Franklin Gothic Book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6" name="27 CuadroTexto"/>
          <p:cNvSpPr/>
          <p:nvPr/>
        </p:nvSpPr>
        <p:spPr>
          <a:xfrm>
            <a:off x="6858000" y="2500200"/>
            <a:ext cx="50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Franklin Gothic Book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7" name="28 CuadroTexto"/>
          <p:cNvSpPr/>
          <p:nvPr/>
        </p:nvSpPr>
        <p:spPr>
          <a:xfrm>
            <a:off x="4857840" y="2071800"/>
            <a:ext cx="7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Book"/>
              </a:rPr>
              <a:t>i=12%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8" name="29 CuadroTexto"/>
          <p:cNvSpPr/>
          <p:nvPr/>
        </p:nvSpPr>
        <p:spPr>
          <a:xfrm>
            <a:off x="4786200" y="171468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Book"/>
              </a:rPr>
              <a:t>A = 42.000 $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9" name="30 CuadroTexto"/>
          <p:cNvSpPr/>
          <p:nvPr/>
        </p:nvSpPr>
        <p:spPr>
          <a:xfrm>
            <a:off x="1500120" y="3571920"/>
            <a:ext cx="4786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Franklin Gothic Book"/>
              </a:rPr>
              <a:t>Siendo: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Franklin Gothic Book"/>
              </a:rPr>
              <a:t>A: anualidad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Franklin Gothic Book"/>
              </a:rPr>
              <a:t>i: Tasa de Interés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Franklin Gothic Book"/>
              </a:rPr>
              <a:t>Números: Años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2 Diagrama" descr=""/>
          <p:cNvPicPr/>
          <p:nvPr/>
        </p:nvPicPr>
        <p:blipFill>
          <a:blip r:embed="rId1"/>
          <a:stretch/>
        </p:blipFill>
        <p:spPr>
          <a:xfrm>
            <a:off x="324000" y="585720"/>
            <a:ext cx="8538840" cy="6400800"/>
          </a:xfrm>
          <a:prstGeom prst="rect">
            <a:avLst/>
          </a:prstGeom>
          <a:ln w="0">
            <a:noFill/>
          </a:ln>
        </p:spPr>
      </p:pic>
      <p:pic>
        <p:nvPicPr>
          <p:cNvPr id="431" name="4 CuadroTexto" descr=""/>
          <p:cNvPicPr/>
          <p:nvPr/>
        </p:nvPicPr>
        <p:blipFill>
          <a:blip r:embed="rId2"/>
          <a:stretch/>
        </p:blipFill>
        <p:spPr>
          <a:xfrm>
            <a:off x="628560" y="585720"/>
            <a:ext cx="8088480" cy="1035000"/>
          </a:xfrm>
          <a:prstGeom prst="rect">
            <a:avLst/>
          </a:prstGeom>
          <a:ln w="0">
            <a:noFill/>
          </a:ln>
        </p:spPr>
      </p:pic>
      <p:grpSp>
        <p:nvGrpSpPr>
          <p:cNvPr id="432" name="18 Grupo"/>
          <p:cNvGrpSpPr/>
          <p:nvPr/>
        </p:nvGrpSpPr>
        <p:grpSpPr>
          <a:xfrm>
            <a:off x="1214280" y="2000160"/>
            <a:ext cx="6500880" cy="2226240"/>
            <a:chOff x="1214280" y="2000160"/>
            <a:chExt cx="6500880" cy="2226240"/>
          </a:xfrm>
        </p:grpSpPr>
        <p:sp>
          <p:nvSpPr>
            <p:cNvPr id="433" name="5 Conector recto"/>
            <p:cNvSpPr/>
            <p:nvPr/>
          </p:nvSpPr>
          <p:spPr>
            <a:xfrm>
              <a:off x="1356840" y="2786040"/>
              <a:ext cx="57153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cxnSp>
          <p:nvCxnSpPr>
            <p:cNvPr id="434" name="6 Conector recto de flecha"/>
            <p:cNvCxnSpPr/>
            <p:nvPr/>
          </p:nvCxnSpPr>
          <p:spPr>
            <a:xfrm flipV="1">
              <a:off x="3713760" y="2357280"/>
              <a:ext cx="2160" cy="4294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35" name="7 Conector recto"/>
            <p:cNvSpPr/>
            <p:nvPr/>
          </p:nvSpPr>
          <p:spPr>
            <a:xfrm>
              <a:off x="3714480" y="2357280"/>
              <a:ext cx="33577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436" name="8 CuadroTexto"/>
            <p:cNvSpPr/>
            <p:nvPr/>
          </p:nvSpPr>
          <p:spPr>
            <a:xfrm>
              <a:off x="3571560" y="2764080"/>
              <a:ext cx="500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Franklin Gothic Book"/>
                </a:rPr>
                <a:t>13</a:t>
              </a:r>
              <a:endParaRPr b="0" lang="en-US" sz="14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437" name="9 CuadroTexto"/>
            <p:cNvSpPr/>
            <p:nvPr/>
          </p:nvSpPr>
          <p:spPr>
            <a:xfrm>
              <a:off x="6858000" y="2786040"/>
              <a:ext cx="500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Franklin Gothic Book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438" name="10 CuadroTexto"/>
            <p:cNvSpPr/>
            <p:nvPr/>
          </p:nvSpPr>
          <p:spPr>
            <a:xfrm>
              <a:off x="4857480" y="2357280"/>
              <a:ext cx="78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Book"/>
                </a:rPr>
                <a:t>i=12%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439" name="11 CuadroTexto"/>
            <p:cNvSpPr/>
            <p:nvPr/>
          </p:nvSpPr>
          <p:spPr>
            <a:xfrm>
              <a:off x="4786200" y="2000160"/>
              <a:ext cx="292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Book"/>
                </a:rPr>
                <a:t>A = 42.000 $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cxnSp>
          <p:nvCxnSpPr>
            <p:cNvPr id="440" name="12 Conector recto de flecha"/>
            <p:cNvCxnSpPr/>
            <p:nvPr/>
          </p:nvCxnSpPr>
          <p:spPr>
            <a:xfrm flipV="1">
              <a:off x="7072200" y="2356560"/>
              <a:ext cx="2160" cy="4294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41" name="14 Conector recto de flecha"/>
            <p:cNvCxnSpPr/>
            <p:nvPr/>
          </p:nvCxnSpPr>
          <p:spPr>
            <a:xfrm flipH="1">
              <a:off x="3213360" y="2786760"/>
              <a:ext cx="2160" cy="1144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42" name="15 CuadroTexto"/>
            <p:cNvSpPr/>
            <p:nvPr/>
          </p:nvSpPr>
          <p:spPr>
            <a:xfrm>
              <a:off x="2928600" y="385812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Book"/>
                </a:rPr>
                <a:t>P = ?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443" name="16 CuadroTexto"/>
            <p:cNvSpPr/>
            <p:nvPr/>
          </p:nvSpPr>
          <p:spPr>
            <a:xfrm>
              <a:off x="1214280" y="2764080"/>
              <a:ext cx="35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Franklin Gothic Book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444" name="17 CuadroTexto"/>
          <p:cNvSpPr/>
          <p:nvPr/>
        </p:nvSpPr>
        <p:spPr>
          <a:xfrm>
            <a:off x="1357200" y="4714920"/>
            <a:ext cx="6357960" cy="825480"/>
          </a:xfrm>
          <a:prstGeom prst="pie">
            <a:avLst/>
          </a:prstGeom>
          <a:solidFill>
            <a:srgbClr val="ffffff"/>
          </a:solidFill>
          <a:ln w="28440">
            <a:solidFill>
              <a:srgbClr val="a195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Franklin Gothic Book"/>
              </a:rPr>
              <a:t>VP = 42.000$ (P/A,12%,20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Franklin Gothic Book"/>
              </a:rPr>
              <a:t>VP= 42.000$ (7,4694)= 313.714,8$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4 Redondear rectángulo de esquina del mismo lado" descr=""/>
          <p:cNvPicPr/>
          <p:nvPr/>
        </p:nvPicPr>
        <p:blipFill>
          <a:blip r:embed="rId1"/>
          <a:stretch/>
        </p:blipFill>
        <p:spPr>
          <a:xfrm>
            <a:off x="60480" y="152280"/>
            <a:ext cx="9070920" cy="6784920"/>
          </a:xfrm>
          <a:prstGeom prst="rect">
            <a:avLst/>
          </a:prstGeom>
          <a:ln w="0">
            <a:noFill/>
          </a:ln>
        </p:spPr>
      </p:pic>
      <p:pic>
        <p:nvPicPr>
          <p:cNvPr id="446" name="6 Redondear rectángulo de esquina del mismo lado" descr=""/>
          <p:cNvPicPr/>
          <p:nvPr/>
        </p:nvPicPr>
        <p:blipFill>
          <a:blip r:embed="rId2"/>
          <a:stretch/>
        </p:blipFill>
        <p:spPr>
          <a:xfrm>
            <a:off x="536400" y="1517760"/>
            <a:ext cx="8114040" cy="5108400"/>
          </a:xfrm>
          <a:prstGeom prst="rect">
            <a:avLst/>
          </a:prstGeom>
          <a:ln w="0">
            <a:noFill/>
          </a:ln>
        </p:spPr>
      </p:pic>
      <p:pic>
        <p:nvPicPr>
          <p:cNvPr id="447" name="9 CuadroTexto" descr=""/>
          <p:cNvPicPr/>
          <p:nvPr/>
        </p:nvPicPr>
        <p:blipFill>
          <a:blip r:embed="rId3"/>
          <a:stretch/>
        </p:blipFill>
        <p:spPr>
          <a:xfrm>
            <a:off x="420840" y="457200"/>
            <a:ext cx="8412120" cy="1212840"/>
          </a:xfrm>
          <a:prstGeom prst="rect">
            <a:avLst/>
          </a:prstGeom>
          <a:ln w="0">
            <a:noFill/>
          </a:ln>
        </p:spPr>
      </p:pic>
      <p:grpSp>
        <p:nvGrpSpPr>
          <p:cNvPr id="448" name="33 Grupo"/>
          <p:cNvGrpSpPr/>
          <p:nvPr/>
        </p:nvGrpSpPr>
        <p:grpSpPr>
          <a:xfrm>
            <a:off x="2928960" y="2286000"/>
            <a:ext cx="3786120" cy="1583280"/>
            <a:chOff x="2928960" y="2286000"/>
            <a:chExt cx="3786120" cy="1583280"/>
          </a:xfrm>
        </p:grpSpPr>
        <p:cxnSp>
          <p:nvCxnSpPr>
            <p:cNvPr id="449" name="11 Conector recto de flecha"/>
            <p:cNvCxnSpPr/>
            <p:nvPr/>
          </p:nvCxnSpPr>
          <p:spPr>
            <a:xfrm flipH="1">
              <a:off x="3499920" y="2787120"/>
              <a:ext cx="2160" cy="286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50" name="12 Conector recto de flecha"/>
            <p:cNvCxnSpPr/>
            <p:nvPr/>
          </p:nvCxnSpPr>
          <p:spPr>
            <a:xfrm flipH="1">
              <a:off x="5214600" y="2786040"/>
              <a:ext cx="2160" cy="286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51" name="13 Conector recto"/>
            <p:cNvSpPr/>
            <p:nvPr/>
          </p:nvSpPr>
          <p:spPr>
            <a:xfrm>
              <a:off x="3500280" y="3072240"/>
              <a:ext cx="17143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452" name="14 CuadroTexto"/>
            <p:cNvSpPr/>
            <p:nvPr/>
          </p:nvSpPr>
          <p:spPr>
            <a:xfrm>
              <a:off x="2928960" y="2764080"/>
              <a:ext cx="35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Franklin Gothic Book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453" name="15 CuadroTexto"/>
            <p:cNvSpPr/>
            <p:nvPr/>
          </p:nvSpPr>
          <p:spPr>
            <a:xfrm>
              <a:off x="3357360" y="2478240"/>
              <a:ext cx="35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Franklin Gothic Book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454" name="16 CuadroTexto"/>
            <p:cNvSpPr/>
            <p:nvPr/>
          </p:nvSpPr>
          <p:spPr>
            <a:xfrm>
              <a:off x="5000760" y="2286000"/>
              <a:ext cx="4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Franklin Gothic Book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455" name="17 CuadroTexto"/>
            <p:cNvSpPr/>
            <p:nvPr/>
          </p:nvSpPr>
          <p:spPr>
            <a:xfrm>
              <a:off x="4000320" y="2774160"/>
              <a:ext cx="78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Book"/>
                </a:rPr>
                <a:t>i=9%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456" name="26 Conector recto"/>
            <p:cNvSpPr/>
            <p:nvPr/>
          </p:nvSpPr>
          <p:spPr>
            <a:xfrm>
              <a:off x="3071520" y="2786040"/>
              <a:ext cx="21430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457" name="29 CuadroTexto"/>
            <p:cNvSpPr/>
            <p:nvPr/>
          </p:nvSpPr>
          <p:spPr>
            <a:xfrm>
              <a:off x="4000320" y="3000600"/>
              <a:ext cx="107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Book"/>
                </a:rPr>
                <a:t>A = ?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cxnSp>
          <p:nvCxnSpPr>
            <p:cNvPr id="458" name="30 Conector recto de flecha"/>
            <p:cNvCxnSpPr/>
            <p:nvPr/>
          </p:nvCxnSpPr>
          <p:spPr>
            <a:xfrm flipH="1">
              <a:off x="5214600" y="2786040"/>
              <a:ext cx="2160" cy="786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59" name="32 CuadroTexto"/>
            <p:cNvSpPr/>
            <p:nvPr/>
          </p:nvSpPr>
          <p:spPr>
            <a:xfrm>
              <a:off x="4857840" y="3501000"/>
              <a:ext cx="18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Book"/>
                </a:rPr>
                <a:t>F = 313.714,8$ 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460" name="34 CuadroTexto"/>
          <p:cNvSpPr/>
          <p:nvPr/>
        </p:nvSpPr>
        <p:spPr>
          <a:xfrm>
            <a:off x="1357200" y="4714920"/>
            <a:ext cx="6357960" cy="825480"/>
          </a:xfrm>
          <a:prstGeom prst="pie">
            <a:avLst/>
          </a:prstGeom>
          <a:solidFill>
            <a:srgbClr val="c17529"/>
          </a:solidFill>
          <a:ln w="28440">
            <a:solidFill>
              <a:srgbClr val="a195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Franklin Gothic Book"/>
              </a:rPr>
              <a:t>VP = 313.714,8$ (A/F,9%,12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Franklin Gothic Book"/>
              </a:rPr>
              <a:t>VP= 313.714,8$ (0,04965)= 15.575,93$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4 Redondear rectángulo de esquina del mismo lado" descr=""/>
          <p:cNvPicPr/>
          <p:nvPr/>
        </p:nvPicPr>
        <p:blipFill>
          <a:blip r:embed="rId1"/>
          <a:stretch/>
        </p:blipFill>
        <p:spPr>
          <a:xfrm>
            <a:off x="60480" y="512640"/>
            <a:ext cx="9070920" cy="6424560"/>
          </a:xfrm>
          <a:prstGeom prst="rect">
            <a:avLst/>
          </a:prstGeom>
          <a:ln w="0">
            <a:noFill/>
          </a:ln>
        </p:spPr>
      </p:pic>
      <p:pic>
        <p:nvPicPr>
          <p:cNvPr id="462" name="6 Redondear rectángulo de esquina del mismo lado" descr=""/>
          <p:cNvPicPr/>
          <p:nvPr/>
        </p:nvPicPr>
        <p:blipFill>
          <a:blip r:embed="rId2"/>
          <a:stretch/>
        </p:blipFill>
        <p:spPr>
          <a:xfrm>
            <a:off x="536400" y="1731960"/>
            <a:ext cx="8114040" cy="4894200"/>
          </a:xfrm>
          <a:prstGeom prst="rect">
            <a:avLst/>
          </a:prstGeom>
          <a:ln w="0">
            <a:noFill/>
          </a:ln>
        </p:spPr>
      </p:pic>
      <p:pic>
        <p:nvPicPr>
          <p:cNvPr id="463" name="8 CuadroTexto" descr=""/>
          <p:cNvPicPr/>
          <p:nvPr/>
        </p:nvPicPr>
        <p:blipFill>
          <a:blip r:embed="rId3"/>
          <a:stretch/>
        </p:blipFill>
        <p:spPr>
          <a:xfrm>
            <a:off x="927000" y="1938240"/>
            <a:ext cx="7431120" cy="646200"/>
          </a:xfrm>
          <a:prstGeom prst="rect">
            <a:avLst/>
          </a:prstGeom>
          <a:ln w="0">
            <a:noFill/>
          </a:ln>
        </p:spPr>
      </p:pic>
      <p:pic>
        <p:nvPicPr>
          <p:cNvPr id="464" name="9 CuadroTexto" descr=""/>
          <p:cNvPicPr/>
          <p:nvPr/>
        </p:nvPicPr>
        <p:blipFill>
          <a:blip r:embed="rId4"/>
          <a:stretch/>
        </p:blipFill>
        <p:spPr>
          <a:xfrm>
            <a:off x="506520" y="811080"/>
            <a:ext cx="8107200" cy="944640"/>
          </a:xfrm>
          <a:prstGeom prst="rect">
            <a:avLst/>
          </a:prstGeom>
          <a:ln w="0">
            <a:noFill/>
          </a:ln>
        </p:spPr>
      </p:pic>
      <p:pic>
        <p:nvPicPr>
          <p:cNvPr id="465" name="10 CuadroTexto" descr=""/>
          <p:cNvPicPr/>
          <p:nvPr/>
        </p:nvPicPr>
        <p:blipFill>
          <a:blip r:embed="rId5"/>
          <a:stretch/>
        </p:blipFill>
        <p:spPr>
          <a:xfrm>
            <a:off x="927000" y="4711680"/>
            <a:ext cx="7504200" cy="682560"/>
          </a:xfrm>
          <a:prstGeom prst="rect">
            <a:avLst/>
          </a:prstGeom>
          <a:ln w="0">
            <a:noFill/>
          </a:ln>
        </p:spPr>
      </p:pic>
      <p:grpSp>
        <p:nvGrpSpPr>
          <p:cNvPr id="466" name="24 Grupo"/>
          <p:cNvGrpSpPr/>
          <p:nvPr/>
        </p:nvGrpSpPr>
        <p:grpSpPr>
          <a:xfrm>
            <a:off x="2928960" y="2428920"/>
            <a:ext cx="5000760" cy="1959120"/>
            <a:chOff x="2928960" y="2428920"/>
            <a:chExt cx="5000760" cy="1959120"/>
          </a:xfrm>
        </p:grpSpPr>
        <p:cxnSp>
          <p:nvCxnSpPr>
            <p:cNvPr id="467" name="12 Conector recto de flecha"/>
            <p:cNvCxnSpPr/>
            <p:nvPr/>
          </p:nvCxnSpPr>
          <p:spPr>
            <a:xfrm flipH="1">
              <a:off x="3682800" y="2908800"/>
              <a:ext cx="2520" cy="4453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  <a:tailEnd len="med" type="arrow" w="med"/>
            </a:ln>
          </p:spPr>
        </p:cxnSp>
        <p:cxnSp>
          <p:nvCxnSpPr>
            <p:cNvPr id="468" name="13 Conector recto de flecha"/>
            <p:cNvCxnSpPr/>
            <p:nvPr/>
          </p:nvCxnSpPr>
          <p:spPr>
            <a:xfrm flipH="1">
              <a:off x="5947560" y="2907360"/>
              <a:ext cx="2520" cy="4453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  <a:tailEnd len="med" type="arrow" w="med"/>
            </a:ln>
          </p:spPr>
        </p:cxnSp>
        <p:sp>
          <p:nvSpPr>
            <p:cNvPr id="469" name="14 Conector recto"/>
            <p:cNvSpPr/>
            <p:nvPr/>
          </p:nvSpPr>
          <p:spPr>
            <a:xfrm>
              <a:off x="3683520" y="3352680"/>
              <a:ext cx="2264400" cy="2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470" name="15 CuadroTexto"/>
            <p:cNvSpPr/>
            <p:nvPr/>
          </p:nvSpPr>
          <p:spPr>
            <a:xfrm>
              <a:off x="2928960" y="2873520"/>
              <a:ext cx="4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Franklin Gothic Book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471" name="16 CuadroTexto"/>
            <p:cNvSpPr/>
            <p:nvPr/>
          </p:nvSpPr>
          <p:spPr>
            <a:xfrm>
              <a:off x="3494880" y="2428920"/>
              <a:ext cx="4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Franklin Gothic Book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472" name="17 CuadroTexto"/>
            <p:cNvSpPr/>
            <p:nvPr/>
          </p:nvSpPr>
          <p:spPr>
            <a:xfrm>
              <a:off x="5665320" y="2428920"/>
              <a:ext cx="56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Franklin Gothic Book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473" name="18 CuadroTexto"/>
            <p:cNvSpPr/>
            <p:nvPr/>
          </p:nvSpPr>
          <p:spPr>
            <a:xfrm>
              <a:off x="4344120" y="2889000"/>
              <a:ext cx="103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Franklin Gothic Book"/>
                </a:rPr>
                <a:t>i=10%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474" name="19 Conector recto"/>
            <p:cNvSpPr/>
            <p:nvPr/>
          </p:nvSpPr>
          <p:spPr>
            <a:xfrm>
              <a:off x="3117600" y="2907720"/>
              <a:ext cx="2830680" cy="2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475" name="20 CuadroTexto"/>
            <p:cNvSpPr/>
            <p:nvPr/>
          </p:nvSpPr>
          <p:spPr>
            <a:xfrm>
              <a:off x="4344120" y="335448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Franklin Gothic Book"/>
                </a:rPr>
                <a:t>A = ?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cxnSp>
          <p:nvCxnSpPr>
            <p:cNvPr id="476" name="21 Conector recto de flecha"/>
            <p:cNvCxnSpPr/>
            <p:nvPr/>
          </p:nvCxnSpPr>
          <p:spPr>
            <a:xfrm flipH="1">
              <a:off x="5947560" y="2907360"/>
              <a:ext cx="2520" cy="12236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  <a:tailEnd len="med" type="arrow" w="med"/>
            </a:ln>
          </p:spPr>
        </p:cxnSp>
        <p:sp>
          <p:nvSpPr>
            <p:cNvPr id="477" name="22 CuadroTexto"/>
            <p:cNvSpPr/>
            <p:nvPr/>
          </p:nvSpPr>
          <p:spPr>
            <a:xfrm>
              <a:off x="5476680" y="4019760"/>
              <a:ext cx="245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Book"/>
                </a:rPr>
                <a:t>F = 313.714,8$ 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478" name="23 CuadroTexto"/>
          <p:cNvSpPr/>
          <p:nvPr/>
        </p:nvSpPr>
        <p:spPr>
          <a:xfrm>
            <a:off x="1357200" y="4714920"/>
            <a:ext cx="6357960" cy="825480"/>
          </a:xfrm>
          <a:prstGeom prst="pie">
            <a:avLst/>
          </a:prstGeom>
          <a:solidFill>
            <a:srgbClr val="00b0f0"/>
          </a:solidFill>
          <a:ln w="28440">
            <a:solidFill>
              <a:srgbClr val="a195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Franklin Gothic Book"/>
              </a:rPr>
              <a:t>VP = 313.714,8$ (A/F,10%,12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Franklin Gothic Book"/>
              </a:rPr>
              <a:t>VP= 313.714,8$ (0,06275)= 19.685,60$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1 Diagrama" descr=""/>
          <p:cNvPicPr/>
          <p:nvPr/>
        </p:nvPicPr>
        <p:blipFill>
          <a:blip r:embed="rId1"/>
          <a:stretch/>
        </p:blipFill>
        <p:spPr>
          <a:xfrm>
            <a:off x="255600" y="371520"/>
            <a:ext cx="8755200" cy="7419960"/>
          </a:xfrm>
          <a:prstGeom prst="rect">
            <a:avLst/>
          </a:prstGeom>
          <a:ln w="0">
            <a:noFill/>
          </a:ln>
        </p:spPr>
      </p:pic>
      <p:pic>
        <p:nvPicPr>
          <p:cNvPr id="480" name="3 CuadroTexto" descr=""/>
          <p:cNvPicPr/>
          <p:nvPr/>
        </p:nvPicPr>
        <p:blipFill>
          <a:blip r:embed="rId2"/>
          <a:stretch/>
        </p:blipFill>
        <p:spPr>
          <a:xfrm>
            <a:off x="219240" y="457200"/>
            <a:ext cx="8808840" cy="1212840"/>
          </a:xfrm>
          <a:prstGeom prst="rect">
            <a:avLst/>
          </a:prstGeom>
          <a:ln w="0">
            <a:noFill/>
          </a:ln>
        </p:spPr>
      </p:pic>
      <p:grpSp>
        <p:nvGrpSpPr>
          <p:cNvPr id="481" name="4 Grupo"/>
          <p:cNvGrpSpPr/>
          <p:nvPr/>
        </p:nvGrpSpPr>
        <p:grpSpPr>
          <a:xfrm>
            <a:off x="1214280" y="2000160"/>
            <a:ext cx="6500880" cy="2226240"/>
            <a:chOff x="1214280" y="2000160"/>
            <a:chExt cx="6500880" cy="2226240"/>
          </a:xfrm>
        </p:grpSpPr>
        <p:sp>
          <p:nvSpPr>
            <p:cNvPr id="482" name="5 Conector recto"/>
            <p:cNvSpPr/>
            <p:nvPr/>
          </p:nvSpPr>
          <p:spPr>
            <a:xfrm>
              <a:off x="1356840" y="2786040"/>
              <a:ext cx="57153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cxnSp>
          <p:nvCxnSpPr>
            <p:cNvPr id="483" name="6 Conector recto de flecha"/>
            <p:cNvCxnSpPr/>
            <p:nvPr/>
          </p:nvCxnSpPr>
          <p:spPr>
            <a:xfrm flipV="1">
              <a:off x="3713760" y="2357280"/>
              <a:ext cx="2160" cy="4294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84" name="7 Conector recto"/>
            <p:cNvSpPr/>
            <p:nvPr/>
          </p:nvSpPr>
          <p:spPr>
            <a:xfrm>
              <a:off x="3714480" y="2357280"/>
              <a:ext cx="33577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485" name="8 CuadroTexto"/>
            <p:cNvSpPr/>
            <p:nvPr/>
          </p:nvSpPr>
          <p:spPr>
            <a:xfrm>
              <a:off x="3571560" y="2764080"/>
              <a:ext cx="500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Franklin Gothic Book"/>
                </a:rPr>
                <a:t>13</a:t>
              </a:r>
              <a:endParaRPr b="0" lang="en-US" sz="14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486" name="9 CuadroTexto"/>
            <p:cNvSpPr/>
            <p:nvPr/>
          </p:nvSpPr>
          <p:spPr>
            <a:xfrm>
              <a:off x="6858000" y="2786040"/>
              <a:ext cx="500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Franklin Gothic Book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487" name="10 CuadroTexto"/>
            <p:cNvSpPr/>
            <p:nvPr/>
          </p:nvSpPr>
          <p:spPr>
            <a:xfrm>
              <a:off x="4857480" y="2357280"/>
              <a:ext cx="107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Book"/>
                </a:rPr>
                <a:t>i=12%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488" name="11 CuadroTexto"/>
            <p:cNvSpPr/>
            <p:nvPr/>
          </p:nvSpPr>
          <p:spPr>
            <a:xfrm>
              <a:off x="4786200" y="2000160"/>
              <a:ext cx="292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Book"/>
                </a:rPr>
                <a:t>A = 42.000 $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cxnSp>
          <p:nvCxnSpPr>
            <p:cNvPr id="489" name="12 Conector recto de flecha"/>
            <p:cNvCxnSpPr/>
            <p:nvPr/>
          </p:nvCxnSpPr>
          <p:spPr>
            <a:xfrm flipV="1">
              <a:off x="7072200" y="2356560"/>
              <a:ext cx="2160" cy="4294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90" name="13 Conector recto de flecha"/>
            <p:cNvCxnSpPr/>
            <p:nvPr/>
          </p:nvCxnSpPr>
          <p:spPr>
            <a:xfrm flipH="1">
              <a:off x="3213360" y="2786760"/>
              <a:ext cx="2160" cy="1144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1" name="14 CuadroTexto"/>
            <p:cNvSpPr/>
            <p:nvPr/>
          </p:nvSpPr>
          <p:spPr>
            <a:xfrm>
              <a:off x="2928600" y="385812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Book"/>
                </a:rPr>
                <a:t>P = ?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492" name="15 CuadroTexto"/>
            <p:cNvSpPr/>
            <p:nvPr/>
          </p:nvSpPr>
          <p:spPr>
            <a:xfrm>
              <a:off x="1214280" y="2764080"/>
              <a:ext cx="35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Franklin Gothic Book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493" name="16 CuadroTexto"/>
          <p:cNvSpPr/>
          <p:nvPr/>
        </p:nvSpPr>
        <p:spPr>
          <a:xfrm>
            <a:off x="1143000" y="4357800"/>
            <a:ext cx="3786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Franklin Gothic Book"/>
              </a:rPr>
              <a:t>P = A/i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Franklin Gothic Book"/>
              </a:rPr>
              <a:t>P = (42.000$/0.12) = 350.000 $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Franklin Gothic Book"/>
              </a:rPr>
              <a:t>VA = 350.000(0,04965) = 17375,5$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1 CuadroTexto" descr=""/>
          <p:cNvPicPr/>
          <p:nvPr/>
        </p:nvPicPr>
        <p:blipFill>
          <a:blip r:embed="rId1"/>
          <a:stretch/>
        </p:blipFill>
        <p:spPr>
          <a:xfrm>
            <a:off x="1987560" y="2505240"/>
            <a:ext cx="480996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1 Recortar y redondear rectángulo de esquina sencilla"/>
          <p:cNvSpPr/>
          <p:nvPr/>
        </p:nvSpPr>
        <p:spPr>
          <a:xfrm>
            <a:off x="428760" y="1143000"/>
            <a:ext cx="8286480" cy="5572080"/>
          </a:xfrm>
          <a:custGeom>
            <a:avLst/>
            <a:gdLst/>
            <a:ahLst/>
            <a:rect l="l" t="t" r="r" b="b"/>
            <a:pathLst>
              <a:path w="8286776" h="5572164">
                <a:moveTo>
                  <a:pt x="928713" y="0"/>
                </a:moveTo>
                <a:lnTo>
                  <a:pt x="7358063" y="0"/>
                </a:lnTo>
                <a:lnTo>
                  <a:pt x="8286776" y="928713"/>
                </a:lnTo>
                <a:lnTo>
                  <a:pt x="8286776" y="5572164"/>
                </a:lnTo>
                <a:lnTo>
                  <a:pt x="0" y="5572164"/>
                </a:lnTo>
                <a:lnTo>
                  <a:pt x="0" y="928713"/>
                </a:lnTo>
                <a:cubicBezTo>
                  <a:pt x="0" y="415799"/>
                  <a:pt x="415799" y="0"/>
                  <a:pt x="928713" y="0"/>
                </a:cubicBez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6" name="2 CuadroTexto"/>
          <p:cNvSpPr/>
          <p:nvPr/>
        </p:nvSpPr>
        <p:spPr>
          <a:xfrm>
            <a:off x="642960" y="285840"/>
            <a:ext cx="8286840" cy="708120"/>
          </a:xfrm>
          <a:prstGeom prst="parallelogram">
            <a:avLst>
              <a:gd name="adj" fmla="val -21860"/>
            </a:avLst>
          </a:prstGeom>
          <a:solidFill>
            <a:srgbClr val="f6c782"/>
          </a:solidFill>
          <a:ln w="25560">
            <a:solidFill>
              <a:srgbClr val="8554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Franklin Gothic Book"/>
              </a:rPr>
              <a:t>Utilizando  la Calculadora de Bonos: suministrada en la Pagina web: http://www.smartmoney.com/investing/bonds/bond-calculator-7917/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7" name="3 CuadroTexto"/>
          <p:cNvSpPr/>
          <p:nvPr/>
        </p:nvSpPr>
        <p:spPr>
          <a:xfrm>
            <a:off x="1071720" y="1500120"/>
            <a:ext cx="7000560" cy="46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Book"/>
              </a:rPr>
              <a:t>Calcule el rendimiento al vencimiento (YTM) de un bono cuya tasa de cupón es de 7,5%, con fecha de Vencimiento del 31 de Julio de 2030 y que usted compro a 95$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Book"/>
              </a:rPr>
              <a:t>¿Cuál seria el YTM del bono anterior si lo hubiera comprado a 105? ¿A 100?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Franklin Gothic Book"/>
              </a:rPr>
              <a:t>Cambie el cuadro de %  de rendimiento a 8,5 ¿Cuál seria el precio de ese Bono?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Book"/>
              </a:rPr>
              <a:t>Cambie el cuadro de %  de rendimiento a 9,5 ¿Cuál seria el precio de ese Bono?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Book"/>
              </a:rPr>
              <a:t>Cambie la fecha de vencimiento a 2009 y restablezca el % de rendimiento a 6,5. ¿Cuál es el precio de ese bono?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6T19:17:44Z</dcterms:created>
  <dc:creator>GRUPO</dc:creator>
  <dc:description/>
  <cp:keywords>INGENIERÍA FINANCIERA</cp:keywords>
  <dc:language>en-US</dc:language>
  <cp:lastModifiedBy>Ivan Turmero</cp:lastModifiedBy>
  <dcterms:modified xsi:type="dcterms:W3CDTF">2016-08-09T02:08:22Z</dcterms:modified>
  <cp:revision>27</cp:revision>
  <dc:subject/>
  <dc:title>Diapositiva 1</dc:title>
</cp:coreProperties>
</file>