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59D0D-A80A-4FBC-B0FA-AD64835E5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4AF9-C66B-46D6-8EAE-797F481A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8A4C8-0402-4876-B783-7FF70D78E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4BB6C-A2E1-4D3E-983D-5003409AE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09C7A-DB75-4D65-879F-F79A2145D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12EAC-B628-48BE-AC15-0FCBE2CCE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F778-D550-4385-9CAE-1C0FCB988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BC0D5-006E-4AF3-A009-149ACFC0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97D9-2792-413F-A398-909229F7B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2D72A-0FB8-4532-8FBB-D03D9F3E3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EC9DB-497A-4C93-9B90-28666E344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58AF-C4B9-4F65-90D2-447C09FC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9B7D-979A-448E-A0D0-DF56953B4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7B26-397B-4FDA-B393-1D36388F5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3CEBE-730E-447B-98A2-4A552E8F3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D32F6-8EC5-46B9-A50C-0887A851F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2DE3E-CCD8-4838-8362-36A77E1FE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0A4D-90C8-4788-9C03-39150E98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0434-568E-42DF-BDEE-1A57BD30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ECF6-D34F-4749-89EA-B8A53ACC7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60EF-B5A4-4718-8047-60BA5C154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5A91-EBDE-4ABA-A766-FDE31B63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F2A3-779E-4425-827B-F56D5CC64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8BFD-7E98-49A2-916B-56523F8EE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BA4A-8E07-4EF2-B33E-906F60BC83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5155-476D-40A9-8979-44C05E87254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4454640" y="54756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Rectangle 10"/>
          <p:cNvSpPr/>
          <p:nvPr/>
        </p:nvSpPr>
        <p:spPr>
          <a:xfrm>
            <a:off x="1116000" y="189000"/>
            <a:ext cx="6912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Universidad Nacional Experimental Politécnic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t>
            </a:r>
            <a:r>
              <a:rPr b="1" lang="es-ES" sz="1800" spc="-1" strike="noStrike">
                <a:solidFill>
                  <a:srgbClr val="ffffff"/>
                </a:solidFill>
                <a:latin typeface="Times New Roman"/>
              </a:rPr>
              <a:t>Antonio José de Suc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Vice-Rectorado Puerto Ordaz</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partamento de Ingeniería Industri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eniería Financiera</a:t>
            </a:r>
            <a:endParaRPr b="0" lang="en-US" sz="1800" spc="-1" strike="noStrike">
              <a:solidFill>
                <a:srgbClr val="ffffff"/>
              </a:solidFill>
              <a:latin typeface="Times New Roman"/>
            </a:endParaRPr>
          </a:p>
        </p:txBody>
      </p:sp>
      <p:sp>
        <p:nvSpPr>
          <p:cNvPr id="91" name="Rectangle 11"/>
          <p:cNvSpPr/>
          <p:nvPr/>
        </p:nvSpPr>
        <p:spPr>
          <a:xfrm>
            <a:off x="934920" y="2564280"/>
            <a:ext cx="7237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rPr>
              <a:t>VISIÓN DE LA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rPr>
              <a:t>FINANZAS CORPORATIVAS</a:t>
            </a:r>
            <a:r>
              <a:rPr b="1" lang="es-E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sp>
        <p:nvSpPr>
          <p:cNvPr id="92" name="Rectangle 12"/>
          <p:cNvSpPr/>
          <p:nvPr/>
        </p:nvSpPr>
        <p:spPr>
          <a:xfrm>
            <a:off x="1547640" y="4520520"/>
            <a:ext cx="727236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u="sng">
                <a:solidFill>
                  <a:srgbClr val="ffffff"/>
                </a:solidFill>
                <a:uFillTx/>
                <a:latin typeface="Times New Roman"/>
              </a:rPr>
              <a:t>Integrantes</a:t>
            </a:r>
            <a:r>
              <a:rPr b="1" lang="es-ES" sz="1800" spc="-1" strike="noStrike">
                <a:solidFill>
                  <a:srgbClr val="ffffff"/>
                </a:solidFill>
                <a:latin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Lozada Yessik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Mariela Lun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Cristian Rodríguez</a:t>
            </a:r>
            <a:endParaRPr b="0" lang="en-US" sz="1800" spc="-1" strike="noStrike">
              <a:solidFill>
                <a:srgbClr val="ffffff"/>
              </a:solidFill>
              <a:latin typeface="Times New Roman"/>
            </a:endParaRPr>
          </a:p>
        </p:txBody>
      </p:sp>
      <p:sp>
        <p:nvSpPr>
          <p:cNvPr id="93" name="Rectangle 13"/>
          <p:cNvSpPr/>
          <p:nvPr/>
        </p:nvSpPr>
        <p:spPr>
          <a:xfrm>
            <a:off x="250920" y="4085640"/>
            <a:ext cx="280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Profeso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ng. Andrés Blanco</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4" name="Text Box 7"/>
          <p:cNvSpPr/>
          <p:nvPr/>
        </p:nvSpPr>
        <p:spPr>
          <a:xfrm>
            <a:off x="1763640" y="6086520"/>
            <a:ext cx="604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CIUDAD GUAYANA, OCTUBRE DE 2009</a:t>
            </a:r>
            <a:endParaRPr b="0" lang="en-US" sz="1800" spc="-1" strike="noStrike">
              <a:solidFill>
                <a:srgbClr val="ffffff"/>
              </a:solidFill>
              <a:latin typeface="Times New Roman"/>
            </a:endParaRPr>
          </a:p>
        </p:txBody>
      </p:sp>
      <p:sp>
        <p:nvSpPr>
          <p:cNvPr id="95" name="WordArt 5"/>
          <p:cNvSpPr txBox="1"/>
          <p:nvPr/>
        </p:nvSpPr>
        <p:spPr>
          <a:xfrm rot="5400000">
            <a:off x="1041480" y="98172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Arial Black"/>
              </a:rPr>
              <a:t>UNEXPO</a:t>
            </a:r>
            <a:endParaRPr b="0" lang="en-US" sz="1000" spc="1" strike="noStrike">
              <a:ln w="0">
                <a:noFill/>
              </a:ln>
              <a:solidFill>
                <a:srgbClr val="ffffff"/>
              </a:solidFill>
              <a:latin typeface="Arial Black"/>
              <a:ea typeface="Arial Black"/>
            </a:endParaRPr>
          </a:p>
        </p:txBody>
      </p:sp>
      <p:pic>
        <p:nvPicPr>
          <p:cNvPr id="96" name="Picture 6" descr=""/>
          <p:cNvPicPr/>
          <p:nvPr/>
        </p:nvPicPr>
        <p:blipFill>
          <a:blip r:embed="rId1"/>
          <a:stretch/>
        </p:blipFill>
        <p:spPr>
          <a:xfrm>
            <a:off x="250920" y="333360"/>
            <a:ext cx="1368360" cy="13460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La reconciliación de ambas posturas:</a:t>
            </a:r>
            <a:r>
              <a:rPr b="0" lang="es-ES" sz="1600" spc="-1" strike="noStrike">
                <a:solidFill>
                  <a:srgbClr val="ffffff"/>
                </a:solidFill>
                <a:latin typeface="Arial"/>
              </a:rPr>
              <a:t> </a:t>
            </a:r>
            <a:r>
              <a:rPr b="0" lang="es-ES" sz="1800" spc="-1" strike="noStrike">
                <a:solidFill>
                  <a:srgbClr val="ffffff"/>
                </a:solidFill>
                <a:latin typeface="Arial"/>
              </a:rPr>
              <a:t>Es importante explicar claramente por qué el objetivo consistente en crear el máximo valor posible para los accionistas es el idóneo tanto desde el punto de vista empresarial como del social. La idea subyacente es que los accionistas ordinarios son los últimos en recibir dinero de la empresa, por ello se dice que sus derechos son residuales; de tal manera que antes de que ellos reciban cantidad alguna deben haber recibido lo que les corresponde: los clientes, los proveedores, los empleados de la empresa, el estado, los acreedores y los accionistas preferentes. Es entonces y sólo entonces cuando lo que queda va a manos de los accionistas (vía dividendos, reinversión de beneficios retenidos, o recompra de acciones). Por tanto, si las decisiones empresariales van dirigidas a hacer que el dinero sobrante para los accionistas sea el mayor posible, sin perjudicar a ninguno de los que ocupan un lugar precedente en la cola, esas decisiones crearán valor y, en caso contrario, lo destruirán. </a:t>
            </a:r>
            <a:endParaRPr b="1"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videntemente, se supone que todos los pagos a aquéllos que preceden a los accionistas ordinarios son el resultado de una negociación óptima y que todos consideran que reciben en justicia lo que les corresponde, porque si no surgirá un conflicto que dañará la creación de valor. En cualquier caso no debe confundirse este objetivo con el de la maximización del beneficio por acción porque éste concepto no tiene en cuenta ni el vencimiento de los flujos de caja, que se espera surjan en el futuro, ni la totalidad de los riesgos a los que se enfrenta la empresa y que afectan a dichos flujos de caja esperados (dichos riesgos se resumen en la tasa de rendimiento mínima requerida por los inversores). Dicho de otra forma, el beneficio por acción refleja el pasado inmediato, mientras que el precio de mercado refleja el futuro esperado.</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La meta de la administración financiera</a:t>
            </a:r>
            <a:r>
              <a:rPr b="0" lang="es-ES" sz="2000" spc="-1" strike="noStrike">
                <a:solidFill>
                  <a:srgbClr val="ffffff"/>
                </a:solidFill>
                <a:latin typeface="Arial"/>
              </a:rPr>
              <a:t> consiste en maximizar el valor de la empresa, con sujeción a las restricciones que imponen las responsabilidades que imponen las responsabilidades y compromisos existentes para con los participantes del negocio. Sin embargo, existen ciertos conflictos potenciales entre los propietarios de una empresa y sus acreedores. El valor de las acciones de la empresa proporciona un buen índice para medir el grado de eficacia del desempeño de una compañía. Es por esta razón que la meta de la empresa en cuanto a las finanzas generalmente se expresan en términos de la maximización del valor de las acciones de la empresa, en síntesis, la maximización del precio de las acciones.</a:t>
            </a:r>
            <a:endParaRPr b="1" lang="en-US" sz="20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aximización del valor de la empresa como meta de esta requiere de una perspectiva más amplia que la “maximización de las utilidades“. La maximización del valor toma en cuenta el valor del dinero a través del tiempo.  Primero, los fondos que se reciban este año pueden tener más valor que los fondos que pudieran recibirse después de 10 años contados a partir de hoy. Segundo, la maximización del valor considera el grado de riesgo de la corriente de ingresos. </a:t>
            </a:r>
            <a:r>
              <a:rPr b="0" i="1" lang="es-ES" sz="1800" spc="-1" strike="noStrike">
                <a:solidFill>
                  <a:srgbClr val="ffffff"/>
                </a:solidFill>
                <a:latin typeface="Arial"/>
              </a:rPr>
              <a:t>Por ejemplo</a:t>
            </a:r>
            <a:r>
              <a:rPr b="0" lang="es-ES" sz="1800" spc="-1" strike="noStrike">
                <a:solidFill>
                  <a:srgbClr val="ffffff"/>
                </a:solidFill>
                <a:latin typeface="Arial"/>
              </a:rPr>
              <a:t>, la tasa de rendimiento requerida sobre valores del gobierno libres de riesgos sería más baja que la tasa de rendimiento que se requeriría sobre una inversión para empezar un nuevo negocio.  Tercero, la “calidad“ y la programación de los flujos defectivos esperados en el futuro pueden variar. Las cifras de utilidades pueden variar ampliamente según las reglas contables y los convencionalismos que se utilicen. Sin embargo, existe una considerable evidencia en el sentido de que los mercados financieros pueden detectar las diferencias de los procedimientos contables que afectan a las “utilidades” y que incluso pueden percibir los determinantes fundamentales del valor. </a:t>
            </a:r>
            <a:endParaRPr b="1" lang="en-US" sz="1800" spc="-1" strike="noStrike">
              <a:solidFill>
                <a:srgbClr val="ffffff"/>
              </a:solidFill>
              <a:latin typeface="Arial"/>
            </a:endParaRPr>
          </a:p>
          <a:p>
            <a:pPr marL="32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 consiguiente, la maximización del valor es más amplia y más general que la maximización de las utilidades; además, esa idea conceptual unificadora que se usa normalmente.</a:t>
            </a:r>
            <a:endParaRPr b="1"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LAS FINANZAS COMO FUNCIÓN ORGANIZACIONAL DE LA EMPRESA.</a:t>
            </a:r>
            <a:endParaRPr b="0" lang="en-US" sz="3200" spc="-1" strike="noStrike">
              <a:solidFill>
                <a:srgbClr val="cbcbcb"/>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función administrativa financiera de la empresa:</a:t>
            </a:r>
            <a:r>
              <a:rPr b="0" lang="es-ES" sz="2000" spc="-1" strike="noStrike">
                <a:solidFill>
                  <a:srgbClr val="ffffff"/>
                </a:solidFill>
                <a:latin typeface="Arial"/>
              </a:rPr>
              <a:t> depende del tamaño de la misma. En las compañías pequeñas, la función financiera es desempeñada en general por el departamento de contabilidad. Al crecer una empresa, la importancia de dicha función resulta en la necesidad de un departamento separado, ligado de manera directa al presidente de la compañía (o Director General) por medio de un Vicepresidente de Finanzas conocido como gerente financiero. Las tres formas legales fundamentales de la administración empresarial son la empresa de propiedad unipersonal (o persona  física), la sociedad (o colectiva) y la corporación.</a:t>
            </a:r>
            <a:endParaRPr b="1" lang="en-US" sz="20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LAS FINANZAS COMO FUNCIÓN ORGANIZACIONAL DE LA EMPRESA.</a:t>
            </a:r>
            <a:endParaRPr b="0" lang="en-US" sz="3200" spc="-1" strike="noStrike">
              <a:solidFill>
                <a:srgbClr val="cbcbcb"/>
              </a:solidFill>
              <a:latin typeface="Times New Roman"/>
            </a:endParaRPr>
          </a:p>
        </p:txBody>
      </p:sp>
      <p:sp>
        <p:nvSpPr>
          <p:cNvPr id="124"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Empresas de propiedad unipersonal:</a:t>
            </a:r>
            <a:r>
              <a:rPr b="0" lang="es-ES" sz="1800" spc="-1" strike="noStrike">
                <a:solidFill>
                  <a:srgbClr val="ffffff"/>
                </a:solidFill>
                <a:latin typeface="Arial"/>
              </a:rPr>
              <a:t> Es un negocio propiedad de un solo dueño, quien lo administra para su propio beneficio. Cerca del 75% de todos  los negocios son empresas de propiedad unipersonal. La típica empresa unipersonal es en pequeño negocio, como la tienda de abarrotes de la colonia, el taller mecánico o la reparadora de calzados. Normalmente el propietario, junto con unos pocos empleados, dirige la organización. Este suele obtener capital a partir de sus recursos personales o mediante préstamos, y es responsable de todas las decisiones de  negocios. La empresa de propiedad unipersonal tiene responsabilidades ilimitadas, lo cual significa que el total de los bienes de propietario, y no solo la cantidad invertida originalmente pueden utilizarse para satisfacer a los acreedores. La mayoría de las empresas de propiedad unipersonal están en las empresas de ventas al mayoreo o al menudeo, de prestación de servicios y de obras de construcción.</a:t>
            </a:r>
            <a:endParaRPr b="1"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LAS FINANZAS COMO FUNCIÓN ORGANIZACIONAL DE LA EMPRESA.</a:t>
            </a:r>
            <a:endParaRPr b="0" lang="en-US" sz="3200" spc="-1" strike="noStrike">
              <a:solidFill>
                <a:srgbClr val="cbcbcb"/>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Sociedades (o empresas colectivas):</a:t>
            </a:r>
            <a:r>
              <a:rPr b="0" lang="es-ES" sz="1800" spc="-1" strike="noStrike">
                <a:solidFill>
                  <a:srgbClr val="ffffff"/>
                </a:solidFill>
                <a:latin typeface="Arial"/>
              </a:rPr>
              <a:t> Una sociedad (o empresa colectiva) consta de dos o más propietarios que crean negocios conjuntos con el fin de obtener utilidades. Las sociedades, las cuales suman 10% de todos los negocios son más grandes que las empresas de propiedad unipersonal. Las empresas financieras, aseguradoras y de bienes raíces son los tipos más comunes de empresas colectivas. Los bufetes de contadores públicos y las empresas de corretaje suelen a menudo tener más socios. La mayor parte de las sociedades se organizan mediante un contrato escrito conocido como escritura constitutiva de sociedad.   En una sociedad en general (o regular) todos los socios tienen responsabilidad ilimitada. En una sociedad de responsabilidad limitada (O sociedad en comandita), uno o más de los socios pueden ser designados como  de responsabilidad limitada con la condición de que al menos uno de los socios tenga responsabilidad ilimitada. Por lo general, a un socio de responsabilidad limitada se le prohíbe participar en la administración de la empresa.</a:t>
            </a:r>
            <a:endParaRPr b="1"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LAS FINANZAS COMO FUNCIÓN ORGANIZACIONAL DE LA EMPRESA.</a:t>
            </a:r>
            <a:endParaRPr b="0" lang="en-US" sz="3200" spc="-1" strike="noStrike">
              <a:solidFill>
                <a:srgbClr val="cbcbcb"/>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Corporaciones (o sociedades anónimas):</a:t>
            </a:r>
            <a:r>
              <a:rPr b="0" lang="es-ES" sz="1000" spc="-1" strike="noStrike">
                <a:solidFill>
                  <a:srgbClr val="ffffff"/>
                </a:solidFill>
                <a:latin typeface="Arial"/>
              </a:rPr>
              <a:t> </a:t>
            </a:r>
            <a:r>
              <a:rPr b="0" lang="es-ES" sz="1600" spc="-1" strike="noStrike">
                <a:solidFill>
                  <a:srgbClr val="ffffff"/>
                </a:solidFill>
                <a:latin typeface="Arial"/>
              </a:rPr>
              <a:t>Una corporación es una entidad artificial que solo existe ante la ley, conocida con frecuencia como “ Entidad Legal “; esta posee las facultades de una persona en cuanto a que puede demandar y ser demandada, pactar y constituir contratos, y adquirir propiedades a su propio nombre.   Aunque solo 15% de todos los negocios se encuentran incorporados, la corporación es la forma dominante de organización empresarial. Es responsable del cerca del 90% de los ingresos empresariales y de 80% de las utilidades netas. Los principales componentes de una corporación son los accionistas, la junta directiva y el Presidente. Los accionistas son los dueños reales de la empresa, debido a su participación en acciones comunes y preferentes. Botan de manera periódica para elegir a los miembros de la junta directiva y hacer modificaciones a los estatutos de la empresa. La junta directiva es la autoridad Suprema responsable de la dirección de las operaciones de los negocios y ejecutivos de otras organizaciones importantes. El Presidente o Director General es el responsable de la administración cotidiana de las operaciones y de dar seguimiento a las políticas establecidas por la Junta. Se requiere que él entregue un reporte periódico a los directores de la empresa.</a:t>
            </a:r>
            <a:endParaRPr b="1" lang="en-US" sz="16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Administración Financiera:</a:t>
            </a:r>
            <a:r>
              <a:rPr b="0" lang="es-ES" sz="2000" spc="-1" strike="noStrike">
                <a:solidFill>
                  <a:srgbClr val="ffffff"/>
                </a:solidFill>
                <a:latin typeface="Arial"/>
              </a:rPr>
              <a:t> es el área de la administración que cuida de los recursos financieros de la empresa. Se centra en dos aspectos importantes de los recursos financieros: la rentabilidad y la liquidez. Esto significa que la administración financiera busca hacer que los recursos financieros sean lucrativos y líquidos al mismo tiempo. En realidad, estos son los dos objetivos principales de la administración financiera: el mejor rendimiento posible de la inversión (rentabilidad o lucro) y la rápida conversión en dinero (Liquidez). Con estos dos objetivos en mente se pueden definir adecuadamente la administración financiera.</a:t>
            </a:r>
            <a:endParaRPr b="1" lang="en-US" sz="2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La rentabilidad:</a:t>
            </a:r>
            <a:r>
              <a:rPr b="0" lang="es-ES" sz="1800" spc="-1" strike="noStrike">
                <a:solidFill>
                  <a:srgbClr val="ffffff"/>
                </a:solidFill>
                <a:latin typeface="Arial"/>
              </a:rPr>
              <a:t> se alcanza en la medida que los negocios proporcionan la maximización de los rendimientos de las inversiones realizadas por los propietarios o accionistas. No obstante la rentabilidad máxima puede comprometer la rentabilidad de la empresa, pues los rendimientos están sometidos a diferentes periodos. De ahí el conflicto entre máxima rentabilidad y máxima liquidez; no es posible conseguir la maximización de los dos objetivos al mismo tiempo. Como veremos más adelante la rentabilidad debe tener prioridad sobre la liquidez. Se debe aplicar buena parte de los fondos disponibles y mantener inactiva otra parte como protección o defensa contra riesgos al no conseguir pagar alguna deuda. Esos fondos inactivos no producen rendimientos a los inversionistas. Así la maximización de la rentabilidad y de la liquidez al mismo tiempo no es posible. En lugar de la maximización se busca la satisfacción. Uno de los principales desafíos de la administración financiera es mantener la rentabilidad y la liquidez de la empresa a nivel satisfactorio. Para alcanzar rentabilidad y liquidez, la administración financiera procura obtener recursos financieros del mercado y utilizar y aplicar los recursos financieros en su negocio o en actividades paralelas.</a:t>
            </a:r>
            <a:endParaRPr b="1"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dependientemente de cual sea el campo de especialización al que uno se dedique, deberá tenerse un conocimiento general de las tres áreas. Por ejemplo, un banquero que concede prestamos a los negocios no podrá hacer bien su trabajo si no cuenta con una buena comprensión de la administración financiera, puesto que deberá juzgar si la empresa esta bien o mal administrada. Aun los corredores deben conocer los principios financieros generales si quieren proporcionar una asesoría inteligente a sus clientes. Al mismo tiempo, los administradores financieros corporativos necesitan saber que piensan sus banqueros y como juzgaran los inversionistas el desempeño de sus corporaciones, a efectos de determinar los precios de sus acciones. Por lo tanto, si usted decide que las finanzas serán su carrera, necesitara saber algo acerca de las tres áreas. </a:t>
            </a:r>
            <a:endParaRPr b="1"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marco de la administración financiera se desempeñan actividades tan variadas como el presupuesto, pronóstico financiero, administración de efectivo, administración crediticia, análisis de inversiones y procuramiento de fondos. En años recientes, las cambiantes condiciones económicas y la regulación fiscal han incrementado la importancia, así como la complejidad de las tareas del administrador financiero. Como resultado, muchos de los grandes ejecutivos de las industrias y del gobierno provienen del área financiera. </a:t>
            </a:r>
            <a:endParaRPr b="1" lang="en-US" sz="2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400" spc="-1" strike="noStrike" u="sng">
                <a:solidFill>
                  <a:srgbClr val="ffffff"/>
                </a:solidFill>
                <a:uFillTx/>
                <a:latin typeface="Arial"/>
              </a:rPr>
              <a:t>En la empresa las áreas consideradas que la administración financiera debe atender son las siguientes:</a:t>
            </a:r>
            <a:endParaRPr b="1" lang="en-US" sz="24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álisis de los aspectos financieros de todas las decisione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cantidad de inversión que se requerirá para generar las ventas que la empresa espera realizar. Estas decisiones afectan al lado izquierdo del balance general (decisiones de inversión).</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forma de obtener los fondos y de proporcionar el financiamiento de los activos que requiere la empresa para elaborar los productos y servicios cuyas ventas generarán ingresos. Esta área representa las decisiones de financiamiento o las decisiones de estructura de capital de la empresa, por lo cual afecta el lado derecho del balance general.</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álisis de las cuentas específicas e individuales del balance general.</a:t>
            </a:r>
            <a:endParaRPr b="1"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álisis de las cuentas individuales del estado de resultados: ingresos y costos. En nuestro altamente condensado estado de resultados las ventas menos todos los costos son iguales al ingreso neto. Hay muchos tipos de costos, algunos implican grandes desembolsos anticipados sobre los costos asignados a las operaciones de años subsecuentes. Otros costos, tal como la materia prima que se usa para la elaboración de productos, aumentarán o disminuirán en forma directa a medida que el número de unidades producidas aumente o disminuya (costos directos o “variables“). Una responsabilidad básica de los funcionarios financieros consiste en controlar los costos con relación al valor producido, principalmente para que la empresa este en condiciones de asignar a sus productos un precio competitivo rentable.</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álisis de los flujos defectivos en operaciones de todo tipo. Este aspecto ha recibido un impulso incremental en años recientes, y ha dado lugar al surgimiento de un tercer estado financiero de naturaleza básica, el estado de flujo de efectivo, el cual puede deducirse a partir de los balances generales y de los estados de resultados.</a:t>
            </a:r>
            <a:endParaRPr b="1"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E IMPORTANCIA DE LA ADMINISTRACIÓN FINANCIERA.</a:t>
            </a:r>
            <a:endParaRPr b="0" lang="en-US" sz="3200" spc="-1" strike="noStrike">
              <a:solidFill>
                <a:srgbClr val="cbcbc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ocer los fundamentos científicos, técnicos, metodológicos e instrumentales, propios de las finanza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r las formas más provechosas y variadas de funcionamiento y medición del comportamiento financiero de la empresa.</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ormar, capacitar y actualizar al gerente financiero para planear, obtener y manejar con eficiencia los fondos de la empresa, adaptarse al cambio, replantear objetivos y renovar políticas empresariale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ocer el mercado de capitales y aplicar el adecuado análisis y pronóstico para identificar su desarrollo y perspectiva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man decisiones con relación a la expansión, tipos de valores que se deben emitir para financiar la expansión, deciden los términos de crédito sobre los cuales los clientes podrán hacer sus compras, la cantidad de inventarios que deberán mantener, el efectivo que debe estar disponible, análisis de fusiones, utilidades para reinvertir en lugar de pagarse como dividendos, etc.</a:t>
            </a:r>
            <a:endParaRPr b="1"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EL ROL DEL GERENTE FINANCIERO:</a:t>
            </a:r>
            <a:endParaRPr b="0" lang="en-US" sz="32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El Gerente financiero:</a:t>
            </a:r>
            <a:r>
              <a:rPr b="0" lang="es-ES" sz="1800" spc="-1" strike="noStrike">
                <a:solidFill>
                  <a:srgbClr val="ffffff"/>
                </a:solidFill>
                <a:latin typeface="Arial"/>
              </a:rPr>
              <a:t> es aquella persona que tiene como misión la captación y el destino de los recursos financieros en las mejores condiciones posibles para conseguir crear el máximo valor de la empresa. La capacidad del gerente financiero para adaptarse al cambio y la eficiencia con que planifique la utilización de los recursos financieros requeridos por la empresa, así como, la capacidad de identificar la adecuada asignación de esos recursos y su obtención, son aspectos que influyen no sólo en el éxito de la compañía sino, también, en el de la economía nacional. El gerente financiero, a través de una asignación óptima de los recursos, contribuye al fortalecimiento de su empresa, y a la vitalidad y crecimiento de toda la economía. Y ya que hablamos de economía no conviene perder de vista que el directivo financiero debe comprender el entramado económico en el que se mueve su empresa y mantenerse alerta sobre los cambios que puedan producirse tanto en la actividad económica como en la política económica. Por ello deberá conocer las teorías económicas para poder utilizarlas a la hora de gestionar su negocio de una forma eficiente. El principio económico básico utilizado en la dirección financiera es el análisis marginal, esto es, las decisiones de inversión-financiación deberán tomarse y llevarse a cabo cuando los ingresos marginales esperados superen a los costes marginales.</a:t>
            </a:r>
            <a:endParaRPr b="1"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EL ROL DEL GERENTE FINANCIERO:</a:t>
            </a:r>
            <a:endParaRPr b="0" lang="en-US" sz="3200" spc="-1" strike="noStrike">
              <a:solidFill>
                <a:srgbClr val="cbcbcb"/>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u="sng">
                <a:solidFill>
                  <a:srgbClr val="ffffff"/>
                </a:solidFill>
                <a:uFillTx/>
                <a:latin typeface="Arial"/>
              </a:rPr>
              <a:t>Resumiendo todo lo anterior, podemos decir que el papel que tiene que desempeñare el gerente financiero consta de cinco funciones dinámicas:</a:t>
            </a:r>
            <a:endParaRPr b="1" lang="en-US" sz="2400" spc="-1" strike="noStrike">
              <a:solidFill>
                <a:srgbClr val="ffffff"/>
              </a:solidFill>
              <a:latin typeface="Arial"/>
            </a:endParaRPr>
          </a:p>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revisión y la planificación financiera.</a:t>
            </a:r>
            <a:endParaRPr b="1" lang="en-US" sz="2000" spc="-1" strike="noStrike">
              <a:solidFill>
                <a:srgbClr val="ffffff"/>
              </a:solidFill>
              <a:latin typeface="Arial"/>
            </a:endParaRPr>
          </a:p>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El empleo del dinero en proyectos de inversión.</a:t>
            </a:r>
            <a:endParaRPr b="1" lang="en-US" sz="2000" spc="-1" strike="noStrike">
              <a:solidFill>
                <a:srgbClr val="ffffff"/>
              </a:solidFill>
              <a:latin typeface="Arial"/>
            </a:endParaRPr>
          </a:p>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La consecución de los fondos necesarios para financiar proyectos.</a:t>
            </a:r>
            <a:endParaRPr b="1" lang="en-US" sz="2000" spc="-1" strike="noStrike">
              <a:solidFill>
                <a:srgbClr val="ffffff"/>
              </a:solidFill>
              <a:latin typeface="Arial"/>
            </a:endParaRPr>
          </a:p>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a coordinación y el control.</a:t>
            </a:r>
            <a:endParaRPr b="1" lang="en-US" sz="2000" spc="-1" strike="noStrike">
              <a:solidFill>
                <a:srgbClr val="ffffff"/>
              </a:solidFill>
              <a:latin typeface="Arial"/>
            </a:endParaRPr>
          </a:p>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La relación con los mercados financieros.</a:t>
            </a:r>
            <a:endParaRPr b="1" lang="en-US" sz="20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EL ROL DEL GERENTE FINANCIERO:</a:t>
            </a:r>
            <a:endParaRPr b="0" lang="en-US" sz="32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Un plan financiero</a:t>
            </a:r>
            <a:r>
              <a:rPr b="0" lang="es-ES" sz="1800" spc="-1" strike="noStrike">
                <a:solidFill>
                  <a:srgbClr val="ffffff"/>
                </a:solidFill>
                <a:latin typeface="Arial"/>
              </a:rPr>
              <a:t> incluye estimaciones de los rendimientos futuros de la empresa, de sus gastos, y de sus necesidades de capital. Es, por tanto, una proyección de las actividades futuras de la empresa para un período de tiempo dado. Deberá responsabilizarse del empleo de los recursos financieros en los proyectos de inversión más rentables para la empresa. En definitiva, le corresponde decidir dónde se van a gastar los fondos disponibles por la compañía; dependiendo de esta decisión los beneficios futuros y la evolución posterior de la compañía. Esta tarea esta íntimamente relacionada con la expuesta a continuación, puesto que la decisión de invertir en un posible negocio presupone la necesidad de financiarse y el coste de ésta última afecta a dicha decisión. En cuanto a la consecución de los fondos necesarios, deberá elegir entre las diversas fuentes financieras a las que la empresa pueda acceder. Éstas, pueden clasificarse en: internas y externas, siendo las primeras, las provenientes de la propia empresa a través de la retención e inversión de parte de los beneficios en los propios negocios de la compañía; mientras que las fuentes de recursos externas incluyen tanto a los propietarios de la empresa como a personas e instituciones ajenas a la misma. </a:t>
            </a:r>
            <a:endParaRPr b="1"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EL ROL DEL GERENTE FINANCIERO:</a:t>
            </a:r>
            <a:endParaRPr b="0" lang="en-US" sz="3200" spc="-1" strike="noStrike">
              <a:solidFill>
                <a:srgbClr val="cbcbc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odas estas fuentes financieras tienen unas ciertas características comunes como son: el coste, el vencimiento, la disponibilidad, los gravámenes sobre los activos y otras condiciones impuestas por los proveedores de capital. El gerente financiero deberá determinar la mejor "mezcla" de fondos para la empresa de acuerdo con el análisis de las características mencionadas. Además, no hay que olvidar otras dos actividades importantes como son, por un lado, la coordinación y el control que debe de ejercer con el resto de los directivos de las áreas no financieras de la empresa de cara a lograr el objetivo común; y, por otra parte, debe cuidar al máximo la relación con el mercado financiero que es el que le va a suministrar los recursos financieros necesarios para llevar a cabo los proyectos de inversión de la empresa y, por dicha razón, someterá a una estrecha vigilancia a la compañía y a sus directivos.</a:t>
            </a:r>
            <a:endParaRPr b="1"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VALOR Y USO DE LA INFORMACIÓN FINANCIERA PARA UNA GESTIÓN EFICIENTE.</a:t>
            </a:r>
            <a:endParaRPr b="0" lang="en-US" sz="28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La información:</a:t>
            </a:r>
            <a:r>
              <a:rPr b="0" lang="es-ES" sz="1800" spc="-1" strike="noStrike">
                <a:solidFill>
                  <a:srgbClr val="ffffff"/>
                </a:solidFill>
                <a:latin typeface="Arial"/>
              </a:rPr>
              <a:t> es un bien poco frecuente. En mercados financieros, tener la información correcta puede significar tener millones, opero sólo si otros inversores no tienen la misma información al mismo tiempo. En cuanto la información financiera se filtra viaja instantáneamente a través de vías electrónicas desde Nueva York a Bruselas por ejemplo, y de allí a Bombay o a todos los mercados financieros.</a:t>
            </a:r>
            <a:endParaRPr b="1" lang="en-US" sz="1800" spc="-1" strike="noStrike">
              <a:solidFill>
                <a:srgbClr val="ffffff"/>
              </a:solidFill>
              <a:latin typeface="Arial"/>
            </a:endParaRPr>
          </a:p>
          <a:p>
            <a:pPr marL="335880" indent="-3358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empresas emplean una gran porción de su tiempo y de su dinero suministrando información a los inversores. De no ser así, la desconfianza de los inversores aumentaría; tendrían que recopilar la información ellos mismos y no estaría dispuestos a pagar tanto por las acciones que compraran. Hablar es fácil, pero; ¿Deben los inversores confiar en la información suministrada por al empresas?. A veces esta información está certificada por una compañía de auditoria o por bancos inversores, dando con su reputación un respaldo al informe de la empresa. A veces los directivos lanzan un mensaje de confianza “invirtiendo su dinero e lo que están diciendo”. Por ejemplo, será más fácil conseguir dinero para un nuevo negocio si puedes demostrar al banco que estás invirtiendo gran parte de tu propia riqueza en el mismo.</a:t>
            </a:r>
            <a:endParaRPr b="1"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VALOR Y USO DE LA INFORMACIÓN FINANCIERA PARA UNA GESTIÓN EFICIENTE.</a:t>
            </a:r>
            <a:endParaRPr b="0" lang="en-US" sz="2800" spc="-1" strike="noStrike">
              <a:solidFill>
                <a:srgbClr val="cbcbcb"/>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uchas decisiones financieras llevan consigo una importancia adicional porque son señales de información para los inversores. Por ejemplo, la decisión de reducir los dividendos pagados a los accionistas generalmente indica que la empresa tiene problemas. Puede que baje el precio de las acciones de forma pronunciada cuando e anuncie la disminución del reparto de dividendos, no por la disminución en sí, sino porqué esto conlleva malas expectativas de futuro.</a:t>
            </a:r>
            <a:endParaRPr b="1" lang="en-US" sz="1800" spc="-1" strike="noStrike">
              <a:solidFill>
                <a:srgbClr val="ffffff"/>
              </a:solidFill>
              <a:latin typeface="Arial"/>
            </a:endParaRPr>
          </a:p>
          <a:p>
            <a:pPr marL="325800" indent="-3258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o sucede en todas las áreas del quehacer humano donde se requiere juicio, el éxito en la gestión financiera precisa un equilibrio delicado de varios factores; no existen reglas o procedimientos bien definidos que garanticen el éxito o que señalen de manera infalible la única decisión correcta. Sin embargo, es posible cuando menos describir el objetivo general que deben tener en la mira los ejecutivos financieros de las empresas: la maximización de la ganancias por acción ordinaria sujeta a las consideraciones de riesgo comercial y financiero, plazo de las ganancias e impacto sobre las políticas de dividendos, consideraciones estas a cuyo conocimiento no se llega con la oportunidad y en la medida necesaria sin un buen sistema de información de los mercados financieros.</a:t>
            </a:r>
            <a:r>
              <a:rPr b="1" lang="es-ES" sz="1800" spc="-1" strike="noStrike">
                <a:solidFill>
                  <a:srgbClr val="ffffff"/>
                </a:solidFill>
                <a:latin typeface="Arial"/>
              </a:rPr>
              <a:t> </a:t>
            </a:r>
            <a:endParaRPr b="1"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VISIÓN DE LAS FINANZAS CORPORATIVAS.</a:t>
            </a:r>
            <a:endParaRPr b="0" lang="en-US" sz="32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rPr>
              <a:t>Las finanzas corporativas</a:t>
            </a:r>
            <a:r>
              <a:rPr b="0" lang="es-MX" sz="1800" spc="-1" strike="noStrike">
                <a:solidFill>
                  <a:srgbClr val="ffffff"/>
                </a:solidFill>
                <a:latin typeface="Arial"/>
              </a:rPr>
              <a:t> se centran en la forma en la que las empresas pueden crear valor y mantenerlo a través del uso eficiente de los recursos financieros. Se subdivide en tres parte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Arial"/>
              </a:rPr>
              <a:t>Las decisiones de inversión</a:t>
            </a:r>
            <a:r>
              <a:rPr b="0" lang="es-MX" sz="1800" spc="-1" strike="noStrike">
                <a:solidFill>
                  <a:srgbClr val="ffffff"/>
                </a:solidFill>
                <a:latin typeface="Arial"/>
              </a:rPr>
              <a:t>, que se centran en el estudio de los activos reales (tangibles o intangibles) en los que la empresa debería invertir.</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Arial"/>
              </a:rPr>
              <a:t>Las decisiones de financiación,</a:t>
            </a:r>
            <a:r>
              <a:rPr b="0" lang="es-MX" sz="1800" spc="-1" strike="noStrike">
                <a:solidFill>
                  <a:srgbClr val="ffffff"/>
                </a:solidFill>
                <a:latin typeface="Arial"/>
              </a:rPr>
              <a:t> que estudian la obtención de fondos (provenientes de los inversores que adquieren los activos financieros emitidos por la empresa) para que la compañía pueda adquirir los activos en los que ha decidido invertir.</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Arial"/>
              </a:rPr>
              <a:t>Las decisiones directivas,</a:t>
            </a:r>
            <a:r>
              <a:rPr b="0" lang="es-MX" sz="1800" spc="-1" strike="noStrike">
                <a:solidFill>
                  <a:srgbClr val="ffffff"/>
                </a:solidFill>
                <a:latin typeface="Arial"/>
              </a:rPr>
              <a:t> que atañen a las decisiones operativas y financieras del día a día como, por ejemplo: el tamaño de la empresa, su ritmo de crecimiento, el tamaño del crédito concedido a sus clientes, la remuneración del personal de la empresa, etc.</a:t>
            </a:r>
            <a:endParaRPr b="1"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PAPEL DEL INGENIERO INDUSTRIAL EN EL ÁREA FINANCIERA DE UNA EMPRESA.</a:t>
            </a:r>
            <a:endParaRPr b="0" lang="en-US" sz="2800" spc="-1" strike="noStrike">
              <a:solidFill>
                <a:srgbClr val="cbcbc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funciones del Ingeniero Industrial de la empresa:</a:t>
            </a:r>
            <a:r>
              <a:rPr b="0" lang="es-ES" sz="2000" spc="-1" strike="noStrike">
                <a:solidFill>
                  <a:srgbClr val="ffffff"/>
                </a:solidFill>
                <a:latin typeface="Arial"/>
              </a:rPr>
              <a:t> siempre repercuten en la forma como esta se desempeña, es decir, atendiendo al objetivo de éstos dentro de su puesto de trabajo, los procesos se optimizan y con ellos la producción de un bien o generación de un servicio el cual constituye la fuente de ingresos a la empresa, cuya producción es la razón de ser de la misma. Habiéndose logrado esto, la empresa logra una diferenciación en el mercado con sus productos o una supremacía en costos ( producción de un determinado bien a un costo más bajo que aquel en el que incurren las demás empresas que también lo ofrecen en el mercado) con lo cual la empresa logra aumentar los niveles de venta y experimenta un crecimiento en la tasa de ventas del producto, esto, demanda por parte de los ejecutivos financieros una acción que permita aprovechar esta oportunidad de expansión y tomar una decisión acertada de inversión.</a:t>
            </a:r>
            <a:endParaRPr b="1" lang="en-US" sz="20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PAPEL DEL INGENIERO INDUSTRIAL EN EL ÁREA FINANCIERA DE UNA EMPRESA.</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i los procesos se optimizan mejor será el desempeño de la empresa, ésta se hará más competitiva en el mercado en el cual actúa y ganará un mayor atractivo entre los inversionistas. Con lo cual se producirá un aumento en el precio de las acciones, es decir se logra el objetivo de la Administración financiera, que es el de maximizar el valor de la empresa. Al maximizarse el valor de la empresa se abre la posibilidad de ampliar la línea de productos ofrecidos por la misma o de trabajar en proyectos que resultan atractivos para ganar mayor participación determinados mercados a través bien sea de nuevos productos o de mejoras en uno ya existente, esto por supuesto, requiere de nuevas tecnologías y de implementación de un proceso optimo que concerté con esta tecnología en beneficio del aprovechamiento de la oportunidad, entonces, se abre de nuevo un campo para la acción del Ingeniero Industrial, con lo que el ciclo se repite.</a:t>
            </a:r>
            <a:endParaRPr b="1" lang="en-US" sz="1800" spc="-1" strike="noStrike">
              <a:solidFill>
                <a:srgbClr val="ffffff"/>
              </a:solidFill>
              <a:latin typeface="Arial"/>
            </a:endParaRPr>
          </a:p>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r otro lado, el Ingeniero Industrial es una figura idónea, dado sus conocimientos (los cuales le confieren la capacidad básica como mínimo), para diseñar y controlar un sistema de información financiera en una empresa, con el apoyo de las unidades administrativas necesarias</a:t>
            </a:r>
            <a:r>
              <a:rPr b="1" lang="es-ES" sz="1800" spc="-1" strike="noStrike">
                <a:solidFill>
                  <a:srgbClr val="ffffff"/>
                </a:solidFill>
                <a:latin typeface="Arial"/>
              </a:rPr>
              <a:t> </a:t>
            </a:r>
            <a:endParaRPr b="1"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PAPEL DEL INGENIERO INDUSTRIAL EN EL ÁREA FINANCIERA DE UNA EMPRESA.</a:t>
            </a:r>
            <a:endParaRPr b="0" lang="en-US" sz="2800" spc="-1" strike="noStrike">
              <a:solidFill>
                <a:srgbClr val="cbcbcb"/>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s empresas hay necesidades apremiantes de información generada objetivamente para mostrar a los accionistas, quienes se basan en esta para tomar las decisiones que rigen la operación u objetivos de la empresa para determinados períodos de gestión. Entonces, el Ingeniero Industrial haciendo uso de sus conocimientos, está facultado para que el sistema de información financiera además de poseer los controles y comprobaciones correctos, tenga un diseño cuya lógica sea fácilmente entendible por los accionistas y que permita visualizar claramente los aspectos resaltantes de la información, su trascendencia. Igualmente, se deben abarcar los aspectos relacionados con la orientación y la formación de los usuarios de la información, para que la implantación sea lo más efectiva posible.</a:t>
            </a:r>
            <a:endParaRPr b="1" lang="en-US" sz="20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bcbcb"/>
                </a:solidFill>
                <a:latin typeface="Times New Roman"/>
              </a:rPr>
              <a:t>PAPEL DEL INGENIERO INDUSTRIAL EN EL ÁREA FINANCIERA DE UNA EMPRESA.</a:t>
            </a:r>
            <a:endParaRPr b="0" lang="en-US" sz="2800" spc="-1" strike="noStrike">
              <a:solidFill>
                <a:srgbClr val="cbcbc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0" lang="es-ES" sz="1600" spc="-1" strike="noStrike">
                <a:solidFill>
                  <a:srgbClr val="ffffff"/>
                </a:solidFill>
                <a:latin typeface="Arial"/>
              </a:rPr>
              <a:t>Los informes producidos por el sistema de información requieren de un diseño adecuado y completo. El formato y presentación de los datos requieren un diseño adecuado y completo. El formato y presentación de los datos serán sencillos y motivarán al lector para la acción. A continuación se presenta una lista que ayudará a comprobar el diseño lógico de un sistema de informes:</a:t>
            </a:r>
            <a:endParaRPr b="1" lang="en-US" sz="1600" spc="-1" strike="noStrike">
              <a:solidFill>
                <a:srgbClr val="ffffff"/>
              </a:solidFill>
              <a:latin typeface="Arial"/>
            </a:endParaRPr>
          </a:p>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diseño deberá proteger a los directivos financieros de la empresa de manipular los resultados en beneficio personal (fraude o engaño).</a:t>
            </a:r>
            <a:endParaRPr b="1" lang="en-US" sz="1600" spc="-1" strike="noStrike">
              <a:solidFill>
                <a:srgbClr val="ffffff"/>
              </a:solidFill>
              <a:latin typeface="Arial"/>
            </a:endParaRPr>
          </a:p>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sistema deberá animar cualquier posibilidad de aumentar la productividad.</a:t>
            </a:r>
            <a:endParaRPr b="1" lang="en-US" sz="1600" spc="-1" strike="noStrike">
              <a:solidFill>
                <a:srgbClr val="ffffff"/>
              </a:solidFill>
              <a:latin typeface="Arial"/>
            </a:endParaRPr>
          </a:p>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informes deberán conducir a una Junta Directiva de accionistas positiva y constructiva, no punitiva.</a:t>
            </a:r>
            <a:endParaRPr b="1" lang="en-US" sz="1600" spc="-1" strike="noStrike">
              <a:solidFill>
                <a:srgbClr val="ffffff"/>
              </a:solidFill>
              <a:latin typeface="Arial"/>
            </a:endParaRPr>
          </a:p>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sistema deberá presentar índices e rendimiento en unidades que reflejen verdaderamente la tarea que se está haciendo, tales como dólares y horas reales, dólares y horas presupuestadas o variaciones en esas unidades.</a:t>
            </a:r>
            <a:endParaRPr b="1" lang="en-US" sz="1600" spc="-1" strike="noStrike">
              <a:solidFill>
                <a:srgbClr val="ffffff"/>
              </a:solidFill>
              <a:latin typeface="Arial"/>
            </a:endParaRPr>
          </a:p>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información</a:t>
            </a:r>
            <a:r>
              <a:rPr b="1" lang="es-ES" sz="1600" spc="-1" strike="noStrike">
                <a:solidFill>
                  <a:srgbClr val="ffffff"/>
                </a:solidFill>
                <a:latin typeface="Arial"/>
              </a:rPr>
              <a:t> </a:t>
            </a:r>
            <a:r>
              <a:rPr b="0" lang="es-ES" sz="1600" spc="-1" strike="noStrike">
                <a:solidFill>
                  <a:srgbClr val="ffffff"/>
                </a:solidFill>
                <a:latin typeface="Arial"/>
              </a:rPr>
              <a:t>deberá ser presentada en un diseño que de objetividad a la misma.</a:t>
            </a:r>
            <a:endParaRPr b="1"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endParaRPr b="1"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berá existir una continuidad vertical de los datos de informe a través de cada unidad del organigrama y deberá aumentar el alcance con la responsabilidad.</a:t>
            </a:r>
            <a:endParaRPr b="1" lang="en-US" sz="16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EJEMPLO 1. “IMPORTANCIA CRECIENTE DE LA ADMINISTRACIÓN FINANCIERA”.</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compañía Eastern Airlines y Delta se pueden usar para ilustrar la importancia de la Administración Financiera y los efectos de las decisiones financieras. En la década de los años sesenta, las acciones de Eastern se vendían a más de 60$ por acción mientras que las de delta se vendían en 10$. A principios de la década de los noventa, Delta se había convertido en una de las compañías de aviación más fuertes del mundo y sus acciones se estaban vendiendo por más de 60$. Por su parte Eastern había caído en bancarrota y dejo de existir. Aunque fueron muchos los factores que se combinaron para producir estos resultados tan divergentes, las decisiones financieras ejercieron una gran influencia. Debido a que Eastern había adquirido tradicionalmente una gran cantidad de deudas y Delta se había obtenido de ello, los costos de Eastern aumentaron en forma significativa y sus utilidades disminuyeron, principalmente cuando las tasas de interés aumentaron durante la década de los ochenta. </a:t>
            </a:r>
            <a:endParaRPr b="1"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mento en las tasas de interés tan solo tubo un efecto menor sobre Delta. Por otra parte, cuando los aumentos en el precio del combustible hicieron imperativo que las compañías de aviación compraran nuevos aviones con un consumo de combustibles más eficientes, Delta estuvo en condiciones de hacer tal adquisición, pero Eastern no pudo hacerlo. Finalmente, cuando las compañías de aviación fueron liberadas, Delta tuvo la suficiente fuerza para expandirse hacia los mercados en desarrollo reduciendo sus precios al nivel necesario para atraer más clientes, pero Eastern no lo pudo hacer.</a:t>
            </a:r>
            <a:endParaRPr b="1" lang="en-US" sz="20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historia de Delta y Eastern, y de otras empresas como ellas, son hoy en día bien conocidas; por lo tanto, en la actualidad todas las empresas se interesan mucho en la planeación financiera y esto ha incrementado la importancia del personal financiero corporativo.</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EJERCICIO 2. “RIESGO DE LA EMPRESA”.</a:t>
            </a:r>
            <a:endParaRPr b="1" lang="en-US" sz="20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riesgo se puede presentar si una compañía a contabilizado una venta a un cliente británico cuya entrega y pago se realizarán en libras esterlinas dentro de 3 meses. Si el equivalente en dólares de las libras esterlinas disminuyera en los próximos tres meses (es decir, experimentara una depreciación), también se reducirá el valor en dólares de la cuenta por cobrar de la empresa y esta sufrirá una perdida por el tipo de cambio, pues podría canjear las libras recibidas por menos dólares que los planeados tres meses antes. Un gerente financiero capacitado puede ofrecer protección contra este y otros riesgos similares, a un costo razonable valiendo de diversos instrumentos financieros.</a:t>
            </a:r>
            <a:endParaRPr b="1" lang="en-US" sz="20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EJERCICIO 3. “RELACIÓN ENTRE LA ADMINISTRACIÓN FINANCIERA Y LA ECONOMÍA”.</a:t>
            </a:r>
            <a:endParaRPr b="1" lang="en-US" sz="20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ra Teng es administradora financiera de Nord department stores, gran cadena de tiendas departamentales de alto nivel que opera básicamente en el oeste de Estados Unidos. En este momento ella intenta decidir si reemplazar una de las computadoras en línea de la empresa por otra nueva, más avanzada, la cual aceleraría tanto el tiempo de procesamiento como el manejo de un volumen mayor de transacciones. La computadora nueva requeriría del desembolso de efectivo de 80.000$ y la usada podría ser vendida en 28.000$. Los beneficios totales (medidos en dólares actuales) de la primera, serían de 100.000$, en tanto que la segunda, en un período igual serpia de 35.000$. Al aplicar el análisis marginal de estos datos se tiene:</a:t>
            </a:r>
            <a:endParaRPr b="1" lang="en-US" sz="20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neficios con la computadora  nueva</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00.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nos: beneficios con la computadora usada</a:t>
            </a:r>
            <a:r>
              <a:rPr b="0" lang="es-ES" sz="2000" spc="-1" strike="noStrike">
                <a:solidFill>
                  <a:srgbClr val="ffffff"/>
                </a:solidFill>
                <a:latin typeface="Arial"/>
              </a:rPr>
              <a:t>	</a:t>
            </a:r>
            <a:r>
              <a:rPr b="0" lang="es-ES" sz="2000" spc="-1" strike="noStrike" u="sng">
                <a:solidFill>
                  <a:srgbClr val="ffffff"/>
                </a:solidFill>
                <a:uFillTx/>
                <a:latin typeface="Arial"/>
              </a:rPr>
              <a:t>  35.000$</a:t>
            </a:r>
            <a:r>
              <a:rPr b="0" lang="es-ES" sz="2000" spc="-1" strike="noStrike">
                <a:solidFill>
                  <a:srgbClr val="ffffff"/>
                </a:solidFill>
                <a:latin typeface="Arial"/>
              </a:rPr>
              <a:t> </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1) beneficios marginales (acumulados)</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65.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de la nueva computadora</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80.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nos: utilidades por la venta de la computadora usada </a:t>
            </a:r>
            <a:r>
              <a:rPr b="0" lang="es-ES" sz="2000" spc="-1" strike="noStrike" u="sng">
                <a:solidFill>
                  <a:srgbClr val="ffffff"/>
                </a:solidFill>
                <a:uFillTx/>
                <a:latin typeface="Arial"/>
              </a:rPr>
              <a:t>28.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2) costos marginales (acumulados)                     </a:t>
            </a:r>
            <a:r>
              <a:rPr b="0" lang="es-ES" sz="2000" spc="-1" strike="noStrike" u="sng">
                <a:solidFill>
                  <a:srgbClr val="ffffff"/>
                </a:solidFill>
                <a:uFillTx/>
                <a:latin typeface="Arial"/>
              </a:rPr>
              <a:t>52.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Beneficio Neto  {(1)-(2)}</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13.000$</a:t>
            </a:r>
            <a:endParaRPr b="1" lang="en-US" sz="2000" spc="-1" strike="noStrike">
              <a:solidFill>
                <a:srgbClr val="ffffff"/>
              </a:solidFill>
              <a:latin typeface="Arial"/>
            </a:endParaRPr>
          </a:p>
          <a:p>
            <a:pPr marL="335880" indent="-3358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o los beneficios acumulados de 65.000$ exceden a los costos marginales acumulados de 52.000$ se recomienda la compra de la computadora nueva. La empresa obtendrá utilidades netas de 13.000$ como resultado de esta acción.</a:t>
            </a:r>
            <a:endParaRPr b="1" lang="en-US" sz="20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JERCICIO 4. “VISIÓN CONTABLE Y VISIÓN FINANCIERA EN UNA EMPRESA”.</a:t>
            </a:r>
            <a:endParaRPr b="1" lang="en-US" sz="2400" spc="-1" strike="noStrike">
              <a:solidFill>
                <a:srgbClr val="ffffff"/>
              </a:solidFill>
              <a:latin typeface="Arial"/>
            </a:endParaRPr>
          </a:p>
          <a:p>
            <a:pPr marL="339480" indent="-3394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ssau Corporación, pequeño distribuidor de yates, a fin de año vendió un yate en 100.000$, en cual había sido adquirido en el transcurso de ese año a un costo total de 80.000$. Si bien la empresa pago en su totalidad el yate en el curso del año, aun tiene que cobrárselo al cliente que lo adquirió. Los enfoques contables y financieros del desempeño de la empresa durante el año son proporcionados respectivamente por los estados de resultados y el estado de cambios en la posición financiera: </a:t>
            </a:r>
            <a:endParaRPr b="1" lang="en-US" sz="24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VISIÓN DE LAS FINANZAS CORPORATIVAS.</a:t>
            </a:r>
            <a:endParaRPr b="0" lang="en-US" sz="32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lgunas de las zonas de estudio de las finanzas corporativas son, por ejemplo: el equilibrio financiero, el análisis de la inversión en nuevos activos, el reemplazamiento de viejos activos, las fusiones y adquisiciones de empresas, el análisis del endeudamiento, la emisión de acciones y obligaciones, etcétera.</a:t>
            </a:r>
            <a:endParaRPr b="1" lang="en-US" sz="16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MX" sz="1600" spc="-1" strike="noStrike">
                <a:solidFill>
                  <a:srgbClr val="ffffff"/>
                </a:solidFill>
                <a:latin typeface="Arial"/>
              </a:rPr>
              <a:t>En la actualidad, la modalidad utilizada con mayor frecuencia para la concepción de una empresa es la corporación. En estas (que se pueden entender como modernas por la coyuntura en la que nos encontramos) la propiedad del capital se encuentra ampliamente difuminada (atendiendo al concepto de corporación como tal). En este marco, en el ámbito de las finanzas la empresa se enfoca hacia la maximización del valor de la misma, esto es, incrementar el valor de la inversión que los accionistas han hecho en la empresa (aumentar el precio de las acciones). Así pues los accionistas delegan la autoridad suficiente a una entidad que formará el tren directivo en materia de finanzas, con lo que las actividades cotidianas de la empresa son realizadas por estos administradores quienes actúan como representantes de estos accionistas, ejerciendo el control (dentro de ciertos parámetros) de la toma de decisiones de financiamiento  e inversión de la misma. Casi siempre se supone que el directivo financiero actúa tratando de incrementar el valor de la inversión que los accionistas han hecho en la empresa.</a:t>
            </a:r>
            <a:r>
              <a:rPr b="1" lang="es-MX" sz="1400" spc="-1" strike="noStrike">
                <a:solidFill>
                  <a:srgbClr val="ffffff"/>
                </a:solidFill>
                <a:latin typeface="Arial"/>
              </a:rPr>
              <a:t> </a:t>
            </a:r>
            <a:endParaRPr b="1" lang="en-US" sz="14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Visión de Contabilidad</a:t>
            </a:r>
            <a:r>
              <a:rPr b="1" lang="es-ES" sz="1800" spc="-1" strike="noStrike" u="sng">
                <a:solidFill>
                  <a:srgbClr val="ffffff"/>
                </a:solidFill>
                <a:uFillTx/>
                <a:latin typeface="Arial"/>
              </a:rPr>
              <a:t>	</a:t>
            </a:r>
            <a:r>
              <a:rPr b="1" lang="es-ES" sz="1800" spc="-1" strike="noStrike" u="sng">
                <a:solidFill>
                  <a:srgbClr val="ffffff"/>
                </a:solidFill>
                <a:uFillTx/>
                <a:latin typeface="Arial"/>
              </a:rPr>
              <a:t>	</a:t>
            </a:r>
            <a:r>
              <a:rPr b="1" lang="es-ES" sz="1800" spc="-1" strike="noStrike" u="sng">
                <a:solidFill>
                  <a:srgbClr val="ffffff"/>
                </a:solidFill>
                <a:uFillTx/>
                <a:latin typeface="Arial"/>
              </a:rPr>
              <a:t>Visión de Finanzas</a:t>
            </a:r>
            <a:r>
              <a:rPr b="1" lang="es-ES" sz="1800" spc="-1" strike="noStrike" u="sng">
                <a:solidFill>
                  <a:srgbClr val="ffffff"/>
                </a:solidFill>
                <a:uFillTx/>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Estado de resultados</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Estado de cambios en la posición financier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Nassau Corporation</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Nassau Corporation</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	</a:t>
            </a:r>
            <a:r>
              <a:rPr b="1" lang="es-ES" sz="1800" spc="-1" strike="noStrike" u="sng">
                <a:solidFill>
                  <a:srgbClr val="ffffff"/>
                </a:solidFill>
                <a:uFillTx/>
                <a:latin typeface="Arial"/>
              </a:rPr>
              <a:t>     </a:t>
            </a:r>
            <a:r>
              <a:rPr b="1" lang="es-ES" sz="1800" spc="-1" strike="noStrike" u="sng">
                <a:solidFill>
                  <a:srgbClr val="ffffff"/>
                </a:solidFill>
                <a:uFillTx/>
                <a:latin typeface="Arial"/>
              </a:rPr>
              <a:t>al 31/12                                                      al 31/12</a:t>
            </a:r>
            <a:r>
              <a:rPr b="1" lang="es-ES" sz="1800" spc="-1" strike="noStrike" u="sng">
                <a:solidFill>
                  <a:srgbClr val="ffffff"/>
                </a:solidFill>
                <a:uFillTx/>
                <a:latin typeface="Arial"/>
              </a:rPr>
              <a:t>	</a:t>
            </a:r>
            <a:r>
              <a:rPr b="1" lang="es-ES" sz="1800" spc="-1" strike="noStrike" u="sng">
                <a:solidFill>
                  <a:srgbClr val="ffffff"/>
                </a:solidFill>
                <a:uFillTx/>
                <a:latin typeface="Arial"/>
              </a:rPr>
              <a:t>	</a:t>
            </a:r>
            <a:r>
              <a:rPr b="1" lang="es-ES" sz="1800" spc="-1" strike="noStrike" u="sng">
                <a:solidFill>
                  <a:srgbClr val="ffffff"/>
                </a:solidFill>
                <a:uFillTx/>
                <a:latin typeface="Arial"/>
              </a:rPr>
              <a:t>	</a:t>
            </a:r>
            <a:r>
              <a:rPr b="1" lang="es-ES" sz="1800" spc="-1" strike="noStrike" u="sng">
                <a:solidFill>
                  <a:srgbClr val="ffffff"/>
                </a:solidFill>
                <a:uFillTx/>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Ingreso por</a:t>
            </a:r>
            <a:r>
              <a:rPr b="1" lang="es-ES" sz="1800" spc="-1" strike="noStrike">
                <a:solidFill>
                  <a:srgbClr val="ffffff"/>
                </a:solidFill>
                <a:latin typeface="Arial"/>
              </a:rPr>
              <a:t> ventas: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100.000$</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Flujo de efectivo recibido:                 0$</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nos: Costos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u="sng">
                <a:solidFill>
                  <a:srgbClr val="ffffff"/>
                </a:solidFill>
                <a:uFillTx/>
                <a:latin typeface="Arial"/>
              </a:rPr>
              <a:t>  80.000$</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Manos: salida de efectivo          </a:t>
            </a:r>
            <a:r>
              <a:rPr b="1" lang="es-ES" sz="1800" spc="-1" strike="noStrike" u="sng">
                <a:solidFill>
                  <a:srgbClr val="ffffff"/>
                </a:solidFill>
                <a:uFillTx/>
                <a:latin typeface="Arial"/>
              </a:rPr>
              <a:t>80.000$</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tilidad neta:</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20.000$</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Flujo de efectivo Net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Negativo)</a:t>
            </a:r>
            <a:r>
              <a:rPr b="1" lang="es-ES" sz="1800" spc="-1" strike="noStrike" u="sng">
                <a:solidFill>
                  <a:srgbClr val="ffffff"/>
                </a:solidFill>
                <a:uFillTx/>
                <a:latin typeface="Arial"/>
              </a:rPr>
              <a:t>                       (80.000$)</a:t>
            </a:r>
            <a:r>
              <a:rPr b="1" lang="es-ES" sz="1800" spc="-1" strike="noStrike">
                <a:solidFill>
                  <a:srgbClr val="ffffff"/>
                </a:solidFill>
                <a:latin typeface="Arial"/>
              </a:rPr>
              <a:t> </a:t>
            </a:r>
            <a:endParaRPr b="1" lang="en-US" sz="1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uede observarse que, si bien en el sentido contable la empresa resulta bastante productiva, es un fracaso financiero en términos de flujo de efectivo real. Nassau Corporación carece de flujo de efectivo como resultado de una cuenta por cobrar pendiente de 100.000$. En ausencia de flujos adecuados de entrada de efectivo para cumplir con sus obligaciones la empresa no podrá sobrevivir, independientemente cual sea su nivel de ganancias aparentes. </a:t>
            </a:r>
            <a:endParaRPr b="1" lang="en-US" sz="1800" spc="-1" strike="noStrike">
              <a:solidFill>
                <a:srgbClr val="ffffff"/>
              </a:solidFill>
              <a:latin typeface="Arial"/>
            </a:endParaRPr>
          </a:p>
          <a:p>
            <a:pPr marL="325800" indent="-3258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ejemplo anterior muestra que los datos acumulados de contabilidad no describen cabalmente las circunstancias financieras de la empresa. En consecuencia, el administrador financiero debe ver más allá de los estados financieros, para comprender y analizar el desarrollo de los problemas existentes. Al prestar atención al flujo de efectivo, el administrador podría evitar la falta de solvencia y así alcanzar las metas financieras que la empresa se ha propuesto. Por supuesto, aunque los contadores estén conscientes de la importancia de los flujos de efectivo y los administradores financieros utilizan y comprenden los análisis financieros, el interés principal de los contadores se centra en los métodos de acumulaciones, en tanto que los administradores financieros en el análisis de los flujos de efectivos.</a:t>
            </a:r>
            <a:endParaRPr b="1" lang="en-US" sz="1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78"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343080" algn="just">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JERCICIO 5.“OBJETIVOS Y METAS DE LA EMPRESA” (MAXIMIZAR LAS UTILIDADES).</a:t>
            </a:r>
            <a:endParaRPr b="1" lang="en-US" sz="20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aúl Medina, administrados financiero de manufacturera Toros, importante fabricante de componentes para motores marinos, desea elegir entre dos importantes inversiones, X o Y. Se espera de cada una de ellas el efecto siguiente sobre las utilidades por acción, durante su período de tres años:</a:t>
            </a:r>
            <a:r>
              <a:rPr b="1" lang="es-ES" sz="3200" spc="-1" strike="noStrike">
                <a:solidFill>
                  <a:srgbClr val="ffffff"/>
                </a:solidFill>
                <a:latin typeface="Arial"/>
              </a:rPr>
              <a:t> </a:t>
            </a:r>
            <a:endParaRPr b="1" lang="en-US" sz="32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ffffff"/>
                </a:solidFill>
                <a:uFillTx/>
                <a:latin typeface="Arial"/>
              </a:rPr>
              <a:t>Utilidades por acción (UPA)</a:t>
            </a:r>
            <a:r>
              <a:rPr b="0" lang="es-ES" sz="1800" spc="-1" strike="noStrike" u="sng">
                <a:solidFill>
                  <a:srgbClr val="ffffff"/>
                </a:solidFill>
                <a:uFillTx/>
                <a:latin typeface="Arial"/>
              </a:rPr>
              <a:t>	</a:t>
            </a:r>
            <a:r>
              <a:rPr b="0" lang="es-ES" sz="1800" spc="-1" strike="noStrike" u="sng">
                <a:solidFill>
                  <a:srgbClr val="ffffff"/>
                </a:solidFill>
                <a:uFillTx/>
                <a:latin typeface="Arial"/>
              </a:rPr>
              <a:t>	</a:t>
            </a:r>
            <a:r>
              <a:rPr b="0" lang="es-ES" sz="1800" spc="-1" strike="noStrike" u="sng">
                <a:solidFill>
                  <a:srgbClr val="ffffff"/>
                </a:solidFill>
                <a:uFillTx/>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Inversión</a:t>
            </a:r>
            <a:r>
              <a:rPr b="0" lang="es-ES" sz="1800" spc="-1" strike="noStrike" u="sng">
                <a:solidFill>
                  <a:srgbClr val="ffffff"/>
                </a:solidFill>
                <a:uFillTx/>
                <a:latin typeface="Arial"/>
              </a:rPr>
              <a:t>	</a:t>
            </a:r>
            <a:r>
              <a:rPr b="0" lang="es-ES" sz="1800" spc="-1" strike="noStrike" u="sng">
                <a:solidFill>
                  <a:srgbClr val="ffffff"/>
                </a:solidFill>
                <a:uFillTx/>
                <a:latin typeface="Arial"/>
              </a:rPr>
              <a:t>Año 1</a:t>
            </a:r>
            <a:r>
              <a:rPr b="0" lang="es-ES" sz="1800" spc="-1" strike="noStrike" u="sng">
                <a:solidFill>
                  <a:srgbClr val="ffffff"/>
                </a:solidFill>
                <a:uFillTx/>
                <a:latin typeface="Arial"/>
              </a:rPr>
              <a:t>	</a:t>
            </a:r>
            <a:r>
              <a:rPr b="0" lang="es-ES" sz="1800" spc="-1" strike="noStrike" u="sng">
                <a:solidFill>
                  <a:srgbClr val="ffffff"/>
                </a:solidFill>
                <a:uFillTx/>
                <a:latin typeface="Arial"/>
              </a:rPr>
              <a:t>Año 2</a:t>
            </a:r>
            <a:r>
              <a:rPr b="0" lang="es-ES" sz="1800" spc="-1" strike="noStrike" u="sng">
                <a:solidFill>
                  <a:srgbClr val="ffffff"/>
                </a:solidFill>
                <a:uFillTx/>
                <a:latin typeface="Arial"/>
              </a:rPr>
              <a:t>	</a:t>
            </a:r>
            <a:r>
              <a:rPr b="0" lang="es-ES" sz="1800" spc="-1" strike="noStrike" u="sng">
                <a:solidFill>
                  <a:srgbClr val="ffffff"/>
                </a:solidFill>
                <a:uFillTx/>
                <a:latin typeface="Arial"/>
              </a:rPr>
              <a:t>Año 3</a:t>
            </a:r>
            <a:r>
              <a:rPr b="0" lang="es-ES" sz="1800" spc="-1" strike="noStrike" u="sng">
                <a:solidFill>
                  <a:srgbClr val="ffffff"/>
                </a:solidFill>
                <a:uFillTx/>
                <a:latin typeface="Arial"/>
              </a:rPr>
              <a:t>	</a:t>
            </a:r>
            <a:r>
              <a:rPr b="0" lang="es-ES" sz="1800" spc="-1" strike="noStrike" u="sng">
                <a:solidFill>
                  <a:srgbClr val="ffffff"/>
                </a:solidFill>
                <a:uFillTx/>
                <a:latin typeface="Arial"/>
              </a:rPr>
              <a:t> Total de los años 1,2 y 3</a:t>
            </a:r>
            <a:r>
              <a:rPr b="0" lang="es-ES"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X</a:t>
            </a:r>
            <a:r>
              <a:rPr b="0" lang="es-ES" sz="1800" spc="-1" strike="noStrike">
                <a:solidFill>
                  <a:srgbClr val="ffffff"/>
                </a:solidFill>
                <a:latin typeface="Arial"/>
              </a:rPr>
              <a:t>	</a:t>
            </a:r>
            <a:r>
              <a:rPr b="0" lang="es-ES" sz="1800" spc="-1" strike="noStrike">
                <a:solidFill>
                  <a:srgbClr val="ffffff"/>
                </a:solidFill>
                <a:latin typeface="Arial"/>
              </a:rPr>
              <a:t>              1.4$ </a:t>
            </a:r>
            <a:r>
              <a:rPr b="0" lang="es-ES" sz="1800" spc="-1" strike="noStrike">
                <a:solidFill>
                  <a:srgbClr val="ffffff"/>
                </a:solidFill>
                <a:latin typeface="Arial"/>
              </a:rPr>
              <a:t>	</a:t>
            </a:r>
            <a:r>
              <a:rPr b="0" lang="es-ES" sz="1800" spc="-1" strike="noStrike">
                <a:solidFill>
                  <a:srgbClr val="ffffff"/>
                </a:solidFill>
                <a:latin typeface="Arial"/>
              </a:rPr>
              <a:t>   1$        0.40$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2.80$</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Y</a:t>
            </a:r>
            <a:r>
              <a:rPr b="0" lang="es-ES" sz="1800" spc="-1" strike="noStrike" u="sng">
                <a:solidFill>
                  <a:srgbClr val="ffffff"/>
                </a:solidFill>
                <a:uFillTx/>
                <a:latin typeface="Arial"/>
              </a:rPr>
              <a:t>	</a:t>
            </a:r>
            <a:r>
              <a:rPr b="0" lang="es-ES" sz="1800" spc="-1" strike="noStrike" u="sng">
                <a:solidFill>
                  <a:srgbClr val="ffffff"/>
                </a:solidFill>
                <a:uFillTx/>
                <a:latin typeface="Arial"/>
              </a:rPr>
              <a:t>             0.60$</a:t>
            </a:r>
            <a:r>
              <a:rPr b="0" lang="es-ES" sz="1800" spc="-1" strike="noStrike" u="sng">
                <a:solidFill>
                  <a:srgbClr val="ffffff"/>
                </a:solidFill>
                <a:uFillTx/>
                <a:latin typeface="Arial"/>
              </a:rPr>
              <a:t>	</a:t>
            </a:r>
            <a:r>
              <a:rPr b="0" lang="es-ES" sz="1800" spc="-1" strike="noStrike" u="sng">
                <a:solidFill>
                  <a:srgbClr val="ffffff"/>
                </a:solidFill>
                <a:uFillTx/>
                <a:latin typeface="Arial"/>
              </a:rPr>
              <a:t>   1$        1.40$</a:t>
            </a:r>
            <a:r>
              <a:rPr b="0" lang="es-ES" sz="1800" spc="-1" strike="noStrike" u="sng">
                <a:solidFill>
                  <a:srgbClr val="ffffff"/>
                </a:solidFill>
                <a:uFillTx/>
                <a:latin typeface="Arial"/>
              </a:rPr>
              <a:t>	</a:t>
            </a:r>
            <a:r>
              <a:rPr b="0" lang="es-ES" sz="1800" spc="-1" strike="noStrike" u="sng">
                <a:solidFill>
                  <a:srgbClr val="ffffff"/>
                </a:solidFill>
                <a:uFillTx/>
                <a:latin typeface="Arial"/>
              </a:rPr>
              <a:t>                       3$</a:t>
            </a:r>
            <a:r>
              <a:rPr b="0" lang="es-ES" sz="1800" spc="-1" strike="noStrike">
                <a:solidFill>
                  <a:srgbClr val="ffffff"/>
                </a:solidFill>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base en la meta de maximización de las utilidades, la inversión Y sería preferible, dada las mayores utilidades por acción durante el período de tres años (3$ UPA de Y es más alto que 2.80$ UPA de X).</a:t>
            </a:r>
            <a:endParaRPr b="1"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RCICIO 6.  “UNA PERSPECTIVA ADMINISTRATIVA”.</a:t>
            </a:r>
            <a:r>
              <a:rPr b="0" lang="es-ES" sz="1800" spc="-1" strike="noStrike">
                <a:solidFill>
                  <a:srgbClr val="ffffff"/>
                </a:solidFill>
                <a:latin typeface="Arial"/>
              </a:rPr>
              <a:t> </a:t>
            </a:r>
            <a:endParaRPr b="1" lang="en-US" sz="1800" spc="-1" strike="noStrike">
              <a:solidFill>
                <a:srgbClr val="ffffff"/>
              </a:solidFill>
              <a:latin typeface="Arial"/>
            </a:endParaRPr>
          </a:p>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principios de la década de los noventa, la NCR Corporation (antiguamente conocida como la National Cash Register Company) se desempe­ñaba muy bien. Su administración había transformado a una empre­sa común y corriente en un participante líder dentro del mercado de las computadoras. De hecho, estaba derrotando a IBM y a otras empre­sas mundiales dedicadas a la producción de cajeros bancarios automá­ticos y otros mercados de alta tecnología y de rápido crecimiento. Tal como lo afirmó la empresa Value Line, una institución líder en la ase­soría de inversiones: "éste parece ser el noveno año consecutivo de cre­cimiento en utilidades para NCR. Estamos buscando una continuidad en las utilidades hasta 1995. La calidad de sus acciones es muy bue­na y se ha estimado que sobrepasarán a las de los mercados del pró­ximo año": Las acciones de NCR se estaban vendiendo en $65, a partir de un precio de $9 en 1982; consecuentemente, los accionistas habían recibido beneficios importantes por el buen desempeño de la administración. Los trabajadores de NCR también habían obtenido recompensas importantes y estaban muy contentos, como lo estaban sus clientes.</a:t>
            </a:r>
            <a:endParaRPr b="1" lang="en-US" sz="1800" spc="-1" strike="noStrike">
              <a:solidFill>
                <a:srgbClr val="ffffff"/>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entras tanto, AT&amp;T, una empresa casi monopolística, había ma­nejado enormes flujos de efectivo en su institución telefónica, aunque había fracasado en sus esfuerzos por convertirse en un participante prioritario dentro de la industria de la computación y había perdido fuertes sumas de dinero por tal circunstancia. Fue entonces cuando el presidente de AT&amp;T, Bob Allen, decidió comprar NCR. Allen se dirigió a la administración de NCR y le ofreció un precio de $90 por acción o $6.2 mil en total, así como su disposición para “negociar”, es decir, para aumentar la oferta.</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residente de NCR, Charles Exley, respondió: la empresa no está en venta': Él pensaba, y con cierta justificación, que su equipo había hecho un buen trabajo y quería continuar controlando una institu­ción dinámica y de gran crecimiento; no se conformaba con ser parte de un enorme conglomerado. </a:t>
            </a:r>
            <a:r>
              <a:rPr b="0" lang="es-ES" sz="1800" spc="-1" strike="noStrike">
                <a:solidFill>
                  <a:srgbClr val="ffffff"/>
                </a:solidFill>
                <a:latin typeface="Arial"/>
              </a:rPr>
              <a:t>	</a:t>
            </a:r>
            <a:r>
              <a:rPr b="0" lang="es-ES" sz="1800" spc="-1" strike="noStrike">
                <a:solidFill>
                  <a:srgbClr val="ffffff"/>
                </a:solidFill>
                <a:latin typeface="Arial"/>
              </a:rPr>
              <a:t>Después de su plática con Allen, Exley co­mentó que AT&amp;T debería cambiar su eslogan publicitario convirtiendo la expresión "Extienda la mano y toque a alguien "en "Extienda la mano y capture a alguien".</a:t>
            </a:r>
            <a:endParaRPr b="1"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fuerza de trabajo de NCR estuvo totalmente de acuerdo con Ex­ley los trabajadores sabían muy bien que en la mayoría de las fusio­nes un gran número de individuos pierden sus empleos a medida que se consolidan los puestos-. Además, entre más alto fuera el puesto de un trabajador dentro de la jerarquía administrativa, más probabilidades tenía de ser despedido. Exley dejaría de ser el presidente eje­cutivo de una gran compañía y sus altos administradores se convertirían, en caso de que permanecieran en la empresa, en subordi­nados de los altos ejecutivos de AT&amp;T. Los clientes de NCR también esta­ban muy preocupados, la compañía había estado elaborando .productos de buena calidad y a un precio atractivo. ¿Prevalecería la misma situación bajo el control de AT&amp;T? A los clientes les gusta tener tantos proveedores potenciales como les sea posible y, si la fusión ocu­rriera, habría una empresa menos en la industria de las computado­ras. Además, NCR tenía sus oficinas generales en Dayton, Ohio, pero si, AT&amp;T la adquiriera, muchas de las funciones de las oficinas centrales se desplazarían hacia Nueva York. Esto tendría un efecto adverso en Dayton; por lo tanto, los fundadores de la ciudad no estaban contentos con los prospectos de la fusión.</a:t>
            </a:r>
            <a:endParaRPr b="1" lang="en-US" sz="1800" spc="-1" strike="noStrike">
              <a:solidFill>
                <a:srgbClr val="ffffff"/>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bcbcb"/>
                </a:solidFill>
                <a:latin typeface="Times New Roman"/>
              </a:rPr>
              <a:t>EJEMPLOS</a:t>
            </a:r>
            <a:endParaRPr b="0" lang="en-US" sz="3200" spc="-1" strike="noStrike">
              <a:solidFill>
                <a:srgbClr val="cbcbc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ientras tanto, los accionistas de NCR mostraban sentimientos muy variados. Por una parte, los inversionistas reflexivos reconocían que la compañía había estado bien administrada, que la administra­ción se merecía la oportunidad de permanecer en el control y que los inversionistas podrían obtener urna mejor posición a largo plazo si Exley y su equipo permanecían en sus cargos. Por otra parte, las acciones se habían estado vendiendo tan sólo en $65; sin embargo, AT&amp;T les ha­bía ofrecido $90 y la oportunidad de negociar una mayor cantidad y una rápida utilidad de un 40% no era nada desdeñable. Además, casi un 70% de las acciones de NCR pertenecía a inversionistas institucionales tales como fondos de pensión, fondos mutualistas y com­pañías de seguros. A este tipo de propietarios le gustan los valores de rápido crecimiento, tales como los que proporcionaría la adquisi­ción empresarial.</a:t>
            </a:r>
            <a:endParaRPr b="1" lang="en-US" sz="20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VISIÓN DE LAS FINANZAS CORPORATIVAS.</a:t>
            </a:r>
            <a:endParaRPr b="0" lang="en-US" sz="32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ro una gran compañía (creada como corporación) incluye a miles de personas y cada una busca tanto su interés particular como el de los accionistas.</a:t>
            </a:r>
            <a:endParaRPr b="1" lang="en-US" sz="1800" spc="-1" strike="noStrike">
              <a:solidFill>
                <a:srgbClr val="ffffff"/>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En teoría, una junta directiva conformada por determinados accionistas, coordina a los administradores y dirige su actuación a favor de los accionistas. Sin embargo, producto de muchos estudios se sabe que la amplia dispersión de la propiedad del capital común de la mayoría de las grandes corporaciones dificulta el ejercicio del control de los accionistas a través de dicha junta directiva. El accionista individual no tiene una participación lo suficientemente considerable como para justificar el gasto de tiempo y dinero que implica un control estrecho de los administradores y de la junta directiva. También es común el argumento de que los administradores se interesan más en lograr un mayor tamaño de la empresa que en maximizar el valor de la misma, dado que su compensación se relaciona con las ventas o con los activos totales. Entonces, el beneficio neto de una empresa hay que verlo como una torta que se reparte entre un número de participantes. Aquí incluimos al director y a los trabajadores así como a los prestamistas y accionistas que han contribuido con su dinero a establecer y mantener el negocio. El Gobierno es también uno de los participantes ya quien grava los beneficios de la empresa</a:t>
            </a:r>
            <a:r>
              <a:rPr b="0" lang="es-ES" sz="1800" spc="-1" strike="noStrike">
                <a:solidFill>
                  <a:srgbClr val="ffffff"/>
                </a:solidFill>
                <a:latin typeface="Arial"/>
              </a:rPr>
              <a:t> </a:t>
            </a:r>
            <a:endParaRPr b="1"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VISIÓN DE LAS FINANZAS CORPORATIVAS.</a:t>
            </a:r>
            <a:endParaRPr b="0" lang="en-US" sz="32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dos estos participantes se sitúan juntos en una complicada rama de contratos y acuerdos tácticos. Por ejemplo, cuando los bancos prestan dinero a una empresa insisten en realizar un contrato formal fijando el tipo de interés y los plazos de devolución del préstamo, imponiendo quizá restricciones sobre los dividendos o préstamos adicionales, etc. Pero no se puede inventar reglas escritas para cubrir cualquier posible contingencia, por lo que los contratos por escrito van complementados con acuerdos tácticos. Por ejemplo, los directores entienden que a cambio de un salario alto se espera de ellos que trabajen duro y  que reserven parte de “la torta” para injustificados lujos personales.</a:t>
            </a:r>
            <a:endParaRPr b="1" lang="en-US" sz="2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objetivo del equipo directivo de una empresa</a:t>
            </a:r>
            <a:r>
              <a:rPr b="0" lang="es-ES" sz="2000" spc="-1" strike="noStrike">
                <a:solidFill>
                  <a:srgbClr val="ffffff"/>
                </a:solidFill>
                <a:latin typeface="Arial"/>
              </a:rPr>
              <a:t> debe ser la máxima creación de valor posible, es decir, que la compañía valga cada vez más. El valor de la empresa viene representado por el valor de mercado de su activo; como es lógico, éste debe ser igual al valor de mercado de su pasivo que, a su vez, es igual a la suma del valor de mercado de sus acciones más el valor de mercado de sus deudas. Si tenemos en cuenta que, en condiciones normales, el valor del endeudamiento oscilará en las cercanías de su valor contable, parece lógico pensar que la creación de valor en la empresa se reflejará básicamente en el aumento del valor de sus acciones o fondos propios. Éste depende de las decisiones de inversión, financiación y reparto de dividendos que tome su equipo directivo. Por tanto, también se puede decir que el principal objetivo de la gestión empresarial es la maximización del valor de la compañía para sus propietarios.</a:t>
            </a: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la idea de que al aumentar el valor de la empresa el principal incremento se produce en el valor de los fondos propios de la misma. Concretando, este objetivo proporciona al consejo de administración de la empresa y a su equipo directivo una directriz clara, que facilita la adopción de decisiones y la evaluación de sus prestaciones; favorece la formación de capital y la más correcta asignación de recursos; y, acompasa eficientemente el diseño de la organización a los incentivos y riesgos de todas las partes implicadas en la empresa. Por otra parte, es preciso señalar que el importante papel que representa dicho objetivo en la asignación de recursos en una economía de mercado no goza de una aceptación generalizada. Esto se debe, entre otras razones, a la incertidumbre y frustración que han producido los grandes despidos de personal debido a las reestructuraciones empresariales realizadas en nombre de aquél y a las críticas a la alta dirección por buscar, aparentemente, su propio interés y centrarse en enfoques miopes en la cotización diaria de las acciones. Además, en la Unión Europea existe una creciente tensión entre las prácticas empresariales que persiguen este objetivo necesario en un mercado mundial competitivo y la larga tradición establecida de mantenimiento del bienestar social.</a:t>
            </a:r>
            <a:endParaRPr b="1"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bcbcb"/>
                </a:solidFill>
                <a:latin typeface="Times New Roman"/>
              </a:rPr>
              <a:t>OBJETIVOS Y METAS DE LA EMPRESA.</a:t>
            </a:r>
            <a:endParaRPr b="0" lang="en-US" sz="3200" spc="-1" strike="noStrike">
              <a:solidFill>
                <a:srgbClr val="cbcbcb"/>
              </a:solidFill>
              <a:latin typeface="Times New Roman"/>
            </a:endParaRPr>
          </a:p>
        </p:txBody>
      </p:sp>
      <p:sp>
        <p:nvSpPr>
          <p:cNvPr id="112" name="PlaceHolder 2"/>
          <p:cNvSpPr>
            <a:spLocks noGrp="1"/>
          </p:cNvSpPr>
          <p:nvPr>
            <p:ph/>
          </p:nvPr>
        </p:nvSpPr>
        <p:spPr>
          <a:xfrm>
            <a:off x="755640" y="1989000"/>
            <a:ext cx="7772400" cy="411480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El objetivo de la empresa según la teoría de los “participantes”:</a:t>
            </a:r>
            <a:r>
              <a:rPr b="0" lang="es-ES" sz="1800" spc="-1" strike="noStrike">
                <a:solidFill>
                  <a:srgbClr val="ffffff"/>
                </a:solidFill>
                <a:latin typeface="Arial"/>
              </a:rPr>
              <a:t> Por dicho motivo hay una corriente de pensamiento que defiende que los directivos de la empresa deben tener en cuenta a la hora de tomar decisiones los intereses de todos los participantes en la empresa: inversores, consumidores, empleados, acreedores, poderes públicos, directivos y sociedad en general, a los que en inglés se denomina </a:t>
            </a:r>
            <a:r>
              <a:rPr b="0" i="1" lang="es-ES" sz="1800" spc="-1" strike="noStrike">
                <a:solidFill>
                  <a:srgbClr val="ffffff"/>
                </a:solidFill>
                <a:latin typeface="Arial"/>
              </a:rPr>
              <a:t>stakeholders</a:t>
            </a:r>
            <a:r>
              <a:rPr b="0" lang="es-ES" sz="1800" spc="-1" strike="noStrike">
                <a:solidFill>
                  <a:srgbClr val="ffffff"/>
                </a:solidFill>
                <a:latin typeface="Arial"/>
              </a:rPr>
              <a:t>. Éstos son todos aquellos individuos o grupos que pueden verse afectados por, o afectar al, bienestar de la empresa. Esta “teoría de los participantes” (</a:t>
            </a:r>
            <a:r>
              <a:rPr b="0" i="1" lang="es-ES" sz="1800" spc="-1" strike="noStrike">
                <a:solidFill>
                  <a:srgbClr val="ffffff"/>
                </a:solidFill>
                <a:latin typeface="Arial"/>
              </a:rPr>
              <a:t>stakeholder theory</a:t>
            </a:r>
            <a:r>
              <a:rPr b="0" lang="es-ES" sz="1800" spc="-1" strike="noStrike">
                <a:solidFill>
                  <a:srgbClr val="ffffff"/>
                </a:solidFill>
                <a:latin typeface="Arial"/>
              </a:rPr>
              <a:t>) hunde sus raíces en la sociología, el comportamiento organizativo, y en el propio interés de los directivos.</a:t>
            </a:r>
            <a:endParaRPr b="1" lang="en-US" sz="18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gún </a:t>
            </a:r>
            <a:r>
              <a:rPr b="0" i="1" lang="es-ES" sz="1800" spc="-1" strike="noStrike">
                <a:solidFill>
                  <a:srgbClr val="ffffff"/>
                </a:solidFill>
                <a:latin typeface="Arial"/>
              </a:rPr>
              <a:t>Jensen</a:t>
            </a:r>
            <a:r>
              <a:rPr b="0" lang="es-ES" sz="1800" spc="-1" strike="noStrike">
                <a:solidFill>
                  <a:srgbClr val="ffffff"/>
                </a:solidFill>
                <a:latin typeface="Arial"/>
              </a:rPr>
              <a:t>, esta teoría fracasa al intentar crear el máximo valor posible porque es incapaz de proporcionar una completa especificación del objetivo de la empresa, lo que puede acarrear una confusión en la gestión, conflictos, ineficiencias y pérdida de la competitividad.</a:t>
            </a:r>
            <a:endParaRPr b="1"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2:11:37Z</dcterms:created>
  <dc:creator>GRUPO</dc:creator>
  <dc:description/>
  <cp:keywords>INGENIERÍA FINANCIERA</cp:keywords>
  <dc:language>en-US</dc:language>
  <cp:lastModifiedBy>Ivan Turmero</cp:lastModifiedBy>
  <dcterms:modified xsi:type="dcterms:W3CDTF">2016-10-20T02:13:44Z</dcterms:modified>
  <cp:revision>17</cp:revision>
  <dc:subject/>
  <dc:title>DII</dc:title>
</cp:coreProperties>
</file>