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537-BE93-49FE-A153-17E945F6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DFE-A3C1-43C2-8E8E-A4C88B9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262EE-D0E9-44FB-BF82-3328211F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A1839-FF1B-4AD9-BEC2-D740545B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D94DF-BFA1-4EA6-913C-6B28B83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49D56-17A7-4C57-A9D4-0A130FC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03C85-499A-41EF-94AA-7B18CAF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3A126-95D7-4EC9-B049-C1D9036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081A6-BA40-4096-9911-B16C94CF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5905C-6C2F-427E-A08B-FE202C01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D2A24-7631-439E-BE1B-84DACF93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9645-AA9C-4DAD-BCED-AF3515CF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C6A-9F7F-4505-ABEE-4B2B3128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FBDED-0267-4784-BCA4-587E082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47F42-A8C0-43E3-B666-277A2631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6E297-F84F-47E0-86B6-6C7C9DA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B4BB-F87B-489F-8AD2-70671BA3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85A5-FEEE-417F-A397-FEDD2EAB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B9244-84CE-4198-80D8-C595CB2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96313-C0FD-49D6-8EA2-ADFA8AC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AAAAE-6FA3-4D2C-AB81-6A83F62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903A0-1BBD-456D-A9FB-E68FD8A9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27DB6-DF61-4451-8382-A9B1135A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6A9-380E-4E00-80F7-966617C9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8EFC5-B9ED-4EA9-8947-1B51C825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35CE6-47BE-41C3-AFEC-786DFDA0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F4BA-CDF3-4027-A18A-3E65471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BD62-81D6-49C1-834C-7877EC1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4A79-A769-44F6-AE65-7251062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FEAF6-030B-4B23-8AF1-B834BCB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CF073-1E32-49F3-9C35-1128F5E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D95A-B609-46D8-90CB-8B28E27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F00D-F8BD-4FE9-BCA9-8FA6588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E636C-356F-4D63-8840-00EC74C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A38-3107-470B-9853-ACC47B33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D5127-A21B-449D-84D4-40F9B8F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5F893-E1A5-49A6-8B33-17B6F3A5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086BC-B793-428A-BC69-9F7EBCEC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CE476-BFC5-4BD4-9705-51B3BE7F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01911-AF6E-4337-913E-F2BF69D7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B6426-549D-4C42-AE05-945F2BC4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3C567-5E09-441B-88CE-1A8EE911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99D59-AC1E-4178-909F-D01FA2C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2490F-877C-4C1F-8779-8CB9CB03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0ABA7-8563-4528-B74F-159A9DB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C07-3FFD-477D-84C7-09FBC38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43EBB-59EA-4613-8E75-442DB5B2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E6A27-D6F0-49EB-BD82-496235C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94051-5C7D-4D27-803F-83BFD14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3329-8C6C-4DF8-BA63-C578DF10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21134-588F-4CB9-8AD2-CECFDB3A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D69E-C106-438A-9F36-2BB14B9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86F4-0CD7-49BF-9A01-2CA75C0B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2CA-4BE4-43E0-8F06-DD7114D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41BC-72D9-4AE6-B4D9-33441611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FA7B-FCD9-42DD-B3E5-AF97B2B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3BC-E826-4BDA-A305-8989FA5E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A24C-F679-4468-ADFF-1EC9AA69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352A-D7F2-4920-AFBA-75F2641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DDB6-7B4A-4DF5-A5F4-3E77961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8D24-0B3F-4D3D-816B-8BA0AB3E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1248-2F73-4F24-BD93-54C72A64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93B7-8DF5-41DA-89C9-3915E17D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1F9F-27F2-4D61-97DA-854EC3C9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323D-1B38-41D2-9806-7F02DAA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7518-8315-4711-A62B-92B6BBEC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5768-2D01-40BE-97A5-FD74CF9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7B5-885E-4D26-90D6-FA1367FE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2978-9F79-4FBC-9DC4-BF71F12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C597-9215-4D4F-8F78-104E4306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8424-74F2-4CBF-A53B-C641CF2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0D4D-7F0E-45C2-801F-5CD8C60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2F0E-BF9D-4EDD-83AC-E1CDE08F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B9AF-5FA1-48FA-B3EF-F9CFB0DA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6BC4-C7B5-4F88-B493-EA1CC776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742E-5877-4943-AC7D-B787AC7E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A7F4-68DB-4095-812E-4D7A4181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8749-89A3-4EA5-B1BD-06DE6D27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57C-810B-4B60-8F9E-45BE2DFF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4C30-C8A6-4158-9911-E9801D1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AFFFB-03C0-4B5F-8A24-BDA3E8A3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F889-A834-4941-BA24-EC119391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88D8-5F52-4513-9F0E-5E84F41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29DF-AB23-48B2-BC0E-BCAD3B6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8173A-E0A5-429E-996A-D2BF367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2767-C617-4ACB-8425-7767105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0427-5A5D-45AB-AB89-3083DBAF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B347-34F4-4C58-B490-7B3C815A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EE015-2FC2-454D-ACA7-F8A403B6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638-BFFA-47C2-8702-139396E1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FDE2-8CC7-44F1-8C05-AD026EE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DC1D-47F1-4EF5-AD90-359E43B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AB35-1538-45BE-9AF1-35584F62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CA84-9E21-4206-850D-48DA6F27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C1AC-853D-4C75-BE1D-472C0453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10C1-B307-4DBA-A149-6EA27E5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C4AC-AC19-4F85-84F5-65E1AE0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A3BF-3A98-42A6-A999-C5C9980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617F-35DC-4898-B510-7F833AF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99D0-336A-4FDF-B19C-4DCCCF7A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17F-2E26-4935-80F8-5EE9F1C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94240-F6AC-43D5-9549-925739E7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5F34-090B-46E2-A645-65F869A0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DBEE-8CB2-430E-B662-F8A357F1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3C28A-1908-4E6B-99C1-94C8B8A1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CF80-620C-46E6-BC73-EBE8AC9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2A2B-3F53-4F97-9661-0F26D56C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38902-5FFB-48F4-B2AC-BC84FF7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7190-7AA0-44A1-8F5C-FDB514E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D2F1-6ADF-4CCA-8455-17C45DC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762C-1F7D-4D64-8564-2EA1D3B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420-6D38-453D-A6F7-37B48B4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3245-4AB1-49AD-A55C-92AADF9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981D-64B6-4DD0-8775-9D156BD1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5E873-9C47-4A56-B3B9-903CB574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DCBDE-37B3-4D3F-89D2-364EA12E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63327-A46A-4C09-9702-EAFD201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8826-7585-4FE4-9C9D-EF16AAE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F276-1387-46AD-8421-CFE7B6A9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C2E8-EA41-4594-A9F6-1F669A6F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69BAC-CB49-4CA1-9D60-BB8DFCA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658D-E7FB-494D-B0D6-C0AC3E01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D1C-3889-4D25-AA8D-1B2AA5B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A41A-7459-470D-8BCE-027315A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0F6B1-6A16-4E51-A5DE-D6D84F3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2825-93DC-4E33-B3EF-1222027D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76DBD-9CA5-4947-A2F9-88D574E5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4DD7-87F7-496D-B6D5-A1785D61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2397-2E27-481D-B338-C50288FC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0380-6024-4F7D-AAAB-5640DB1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C651A-9E8B-4290-8ECF-CD70BEB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3BC65-8827-473B-86D2-AA41BF1E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74AC-F7D0-4192-9849-91B2C27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176-9B57-48D2-BECE-EAFDE8D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AA03-4548-478C-A94E-C185BE69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A251B-5C3B-4BCD-B286-2F34829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73EC7-4130-4306-A0B3-6F6D227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DD8CA-4321-47C7-A0BB-3188B9F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6D377-6BF2-42D5-8FAB-3AAEE61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3E536-93E4-4B5C-AEFD-F3EBED9B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7435C-B101-4A6F-87A4-B8F0F100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19389-6169-4880-A0EF-6D152A96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4C5CA-CAB8-4551-B75C-DA6D9A0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DD90C-AA40-4FE5-9DF8-6EE35AE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4DA-5C6A-4C47-B3DE-13DC01B2CA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270-F0B3-4F62-9032-4FD0BE1B94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503D-6EC4-4F50-B105-E18F2D6815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2AD-ABC3-445A-B9C7-23AE29DECFB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E27E-A66C-4D1F-8540-D3BA24E96117}" type="slidenum">
              <a:rPr b="0" lang="es-E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DA7-6603-4CEC-B0F0-4F24603987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E4C-07C2-4327-8413-13B8487EF8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DB9-497A-46CA-8CBD-E40B193921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7AF-5C30-4E31-91F7-B088068D23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4DD2-4071-4D18-9377-25DD1386AB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19AC-E76F-44B6-BA45-5ADBBC6DFB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0DC7-F58A-4E65-814E-D91B694DE6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0920" y="206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Programas de Lógica como Recurso Didáctico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Campo metodológico o procedimental: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En él se crean 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y planean 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las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técnicas o estrategias específicas con las cuales se logrará dar cumplimiento a los modelos educativos, currículas, etc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.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, que han sido diseñados.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77929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1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Campo práctico: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En él se ponen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en practica las técnicas o estrategias específicas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. En un segundo momento esas prácticas pueden ser 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evaluadas y 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su evaluación puede f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ortalecer o replantear el campo teórico y 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el 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metodológico. </a:t>
            </a:r>
            <a:br>
              <a:rPr sz="40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5714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El objetivo de esta charla: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 Reconocer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que la didáctica no se remite a establecer técnicas, estrategias o dinámicas para el salón de clase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, s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ino 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que es una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ciencia que se va consolidando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, que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también tiene que ver con el diseño de los programas de estudio y 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que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nos invita a sumarnos a un trabajo interdisciplinario.  </a:t>
            </a:r>
            <a:br>
              <a:rPr sz="3600"/>
            </a:b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4419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El programa de estudios es un recurso didáctico, pero: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  N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o es una estrategia didáctica común,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es 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un 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recurso didáctico complejo porque a su vez contiene muchas otros recursos didácticos como lo son: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52574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E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l planteamientos de los objetivos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L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a definición de los contenidos 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L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a secuencia en la que se abordan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E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l  establecimiento de las habilidades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y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de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las actitudes que se desarrollarán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Las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estrategias didácticas específicas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que sugiere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para el desarrollo de los temas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.Así como  la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bibliografía y estrategias de evaluación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que también se proponen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T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odo en armonía con </a:t>
            </a:r>
            <a:r>
              <a:rPr b="1" i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el perfil del egresado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,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de acuerdo a la doctrina educativa de cada institución.</a:t>
            </a:r>
            <a:br>
              <a:rPr sz="3200"/>
            </a:b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1760" y="5257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Ante el programa operativo el profesor:</a:t>
            </a:r>
            <a:br>
              <a:rPr sz="4000"/>
            </a:b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¿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E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s conciente de las decisiones didácticas que toma?, ¿cómo lo hace?, ¿se apoya sólo de su propia experiencia docente?, pero entonces ¿qué pasa con los profesores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nuevos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que no cuentan con tal experiencia?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160" y="4723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Ante las revisiones de los programas de estudio: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¿participamos?, ¿cómo lo hacemos?, ¿estamos preparados para hacerlo de una forma tal que d</a:t>
            </a:r>
            <a:r>
              <a:rPr b="0" lang="es-MX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é</a:t>
            </a:r>
            <a:r>
              <a:rPr b="0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lugar a la transformación o incluso a una revolución educativa de nuestra asignatura?.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¿</a:t>
            </a: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Q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ué podemos hacer ante esta situación?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  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¿</a:t>
            </a: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T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enemos algo que decir?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5333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35a0"/>
                </a:solidFill>
                <a:latin typeface="Tahoma"/>
              </a:rPr>
              <a:t>Una invitación a participar en el:</a:t>
            </a:r>
            <a:br>
              <a:rPr sz="4400"/>
            </a:br>
            <a:br>
              <a:rPr sz="4400"/>
            </a:br>
            <a:r>
              <a:rPr b="0" lang="es-ES" sz="5400" spc="-1" strike="noStrike">
                <a:solidFill>
                  <a:srgbClr val="2635a0"/>
                </a:solidFill>
                <a:latin typeface="Tahoma"/>
                <a:ea typeface="Times New Roman"/>
              </a:rPr>
              <a:t>Desarrollo del Proyecto Nacional de Investigación sobre los Programas de Lógica a Nivel Medio Superior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O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bjetivos: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1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Tener un amplio y real panorama de cómo está la educación en Lógica a nivel Nacional en los estudios de educación Media Superior, a través del análisis de sus programas y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de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otros documentos directamente involucrados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2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Realizar un detallado análisis de los programas de lógica o de asignaturas equivalentes que nos lleve a reconocer sus carencias y sus aciertos.</a:t>
            </a:r>
            <a:br>
              <a:rPr sz="3200"/>
            </a:b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2635a0"/>
                </a:solidFill>
                <a:latin typeface="Tahoma"/>
                <a:ea typeface="Times New Roman"/>
              </a:rPr>
              <a:t>    </a:t>
            </a:r>
            <a:r>
              <a:rPr b="0" lang="es-MX" sz="4800" spc="-1" strike="noStrike">
                <a:solidFill>
                  <a:srgbClr val="2635a0"/>
                </a:solidFill>
                <a:latin typeface="Tahoma"/>
                <a:ea typeface="Times New Roman"/>
              </a:rPr>
              <a:t>L</a:t>
            </a:r>
            <a:r>
              <a:rPr b="0" lang="es-ES" sz="4800" spc="-1" strike="noStrike">
                <a:solidFill>
                  <a:srgbClr val="2635a0"/>
                </a:solidFill>
                <a:latin typeface="Tahoma"/>
                <a:ea typeface="Times New Roman"/>
              </a:rPr>
              <a:t>a palabra “didáctica”  proviene del griego, deriva del verbo </a:t>
            </a:r>
            <a:r>
              <a:rPr b="0" i="1" lang="es-ES" sz="4800" spc="-1" strike="noStrike">
                <a:solidFill>
                  <a:srgbClr val="2635a0"/>
                </a:solidFill>
                <a:latin typeface="Tahoma"/>
                <a:ea typeface="Times New Roman"/>
              </a:rPr>
              <a:t>didasko</a:t>
            </a:r>
            <a:r>
              <a:rPr b="0" lang="es-ES" sz="4800" spc="-1" strike="noStrike">
                <a:solidFill>
                  <a:srgbClr val="2635a0"/>
                </a:solidFill>
                <a:latin typeface="Tahoma"/>
                <a:ea typeface="Times New Roman"/>
              </a:rPr>
              <a:t>, que significa “enseñar, instruir, exponer claramamente, demostrar</a:t>
            </a:r>
            <a:r>
              <a:rPr b="0" lang="es-MX" sz="4800" spc="-1" strike="noStrike">
                <a:solidFill>
                  <a:srgbClr val="2635a0"/>
                </a:solidFill>
                <a:latin typeface="Tahoma"/>
                <a:ea typeface="Times New Roman"/>
              </a:rPr>
              <a:t>”.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6286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</a:rPr>
              <a:t>3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Con base en 1 y 2 realizar una serie de ensayos en los cuales tomemos posición ante aquellos rubros y temas directamente involucrados en las carencias y aciertos de los programas de lógica. 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4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Con base en 3 crear, por lo menos tres, programas de lógica  modelo. El criterio inicial para tal creación es el factor tiempo, así podemos crear de base tres programas: uno para un curso de un año, otro para un curso de un semestre y uno más  para un curso de menos de un semestre.</a:t>
            </a:r>
            <a:br>
              <a:rPr sz="3200"/>
            </a:b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Frutos que se esperan  de la investigación:</a:t>
            </a:r>
            <a:br>
              <a:rPr sz="3600"/>
            </a:br>
            <a:r>
              <a:rPr b="1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600"/>
            </a:br>
            <a:r>
              <a:rPr b="1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1.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Tener un mapa Nacional de la enseñanza de la lógica en el nivel Medio Superior.</a:t>
            </a:r>
            <a:br>
              <a:rPr sz="3600"/>
            </a:b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600"/>
            </a:br>
            <a:r>
              <a:rPr b="1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2.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Crear un libro con las orientaciones didácticas relativas a los rubros que debe satisfacer  cualquier programa de lógica que esté bien hecho.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1760" y="4800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3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Crear por lo menos tres diferentes programas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modelo de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lógic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a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4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Dar a conocer los programas a las instituciones interesadas para orientar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lo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s periodos de revisión de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s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us programas de lógica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F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ases: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1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Acopio de las doctrinas de las instituciones y de los programas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2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Análisis de los programas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3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Creación de ensayos en los cuales se toman posición didáctica respecto de cada uno de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los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rubros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 que debe tener un programa modelo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4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Creación de al menos tres programas modelo. </a:t>
            </a:r>
            <a:br>
              <a:rPr sz="3200"/>
            </a:b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5333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F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ormas en las que pueden sumarse a este proyecto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1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Elegir la fase  en la que desea participar  y enviar un correo electrónico  señalando la(s)  actividad(es)  específica(s) en la que desea participar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2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Enviando sus sugerencias para perfeccionar las fases y actividades señaladas en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l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a convocatoria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3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Enviando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por correo electrónico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cualquier información (programas, doctrinas de las instituciones)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4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Estar al pendiente de los avances del proyecto que se irán subiendo a la red paulatinamente.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2635a0"/>
                </a:solidFill>
                <a:latin typeface="Tahoma"/>
              </a:rPr>
              <a:t>5.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</a:rPr>
              <a:t> Enviando por correo electrónico las respuestas a las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</a:rPr>
              <a:t>las siguientes 3 preguntas.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Preguntas:</a:t>
            </a:r>
            <a:br>
              <a:rPr sz="3200"/>
            </a:b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1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 ¿En qué institución impartes clase de lógica o de otra asignatura que tenga que ver directamente con la lógica?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2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¿Qué es lo que tú le modificarías al programa que tienes para impartir tu clase?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3.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¿Sabes si tu institución está interesada en modificar ese programa, o si tiene establecida una periodicidad de revisiones</a:t>
            </a:r>
            <a:br>
              <a:rPr sz="3200"/>
            </a:b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al programa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5486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B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en</a:t>
            </a: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e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fic</a:t>
            </a: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i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os </a:t>
            </a:r>
            <a:r>
              <a:rPr b="1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por participar</a:t>
            </a: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:</a:t>
            </a:r>
            <a:br>
              <a:rPr sz="3200"/>
            </a:br>
            <a:r>
              <a:rPr b="1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Con excepción de la manera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4 y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5 de participar todas las demás recibirán una constancia de participación por parte de la Academia Mexicana de Lógica.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Para la forma 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4 y 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5 de participación e incluso para todas las demás el mayor beneficio que recibirá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es saber que est</a:t>
            </a:r>
            <a:r>
              <a:rPr b="0" lang="es-MX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án</a:t>
            </a:r>
            <a:r>
              <a:rPr b="0" lang="es-ES" sz="3200" spc="-1" strike="noStrike">
                <a:solidFill>
                  <a:srgbClr val="2635a0"/>
                </a:solidFill>
                <a:latin typeface="Tahoma"/>
                <a:ea typeface="Times New Roman"/>
              </a:rPr>
              <a:t> cooperando para lograr una revolución en la enseñanza de la lógica en todo nuestro país, comenzando por el nivel Medio Superior.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6920" y="5300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Lo didáctico era primeramente un subgénero de la epopeya griega junto con lo heroico y lo histórico. Los poemas didácticos  “Los trabajos y los días”, de Hesíodo, y su “Teogonía”, son ejemplos típicos de epopeya didáctica griega.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280" y="4797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La “didáctica” se identifica como: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Ciencia,  </a:t>
            </a:r>
            <a:br>
              <a:rPr sz="44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Teoría,</a:t>
            </a:r>
            <a:br>
              <a:rPr sz="44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Tecnología, </a:t>
            </a:r>
            <a:br>
              <a:rPr sz="44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Técnica</a:t>
            </a:r>
            <a:br>
              <a:rPr sz="44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Arte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   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Por cuanto a lo que sea su finalidad</a:t>
            </a: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la identifican con:</a:t>
            </a:r>
            <a:br>
              <a:rPr sz="4400"/>
            </a:b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formación,</a:t>
            </a:r>
            <a:br>
              <a:rPr sz="4400"/>
            </a:b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instrucción,</a:t>
            </a:r>
            <a:br>
              <a:rPr sz="4400"/>
            </a:b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desarrollo de facultades o </a:t>
            </a: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- 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creación cultural.</a:t>
            </a:r>
            <a:br>
              <a:rPr sz="4400"/>
            </a:b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1760" y="5257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La </a:t>
            </a:r>
            <a:r>
              <a:rPr b="1" i="1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didáctica</a:t>
            </a:r>
            <a:r>
              <a:rPr b="0" i="1" lang="es-ES" sz="4000" spc="-1" strike="noStrike">
                <a:solidFill>
                  <a:srgbClr val="2635a0"/>
                </a:solidFill>
                <a:latin typeface="Tahoma"/>
                <a:ea typeface="Times New Roman"/>
              </a:rPr>
              <a:t> es -está en camino de ser- una ciencia y tecnología que se construye, desde la teoría y la práctica, en ambientes organizados de relación y comunicación intencional, donde se desarrollan procesos de enseñanza y aprendizaje para la formación del alumnado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4647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Un </a:t>
            </a:r>
            <a:r>
              <a:rPr b="1" i="1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recurso didáctico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 es un medio, una técnica, una táctica específica para acercarnos a desarrollar los procesos de enseñanza y aprendizaje</a:t>
            </a:r>
            <a:r>
              <a:rPr b="0" lang="es-MX" sz="4400" spc="-1" strike="noStrike">
                <a:solidFill>
                  <a:srgbClr val="2635a0"/>
                </a:solidFill>
                <a:latin typeface="Tahoma"/>
                <a:ea typeface="Times New Roman"/>
              </a:rPr>
              <a:t>.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635a0"/>
                </a:solidFill>
                <a:latin typeface="Tahoma"/>
              </a:rPr>
              <a:t>Tres campos de la didáctica:</a:t>
            </a:r>
            <a:br>
              <a:rPr sz="3600"/>
            </a:br>
            <a:r>
              <a:rPr b="1" lang="es-MX" sz="3600" spc="-1" strike="noStrike">
                <a:solidFill>
                  <a:srgbClr val="2635a0"/>
                </a:solidFill>
                <a:latin typeface="Tahoma"/>
              </a:rPr>
              <a:t>1.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 T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eórico.</a:t>
            </a:r>
            <a:br>
              <a:rPr sz="3600"/>
            </a:br>
            <a:r>
              <a:rPr b="1" lang="es-MX" sz="3600" spc="-1" strike="noStrike">
                <a:solidFill>
                  <a:srgbClr val="2635a0"/>
                </a:solidFill>
                <a:latin typeface="Tahoma"/>
              </a:rPr>
              <a:t>2.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 M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etodológico o 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P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rocedimental, 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(dirigido a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impulsar acciones específicas en d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ónde se realiza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el proceso de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 enseñanza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aprendizaje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)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.</a:t>
            </a:r>
            <a:br>
              <a:rPr sz="3600"/>
            </a:br>
            <a:r>
              <a:rPr b="1" lang="es-MX" sz="3600" spc="-1" strike="noStrike">
                <a:solidFill>
                  <a:srgbClr val="2635a0"/>
                </a:solidFill>
                <a:latin typeface="Tahoma"/>
              </a:rPr>
              <a:t>3.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Práctico (dirigido a llevar acabo acciones o actividades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específicas en el proceso de enseñanza aprendizaje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</a:rPr>
              <a:t> 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</a:rPr>
              <a:t>).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5105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Campo teórico: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 En él se definien los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conceptos, principios,  instrumentos, problemas, métodos y técnicas relacionadas con los sistemas educativos.</a:t>
            </a:r>
            <a:br>
              <a:rPr sz="3600"/>
            </a:b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br>
              <a:rPr sz="3600"/>
            </a:b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Puede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traduc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irs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e en la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construcción de modelos educativos, currículas, planes y programas de estudio</a:t>
            </a:r>
            <a:r>
              <a:rPr b="0" lang="es-MX" sz="3600" spc="-1" strike="noStrike">
                <a:solidFill>
                  <a:srgbClr val="2635a0"/>
                </a:solidFill>
                <a:latin typeface="Tahoma"/>
                <a:ea typeface="Times New Roman"/>
              </a:rPr>
              <a:t>.</a:t>
            </a:r>
            <a:r>
              <a:rPr b="0" lang="es-ES" sz="4400" spc="-1" strike="noStrike">
                <a:solidFill>
                  <a:srgbClr val="2635a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18:24Z</dcterms:created>
  <dc:creator>Pablo Turmero</dc:creator>
  <dc:description/>
  <dc:language>en-US</dc:language>
  <cp:lastModifiedBy>Pablo Turmero</cp:lastModifiedBy>
  <dcterms:modified xsi:type="dcterms:W3CDTF">2016-11-14T14:47:06Z</dcterms:modified>
  <cp:revision>19</cp:revision>
  <dc:subject/>
  <dc:title>Programas de Lógica como Recurso Didáctico</dc:title>
</cp:coreProperties>
</file>