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84B-E8D8-4875-91CD-1EDAE9A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BA1-2245-4CDF-A3B5-2F5469E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8AD-E994-4335-9F56-1F0D6523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939-216C-4E7C-9444-1BEBEA85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2FF9-1B2B-4EE8-88E4-DF4270CA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34C-D6CE-4293-B65D-A30EFD7E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571-FEEC-4BB4-BDFB-954BBB81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A0AA-7FB5-47BA-9EF7-708F61EF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B706-B294-4726-B0B2-1C4B2CFA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1A8E-C84E-4545-BA6F-D7A3831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ACE8-ECA0-46B5-9C88-08832B19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5F0-5145-4884-A862-549FBB16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3EA7-2CAE-41B2-96FD-3CCEE8D0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54C3-6F0E-4006-B5F2-0D8ABAD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05B5-812E-49BE-8337-470025D5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BA2C-1482-4E3D-A771-7ACA3500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5FD6-4BC1-4E4F-9B2E-47D4AF57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B22-6809-4B36-BFA3-2F4D78F7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FD8-9823-4328-937F-22BEBC08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B43-1466-412F-BEEA-5F13B0C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8C3-5096-4E7C-93C6-D3BCAF21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797-C7AA-4BDE-9E1B-0D495293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CB1-AAFA-4266-BCA6-59E16DD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FC3-A6E5-4647-9A1C-399A331D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DF0-FEEF-4675-9D29-44D00FF651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23C1-C7B0-4D2E-B1C2-9F4C0EEDEFB3}" type="slidenum">
              <a:rPr b="0" lang="es-E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979640" y="2637000"/>
            <a:ext cx="500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f8f8f8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álisis Financiero:</a:t>
            </a:r>
            <a:endParaRPr b="0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f8f8f8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f8f8f8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. V. G. Proforca</a:t>
            </a:r>
            <a:endParaRPr b="0" lang="en-US" sz="2400" spc="1" strike="noStrike">
              <a:ln w="12600">
                <a:solidFill>
                  <a:srgbClr val="0000cc"/>
                </a:solidFill>
                <a:miter/>
              </a:ln>
              <a:solidFill>
                <a:srgbClr val="f8f8f8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257880" y="4327560"/>
            <a:ext cx="277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 u="sng">
                <a:solidFill>
                  <a:srgbClr val="f8f8f8"/>
                </a:solidFill>
                <a:uFillTx/>
                <a:latin typeface="Arial"/>
              </a:rPr>
              <a:t>Integrantes</a:t>
            </a:r>
            <a:r>
              <a:rPr b="1" lang="es-VE" sz="18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8f8f8"/>
                </a:solidFill>
                <a:latin typeface="Arial"/>
              </a:rPr>
              <a:t>Guerra, Anthony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8f8f8"/>
                </a:solidFill>
                <a:latin typeface="Arial"/>
              </a:rPr>
              <a:t>Hernández, Celeni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8f8f8"/>
                </a:solidFill>
                <a:latin typeface="Arial"/>
              </a:rPr>
              <a:t>Ríos, Alfredo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8f8f8"/>
                </a:solidFill>
                <a:latin typeface="Arial"/>
              </a:rPr>
              <a:t>Linares, José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03280" y="5985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8f8f8"/>
                </a:solidFill>
                <a:latin typeface="Arial"/>
                <a:ea typeface="Arial"/>
              </a:rPr>
              <a:t>CIUDAD GUAYANA, 16 DE FEBRERO DE 2007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2" name="Picture 5" descr="j0199829"/>
          <p:cNvPicPr/>
          <p:nvPr/>
        </p:nvPicPr>
        <p:blipFill>
          <a:blip r:embed="rId1"/>
          <a:stretch/>
        </p:blipFill>
        <p:spPr>
          <a:xfrm>
            <a:off x="1403280" y="3429000"/>
            <a:ext cx="1797120" cy="1824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835280" y="320760"/>
            <a:ext cx="6588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8f8f8"/>
                </a:solidFill>
                <a:latin typeface="Arial"/>
                <a:ea typeface="Arial"/>
              </a:rPr>
              <a:t>UNIVERSIDAD NACIONAL EXPERIMENTAL POLITÉCNICA</a:t>
            </a:r>
            <a:br>
              <a:rPr sz="1800"/>
            </a:br>
            <a:r>
              <a:rPr b="1" lang="es-ES_tradnl" sz="1800" spc="-1" strike="noStrike">
                <a:solidFill>
                  <a:srgbClr val="f8f8f8"/>
                </a:solidFill>
                <a:latin typeface="Arial"/>
                <a:ea typeface="Arial"/>
              </a:rPr>
              <a:t>“ ANTONIO JOSÉ DE SUCRE ”</a:t>
            </a:r>
            <a:br>
              <a:rPr sz="1800"/>
            </a:br>
            <a:r>
              <a:rPr b="1" lang="es-ES_tradnl" sz="1800" spc="-1" strike="noStrike">
                <a:solidFill>
                  <a:srgbClr val="f8f8f8"/>
                </a:solidFill>
                <a:latin typeface="Arial"/>
                <a:ea typeface="Arial"/>
              </a:rPr>
              <a:t>VICE-RECTORADO PUERTO ORDAZ</a:t>
            </a:r>
            <a:br>
              <a:rPr sz="1800"/>
            </a:br>
            <a:r>
              <a:rPr b="1" lang="es-ES_tradnl" sz="1800" spc="-1" strike="noStrike">
                <a:solidFill>
                  <a:srgbClr val="f8f8f8"/>
                </a:solidFill>
                <a:latin typeface="Arial"/>
                <a:ea typeface="Arial"/>
              </a:rPr>
              <a:t>DEPARTAMENTO DE INGENIERÍA INDUSTRIAL</a:t>
            </a:r>
            <a:br>
              <a:rPr sz="1800"/>
            </a:br>
            <a:r>
              <a:rPr b="1" lang="es-ES_tradnl" sz="1800" spc="-1" strike="noStrike">
                <a:solidFill>
                  <a:srgbClr val="f8f8f8"/>
                </a:solidFill>
                <a:latin typeface="Arial"/>
                <a:ea typeface="Arial"/>
              </a:rPr>
              <a:t>INGENIERÍA FINANCIER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 rot="5400000">
            <a:off x="1041480" y="981720"/>
            <a:ext cx="1297080" cy="1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8f8f8"/>
                </a:solidFill>
                <a:latin typeface="Arial Black"/>
              </a:rPr>
              <a:t>UNEXPO</a:t>
            </a:r>
            <a:endParaRPr b="0" lang="en-US" sz="1000" spc="1" strike="noStrike">
              <a:ln w="0">
                <a:noFill/>
              </a:ln>
              <a:solidFill>
                <a:srgbClr val="f8f8f8"/>
              </a:solidFill>
              <a:latin typeface="Arial Black"/>
              <a:ea typeface="Arial Black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368360" cy="1346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539640" y="472752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8f8f8"/>
                </a:solidFill>
                <a:uFillTx/>
                <a:latin typeface="Arial"/>
                <a:ea typeface="Arial"/>
              </a:rPr>
              <a:t>Profesor</a:t>
            </a:r>
            <a:r>
              <a:rPr b="1" lang="es-ES" sz="2000" spc="-1" strike="noStrike">
                <a:solidFill>
                  <a:srgbClr val="f8f8f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  <a:ea typeface="Arial"/>
              </a:rPr>
              <a:t>Ing. Andrés Blanc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azones Financieras de C.V.G. Profor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d) Rentabilida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Sobre las venta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1) Margen de utilidad brut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2) Margen de utilidad neta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826920" y="3789360"/>
                <a:ext cx="7891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por ventas - Costo de la ven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s  por  vent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8110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8065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4811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1042920" y="5373720"/>
                <a:ext cx="51134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tilidad ne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485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4811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azones Financieras de C.V.G. Profor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d) Rentabilida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Sobre la inversió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1) Rendimiento sobre activos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2)Rendimiento sobre el capital contable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900000" y="3789360"/>
                <a:ext cx="5688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tilidad ne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deactivo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485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3680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0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973080" y="5445000"/>
                <a:ext cx="57596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tilidad ne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àpital contabl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485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687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61928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SITUACIÓN ACTUA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58920" y="1197000"/>
            <a:ext cx="44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8f8f8"/>
                </a:solidFill>
                <a:uFillTx/>
                <a:latin typeface="Arial"/>
              </a:rPr>
              <a:t>Estructura de capital de la empres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40" y="2786760"/>
            <a:ext cx="34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76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76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16000" y="1844640"/>
          <a:ext cx="6049800" cy="2879640"/>
        </p:xfrm>
        <a:graphic>
          <a:graphicData uri="http://schemas.openxmlformats.org/drawingml/2006/table">
            <a:tbl>
              <a:tblPr/>
              <a:tblGrid>
                <a:gridCol w="3917880"/>
                <a:gridCol w="213192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IONISTAS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 ACCIONES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3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ción Venezolana de Guayana (C.V.G).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%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ñía Nacional de Reforestación (CONARE)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%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19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258920" y="472428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8f8f8"/>
                </a:solidFill>
                <a:uFillTx/>
                <a:latin typeface="Arial"/>
              </a:rPr>
              <a:t>Decisiones y políticas de inversió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900000" y="5013360"/>
            <a:ext cx="705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Entre estos materiales esenciales tenemos: Maquinaria con tecnología de punta para la siembra, Extinción de incendios, Procesamiento de madera y Combate contra la plaga, lo cual representa el 50% de la inversión. Además, la empresa cuenta con un 20% en capital neto y el 30% restante se encuentra distribuido en utilidad neta, utilidad bruta, salario de empleados, prestaciones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33720" y="457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Arial"/>
                <a:ea typeface="Arial"/>
              </a:rPr>
              <a:t>POLÍTICAS DE DIVIDEND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057400" y="1600200"/>
            <a:ext cx="44197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GANANCIA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1932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ccionista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56272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Materiales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Line 6"/>
          <p:cNvSpPr/>
          <p:nvPr/>
        </p:nvSpPr>
        <p:spPr>
          <a:xfrm flipH="1">
            <a:off x="1676520" y="2133720"/>
            <a:ext cx="914400" cy="18288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5410080" y="2209680"/>
            <a:ext cx="1067040" cy="17528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33520" y="53352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Arial"/>
                <a:ea typeface="Arial"/>
              </a:rPr>
              <a:t>PROYECTOS FUTUROS Y CRECIMIENTO INTERNO Y EXTERN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5800" y="19051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OBTENER CERTIFICACIÓN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85800" y="23623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CREAR LA INSTALACIÓN DE NUEVOS ASERRADEROS Y                   CARPINTERÍA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62120" y="306864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AMPLIACIÓN Y DISTRIBUCIÓN DE MADERA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4724280" y="3352680"/>
          <a:ext cx="3157560" cy="31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315756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057400" y="4572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Arial"/>
                <a:ea typeface="Arial"/>
              </a:rPr>
              <a:t>ESTRUCTURA FINANCIER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2286000" y="914400"/>
            <a:ext cx="4038480" cy="23623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048120" y="170028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Capital propio y Financiamiento Extern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5800" y="3809880"/>
            <a:ext cx="8077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  <a:ea typeface="Arial"/>
              </a:rPr>
              <a:t>Alianza con otras compañías,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  <a:ea typeface="Arial"/>
              </a:rPr>
              <a:t>La adquisición de préstamos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  <a:ea typeface="Arial"/>
              </a:rPr>
              <a:t>Realiza ventas de Madera de contado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295280" y="5334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ADELANTO DEL 50%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14400" y="3049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Arial"/>
                <a:ea typeface="Arial"/>
              </a:rPr>
              <a:t>MODELO DE DEPRECIACIÓN DE LA EMPRE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295280" y="1219320"/>
            <a:ext cx="6400800" cy="1472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El modelo de depreciación 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utilizado por la empresa es por características naturales por ejemplo el fenómeno del niño o afectación de incendio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6" name="Picture 4" descr="BD05297_"/>
          <p:cNvPicPr/>
          <p:nvPr/>
        </p:nvPicPr>
        <p:blipFill>
          <a:blip r:embed="rId1"/>
          <a:stretch/>
        </p:blipFill>
        <p:spPr>
          <a:xfrm>
            <a:off x="3505320" y="2209680"/>
            <a:ext cx="3504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5"/>
          <p:cNvSpPr txBox="1"/>
          <p:nvPr/>
        </p:nvSpPr>
        <p:spPr>
          <a:xfrm>
            <a:off x="1692360" y="2349360"/>
            <a:ext cx="5400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álisis FODA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08000" y="44280"/>
          <a:ext cx="8856720" cy="6734520"/>
        </p:xfrm>
        <a:graphic>
          <a:graphicData uri="http://schemas.openxmlformats.org/drawingml/2006/table">
            <a:tbl>
              <a:tblPr/>
              <a:tblGrid>
                <a:gridCol w="2922480"/>
                <a:gridCol w="2981520"/>
                <a:gridCol w="2952720"/>
              </a:tblGrid>
              <a:tr h="284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                                           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i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NAS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i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XTERNAS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Fortalezas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2667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Cuenta con personal técnico calificado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2667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 pesar que tienen varios competidores ésta empresa cuenta con clientes importantes como EDELCA, entre otros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Debilidades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No posee alianzas con empresas trasnacionales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a empresa no se encuentra certificada por una empresa líder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No cuenta con el espacio físico adecuado para el completo desarrollo de sus actividades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os contratos que proporcionan ingresos significativos se hacen esporádicamente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Disponen de equipos manuales, debido a que no se trabaja en serie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23960" indent="-95400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723960" indent="-9540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Oportunidades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723960" indent="-954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El creciente Interés de automatizar la administración y control de la empresa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723960" indent="-954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En la zona se encuentran un número considerable de clientes  locales que puedan solicitar el servicio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723960" indent="-954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a alianza con otras empresas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723960" indent="-954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lcanzar un mayor número de contratos de empresas nacionales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723960" indent="-95400"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Symbol" charset="2"/>
                        <a:buChar char=""/>
                        <a:tabLst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Estrategias FO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Realizar alianzas con otras empresas de la zona que tengan desarrollo en esa área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Realizar contratos importantes con las empresas mas cercana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provechar el auge económico de la región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a cartera de cliente se incrementa cada día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Tahom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Estrategias DO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uchar por la certificación de la Norma I.S.O.</a:t>
                      </a:r>
                      <a:r>
                        <a:rPr b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Realizar contratos importantes con las empresas mas cercana.</a:t>
                      </a:r>
                      <a:r>
                        <a:rPr b="1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i="1" lang="es-ES" sz="10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Amenazas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a llegada de empresas con recursos    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tecnológicos disponibles y propios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as políticas cambiarias en el país 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pueden afectar las posibilidades de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dquisición de los equipos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6699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Estrategias FA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plicar la gestión tecnológica de la empresa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Preparar estrategias de mercado para impulsar la competencia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000" spc="-1" strike="noStrike">
                          <a:solidFill>
                            <a:srgbClr val="6600ff"/>
                          </a:solidFill>
                          <a:latin typeface="Arial"/>
                          <a:ea typeface="Times New Roman"/>
                        </a:rPr>
                        <a:t>Estrategias DA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provechar los posibles déficit o estabilidad a nivel de inflación para realizar la compra de insumos. 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umentar la publicidad y promoción del producto.</a:t>
                      </a:r>
                      <a:endParaRPr b="0" lang="en-US" sz="1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Line 20"/>
          <p:cNvSpPr/>
          <p:nvPr/>
        </p:nvSpPr>
        <p:spPr>
          <a:xfrm>
            <a:off x="395280" y="549360"/>
            <a:ext cx="2521080" cy="2448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8f8f8"/>
                </a:solidFill>
                <a:latin typeface="Tahoma"/>
              </a:rPr>
              <a:t>C.V.G. Proforca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, es una empresa del sector público destinada </a:t>
            </a: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a la producción de madera de Pino Caribe y sus derivados de la madera, para satisfacer las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necesidades tanto en el ámbito regional como nacional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posee un gran renombre en la región que le permita permanecer en el puesto número uno, como la empresa con mayor experiencia y especialización en el área</a:t>
            </a:r>
            <a:r>
              <a:rPr b="0" lang="es-ES" sz="2000" spc="-1" strike="noStrike">
                <a:solidFill>
                  <a:srgbClr val="f8f8f8"/>
                </a:solidFill>
                <a:latin typeface="Tahoma"/>
              </a:rPr>
              <a:t> de la producción de madera de Pino Caribe y productos derivados de la mader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La empresa adquirirá equipos de alto costo, siempre y cuando la inversión y su utilización sea justificad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55640" y="3068640"/>
            <a:ext cx="712944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8f8f8"/>
                </a:solidFill>
                <a:uFillTx/>
                <a:latin typeface="Arial"/>
              </a:rPr>
              <a:t>Objetivos de la empres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Garantizar la agregación de valor a la materia prima, mediante la recuperación y puesta en marcha del aserradero industrial de Uverito de CVG Proforca y la puesta en marcha del proyecto de fabricación de elementos y partes para la construcción de viviendas con maderas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403280" y="476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Arial"/>
              </a:rPr>
              <a:t>GENERALIDADES DE LA EMPRE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55640" y="5084640"/>
            <a:ext cx="7561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8f8f8"/>
                </a:solidFill>
                <a:uFillTx/>
                <a:latin typeface="Arial"/>
              </a:rPr>
              <a:t>Estructura planificativ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Cuenta con  profesionales de diferentes niveles, dedicados al desarrollo y mejoras del sistema de manufactura y comercialización…..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836640"/>
            <a:ext cx="770400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C.V.G Productos Forestales de Oriente C.A. se constituyó el 27 de febrero de 1988 por disposición del Gobierno Nacional, correspondiendo a C.V.G el 85 por ciento de las acciones y el 15 por ciento restante de las acciones de C.V.G Proforca pertenecen a la Compañía Nacional de Reforestación (Conare), responsable desde mediados de los años 70 de las plantaciones de pino caribe y su expansión al sur de Anzoátegui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6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6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6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6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Su nivel medio de liquidez no les ha permitido alcanzar sus expectativas de crecimiento en el área de trabajo en donde se desempeñan como empresa matriz en </a:t>
            </a: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en el área de producción de madera de pino caribe y sus derivado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Las razones de rentabilidad son importantes y valiosas en la comparación de una empresa con otras similares. Es importante recalcar que solo mediante la comparación se esta en condición de evaluar si la rentabilidad es mala y a que se debe esto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ECOMEND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Realizar los trámites necesarios para certificarse con una empresa líder o aliarse a certificadoras nacionales y trasnacionales, con el fin de darle un valor agregado a la madera, para que las empresas que soliciten el servicio de C.V.G. Proforca, se sientan más seguras del trabajo realizado por ést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Invertir en la ampliación de sus instalaciones para que pueda prestar todos sus servicios en un mismo lugar y ofrecerlos de una manera más adecuada a sus cliente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Conseguir un mayor número de contratos fijos y significativos, para que los flujos de efectivos permanentes adquieran una mayor dimensión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Estructura Organizativa Aprobad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3236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1600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8f8f8"/>
                </a:solidFill>
                <a:uFillTx/>
                <a:latin typeface="Arial"/>
              </a:rPr>
              <a:t>Visió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042920" y="476280"/>
            <a:ext cx="6697800" cy="266364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47640" y="907920"/>
            <a:ext cx="504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Ser un modelo de empresa para el desarrollo endógeno en el sector foresta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042920" y="3284640"/>
            <a:ext cx="6769080" cy="2663640"/>
          </a:xfrm>
          <a:prstGeom prst="horizontalScrol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8728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8f8f8"/>
                </a:solidFill>
                <a:uFillTx/>
                <a:latin typeface="Arial"/>
              </a:rPr>
              <a:t>Misió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763640" y="3716280"/>
            <a:ext cx="511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Desarrollar plantaciones forestales sustentables y productos con valor agregado de madera, a través de la cogestión y autogestión vinculando a proyectos de vida en un marco de democracia direct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ituación Actual de C.V.G. Profo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34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C.V.G. Proforca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                             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ESTADO DE SITUACION FINANCIERA AL 31 DE DICIEMBRE DEL 2004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ACTIVO  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                                                       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Activo Circulante                                        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Caja                                              5.380.000Bs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Bancos                                        40.350.000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Valores realizables                     13.450.000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Clientes                                       45.730.000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Deudores diversos                        8.070.000     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Inventarios                                 </a:t>
            </a:r>
            <a:r>
              <a:rPr b="0" lang="es-ES" sz="1200" spc="-1" strike="noStrike" u="sng">
                <a:solidFill>
                  <a:srgbClr val="f8f8f8"/>
                </a:solidFill>
                <a:uFillTx/>
                <a:latin typeface="Tahoma"/>
              </a:rPr>
              <a:t>295.900.000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Suma el Activo Circulante         408.880.000Bs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Activo Fijo                                                  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Terrenos                                         134.500.000Bs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Edificio                                        1.345.000.000  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Maquinaria y Equipo                      269.000.000   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Mobiliario y Equipo de cómputo      80.700.000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Equipo de transporte                       215.200.000     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Depreciación acumulada               </a:t>
            </a:r>
            <a:r>
              <a:rPr b="0" lang="es-ES" sz="1200" spc="-1" strike="noStrike" u="sng">
                <a:solidFill>
                  <a:srgbClr val="f8f8f8"/>
                </a:solidFill>
                <a:uFillTx/>
                <a:latin typeface="Tahoma"/>
              </a:rPr>
              <a:t>(613.320.000)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   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Suma el Activo Fijo                      1.431.080.000Bs  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Activo diferido</a:t>
            </a: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Gastos de instalación y constitución   121.050.000 Bs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Amortización acumulada                     </a:t>
            </a:r>
            <a:r>
              <a:rPr b="0" lang="es-ES" sz="1200" spc="-1" strike="noStrike" u="sng">
                <a:solidFill>
                  <a:srgbClr val="f8f8f8"/>
                </a:solidFill>
                <a:uFillTx/>
                <a:latin typeface="Tahoma"/>
              </a:rPr>
              <a:t>(24.210.000)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                                                             96.840.000 Bs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Tahoma"/>
              </a:rPr>
              <a:t>  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8f8f8"/>
                </a:solidFill>
                <a:latin typeface="Tahoma"/>
              </a:rPr>
              <a:t>Suma del Activo Total                      1.936.800.000 Bs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435640" y="1773360"/>
            <a:ext cx="45003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Arial"/>
              </a:rPr>
              <a:t>PASIVO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Arial"/>
              </a:rPr>
              <a:t>A Corto Plazo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Proveedores                       204.440.000Bs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Préstamos Bancarios            26.900.000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Acreedores Diversos            13.450.000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Impuestos por Pagar           </a:t>
            </a:r>
            <a:r>
              <a:rPr b="0" lang="es-ES" sz="1200" spc="-1" strike="noStrike" u="sng">
                <a:solidFill>
                  <a:srgbClr val="f8f8f8"/>
                </a:solidFill>
                <a:uFillTx/>
                <a:latin typeface="Arial"/>
              </a:rPr>
              <a:t>  16.140.000</a:t>
            </a: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Suma el Pasivo A C Plazo 260.930.000 B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Arial"/>
              </a:rPr>
              <a:t>A Largo Plazo</a:t>
            </a: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Préstamos Bancarios        </a:t>
            </a:r>
            <a:r>
              <a:rPr b="0" lang="es-ES" sz="1200" spc="-1" strike="noStrike" u="sng">
                <a:solidFill>
                  <a:srgbClr val="f8f8f8"/>
                </a:solidFill>
                <a:uFillTx/>
                <a:latin typeface="Arial"/>
              </a:rPr>
              <a:t> 269.000.000Bs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Suma el Pasivo A L Plazo  269.000.000B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Arial"/>
              </a:rPr>
              <a:t>Suma del Pasivo Total         529.930.000B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Arial"/>
              </a:rPr>
              <a:t>CAPITAL CONTABLE 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Capital Social                       1.076.000.000Bs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Reserva Legal                           21.520.000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Utilidades Acumuladas           134.500.000</a:t>
            </a:r>
            <a:br>
              <a:rPr sz="1200"/>
            </a:br>
            <a:r>
              <a:rPr b="0" lang="es-ES" sz="1200" spc="-1" strike="noStrike">
                <a:solidFill>
                  <a:srgbClr val="f8f8f8"/>
                </a:solidFill>
                <a:latin typeface="Arial"/>
              </a:rPr>
              <a:t>Utilidad del Ejercicio           </a:t>
            </a:r>
            <a:r>
              <a:rPr b="0" lang="es-ES" sz="1200" spc="-1" strike="noStrike" u="sng">
                <a:solidFill>
                  <a:srgbClr val="f8f8f8"/>
                </a:solidFill>
                <a:uFillTx/>
                <a:latin typeface="Arial"/>
              </a:rPr>
              <a:t>    174.850.000</a:t>
            </a:r>
            <a:br>
              <a:rPr sz="1200"/>
            </a:br>
            <a:r>
              <a:rPr b="1" lang="es-ES" sz="1200" spc="-1" strike="noStrike">
                <a:solidFill>
                  <a:srgbClr val="f8f8f8"/>
                </a:solidFill>
                <a:latin typeface="Arial"/>
              </a:rPr>
              <a:t>Suma el Capital Contable  1.406.870.00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8f8f8"/>
                </a:solidFill>
                <a:latin typeface="Arial"/>
              </a:rPr>
              <a:t>Suma del Pasivo y Capital    1.936.800.000B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                                                          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C.V.G. Proforca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ESTADO DE PERDIDAS Y GANANCIAS DEL 1° DE ENERO </a:t>
            </a:r>
            <a:br>
              <a:rPr sz="1400"/>
            </a:b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AL 31 DE DICIEMBRE DE 2004. </a:t>
            </a:r>
            <a:br>
              <a:rPr sz="1400"/>
            </a:br>
            <a:br>
              <a:rPr sz="14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 Ventas  Netas                                                              3.548.110.000 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 Costo de Ventas                                                         </a:t>
            </a:r>
            <a:r>
              <a:rPr b="0" lang="es-ES" sz="1600" spc="-1" strike="noStrike" u="sng">
                <a:solidFill>
                  <a:srgbClr val="f8f8f8"/>
                </a:solidFill>
                <a:uFillTx/>
                <a:latin typeface="Tahoma"/>
              </a:rPr>
              <a:t>(2.380.650.000) 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 Utilidad Bruta                                                            1.167.460.000Bs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  Gastos de Operación: 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     Gastos de Venta                         220.580.000Bs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     Gastos de Administración          </a:t>
            </a:r>
            <a:r>
              <a:rPr b="0" lang="es-ES" sz="1600" spc="-1" strike="noStrike" u="sng">
                <a:solidFill>
                  <a:srgbClr val="f8f8f8"/>
                </a:solidFill>
                <a:uFillTx/>
                <a:latin typeface="Tahoma"/>
              </a:rPr>
              <a:t> 201.750.000 </a:t>
            </a: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     </a:t>
            </a:r>
            <a:r>
              <a:rPr b="0" lang="es-ES" sz="1600" spc="-1" strike="noStrike" u="sng">
                <a:solidFill>
                  <a:srgbClr val="f8f8f8"/>
                </a:solidFill>
                <a:uFillTx/>
                <a:latin typeface="Tahoma"/>
              </a:rPr>
              <a:t>422.330.000 </a:t>
            </a: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Utilidad operativa                                                         745.130.000 Bs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 Costo integral de financiamiento                                  </a:t>
            </a:r>
            <a:r>
              <a:rPr b="0" lang="es-ES" sz="1600" spc="-1" strike="noStrike" u="sng">
                <a:solidFill>
                  <a:srgbClr val="f8f8f8"/>
                </a:solidFill>
                <a:uFillTx/>
                <a:latin typeface="Tahoma"/>
              </a:rPr>
              <a:t>   12.912.000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Utilidad después de financiamiento                               732.218.000Bs 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Otros gastos                                                                 </a:t>
            </a:r>
            <a:r>
              <a:rPr b="0" lang="es-ES" sz="1600" spc="-1" strike="noStrike" u="sng">
                <a:solidFill>
                  <a:srgbClr val="f8f8f8"/>
                </a:solidFill>
                <a:uFillTx/>
                <a:latin typeface="Tahoma"/>
              </a:rPr>
              <a:t>      1.345.000</a:t>
            </a: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 Utilidad antes de impuestos                                           730.873.000Bs   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ISLR Y PTU                                                                   </a:t>
            </a:r>
            <a:r>
              <a:rPr b="0" lang="es-ES" sz="1600" spc="-1" strike="noStrike" u="sng">
                <a:solidFill>
                  <a:srgbClr val="f8f8f8"/>
                </a:solidFill>
                <a:uFillTx/>
                <a:latin typeface="Tahoma"/>
              </a:rPr>
              <a:t>   556.023.000</a:t>
            </a:r>
            <a:br>
              <a:rPr sz="1600"/>
            </a:b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          tilidad neta del ejercicio                                                 174.850.000Bs</a:t>
            </a:r>
            <a:r>
              <a:rPr b="0" lang="es-ES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ituación Actual en C.V.G. Profor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Razones financieras y su análisi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a) Liquidez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Razón circulant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ituación Actual de C.V.G. Profor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592280" y="3716280"/>
                <a:ext cx="48798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093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85080" y="443700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Arial"/>
              </a:rPr>
              <a:t>Prueba del ácid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187280" y="5229360"/>
                <a:ext cx="6840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circulante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ventari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sCirculante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8880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59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093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azones Financieras de C.V.G. Profor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b) Eficiencia en la utilización de activ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Rotación de activos total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Rotación de los activos fij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Rendimiento sobre capital contab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826920" y="2852640"/>
                <a:ext cx="4392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 anua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81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3680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826920" y="4221000"/>
                <a:ext cx="432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fijo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81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108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900000" y="5661000"/>
                <a:ext cx="482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 anua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pital contabl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81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687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azones Financieras de C.V.G. Profor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c) Endeudamient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Razón de endeudamiento (apalancamiento)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Razón de deuda a largo plazo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8f8f8"/>
                </a:solidFill>
                <a:latin typeface="Tahoma"/>
              </a:rPr>
              <a:t>Razón de deuda a corto plazo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971640" y="3429000"/>
                <a:ext cx="6583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de pas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993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3680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1042920" y="4581360"/>
                <a:ext cx="4824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uda a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de los activo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9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3680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1281240" y="5803920"/>
                <a:ext cx="4370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s circulant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093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36800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34:56Z</dcterms:created>
  <dc:creator>GRUPO</dc:creator>
  <dc:description/>
  <cp:keywords>INGENIERÍA FINANCIERA</cp:keywords>
  <dc:language>en-US</dc:language>
  <cp:lastModifiedBy>Ivan Turmero</cp:lastModifiedBy>
  <dcterms:modified xsi:type="dcterms:W3CDTF">2016-12-24T00:18:21Z</dcterms:modified>
  <cp:revision>86</cp:revision>
  <dc:subject/>
  <dc:title>DII</dc:title>
</cp:coreProperties>
</file>