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png" ContentType="image/png"/>
  <Override PartName="/ppt/media/image25.png" ContentType="image/png"/>
  <Override PartName="/ppt/media/image27.png" ContentType="image/png"/>
  <Override PartName="/ppt/media/image4.png" ContentType="image/png"/>
  <Override PartName="/ppt/media/image5.png" ContentType="image/png"/>
  <Override PartName="/ppt/media/image29.jpeg" ContentType="image/jpe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28.wmf" ContentType="image/x-wmf"/>
  <Override PartName="/ppt/media/image3.jpeg" ContentType="image/jpeg"/>
  <Override PartName="/ppt/media/image15.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ffffff"/>
              </a:solidFill>
              <a:latin typeface="Castellar"/>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stellar"/>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VE" sz="1200" spc="-1" strike="noStrike">
                <a:solidFill>
                  <a:srgbClr val="000000"/>
                </a:solidFill>
                <a:latin typeface="Castellar"/>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Castellar"/>
              </a:rPr>
              <a:t>&lt;date/time&gt;</a:t>
            </a:r>
            <a:endParaRPr b="1" lang="en-US" sz="1200" spc="-1" strike="noStrike">
              <a:solidFill>
                <a:srgbClr val="000000"/>
              </a:solidFill>
              <a:latin typeface="Castellar"/>
            </a:endParaRPr>
          </a:p>
        </p:txBody>
      </p:sp>
      <p:sp>
        <p:nvSpPr>
          <p:cNvPr id="12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stellar"/>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VE" sz="1200" spc="-1" strike="noStrike">
                <a:solidFill>
                  <a:srgbClr val="000000"/>
                </a:solidFill>
                <a:latin typeface="Castellar"/>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9CBF4-695B-4E4B-A190-F94234D9BAD0}" type="slidenum">
              <a:rPr b="1" lang="es-VE" sz="1200" spc="-1" strike="noStrike">
                <a:solidFill>
                  <a:srgbClr val="000000"/>
                </a:solidFill>
                <a:latin typeface="Castellar"/>
              </a:rPr>
              <a:t>&lt;number&gt;</a:t>
            </a:fld>
            <a:endParaRPr b="1" lang="en-US" sz="1200" spc="-1" strike="noStrike">
              <a:solidFill>
                <a:srgbClr val="000000"/>
              </a:solidFill>
              <a:latin typeface="Castellar"/>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400" spc="-1" strike="noStrike">
              <a:solidFill>
                <a:srgbClr val="000000"/>
              </a:solidFill>
              <a:latin typeface="Calibri"/>
            </a:endParaRPr>
          </a:p>
        </p:txBody>
      </p:sp>
      <p:sp>
        <p:nvSpPr>
          <p:cNvPr id="3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B608C-F431-40F2-9904-66399FF3A714}" type="slidenum">
              <a:rPr b="1" lang="es-VE" sz="1200" spc="-1" strike="noStrike">
                <a:solidFill>
                  <a:srgbClr val="ffffff"/>
                </a:solidFill>
                <a:latin typeface="Castellar"/>
              </a:rPr>
              <a:t>&lt;number&gt;</a:t>
            </a:fld>
            <a:endParaRPr b="1" lang="en-US" sz="1200" spc="-1" strike="noStrike">
              <a:solidFill>
                <a:srgbClr val="ffffff"/>
              </a:solidFill>
              <a:latin typeface="Castellar"/>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3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0293D-ACC0-402A-8296-056EBE25106A}" type="slidenum">
              <a:rPr b="1" lang="es-VE" sz="1200" spc="-1" strike="noStrike">
                <a:solidFill>
                  <a:srgbClr val="ffffff"/>
                </a:solidFill>
                <a:latin typeface="Castellar"/>
              </a:rPr>
              <a:t>&lt;number&gt;</a:t>
            </a:fld>
            <a:endParaRPr b="1" lang="en-US" sz="1200" spc="-1" strike="noStrike">
              <a:solidFill>
                <a:srgbClr val="ffffff"/>
              </a:solidFill>
              <a:latin typeface="Castellar"/>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709CF-8F2A-4F9F-96EA-9D033A2AC0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24A70-025F-46C2-B6FD-AC874D62C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3ACD4-8E80-4766-8021-FBFB5C0FCE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C4F35-A775-44C3-BB89-5E57079B3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69176C0-F67B-4B8E-BB9E-DA9C44C419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E4298E9-005E-45B6-BDB4-8CE14A1677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6C283DB-7DA7-4BEF-9C14-10CBD89EF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B0AFD3D-7512-4658-9090-99D833375D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461C7A3-1037-4A8E-9EF6-1479CD429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64DB448-9354-4503-BA14-E84E623CE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A6F2988-3A1A-41B1-B499-ABB0DA2D2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24EA4-074B-4752-A565-26F91ED4A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9F26F5A-19D2-4A96-9D09-514EA819E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9358C7C-E9B9-4ACE-BAFC-AAFB2A3BE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FA1049B-92C0-459C-AC1C-A9F64D0AEA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E697A39-5D8B-4788-BC14-B44F13C7F9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9C3FA5F-1C0B-4FC4-82C3-CF1C68AF0D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02E9A-4E2A-4EB9-A2CF-82241BE4C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F9E77-A1AB-4CFC-8162-D8B2C3DBB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8CE61-4FCA-4C28-82DF-17F66B930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7899C-5135-4219-8580-B57DD9B62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43955-2CF0-481D-BF26-072A54ABF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8470E-8748-4162-8C5E-63FB95144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CC851-826C-4377-A80B-F0C94E90C2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date/time&gt;</a:t>
            </a:r>
            <a:endParaRPr b="1" lang="en-US" sz="1200" spc="-1" strike="noStrike">
              <a:solidFill>
                <a:srgbClr val="000000"/>
              </a:solidFill>
              <a:latin typeface="Castellar"/>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stellar"/>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E5D5A-89E2-45F9-998E-E578EF90FCB9}" type="slidenum">
              <a:rPr b="0" lang="es-ES" sz="1200" spc="-1" strike="noStrike">
                <a:solidFill>
                  <a:srgbClr val="000000"/>
                </a:solidFill>
                <a:latin typeface="Arial"/>
              </a:rPr>
              <a:t>&lt;number&gt;</a:t>
            </a:fld>
            <a:endParaRPr b="1" lang="en-US" sz="1200" spc="-1" strike="noStrike">
              <a:solidFill>
                <a:srgbClr val="000000"/>
              </a:solidFill>
              <a:latin typeface="Castellar"/>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1" lang="en-US" sz="1200" spc="-1" strike="noStrike">
              <a:solidFill>
                <a:srgbClr val="000000"/>
              </a:solidFill>
              <a:latin typeface="Castellar"/>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D5E5A-9147-4864-8D4B-F1F6AA21120B}" type="slidenum">
              <a:rPr b="0" lang="es-ES" sz="1200" spc="-1" strike="noStrike">
                <a:solidFill>
                  <a:srgbClr val="ffffff"/>
                </a:solidFill>
                <a:latin typeface="Arial"/>
              </a:rPr>
              <a:t>&lt;number&gt;</a:t>
            </a:fld>
            <a:endParaRPr b="1" lang="en-US" sz="1200" spc="-1" strike="noStrike">
              <a:solidFill>
                <a:srgbClr val="000000"/>
              </a:solidFill>
              <a:latin typeface="Castellar"/>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stellar"/>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9.png"/><Relationship Id="rId17" Type="http://schemas.openxmlformats.org/officeDocument/2006/relationships/image" Target="../media/image20.png"/><Relationship Id="rId18" Type="http://schemas.openxmlformats.org/officeDocument/2006/relationships/image" Target="../media/image21.png"/><Relationship Id="rId19" Type="http://schemas.openxmlformats.org/officeDocument/2006/relationships/image" Target="../media/image22.png"/><Relationship Id="rId20" Type="http://schemas.openxmlformats.org/officeDocument/2006/relationships/image" Target="../media/image23.png"/><Relationship Id="rId21" Type="http://schemas.openxmlformats.org/officeDocument/2006/relationships/image" Target="../media/image24.png"/><Relationship Id="rId22" Type="http://schemas.openxmlformats.org/officeDocument/2006/relationships/image" Target="../media/image25.png"/><Relationship Id="rId23" Type="http://schemas.openxmlformats.org/officeDocument/2006/relationships/image" Target="../media/image26.png"/><Relationship Id="rId24" Type="http://schemas.openxmlformats.org/officeDocument/2006/relationships/image" Target="../media/image2.png"/><Relationship Id="rId25" Type="http://schemas.openxmlformats.org/officeDocument/2006/relationships/image" Target="../media/image27.png"/><Relationship Id="rId2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file:///la%20beba.xlsx" TargetMode="External"/><Relationship Id="rId2" Type="http://schemas.openxmlformats.org/officeDocument/2006/relationships/hyperlink" Target="file:///la%20beba.xlsx" TargetMode="External"/><Relationship Id="rId3" Type="http://schemas.openxmlformats.org/officeDocument/2006/relationships/image" Target="../media/image28.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10 Rectángulo redondeado"/>
          <p:cNvGrpSpPr/>
          <p:nvPr/>
        </p:nvGrpSpPr>
        <p:grpSpPr>
          <a:xfrm>
            <a:off x="2316240" y="2408400"/>
            <a:ext cx="4255920" cy="1255680"/>
            <a:chOff x="2316240" y="2408400"/>
            <a:chExt cx="4255920" cy="1255680"/>
          </a:xfrm>
        </p:grpSpPr>
        <p:pic>
          <p:nvPicPr>
            <p:cNvPr id="130" name="10 Rectángulo redondeado" descr=""/>
            <p:cNvPicPr/>
            <p:nvPr/>
          </p:nvPicPr>
          <p:blipFill>
            <a:blip r:embed="rId1"/>
            <a:stretch/>
          </p:blipFill>
          <p:spPr>
            <a:xfrm>
              <a:off x="2316240" y="2408400"/>
              <a:ext cx="4255920" cy="1255680"/>
            </a:xfrm>
            <a:prstGeom prst="rect">
              <a:avLst/>
            </a:prstGeom>
            <a:ln w="0">
              <a:noFill/>
            </a:ln>
          </p:spPr>
        </p:pic>
        <p:sp>
          <p:nvSpPr>
            <p:cNvPr id="131" name=""/>
            <p:cNvSpPr/>
            <p:nvPr/>
          </p:nvSpPr>
          <p:spPr>
            <a:xfrm>
              <a:off x="2397240" y="2489040"/>
              <a:ext cx="4095720" cy="109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stellar"/>
              </a:endParaRPr>
            </a:p>
          </p:txBody>
        </p:sp>
      </p:grpSp>
      <p:sp>
        <p:nvSpPr>
          <p:cNvPr id="132" name="Text Box 6"/>
          <p:cNvSpPr/>
          <p:nvPr/>
        </p:nvSpPr>
        <p:spPr>
          <a:xfrm>
            <a:off x="1476360" y="189000"/>
            <a:ext cx="6624720" cy="181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Bodoni MT Black"/>
              </a:rPr>
              <a:t>Universidad Nacional Experimental Politécnica</a:t>
            </a:r>
            <a:endParaRPr b="1" lang="en-US" sz="1600" spc="-1" strike="noStrike">
              <a:solidFill>
                <a:srgbClr val="ffffff"/>
              </a:solidFill>
              <a:latin typeface="Castellar"/>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Bodoni MT Black"/>
              </a:rPr>
              <a:t>“</a:t>
            </a:r>
            <a:r>
              <a:rPr b="0" lang="es-ES" sz="1600" spc="-1" strike="noStrike">
                <a:solidFill>
                  <a:srgbClr val="ffffff"/>
                </a:solidFill>
                <a:latin typeface="Bodoni MT Black"/>
              </a:rPr>
              <a:t>ANTONIO JOSÉ DE SUCRE”</a:t>
            </a:r>
            <a:endParaRPr b="1" lang="en-US" sz="1600" spc="-1" strike="noStrike">
              <a:solidFill>
                <a:srgbClr val="ffffff"/>
              </a:solidFill>
              <a:latin typeface="Castellar"/>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Bodoni MT Black"/>
              </a:rPr>
              <a:t>Vice-rectorado Puerto Ordaz</a:t>
            </a:r>
            <a:endParaRPr b="1" lang="en-US" sz="1600" spc="-1" strike="noStrike">
              <a:solidFill>
                <a:srgbClr val="ffffff"/>
              </a:solidFill>
              <a:latin typeface="Castellar"/>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Bodoni MT Black"/>
              </a:rPr>
              <a:t>Departamento de Ingeniería Industrial</a:t>
            </a:r>
            <a:endParaRPr b="1" lang="en-US" sz="1600" spc="-1" strike="noStrike">
              <a:solidFill>
                <a:srgbClr val="ffffff"/>
              </a:solidFill>
              <a:latin typeface="Castellar"/>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Bodoni MT Black"/>
              </a:rPr>
              <a:t>Ingeniería Financiera</a:t>
            </a:r>
            <a:endParaRPr b="1" lang="en-US" sz="1600" spc="-1" strike="noStrike">
              <a:solidFill>
                <a:srgbClr val="ffffff"/>
              </a:solidFill>
              <a:latin typeface="Castellar"/>
            </a:endParaRPr>
          </a:p>
        </p:txBody>
      </p:sp>
      <p:pic>
        <p:nvPicPr>
          <p:cNvPr id="133" name="Picture 7" descr=""/>
          <p:cNvPicPr/>
          <p:nvPr/>
        </p:nvPicPr>
        <p:blipFill>
          <a:blip r:embed="rId2"/>
          <a:stretch/>
        </p:blipFill>
        <p:spPr>
          <a:xfrm>
            <a:off x="7596360" y="189000"/>
            <a:ext cx="1547640" cy="647640"/>
          </a:xfrm>
          <a:prstGeom prst="rect">
            <a:avLst/>
          </a:prstGeom>
          <a:ln w="0">
            <a:noFill/>
          </a:ln>
        </p:spPr>
      </p:pic>
      <p:pic>
        <p:nvPicPr>
          <p:cNvPr id="134" name="Picture 8" descr="http://tbn0.google.com/images?q=tbn:8ABmZPs9UD88ZM:http://www.mipagina.cantv.net/jgiammarco/Unexpo.gif"/>
          <p:cNvPicPr/>
          <p:nvPr/>
        </p:nvPicPr>
        <p:blipFill>
          <a:blip r:embed="rId3"/>
          <a:stretch/>
        </p:blipFill>
        <p:spPr>
          <a:xfrm>
            <a:off x="468360" y="333360"/>
            <a:ext cx="1224000" cy="979560"/>
          </a:xfrm>
          <a:prstGeom prst="rect">
            <a:avLst/>
          </a:prstGeom>
          <a:ln w="0">
            <a:noFill/>
          </a:ln>
        </p:spPr>
      </p:pic>
      <p:sp>
        <p:nvSpPr>
          <p:cNvPr id="135" name="Text Box 11"/>
          <p:cNvSpPr/>
          <p:nvPr/>
        </p:nvSpPr>
        <p:spPr>
          <a:xfrm>
            <a:off x="6877080" y="4221000"/>
            <a:ext cx="1979640" cy="11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Calibri"/>
              </a:rPr>
              <a:t>INTEGRANTES:</a:t>
            </a:r>
            <a:endParaRPr b="1" lang="en-US" sz="1200" spc="-1" strike="noStrike">
              <a:solidFill>
                <a:srgbClr val="ffffff"/>
              </a:solidFill>
              <a:latin typeface="Castellar"/>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Calibri"/>
              </a:rPr>
              <a:t>LUCART, BEATRIZ</a:t>
            </a:r>
            <a:endParaRPr b="1" lang="en-US" sz="1200" spc="-1" strike="noStrike">
              <a:solidFill>
                <a:srgbClr val="ffffff"/>
              </a:solidFill>
              <a:latin typeface="Castellar"/>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Calibri"/>
              </a:rPr>
              <a:t>ÓRDENES, MORIS</a:t>
            </a:r>
            <a:endParaRPr b="1" lang="en-US" sz="1200" spc="-1" strike="noStrike">
              <a:solidFill>
                <a:srgbClr val="ffffff"/>
              </a:solidFill>
              <a:latin typeface="Castellar"/>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Calibri"/>
              </a:rPr>
              <a:t>BRUZUAL ,VANESSA</a:t>
            </a:r>
            <a:endParaRPr b="1" lang="en-US" sz="1200" spc="-1" strike="noStrike">
              <a:solidFill>
                <a:srgbClr val="ffffff"/>
              </a:solidFill>
              <a:latin typeface="Castellar"/>
            </a:endParaRPr>
          </a:p>
        </p:txBody>
      </p:sp>
      <p:sp>
        <p:nvSpPr>
          <p:cNvPr id="136" name="Text Box 12"/>
          <p:cNvSpPr/>
          <p:nvPr/>
        </p:nvSpPr>
        <p:spPr>
          <a:xfrm>
            <a:off x="395280" y="4365720"/>
            <a:ext cx="237636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Calibri"/>
              </a:rPr>
              <a:t>PROFESOR:</a:t>
            </a:r>
            <a:endParaRPr b="1" lang="en-US" sz="1200" spc="-1" strike="noStrike">
              <a:solidFill>
                <a:srgbClr val="ffffff"/>
              </a:solidFill>
              <a:latin typeface="Castellar"/>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Calibri"/>
              </a:rPr>
              <a:t>ING. ANDRÉS ELOY BLANCO</a:t>
            </a:r>
            <a:endParaRPr b="1" lang="en-US" sz="1200" spc="-1" strike="noStrike">
              <a:solidFill>
                <a:srgbClr val="ffffff"/>
              </a:solidFill>
              <a:latin typeface="Castellar"/>
            </a:endParaRPr>
          </a:p>
        </p:txBody>
      </p:sp>
      <p:sp>
        <p:nvSpPr>
          <p:cNvPr id="137" name="Text Box 13"/>
          <p:cNvSpPr/>
          <p:nvPr/>
        </p:nvSpPr>
        <p:spPr>
          <a:xfrm>
            <a:off x="3492360" y="6165720"/>
            <a:ext cx="2592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stellar"/>
            </a:endParaRPr>
          </a:p>
        </p:txBody>
      </p:sp>
      <p:sp>
        <p:nvSpPr>
          <p:cNvPr id="138" name="8 CuadroTexto"/>
          <p:cNvSpPr/>
          <p:nvPr/>
        </p:nvSpPr>
        <p:spPr>
          <a:xfrm>
            <a:off x="2050920" y="2502000"/>
            <a:ext cx="4929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3399"/>
                </a:solidFill>
                <a:latin typeface="Castellar"/>
              </a:rPr>
              <a:t>Estudio financiero de la empresa global materials services venezuela c. a.</a:t>
            </a:r>
            <a:endParaRPr b="1" lang="en-US" sz="1800" spc="-1" strike="noStrike">
              <a:solidFill>
                <a:srgbClr val="ffffff"/>
              </a:solidFill>
              <a:latin typeface="Castellar"/>
            </a:endParaRPr>
          </a:p>
        </p:txBody>
      </p:sp>
      <p:sp>
        <p:nvSpPr>
          <p:cNvPr id="139" name="18 CuadroTexto"/>
          <p:cNvSpPr/>
          <p:nvPr/>
        </p:nvSpPr>
        <p:spPr>
          <a:xfrm>
            <a:off x="3059280" y="5732640"/>
            <a:ext cx="40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Arial"/>
              </a:rPr>
              <a:t>PUERTO ORDAZ, FEBRERO DE 2009</a:t>
            </a:r>
            <a:endParaRPr b="1" lang="en-US" sz="1400" spc="-1" strike="noStrike">
              <a:solidFill>
                <a:srgbClr val="ffffff"/>
              </a:solidFill>
              <a:latin typeface="Castellar"/>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3 CuadroTexto"/>
          <p:cNvSpPr/>
          <p:nvPr/>
        </p:nvSpPr>
        <p:spPr>
          <a:xfrm>
            <a:off x="2786040" y="357120"/>
            <a:ext cx="3286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stellar"/>
              </a:rPr>
              <a:t>Estado de resultado proyectado</a:t>
            </a:r>
            <a:endParaRPr b="1" lang="en-US" sz="1800" spc="-1" strike="noStrike">
              <a:solidFill>
                <a:srgbClr val="ffffff"/>
              </a:solidFill>
              <a:latin typeface="Castellar"/>
            </a:endParaRPr>
          </a:p>
        </p:txBody>
      </p:sp>
      <p:graphicFrame>
        <p:nvGraphicFramePr>
          <p:cNvPr id="284" name=""/>
          <p:cNvGraphicFramePr/>
          <p:nvPr/>
        </p:nvGraphicFramePr>
        <p:xfrm>
          <a:off x="1143000" y="1397160"/>
          <a:ext cx="6715080" cy="4679640"/>
        </p:xfrm>
        <a:graphic>
          <a:graphicData uri="http://schemas.openxmlformats.org/drawingml/2006/table">
            <a:tbl>
              <a:tblPr/>
              <a:tblGrid>
                <a:gridCol w="2817720"/>
                <a:gridCol w="1157400"/>
                <a:gridCol w="792000"/>
                <a:gridCol w="1947960"/>
              </a:tblGrid>
              <a:tr h="1872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a:noFill/>
                    </a:lnL>
                    <a:lnR w="5760">
                      <a:solidFill>
                        <a:srgbClr val="000000"/>
                      </a:solidFill>
                    </a:lnR>
                    <a:lnT>
                      <a:noFill/>
                    </a:lnT>
                    <a:lnB w="576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2007</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2008</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2009</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179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VENTAS NETAS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w="5760">
                      <a:solidFill>
                        <a:srgbClr val="000000"/>
                      </a:solid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976.505</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w="5760">
                      <a:solidFill>
                        <a:srgbClr val="000000"/>
                      </a:solid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1.115.051</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w="5760">
                      <a:solidFill>
                        <a:srgbClr val="000000"/>
                      </a:solid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1.185.879</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w="5760">
                      <a:solidFill>
                        <a:srgbClr val="000000"/>
                      </a:solidFill>
                    </a:lnT>
                    <a:lnB>
                      <a:noFill/>
                    </a:lnB>
                    <a:solidFill>
                      <a:srgbClr val="f2f2f2"/>
                    </a:solidFill>
                  </a:tcPr>
                </a:tc>
              </a:tr>
              <a:tr h="17964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COSTOS DE VENTAS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45.879</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74.925</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370.879</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UTILIDAD BRUTA S/DEPREC</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730.626</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840.126</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815.000</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64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GASTOS ADMINISTRATIVOS</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9.555</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33.556</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39.557</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UTILIDAD OPERACIONES S/DEPREC</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701.071</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806.570</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775.443</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64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EPRECIACION</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55.959</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58.845</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65.961</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UTILIDAD OPERACIONES C/DEPREC</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645.112</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747.725</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709.482</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64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GASTOS FINANCIEROS</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76.079</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80.248</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77.878</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OTROS INGRESOS(EGRESOS)</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68.375</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78.554</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86.375</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64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UTILIDAD S/DIF.CAMB, A/IMP</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637.408</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746.031</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717.979</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64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PERDIDA(GANANCIA) CAMBIARIA</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4.692</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4.144</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7.806</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UTILIDAD NETA A/IMPUESTOS</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612.716</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721.887</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690.173</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64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IMPUESTOS</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261</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8.262</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8.457</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872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UTILIDAD NETA</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w="5760">
                      <a:solidFill>
                        <a:srgbClr val="000000"/>
                      </a:solid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610.455</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w="5760">
                      <a:solidFill>
                        <a:srgbClr val="000000"/>
                      </a:solid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713.625</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w="5760">
                      <a:solidFill>
                        <a:srgbClr val="000000"/>
                      </a:solid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681.716</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w="5760">
                      <a:solidFill>
                        <a:srgbClr val="000000"/>
                      </a:solidFill>
                    </a:lnB>
                    <a:solidFill>
                      <a:srgbClr val="f2f2f2"/>
                    </a:solidFill>
                  </a:tcPr>
                </a:tc>
              </a:tr>
            </a:tbl>
          </a:graphicData>
        </a:graphic>
      </p:graphicFrame>
      <p:pic>
        <p:nvPicPr>
          <p:cNvPr id="285" name="Picture 118" descr=""/>
          <p:cNvPicPr/>
          <p:nvPr/>
        </p:nvPicPr>
        <p:blipFill>
          <a:blip r:embed="rId1"/>
          <a:stretch/>
        </p:blipFill>
        <p:spPr>
          <a:xfrm>
            <a:off x="6877080" y="189000"/>
            <a:ext cx="1942920" cy="485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3 CuadroTexto"/>
          <p:cNvSpPr/>
          <p:nvPr/>
        </p:nvSpPr>
        <p:spPr>
          <a:xfrm>
            <a:off x="2786040" y="428760"/>
            <a:ext cx="3286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stellar"/>
              </a:rPr>
              <a:t>FLUJO DE CAJA PROYACTADO </a:t>
            </a:r>
            <a:endParaRPr b="1" lang="en-US" sz="1800" spc="-1" strike="noStrike">
              <a:solidFill>
                <a:srgbClr val="ffffff"/>
              </a:solidFill>
              <a:latin typeface="Castella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stellar"/>
              </a:rPr>
              <a:t>(Bs.F.)</a:t>
            </a:r>
            <a:endParaRPr b="1" lang="en-US" sz="1800" spc="-1" strike="noStrike">
              <a:solidFill>
                <a:srgbClr val="ffffff"/>
              </a:solidFill>
              <a:latin typeface="Castellar"/>
            </a:endParaRPr>
          </a:p>
        </p:txBody>
      </p:sp>
      <p:graphicFrame>
        <p:nvGraphicFramePr>
          <p:cNvPr id="287" name=""/>
          <p:cNvGraphicFramePr/>
          <p:nvPr/>
        </p:nvGraphicFramePr>
        <p:xfrm>
          <a:off x="1357200" y="1397160"/>
          <a:ext cx="6143760" cy="4444920"/>
        </p:xfrm>
        <a:graphic>
          <a:graphicData uri="http://schemas.openxmlformats.org/drawingml/2006/table">
            <a:tbl>
              <a:tblPr/>
              <a:tblGrid>
                <a:gridCol w="2578320"/>
                <a:gridCol w="1058760"/>
                <a:gridCol w="723960"/>
                <a:gridCol w="1782720"/>
              </a:tblGrid>
              <a:tr h="15552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6480" marR="6480">
                    <a:lnL>
                      <a:no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2007</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2008</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2009</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147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INGRESOS OPERACIONES</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w="5760">
                      <a:solidFill>
                        <a:srgbClr val="000000"/>
                      </a:solidFill>
                    </a:lnT>
                    <a:lnB>
                      <a:noFill/>
                    </a:lnB>
                    <a:solidFill>
                      <a:srgbClr val="eaf1dd"/>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490.957</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w="5760">
                      <a:solidFill>
                        <a:srgbClr val="000000"/>
                      </a:solid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495.603</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w="5760">
                      <a:solidFill>
                        <a:srgbClr val="000000"/>
                      </a:solid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505.038</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w="5760">
                      <a:solidFill>
                        <a:srgbClr val="000000"/>
                      </a:solidFill>
                    </a:lnT>
                    <a:lnB>
                      <a:noFill/>
                    </a:lnB>
                    <a:solidFill>
                      <a:srgbClr val="f2f2f2"/>
                    </a:solidFill>
                  </a:tcPr>
                </a:tc>
              </a:tr>
              <a:tr h="147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eaf1dd"/>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r>
              <a:tr h="147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EGRESOS OPERACIONES</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eaf1dd"/>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380.169</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384.815</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394.250</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r>
              <a:tr h="147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eaf1dd"/>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r>
              <a:tr h="147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r>
                        <a:rPr b="1" lang="es-ES_tradnl" sz="800" spc="-1" strike="noStrike">
                          <a:solidFill>
                            <a:srgbClr val="000000"/>
                          </a:solidFill>
                          <a:latin typeface="Arial"/>
                        </a:rPr>
                        <a:t>COSTOS Y GASTOS OPERATIVOS</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eaf1dd"/>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380.169</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384.815</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394.250</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r>
              <a:tr h="147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eaf1dd"/>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r>
              <a:tr h="147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SALDO EN OPERACIONES</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eaf1dd"/>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110.787</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115.433</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124.868</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r>
              <a:tr h="14796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eaf1dd"/>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r>
              <a:tr h="147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INGRESOS NO OPERACIONALES</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eaf1dd"/>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348.776</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362.714</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372.149</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r>
              <a:tr h="147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eaf1dd"/>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r>
              <a:tr h="147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APORTES CAPITAL</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eaf1dd"/>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16.805</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1.451</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30.886</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r>
              <a:tr h="147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PRESTAMOS LARGO PLAZO</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eaf1dd"/>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328.422</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333.068</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342.503</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r>
              <a:tr h="147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OTROS INGRESOS</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eaf1dd"/>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3.549</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8.195</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17.630</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r>
              <a:tr h="147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eaf1dd"/>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r>
              <a:tr h="147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EGRESOS NO OPERACIONALES</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eaf1dd"/>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60.279</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83.509</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330.684</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r>
              <a:tr h="147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eaf1dd"/>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r>
              <a:tr h="147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r>
                        <a:rPr b="1" lang="es-ES_tradnl" sz="800" spc="-1" strike="noStrike">
                          <a:solidFill>
                            <a:srgbClr val="000000"/>
                          </a:solidFill>
                          <a:latin typeface="Arial"/>
                        </a:rPr>
                        <a:t>AMORTIZACION PRESTAMOS L.P</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eaf1dd"/>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15.468</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0.114</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9.549</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r>
              <a:tr h="14796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r>
                        <a:rPr b="1" lang="es-ES_tradnl" sz="800" spc="-1" strike="noStrike">
                          <a:solidFill>
                            <a:srgbClr val="000000"/>
                          </a:solidFill>
                          <a:latin typeface="Arial"/>
                        </a:rPr>
                        <a:t>INTERESES PRESTAMOS L.P</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eaf1dd"/>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8.997</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13.643</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3.078</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r>
              <a:tr h="147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r>
                        <a:rPr b="1" lang="es-ES_tradnl" sz="800" spc="-1" strike="noStrike">
                          <a:solidFill>
                            <a:srgbClr val="000000"/>
                          </a:solidFill>
                          <a:latin typeface="Arial"/>
                        </a:rPr>
                        <a:t>INTERESES PRESTAMOS</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eaf1dd"/>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3.641</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8.287</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37.722</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r>
              <a:tr h="147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r>
                        <a:rPr b="1" lang="es-ES_tradnl" sz="800" spc="-1" strike="noStrike">
                          <a:solidFill>
                            <a:srgbClr val="000000"/>
                          </a:solidFill>
                          <a:latin typeface="Arial"/>
                        </a:rPr>
                        <a:t>INVERSIONES ACTIVOS FIJOS</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eaf1dd"/>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185.598</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190.244</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199.679</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r>
              <a:tr h="147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r>
                        <a:rPr b="1" lang="es-ES_tradnl" sz="800" spc="-1" strike="noStrike">
                          <a:solidFill>
                            <a:srgbClr val="000000"/>
                          </a:solidFill>
                          <a:latin typeface="Arial"/>
                        </a:rPr>
                        <a:t>OTROS EGRESOS</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eaf1dd"/>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6.575</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31.221</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40.656</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r>
              <a:tr h="147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eaf1dd"/>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r>
              <a:tr h="147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SALDO NO OPERACIONALES</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eaf1dd"/>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88.497</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79.205</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41.465</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r>
              <a:tr h="147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eaf1dd"/>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r>
              <a:tr h="147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VARIACION DE CAJA AÑO</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eaf1dd"/>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810</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600</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480</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r>
              <a:tr h="147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eaf1dd"/>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r>
              <a:tr h="14796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SALDO INICIAL CAJA</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eaf1dd"/>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8.794</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8.745</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8.465</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r>
              <a:tr h="147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SALDO FINAL CAJA</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eaf1dd"/>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7.984</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8.145</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7.985</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a:noFill/>
                    </a:lnB>
                    <a:solidFill>
                      <a:srgbClr val="f2f2f2"/>
                    </a:solidFill>
                  </a:tcPr>
                </a:tc>
              </a:tr>
              <a:tr h="15552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SALDO FINAL CAJA (US$)</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w="5760">
                      <a:solidFill>
                        <a:srgbClr val="000000"/>
                      </a:solidFill>
                    </a:lnB>
                    <a:solidFill>
                      <a:srgbClr val="eaf1dd"/>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1,98</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w="5760">
                      <a:solidFill>
                        <a:srgbClr val="000000"/>
                      </a:solid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01</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w="5760">
                      <a:solidFill>
                        <a:srgbClr val="000000"/>
                      </a:solidFill>
                    </a:lnB>
                    <a:solidFill>
                      <a:srgbClr val="f2f2f2"/>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14</a:t>
                      </a:r>
                      <a:endParaRPr b="1" lang="en-US" sz="800" spc="-1" strike="noStrike">
                        <a:solidFill>
                          <a:srgbClr val="ffffff"/>
                        </a:solidFill>
                        <a:latin typeface="Castellar"/>
                      </a:endParaRPr>
                    </a:p>
                  </a:txBody>
                  <a:tcPr anchor="b" marL="6480" marR="6480">
                    <a:lnL w="5760">
                      <a:solidFill>
                        <a:srgbClr val="000000"/>
                      </a:solidFill>
                    </a:lnL>
                    <a:lnR w="5760">
                      <a:solidFill>
                        <a:srgbClr val="000000"/>
                      </a:solidFill>
                    </a:lnR>
                    <a:lnT>
                      <a:noFill/>
                    </a:lnT>
                    <a:lnB w="5760">
                      <a:solidFill>
                        <a:srgbClr val="000000"/>
                      </a:solidFill>
                    </a:lnB>
                    <a:solidFill>
                      <a:srgbClr val="f2f2f2"/>
                    </a:solidFill>
                  </a:tcPr>
                </a:tc>
              </a:tr>
            </a:tbl>
          </a:graphicData>
        </a:graphic>
      </p:graphicFrame>
      <p:pic>
        <p:nvPicPr>
          <p:cNvPr id="288" name="Picture 134" descr=""/>
          <p:cNvPicPr/>
          <p:nvPr/>
        </p:nvPicPr>
        <p:blipFill>
          <a:blip r:embed="rId1"/>
          <a:stretch/>
        </p:blipFill>
        <p:spPr>
          <a:xfrm>
            <a:off x="6877080" y="189000"/>
            <a:ext cx="1942920" cy="485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3 CuadroTexto"/>
          <p:cNvSpPr/>
          <p:nvPr/>
        </p:nvSpPr>
        <p:spPr>
          <a:xfrm>
            <a:off x="1979640" y="428760"/>
            <a:ext cx="4664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stellar"/>
              </a:rPr>
              <a:t>UTILIDADES RETENIDAS PROYECTADAS</a:t>
            </a:r>
            <a:endParaRPr b="1" lang="en-US" sz="1800" spc="-1" strike="noStrike">
              <a:solidFill>
                <a:srgbClr val="ffffff"/>
              </a:solidFill>
              <a:latin typeface="Castella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stellar"/>
              </a:rPr>
              <a:t>(Bs.F.)</a:t>
            </a:r>
            <a:endParaRPr b="1" lang="en-US" sz="1800" spc="-1" strike="noStrike">
              <a:solidFill>
                <a:srgbClr val="ffffff"/>
              </a:solidFill>
              <a:latin typeface="Castellar"/>
            </a:endParaRPr>
          </a:p>
        </p:txBody>
      </p:sp>
      <p:graphicFrame>
        <p:nvGraphicFramePr>
          <p:cNvPr id="290" name=""/>
          <p:cNvGraphicFramePr/>
          <p:nvPr/>
        </p:nvGraphicFramePr>
        <p:xfrm>
          <a:off x="1428840" y="1397160"/>
          <a:ext cx="6357960" cy="4679640"/>
        </p:xfrm>
        <a:graphic>
          <a:graphicData uri="http://schemas.openxmlformats.org/drawingml/2006/table">
            <a:tbl>
              <a:tblPr/>
              <a:tblGrid>
                <a:gridCol w="2668320"/>
                <a:gridCol w="1094040"/>
                <a:gridCol w="750960"/>
                <a:gridCol w="1844640"/>
              </a:tblGrid>
              <a:tr h="1872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a:noFill/>
                    </a:lnL>
                    <a:lnR w="5760">
                      <a:solidFill>
                        <a:srgbClr val="000000"/>
                      </a:solidFill>
                    </a:lnR>
                    <a:lnT>
                      <a:noFill/>
                    </a:lnT>
                    <a:lnB w="576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2007</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2008</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2009</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179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RETORNO SOBRE PATRIMONIO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w="5760">
                      <a:solidFill>
                        <a:srgbClr val="000000"/>
                      </a:solid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1,09%</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w="5760">
                      <a:solidFill>
                        <a:srgbClr val="000000"/>
                      </a:solid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1,77%</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w="5760">
                      <a:solidFill>
                        <a:srgbClr val="000000"/>
                      </a:solid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17,62%</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w="5760">
                      <a:solidFill>
                        <a:srgbClr val="000000"/>
                      </a:solidFill>
                    </a:lnT>
                    <a:lnB>
                      <a:noFill/>
                    </a:lnB>
                    <a:solidFill>
                      <a:srgbClr val="f2f2f2"/>
                    </a:solidFill>
                  </a:tcPr>
                </a:tc>
              </a:tr>
              <a:tr h="17964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utilidad neta/patrimonio)</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RETORNO SOBRE INVERSION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14,63%</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16,75%</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14,78%</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utilidad neta/activo)</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64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MARGEN BRUTO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74,82%</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75,34%</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68,73%</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utilidad bruta/ventas)</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64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MARGEN OPERATIVO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71,79%</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72,33%</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65,39%</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utilidad operativa/ventas)</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64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GASTOS FINANCIEROS/VENTAS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7,79%</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7,20%</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6,57%</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LIQUIDEZ</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1,37</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0,83</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1,04</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64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activo circ./pasivo circ.)</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ENDEUDAMIENTO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0,44</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0,30</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0,19</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64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pasivo/patrimonio)</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ENDEUDAMIENTO CORTO PLAZO</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0,06</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0,05</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0,04</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pasivo c.p/patrimonio)</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64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79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ENDEUDAMIENTO LARGO PLAZO</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0,38</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0,25</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0,16</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a:noFill/>
                    </a:lnB>
                    <a:solidFill>
                      <a:srgbClr val="f2f2f2"/>
                    </a:solidFill>
                  </a:tcPr>
                </a:tc>
              </a:tr>
              <a:tr h="1872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pasivo l.p/patrimonio)</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w="5760">
                      <a:solidFill>
                        <a:srgbClr val="000000"/>
                      </a:solidFill>
                    </a:lnB>
                    <a:solidFill>
                      <a:srgbClr val="eaf1d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w="5760">
                      <a:solidFill>
                        <a:srgbClr val="000000"/>
                      </a:solid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w="5760">
                      <a:solidFill>
                        <a:srgbClr val="000000"/>
                      </a:solid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7560" marR="7560">
                    <a:lnL w="5760">
                      <a:solidFill>
                        <a:srgbClr val="000000"/>
                      </a:solidFill>
                    </a:lnL>
                    <a:lnR w="5760">
                      <a:solidFill>
                        <a:srgbClr val="000000"/>
                      </a:solidFill>
                    </a:lnR>
                    <a:lnT>
                      <a:noFill/>
                    </a:lnT>
                    <a:lnB w="5760">
                      <a:solidFill>
                        <a:srgbClr val="000000"/>
                      </a:solidFill>
                    </a:lnB>
                    <a:solidFill>
                      <a:srgbClr val="f2f2f2"/>
                    </a:solidFill>
                  </a:tcPr>
                </a:tc>
              </a:tr>
            </a:tbl>
          </a:graphicData>
        </a:graphic>
      </p:graphicFrame>
      <p:pic>
        <p:nvPicPr>
          <p:cNvPr id="291" name="Picture 118" descr=""/>
          <p:cNvPicPr/>
          <p:nvPr/>
        </p:nvPicPr>
        <p:blipFill>
          <a:blip r:embed="rId1"/>
          <a:stretch/>
        </p:blipFill>
        <p:spPr>
          <a:xfrm>
            <a:off x="6877080" y="189000"/>
            <a:ext cx="1942920" cy="485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2" name=""/>
          <p:cNvGraphicFramePr/>
          <p:nvPr/>
        </p:nvGraphicFramePr>
        <p:xfrm>
          <a:off x="1000080" y="1000080"/>
          <a:ext cx="7143840" cy="4788000"/>
        </p:xfrm>
        <a:graphic>
          <a:graphicData uri="http://schemas.openxmlformats.org/drawingml/2006/table">
            <a:tbl>
              <a:tblPr/>
              <a:tblGrid>
                <a:gridCol w="2324160"/>
                <a:gridCol w="952560"/>
                <a:gridCol w="654120"/>
                <a:gridCol w="1606320"/>
                <a:gridCol w="1606680"/>
              </a:tblGrid>
              <a:tr h="1843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ff"/>
                          </a:solidFill>
                          <a:latin typeface="Arial"/>
                        </a:rPr>
                        <a:t>ANALISIS HORIZONTAL</a:t>
                      </a:r>
                      <a:endParaRPr b="1" lang="en-US" sz="900" spc="-1" strike="noStrike">
                        <a:solidFill>
                          <a:srgbClr val="ffffff"/>
                        </a:solidFill>
                        <a:latin typeface="Castellar"/>
                      </a:endParaRPr>
                    </a:p>
                  </a:txBody>
                  <a:tcPr anchor="b" marL="6840" marR="6840">
                    <a:lnL>
                      <a:noFill/>
                    </a:lnL>
                    <a:lnR w="5760">
                      <a:solidFill>
                        <a:srgbClr val="000000"/>
                      </a:solidFill>
                    </a:lnR>
                    <a:lnT>
                      <a:noFill/>
                    </a:lnT>
                    <a:lnB w="5760">
                      <a:solidFill>
                        <a:srgbClr val="000000"/>
                      </a:solidFill>
                    </a:lnB>
                    <a:no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2006</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2007</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Variación en millones Bs</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Variación porcentual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183960">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Ventas</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786.464</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976.505</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90.041</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9,46%</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4320">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Costos de ventas</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356.050</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245.879</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10.171</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44,81%</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3960">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4320">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Utilidad bruta s/depreciación</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647.540</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730.626</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83.086</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1,37%</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3960">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4320">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Gastos Administrativos</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37.432</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29.555</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7.877</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26,65%</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3960">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4320">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Utilidad operaciones s/depreciación</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631.454</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701.071</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69.617</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9,93%</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3960">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4320">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Depreciación</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46.353</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55.959</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9.606</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7,17%</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3960">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4320">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Utilidad Operaciones c/depreciación</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487.214</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645.112</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57.898</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24,48%</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4320">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3960">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Gastos financieros</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49.234</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76.079</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26.845</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35,29%</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4320">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Otros ingresos (egresos)</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51.983</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68.375</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6.392</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23,97%</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3960">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4320">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Utilidad s/dif. Camb, a/imp.</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487.664</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637.408</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49.744</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23,49%</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3960">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4320">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Perdida (ganancia) cambiaria</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7.635</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24.692</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7.057</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28,58%</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3960">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4320">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Utilidad neta a/impuestos</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601.453</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612.716</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1.263</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84%</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3960">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4320">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impuestos</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935</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2.261</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326</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4,42%</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3960">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4320">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Utilidad neta</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547.524</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610.455</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62.931</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0,31%</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bl>
          </a:graphicData>
        </a:graphic>
      </p:graphicFrame>
      <p:sp>
        <p:nvSpPr>
          <p:cNvPr id="293" name="7 CuadroTexto"/>
          <p:cNvSpPr/>
          <p:nvPr/>
        </p:nvSpPr>
        <p:spPr>
          <a:xfrm>
            <a:off x="2928960" y="285840"/>
            <a:ext cx="36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stellar"/>
              </a:rPr>
              <a:t>ANALISIS HORIZONTAL</a:t>
            </a:r>
            <a:endParaRPr b="1" lang="en-US" sz="1800" spc="-1" strike="noStrike">
              <a:solidFill>
                <a:srgbClr val="ffffff"/>
              </a:solidFill>
              <a:latin typeface="Castellar"/>
            </a:endParaRPr>
          </a:p>
        </p:txBody>
      </p:sp>
      <p:pic>
        <p:nvPicPr>
          <p:cNvPr id="294" name="Picture 171" descr=""/>
          <p:cNvPicPr/>
          <p:nvPr/>
        </p:nvPicPr>
        <p:blipFill>
          <a:blip r:embed="rId1"/>
          <a:stretch/>
        </p:blipFill>
        <p:spPr>
          <a:xfrm>
            <a:off x="6877080" y="189000"/>
            <a:ext cx="1942920" cy="4856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7 CuadroTexto"/>
          <p:cNvSpPr/>
          <p:nvPr/>
        </p:nvSpPr>
        <p:spPr>
          <a:xfrm>
            <a:off x="2857680" y="285840"/>
            <a:ext cx="36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stellar"/>
              </a:rPr>
              <a:t>ANALISIS VERTICAL</a:t>
            </a:r>
            <a:endParaRPr b="1" lang="en-US" sz="1800" spc="-1" strike="noStrike">
              <a:solidFill>
                <a:srgbClr val="ffffff"/>
              </a:solidFill>
              <a:latin typeface="Castellar"/>
            </a:endParaRPr>
          </a:p>
        </p:txBody>
      </p:sp>
      <p:graphicFrame>
        <p:nvGraphicFramePr>
          <p:cNvPr id="296" name=""/>
          <p:cNvGraphicFramePr/>
          <p:nvPr/>
        </p:nvGraphicFramePr>
        <p:xfrm>
          <a:off x="1071720" y="1143000"/>
          <a:ext cx="6929280" cy="4705200"/>
        </p:xfrm>
        <a:graphic>
          <a:graphicData uri="http://schemas.openxmlformats.org/drawingml/2006/table">
            <a:tbl>
              <a:tblPr/>
              <a:tblGrid>
                <a:gridCol w="2253960"/>
                <a:gridCol w="925560"/>
                <a:gridCol w="633600"/>
                <a:gridCol w="1557360"/>
                <a:gridCol w="1558800"/>
              </a:tblGrid>
              <a:tr h="18108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ff"/>
                          </a:solidFill>
                          <a:latin typeface="Arial"/>
                        </a:rPr>
                        <a:t>ANALISIS VERTICAL</a:t>
                      </a:r>
                      <a:endParaRPr b="1" lang="en-US" sz="900" spc="-1" strike="noStrike">
                        <a:solidFill>
                          <a:srgbClr val="ffffff"/>
                        </a:solidFill>
                        <a:latin typeface="Castellar"/>
                      </a:endParaRPr>
                    </a:p>
                  </a:txBody>
                  <a:tcPr anchor="b" marL="6840" marR="6840">
                    <a:lnL>
                      <a:noFill/>
                    </a:lnL>
                    <a:lnR w="5760">
                      <a:solidFill>
                        <a:srgbClr val="000000"/>
                      </a:solidFill>
                    </a:lnR>
                    <a:lnT>
                      <a:noFill/>
                    </a:lnT>
                    <a:lnB w="5760">
                      <a:solidFill>
                        <a:srgbClr val="000000"/>
                      </a:solidFill>
                    </a:lnB>
                    <a:no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Monto (2006)</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 Total</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Monto (2007)</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Total</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1807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Ventas</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786.464</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00,00</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976.505</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00,00</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108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Costos de ventas</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356.050</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45,27</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245.879</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25,18</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108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108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Utilidad bruta s/depreciación</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647.540</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82,34</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730.626</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74,82</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07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108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Gastos Administrativos</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37.432</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4,76</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29.555</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3,03</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108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07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Utilidad operaciones s/depreciación</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631.454</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80,29</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701.071</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71,79</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108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108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Depreciación</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46.353</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5,89</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55.959</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5,73</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108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07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Utilidad Operaciones c/depreciación</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487.214</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61,95</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645.112</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66,06</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108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108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Gastos financieros</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49.234</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2,31</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76.079</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2,31</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07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Otros ingresos (egresos)</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51.983</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3,00</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68.375</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1,06</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108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108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Utilidad s/dif. Camb, a/imp.</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487.664</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21,93</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637.408</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03,14</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07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108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Perdida (ganancia) cambiaria</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7.635</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4,41</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24.692</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4,00</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108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108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Utilidad neta a/impuestos</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601.453</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50,38</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612.716</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99,14</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07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108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impuestos</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935</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0,48</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2.261</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0,37</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108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807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Utilidad neta</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547.524</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36,90</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610.455</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98,77</a:t>
                      </a:r>
                      <a:endParaRPr b="1" lang="en-US" sz="900" spc="-1" strike="noStrike">
                        <a:solidFill>
                          <a:srgbClr val="ffffff"/>
                        </a:solidFill>
                        <a:latin typeface="Castellar"/>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bl>
          </a:graphicData>
        </a:graphic>
      </p:graphicFrame>
      <p:pic>
        <p:nvPicPr>
          <p:cNvPr id="297" name="Picture 173" descr=""/>
          <p:cNvPicPr/>
          <p:nvPr/>
        </p:nvPicPr>
        <p:blipFill>
          <a:blip r:embed="rId1"/>
          <a:stretch/>
        </p:blipFill>
        <p:spPr>
          <a:xfrm>
            <a:off x="6877080" y="189000"/>
            <a:ext cx="1942920" cy="485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7 CuadroTexto"/>
          <p:cNvSpPr/>
          <p:nvPr/>
        </p:nvSpPr>
        <p:spPr>
          <a:xfrm>
            <a:off x="2484360" y="285840"/>
            <a:ext cx="424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stellar"/>
              </a:rPr>
              <a:t>INDICES O RAZONES FINANCIERAS</a:t>
            </a:r>
            <a:endParaRPr b="1" lang="en-US" sz="1800" spc="-1" strike="noStrike">
              <a:solidFill>
                <a:srgbClr val="ffffff"/>
              </a:solidFill>
              <a:latin typeface="Castellar"/>
            </a:endParaRPr>
          </a:p>
        </p:txBody>
      </p:sp>
      <p:graphicFrame>
        <p:nvGraphicFramePr>
          <p:cNvPr id="299" name=""/>
          <p:cNvGraphicFramePr/>
          <p:nvPr/>
        </p:nvGraphicFramePr>
        <p:xfrm>
          <a:off x="1928880" y="1000080"/>
          <a:ext cx="5286240" cy="4989600"/>
        </p:xfrm>
        <a:graphic>
          <a:graphicData uri="http://schemas.openxmlformats.org/drawingml/2006/table">
            <a:tbl>
              <a:tblPr/>
              <a:tblGrid>
                <a:gridCol w="3747960"/>
                <a:gridCol w="1538280"/>
              </a:tblGrid>
              <a:tr h="247680">
                <a:tc>
                  <a:txBody>
                    <a:bodyPr lIns="9000" rIns="9000" tIns="9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1" lang="en-US" sz="1200" spc="-1" strike="noStrike">
                        <a:solidFill>
                          <a:srgbClr val="ffffff"/>
                        </a:solidFill>
                        <a:latin typeface="Castellar"/>
                      </a:endParaRPr>
                    </a:p>
                  </a:txBody>
                  <a:tcPr anchor="t" marL="9000" marR="9000">
                    <a:lnL>
                      <a:noFill/>
                    </a:lnL>
                    <a:lnR w="5760">
                      <a:solidFill>
                        <a:srgbClr val="000000"/>
                      </a:solidFill>
                    </a:lnR>
                    <a:lnT>
                      <a:noFill/>
                    </a:lnT>
                    <a:lnB w="5760">
                      <a:solidFill>
                        <a:srgbClr val="000000"/>
                      </a:solidFill>
                    </a:lnB>
                    <a:noFill/>
                  </a:tcPr>
                </a:tc>
                <a:tc>
                  <a:txBody>
                    <a:bodyPr lIns="9000" rIns="9000" tIns="90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c-07</a:t>
                      </a:r>
                      <a:endParaRPr b="1" lang="en-US" sz="1200" spc="-1" strike="noStrike">
                        <a:solidFill>
                          <a:srgbClr val="ffffff"/>
                        </a:solidFill>
                        <a:latin typeface="Castellar"/>
                      </a:endParaRPr>
                    </a:p>
                  </a:txBody>
                  <a:tcPr anchor="t" marL="9000" marR="9000">
                    <a:lnL w="5760">
                      <a:solidFill>
                        <a:srgbClr val="000000"/>
                      </a:solidFill>
                    </a:lnL>
                    <a:lnR w="5760">
                      <a:solidFill>
                        <a:srgbClr val="000000"/>
                      </a:solidFill>
                    </a:lnR>
                    <a:lnT w="5760">
                      <a:solidFill>
                        <a:srgbClr val="000000"/>
                      </a:solidFill>
                    </a:lnT>
                    <a:lnB w="5760">
                      <a:solidFill>
                        <a:srgbClr val="000000"/>
                      </a:solidFill>
                    </a:lnB>
                    <a:solidFill>
                      <a:srgbClr val="eaf1dd"/>
                    </a:solidFill>
                  </a:tcPr>
                </a:tc>
              </a:tr>
              <a:tr h="236520">
                <a:tc>
                  <a:txBody>
                    <a:bodyPr lIns="9000" rIns="9000" tIns="9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pital de trabajo</a:t>
                      </a:r>
                      <a:endParaRPr b="1" lang="en-US" sz="1200" spc="-1" strike="noStrike">
                        <a:solidFill>
                          <a:srgbClr val="ffffff"/>
                        </a:solidFill>
                        <a:latin typeface="Castellar"/>
                      </a:endParaRPr>
                    </a:p>
                  </a:txBody>
                  <a:tcPr anchor="t" marL="9000" marR="9000">
                    <a:lnL w="5760">
                      <a:solidFill>
                        <a:srgbClr val="000000"/>
                      </a:solidFill>
                    </a:lnL>
                    <a:lnR>
                      <a:noFill/>
                    </a:lnR>
                    <a:lnT w="5760">
                      <a:solidFill>
                        <a:srgbClr val="000000"/>
                      </a:solidFill>
                    </a:lnT>
                    <a:lnB>
                      <a:noFill/>
                    </a:lnB>
                    <a:solidFill>
                      <a:srgbClr val="eaf1dd"/>
                    </a:solidFill>
                  </a:tcPr>
                </a:tc>
                <a:tc>
                  <a:txBody>
                    <a:bodyPr lIns="9000" rIns="9000" tIns="9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1" lang="en-US" sz="1200" spc="-1" strike="noStrike">
                        <a:solidFill>
                          <a:srgbClr val="ffffff"/>
                        </a:solidFill>
                        <a:latin typeface="Castellar"/>
                      </a:endParaRPr>
                    </a:p>
                  </a:txBody>
                  <a:tcPr anchor="t" marL="9000" marR="9000">
                    <a:lnL>
                      <a:noFill/>
                    </a:lnL>
                    <a:lnR w="5760">
                      <a:solidFill>
                        <a:srgbClr val="000000"/>
                      </a:solidFill>
                    </a:lnR>
                    <a:lnT w="5760">
                      <a:solidFill>
                        <a:srgbClr val="000000"/>
                      </a:solidFill>
                    </a:lnT>
                    <a:lnB>
                      <a:noFill/>
                    </a:lnB>
                    <a:solidFill>
                      <a:srgbClr val="eaf1dd"/>
                    </a:solidFill>
                  </a:tcPr>
                </a:tc>
              </a:tr>
              <a:tr h="236520">
                <a:tc>
                  <a:txBody>
                    <a:bodyPr lIns="9000" rIns="9000" tIns="9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ctivo circ-pasivo circ</a:t>
                      </a:r>
                      <a:endParaRPr b="1" lang="en-US" sz="1200" spc="-1" strike="noStrike">
                        <a:solidFill>
                          <a:srgbClr val="ffffff"/>
                        </a:solidFill>
                        <a:latin typeface="Castellar"/>
                      </a:endParaRPr>
                    </a:p>
                  </a:txBody>
                  <a:tcPr anchor="t" marL="9000" marR="9000">
                    <a:lnL w="5760">
                      <a:solidFill>
                        <a:srgbClr val="000000"/>
                      </a:solidFill>
                    </a:lnL>
                    <a:lnR>
                      <a:noFill/>
                    </a:lnR>
                    <a:lnT>
                      <a:noFill/>
                    </a:lnT>
                    <a:lnB>
                      <a:noFill/>
                    </a:lnB>
                    <a:noFill/>
                  </a:tcPr>
                </a:tc>
                <a:tc>
                  <a:txBody>
                    <a:bodyPr lIns="9000" rIns="9000" tIns="90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61.710</a:t>
                      </a:r>
                      <a:endParaRPr b="1" lang="en-US" sz="1200" spc="-1" strike="noStrike">
                        <a:solidFill>
                          <a:srgbClr val="ffffff"/>
                        </a:solidFill>
                        <a:latin typeface="Castellar"/>
                      </a:endParaRPr>
                    </a:p>
                  </a:txBody>
                  <a:tcPr anchor="t" marL="9000" marR="9000">
                    <a:lnL>
                      <a:noFill/>
                    </a:lnL>
                    <a:lnR w="5760">
                      <a:solidFill>
                        <a:srgbClr val="000000"/>
                      </a:solidFill>
                    </a:lnR>
                    <a:lnT>
                      <a:noFill/>
                    </a:lnT>
                    <a:lnB>
                      <a:noFill/>
                    </a:lnB>
                    <a:noFill/>
                  </a:tcPr>
                </a:tc>
              </a:tr>
              <a:tr h="236520">
                <a:tc>
                  <a:txBody>
                    <a:bodyPr lIns="9000" rIns="9000" tIns="9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1" lang="en-US" sz="1200" spc="-1" strike="noStrike">
                        <a:solidFill>
                          <a:srgbClr val="ffffff"/>
                        </a:solidFill>
                        <a:latin typeface="Castellar"/>
                      </a:endParaRPr>
                    </a:p>
                  </a:txBody>
                  <a:tcPr anchor="t" marL="9000" marR="9000">
                    <a:lnL w="5760">
                      <a:solidFill>
                        <a:srgbClr val="000000"/>
                      </a:solidFill>
                    </a:lnL>
                    <a:lnR>
                      <a:noFill/>
                    </a:lnR>
                    <a:lnT>
                      <a:noFill/>
                    </a:lnT>
                    <a:lnB>
                      <a:noFill/>
                    </a:lnB>
                    <a:solidFill>
                      <a:srgbClr val="eaf1dd"/>
                    </a:solidFill>
                  </a:tcPr>
                </a:tc>
                <a:tc>
                  <a:txBody>
                    <a:bodyPr lIns="9000" rIns="9000" tIns="9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1" lang="en-US" sz="1200" spc="-1" strike="noStrike">
                        <a:solidFill>
                          <a:srgbClr val="ffffff"/>
                        </a:solidFill>
                        <a:latin typeface="Castellar"/>
                      </a:endParaRPr>
                    </a:p>
                  </a:txBody>
                  <a:tcPr anchor="t" marL="9000" marR="9000">
                    <a:lnL>
                      <a:noFill/>
                    </a:lnL>
                    <a:lnR w="5760">
                      <a:solidFill>
                        <a:srgbClr val="000000"/>
                      </a:solidFill>
                    </a:lnR>
                    <a:lnT>
                      <a:noFill/>
                    </a:lnT>
                    <a:lnB>
                      <a:noFill/>
                    </a:lnB>
                    <a:solidFill>
                      <a:srgbClr val="eaf1dd"/>
                    </a:solidFill>
                  </a:tcPr>
                </a:tc>
              </a:tr>
              <a:tr h="236520">
                <a:tc>
                  <a:txBody>
                    <a:bodyPr lIns="9000" rIns="9000" tIns="9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iquidez Circulante</a:t>
                      </a:r>
                      <a:endParaRPr b="1" lang="en-US" sz="1200" spc="-1" strike="noStrike">
                        <a:solidFill>
                          <a:srgbClr val="ffffff"/>
                        </a:solidFill>
                        <a:latin typeface="Castellar"/>
                      </a:endParaRPr>
                    </a:p>
                  </a:txBody>
                  <a:tcPr anchor="t" marL="9000" marR="9000">
                    <a:lnL w="5760">
                      <a:solidFill>
                        <a:srgbClr val="000000"/>
                      </a:solidFill>
                    </a:lnL>
                    <a:lnR>
                      <a:noFill/>
                    </a:lnR>
                    <a:lnT>
                      <a:noFill/>
                    </a:lnT>
                    <a:lnB>
                      <a:noFill/>
                    </a:lnB>
                    <a:noFill/>
                  </a:tcPr>
                </a:tc>
                <a:tc>
                  <a:txBody>
                    <a:bodyPr lIns="9000" rIns="9000" tIns="9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1" lang="en-US" sz="1200" spc="-1" strike="noStrike">
                        <a:solidFill>
                          <a:srgbClr val="ffffff"/>
                        </a:solidFill>
                        <a:latin typeface="Castellar"/>
                      </a:endParaRPr>
                    </a:p>
                  </a:txBody>
                  <a:tcPr anchor="t" marL="9000" marR="9000">
                    <a:lnL>
                      <a:noFill/>
                    </a:lnL>
                    <a:lnR w="5760">
                      <a:solidFill>
                        <a:srgbClr val="000000"/>
                      </a:solidFill>
                    </a:lnR>
                    <a:lnT>
                      <a:noFill/>
                    </a:lnT>
                    <a:lnB>
                      <a:noFill/>
                    </a:lnB>
                    <a:noFill/>
                  </a:tcPr>
                </a:tc>
              </a:tr>
              <a:tr h="236520">
                <a:tc>
                  <a:txBody>
                    <a:bodyPr lIns="9000" rIns="9000" tIns="9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ctivo Circ/ pasivo circ</a:t>
                      </a:r>
                      <a:endParaRPr b="1" lang="en-US" sz="1200" spc="-1" strike="noStrike">
                        <a:solidFill>
                          <a:srgbClr val="ffffff"/>
                        </a:solidFill>
                        <a:latin typeface="Castellar"/>
                      </a:endParaRPr>
                    </a:p>
                  </a:txBody>
                  <a:tcPr anchor="t" marL="9000" marR="9000">
                    <a:lnL w="5760">
                      <a:solidFill>
                        <a:srgbClr val="000000"/>
                      </a:solidFill>
                    </a:lnL>
                    <a:lnR>
                      <a:noFill/>
                    </a:lnR>
                    <a:lnT>
                      <a:noFill/>
                    </a:lnT>
                    <a:lnB>
                      <a:noFill/>
                    </a:lnB>
                    <a:solidFill>
                      <a:srgbClr val="eaf1dd"/>
                    </a:solidFill>
                  </a:tcPr>
                </a:tc>
                <a:tc>
                  <a:txBody>
                    <a:bodyPr lIns="9000" rIns="9000" tIns="90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37</a:t>
                      </a:r>
                      <a:endParaRPr b="1" lang="en-US" sz="1200" spc="-1" strike="noStrike">
                        <a:solidFill>
                          <a:srgbClr val="ffffff"/>
                        </a:solidFill>
                        <a:latin typeface="Castellar"/>
                      </a:endParaRPr>
                    </a:p>
                  </a:txBody>
                  <a:tcPr anchor="t" marL="9000" marR="9000">
                    <a:lnL>
                      <a:noFill/>
                    </a:lnL>
                    <a:lnR w="5760">
                      <a:solidFill>
                        <a:srgbClr val="000000"/>
                      </a:solidFill>
                    </a:lnR>
                    <a:lnT>
                      <a:noFill/>
                    </a:lnT>
                    <a:lnB>
                      <a:noFill/>
                    </a:lnB>
                    <a:solidFill>
                      <a:srgbClr val="eaf1dd"/>
                    </a:solidFill>
                  </a:tcPr>
                </a:tc>
              </a:tr>
              <a:tr h="236520">
                <a:tc>
                  <a:txBody>
                    <a:bodyPr lIns="9000" rIns="9000" tIns="9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1" lang="en-US" sz="1200" spc="-1" strike="noStrike">
                        <a:solidFill>
                          <a:srgbClr val="ffffff"/>
                        </a:solidFill>
                        <a:latin typeface="Castellar"/>
                      </a:endParaRPr>
                    </a:p>
                  </a:txBody>
                  <a:tcPr anchor="t" marL="9000" marR="9000">
                    <a:lnL w="5760">
                      <a:solidFill>
                        <a:srgbClr val="000000"/>
                      </a:solidFill>
                    </a:lnL>
                    <a:lnR>
                      <a:noFill/>
                    </a:lnR>
                    <a:lnT>
                      <a:noFill/>
                    </a:lnT>
                    <a:lnB>
                      <a:noFill/>
                    </a:lnB>
                    <a:noFill/>
                  </a:tcPr>
                </a:tc>
                <a:tc>
                  <a:txBody>
                    <a:bodyPr lIns="9000" rIns="9000" tIns="9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1" lang="en-US" sz="1200" spc="-1" strike="noStrike">
                        <a:solidFill>
                          <a:srgbClr val="ffffff"/>
                        </a:solidFill>
                        <a:latin typeface="Castellar"/>
                      </a:endParaRPr>
                    </a:p>
                  </a:txBody>
                  <a:tcPr anchor="t" marL="9000" marR="9000">
                    <a:lnL>
                      <a:noFill/>
                    </a:lnL>
                    <a:lnR w="5760">
                      <a:solidFill>
                        <a:srgbClr val="000000"/>
                      </a:solidFill>
                    </a:lnR>
                    <a:lnT>
                      <a:noFill/>
                    </a:lnT>
                    <a:lnB>
                      <a:noFill/>
                    </a:lnB>
                    <a:noFill/>
                  </a:tcPr>
                </a:tc>
              </a:tr>
              <a:tr h="236520">
                <a:tc>
                  <a:txBody>
                    <a:bodyPr lIns="9000" rIns="9000" tIns="9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azón rápida o prueba de acido</a:t>
                      </a:r>
                      <a:endParaRPr b="1" lang="en-US" sz="1200" spc="-1" strike="noStrike">
                        <a:solidFill>
                          <a:srgbClr val="ffffff"/>
                        </a:solidFill>
                        <a:latin typeface="Castellar"/>
                      </a:endParaRPr>
                    </a:p>
                  </a:txBody>
                  <a:tcPr anchor="t" marL="9000" marR="9000">
                    <a:lnL w="5760">
                      <a:solidFill>
                        <a:srgbClr val="000000"/>
                      </a:solidFill>
                    </a:lnL>
                    <a:lnR>
                      <a:noFill/>
                    </a:lnR>
                    <a:lnT>
                      <a:noFill/>
                    </a:lnT>
                    <a:lnB>
                      <a:noFill/>
                    </a:lnB>
                    <a:solidFill>
                      <a:srgbClr val="eaf1dd"/>
                    </a:solidFill>
                  </a:tcPr>
                </a:tc>
                <a:tc>
                  <a:txBody>
                    <a:bodyPr lIns="9000" rIns="9000" tIns="9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1" lang="en-US" sz="1200" spc="-1" strike="noStrike">
                        <a:solidFill>
                          <a:srgbClr val="ffffff"/>
                        </a:solidFill>
                        <a:latin typeface="Castellar"/>
                      </a:endParaRPr>
                    </a:p>
                  </a:txBody>
                  <a:tcPr anchor="t" marL="9000" marR="9000">
                    <a:lnL>
                      <a:noFill/>
                    </a:lnL>
                    <a:lnR w="5760">
                      <a:solidFill>
                        <a:srgbClr val="000000"/>
                      </a:solidFill>
                    </a:lnR>
                    <a:lnT>
                      <a:noFill/>
                    </a:lnT>
                    <a:lnB>
                      <a:noFill/>
                    </a:lnB>
                    <a:solidFill>
                      <a:srgbClr val="eaf1dd"/>
                    </a:solidFill>
                  </a:tcPr>
                </a:tc>
              </a:tr>
              <a:tr h="236520">
                <a:tc>
                  <a:txBody>
                    <a:bodyPr lIns="9000" rIns="9000" tIns="9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ctivo circ- Inventario/pasivo circ</a:t>
                      </a:r>
                      <a:endParaRPr b="1" lang="en-US" sz="1200" spc="-1" strike="noStrike">
                        <a:solidFill>
                          <a:srgbClr val="ffffff"/>
                        </a:solidFill>
                        <a:latin typeface="Castellar"/>
                      </a:endParaRPr>
                    </a:p>
                  </a:txBody>
                  <a:tcPr anchor="t" marL="9000" marR="9000">
                    <a:lnL w="5760">
                      <a:solidFill>
                        <a:srgbClr val="000000"/>
                      </a:solidFill>
                    </a:lnL>
                    <a:lnR>
                      <a:noFill/>
                    </a:lnR>
                    <a:lnT>
                      <a:noFill/>
                    </a:lnT>
                    <a:lnB>
                      <a:noFill/>
                    </a:lnB>
                    <a:noFill/>
                  </a:tcPr>
                </a:tc>
                <a:tc>
                  <a:txBody>
                    <a:bodyPr lIns="9000" rIns="9000" tIns="90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0,96</a:t>
                      </a:r>
                      <a:endParaRPr b="1" lang="en-US" sz="1200" spc="-1" strike="noStrike">
                        <a:solidFill>
                          <a:srgbClr val="ffffff"/>
                        </a:solidFill>
                        <a:latin typeface="Castellar"/>
                      </a:endParaRPr>
                    </a:p>
                  </a:txBody>
                  <a:tcPr anchor="t" marL="9000" marR="9000">
                    <a:lnL>
                      <a:noFill/>
                    </a:lnL>
                    <a:lnR w="5760">
                      <a:solidFill>
                        <a:srgbClr val="000000"/>
                      </a:solidFill>
                    </a:lnR>
                    <a:lnT>
                      <a:noFill/>
                    </a:lnT>
                    <a:lnB>
                      <a:noFill/>
                    </a:lnB>
                    <a:noFill/>
                  </a:tcPr>
                </a:tc>
              </a:tr>
              <a:tr h="236520">
                <a:tc>
                  <a:txBody>
                    <a:bodyPr lIns="9000" rIns="9000" tIns="9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1" lang="en-US" sz="1200" spc="-1" strike="noStrike">
                        <a:solidFill>
                          <a:srgbClr val="ffffff"/>
                        </a:solidFill>
                        <a:latin typeface="Castellar"/>
                      </a:endParaRPr>
                    </a:p>
                  </a:txBody>
                  <a:tcPr anchor="t" marL="9000" marR="9000">
                    <a:lnL w="5760">
                      <a:solidFill>
                        <a:srgbClr val="000000"/>
                      </a:solidFill>
                    </a:lnL>
                    <a:lnR>
                      <a:noFill/>
                    </a:lnR>
                    <a:lnT>
                      <a:noFill/>
                    </a:lnT>
                    <a:lnB>
                      <a:noFill/>
                    </a:lnB>
                    <a:solidFill>
                      <a:srgbClr val="eaf1dd"/>
                    </a:solidFill>
                  </a:tcPr>
                </a:tc>
                <a:tc>
                  <a:txBody>
                    <a:bodyPr lIns="9000" rIns="9000" tIns="9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1" lang="en-US" sz="1200" spc="-1" strike="noStrike">
                        <a:solidFill>
                          <a:srgbClr val="ffffff"/>
                        </a:solidFill>
                        <a:latin typeface="Castellar"/>
                      </a:endParaRPr>
                    </a:p>
                  </a:txBody>
                  <a:tcPr anchor="t" marL="9000" marR="9000">
                    <a:lnL>
                      <a:noFill/>
                    </a:lnL>
                    <a:lnR w="5760">
                      <a:solidFill>
                        <a:srgbClr val="000000"/>
                      </a:solidFill>
                    </a:lnR>
                    <a:lnT>
                      <a:noFill/>
                    </a:lnT>
                    <a:lnB>
                      <a:noFill/>
                    </a:lnB>
                    <a:solidFill>
                      <a:srgbClr val="eaf1dd"/>
                    </a:solidFill>
                  </a:tcPr>
                </a:tc>
              </a:tr>
              <a:tr h="236880">
                <a:tc>
                  <a:txBody>
                    <a:bodyPr lIns="9000" rIns="9000" tIns="9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palancamiento</a:t>
                      </a:r>
                      <a:endParaRPr b="1" lang="en-US" sz="1200" spc="-1" strike="noStrike">
                        <a:solidFill>
                          <a:srgbClr val="ffffff"/>
                        </a:solidFill>
                        <a:latin typeface="Castellar"/>
                      </a:endParaRPr>
                    </a:p>
                  </a:txBody>
                  <a:tcPr anchor="t" marL="9000" marR="9000">
                    <a:lnL w="5760">
                      <a:solidFill>
                        <a:srgbClr val="000000"/>
                      </a:solidFill>
                    </a:lnL>
                    <a:lnR>
                      <a:noFill/>
                    </a:lnR>
                    <a:lnT>
                      <a:noFill/>
                    </a:lnT>
                    <a:lnB>
                      <a:noFill/>
                    </a:lnB>
                    <a:noFill/>
                  </a:tcPr>
                </a:tc>
                <a:tc>
                  <a:txBody>
                    <a:bodyPr lIns="9000" rIns="9000" tIns="9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1" lang="en-US" sz="1200" spc="-1" strike="noStrike">
                        <a:solidFill>
                          <a:srgbClr val="ffffff"/>
                        </a:solidFill>
                        <a:latin typeface="Castellar"/>
                      </a:endParaRPr>
                    </a:p>
                  </a:txBody>
                  <a:tcPr anchor="t" marL="9000" marR="9000">
                    <a:lnL>
                      <a:noFill/>
                    </a:lnL>
                    <a:lnR w="5760">
                      <a:solidFill>
                        <a:srgbClr val="000000"/>
                      </a:solidFill>
                    </a:lnR>
                    <a:lnT>
                      <a:noFill/>
                    </a:lnT>
                    <a:lnB>
                      <a:noFill/>
                    </a:lnB>
                    <a:noFill/>
                  </a:tcPr>
                </a:tc>
              </a:tr>
              <a:tr h="236520">
                <a:tc>
                  <a:txBody>
                    <a:bodyPr lIns="9000" rIns="9000" tIns="9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uda total/activos totales</a:t>
                      </a:r>
                      <a:endParaRPr b="1" lang="en-US" sz="1200" spc="-1" strike="noStrike">
                        <a:solidFill>
                          <a:srgbClr val="ffffff"/>
                        </a:solidFill>
                        <a:latin typeface="Castellar"/>
                      </a:endParaRPr>
                    </a:p>
                  </a:txBody>
                  <a:tcPr anchor="t" marL="9000" marR="9000">
                    <a:lnL w="5760">
                      <a:solidFill>
                        <a:srgbClr val="000000"/>
                      </a:solidFill>
                    </a:lnL>
                    <a:lnR>
                      <a:noFill/>
                    </a:lnR>
                    <a:lnT>
                      <a:noFill/>
                    </a:lnT>
                    <a:lnB>
                      <a:noFill/>
                    </a:lnB>
                    <a:solidFill>
                      <a:srgbClr val="eaf1dd"/>
                    </a:solidFill>
                  </a:tcPr>
                </a:tc>
                <a:tc>
                  <a:txBody>
                    <a:bodyPr lIns="9000" rIns="9000" tIns="90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0,31</a:t>
                      </a:r>
                      <a:endParaRPr b="1" lang="en-US" sz="1200" spc="-1" strike="noStrike">
                        <a:solidFill>
                          <a:srgbClr val="ffffff"/>
                        </a:solidFill>
                        <a:latin typeface="Castellar"/>
                      </a:endParaRPr>
                    </a:p>
                  </a:txBody>
                  <a:tcPr anchor="t" marL="9000" marR="9000">
                    <a:lnL>
                      <a:noFill/>
                    </a:lnL>
                    <a:lnR w="5760">
                      <a:solidFill>
                        <a:srgbClr val="000000"/>
                      </a:solidFill>
                    </a:lnR>
                    <a:lnT>
                      <a:noFill/>
                    </a:lnT>
                    <a:lnB>
                      <a:noFill/>
                    </a:lnB>
                    <a:solidFill>
                      <a:srgbClr val="eaf1dd"/>
                    </a:solidFill>
                  </a:tcPr>
                </a:tc>
              </a:tr>
              <a:tr h="236520">
                <a:tc>
                  <a:txBody>
                    <a:bodyPr lIns="9000" rIns="9000" tIns="9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1" lang="en-US" sz="1200" spc="-1" strike="noStrike">
                        <a:solidFill>
                          <a:srgbClr val="ffffff"/>
                        </a:solidFill>
                        <a:latin typeface="Castellar"/>
                      </a:endParaRPr>
                    </a:p>
                  </a:txBody>
                  <a:tcPr anchor="t" marL="9000" marR="9000">
                    <a:lnL w="5760">
                      <a:solidFill>
                        <a:srgbClr val="000000"/>
                      </a:solidFill>
                    </a:lnL>
                    <a:lnR>
                      <a:noFill/>
                    </a:lnR>
                    <a:lnT>
                      <a:noFill/>
                    </a:lnT>
                    <a:lnB>
                      <a:noFill/>
                    </a:lnB>
                    <a:noFill/>
                  </a:tcPr>
                </a:tc>
                <a:tc>
                  <a:txBody>
                    <a:bodyPr lIns="330120" rIns="9000" tIns="9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1" lang="en-US" sz="1200" spc="-1" strike="noStrike">
                        <a:solidFill>
                          <a:srgbClr val="ffffff"/>
                        </a:solidFill>
                        <a:latin typeface="Castellar"/>
                      </a:endParaRPr>
                    </a:p>
                  </a:txBody>
                  <a:tcPr anchor="t" marL="330120" marR="9000">
                    <a:lnL>
                      <a:noFill/>
                    </a:lnL>
                    <a:lnR w="5760">
                      <a:solidFill>
                        <a:srgbClr val="000000"/>
                      </a:solidFill>
                    </a:lnR>
                    <a:lnT>
                      <a:noFill/>
                    </a:lnT>
                    <a:lnB>
                      <a:noFill/>
                    </a:lnB>
                    <a:noFill/>
                  </a:tcPr>
                </a:tc>
              </a:tr>
              <a:tr h="236520">
                <a:tc>
                  <a:txBody>
                    <a:bodyPr lIns="9000" rIns="9000" tIns="9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ctividades</a:t>
                      </a:r>
                      <a:endParaRPr b="1" lang="en-US" sz="1200" spc="-1" strike="noStrike">
                        <a:solidFill>
                          <a:srgbClr val="ffffff"/>
                        </a:solidFill>
                        <a:latin typeface="Castellar"/>
                      </a:endParaRPr>
                    </a:p>
                  </a:txBody>
                  <a:tcPr anchor="t" marL="9000" marR="9000">
                    <a:lnL w="5760">
                      <a:solidFill>
                        <a:srgbClr val="000000"/>
                      </a:solidFill>
                    </a:lnL>
                    <a:lnR>
                      <a:noFill/>
                    </a:lnR>
                    <a:lnT>
                      <a:noFill/>
                    </a:lnT>
                    <a:lnB>
                      <a:noFill/>
                    </a:lnB>
                    <a:solidFill>
                      <a:srgbClr val="eaf1dd"/>
                    </a:solidFill>
                  </a:tcPr>
                </a:tc>
                <a:tc>
                  <a:txBody>
                    <a:bodyPr lIns="9000" rIns="9000" tIns="9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1" lang="en-US" sz="1200" spc="-1" strike="noStrike">
                        <a:solidFill>
                          <a:srgbClr val="ffffff"/>
                        </a:solidFill>
                        <a:latin typeface="Castellar"/>
                      </a:endParaRPr>
                    </a:p>
                  </a:txBody>
                  <a:tcPr anchor="t" marL="9000" marR="9000">
                    <a:lnL>
                      <a:noFill/>
                    </a:lnL>
                    <a:lnR w="5760">
                      <a:solidFill>
                        <a:srgbClr val="000000"/>
                      </a:solidFill>
                    </a:lnR>
                    <a:lnT>
                      <a:noFill/>
                    </a:lnT>
                    <a:lnB>
                      <a:noFill/>
                    </a:lnB>
                    <a:solidFill>
                      <a:srgbClr val="eaf1dd"/>
                    </a:solidFill>
                  </a:tcPr>
                </a:tc>
              </a:tr>
              <a:tr h="236520">
                <a:tc>
                  <a:txBody>
                    <a:bodyPr lIns="9000" rIns="9000" tIns="9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otación de activos totales</a:t>
                      </a:r>
                      <a:endParaRPr b="1" lang="en-US" sz="1200" spc="-1" strike="noStrike">
                        <a:solidFill>
                          <a:srgbClr val="ffffff"/>
                        </a:solidFill>
                        <a:latin typeface="Castellar"/>
                      </a:endParaRPr>
                    </a:p>
                  </a:txBody>
                  <a:tcPr anchor="t" marL="9000" marR="9000">
                    <a:lnL w="5760">
                      <a:solidFill>
                        <a:srgbClr val="000000"/>
                      </a:solidFill>
                    </a:lnL>
                    <a:lnR>
                      <a:noFill/>
                    </a:lnR>
                    <a:lnT>
                      <a:noFill/>
                    </a:lnT>
                    <a:lnB>
                      <a:noFill/>
                    </a:lnB>
                    <a:noFill/>
                  </a:tcPr>
                </a:tc>
                <a:tc>
                  <a:txBody>
                    <a:bodyPr lIns="9000" rIns="9000" tIns="9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1" lang="en-US" sz="1200" spc="-1" strike="noStrike">
                        <a:solidFill>
                          <a:srgbClr val="ffffff"/>
                        </a:solidFill>
                        <a:latin typeface="Castellar"/>
                      </a:endParaRPr>
                    </a:p>
                  </a:txBody>
                  <a:tcPr anchor="t" marL="9000" marR="9000">
                    <a:lnL>
                      <a:noFill/>
                    </a:lnL>
                    <a:lnR w="5760">
                      <a:solidFill>
                        <a:srgbClr val="000000"/>
                      </a:solidFill>
                    </a:lnR>
                    <a:lnT>
                      <a:noFill/>
                    </a:lnT>
                    <a:lnB>
                      <a:noFill/>
                    </a:lnB>
                    <a:noFill/>
                  </a:tcPr>
                </a:tc>
              </a:tr>
              <a:tr h="236520">
                <a:tc>
                  <a:txBody>
                    <a:bodyPr lIns="9000" rIns="9000" tIns="9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enta /Activos totales</a:t>
                      </a:r>
                      <a:endParaRPr b="1" lang="en-US" sz="1200" spc="-1" strike="noStrike">
                        <a:solidFill>
                          <a:srgbClr val="ffffff"/>
                        </a:solidFill>
                        <a:latin typeface="Castellar"/>
                      </a:endParaRPr>
                    </a:p>
                  </a:txBody>
                  <a:tcPr anchor="t" marL="9000" marR="9000">
                    <a:lnL w="5760">
                      <a:solidFill>
                        <a:srgbClr val="000000"/>
                      </a:solidFill>
                    </a:lnL>
                    <a:lnR>
                      <a:noFill/>
                    </a:lnR>
                    <a:lnT>
                      <a:noFill/>
                    </a:lnT>
                    <a:lnB>
                      <a:noFill/>
                    </a:lnB>
                    <a:solidFill>
                      <a:srgbClr val="eaf1dd"/>
                    </a:solidFill>
                  </a:tcPr>
                </a:tc>
                <a:tc>
                  <a:txBody>
                    <a:bodyPr lIns="9000" rIns="9000" tIns="90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0,23</a:t>
                      </a:r>
                      <a:endParaRPr b="1" lang="en-US" sz="1200" spc="-1" strike="noStrike">
                        <a:solidFill>
                          <a:srgbClr val="ffffff"/>
                        </a:solidFill>
                        <a:latin typeface="Castellar"/>
                      </a:endParaRPr>
                    </a:p>
                  </a:txBody>
                  <a:tcPr anchor="t" marL="9000" marR="9000">
                    <a:lnL>
                      <a:noFill/>
                    </a:lnL>
                    <a:lnR w="5760">
                      <a:solidFill>
                        <a:srgbClr val="000000"/>
                      </a:solidFill>
                    </a:lnR>
                    <a:lnT>
                      <a:noFill/>
                    </a:lnT>
                    <a:lnB>
                      <a:noFill/>
                    </a:lnB>
                    <a:solidFill>
                      <a:srgbClr val="eaf1dd"/>
                    </a:solidFill>
                  </a:tcPr>
                </a:tc>
              </a:tr>
              <a:tr h="236520">
                <a:tc>
                  <a:txBody>
                    <a:bodyPr lIns="9000" rIns="9000" tIns="9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1" lang="en-US" sz="1200" spc="-1" strike="noStrike">
                        <a:solidFill>
                          <a:srgbClr val="ffffff"/>
                        </a:solidFill>
                        <a:latin typeface="Castellar"/>
                      </a:endParaRPr>
                    </a:p>
                  </a:txBody>
                  <a:tcPr anchor="t" marL="9000" marR="9000">
                    <a:lnL w="5760">
                      <a:solidFill>
                        <a:srgbClr val="000000"/>
                      </a:solidFill>
                    </a:lnL>
                    <a:lnR>
                      <a:noFill/>
                    </a:lnR>
                    <a:lnT>
                      <a:noFill/>
                    </a:lnT>
                    <a:lnB>
                      <a:noFill/>
                    </a:lnB>
                    <a:noFill/>
                  </a:tcPr>
                </a:tc>
                <a:tc>
                  <a:txBody>
                    <a:bodyPr lIns="9000" rIns="9000" tIns="9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1" lang="en-US" sz="1200" spc="-1" strike="noStrike">
                        <a:solidFill>
                          <a:srgbClr val="ffffff"/>
                        </a:solidFill>
                        <a:latin typeface="Castellar"/>
                      </a:endParaRPr>
                    </a:p>
                  </a:txBody>
                  <a:tcPr anchor="t" marL="9000" marR="9000">
                    <a:lnL>
                      <a:noFill/>
                    </a:lnL>
                    <a:lnR w="5760">
                      <a:solidFill>
                        <a:srgbClr val="000000"/>
                      </a:solidFill>
                    </a:lnR>
                    <a:lnT>
                      <a:noFill/>
                    </a:lnT>
                    <a:lnB>
                      <a:noFill/>
                    </a:lnB>
                    <a:noFill/>
                  </a:tcPr>
                </a:tc>
              </a:tr>
              <a:tr h="236520">
                <a:tc>
                  <a:txBody>
                    <a:bodyPr lIns="9000" rIns="9000" tIns="9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ntabilidad</a:t>
                      </a:r>
                      <a:endParaRPr b="1" lang="en-US" sz="1200" spc="-1" strike="noStrike">
                        <a:solidFill>
                          <a:srgbClr val="ffffff"/>
                        </a:solidFill>
                        <a:latin typeface="Castellar"/>
                      </a:endParaRPr>
                    </a:p>
                  </a:txBody>
                  <a:tcPr anchor="t" marL="9000" marR="9000">
                    <a:lnL w="5760">
                      <a:solidFill>
                        <a:srgbClr val="000000"/>
                      </a:solidFill>
                    </a:lnL>
                    <a:lnR>
                      <a:noFill/>
                    </a:lnR>
                    <a:lnT>
                      <a:noFill/>
                    </a:lnT>
                    <a:lnB>
                      <a:noFill/>
                    </a:lnB>
                    <a:solidFill>
                      <a:srgbClr val="eaf1dd"/>
                    </a:solidFill>
                  </a:tcPr>
                </a:tc>
                <a:tc>
                  <a:txBody>
                    <a:bodyPr lIns="9000" rIns="9000" tIns="9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1" lang="en-US" sz="1200" spc="-1" strike="noStrike">
                        <a:solidFill>
                          <a:srgbClr val="ffffff"/>
                        </a:solidFill>
                        <a:latin typeface="Castellar"/>
                      </a:endParaRPr>
                    </a:p>
                  </a:txBody>
                  <a:tcPr anchor="t" marL="9000" marR="9000">
                    <a:lnL>
                      <a:noFill/>
                    </a:lnL>
                    <a:lnR w="5760">
                      <a:solidFill>
                        <a:srgbClr val="000000"/>
                      </a:solidFill>
                    </a:lnR>
                    <a:lnT>
                      <a:noFill/>
                    </a:lnT>
                    <a:lnB>
                      <a:noFill/>
                    </a:lnB>
                    <a:solidFill>
                      <a:srgbClr val="eaf1dd"/>
                    </a:solidFill>
                  </a:tcPr>
                </a:tc>
              </a:tr>
              <a:tr h="236520">
                <a:tc>
                  <a:txBody>
                    <a:bodyPr lIns="9000" rIns="9000" tIns="9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Utilidad operativa /patrimonio</a:t>
                      </a:r>
                      <a:endParaRPr b="1" lang="en-US" sz="1200" spc="-1" strike="noStrike">
                        <a:solidFill>
                          <a:srgbClr val="ffffff"/>
                        </a:solidFill>
                        <a:latin typeface="Castellar"/>
                      </a:endParaRPr>
                    </a:p>
                  </a:txBody>
                  <a:tcPr anchor="t" marL="9000" marR="9000">
                    <a:lnL w="5760">
                      <a:solidFill>
                        <a:srgbClr val="000000"/>
                      </a:solidFill>
                    </a:lnL>
                    <a:lnR>
                      <a:noFill/>
                    </a:lnR>
                    <a:lnT>
                      <a:noFill/>
                    </a:lnT>
                    <a:lnB>
                      <a:noFill/>
                    </a:lnB>
                    <a:noFill/>
                  </a:tcPr>
                </a:tc>
                <a:tc>
                  <a:txBody>
                    <a:bodyPr lIns="9000" rIns="9000" tIns="90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0,24</a:t>
                      </a:r>
                      <a:endParaRPr b="1" lang="en-US" sz="1200" spc="-1" strike="noStrike">
                        <a:solidFill>
                          <a:srgbClr val="ffffff"/>
                        </a:solidFill>
                        <a:latin typeface="Castellar"/>
                      </a:endParaRPr>
                    </a:p>
                  </a:txBody>
                  <a:tcPr anchor="t" marL="9000" marR="9000">
                    <a:lnL>
                      <a:noFill/>
                    </a:lnL>
                    <a:lnR w="5760">
                      <a:solidFill>
                        <a:srgbClr val="000000"/>
                      </a:solidFill>
                    </a:lnR>
                    <a:lnT>
                      <a:noFill/>
                    </a:lnT>
                    <a:lnB>
                      <a:noFill/>
                    </a:lnB>
                    <a:noFill/>
                  </a:tcPr>
                </a:tc>
              </a:tr>
              <a:tr h="236520">
                <a:tc>
                  <a:txBody>
                    <a:bodyPr lIns="9000" rIns="9000" tIns="9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Utilidad neta /patrimonio</a:t>
                      </a:r>
                      <a:endParaRPr b="1" lang="en-US" sz="1200" spc="-1" strike="noStrike">
                        <a:solidFill>
                          <a:srgbClr val="ffffff"/>
                        </a:solidFill>
                        <a:latin typeface="Castellar"/>
                      </a:endParaRPr>
                    </a:p>
                  </a:txBody>
                  <a:tcPr anchor="t" marL="9000" marR="9000">
                    <a:lnL w="5760">
                      <a:solidFill>
                        <a:srgbClr val="000000"/>
                      </a:solidFill>
                    </a:lnL>
                    <a:lnR>
                      <a:noFill/>
                    </a:lnR>
                    <a:lnT>
                      <a:noFill/>
                    </a:lnT>
                    <a:lnB>
                      <a:noFill/>
                    </a:lnB>
                    <a:solidFill>
                      <a:srgbClr val="eaf1dd"/>
                    </a:solidFill>
                  </a:tcPr>
                </a:tc>
                <a:tc>
                  <a:txBody>
                    <a:bodyPr lIns="9000" rIns="9000" tIns="90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0,21</a:t>
                      </a:r>
                      <a:endParaRPr b="1" lang="en-US" sz="1200" spc="-1" strike="noStrike">
                        <a:solidFill>
                          <a:srgbClr val="ffffff"/>
                        </a:solidFill>
                        <a:latin typeface="Castellar"/>
                      </a:endParaRPr>
                    </a:p>
                  </a:txBody>
                  <a:tcPr anchor="t" marL="9000" marR="9000">
                    <a:lnL>
                      <a:noFill/>
                    </a:lnL>
                    <a:lnR w="5760">
                      <a:solidFill>
                        <a:srgbClr val="000000"/>
                      </a:solidFill>
                    </a:lnR>
                    <a:lnT>
                      <a:noFill/>
                    </a:lnT>
                    <a:lnB>
                      <a:noFill/>
                    </a:lnB>
                    <a:solidFill>
                      <a:srgbClr val="eaf1dd"/>
                    </a:solidFill>
                  </a:tcPr>
                </a:tc>
              </a:tr>
              <a:tr h="247680">
                <a:tc>
                  <a:txBody>
                    <a:bodyPr lIns="9000" rIns="9000" tIns="9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utilidad neta/ventas</a:t>
                      </a:r>
                      <a:endParaRPr b="1" lang="en-US" sz="1200" spc="-1" strike="noStrike">
                        <a:solidFill>
                          <a:srgbClr val="ffffff"/>
                        </a:solidFill>
                        <a:latin typeface="Castellar"/>
                      </a:endParaRPr>
                    </a:p>
                  </a:txBody>
                  <a:tcPr anchor="t" marL="9000" marR="9000">
                    <a:lnL w="5760">
                      <a:solidFill>
                        <a:srgbClr val="000000"/>
                      </a:solidFill>
                    </a:lnL>
                    <a:lnR>
                      <a:noFill/>
                    </a:lnR>
                    <a:lnT>
                      <a:noFill/>
                    </a:lnT>
                    <a:lnB w="5760">
                      <a:solidFill>
                        <a:srgbClr val="000000"/>
                      </a:solidFill>
                    </a:lnB>
                    <a:noFill/>
                  </a:tcPr>
                </a:tc>
                <a:tc>
                  <a:txBody>
                    <a:bodyPr lIns="9000" rIns="9000" tIns="90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0,63</a:t>
                      </a:r>
                      <a:endParaRPr b="1" lang="en-US" sz="1200" spc="-1" strike="noStrike">
                        <a:solidFill>
                          <a:srgbClr val="ffffff"/>
                        </a:solidFill>
                        <a:latin typeface="Castellar"/>
                      </a:endParaRPr>
                    </a:p>
                  </a:txBody>
                  <a:tcPr anchor="t" marL="9000" marR="9000">
                    <a:lnL>
                      <a:noFill/>
                    </a:lnL>
                    <a:lnR w="5760">
                      <a:solidFill>
                        <a:srgbClr val="000000"/>
                      </a:solidFill>
                    </a:lnR>
                    <a:lnT>
                      <a:noFill/>
                    </a:lnT>
                    <a:lnB w="5760">
                      <a:solidFill>
                        <a:srgbClr val="000000"/>
                      </a:solidFill>
                    </a:lnB>
                    <a:noFill/>
                  </a:tcPr>
                </a:tc>
              </a:tr>
            </a:tbl>
          </a:graphicData>
        </a:graphic>
      </p:graphicFrame>
      <p:pic>
        <p:nvPicPr>
          <p:cNvPr id="300" name="Picture 54" descr=""/>
          <p:cNvPicPr/>
          <p:nvPr/>
        </p:nvPicPr>
        <p:blipFill>
          <a:blip r:embed="rId1"/>
          <a:stretch/>
        </p:blipFill>
        <p:spPr>
          <a:xfrm>
            <a:off x="6877080" y="189000"/>
            <a:ext cx="1942920" cy="485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3 CuadroTexto"/>
          <p:cNvSpPr/>
          <p:nvPr/>
        </p:nvSpPr>
        <p:spPr>
          <a:xfrm>
            <a:off x="2571840" y="857160"/>
            <a:ext cx="378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stellar"/>
              </a:rPr>
              <a:t>DECISIONES DE INVERSION</a:t>
            </a:r>
            <a:endParaRPr b="1" lang="en-US" sz="1800" spc="-1" strike="noStrike">
              <a:solidFill>
                <a:srgbClr val="ffffff"/>
              </a:solidFill>
              <a:latin typeface="Castellar"/>
            </a:endParaRPr>
          </a:p>
        </p:txBody>
      </p:sp>
      <p:sp>
        <p:nvSpPr>
          <p:cNvPr id="302" name="7 CuadroTexto"/>
          <p:cNvSpPr/>
          <p:nvPr/>
        </p:nvSpPr>
        <p:spPr>
          <a:xfrm>
            <a:off x="1835280" y="1989000"/>
            <a:ext cx="6000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ctualmente la empresa no tiene planeado ningún tipo de inversión para el año 2009, siendo esta una estrategia para ahorrar  dinero y evitar los altos riegos como efecto de la crisis actual.</a:t>
            </a:r>
            <a:endParaRPr b="1" lang="en-US" sz="2400" spc="-1" strike="noStrike">
              <a:solidFill>
                <a:srgbClr val="ffffff"/>
              </a:solidFill>
              <a:latin typeface="Castella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stellar"/>
            </a:endParaRPr>
          </a:p>
        </p:txBody>
      </p:sp>
      <p:pic>
        <p:nvPicPr>
          <p:cNvPr id="303" name="Picture 5" descr=""/>
          <p:cNvPicPr/>
          <p:nvPr/>
        </p:nvPicPr>
        <p:blipFill>
          <a:blip r:embed="rId1"/>
          <a:stretch/>
        </p:blipFill>
        <p:spPr>
          <a:xfrm>
            <a:off x="6877080" y="189000"/>
            <a:ext cx="1942920" cy="485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3 CuadroTexto"/>
          <p:cNvSpPr/>
          <p:nvPr/>
        </p:nvSpPr>
        <p:spPr>
          <a:xfrm>
            <a:off x="1547640" y="981000"/>
            <a:ext cx="5656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stellar"/>
              </a:rPr>
              <a:t>PERSPECTIVAS DE CRECIMIENTO</a:t>
            </a:r>
            <a:endParaRPr b="1" lang="en-US" sz="1800" spc="-1" strike="noStrike">
              <a:solidFill>
                <a:srgbClr val="ffffff"/>
              </a:solidFill>
              <a:latin typeface="Castellar"/>
            </a:endParaRPr>
          </a:p>
        </p:txBody>
      </p:sp>
      <p:sp>
        <p:nvSpPr>
          <p:cNvPr id="305" name="7 CuadroTexto"/>
          <p:cNvSpPr/>
          <p:nvPr/>
        </p:nvSpPr>
        <p:spPr>
          <a:xfrm>
            <a:off x="928800" y="2357280"/>
            <a:ext cx="70009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stella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Global Materials Services Venezuela C.A , es una empresa cuyas perspectivas de crecimiento dependerán directamente de las  de C.V.G Bauxilum, ya que al trabajarle únicamente a esta otra empresa, su rendimiento económico estará ligado a aquella, por lo cual si la producción de Bauxilum disminuyen las ganancias de Global Materials también lo harán.</a:t>
            </a:r>
            <a:endParaRPr b="1" lang="en-US" sz="1800" spc="-1" strike="noStrike">
              <a:solidFill>
                <a:srgbClr val="ffffff"/>
              </a:solidFill>
              <a:latin typeface="Castellar"/>
            </a:endParaRPr>
          </a:p>
        </p:txBody>
      </p:sp>
      <p:pic>
        <p:nvPicPr>
          <p:cNvPr id="306" name="Picture 5" descr=""/>
          <p:cNvPicPr/>
          <p:nvPr/>
        </p:nvPicPr>
        <p:blipFill>
          <a:blip r:embed="rId1"/>
          <a:stretch/>
        </p:blipFill>
        <p:spPr>
          <a:xfrm>
            <a:off x="6877080" y="189000"/>
            <a:ext cx="1942920" cy="4856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Imagen 6" descr="Organigrama financiero alcasa"/>
          <p:cNvPicPr/>
          <p:nvPr/>
        </p:nvPicPr>
        <p:blipFill>
          <a:blip r:embed="rId1"/>
          <a:stretch/>
        </p:blipFill>
        <p:spPr>
          <a:xfrm>
            <a:off x="2268360" y="1484280"/>
            <a:ext cx="5400720" cy="4410000"/>
          </a:xfrm>
          <a:prstGeom prst="rect">
            <a:avLst/>
          </a:prstGeom>
          <a:ln w="0">
            <a:noFill/>
          </a:ln>
        </p:spPr>
      </p:pic>
      <p:sp>
        <p:nvSpPr>
          <p:cNvPr id="308" name="4 CuadroTexto"/>
          <p:cNvSpPr/>
          <p:nvPr/>
        </p:nvSpPr>
        <p:spPr>
          <a:xfrm>
            <a:off x="1403280" y="476280"/>
            <a:ext cx="5832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stellar"/>
              </a:rPr>
              <a:t>Organigrama Financiero de la empresa</a:t>
            </a:r>
            <a:endParaRPr b="1" lang="en-US" sz="1800" spc="-1" strike="noStrike">
              <a:solidFill>
                <a:srgbClr val="ffffff"/>
              </a:solidFill>
              <a:latin typeface="Castella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stellar"/>
              </a:rPr>
              <a:t> </a:t>
            </a:r>
            <a:endParaRPr b="1" lang="en-US" sz="1800" spc="-1" strike="noStrike">
              <a:solidFill>
                <a:srgbClr val="ffffff"/>
              </a:solidFill>
              <a:latin typeface="Castella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stellar"/>
            </a:endParaRPr>
          </a:p>
        </p:txBody>
      </p:sp>
      <p:pic>
        <p:nvPicPr>
          <p:cNvPr id="309" name="Picture 5" descr=""/>
          <p:cNvPicPr/>
          <p:nvPr/>
        </p:nvPicPr>
        <p:blipFill>
          <a:blip r:embed="rId2"/>
          <a:stretch/>
        </p:blipFill>
        <p:spPr>
          <a:xfrm>
            <a:off x="6877080" y="189000"/>
            <a:ext cx="1942920" cy="485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4 CuadroTexto"/>
          <p:cNvSpPr/>
          <p:nvPr/>
        </p:nvSpPr>
        <p:spPr>
          <a:xfrm>
            <a:off x="1643040" y="1357200"/>
            <a:ext cx="57150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stellar"/>
              </a:rPr>
              <a:t>Misión</a:t>
            </a:r>
            <a:endParaRPr b="1" lang="en-US" sz="1800" spc="-1" strike="noStrike">
              <a:solidFill>
                <a:srgbClr val="ffffff"/>
              </a:solidFill>
              <a:latin typeface="Castella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endParaRPr b="1" lang="en-US" sz="1800" spc="-1" strike="noStrike">
              <a:solidFill>
                <a:srgbClr val="ffffff"/>
              </a:solidFill>
              <a:latin typeface="Castel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Dirigir la gestión administrativa financiero contable de la empresa, garantizando la contabilización de sus operaciones y la captación y eficiente aplicación de los fondos necesarios para las operaciones presentes y futuras, dentro de la política y estrategias aprobadas por la alta dirección, con apego a las leyes y disposiciones que rigen la materia. Destacando la atención a los beneficios socios económicos de nuestros trabajadores enmarcados en las políticas de cogestión  y participación.</a:t>
            </a:r>
            <a:endParaRPr b="1" lang="en-US" sz="1800" spc="-1" strike="noStrike">
              <a:solidFill>
                <a:srgbClr val="ffffff"/>
              </a:solidFill>
              <a:latin typeface="Castel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stellar"/>
            </a:endParaRPr>
          </a:p>
        </p:txBody>
      </p:sp>
      <p:pic>
        <p:nvPicPr>
          <p:cNvPr id="311" name="Picture 4" descr=""/>
          <p:cNvPicPr/>
          <p:nvPr/>
        </p:nvPicPr>
        <p:blipFill>
          <a:blip r:embed="rId1"/>
          <a:stretch/>
        </p:blipFill>
        <p:spPr>
          <a:xfrm>
            <a:off x="6877080" y="189000"/>
            <a:ext cx="1942920" cy="485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7" descr=""/>
          <p:cNvPicPr/>
          <p:nvPr/>
        </p:nvPicPr>
        <p:blipFill>
          <a:blip r:embed="rId1"/>
          <a:stretch/>
        </p:blipFill>
        <p:spPr>
          <a:xfrm>
            <a:off x="7596360" y="189000"/>
            <a:ext cx="1547640" cy="647640"/>
          </a:xfrm>
          <a:prstGeom prst="rect">
            <a:avLst/>
          </a:prstGeom>
          <a:ln w="0">
            <a:noFill/>
          </a:ln>
        </p:spPr>
      </p:pic>
      <p:sp>
        <p:nvSpPr>
          <p:cNvPr id="141" name="Text Box 13"/>
          <p:cNvSpPr/>
          <p:nvPr/>
        </p:nvSpPr>
        <p:spPr>
          <a:xfrm>
            <a:off x="3492360" y="6165720"/>
            <a:ext cx="2592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stellar"/>
            </a:endParaRPr>
          </a:p>
        </p:txBody>
      </p:sp>
      <p:sp>
        <p:nvSpPr>
          <p:cNvPr id="142" name="Rectangle 1"/>
          <p:cNvSpPr/>
          <p:nvPr/>
        </p:nvSpPr>
        <p:spPr>
          <a:xfrm>
            <a:off x="1285920" y="1008720"/>
            <a:ext cx="6500880" cy="1798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Castellar"/>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Castellar"/>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Times New Roman"/>
              </a:rPr>
              <a:t>Ser una empresa  que satisfaga y responda oportunamente a la exigencias y necesidades de su principal cliente C.V.G Bauxilum de esta manera convirti</a:t>
            </a:r>
            <a:r>
              <a:rPr b="0" lang="es-ES" sz="1400" spc="-1" strike="noStrike">
                <a:solidFill>
                  <a:srgbClr val="ffffff"/>
                </a:solidFill>
                <a:latin typeface="Arial"/>
                <a:ea typeface="Times New Roman"/>
              </a:rPr>
              <a:t>é</a:t>
            </a:r>
            <a:r>
              <a:rPr b="0" lang="es-ES" sz="1400" spc="-1" strike="noStrike">
                <a:solidFill>
                  <a:srgbClr val="ffffff"/>
                </a:solidFill>
                <a:latin typeface="Verdana"/>
                <a:ea typeface="Times New Roman"/>
              </a:rPr>
              <a:t>ndose en una organizaci</a:t>
            </a:r>
            <a:r>
              <a:rPr b="0" lang="es-ES" sz="1400" spc="-1" strike="noStrike">
                <a:solidFill>
                  <a:srgbClr val="ffffff"/>
                </a:solidFill>
                <a:latin typeface="Arial"/>
                <a:ea typeface="Times New Roman"/>
              </a:rPr>
              <a:t>ó</a:t>
            </a:r>
            <a:r>
              <a:rPr b="0" lang="es-ES" sz="1400" spc="-1" strike="noStrike">
                <a:solidFill>
                  <a:srgbClr val="ffffff"/>
                </a:solidFill>
                <a:latin typeface="Verdana"/>
                <a:ea typeface="Times New Roman"/>
              </a:rPr>
              <a:t>n tecnol</a:t>
            </a:r>
            <a:r>
              <a:rPr b="0" lang="es-ES" sz="1400" spc="-1" strike="noStrike">
                <a:solidFill>
                  <a:srgbClr val="ffffff"/>
                </a:solidFill>
                <a:latin typeface="Arial"/>
                <a:ea typeface="Times New Roman"/>
              </a:rPr>
              <a:t>ó</a:t>
            </a:r>
            <a:r>
              <a:rPr b="0" lang="es-ES" sz="1400" spc="-1" strike="noStrike">
                <a:solidFill>
                  <a:srgbClr val="ffffff"/>
                </a:solidFill>
                <a:latin typeface="Verdana"/>
                <a:ea typeface="Times New Roman"/>
              </a:rPr>
              <a:t>gicamente avanzada, que asegure sus procesos mediante la aplicaci</a:t>
            </a:r>
            <a:r>
              <a:rPr b="0" lang="es-ES" sz="1400" spc="-1" strike="noStrike">
                <a:solidFill>
                  <a:srgbClr val="ffffff"/>
                </a:solidFill>
                <a:latin typeface="Arial"/>
                <a:ea typeface="Times New Roman"/>
              </a:rPr>
              <a:t>ó</a:t>
            </a:r>
            <a:r>
              <a:rPr b="0" lang="es-ES" sz="1400" spc="-1" strike="noStrike">
                <a:solidFill>
                  <a:srgbClr val="ffffff"/>
                </a:solidFill>
                <a:latin typeface="Verdana"/>
                <a:ea typeface="Times New Roman"/>
              </a:rPr>
              <a:t>n de normas nacionales e internacionales de calidad y proyecte la empresa como l</a:t>
            </a:r>
            <a:r>
              <a:rPr b="0" lang="es-ES" sz="1400" spc="-1" strike="noStrike">
                <a:solidFill>
                  <a:srgbClr val="ffffff"/>
                </a:solidFill>
                <a:latin typeface="Arial"/>
                <a:ea typeface="Times New Roman"/>
              </a:rPr>
              <a:t>í</a:t>
            </a:r>
            <a:r>
              <a:rPr b="0" lang="es-ES" sz="1400" spc="-1" strike="noStrike">
                <a:solidFill>
                  <a:srgbClr val="ffffff"/>
                </a:solidFill>
                <a:latin typeface="Verdana"/>
                <a:ea typeface="Times New Roman"/>
              </a:rPr>
              <a:t>der en el manejo de mineral a nivel mundial. </a:t>
            </a:r>
            <a:endParaRPr b="1" lang="en-US" sz="1400" spc="-1" strike="noStrike">
              <a:solidFill>
                <a:srgbClr val="ffffff"/>
              </a:solidFill>
              <a:latin typeface="Castellar"/>
            </a:endParaRPr>
          </a:p>
        </p:txBody>
      </p:sp>
      <p:sp>
        <p:nvSpPr>
          <p:cNvPr id="143" name="8 CuadroTexto"/>
          <p:cNvSpPr/>
          <p:nvPr/>
        </p:nvSpPr>
        <p:spPr>
          <a:xfrm>
            <a:off x="1500120" y="85716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Castellar"/>
              </a:rPr>
              <a:t>vision</a:t>
            </a:r>
            <a:endParaRPr b="1" lang="en-US" sz="1800" spc="-1" strike="noStrike">
              <a:solidFill>
                <a:srgbClr val="ffffff"/>
              </a:solidFill>
              <a:latin typeface="Castellar"/>
            </a:endParaRPr>
          </a:p>
        </p:txBody>
      </p:sp>
      <p:sp>
        <p:nvSpPr>
          <p:cNvPr id="144" name="Rectangle 2"/>
          <p:cNvSpPr/>
          <p:nvPr/>
        </p:nvSpPr>
        <p:spPr>
          <a:xfrm>
            <a:off x="1214280" y="3330720"/>
            <a:ext cx="6715440" cy="176832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Verdana"/>
                <a:ea typeface="Times New Roman"/>
              </a:rPr>
              <a:t>MISION</a:t>
            </a:r>
            <a:endParaRPr b="1" lang="en-US" sz="1400" spc="-1" strike="noStrike">
              <a:solidFill>
                <a:srgbClr val="ffffff"/>
              </a:solidFill>
              <a:latin typeface="Castellar"/>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Castellar"/>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Times New Roman"/>
              </a:rPr>
              <a:t>Global Materials  Services Venezuela C.A es una empresa de trayectoria internacional que tiene como finalidad de descargar de forma eficiente el mineral de bauxita almacenado en las gabarras de transporte, ubic</a:t>
            </a:r>
            <a:r>
              <a:rPr b="0" lang="es-ES" sz="1400" spc="-1" strike="noStrike">
                <a:solidFill>
                  <a:srgbClr val="ffffff"/>
                </a:solidFill>
                <a:latin typeface="Arial"/>
                <a:ea typeface="Times New Roman"/>
              </a:rPr>
              <a:t>á</a:t>
            </a:r>
            <a:r>
              <a:rPr b="0" lang="es-ES" sz="1400" spc="-1" strike="noStrike">
                <a:solidFill>
                  <a:srgbClr val="ffffff"/>
                </a:solidFill>
                <a:latin typeface="Verdana"/>
                <a:ea typeface="Times New Roman"/>
              </a:rPr>
              <a:t>ndolo en el sistema principal de cintas transportadoras de Bauxilum, con el objeto de asegurar la materia prima para el proceso de producci</a:t>
            </a:r>
            <a:r>
              <a:rPr b="0" lang="es-ES" sz="1400" spc="-1" strike="noStrike">
                <a:solidFill>
                  <a:srgbClr val="ffffff"/>
                </a:solidFill>
                <a:latin typeface="Arial"/>
                <a:ea typeface="Times New Roman"/>
              </a:rPr>
              <a:t>ó</a:t>
            </a:r>
            <a:r>
              <a:rPr b="0" lang="es-ES" sz="1400" spc="-1" strike="noStrike">
                <a:solidFill>
                  <a:srgbClr val="ffffff"/>
                </a:solidFill>
                <a:latin typeface="Verdana"/>
                <a:ea typeface="Times New Roman"/>
              </a:rPr>
              <a:t>n del alúmina.</a:t>
            </a:r>
            <a:endParaRPr b="1" lang="en-US" sz="1400" spc="-1" strike="noStrike">
              <a:solidFill>
                <a:srgbClr val="ffffff"/>
              </a:solidFill>
              <a:latin typeface="Castellar"/>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Castellar"/>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3 CuadroTexto"/>
          <p:cNvSpPr/>
          <p:nvPr/>
        </p:nvSpPr>
        <p:spPr>
          <a:xfrm>
            <a:off x="3132000" y="907920"/>
            <a:ext cx="3373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stellar"/>
              </a:rPr>
              <a:t>VENTAS  PROYECTADAS</a:t>
            </a:r>
            <a:endParaRPr b="1" lang="en-US" sz="1800" spc="-1" strike="noStrike">
              <a:solidFill>
                <a:srgbClr val="ffffff"/>
              </a:solidFill>
              <a:latin typeface="Castella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endParaRPr b="1" lang="en-US" sz="1800" spc="-1" strike="noStrike">
              <a:solidFill>
                <a:srgbClr val="ffffff"/>
              </a:solidFill>
              <a:latin typeface="Castella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stellar"/>
            </a:endParaRPr>
          </a:p>
        </p:txBody>
      </p:sp>
      <p:sp>
        <p:nvSpPr>
          <p:cNvPr id="313" name="4 CuadroTexto"/>
          <p:cNvSpPr/>
          <p:nvPr/>
        </p:nvSpPr>
        <p:spPr>
          <a:xfrm>
            <a:off x="1908000" y="1773360"/>
            <a:ext cx="597708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Global Materials Services Venezuela C.A no trabaja en base a un sistema de ventas proyectadas, sino bajo un sistema de ganancias proyectadas que se estiman de acuerdo a la cantidad de demanda que de su cliente C.V.G Bauxilum.</a:t>
            </a:r>
            <a:endParaRPr b="1" lang="en-US" sz="2000" spc="-1" strike="noStrike">
              <a:solidFill>
                <a:srgbClr val="ffffff"/>
              </a:solidFill>
              <a:latin typeface="Castella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endParaRPr b="1" lang="en-US" sz="2000" spc="-1" strike="noStrike">
              <a:solidFill>
                <a:srgbClr val="ffffff"/>
              </a:solidFill>
              <a:latin typeface="Castella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astellar"/>
            </a:endParaRPr>
          </a:p>
        </p:txBody>
      </p:sp>
      <p:pic>
        <p:nvPicPr>
          <p:cNvPr id="314" name="Picture 5" descr=""/>
          <p:cNvPicPr/>
          <p:nvPr/>
        </p:nvPicPr>
        <p:blipFill>
          <a:blip r:embed="rId1"/>
          <a:stretch/>
        </p:blipFill>
        <p:spPr>
          <a:xfrm>
            <a:off x="6877080" y="189000"/>
            <a:ext cx="1942920" cy="485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3 CuadroTexto"/>
          <p:cNvSpPr/>
          <p:nvPr/>
        </p:nvSpPr>
        <p:spPr>
          <a:xfrm>
            <a:off x="1643040" y="2071800"/>
            <a:ext cx="60721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endParaRPr b="1" lang="en-US" sz="1800" spc="-1" strike="noStrike">
              <a:solidFill>
                <a:srgbClr val="ffffff"/>
              </a:solidFill>
              <a:latin typeface="Castel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Para los activos fijos se usa el modelo de depreciación por método lineal, porque, utiliza procedimientos de razones simples y estándar, además este analiza los estados financieros a fechas fijas o correspondientes en un periodo determinado.</a:t>
            </a:r>
            <a:endParaRPr b="1" lang="en-US" sz="1800" spc="-1" strike="noStrike">
              <a:solidFill>
                <a:srgbClr val="ffffff"/>
              </a:solidFill>
              <a:latin typeface="Castel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1" lang="en-US" sz="1800" spc="-1" strike="noStrike">
              <a:solidFill>
                <a:srgbClr val="ffffff"/>
              </a:solidFill>
              <a:latin typeface="Castel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stellar"/>
            </a:endParaRPr>
          </a:p>
        </p:txBody>
      </p:sp>
      <p:sp>
        <p:nvSpPr>
          <p:cNvPr id="316" name="3 CuadroTexto"/>
          <p:cNvSpPr/>
          <p:nvPr/>
        </p:nvSpPr>
        <p:spPr>
          <a:xfrm>
            <a:off x="1619280" y="1125360"/>
            <a:ext cx="6000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stellar"/>
              </a:rPr>
              <a:t>MODELO DE DEPRECIACIÓN QUE APLICA  LA EMPRESA</a:t>
            </a:r>
            <a:endParaRPr b="1" lang="en-US" sz="1800" spc="-1" strike="noStrike">
              <a:solidFill>
                <a:srgbClr val="ffffff"/>
              </a:solidFill>
              <a:latin typeface="Castella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stellar"/>
            </a:endParaRPr>
          </a:p>
        </p:txBody>
      </p:sp>
      <p:pic>
        <p:nvPicPr>
          <p:cNvPr id="317" name="Picture 5" descr=""/>
          <p:cNvPicPr/>
          <p:nvPr/>
        </p:nvPicPr>
        <p:blipFill>
          <a:blip r:embed="rId1"/>
          <a:stretch/>
        </p:blipFill>
        <p:spPr>
          <a:xfrm>
            <a:off x="6877080" y="189000"/>
            <a:ext cx="1942920" cy="4856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4 CuadroTexto"/>
          <p:cNvSpPr/>
          <p:nvPr/>
        </p:nvSpPr>
        <p:spPr>
          <a:xfrm>
            <a:off x="1763640" y="1700280"/>
            <a:ext cx="6386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endParaRPr b="1" lang="en-US" sz="1800" spc="-1" strike="noStrike">
              <a:solidFill>
                <a:srgbClr val="ffffff"/>
              </a:solidFill>
              <a:latin typeface="Castella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endParaRPr b="1" lang="en-US" sz="1800" spc="-1" strike="noStrike">
              <a:solidFill>
                <a:srgbClr val="ffffff"/>
              </a:solidFill>
              <a:latin typeface="Castella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ualmente la empresa no cuenta con un plan de amortización de deuda, debido a que sus deudas son distribuidas entre los mismos accionistas de acuerdo a estipulaciones previamente acordadas.</a:t>
            </a:r>
            <a:endParaRPr b="1" lang="en-US" sz="1800" spc="-1" strike="noStrike">
              <a:solidFill>
                <a:srgbClr val="ffffff"/>
              </a:solidFill>
              <a:latin typeface="Castella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endParaRPr b="1" lang="en-US" sz="1800" spc="-1" strike="noStrike">
              <a:solidFill>
                <a:srgbClr val="ffffff"/>
              </a:solidFill>
              <a:latin typeface="Castella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stellar"/>
            </a:endParaRPr>
          </a:p>
        </p:txBody>
      </p:sp>
      <p:sp>
        <p:nvSpPr>
          <p:cNvPr id="319" name="5 CuadroTexto"/>
          <p:cNvSpPr/>
          <p:nvPr/>
        </p:nvSpPr>
        <p:spPr>
          <a:xfrm>
            <a:off x="2143080" y="928800"/>
            <a:ext cx="464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stellar"/>
              </a:rPr>
              <a:t>PLAN DE AMORTIZACIÓN DE DEUDA</a:t>
            </a:r>
            <a:endParaRPr b="1" lang="en-US" sz="1800" spc="-1" strike="noStrike">
              <a:solidFill>
                <a:srgbClr val="ffffff"/>
              </a:solidFill>
              <a:latin typeface="Castella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stellar"/>
            </a:endParaRPr>
          </a:p>
        </p:txBody>
      </p:sp>
      <p:pic>
        <p:nvPicPr>
          <p:cNvPr id="320" name="Picture 5" descr=""/>
          <p:cNvPicPr/>
          <p:nvPr/>
        </p:nvPicPr>
        <p:blipFill>
          <a:blip r:embed="rId1"/>
          <a:stretch/>
        </p:blipFill>
        <p:spPr>
          <a:xfrm>
            <a:off x="6877080" y="189000"/>
            <a:ext cx="1942920" cy="4856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3 Tabla" descr=""/>
          <p:cNvPicPr/>
          <p:nvPr/>
        </p:nvPicPr>
        <p:blipFill>
          <a:blip r:embed="rId1"/>
          <a:stretch/>
        </p:blipFill>
        <p:spPr>
          <a:xfrm>
            <a:off x="1042920" y="1884240"/>
            <a:ext cx="7290000" cy="3778200"/>
          </a:xfrm>
          <a:prstGeom prst="rect">
            <a:avLst/>
          </a:prstGeom>
          <a:ln w="0">
            <a:noFill/>
          </a:ln>
        </p:spPr>
      </p:pic>
      <p:sp>
        <p:nvSpPr>
          <p:cNvPr id="322" name="4 CuadroTexto"/>
          <p:cNvSpPr/>
          <p:nvPr/>
        </p:nvSpPr>
        <p:spPr>
          <a:xfrm>
            <a:off x="2714760" y="642960"/>
            <a:ext cx="38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stellar"/>
              </a:rPr>
              <a:t>MATRIZ FODA</a:t>
            </a:r>
            <a:endParaRPr b="1" lang="en-US" sz="2400" spc="-1" strike="noStrike">
              <a:solidFill>
                <a:srgbClr val="ffffff"/>
              </a:solidFill>
              <a:latin typeface="Castellar"/>
            </a:endParaRPr>
          </a:p>
        </p:txBody>
      </p:sp>
      <p:pic>
        <p:nvPicPr>
          <p:cNvPr id="323" name="Picture 5" descr=""/>
          <p:cNvPicPr/>
          <p:nvPr/>
        </p:nvPicPr>
        <p:blipFill>
          <a:blip r:embed="rId2"/>
          <a:stretch/>
        </p:blipFill>
        <p:spPr>
          <a:xfrm>
            <a:off x="6877080" y="189000"/>
            <a:ext cx="1942920" cy="4856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1 CuadroTexto"/>
          <p:cNvSpPr/>
          <p:nvPr/>
        </p:nvSpPr>
        <p:spPr>
          <a:xfrm>
            <a:off x="2071800" y="1643040"/>
            <a:ext cx="62150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6600" spc="-1" strike="noStrike">
                <a:solidFill>
                  <a:srgbClr val="ffffff"/>
                </a:solidFill>
                <a:latin typeface="Castellar"/>
              </a:rPr>
              <a:t>Muchas gracias……</a:t>
            </a:r>
            <a:endParaRPr b="1" lang="en-US" sz="6600" spc="-1" strike="noStrike">
              <a:solidFill>
                <a:srgbClr val="ffffff"/>
              </a:solidFill>
              <a:latin typeface="Castellar"/>
            </a:endParaRPr>
          </a:p>
        </p:txBody>
      </p:sp>
      <p:pic>
        <p:nvPicPr>
          <p:cNvPr id="325" name="Picture 5" descr=""/>
          <p:cNvPicPr/>
          <p:nvPr/>
        </p:nvPicPr>
        <p:blipFill>
          <a:blip r:embed="rId1"/>
          <a:stretch/>
        </p:blipFill>
        <p:spPr>
          <a:xfrm>
            <a:off x="3071880" y="4214880"/>
            <a:ext cx="2643120" cy="107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
          <p:cNvSpPr/>
          <p:nvPr/>
        </p:nvSpPr>
        <p:spPr>
          <a:xfrm>
            <a:off x="1285920" y="948600"/>
            <a:ext cx="6858000" cy="393012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Verdana"/>
                <a:ea typeface="Verdana"/>
              </a:rPr>
              <a:t>Valores</a:t>
            </a:r>
            <a:endParaRPr b="1" lang="en-US" sz="1400" spc="-1" strike="noStrike">
              <a:solidFill>
                <a:srgbClr val="ffffff"/>
              </a:solidFill>
              <a:latin typeface="Castellar"/>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Castellar"/>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Verdana"/>
              </a:rPr>
              <a:t>Nuestra empresa esta comprendida con principios y valores corporativos: </a:t>
            </a:r>
            <a:endParaRPr b="1" lang="en-US" sz="1400" spc="-1" strike="noStrike">
              <a:solidFill>
                <a:srgbClr val="ffffff"/>
              </a:solidFill>
              <a:latin typeface="Castellar"/>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Castellar"/>
            </a:endParaRPr>
          </a:p>
          <a:p>
            <a:pPr>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Verdana"/>
              </a:rPr>
              <a:t>Humanismo: realizando por tal una trabajo con sentido de justicia, pluralista y participativa, enfocada a al mejora integral de sus trabajadores, a la  unificación del factor ambiental en sus actividades y a dicho compromisos las tareas o procedimientos relacionadas entre esta.</a:t>
            </a:r>
            <a:endParaRPr b="1" lang="en-US" sz="1400" spc="-1" strike="noStrike">
              <a:solidFill>
                <a:srgbClr val="ffffff"/>
              </a:solidFill>
              <a:latin typeface="Castellar"/>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Castellar"/>
            </a:endParaRPr>
          </a:p>
          <a:p>
            <a:pPr>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Verdana"/>
              </a:rPr>
              <a:t>Respeto: representa primordialmente el trato justo y considerado entre los trabajadores, hacia el ambiente, instituciones y organismos, clientes y proveedores, guiándose básicamente a la normativa de toda índole que incurre sobre dicha actividad.</a:t>
            </a:r>
            <a:endParaRPr b="1" lang="en-US" sz="1400" spc="-1" strike="noStrike">
              <a:solidFill>
                <a:srgbClr val="ffffff"/>
              </a:solidFill>
              <a:latin typeface="Castellar"/>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Castellar"/>
            </a:endParaRPr>
          </a:p>
          <a:p>
            <a:pPr>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Verdana"/>
              </a:rPr>
              <a:t>Participación: consiste en la impulso de una cultura que valora y motiva la generación de ideas, opiniones y sugerencias, dirigidas al mejoramiento continuo de la organizaron y de sus procesos internos</a:t>
            </a:r>
            <a:endParaRPr b="1" lang="en-US" sz="1400" spc="-1" strike="noStrike">
              <a:solidFill>
                <a:srgbClr val="ffffff"/>
              </a:solidFill>
              <a:latin typeface="Castellar"/>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Castellar"/>
            </a:endParaRPr>
          </a:p>
        </p:txBody>
      </p:sp>
      <p:pic>
        <p:nvPicPr>
          <p:cNvPr id="146" name="Picture 7" descr=""/>
          <p:cNvPicPr/>
          <p:nvPr/>
        </p:nvPicPr>
        <p:blipFill>
          <a:blip r:embed="rId1"/>
          <a:stretch/>
        </p:blipFill>
        <p:spPr>
          <a:xfrm>
            <a:off x="7596360" y="189000"/>
            <a:ext cx="1547640" cy="647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
          <p:cNvSpPr/>
          <p:nvPr/>
        </p:nvSpPr>
        <p:spPr>
          <a:xfrm>
            <a:off x="1285920" y="1196280"/>
            <a:ext cx="6143760" cy="3290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Castellar"/>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Verdana"/>
              </a:rPr>
              <a:t>Compromiso: se manifiesta por la identificación y lealtad del trabajador con la empresa, la mística en el trabajo y el sentido de responsabilidad; en una institución que prioriza el trabajo justo y se ocupa del desarrollo integral del trabajador y su calidad de vida.</a:t>
            </a:r>
            <a:endParaRPr b="1" lang="en-US" sz="1400" spc="-1" strike="noStrike">
              <a:solidFill>
                <a:srgbClr val="ffffff"/>
              </a:solidFill>
              <a:latin typeface="Castella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Castellar"/>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Verdana"/>
              </a:rPr>
              <a:t>Competitividad: conjunto de conductas de todos los niveles de la organización que permiten disputar o contender con los demás agentes del mercado con alta calidad y al menor costo posible.</a:t>
            </a:r>
            <a:endParaRPr b="1" lang="en-US" sz="1400" spc="-1" strike="noStrike">
              <a:solidFill>
                <a:srgbClr val="ffffff"/>
              </a:solidFill>
              <a:latin typeface="Castella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Castellar"/>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Verdana"/>
              </a:rPr>
              <a:t>Excelencia: búsqueda de la calidad superior y perfección, por medio de mejoramiento continúo de su gente y de sus procesos internos, en el logro de las metas propuestas y en el servicio que suministra, a nivel de organizaciones a clase mundial.</a:t>
            </a:r>
            <a:endParaRPr b="1" lang="en-US" sz="1400" spc="-1" strike="noStrike">
              <a:solidFill>
                <a:srgbClr val="ffffff"/>
              </a:solidFill>
              <a:latin typeface="Castella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Castellar"/>
            </a:endParaRPr>
          </a:p>
        </p:txBody>
      </p:sp>
      <p:pic>
        <p:nvPicPr>
          <p:cNvPr id="148" name="Picture 7" descr=""/>
          <p:cNvPicPr/>
          <p:nvPr/>
        </p:nvPicPr>
        <p:blipFill>
          <a:blip r:embed="rId1"/>
          <a:stretch/>
        </p:blipFill>
        <p:spPr>
          <a:xfrm>
            <a:off x="7596360" y="189000"/>
            <a:ext cx="1547640" cy="647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1285920" y="719280"/>
            <a:ext cx="6643800" cy="1159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Verdana"/>
                <a:ea typeface="Verdana"/>
              </a:rPr>
              <a:t>Objetivos de la Empresa:</a:t>
            </a:r>
            <a:endParaRPr b="1" lang="en-US" sz="1400" spc="-1" strike="noStrike">
              <a:solidFill>
                <a:srgbClr val="ffffff"/>
              </a:solidFill>
              <a:latin typeface="Castellar"/>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Castellar"/>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ea typeface="Verdana"/>
              </a:rPr>
              <a:t>Objetivo General: </a:t>
            </a:r>
            <a:endParaRPr b="1" lang="en-US" sz="1400" spc="-1" strike="noStrike">
              <a:solidFill>
                <a:srgbClr val="ffffff"/>
              </a:solidFill>
              <a:latin typeface="Castellar"/>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Verdana"/>
              </a:rPr>
              <a:t>Descargar el mineral de bauxita y colocarlo en cintas transportadoras que lo llevan directamente a C.V.G Bauxilum                                           </a:t>
            </a:r>
            <a:endParaRPr b="1" lang="en-US" sz="1400" spc="-1" strike="noStrike">
              <a:solidFill>
                <a:srgbClr val="ffffff"/>
              </a:solidFill>
              <a:latin typeface="Castellar"/>
            </a:endParaRPr>
          </a:p>
        </p:txBody>
      </p:sp>
      <p:sp>
        <p:nvSpPr>
          <p:cNvPr id="150" name="Rectangle 3"/>
          <p:cNvSpPr/>
          <p:nvPr/>
        </p:nvSpPr>
        <p:spPr>
          <a:xfrm>
            <a:off x="928800" y="2579760"/>
            <a:ext cx="6572160" cy="1616040"/>
          </a:xfrm>
          <a:prstGeom prst="rect">
            <a:avLst/>
          </a:prstGeom>
          <a:noFill/>
          <a:ln w="0">
            <a:noFill/>
          </a:ln>
        </p:spPr>
        <p:style>
          <a:lnRef idx="0"/>
          <a:fillRef idx="0"/>
          <a:effectRef idx="0"/>
          <a:fontRef idx="minor"/>
        </p:style>
        <p:txBody>
          <a:bodyPr lIns="90000" rIns="90000" tIns="46800" bIns="46800" anchor="ctr">
            <a:spAutoFit/>
          </a:bodyPr>
          <a:p>
            <a:pPr lvl="2" marL="914400" algn="just">
              <a:lnSpc>
                <a:spcPct val="100000"/>
              </a:lnSpc>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Verdana"/>
                <a:ea typeface="Times New Roman"/>
              </a:rPr>
              <a:t>Objetivos Espec</a:t>
            </a:r>
            <a:r>
              <a:rPr b="1" lang="es-ES" sz="1400" spc="-1" strike="noStrike" u="sng">
                <a:solidFill>
                  <a:srgbClr val="ffffff"/>
                </a:solidFill>
                <a:uFillTx/>
                <a:latin typeface="Arial"/>
                <a:ea typeface="Times New Roman"/>
              </a:rPr>
              <a:t>í</a:t>
            </a:r>
            <a:r>
              <a:rPr b="1" lang="es-ES" sz="1400" spc="-1" strike="noStrike" u="sng">
                <a:solidFill>
                  <a:srgbClr val="ffffff"/>
                </a:solidFill>
                <a:uFillTx/>
                <a:latin typeface="Verdana"/>
                <a:ea typeface="Times New Roman"/>
              </a:rPr>
              <a:t>ficos:</a:t>
            </a:r>
            <a:endParaRPr b="1" lang="en-US" sz="1400" spc="-1" strike="noStrike">
              <a:solidFill>
                <a:srgbClr val="ffffff"/>
              </a:solidFill>
              <a:latin typeface="Castellar"/>
            </a:endParaRPr>
          </a:p>
          <a:p>
            <a:pPr lvl="2" marL="914400" algn="just">
              <a:lnSpc>
                <a:spcPct val="100000"/>
              </a:lnSpc>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stellar"/>
            </a:endParaRPr>
          </a:p>
          <a:p>
            <a:pPr algn="just">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Times New Roman"/>
              </a:rPr>
              <a:t>Poseer equipos y maquinarias en optimas condiciones para asegurar las operaciones de descarga.</a:t>
            </a:r>
            <a:endParaRPr b="1" lang="en-US" sz="1400" spc="-1" strike="noStrike">
              <a:solidFill>
                <a:srgbClr val="ffffff"/>
              </a:solidFill>
              <a:latin typeface="Castellar"/>
            </a:endParaRPr>
          </a:p>
          <a:p>
            <a:pPr algn="just">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Times New Roman"/>
              </a:rPr>
              <a:t>Capacitar y adiestrar al personal que labora en la empresa.</a:t>
            </a:r>
            <a:endParaRPr b="1" lang="en-US" sz="1400" spc="-1" strike="noStrike">
              <a:solidFill>
                <a:srgbClr val="ffffff"/>
              </a:solidFill>
              <a:latin typeface="Castellar"/>
            </a:endParaRPr>
          </a:p>
          <a:p>
            <a:pPr algn="just">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Times New Roman"/>
              </a:rPr>
              <a:t>Aplicar  y desarrollar mediante la supervisi</a:t>
            </a:r>
            <a:r>
              <a:rPr b="0" lang="es-ES" sz="1400" spc="-1" strike="noStrike">
                <a:solidFill>
                  <a:srgbClr val="ffffff"/>
                </a:solidFill>
                <a:latin typeface="Arial"/>
                <a:ea typeface="Times New Roman"/>
              </a:rPr>
              <a:t>ó</a:t>
            </a:r>
            <a:r>
              <a:rPr b="0" lang="es-ES" sz="1400" spc="-1" strike="noStrike">
                <a:solidFill>
                  <a:srgbClr val="ffffff"/>
                </a:solidFill>
                <a:latin typeface="Verdana"/>
                <a:ea typeface="Times New Roman"/>
              </a:rPr>
              <a:t>n  continua y el cumplimiento de las normas de higiene y seguridad industrial</a:t>
            </a:r>
            <a:endParaRPr b="1" lang="en-US" sz="1400" spc="-1" strike="noStrike">
              <a:solidFill>
                <a:srgbClr val="ffffff"/>
              </a:solidFill>
              <a:latin typeface="Castellar"/>
            </a:endParaRPr>
          </a:p>
        </p:txBody>
      </p:sp>
      <p:pic>
        <p:nvPicPr>
          <p:cNvPr id="151" name="Picture 7" descr=""/>
          <p:cNvPicPr/>
          <p:nvPr/>
        </p:nvPicPr>
        <p:blipFill>
          <a:blip r:embed="rId1"/>
          <a:stretch/>
        </p:blipFill>
        <p:spPr>
          <a:xfrm>
            <a:off x="7596360" y="189000"/>
            <a:ext cx="1547640" cy="64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1"/>
          <p:cNvSpPr/>
          <p:nvPr/>
        </p:nvSpPr>
        <p:spPr>
          <a:xfrm>
            <a:off x="1285920" y="576720"/>
            <a:ext cx="6143760" cy="1159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Verdana"/>
                <a:ea typeface="Times New Roman"/>
              </a:rPr>
              <a:t>UBICACI</a:t>
            </a:r>
            <a:r>
              <a:rPr b="1" lang="es-ES" sz="1400" spc="-1" strike="noStrike" u="sng">
                <a:solidFill>
                  <a:srgbClr val="ffffff"/>
                </a:solidFill>
                <a:uFillTx/>
                <a:latin typeface="Arial"/>
                <a:ea typeface="Times New Roman"/>
              </a:rPr>
              <a:t>Ó</a:t>
            </a:r>
            <a:r>
              <a:rPr b="1" lang="es-ES" sz="1400" spc="-1" strike="noStrike" u="sng">
                <a:solidFill>
                  <a:srgbClr val="ffffff"/>
                </a:solidFill>
                <a:uFillTx/>
                <a:latin typeface="Verdana"/>
                <a:ea typeface="Times New Roman"/>
              </a:rPr>
              <a:t>N GEOFRAFICA</a:t>
            </a:r>
            <a:r>
              <a:rPr b="1" lang="es-ES" sz="1400" spc="-1" strike="noStrike">
                <a:solidFill>
                  <a:srgbClr val="ffffff"/>
                </a:solidFill>
                <a:latin typeface="Verdana"/>
                <a:ea typeface="Times New Roman"/>
              </a:rPr>
              <a:t>:</a:t>
            </a:r>
            <a:endParaRPr b="1" lang="en-US" sz="1400" spc="-1" strike="noStrike">
              <a:solidFill>
                <a:srgbClr val="ffffff"/>
              </a:solidFill>
              <a:latin typeface="Castel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Castel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Times New Roman"/>
              </a:rPr>
              <a:t>Actualmente  se encuentra ubicado en Venezuela (Am</a:t>
            </a:r>
            <a:r>
              <a:rPr b="0" lang="es-ES" sz="1400" spc="-1" strike="noStrike">
                <a:solidFill>
                  <a:srgbClr val="ffffff"/>
                </a:solidFill>
                <a:latin typeface="Arial"/>
                <a:ea typeface="Times New Roman"/>
              </a:rPr>
              <a:t>é</a:t>
            </a:r>
            <a:r>
              <a:rPr b="0" lang="es-ES" sz="1400" spc="-1" strike="noStrike">
                <a:solidFill>
                  <a:srgbClr val="ffffff"/>
                </a:solidFill>
                <a:latin typeface="Verdana"/>
                <a:ea typeface="Times New Roman"/>
              </a:rPr>
              <a:t>rica del sur) espec</a:t>
            </a:r>
            <a:r>
              <a:rPr b="0" lang="es-ES" sz="1400" spc="-1" strike="noStrike">
                <a:solidFill>
                  <a:srgbClr val="ffffff"/>
                </a:solidFill>
                <a:latin typeface="Arial"/>
                <a:ea typeface="Times New Roman"/>
              </a:rPr>
              <a:t>í</a:t>
            </a:r>
            <a:r>
              <a:rPr b="0" lang="es-ES" sz="1400" spc="-1" strike="noStrike">
                <a:solidFill>
                  <a:srgbClr val="ffffff"/>
                </a:solidFill>
                <a:latin typeface="Verdana"/>
                <a:ea typeface="Times New Roman"/>
              </a:rPr>
              <a:t>ficamente en ciudad Guayana en la cuidad de Puerto Ordaz exactamente en el muelle de C.V.G Bauxilum</a:t>
            </a:r>
            <a:endParaRPr b="1" lang="en-US" sz="1400" spc="-1" strike="noStrike">
              <a:solidFill>
                <a:srgbClr val="ffffff"/>
              </a:solidFill>
              <a:latin typeface="Castellar"/>
            </a:endParaRPr>
          </a:p>
        </p:txBody>
      </p:sp>
      <p:grpSp>
        <p:nvGrpSpPr>
          <p:cNvPr id="153" name="Group 122"/>
          <p:cNvGrpSpPr/>
          <p:nvPr/>
        </p:nvGrpSpPr>
        <p:grpSpPr>
          <a:xfrm>
            <a:off x="1440000" y="2382480"/>
            <a:ext cx="5775120" cy="3046320"/>
            <a:chOff x="1440000" y="2382480"/>
            <a:chExt cx="5775120" cy="3046320"/>
          </a:xfrm>
        </p:grpSpPr>
        <p:grpSp>
          <p:nvGrpSpPr>
            <p:cNvPr id="154" name="Group 123"/>
            <p:cNvGrpSpPr/>
            <p:nvPr/>
          </p:nvGrpSpPr>
          <p:grpSpPr>
            <a:xfrm>
              <a:off x="1440000" y="2846160"/>
              <a:ext cx="2938680" cy="2088360"/>
              <a:chOff x="1440000" y="2846160"/>
              <a:chExt cx="2938680" cy="2088360"/>
            </a:xfrm>
          </p:grpSpPr>
          <p:sp>
            <p:nvSpPr>
              <p:cNvPr id="155" name="Freeform 124"/>
              <p:cNvSpPr/>
              <p:nvPr/>
            </p:nvSpPr>
            <p:spPr>
              <a:xfrm>
                <a:off x="3525480" y="4061880"/>
                <a:ext cx="853200" cy="647280"/>
              </a:xfrm>
              <a:custGeom>
                <a:avLst/>
                <a:gdLst>
                  <a:gd name="textAreaLeft" fmla="*/ 0 w 853200"/>
                  <a:gd name="textAreaRight" fmla="*/ 853560 w 853200"/>
                  <a:gd name="textAreaTop" fmla="*/ 0 h 647280"/>
                  <a:gd name="textAreaBottom" fmla="*/ 647640 h 647280"/>
                </a:gdLst>
                <a:ahLst/>
                <a:rect l="textAreaLeft" t="textAreaTop" r="textAreaRight" b="textAreaBottom"/>
                <a:pathLst>
                  <a:path w="2366" h="1934">
                    <a:moveTo>
                      <a:pt x="0" y="881"/>
                    </a:moveTo>
                    <a:lnTo>
                      <a:pt x="218" y="1043"/>
                    </a:lnTo>
                    <a:lnTo>
                      <a:pt x="296" y="969"/>
                    </a:lnTo>
                    <a:lnTo>
                      <a:pt x="218" y="810"/>
                    </a:lnTo>
                    <a:lnTo>
                      <a:pt x="369" y="722"/>
                    </a:lnTo>
                    <a:lnTo>
                      <a:pt x="415" y="665"/>
                    </a:lnTo>
                    <a:lnTo>
                      <a:pt x="919" y="630"/>
                    </a:lnTo>
                    <a:lnTo>
                      <a:pt x="1301" y="323"/>
                    </a:lnTo>
                    <a:lnTo>
                      <a:pt x="1361" y="0"/>
                    </a:lnTo>
                    <a:lnTo>
                      <a:pt x="1563" y="24"/>
                    </a:lnTo>
                    <a:lnTo>
                      <a:pt x="1675" y="144"/>
                    </a:lnTo>
                    <a:lnTo>
                      <a:pt x="1695" y="357"/>
                    </a:lnTo>
                    <a:lnTo>
                      <a:pt x="1780" y="593"/>
                    </a:lnTo>
                    <a:lnTo>
                      <a:pt x="1743" y="813"/>
                    </a:lnTo>
                    <a:lnTo>
                      <a:pt x="1649" y="989"/>
                    </a:lnTo>
                    <a:lnTo>
                      <a:pt x="1634" y="1122"/>
                    </a:lnTo>
                    <a:lnTo>
                      <a:pt x="1766" y="1213"/>
                    </a:lnTo>
                    <a:lnTo>
                      <a:pt x="1838" y="1401"/>
                    </a:lnTo>
                    <a:lnTo>
                      <a:pt x="1941" y="1736"/>
                    </a:lnTo>
                    <a:lnTo>
                      <a:pt x="2056" y="1854"/>
                    </a:lnTo>
                    <a:lnTo>
                      <a:pt x="2366" y="1934"/>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156" name="Freeform 125"/>
              <p:cNvSpPr/>
              <p:nvPr/>
            </p:nvSpPr>
            <p:spPr>
              <a:xfrm>
                <a:off x="2271960" y="3106440"/>
                <a:ext cx="173880" cy="163080"/>
              </a:xfrm>
              <a:custGeom>
                <a:avLst/>
                <a:gdLst>
                  <a:gd name="textAreaLeft" fmla="*/ 0 w 173880"/>
                  <a:gd name="textAreaRight" fmla="*/ 174240 w 173880"/>
                  <a:gd name="textAreaTop" fmla="*/ 0 h 163080"/>
                  <a:gd name="textAreaBottom" fmla="*/ 163440 h 163080"/>
                </a:gdLst>
                <a:ahLst/>
                <a:rect l="textAreaLeft" t="textAreaTop" r="textAreaRight" b="textAreaBottom"/>
                <a:pathLst>
                  <a:path w="485" h="487">
                    <a:moveTo>
                      <a:pt x="178" y="5"/>
                    </a:moveTo>
                    <a:lnTo>
                      <a:pt x="239" y="0"/>
                    </a:lnTo>
                    <a:lnTo>
                      <a:pt x="288" y="5"/>
                    </a:lnTo>
                    <a:lnTo>
                      <a:pt x="327" y="11"/>
                    </a:lnTo>
                    <a:lnTo>
                      <a:pt x="355" y="22"/>
                    </a:lnTo>
                    <a:lnTo>
                      <a:pt x="414" y="47"/>
                    </a:lnTo>
                    <a:lnTo>
                      <a:pt x="429" y="53"/>
                    </a:lnTo>
                    <a:lnTo>
                      <a:pt x="470" y="58"/>
                    </a:lnTo>
                    <a:lnTo>
                      <a:pt x="485" y="74"/>
                    </a:lnTo>
                    <a:lnTo>
                      <a:pt x="458" y="100"/>
                    </a:lnTo>
                    <a:lnTo>
                      <a:pt x="463" y="129"/>
                    </a:lnTo>
                    <a:lnTo>
                      <a:pt x="477" y="170"/>
                    </a:lnTo>
                    <a:lnTo>
                      <a:pt x="458" y="238"/>
                    </a:lnTo>
                    <a:lnTo>
                      <a:pt x="450" y="282"/>
                    </a:lnTo>
                    <a:lnTo>
                      <a:pt x="442" y="299"/>
                    </a:lnTo>
                    <a:lnTo>
                      <a:pt x="442" y="318"/>
                    </a:lnTo>
                    <a:lnTo>
                      <a:pt x="429" y="324"/>
                    </a:lnTo>
                    <a:lnTo>
                      <a:pt x="429" y="368"/>
                    </a:lnTo>
                    <a:lnTo>
                      <a:pt x="434" y="409"/>
                    </a:lnTo>
                    <a:lnTo>
                      <a:pt x="409" y="421"/>
                    </a:lnTo>
                    <a:lnTo>
                      <a:pt x="396" y="426"/>
                    </a:lnTo>
                    <a:lnTo>
                      <a:pt x="375" y="433"/>
                    </a:lnTo>
                    <a:lnTo>
                      <a:pt x="334" y="433"/>
                    </a:lnTo>
                    <a:lnTo>
                      <a:pt x="307" y="433"/>
                    </a:lnTo>
                    <a:lnTo>
                      <a:pt x="288" y="433"/>
                    </a:lnTo>
                    <a:lnTo>
                      <a:pt x="260" y="446"/>
                    </a:lnTo>
                    <a:lnTo>
                      <a:pt x="232" y="457"/>
                    </a:lnTo>
                    <a:lnTo>
                      <a:pt x="219" y="465"/>
                    </a:lnTo>
                    <a:lnTo>
                      <a:pt x="201" y="471"/>
                    </a:lnTo>
                    <a:lnTo>
                      <a:pt x="178" y="482"/>
                    </a:lnTo>
                    <a:lnTo>
                      <a:pt x="149" y="487"/>
                    </a:lnTo>
                    <a:lnTo>
                      <a:pt x="116" y="471"/>
                    </a:lnTo>
                    <a:lnTo>
                      <a:pt x="95" y="446"/>
                    </a:lnTo>
                    <a:lnTo>
                      <a:pt x="67" y="433"/>
                    </a:lnTo>
                    <a:lnTo>
                      <a:pt x="49" y="390"/>
                    </a:lnTo>
                    <a:lnTo>
                      <a:pt x="44" y="373"/>
                    </a:lnTo>
                    <a:lnTo>
                      <a:pt x="44" y="318"/>
                    </a:lnTo>
                    <a:lnTo>
                      <a:pt x="14" y="299"/>
                    </a:lnTo>
                    <a:lnTo>
                      <a:pt x="0" y="267"/>
                    </a:lnTo>
                    <a:lnTo>
                      <a:pt x="28" y="221"/>
                    </a:lnTo>
                    <a:lnTo>
                      <a:pt x="67" y="178"/>
                    </a:lnTo>
                    <a:lnTo>
                      <a:pt x="82" y="160"/>
                    </a:lnTo>
                    <a:lnTo>
                      <a:pt x="103" y="114"/>
                    </a:lnTo>
                    <a:lnTo>
                      <a:pt x="121" y="91"/>
                    </a:lnTo>
                    <a:lnTo>
                      <a:pt x="157" y="47"/>
                    </a:lnTo>
                    <a:lnTo>
                      <a:pt x="178" y="22"/>
                    </a:lnTo>
                    <a:lnTo>
                      <a:pt x="178" y="5"/>
                    </a:lnTo>
                    <a:close/>
                  </a:path>
                </a:pathLst>
              </a:custGeom>
              <a:blipFill rotWithShape="0">
                <a:blip r:embed="rId1"/>
                <a:srcRect/>
                <a:stretch/>
              </a:blipFill>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157" name="Freeform 126"/>
              <p:cNvSpPr/>
              <p:nvPr/>
            </p:nvSpPr>
            <p:spPr>
              <a:xfrm>
                <a:off x="1842120" y="2846160"/>
                <a:ext cx="616680" cy="305640"/>
              </a:xfrm>
              <a:custGeom>
                <a:avLst/>
                <a:gdLst>
                  <a:gd name="textAreaLeft" fmla="*/ 0 w 616680"/>
                  <a:gd name="textAreaRight" fmla="*/ 616680 w 616680"/>
                  <a:gd name="textAreaTop" fmla="*/ 0 h 305640"/>
                  <a:gd name="textAreaBottom" fmla="*/ 306000 h 305640"/>
                </a:gdLst>
                <a:ahLst/>
                <a:rect l="textAreaLeft" t="textAreaTop" r="textAreaRight" b="textAreaBottom"/>
                <a:pathLst>
                  <a:path w="1708" h="913">
                    <a:moveTo>
                      <a:pt x="0" y="613"/>
                    </a:moveTo>
                    <a:lnTo>
                      <a:pt x="168" y="815"/>
                    </a:lnTo>
                    <a:lnTo>
                      <a:pt x="427" y="913"/>
                    </a:lnTo>
                    <a:lnTo>
                      <a:pt x="672" y="832"/>
                    </a:lnTo>
                    <a:lnTo>
                      <a:pt x="924" y="755"/>
                    </a:lnTo>
                    <a:lnTo>
                      <a:pt x="1075" y="797"/>
                    </a:lnTo>
                    <a:lnTo>
                      <a:pt x="1243" y="797"/>
                    </a:lnTo>
                    <a:lnTo>
                      <a:pt x="1436" y="779"/>
                    </a:lnTo>
                    <a:lnTo>
                      <a:pt x="1517" y="797"/>
                    </a:lnTo>
                    <a:lnTo>
                      <a:pt x="1624" y="832"/>
                    </a:lnTo>
                    <a:lnTo>
                      <a:pt x="1685" y="832"/>
                    </a:lnTo>
                    <a:lnTo>
                      <a:pt x="1708" y="779"/>
                    </a:lnTo>
                    <a:lnTo>
                      <a:pt x="1685" y="700"/>
                    </a:lnTo>
                    <a:lnTo>
                      <a:pt x="1666" y="595"/>
                    </a:lnTo>
                    <a:lnTo>
                      <a:pt x="1539" y="479"/>
                    </a:lnTo>
                    <a:lnTo>
                      <a:pt x="1395" y="399"/>
                    </a:lnTo>
                    <a:lnTo>
                      <a:pt x="1266" y="318"/>
                    </a:lnTo>
                    <a:lnTo>
                      <a:pt x="1075" y="318"/>
                    </a:lnTo>
                    <a:lnTo>
                      <a:pt x="974" y="336"/>
                    </a:lnTo>
                    <a:lnTo>
                      <a:pt x="870" y="203"/>
                    </a:lnTo>
                    <a:lnTo>
                      <a:pt x="870" y="102"/>
                    </a:lnTo>
                    <a:lnTo>
                      <a:pt x="780" y="0"/>
                    </a:lnTo>
                    <a:lnTo>
                      <a:pt x="672" y="0"/>
                    </a:lnTo>
                    <a:lnTo>
                      <a:pt x="592" y="63"/>
                    </a:lnTo>
                    <a:lnTo>
                      <a:pt x="542" y="122"/>
                    </a:lnTo>
                    <a:lnTo>
                      <a:pt x="592" y="283"/>
                    </a:lnTo>
                    <a:lnTo>
                      <a:pt x="695" y="283"/>
                    </a:lnTo>
                    <a:lnTo>
                      <a:pt x="780" y="257"/>
                    </a:lnTo>
                    <a:lnTo>
                      <a:pt x="843" y="283"/>
                    </a:lnTo>
                    <a:lnTo>
                      <a:pt x="883" y="379"/>
                    </a:lnTo>
                    <a:lnTo>
                      <a:pt x="780" y="379"/>
                    </a:lnTo>
                    <a:lnTo>
                      <a:pt x="695" y="379"/>
                    </a:lnTo>
                    <a:lnTo>
                      <a:pt x="572" y="399"/>
                    </a:lnTo>
                    <a:lnTo>
                      <a:pt x="427" y="454"/>
                    </a:lnTo>
                    <a:lnTo>
                      <a:pt x="360" y="454"/>
                    </a:lnTo>
                    <a:lnTo>
                      <a:pt x="211" y="479"/>
                    </a:lnTo>
                    <a:lnTo>
                      <a:pt x="127" y="557"/>
                    </a:lnTo>
                    <a:lnTo>
                      <a:pt x="41" y="576"/>
                    </a:lnTo>
                    <a:lnTo>
                      <a:pt x="0" y="595"/>
                    </a:lnTo>
                    <a:lnTo>
                      <a:pt x="0" y="613"/>
                    </a:lnTo>
                    <a:close/>
                  </a:path>
                </a:pathLst>
              </a:custGeom>
              <a:blipFill rotWithShape="0">
                <a:blip r:embed="rId2"/>
                <a:srcRect/>
                <a:stretch/>
              </a:blipFill>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158" name="Freeform 127"/>
              <p:cNvSpPr/>
              <p:nvPr/>
            </p:nvSpPr>
            <p:spPr>
              <a:xfrm>
                <a:off x="1440000" y="2873520"/>
                <a:ext cx="441000" cy="641160"/>
              </a:xfrm>
              <a:custGeom>
                <a:avLst/>
                <a:gdLst>
                  <a:gd name="textAreaLeft" fmla="*/ 0 w 441000"/>
                  <a:gd name="textAreaRight" fmla="*/ 441360 w 441000"/>
                  <a:gd name="textAreaTop" fmla="*/ 0 h 641160"/>
                  <a:gd name="textAreaBottom" fmla="*/ 641520 h 641160"/>
                </a:gdLst>
                <a:ahLst/>
                <a:rect l="textAreaLeft" t="textAreaTop" r="textAreaRight" b="textAreaBottom"/>
                <a:pathLst>
                  <a:path w="1224" h="1916">
                    <a:moveTo>
                      <a:pt x="1185" y="0"/>
                    </a:moveTo>
                    <a:lnTo>
                      <a:pt x="760" y="158"/>
                    </a:lnTo>
                    <a:lnTo>
                      <a:pt x="611" y="373"/>
                    </a:lnTo>
                    <a:lnTo>
                      <a:pt x="481" y="435"/>
                    </a:lnTo>
                    <a:lnTo>
                      <a:pt x="398" y="576"/>
                    </a:lnTo>
                    <a:lnTo>
                      <a:pt x="269" y="674"/>
                    </a:lnTo>
                    <a:lnTo>
                      <a:pt x="231" y="931"/>
                    </a:lnTo>
                    <a:lnTo>
                      <a:pt x="190" y="1123"/>
                    </a:lnTo>
                    <a:lnTo>
                      <a:pt x="0" y="1470"/>
                    </a:lnTo>
                    <a:lnTo>
                      <a:pt x="211" y="1384"/>
                    </a:lnTo>
                    <a:lnTo>
                      <a:pt x="269" y="1541"/>
                    </a:lnTo>
                    <a:lnTo>
                      <a:pt x="373" y="1703"/>
                    </a:lnTo>
                    <a:lnTo>
                      <a:pt x="507" y="1845"/>
                    </a:lnTo>
                    <a:lnTo>
                      <a:pt x="549" y="1916"/>
                    </a:lnTo>
                    <a:lnTo>
                      <a:pt x="679" y="1800"/>
                    </a:lnTo>
                    <a:lnTo>
                      <a:pt x="760" y="1722"/>
                    </a:lnTo>
                    <a:lnTo>
                      <a:pt x="842" y="1744"/>
                    </a:lnTo>
                    <a:lnTo>
                      <a:pt x="1032" y="1604"/>
                    </a:lnTo>
                    <a:lnTo>
                      <a:pt x="1115" y="1561"/>
                    </a:lnTo>
                    <a:lnTo>
                      <a:pt x="1094" y="1523"/>
                    </a:lnTo>
                    <a:lnTo>
                      <a:pt x="971" y="1541"/>
                    </a:lnTo>
                    <a:lnTo>
                      <a:pt x="922" y="1561"/>
                    </a:lnTo>
                    <a:lnTo>
                      <a:pt x="863" y="1541"/>
                    </a:lnTo>
                    <a:lnTo>
                      <a:pt x="863" y="1444"/>
                    </a:lnTo>
                    <a:lnTo>
                      <a:pt x="819" y="1346"/>
                    </a:lnTo>
                    <a:lnTo>
                      <a:pt x="779" y="1248"/>
                    </a:lnTo>
                    <a:lnTo>
                      <a:pt x="679" y="1170"/>
                    </a:lnTo>
                    <a:lnTo>
                      <a:pt x="679" y="1107"/>
                    </a:lnTo>
                    <a:lnTo>
                      <a:pt x="760" y="971"/>
                    </a:lnTo>
                    <a:lnTo>
                      <a:pt x="842" y="849"/>
                    </a:lnTo>
                    <a:lnTo>
                      <a:pt x="903" y="798"/>
                    </a:lnTo>
                    <a:lnTo>
                      <a:pt x="951" y="734"/>
                    </a:lnTo>
                    <a:lnTo>
                      <a:pt x="971" y="674"/>
                    </a:lnTo>
                    <a:lnTo>
                      <a:pt x="922" y="619"/>
                    </a:lnTo>
                    <a:lnTo>
                      <a:pt x="863" y="514"/>
                    </a:lnTo>
                    <a:lnTo>
                      <a:pt x="903" y="459"/>
                    </a:lnTo>
                    <a:lnTo>
                      <a:pt x="951" y="476"/>
                    </a:lnTo>
                    <a:lnTo>
                      <a:pt x="863" y="355"/>
                    </a:lnTo>
                    <a:lnTo>
                      <a:pt x="779" y="318"/>
                    </a:lnTo>
                    <a:lnTo>
                      <a:pt x="779" y="255"/>
                    </a:lnTo>
                    <a:lnTo>
                      <a:pt x="819" y="202"/>
                    </a:lnTo>
                    <a:lnTo>
                      <a:pt x="1185" y="78"/>
                    </a:lnTo>
                    <a:lnTo>
                      <a:pt x="1224" y="41"/>
                    </a:lnTo>
                    <a:lnTo>
                      <a:pt x="1185" y="21"/>
                    </a:lnTo>
                    <a:lnTo>
                      <a:pt x="1185" y="0"/>
                    </a:lnTo>
                    <a:close/>
                  </a:path>
                </a:pathLst>
              </a:custGeom>
              <a:blipFill rotWithShape="0">
                <a:blip r:embed="rId3"/>
                <a:srcRect/>
                <a:stretch/>
              </a:blipFill>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159" name="Freeform 128"/>
              <p:cNvSpPr/>
              <p:nvPr/>
            </p:nvSpPr>
            <p:spPr>
              <a:xfrm>
                <a:off x="1606680" y="3588120"/>
                <a:ext cx="1216080" cy="357840"/>
              </a:xfrm>
              <a:custGeom>
                <a:avLst/>
                <a:gdLst>
                  <a:gd name="textAreaLeft" fmla="*/ 0 w 1216080"/>
                  <a:gd name="textAreaRight" fmla="*/ 1216440 w 1216080"/>
                  <a:gd name="textAreaTop" fmla="*/ 0 h 357840"/>
                  <a:gd name="textAreaBottom" fmla="*/ 358200 h 357840"/>
                </a:gdLst>
                <a:ahLst/>
                <a:rect l="textAreaLeft" t="textAreaTop" r="textAreaRight" b="textAreaBottom"/>
                <a:pathLst>
                  <a:path w="3374" h="1068">
                    <a:moveTo>
                      <a:pt x="0" y="223"/>
                    </a:moveTo>
                    <a:lnTo>
                      <a:pt x="90" y="339"/>
                    </a:lnTo>
                    <a:lnTo>
                      <a:pt x="218" y="480"/>
                    </a:lnTo>
                    <a:lnTo>
                      <a:pt x="443" y="519"/>
                    </a:lnTo>
                    <a:lnTo>
                      <a:pt x="633" y="579"/>
                    </a:lnTo>
                    <a:lnTo>
                      <a:pt x="841" y="519"/>
                    </a:lnTo>
                    <a:lnTo>
                      <a:pt x="1081" y="519"/>
                    </a:lnTo>
                    <a:lnTo>
                      <a:pt x="1226" y="597"/>
                    </a:lnTo>
                    <a:lnTo>
                      <a:pt x="1306" y="597"/>
                    </a:lnTo>
                    <a:lnTo>
                      <a:pt x="1728" y="1068"/>
                    </a:lnTo>
                    <a:lnTo>
                      <a:pt x="1838" y="1058"/>
                    </a:lnTo>
                    <a:lnTo>
                      <a:pt x="1939" y="1032"/>
                    </a:lnTo>
                    <a:lnTo>
                      <a:pt x="2131" y="1032"/>
                    </a:lnTo>
                    <a:lnTo>
                      <a:pt x="2258" y="1032"/>
                    </a:lnTo>
                    <a:lnTo>
                      <a:pt x="2408" y="970"/>
                    </a:lnTo>
                    <a:lnTo>
                      <a:pt x="2531" y="934"/>
                    </a:lnTo>
                    <a:lnTo>
                      <a:pt x="2637" y="953"/>
                    </a:lnTo>
                    <a:lnTo>
                      <a:pt x="2742" y="1032"/>
                    </a:lnTo>
                    <a:lnTo>
                      <a:pt x="2785" y="1032"/>
                    </a:lnTo>
                    <a:lnTo>
                      <a:pt x="2864" y="909"/>
                    </a:lnTo>
                    <a:lnTo>
                      <a:pt x="2933" y="793"/>
                    </a:lnTo>
                    <a:lnTo>
                      <a:pt x="2976" y="616"/>
                    </a:lnTo>
                    <a:lnTo>
                      <a:pt x="2976" y="499"/>
                    </a:lnTo>
                    <a:lnTo>
                      <a:pt x="3143" y="419"/>
                    </a:lnTo>
                    <a:lnTo>
                      <a:pt x="3245" y="359"/>
                    </a:lnTo>
                    <a:lnTo>
                      <a:pt x="3328" y="284"/>
                    </a:lnTo>
                    <a:lnTo>
                      <a:pt x="3374" y="186"/>
                    </a:lnTo>
                    <a:lnTo>
                      <a:pt x="3307" y="161"/>
                    </a:lnTo>
                    <a:lnTo>
                      <a:pt x="3165" y="161"/>
                    </a:lnTo>
                    <a:lnTo>
                      <a:pt x="2976" y="161"/>
                    </a:lnTo>
                    <a:lnTo>
                      <a:pt x="2824" y="46"/>
                    </a:lnTo>
                    <a:lnTo>
                      <a:pt x="2742" y="56"/>
                    </a:lnTo>
                    <a:lnTo>
                      <a:pt x="2443" y="56"/>
                    </a:lnTo>
                    <a:lnTo>
                      <a:pt x="2194" y="27"/>
                    </a:lnTo>
                    <a:lnTo>
                      <a:pt x="1982" y="56"/>
                    </a:lnTo>
                    <a:lnTo>
                      <a:pt x="1809" y="27"/>
                    </a:lnTo>
                    <a:lnTo>
                      <a:pt x="1668" y="0"/>
                    </a:lnTo>
                    <a:lnTo>
                      <a:pt x="1558" y="82"/>
                    </a:lnTo>
                    <a:lnTo>
                      <a:pt x="1434" y="125"/>
                    </a:lnTo>
                    <a:lnTo>
                      <a:pt x="1264" y="161"/>
                    </a:lnTo>
                    <a:lnTo>
                      <a:pt x="1104" y="242"/>
                    </a:lnTo>
                    <a:lnTo>
                      <a:pt x="904" y="383"/>
                    </a:lnTo>
                    <a:lnTo>
                      <a:pt x="781" y="339"/>
                    </a:lnTo>
                    <a:lnTo>
                      <a:pt x="654" y="303"/>
                    </a:lnTo>
                    <a:lnTo>
                      <a:pt x="571" y="284"/>
                    </a:lnTo>
                    <a:lnTo>
                      <a:pt x="461" y="284"/>
                    </a:lnTo>
                    <a:lnTo>
                      <a:pt x="402" y="242"/>
                    </a:lnTo>
                    <a:lnTo>
                      <a:pt x="253" y="223"/>
                    </a:lnTo>
                    <a:lnTo>
                      <a:pt x="171" y="261"/>
                    </a:lnTo>
                    <a:lnTo>
                      <a:pt x="20" y="261"/>
                    </a:lnTo>
                    <a:lnTo>
                      <a:pt x="0" y="223"/>
                    </a:lnTo>
                    <a:close/>
                  </a:path>
                </a:pathLst>
              </a:custGeom>
              <a:blipFill rotWithShape="0">
                <a:blip r:embed="rId4"/>
                <a:srcRect/>
                <a:stretch/>
              </a:blipFill>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160" name="Freeform 129"/>
              <p:cNvSpPr/>
              <p:nvPr/>
            </p:nvSpPr>
            <p:spPr>
              <a:xfrm>
                <a:off x="3256920" y="3112920"/>
                <a:ext cx="522360" cy="124200"/>
              </a:xfrm>
              <a:custGeom>
                <a:avLst/>
                <a:gdLst>
                  <a:gd name="textAreaLeft" fmla="*/ 0 w 522360"/>
                  <a:gd name="textAreaRight" fmla="*/ 522720 w 522360"/>
                  <a:gd name="textAreaTop" fmla="*/ 0 h 124200"/>
                  <a:gd name="textAreaBottom" fmla="*/ 124560 h 124200"/>
                </a:gdLst>
                <a:ahLst/>
                <a:rect l="textAreaLeft" t="textAreaTop" r="textAreaRight" b="textAreaBottom"/>
                <a:pathLst>
                  <a:path w="1449" h="373">
                    <a:moveTo>
                      <a:pt x="0" y="215"/>
                    </a:moveTo>
                    <a:lnTo>
                      <a:pt x="102" y="173"/>
                    </a:lnTo>
                    <a:lnTo>
                      <a:pt x="271" y="173"/>
                    </a:lnTo>
                    <a:lnTo>
                      <a:pt x="374" y="134"/>
                    </a:lnTo>
                    <a:lnTo>
                      <a:pt x="332" y="96"/>
                    </a:lnTo>
                    <a:lnTo>
                      <a:pt x="271" y="96"/>
                    </a:lnTo>
                    <a:lnTo>
                      <a:pt x="102" y="116"/>
                    </a:lnTo>
                    <a:lnTo>
                      <a:pt x="102" y="55"/>
                    </a:lnTo>
                    <a:lnTo>
                      <a:pt x="314" y="55"/>
                    </a:lnTo>
                    <a:lnTo>
                      <a:pt x="355" y="19"/>
                    </a:lnTo>
                    <a:lnTo>
                      <a:pt x="464" y="55"/>
                    </a:lnTo>
                    <a:lnTo>
                      <a:pt x="606" y="55"/>
                    </a:lnTo>
                    <a:lnTo>
                      <a:pt x="708" y="36"/>
                    </a:lnTo>
                    <a:lnTo>
                      <a:pt x="845" y="36"/>
                    </a:lnTo>
                    <a:lnTo>
                      <a:pt x="989" y="0"/>
                    </a:lnTo>
                    <a:lnTo>
                      <a:pt x="1156" y="36"/>
                    </a:lnTo>
                    <a:lnTo>
                      <a:pt x="1287" y="0"/>
                    </a:lnTo>
                    <a:lnTo>
                      <a:pt x="1449" y="19"/>
                    </a:lnTo>
                    <a:lnTo>
                      <a:pt x="1430" y="82"/>
                    </a:lnTo>
                    <a:lnTo>
                      <a:pt x="1287" y="36"/>
                    </a:lnTo>
                    <a:lnTo>
                      <a:pt x="1176" y="96"/>
                    </a:lnTo>
                    <a:lnTo>
                      <a:pt x="1027" y="96"/>
                    </a:lnTo>
                    <a:lnTo>
                      <a:pt x="879" y="116"/>
                    </a:lnTo>
                    <a:lnTo>
                      <a:pt x="845" y="116"/>
                    </a:lnTo>
                    <a:lnTo>
                      <a:pt x="927" y="173"/>
                    </a:lnTo>
                    <a:lnTo>
                      <a:pt x="989" y="173"/>
                    </a:lnTo>
                    <a:lnTo>
                      <a:pt x="1075" y="215"/>
                    </a:lnTo>
                    <a:lnTo>
                      <a:pt x="1094" y="332"/>
                    </a:lnTo>
                    <a:lnTo>
                      <a:pt x="989" y="373"/>
                    </a:lnTo>
                    <a:lnTo>
                      <a:pt x="796" y="311"/>
                    </a:lnTo>
                    <a:lnTo>
                      <a:pt x="634" y="256"/>
                    </a:lnTo>
                    <a:lnTo>
                      <a:pt x="544" y="232"/>
                    </a:lnTo>
                    <a:lnTo>
                      <a:pt x="414" y="354"/>
                    </a:lnTo>
                    <a:lnTo>
                      <a:pt x="231" y="354"/>
                    </a:lnTo>
                    <a:lnTo>
                      <a:pt x="81" y="354"/>
                    </a:lnTo>
                    <a:lnTo>
                      <a:pt x="0" y="232"/>
                    </a:lnTo>
                    <a:lnTo>
                      <a:pt x="0" y="215"/>
                    </a:lnTo>
                    <a:close/>
                  </a:path>
                </a:pathLst>
              </a:custGeom>
              <a:blipFill rotWithShape="0">
                <a:blip r:embed="rId5"/>
                <a:srcRect/>
                <a:stretch/>
              </a:blipFill>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161" name="Freeform 130"/>
              <p:cNvSpPr/>
              <p:nvPr/>
            </p:nvSpPr>
            <p:spPr>
              <a:xfrm>
                <a:off x="1594440" y="3451320"/>
                <a:ext cx="226080" cy="233280"/>
              </a:xfrm>
              <a:custGeom>
                <a:avLst/>
                <a:gdLst>
                  <a:gd name="textAreaLeft" fmla="*/ 0 w 226080"/>
                  <a:gd name="textAreaRight" fmla="*/ 226440 w 226080"/>
                  <a:gd name="textAreaTop" fmla="*/ 0 h 233280"/>
                  <a:gd name="textAreaBottom" fmla="*/ 233640 h 233280"/>
                </a:gdLst>
                <a:ahLst/>
                <a:rect l="textAreaLeft" t="textAreaTop" r="textAreaRight" b="textAreaBottom"/>
                <a:pathLst>
                  <a:path w="627" h="697">
                    <a:moveTo>
                      <a:pt x="116" y="197"/>
                    </a:moveTo>
                    <a:lnTo>
                      <a:pt x="82" y="306"/>
                    </a:lnTo>
                    <a:lnTo>
                      <a:pt x="14" y="397"/>
                    </a:lnTo>
                    <a:lnTo>
                      <a:pt x="0" y="448"/>
                    </a:lnTo>
                    <a:lnTo>
                      <a:pt x="9" y="478"/>
                    </a:lnTo>
                    <a:lnTo>
                      <a:pt x="0" y="503"/>
                    </a:lnTo>
                    <a:lnTo>
                      <a:pt x="0" y="532"/>
                    </a:lnTo>
                    <a:lnTo>
                      <a:pt x="22" y="564"/>
                    </a:lnTo>
                    <a:lnTo>
                      <a:pt x="22" y="614"/>
                    </a:lnTo>
                    <a:lnTo>
                      <a:pt x="42" y="631"/>
                    </a:lnTo>
                    <a:lnTo>
                      <a:pt x="60" y="669"/>
                    </a:lnTo>
                    <a:lnTo>
                      <a:pt x="124" y="673"/>
                    </a:lnTo>
                    <a:lnTo>
                      <a:pt x="157" y="673"/>
                    </a:lnTo>
                    <a:lnTo>
                      <a:pt x="199" y="669"/>
                    </a:lnTo>
                    <a:lnTo>
                      <a:pt x="225" y="660"/>
                    </a:lnTo>
                    <a:lnTo>
                      <a:pt x="287" y="638"/>
                    </a:lnTo>
                    <a:lnTo>
                      <a:pt x="345" y="638"/>
                    </a:lnTo>
                    <a:lnTo>
                      <a:pt x="381" y="649"/>
                    </a:lnTo>
                    <a:lnTo>
                      <a:pt x="436" y="657"/>
                    </a:lnTo>
                    <a:lnTo>
                      <a:pt x="477" y="673"/>
                    </a:lnTo>
                    <a:lnTo>
                      <a:pt x="495" y="692"/>
                    </a:lnTo>
                    <a:lnTo>
                      <a:pt x="530" y="692"/>
                    </a:lnTo>
                    <a:lnTo>
                      <a:pt x="572" y="697"/>
                    </a:lnTo>
                    <a:lnTo>
                      <a:pt x="600" y="692"/>
                    </a:lnTo>
                    <a:lnTo>
                      <a:pt x="627" y="692"/>
                    </a:lnTo>
                    <a:lnTo>
                      <a:pt x="627" y="679"/>
                    </a:lnTo>
                    <a:lnTo>
                      <a:pt x="611" y="657"/>
                    </a:lnTo>
                    <a:lnTo>
                      <a:pt x="611" y="614"/>
                    </a:lnTo>
                    <a:lnTo>
                      <a:pt x="611" y="594"/>
                    </a:lnTo>
                    <a:lnTo>
                      <a:pt x="600" y="564"/>
                    </a:lnTo>
                    <a:lnTo>
                      <a:pt x="592" y="537"/>
                    </a:lnTo>
                    <a:lnTo>
                      <a:pt x="585" y="514"/>
                    </a:lnTo>
                    <a:lnTo>
                      <a:pt x="585" y="490"/>
                    </a:lnTo>
                    <a:lnTo>
                      <a:pt x="585" y="464"/>
                    </a:lnTo>
                    <a:lnTo>
                      <a:pt x="558" y="464"/>
                    </a:lnTo>
                    <a:lnTo>
                      <a:pt x="530" y="454"/>
                    </a:lnTo>
                    <a:lnTo>
                      <a:pt x="518" y="440"/>
                    </a:lnTo>
                    <a:lnTo>
                      <a:pt x="495" y="418"/>
                    </a:lnTo>
                    <a:lnTo>
                      <a:pt x="477" y="393"/>
                    </a:lnTo>
                    <a:lnTo>
                      <a:pt x="461" y="354"/>
                    </a:lnTo>
                    <a:lnTo>
                      <a:pt x="442" y="343"/>
                    </a:lnTo>
                    <a:lnTo>
                      <a:pt x="423" y="318"/>
                    </a:lnTo>
                    <a:lnTo>
                      <a:pt x="402" y="294"/>
                    </a:lnTo>
                    <a:lnTo>
                      <a:pt x="381" y="263"/>
                    </a:lnTo>
                    <a:lnTo>
                      <a:pt x="369" y="249"/>
                    </a:lnTo>
                    <a:lnTo>
                      <a:pt x="387" y="190"/>
                    </a:lnTo>
                    <a:lnTo>
                      <a:pt x="387" y="165"/>
                    </a:lnTo>
                    <a:lnTo>
                      <a:pt x="402" y="136"/>
                    </a:lnTo>
                    <a:lnTo>
                      <a:pt x="409" y="91"/>
                    </a:lnTo>
                    <a:lnTo>
                      <a:pt x="393" y="41"/>
                    </a:lnTo>
                    <a:lnTo>
                      <a:pt x="409" y="16"/>
                    </a:lnTo>
                    <a:lnTo>
                      <a:pt x="374" y="0"/>
                    </a:lnTo>
                    <a:lnTo>
                      <a:pt x="353" y="0"/>
                    </a:lnTo>
                    <a:lnTo>
                      <a:pt x="333" y="0"/>
                    </a:lnTo>
                    <a:lnTo>
                      <a:pt x="308" y="16"/>
                    </a:lnTo>
                    <a:lnTo>
                      <a:pt x="282" y="41"/>
                    </a:lnTo>
                    <a:lnTo>
                      <a:pt x="258" y="62"/>
                    </a:lnTo>
                    <a:lnTo>
                      <a:pt x="240" y="86"/>
                    </a:lnTo>
                    <a:lnTo>
                      <a:pt x="205" y="118"/>
                    </a:lnTo>
                    <a:lnTo>
                      <a:pt x="177" y="136"/>
                    </a:lnTo>
                    <a:lnTo>
                      <a:pt x="116" y="197"/>
                    </a:lnTo>
                    <a:close/>
                  </a:path>
                </a:pathLst>
              </a:custGeom>
              <a:blipFill rotWithShape="0">
                <a:blip r:embed="rId6"/>
                <a:srcRect/>
                <a:stretch/>
              </a:blipFill>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162" name="Freeform 131"/>
              <p:cNvSpPr/>
              <p:nvPr/>
            </p:nvSpPr>
            <p:spPr>
              <a:xfrm>
                <a:off x="1885320" y="3271680"/>
                <a:ext cx="213840" cy="144360"/>
              </a:xfrm>
              <a:custGeom>
                <a:avLst/>
                <a:gdLst>
                  <a:gd name="textAreaLeft" fmla="*/ 0 w 213840"/>
                  <a:gd name="textAreaRight" fmla="*/ 214200 w 213840"/>
                  <a:gd name="textAreaTop" fmla="*/ 0 h 144360"/>
                  <a:gd name="textAreaBottom" fmla="*/ 144720 h 144360"/>
                </a:gdLst>
                <a:ahLst/>
                <a:rect l="textAreaLeft" t="textAreaTop" r="textAreaRight" b="textAreaBottom"/>
                <a:pathLst>
                  <a:path w="593" h="430">
                    <a:moveTo>
                      <a:pt x="0" y="198"/>
                    </a:moveTo>
                    <a:lnTo>
                      <a:pt x="34" y="210"/>
                    </a:lnTo>
                    <a:lnTo>
                      <a:pt x="48" y="222"/>
                    </a:lnTo>
                    <a:lnTo>
                      <a:pt x="67" y="234"/>
                    </a:lnTo>
                    <a:lnTo>
                      <a:pt x="91" y="251"/>
                    </a:lnTo>
                    <a:lnTo>
                      <a:pt x="130" y="265"/>
                    </a:lnTo>
                    <a:lnTo>
                      <a:pt x="145" y="271"/>
                    </a:lnTo>
                    <a:lnTo>
                      <a:pt x="173" y="284"/>
                    </a:lnTo>
                    <a:lnTo>
                      <a:pt x="187" y="290"/>
                    </a:lnTo>
                    <a:lnTo>
                      <a:pt x="191" y="313"/>
                    </a:lnTo>
                    <a:lnTo>
                      <a:pt x="212" y="321"/>
                    </a:lnTo>
                    <a:lnTo>
                      <a:pt x="228" y="344"/>
                    </a:lnTo>
                    <a:lnTo>
                      <a:pt x="240" y="362"/>
                    </a:lnTo>
                    <a:lnTo>
                      <a:pt x="262" y="393"/>
                    </a:lnTo>
                    <a:lnTo>
                      <a:pt x="279" y="406"/>
                    </a:lnTo>
                    <a:lnTo>
                      <a:pt x="287" y="430"/>
                    </a:lnTo>
                    <a:lnTo>
                      <a:pt x="303" y="418"/>
                    </a:lnTo>
                    <a:lnTo>
                      <a:pt x="350" y="398"/>
                    </a:lnTo>
                    <a:lnTo>
                      <a:pt x="383" y="393"/>
                    </a:lnTo>
                    <a:lnTo>
                      <a:pt x="411" y="393"/>
                    </a:lnTo>
                    <a:lnTo>
                      <a:pt x="438" y="373"/>
                    </a:lnTo>
                    <a:lnTo>
                      <a:pt x="457" y="373"/>
                    </a:lnTo>
                    <a:lnTo>
                      <a:pt x="484" y="368"/>
                    </a:lnTo>
                    <a:lnTo>
                      <a:pt x="518" y="357"/>
                    </a:lnTo>
                    <a:lnTo>
                      <a:pt x="532" y="336"/>
                    </a:lnTo>
                    <a:lnTo>
                      <a:pt x="532" y="321"/>
                    </a:lnTo>
                    <a:lnTo>
                      <a:pt x="544" y="284"/>
                    </a:lnTo>
                    <a:lnTo>
                      <a:pt x="552" y="247"/>
                    </a:lnTo>
                    <a:lnTo>
                      <a:pt x="552" y="222"/>
                    </a:lnTo>
                    <a:lnTo>
                      <a:pt x="552" y="198"/>
                    </a:lnTo>
                    <a:lnTo>
                      <a:pt x="552" y="153"/>
                    </a:lnTo>
                    <a:lnTo>
                      <a:pt x="567" y="136"/>
                    </a:lnTo>
                    <a:lnTo>
                      <a:pt x="567" y="117"/>
                    </a:lnTo>
                    <a:lnTo>
                      <a:pt x="580" y="85"/>
                    </a:lnTo>
                    <a:lnTo>
                      <a:pt x="593" y="44"/>
                    </a:lnTo>
                    <a:lnTo>
                      <a:pt x="580" y="24"/>
                    </a:lnTo>
                    <a:lnTo>
                      <a:pt x="580" y="13"/>
                    </a:lnTo>
                    <a:lnTo>
                      <a:pt x="539" y="13"/>
                    </a:lnTo>
                    <a:lnTo>
                      <a:pt x="499" y="13"/>
                    </a:lnTo>
                    <a:lnTo>
                      <a:pt x="446" y="13"/>
                    </a:lnTo>
                    <a:lnTo>
                      <a:pt x="403" y="17"/>
                    </a:lnTo>
                    <a:lnTo>
                      <a:pt x="391" y="7"/>
                    </a:lnTo>
                    <a:lnTo>
                      <a:pt x="364" y="0"/>
                    </a:lnTo>
                    <a:lnTo>
                      <a:pt x="350" y="0"/>
                    </a:lnTo>
                    <a:lnTo>
                      <a:pt x="273" y="24"/>
                    </a:lnTo>
                    <a:lnTo>
                      <a:pt x="247" y="32"/>
                    </a:lnTo>
                    <a:lnTo>
                      <a:pt x="216" y="44"/>
                    </a:lnTo>
                    <a:lnTo>
                      <a:pt x="187" y="50"/>
                    </a:lnTo>
                    <a:lnTo>
                      <a:pt x="173" y="57"/>
                    </a:lnTo>
                    <a:lnTo>
                      <a:pt x="153" y="74"/>
                    </a:lnTo>
                    <a:lnTo>
                      <a:pt x="138" y="93"/>
                    </a:lnTo>
                    <a:lnTo>
                      <a:pt x="124" y="106"/>
                    </a:lnTo>
                    <a:lnTo>
                      <a:pt x="109" y="117"/>
                    </a:lnTo>
                    <a:lnTo>
                      <a:pt x="83" y="106"/>
                    </a:lnTo>
                    <a:lnTo>
                      <a:pt x="63" y="99"/>
                    </a:lnTo>
                    <a:lnTo>
                      <a:pt x="48" y="99"/>
                    </a:lnTo>
                    <a:lnTo>
                      <a:pt x="34" y="113"/>
                    </a:lnTo>
                    <a:lnTo>
                      <a:pt x="34" y="130"/>
                    </a:lnTo>
                    <a:lnTo>
                      <a:pt x="30" y="142"/>
                    </a:lnTo>
                    <a:lnTo>
                      <a:pt x="23" y="153"/>
                    </a:lnTo>
                    <a:lnTo>
                      <a:pt x="30" y="168"/>
                    </a:lnTo>
                    <a:lnTo>
                      <a:pt x="14" y="178"/>
                    </a:lnTo>
                    <a:lnTo>
                      <a:pt x="0" y="198"/>
                    </a:lnTo>
                    <a:close/>
                  </a:path>
                </a:pathLst>
              </a:custGeom>
              <a:blipFill rotWithShape="0">
                <a:blip r:embed="rId7"/>
                <a:srcRect/>
                <a:stretch/>
              </a:blipFill>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163" name="Freeform 132"/>
              <p:cNvSpPr/>
              <p:nvPr/>
            </p:nvSpPr>
            <p:spPr>
              <a:xfrm>
                <a:off x="1799640" y="3046320"/>
                <a:ext cx="212040" cy="264240"/>
              </a:xfrm>
              <a:custGeom>
                <a:avLst/>
                <a:gdLst>
                  <a:gd name="textAreaLeft" fmla="*/ 0 w 212040"/>
                  <a:gd name="textAreaRight" fmla="*/ 212400 w 212040"/>
                  <a:gd name="textAreaTop" fmla="*/ 0 h 264240"/>
                  <a:gd name="textAreaBottom" fmla="*/ 264600 h 264240"/>
                </a:gdLst>
                <a:ahLst/>
                <a:rect l="textAreaLeft" t="textAreaTop" r="textAreaRight" b="textAreaBottom"/>
                <a:pathLst>
                  <a:path w="586" h="789">
                    <a:moveTo>
                      <a:pt x="116" y="0"/>
                    </a:moveTo>
                    <a:lnTo>
                      <a:pt x="88" y="13"/>
                    </a:lnTo>
                    <a:lnTo>
                      <a:pt x="68" y="31"/>
                    </a:lnTo>
                    <a:lnTo>
                      <a:pt x="33" y="49"/>
                    </a:lnTo>
                    <a:lnTo>
                      <a:pt x="13" y="106"/>
                    </a:lnTo>
                    <a:lnTo>
                      <a:pt x="8" y="129"/>
                    </a:lnTo>
                    <a:lnTo>
                      <a:pt x="0" y="166"/>
                    </a:lnTo>
                    <a:lnTo>
                      <a:pt x="0" y="183"/>
                    </a:lnTo>
                    <a:lnTo>
                      <a:pt x="13" y="222"/>
                    </a:lnTo>
                    <a:lnTo>
                      <a:pt x="33" y="251"/>
                    </a:lnTo>
                    <a:lnTo>
                      <a:pt x="68" y="292"/>
                    </a:lnTo>
                    <a:lnTo>
                      <a:pt x="95" y="307"/>
                    </a:lnTo>
                    <a:lnTo>
                      <a:pt x="101" y="362"/>
                    </a:lnTo>
                    <a:lnTo>
                      <a:pt x="116" y="384"/>
                    </a:lnTo>
                    <a:lnTo>
                      <a:pt x="136" y="440"/>
                    </a:lnTo>
                    <a:lnTo>
                      <a:pt x="170" y="478"/>
                    </a:lnTo>
                    <a:lnTo>
                      <a:pt x="186" y="538"/>
                    </a:lnTo>
                    <a:lnTo>
                      <a:pt x="211" y="588"/>
                    </a:lnTo>
                    <a:lnTo>
                      <a:pt x="243" y="629"/>
                    </a:lnTo>
                    <a:lnTo>
                      <a:pt x="266" y="660"/>
                    </a:lnTo>
                    <a:lnTo>
                      <a:pt x="270" y="697"/>
                    </a:lnTo>
                    <a:lnTo>
                      <a:pt x="284" y="729"/>
                    </a:lnTo>
                    <a:lnTo>
                      <a:pt x="284" y="771"/>
                    </a:lnTo>
                    <a:lnTo>
                      <a:pt x="345" y="789"/>
                    </a:lnTo>
                    <a:lnTo>
                      <a:pt x="374" y="765"/>
                    </a:lnTo>
                    <a:lnTo>
                      <a:pt x="394" y="746"/>
                    </a:lnTo>
                    <a:lnTo>
                      <a:pt x="415" y="729"/>
                    </a:lnTo>
                    <a:lnTo>
                      <a:pt x="448" y="716"/>
                    </a:lnTo>
                    <a:lnTo>
                      <a:pt x="476" y="705"/>
                    </a:lnTo>
                    <a:lnTo>
                      <a:pt x="509" y="690"/>
                    </a:lnTo>
                    <a:lnTo>
                      <a:pt x="533" y="697"/>
                    </a:lnTo>
                    <a:lnTo>
                      <a:pt x="566" y="685"/>
                    </a:lnTo>
                    <a:lnTo>
                      <a:pt x="586" y="665"/>
                    </a:lnTo>
                    <a:lnTo>
                      <a:pt x="572" y="642"/>
                    </a:lnTo>
                    <a:lnTo>
                      <a:pt x="566" y="624"/>
                    </a:lnTo>
                    <a:lnTo>
                      <a:pt x="544" y="619"/>
                    </a:lnTo>
                    <a:lnTo>
                      <a:pt x="539" y="599"/>
                    </a:lnTo>
                    <a:lnTo>
                      <a:pt x="523" y="595"/>
                    </a:lnTo>
                    <a:lnTo>
                      <a:pt x="515" y="567"/>
                    </a:lnTo>
                    <a:lnTo>
                      <a:pt x="523" y="546"/>
                    </a:lnTo>
                    <a:lnTo>
                      <a:pt x="515" y="507"/>
                    </a:lnTo>
                    <a:lnTo>
                      <a:pt x="523" y="478"/>
                    </a:lnTo>
                    <a:lnTo>
                      <a:pt x="515" y="440"/>
                    </a:lnTo>
                    <a:lnTo>
                      <a:pt x="523" y="428"/>
                    </a:lnTo>
                    <a:lnTo>
                      <a:pt x="544" y="389"/>
                    </a:lnTo>
                    <a:lnTo>
                      <a:pt x="550" y="369"/>
                    </a:lnTo>
                    <a:lnTo>
                      <a:pt x="544" y="324"/>
                    </a:lnTo>
                    <a:lnTo>
                      <a:pt x="533" y="307"/>
                    </a:lnTo>
                    <a:lnTo>
                      <a:pt x="483" y="278"/>
                    </a:lnTo>
                    <a:lnTo>
                      <a:pt x="452" y="268"/>
                    </a:lnTo>
                    <a:lnTo>
                      <a:pt x="415" y="257"/>
                    </a:lnTo>
                    <a:lnTo>
                      <a:pt x="374" y="232"/>
                    </a:lnTo>
                    <a:lnTo>
                      <a:pt x="360" y="226"/>
                    </a:lnTo>
                    <a:lnTo>
                      <a:pt x="333" y="226"/>
                    </a:lnTo>
                    <a:lnTo>
                      <a:pt x="311" y="214"/>
                    </a:lnTo>
                    <a:lnTo>
                      <a:pt x="293" y="214"/>
                    </a:lnTo>
                    <a:lnTo>
                      <a:pt x="276" y="189"/>
                    </a:lnTo>
                    <a:lnTo>
                      <a:pt x="243" y="154"/>
                    </a:lnTo>
                    <a:lnTo>
                      <a:pt x="226" y="124"/>
                    </a:lnTo>
                    <a:lnTo>
                      <a:pt x="198" y="110"/>
                    </a:lnTo>
                    <a:lnTo>
                      <a:pt x="186" y="73"/>
                    </a:lnTo>
                    <a:lnTo>
                      <a:pt x="162" y="49"/>
                    </a:lnTo>
                    <a:lnTo>
                      <a:pt x="143" y="49"/>
                    </a:lnTo>
                    <a:lnTo>
                      <a:pt x="136" y="31"/>
                    </a:lnTo>
                    <a:lnTo>
                      <a:pt x="116" y="0"/>
                    </a:lnTo>
                    <a:close/>
                  </a:path>
                </a:pathLst>
              </a:custGeom>
              <a:blipFill rotWithShape="0">
                <a:blip r:embed="rId8"/>
                <a:srcRect/>
                <a:stretch/>
              </a:blipFill>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164" name="Freeform 133"/>
              <p:cNvSpPr/>
              <p:nvPr/>
            </p:nvSpPr>
            <p:spPr>
              <a:xfrm>
                <a:off x="1986120" y="3098520"/>
                <a:ext cx="348840" cy="239400"/>
              </a:xfrm>
              <a:custGeom>
                <a:avLst/>
                <a:gdLst>
                  <a:gd name="textAreaLeft" fmla="*/ 0 w 348840"/>
                  <a:gd name="textAreaRight" fmla="*/ 348840 w 348840"/>
                  <a:gd name="textAreaTop" fmla="*/ 0 h 239400"/>
                  <a:gd name="textAreaBottom" fmla="*/ 239760 h 239400"/>
                </a:gdLst>
                <a:ahLst/>
                <a:rect l="textAreaLeft" t="textAreaTop" r="textAreaRight" b="textAreaBottom"/>
                <a:pathLst>
                  <a:path w="969" h="716">
                    <a:moveTo>
                      <a:pt x="18" y="158"/>
                    </a:moveTo>
                    <a:lnTo>
                      <a:pt x="30" y="170"/>
                    </a:lnTo>
                    <a:lnTo>
                      <a:pt x="30" y="191"/>
                    </a:lnTo>
                    <a:lnTo>
                      <a:pt x="30" y="203"/>
                    </a:lnTo>
                    <a:lnTo>
                      <a:pt x="35" y="203"/>
                    </a:lnTo>
                    <a:lnTo>
                      <a:pt x="30" y="230"/>
                    </a:lnTo>
                    <a:lnTo>
                      <a:pt x="18" y="257"/>
                    </a:lnTo>
                    <a:lnTo>
                      <a:pt x="8" y="286"/>
                    </a:lnTo>
                    <a:lnTo>
                      <a:pt x="0" y="313"/>
                    </a:lnTo>
                    <a:lnTo>
                      <a:pt x="0" y="353"/>
                    </a:lnTo>
                    <a:lnTo>
                      <a:pt x="0" y="367"/>
                    </a:lnTo>
                    <a:lnTo>
                      <a:pt x="0" y="392"/>
                    </a:lnTo>
                    <a:lnTo>
                      <a:pt x="0" y="413"/>
                    </a:lnTo>
                    <a:lnTo>
                      <a:pt x="8" y="445"/>
                    </a:lnTo>
                    <a:lnTo>
                      <a:pt x="30" y="457"/>
                    </a:lnTo>
                    <a:lnTo>
                      <a:pt x="35" y="470"/>
                    </a:lnTo>
                    <a:lnTo>
                      <a:pt x="57" y="488"/>
                    </a:lnTo>
                    <a:lnTo>
                      <a:pt x="76" y="518"/>
                    </a:lnTo>
                    <a:lnTo>
                      <a:pt x="98" y="525"/>
                    </a:lnTo>
                    <a:lnTo>
                      <a:pt x="113" y="525"/>
                    </a:lnTo>
                    <a:lnTo>
                      <a:pt x="132" y="536"/>
                    </a:lnTo>
                    <a:lnTo>
                      <a:pt x="160" y="536"/>
                    </a:lnTo>
                    <a:lnTo>
                      <a:pt x="194" y="531"/>
                    </a:lnTo>
                    <a:lnTo>
                      <a:pt x="205" y="531"/>
                    </a:lnTo>
                    <a:lnTo>
                      <a:pt x="254" y="531"/>
                    </a:lnTo>
                    <a:lnTo>
                      <a:pt x="296" y="531"/>
                    </a:lnTo>
                    <a:lnTo>
                      <a:pt x="314" y="568"/>
                    </a:lnTo>
                    <a:lnTo>
                      <a:pt x="335" y="575"/>
                    </a:lnTo>
                    <a:lnTo>
                      <a:pt x="355" y="599"/>
                    </a:lnTo>
                    <a:lnTo>
                      <a:pt x="371" y="624"/>
                    </a:lnTo>
                    <a:lnTo>
                      <a:pt x="389" y="648"/>
                    </a:lnTo>
                    <a:lnTo>
                      <a:pt x="425" y="691"/>
                    </a:lnTo>
                    <a:lnTo>
                      <a:pt x="471" y="696"/>
                    </a:lnTo>
                    <a:lnTo>
                      <a:pt x="520" y="716"/>
                    </a:lnTo>
                    <a:lnTo>
                      <a:pt x="553" y="686"/>
                    </a:lnTo>
                    <a:lnTo>
                      <a:pt x="621" y="656"/>
                    </a:lnTo>
                    <a:lnTo>
                      <a:pt x="636" y="635"/>
                    </a:lnTo>
                    <a:lnTo>
                      <a:pt x="682" y="558"/>
                    </a:lnTo>
                    <a:lnTo>
                      <a:pt x="729" y="558"/>
                    </a:lnTo>
                    <a:lnTo>
                      <a:pt x="779" y="558"/>
                    </a:lnTo>
                    <a:lnTo>
                      <a:pt x="796" y="551"/>
                    </a:lnTo>
                    <a:lnTo>
                      <a:pt x="839" y="525"/>
                    </a:lnTo>
                    <a:lnTo>
                      <a:pt x="886" y="511"/>
                    </a:lnTo>
                    <a:lnTo>
                      <a:pt x="906" y="495"/>
                    </a:lnTo>
                    <a:lnTo>
                      <a:pt x="894" y="475"/>
                    </a:lnTo>
                    <a:lnTo>
                      <a:pt x="872" y="465"/>
                    </a:lnTo>
                    <a:lnTo>
                      <a:pt x="857" y="457"/>
                    </a:lnTo>
                    <a:lnTo>
                      <a:pt x="853" y="441"/>
                    </a:lnTo>
                    <a:lnTo>
                      <a:pt x="835" y="403"/>
                    </a:lnTo>
                    <a:lnTo>
                      <a:pt x="835" y="379"/>
                    </a:lnTo>
                    <a:lnTo>
                      <a:pt x="835" y="342"/>
                    </a:lnTo>
                    <a:lnTo>
                      <a:pt x="811" y="328"/>
                    </a:lnTo>
                    <a:lnTo>
                      <a:pt x="805" y="307"/>
                    </a:lnTo>
                    <a:lnTo>
                      <a:pt x="790" y="296"/>
                    </a:lnTo>
                    <a:lnTo>
                      <a:pt x="790" y="291"/>
                    </a:lnTo>
                    <a:lnTo>
                      <a:pt x="811" y="250"/>
                    </a:lnTo>
                    <a:lnTo>
                      <a:pt x="845" y="215"/>
                    </a:lnTo>
                    <a:lnTo>
                      <a:pt x="879" y="175"/>
                    </a:lnTo>
                    <a:lnTo>
                      <a:pt x="894" y="138"/>
                    </a:lnTo>
                    <a:lnTo>
                      <a:pt x="920" y="97"/>
                    </a:lnTo>
                    <a:lnTo>
                      <a:pt x="955" y="68"/>
                    </a:lnTo>
                    <a:lnTo>
                      <a:pt x="969" y="42"/>
                    </a:lnTo>
                    <a:lnTo>
                      <a:pt x="969" y="24"/>
                    </a:lnTo>
                    <a:lnTo>
                      <a:pt x="935" y="29"/>
                    </a:lnTo>
                    <a:lnTo>
                      <a:pt x="886" y="29"/>
                    </a:lnTo>
                    <a:lnTo>
                      <a:pt x="853" y="35"/>
                    </a:lnTo>
                    <a:lnTo>
                      <a:pt x="805" y="35"/>
                    </a:lnTo>
                    <a:lnTo>
                      <a:pt x="763" y="29"/>
                    </a:lnTo>
                    <a:lnTo>
                      <a:pt x="723" y="29"/>
                    </a:lnTo>
                    <a:lnTo>
                      <a:pt x="688" y="35"/>
                    </a:lnTo>
                    <a:lnTo>
                      <a:pt x="676" y="42"/>
                    </a:lnTo>
                    <a:lnTo>
                      <a:pt x="608" y="24"/>
                    </a:lnTo>
                    <a:lnTo>
                      <a:pt x="553" y="4"/>
                    </a:lnTo>
                    <a:lnTo>
                      <a:pt x="532" y="0"/>
                    </a:lnTo>
                    <a:lnTo>
                      <a:pt x="444" y="17"/>
                    </a:lnTo>
                    <a:lnTo>
                      <a:pt x="389" y="42"/>
                    </a:lnTo>
                    <a:lnTo>
                      <a:pt x="329" y="52"/>
                    </a:lnTo>
                    <a:lnTo>
                      <a:pt x="227" y="91"/>
                    </a:lnTo>
                    <a:lnTo>
                      <a:pt x="173" y="103"/>
                    </a:lnTo>
                    <a:lnTo>
                      <a:pt x="119" y="128"/>
                    </a:lnTo>
                    <a:lnTo>
                      <a:pt x="91" y="133"/>
                    </a:lnTo>
                    <a:lnTo>
                      <a:pt x="24" y="158"/>
                    </a:lnTo>
                    <a:lnTo>
                      <a:pt x="18" y="158"/>
                    </a:lnTo>
                    <a:close/>
                  </a:path>
                </a:pathLst>
              </a:custGeom>
              <a:blipFill rotWithShape="0">
                <a:blip r:embed="rId9"/>
                <a:srcRect/>
                <a:stretch/>
              </a:blipFill>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165" name="Freeform 134"/>
              <p:cNvSpPr/>
              <p:nvPr/>
            </p:nvSpPr>
            <p:spPr>
              <a:xfrm>
                <a:off x="2076840" y="3265200"/>
                <a:ext cx="322560" cy="302760"/>
              </a:xfrm>
              <a:custGeom>
                <a:avLst/>
                <a:gdLst>
                  <a:gd name="textAreaLeft" fmla="*/ 0 w 322560"/>
                  <a:gd name="textAreaRight" fmla="*/ 322920 w 322560"/>
                  <a:gd name="textAreaTop" fmla="*/ 0 h 302760"/>
                  <a:gd name="textAreaBottom" fmla="*/ 303120 h 302760"/>
                </a:gdLst>
                <a:ahLst/>
                <a:rect l="textAreaLeft" t="textAreaTop" r="textAreaRight" b="textAreaBottom"/>
                <a:pathLst>
                  <a:path w="892" h="904">
                    <a:moveTo>
                      <a:pt x="653" y="0"/>
                    </a:moveTo>
                    <a:lnTo>
                      <a:pt x="641" y="15"/>
                    </a:lnTo>
                    <a:lnTo>
                      <a:pt x="592" y="29"/>
                    </a:lnTo>
                    <a:lnTo>
                      <a:pt x="532" y="62"/>
                    </a:lnTo>
                    <a:lnTo>
                      <a:pt x="496" y="62"/>
                    </a:lnTo>
                    <a:lnTo>
                      <a:pt x="491" y="55"/>
                    </a:lnTo>
                    <a:lnTo>
                      <a:pt x="449" y="55"/>
                    </a:lnTo>
                    <a:lnTo>
                      <a:pt x="422" y="62"/>
                    </a:lnTo>
                    <a:lnTo>
                      <a:pt x="402" y="96"/>
                    </a:lnTo>
                    <a:lnTo>
                      <a:pt x="389" y="139"/>
                    </a:lnTo>
                    <a:lnTo>
                      <a:pt x="362" y="166"/>
                    </a:lnTo>
                    <a:lnTo>
                      <a:pt x="334" y="170"/>
                    </a:lnTo>
                    <a:lnTo>
                      <a:pt x="313" y="184"/>
                    </a:lnTo>
                    <a:lnTo>
                      <a:pt x="300" y="191"/>
                    </a:lnTo>
                    <a:lnTo>
                      <a:pt x="267" y="220"/>
                    </a:lnTo>
                    <a:lnTo>
                      <a:pt x="247" y="214"/>
                    </a:lnTo>
                    <a:lnTo>
                      <a:pt x="218" y="201"/>
                    </a:lnTo>
                    <a:lnTo>
                      <a:pt x="185" y="195"/>
                    </a:lnTo>
                    <a:lnTo>
                      <a:pt x="164" y="177"/>
                    </a:lnTo>
                    <a:lnTo>
                      <a:pt x="136" y="152"/>
                    </a:lnTo>
                    <a:lnTo>
                      <a:pt x="118" y="128"/>
                    </a:lnTo>
                    <a:lnTo>
                      <a:pt x="102" y="96"/>
                    </a:lnTo>
                    <a:lnTo>
                      <a:pt x="87" y="84"/>
                    </a:lnTo>
                    <a:lnTo>
                      <a:pt x="55" y="72"/>
                    </a:lnTo>
                    <a:lnTo>
                      <a:pt x="43" y="116"/>
                    </a:lnTo>
                    <a:lnTo>
                      <a:pt x="35" y="166"/>
                    </a:lnTo>
                    <a:lnTo>
                      <a:pt x="20" y="184"/>
                    </a:lnTo>
                    <a:lnTo>
                      <a:pt x="20" y="214"/>
                    </a:lnTo>
                    <a:lnTo>
                      <a:pt x="20" y="269"/>
                    </a:lnTo>
                    <a:lnTo>
                      <a:pt x="7" y="312"/>
                    </a:lnTo>
                    <a:lnTo>
                      <a:pt x="7" y="359"/>
                    </a:lnTo>
                    <a:lnTo>
                      <a:pt x="0" y="371"/>
                    </a:lnTo>
                    <a:lnTo>
                      <a:pt x="35" y="416"/>
                    </a:lnTo>
                    <a:lnTo>
                      <a:pt x="76" y="458"/>
                    </a:lnTo>
                    <a:lnTo>
                      <a:pt x="123" y="513"/>
                    </a:lnTo>
                    <a:lnTo>
                      <a:pt x="172" y="563"/>
                    </a:lnTo>
                    <a:lnTo>
                      <a:pt x="218" y="618"/>
                    </a:lnTo>
                    <a:lnTo>
                      <a:pt x="279" y="618"/>
                    </a:lnTo>
                    <a:lnTo>
                      <a:pt x="328" y="622"/>
                    </a:lnTo>
                    <a:lnTo>
                      <a:pt x="389" y="622"/>
                    </a:lnTo>
                    <a:lnTo>
                      <a:pt x="422" y="632"/>
                    </a:lnTo>
                    <a:lnTo>
                      <a:pt x="491" y="675"/>
                    </a:lnTo>
                    <a:lnTo>
                      <a:pt x="543" y="716"/>
                    </a:lnTo>
                    <a:lnTo>
                      <a:pt x="580" y="748"/>
                    </a:lnTo>
                    <a:lnTo>
                      <a:pt x="613" y="760"/>
                    </a:lnTo>
                    <a:lnTo>
                      <a:pt x="633" y="788"/>
                    </a:lnTo>
                    <a:lnTo>
                      <a:pt x="659" y="820"/>
                    </a:lnTo>
                    <a:lnTo>
                      <a:pt x="694" y="850"/>
                    </a:lnTo>
                    <a:lnTo>
                      <a:pt x="716" y="870"/>
                    </a:lnTo>
                    <a:lnTo>
                      <a:pt x="731" y="900"/>
                    </a:lnTo>
                    <a:lnTo>
                      <a:pt x="737" y="904"/>
                    </a:lnTo>
                    <a:lnTo>
                      <a:pt x="776" y="870"/>
                    </a:lnTo>
                    <a:lnTo>
                      <a:pt x="810" y="820"/>
                    </a:lnTo>
                    <a:lnTo>
                      <a:pt x="835" y="773"/>
                    </a:lnTo>
                    <a:lnTo>
                      <a:pt x="844" y="760"/>
                    </a:lnTo>
                    <a:lnTo>
                      <a:pt x="872" y="723"/>
                    </a:lnTo>
                    <a:lnTo>
                      <a:pt x="892" y="693"/>
                    </a:lnTo>
                    <a:lnTo>
                      <a:pt x="872" y="632"/>
                    </a:lnTo>
                    <a:lnTo>
                      <a:pt x="865" y="574"/>
                    </a:lnTo>
                    <a:lnTo>
                      <a:pt x="844" y="502"/>
                    </a:lnTo>
                    <a:lnTo>
                      <a:pt x="835" y="463"/>
                    </a:lnTo>
                    <a:lnTo>
                      <a:pt x="825" y="447"/>
                    </a:lnTo>
                    <a:lnTo>
                      <a:pt x="825" y="396"/>
                    </a:lnTo>
                    <a:lnTo>
                      <a:pt x="825" y="353"/>
                    </a:lnTo>
                    <a:lnTo>
                      <a:pt x="825" y="312"/>
                    </a:lnTo>
                    <a:lnTo>
                      <a:pt x="810" y="288"/>
                    </a:lnTo>
                    <a:lnTo>
                      <a:pt x="776" y="220"/>
                    </a:lnTo>
                    <a:lnTo>
                      <a:pt x="757" y="209"/>
                    </a:lnTo>
                    <a:lnTo>
                      <a:pt x="708" y="166"/>
                    </a:lnTo>
                    <a:lnTo>
                      <a:pt x="694" y="139"/>
                    </a:lnTo>
                    <a:lnTo>
                      <a:pt x="682" y="96"/>
                    </a:lnTo>
                    <a:lnTo>
                      <a:pt x="676" y="62"/>
                    </a:lnTo>
                    <a:lnTo>
                      <a:pt x="682" y="39"/>
                    </a:lnTo>
                    <a:lnTo>
                      <a:pt x="686" y="15"/>
                    </a:lnTo>
                    <a:lnTo>
                      <a:pt x="653" y="0"/>
                    </a:lnTo>
                    <a:close/>
                  </a:path>
                </a:pathLst>
              </a:custGeom>
              <a:blipFill rotWithShape="0">
                <a:blip r:embed="rId10"/>
                <a:srcRect/>
                <a:stretch/>
              </a:blipFill>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166" name="Freeform 135"/>
              <p:cNvSpPr/>
              <p:nvPr/>
            </p:nvSpPr>
            <p:spPr>
              <a:xfrm>
                <a:off x="2321280" y="3237120"/>
                <a:ext cx="264960" cy="261000"/>
              </a:xfrm>
              <a:custGeom>
                <a:avLst/>
                <a:gdLst>
                  <a:gd name="textAreaLeft" fmla="*/ 0 w 264960"/>
                  <a:gd name="textAreaRight" fmla="*/ 265320 w 264960"/>
                  <a:gd name="textAreaTop" fmla="*/ 0 h 261000"/>
                  <a:gd name="textAreaBottom" fmla="*/ 261360 h 261000"/>
                </a:gdLst>
                <a:ahLst/>
                <a:rect l="textAreaLeft" t="textAreaTop" r="textAreaRight" b="textAreaBottom"/>
                <a:pathLst>
                  <a:path w="735" h="780">
                    <a:moveTo>
                      <a:pt x="11" y="97"/>
                    </a:moveTo>
                    <a:lnTo>
                      <a:pt x="40" y="97"/>
                    </a:lnTo>
                    <a:lnTo>
                      <a:pt x="74" y="80"/>
                    </a:lnTo>
                    <a:lnTo>
                      <a:pt x="109" y="60"/>
                    </a:lnTo>
                    <a:lnTo>
                      <a:pt x="130" y="50"/>
                    </a:lnTo>
                    <a:lnTo>
                      <a:pt x="160" y="42"/>
                    </a:lnTo>
                    <a:lnTo>
                      <a:pt x="212" y="42"/>
                    </a:lnTo>
                    <a:lnTo>
                      <a:pt x="245" y="42"/>
                    </a:lnTo>
                    <a:lnTo>
                      <a:pt x="263" y="30"/>
                    </a:lnTo>
                    <a:lnTo>
                      <a:pt x="291" y="26"/>
                    </a:lnTo>
                    <a:lnTo>
                      <a:pt x="304" y="26"/>
                    </a:lnTo>
                    <a:lnTo>
                      <a:pt x="332" y="19"/>
                    </a:lnTo>
                    <a:lnTo>
                      <a:pt x="374" y="11"/>
                    </a:lnTo>
                    <a:lnTo>
                      <a:pt x="408" y="5"/>
                    </a:lnTo>
                    <a:lnTo>
                      <a:pt x="439" y="0"/>
                    </a:lnTo>
                    <a:lnTo>
                      <a:pt x="469" y="5"/>
                    </a:lnTo>
                    <a:lnTo>
                      <a:pt x="502" y="11"/>
                    </a:lnTo>
                    <a:lnTo>
                      <a:pt x="537" y="19"/>
                    </a:lnTo>
                    <a:lnTo>
                      <a:pt x="563" y="30"/>
                    </a:lnTo>
                    <a:lnTo>
                      <a:pt x="612" y="42"/>
                    </a:lnTo>
                    <a:lnTo>
                      <a:pt x="631" y="55"/>
                    </a:lnTo>
                    <a:lnTo>
                      <a:pt x="646" y="66"/>
                    </a:lnTo>
                    <a:lnTo>
                      <a:pt x="673" y="80"/>
                    </a:lnTo>
                    <a:lnTo>
                      <a:pt x="694" y="80"/>
                    </a:lnTo>
                    <a:lnTo>
                      <a:pt x="727" y="80"/>
                    </a:lnTo>
                    <a:lnTo>
                      <a:pt x="735" y="85"/>
                    </a:lnTo>
                    <a:lnTo>
                      <a:pt x="713" y="97"/>
                    </a:lnTo>
                    <a:lnTo>
                      <a:pt x="679" y="121"/>
                    </a:lnTo>
                    <a:lnTo>
                      <a:pt x="673" y="153"/>
                    </a:lnTo>
                    <a:lnTo>
                      <a:pt x="688" y="188"/>
                    </a:lnTo>
                    <a:lnTo>
                      <a:pt x="673" y="217"/>
                    </a:lnTo>
                    <a:lnTo>
                      <a:pt x="679" y="234"/>
                    </a:lnTo>
                    <a:lnTo>
                      <a:pt x="665" y="251"/>
                    </a:lnTo>
                    <a:lnTo>
                      <a:pt x="661" y="282"/>
                    </a:lnTo>
                    <a:lnTo>
                      <a:pt x="646" y="307"/>
                    </a:lnTo>
                    <a:lnTo>
                      <a:pt x="626" y="320"/>
                    </a:lnTo>
                    <a:lnTo>
                      <a:pt x="598" y="333"/>
                    </a:lnTo>
                    <a:lnTo>
                      <a:pt x="598" y="382"/>
                    </a:lnTo>
                    <a:lnTo>
                      <a:pt x="626" y="407"/>
                    </a:lnTo>
                    <a:lnTo>
                      <a:pt x="621" y="434"/>
                    </a:lnTo>
                    <a:lnTo>
                      <a:pt x="621" y="453"/>
                    </a:lnTo>
                    <a:lnTo>
                      <a:pt x="598" y="509"/>
                    </a:lnTo>
                    <a:lnTo>
                      <a:pt x="598" y="539"/>
                    </a:lnTo>
                    <a:lnTo>
                      <a:pt x="585" y="577"/>
                    </a:lnTo>
                    <a:lnTo>
                      <a:pt x="578" y="584"/>
                    </a:lnTo>
                    <a:lnTo>
                      <a:pt x="570" y="619"/>
                    </a:lnTo>
                    <a:lnTo>
                      <a:pt x="549" y="654"/>
                    </a:lnTo>
                    <a:lnTo>
                      <a:pt x="541" y="694"/>
                    </a:lnTo>
                    <a:lnTo>
                      <a:pt x="541" y="712"/>
                    </a:lnTo>
                    <a:lnTo>
                      <a:pt x="537" y="718"/>
                    </a:lnTo>
                    <a:lnTo>
                      <a:pt x="523" y="756"/>
                    </a:lnTo>
                    <a:lnTo>
                      <a:pt x="502" y="767"/>
                    </a:lnTo>
                    <a:lnTo>
                      <a:pt x="482" y="751"/>
                    </a:lnTo>
                    <a:lnTo>
                      <a:pt x="449" y="751"/>
                    </a:lnTo>
                    <a:lnTo>
                      <a:pt x="420" y="736"/>
                    </a:lnTo>
                    <a:lnTo>
                      <a:pt x="394" y="729"/>
                    </a:lnTo>
                    <a:lnTo>
                      <a:pt x="358" y="736"/>
                    </a:lnTo>
                    <a:lnTo>
                      <a:pt x="320" y="736"/>
                    </a:lnTo>
                    <a:lnTo>
                      <a:pt x="276" y="751"/>
                    </a:lnTo>
                    <a:lnTo>
                      <a:pt x="258" y="756"/>
                    </a:lnTo>
                    <a:lnTo>
                      <a:pt x="230" y="756"/>
                    </a:lnTo>
                    <a:lnTo>
                      <a:pt x="224" y="774"/>
                    </a:lnTo>
                    <a:lnTo>
                      <a:pt x="212" y="780"/>
                    </a:lnTo>
                    <a:lnTo>
                      <a:pt x="212" y="756"/>
                    </a:lnTo>
                    <a:lnTo>
                      <a:pt x="196" y="704"/>
                    </a:lnTo>
                    <a:lnTo>
                      <a:pt x="189" y="673"/>
                    </a:lnTo>
                    <a:lnTo>
                      <a:pt x="179" y="633"/>
                    </a:lnTo>
                    <a:lnTo>
                      <a:pt x="170" y="594"/>
                    </a:lnTo>
                    <a:lnTo>
                      <a:pt x="160" y="577"/>
                    </a:lnTo>
                    <a:lnTo>
                      <a:pt x="160" y="552"/>
                    </a:lnTo>
                    <a:lnTo>
                      <a:pt x="155" y="533"/>
                    </a:lnTo>
                    <a:lnTo>
                      <a:pt x="150" y="483"/>
                    </a:lnTo>
                    <a:lnTo>
                      <a:pt x="150" y="466"/>
                    </a:lnTo>
                    <a:lnTo>
                      <a:pt x="155" y="440"/>
                    </a:lnTo>
                    <a:lnTo>
                      <a:pt x="150" y="407"/>
                    </a:lnTo>
                    <a:lnTo>
                      <a:pt x="135" y="375"/>
                    </a:lnTo>
                    <a:lnTo>
                      <a:pt x="122" y="346"/>
                    </a:lnTo>
                    <a:lnTo>
                      <a:pt x="109" y="313"/>
                    </a:lnTo>
                    <a:lnTo>
                      <a:pt x="95" y="301"/>
                    </a:lnTo>
                    <a:lnTo>
                      <a:pt x="68" y="276"/>
                    </a:lnTo>
                    <a:lnTo>
                      <a:pt x="40" y="246"/>
                    </a:lnTo>
                    <a:lnTo>
                      <a:pt x="19" y="217"/>
                    </a:lnTo>
                    <a:lnTo>
                      <a:pt x="6" y="177"/>
                    </a:lnTo>
                    <a:lnTo>
                      <a:pt x="0" y="153"/>
                    </a:lnTo>
                    <a:lnTo>
                      <a:pt x="6" y="121"/>
                    </a:lnTo>
                    <a:lnTo>
                      <a:pt x="6" y="97"/>
                    </a:lnTo>
                    <a:lnTo>
                      <a:pt x="11" y="97"/>
                    </a:lnTo>
                    <a:close/>
                  </a:path>
                </a:pathLst>
              </a:custGeom>
              <a:blipFill rotWithShape="0">
                <a:blip r:embed="rId11"/>
                <a:srcRect/>
                <a:stretch/>
              </a:blipFill>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167" name="Freeform 136"/>
              <p:cNvSpPr/>
              <p:nvPr/>
            </p:nvSpPr>
            <p:spPr>
              <a:xfrm>
                <a:off x="1805400" y="3388320"/>
                <a:ext cx="799200" cy="327600"/>
              </a:xfrm>
              <a:custGeom>
                <a:avLst/>
                <a:gdLst>
                  <a:gd name="textAreaLeft" fmla="*/ 0 w 799200"/>
                  <a:gd name="textAreaRight" fmla="*/ 799560 w 799200"/>
                  <a:gd name="textAreaTop" fmla="*/ 0 h 327600"/>
                  <a:gd name="textAreaBottom" fmla="*/ 327960 h 327600"/>
                </a:gdLst>
                <a:ahLst/>
                <a:rect l="textAreaLeft" t="textAreaTop" r="textAreaRight" b="textAreaBottom"/>
                <a:pathLst>
                  <a:path w="2219" h="979">
                    <a:moveTo>
                      <a:pt x="1498" y="532"/>
                    </a:moveTo>
                    <a:lnTo>
                      <a:pt x="1547" y="490"/>
                    </a:lnTo>
                    <a:lnTo>
                      <a:pt x="1566" y="458"/>
                    </a:lnTo>
                    <a:lnTo>
                      <a:pt x="1580" y="420"/>
                    </a:lnTo>
                    <a:lnTo>
                      <a:pt x="1614" y="375"/>
                    </a:lnTo>
                    <a:lnTo>
                      <a:pt x="1647" y="332"/>
                    </a:lnTo>
                    <a:lnTo>
                      <a:pt x="1661" y="307"/>
                    </a:lnTo>
                    <a:lnTo>
                      <a:pt x="1707" y="307"/>
                    </a:lnTo>
                    <a:lnTo>
                      <a:pt x="1756" y="287"/>
                    </a:lnTo>
                    <a:lnTo>
                      <a:pt x="1805" y="287"/>
                    </a:lnTo>
                    <a:lnTo>
                      <a:pt x="1824" y="287"/>
                    </a:lnTo>
                    <a:lnTo>
                      <a:pt x="1857" y="287"/>
                    </a:lnTo>
                    <a:lnTo>
                      <a:pt x="1892" y="302"/>
                    </a:lnTo>
                    <a:lnTo>
                      <a:pt x="1918" y="307"/>
                    </a:lnTo>
                    <a:lnTo>
                      <a:pt x="1948" y="326"/>
                    </a:lnTo>
                    <a:lnTo>
                      <a:pt x="2000" y="355"/>
                    </a:lnTo>
                    <a:lnTo>
                      <a:pt x="2052" y="379"/>
                    </a:lnTo>
                    <a:lnTo>
                      <a:pt x="2062" y="409"/>
                    </a:lnTo>
                    <a:lnTo>
                      <a:pt x="2110" y="434"/>
                    </a:lnTo>
                    <a:lnTo>
                      <a:pt x="2132" y="453"/>
                    </a:lnTo>
                    <a:lnTo>
                      <a:pt x="2185" y="532"/>
                    </a:lnTo>
                    <a:lnTo>
                      <a:pt x="2197" y="575"/>
                    </a:lnTo>
                    <a:lnTo>
                      <a:pt x="2219" y="618"/>
                    </a:lnTo>
                    <a:lnTo>
                      <a:pt x="2219" y="653"/>
                    </a:lnTo>
                    <a:lnTo>
                      <a:pt x="2110" y="653"/>
                    </a:lnTo>
                    <a:lnTo>
                      <a:pt x="2008" y="668"/>
                    </a:lnTo>
                    <a:lnTo>
                      <a:pt x="1880" y="668"/>
                    </a:lnTo>
                    <a:lnTo>
                      <a:pt x="1811" y="648"/>
                    </a:lnTo>
                    <a:lnTo>
                      <a:pt x="1751" y="637"/>
                    </a:lnTo>
                    <a:lnTo>
                      <a:pt x="1688" y="629"/>
                    </a:lnTo>
                    <a:lnTo>
                      <a:pt x="1643" y="629"/>
                    </a:lnTo>
                    <a:lnTo>
                      <a:pt x="1525" y="648"/>
                    </a:lnTo>
                    <a:lnTo>
                      <a:pt x="1437" y="653"/>
                    </a:lnTo>
                    <a:lnTo>
                      <a:pt x="1360" y="648"/>
                    </a:lnTo>
                    <a:lnTo>
                      <a:pt x="1292" y="629"/>
                    </a:lnTo>
                    <a:lnTo>
                      <a:pt x="1219" y="618"/>
                    </a:lnTo>
                    <a:lnTo>
                      <a:pt x="1123" y="607"/>
                    </a:lnTo>
                    <a:lnTo>
                      <a:pt x="1090" y="629"/>
                    </a:lnTo>
                    <a:lnTo>
                      <a:pt x="1002" y="693"/>
                    </a:lnTo>
                    <a:lnTo>
                      <a:pt x="884" y="721"/>
                    </a:lnTo>
                    <a:lnTo>
                      <a:pt x="798" y="741"/>
                    </a:lnTo>
                    <a:lnTo>
                      <a:pt x="722" y="758"/>
                    </a:lnTo>
                    <a:lnTo>
                      <a:pt x="662" y="784"/>
                    </a:lnTo>
                    <a:lnTo>
                      <a:pt x="588" y="809"/>
                    </a:lnTo>
                    <a:lnTo>
                      <a:pt x="531" y="846"/>
                    </a:lnTo>
                    <a:lnTo>
                      <a:pt x="459" y="906"/>
                    </a:lnTo>
                    <a:lnTo>
                      <a:pt x="387" y="956"/>
                    </a:lnTo>
                    <a:lnTo>
                      <a:pt x="353" y="979"/>
                    </a:lnTo>
                    <a:lnTo>
                      <a:pt x="280" y="956"/>
                    </a:lnTo>
                    <a:lnTo>
                      <a:pt x="220" y="937"/>
                    </a:lnTo>
                    <a:lnTo>
                      <a:pt x="130" y="906"/>
                    </a:lnTo>
                    <a:lnTo>
                      <a:pt x="49" y="881"/>
                    </a:lnTo>
                    <a:lnTo>
                      <a:pt x="42" y="862"/>
                    </a:lnTo>
                    <a:lnTo>
                      <a:pt x="26" y="846"/>
                    </a:lnTo>
                    <a:lnTo>
                      <a:pt x="26" y="821"/>
                    </a:lnTo>
                    <a:lnTo>
                      <a:pt x="26" y="784"/>
                    </a:lnTo>
                    <a:lnTo>
                      <a:pt x="7" y="736"/>
                    </a:lnTo>
                    <a:lnTo>
                      <a:pt x="0" y="710"/>
                    </a:lnTo>
                    <a:lnTo>
                      <a:pt x="0" y="653"/>
                    </a:lnTo>
                    <a:lnTo>
                      <a:pt x="63" y="648"/>
                    </a:lnTo>
                    <a:lnTo>
                      <a:pt x="104" y="629"/>
                    </a:lnTo>
                    <a:lnTo>
                      <a:pt x="163" y="583"/>
                    </a:lnTo>
                    <a:lnTo>
                      <a:pt x="198" y="551"/>
                    </a:lnTo>
                    <a:lnTo>
                      <a:pt x="230" y="507"/>
                    </a:lnTo>
                    <a:lnTo>
                      <a:pt x="253" y="453"/>
                    </a:lnTo>
                    <a:lnTo>
                      <a:pt x="271" y="416"/>
                    </a:lnTo>
                    <a:lnTo>
                      <a:pt x="271" y="375"/>
                    </a:lnTo>
                    <a:lnTo>
                      <a:pt x="280" y="319"/>
                    </a:lnTo>
                    <a:lnTo>
                      <a:pt x="306" y="280"/>
                    </a:lnTo>
                    <a:lnTo>
                      <a:pt x="327" y="255"/>
                    </a:lnTo>
                    <a:lnTo>
                      <a:pt x="387" y="206"/>
                    </a:lnTo>
                    <a:lnTo>
                      <a:pt x="423" y="177"/>
                    </a:lnTo>
                    <a:lnTo>
                      <a:pt x="459" y="141"/>
                    </a:lnTo>
                    <a:lnTo>
                      <a:pt x="470" y="114"/>
                    </a:lnTo>
                    <a:lnTo>
                      <a:pt x="510" y="72"/>
                    </a:lnTo>
                    <a:lnTo>
                      <a:pt x="593" y="47"/>
                    </a:lnTo>
                    <a:lnTo>
                      <a:pt x="634" y="52"/>
                    </a:lnTo>
                    <a:lnTo>
                      <a:pt x="675" y="28"/>
                    </a:lnTo>
                    <a:lnTo>
                      <a:pt x="729" y="23"/>
                    </a:lnTo>
                    <a:lnTo>
                      <a:pt x="762" y="0"/>
                    </a:lnTo>
                    <a:lnTo>
                      <a:pt x="831" y="85"/>
                    </a:lnTo>
                    <a:lnTo>
                      <a:pt x="873" y="145"/>
                    </a:lnTo>
                    <a:lnTo>
                      <a:pt x="927" y="206"/>
                    </a:lnTo>
                    <a:lnTo>
                      <a:pt x="973" y="251"/>
                    </a:lnTo>
                    <a:lnTo>
                      <a:pt x="1055" y="255"/>
                    </a:lnTo>
                    <a:lnTo>
                      <a:pt x="1110" y="269"/>
                    </a:lnTo>
                    <a:lnTo>
                      <a:pt x="1172" y="255"/>
                    </a:lnTo>
                    <a:lnTo>
                      <a:pt x="1238" y="293"/>
                    </a:lnTo>
                    <a:lnTo>
                      <a:pt x="1298" y="332"/>
                    </a:lnTo>
                    <a:lnTo>
                      <a:pt x="1292" y="343"/>
                    </a:lnTo>
                    <a:lnTo>
                      <a:pt x="1313" y="375"/>
                    </a:lnTo>
                    <a:lnTo>
                      <a:pt x="1337" y="375"/>
                    </a:lnTo>
                    <a:lnTo>
                      <a:pt x="1370" y="399"/>
                    </a:lnTo>
                    <a:lnTo>
                      <a:pt x="1408" y="453"/>
                    </a:lnTo>
                    <a:lnTo>
                      <a:pt x="1449" y="483"/>
                    </a:lnTo>
                    <a:lnTo>
                      <a:pt x="1498" y="543"/>
                    </a:lnTo>
                    <a:lnTo>
                      <a:pt x="1498" y="532"/>
                    </a:lnTo>
                    <a:close/>
                  </a:path>
                </a:pathLst>
              </a:custGeom>
              <a:blipFill rotWithShape="0">
                <a:blip r:embed="rId12"/>
                <a:srcRect/>
                <a:stretch/>
              </a:blipFill>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168" name="Freeform 137"/>
              <p:cNvSpPr/>
              <p:nvPr/>
            </p:nvSpPr>
            <p:spPr>
              <a:xfrm>
                <a:off x="2509560" y="3244320"/>
                <a:ext cx="653400" cy="423360"/>
              </a:xfrm>
              <a:custGeom>
                <a:avLst/>
                <a:gdLst>
                  <a:gd name="textAreaLeft" fmla="*/ 0 w 653400"/>
                  <a:gd name="textAreaRight" fmla="*/ 653760 w 653400"/>
                  <a:gd name="textAreaTop" fmla="*/ 0 h 423360"/>
                  <a:gd name="textAreaBottom" fmla="*/ 423720 h 423360"/>
                </a:gdLst>
                <a:ahLst/>
                <a:rect l="textAreaLeft" t="textAreaTop" r="textAreaRight" b="textAreaBottom"/>
                <a:pathLst>
                  <a:path w="1814" h="1263">
                    <a:moveTo>
                      <a:pt x="273" y="1083"/>
                    </a:moveTo>
                    <a:lnTo>
                      <a:pt x="320" y="1067"/>
                    </a:lnTo>
                    <a:lnTo>
                      <a:pt x="471" y="1188"/>
                    </a:lnTo>
                    <a:lnTo>
                      <a:pt x="802" y="1195"/>
                    </a:lnTo>
                    <a:lnTo>
                      <a:pt x="870" y="1213"/>
                    </a:lnTo>
                    <a:lnTo>
                      <a:pt x="850" y="1263"/>
                    </a:lnTo>
                    <a:lnTo>
                      <a:pt x="904" y="1233"/>
                    </a:lnTo>
                    <a:lnTo>
                      <a:pt x="986" y="1238"/>
                    </a:lnTo>
                    <a:lnTo>
                      <a:pt x="1114" y="1188"/>
                    </a:lnTo>
                    <a:lnTo>
                      <a:pt x="1194" y="1133"/>
                    </a:lnTo>
                    <a:lnTo>
                      <a:pt x="1319" y="1128"/>
                    </a:lnTo>
                    <a:lnTo>
                      <a:pt x="1422" y="1054"/>
                    </a:lnTo>
                    <a:lnTo>
                      <a:pt x="1481" y="932"/>
                    </a:lnTo>
                    <a:lnTo>
                      <a:pt x="1538" y="850"/>
                    </a:lnTo>
                    <a:lnTo>
                      <a:pt x="1619" y="778"/>
                    </a:lnTo>
                    <a:lnTo>
                      <a:pt x="1619" y="755"/>
                    </a:lnTo>
                    <a:lnTo>
                      <a:pt x="1735" y="705"/>
                    </a:lnTo>
                    <a:lnTo>
                      <a:pt x="1775" y="674"/>
                    </a:lnTo>
                    <a:lnTo>
                      <a:pt x="1814" y="614"/>
                    </a:lnTo>
                    <a:lnTo>
                      <a:pt x="1809" y="550"/>
                    </a:lnTo>
                    <a:lnTo>
                      <a:pt x="1735" y="509"/>
                    </a:lnTo>
                    <a:lnTo>
                      <a:pt x="1639" y="429"/>
                    </a:lnTo>
                    <a:lnTo>
                      <a:pt x="1578" y="382"/>
                    </a:lnTo>
                    <a:lnTo>
                      <a:pt x="1524" y="276"/>
                    </a:lnTo>
                    <a:lnTo>
                      <a:pt x="1462" y="214"/>
                    </a:lnTo>
                    <a:lnTo>
                      <a:pt x="1382" y="206"/>
                    </a:lnTo>
                    <a:lnTo>
                      <a:pt x="1292" y="41"/>
                    </a:lnTo>
                    <a:lnTo>
                      <a:pt x="1102" y="11"/>
                    </a:lnTo>
                    <a:lnTo>
                      <a:pt x="923" y="7"/>
                    </a:lnTo>
                    <a:lnTo>
                      <a:pt x="797" y="0"/>
                    </a:lnTo>
                    <a:lnTo>
                      <a:pt x="802" y="91"/>
                    </a:lnTo>
                    <a:lnTo>
                      <a:pt x="823" y="201"/>
                    </a:lnTo>
                    <a:lnTo>
                      <a:pt x="807" y="271"/>
                    </a:lnTo>
                    <a:lnTo>
                      <a:pt x="780" y="318"/>
                    </a:lnTo>
                    <a:lnTo>
                      <a:pt x="679" y="326"/>
                    </a:lnTo>
                    <a:lnTo>
                      <a:pt x="620" y="301"/>
                    </a:lnTo>
                    <a:lnTo>
                      <a:pt x="592" y="294"/>
                    </a:lnTo>
                    <a:lnTo>
                      <a:pt x="578" y="263"/>
                    </a:lnTo>
                    <a:lnTo>
                      <a:pt x="628" y="227"/>
                    </a:lnTo>
                    <a:lnTo>
                      <a:pt x="611" y="158"/>
                    </a:lnTo>
                    <a:lnTo>
                      <a:pt x="592" y="109"/>
                    </a:lnTo>
                    <a:lnTo>
                      <a:pt x="552" y="77"/>
                    </a:lnTo>
                    <a:lnTo>
                      <a:pt x="530" y="55"/>
                    </a:lnTo>
                    <a:lnTo>
                      <a:pt x="462" y="41"/>
                    </a:lnTo>
                    <a:lnTo>
                      <a:pt x="408" y="41"/>
                    </a:lnTo>
                    <a:lnTo>
                      <a:pt x="347" y="47"/>
                    </a:lnTo>
                    <a:lnTo>
                      <a:pt x="292" y="55"/>
                    </a:lnTo>
                    <a:lnTo>
                      <a:pt x="231" y="66"/>
                    </a:lnTo>
                    <a:lnTo>
                      <a:pt x="156" y="109"/>
                    </a:lnTo>
                    <a:lnTo>
                      <a:pt x="156" y="151"/>
                    </a:lnTo>
                    <a:lnTo>
                      <a:pt x="156" y="201"/>
                    </a:lnTo>
                    <a:lnTo>
                      <a:pt x="142" y="252"/>
                    </a:lnTo>
                    <a:lnTo>
                      <a:pt x="123" y="276"/>
                    </a:lnTo>
                    <a:lnTo>
                      <a:pt x="75" y="313"/>
                    </a:lnTo>
                    <a:lnTo>
                      <a:pt x="75" y="356"/>
                    </a:lnTo>
                    <a:lnTo>
                      <a:pt x="102" y="374"/>
                    </a:lnTo>
                    <a:lnTo>
                      <a:pt x="98" y="421"/>
                    </a:lnTo>
                    <a:lnTo>
                      <a:pt x="88" y="464"/>
                    </a:lnTo>
                    <a:lnTo>
                      <a:pt x="75" y="509"/>
                    </a:lnTo>
                    <a:lnTo>
                      <a:pt x="75" y="543"/>
                    </a:lnTo>
                    <a:lnTo>
                      <a:pt x="53" y="575"/>
                    </a:lnTo>
                    <a:lnTo>
                      <a:pt x="45" y="614"/>
                    </a:lnTo>
                    <a:lnTo>
                      <a:pt x="26" y="635"/>
                    </a:lnTo>
                    <a:lnTo>
                      <a:pt x="18" y="693"/>
                    </a:lnTo>
                    <a:lnTo>
                      <a:pt x="12" y="710"/>
                    </a:lnTo>
                    <a:lnTo>
                      <a:pt x="0" y="748"/>
                    </a:lnTo>
                    <a:lnTo>
                      <a:pt x="40" y="784"/>
                    </a:lnTo>
                    <a:lnTo>
                      <a:pt x="98" y="809"/>
                    </a:lnTo>
                    <a:lnTo>
                      <a:pt x="108" y="839"/>
                    </a:lnTo>
                    <a:lnTo>
                      <a:pt x="156" y="858"/>
                    </a:lnTo>
                    <a:lnTo>
                      <a:pt x="210" y="937"/>
                    </a:lnTo>
                    <a:lnTo>
                      <a:pt x="243" y="1012"/>
                    </a:lnTo>
                    <a:lnTo>
                      <a:pt x="280" y="1078"/>
                    </a:lnTo>
                    <a:lnTo>
                      <a:pt x="273" y="1083"/>
                    </a:lnTo>
                    <a:close/>
                  </a:path>
                </a:pathLst>
              </a:custGeom>
              <a:blipFill rotWithShape="0">
                <a:blip r:embed="rId13"/>
                <a:srcRect/>
                <a:stretch/>
              </a:blipFill>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169" name="Freeform 138"/>
              <p:cNvSpPr/>
              <p:nvPr/>
            </p:nvSpPr>
            <p:spPr>
              <a:xfrm>
                <a:off x="2547360" y="3147840"/>
                <a:ext cx="259560" cy="205920"/>
              </a:xfrm>
              <a:custGeom>
                <a:avLst/>
                <a:gdLst>
                  <a:gd name="textAreaLeft" fmla="*/ 0 w 259560"/>
                  <a:gd name="textAreaRight" fmla="*/ 259920 w 259560"/>
                  <a:gd name="textAreaTop" fmla="*/ 0 h 205920"/>
                  <a:gd name="textAreaBottom" fmla="*/ 206280 h 205920"/>
                </a:gdLst>
                <a:ahLst/>
                <a:rect l="textAreaLeft" t="textAreaTop" r="textAreaRight" b="textAreaBottom"/>
                <a:pathLst>
                  <a:path w="721" h="615">
                    <a:moveTo>
                      <a:pt x="0" y="25"/>
                    </a:moveTo>
                    <a:lnTo>
                      <a:pt x="34" y="48"/>
                    </a:lnTo>
                    <a:lnTo>
                      <a:pt x="62" y="68"/>
                    </a:lnTo>
                    <a:lnTo>
                      <a:pt x="80" y="103"/>
                    </a:lnTo>
                    <a:lnTo>
                      <a:pt x="108" y="120"/>
                    </a:lnTo>
                    <a:lnTo>
                      <a:pt x="114" y="135"/>
                    </a:lnTo>
                    <a:lnTo>
                      <a:pt x="135" y="141"/>
                    </a:lnTo>
                    <a:lnTo>
                      <a:pt x="141" y="177"/>
                    </a:lnTo>
                    <a:lnTo>
                      <a:pt x="162" y="201"/>
                    </a:lnTo>
                    <a:lnTo>
                      <a:pt x="146" y="213"/>
                    </a:lnTo>
                    <a:lnTo>
                      <a:pt x="154" y="251"/>
                    </a:lnTo>
                    <a:lnTo>
                      <a:pt x="170" y="268"/>
                    </a:lnTo>
                    <a:lnTo>
                      <a:pt x="182" y="287"/>
                    </a:lnTo>
                    <a:lnTo>
                      <a:pt x="190" y="303"/>
                    </a:lnTo>
                    <a:lnTo>
                      <a:pt x="195" y="328"/>
                    </a:lnTo>
                    <a:lnTo>
                      <a:pt x="251" y="334"/>
                    </a:lnTo>
                    <a:lnTo>
                      <a:pt x="285" y="334"/>
                    </a:lnTo>
                    <a:lnTo>
                      <a:pt x="319" y="328"/>
                    </a:lnTo>
                    <a:lnTo>
                      <a:pt x="359" y="328"/>
                    </a:lnTo>
                    <a:lnTo>
                      <a:pt x="392" y="334"/>
                    </a:lnTo>
                    <a:lnTo>
                      <a:pt x="427" y="334"/>
                    </a:lnTo>
                    <a:lnTo>
                      <a:pt x="475" y="389"/>
                    </a:lnTo>
                    <a:lnTo>
                      <a:pt x="494" y="421"/>
                    </a:lnTo>
                    <a:lnTo>
                      <a:pt x="508" y="445"/>
                    </a:lnTo>
                    <a:lnTo>
                      <a:pt x="525" y="509"/>
                    </a:lnTo>
                    <a:lnTo>
                      <a:pt x="482" y="550"/>
                    </a:lnTo>
                    <a:lnTo>
                      <a:pt x="482" y="575"/>
                    </a:lnTo>
                    <a:lnTo>
                      <a:pt x="525" y="588"/>
                    </a:lnTo>
                    <a:lnTo>
                      <a:pt x="576" y="615"/>
                    </a:lnTo>
                    <a:lnTo>
                      <a:pt x="672" y="607"/>
                    </a:lnTo>
                    <a:lnTo>
                      <a:pt x="705" y="558"/>
                    </a:lnTo>
                    <a:lnTo>
                      <a:pt x="721" y="494"/>
                    </a:lnTo>
                    <a:lnTo>
                      <a:pt x="705" y="404"/>
                    </a:lnTo>
                    <a:lnTo>
                      <a:pt x="694" y="328"/>
                    </a:lnTo>
                    <a:lnTo>
                      <a:pt x="684" y="287"/>
                    </a:lnTo>
                    <a:lnTo>
                      <a:pt x="576" y="287"/>
                    </a:lnTo>
                    <a:lnTo>
                      <a:pt x="531" y="258"/>
                    </a:lnTo>
                    <a:lnTo>
                      <a:pt x="468" y="227"/>
                    </a:lnTo>
                    <a:lnTo>
                      <a:pt x="435" y="213"/>
                    </a:lnTo>
                    <a:lnTo>
                      <a:pt x="375" y="103"/>
                    </a:lnTo>
                    <a:lnTo>
                      <a:pt x="359" y="48"/>
                    </a:lnTo>
                    <a:lnTo>
                      <a:pt x="306" y="48"/>
                    </a:lnTo>
                    <a:lnTo>
                      <a:pt x="270" y="48"/>
                    </a:lnTo>
                    <a:lnTo>
                      <a:pt x="257" y="6"/>
                    </a:lnTo>
                    <a:lnTo>
                      <a:pt x="217" y="0"/>
                    </a:lnTo>
                    <a:lnTo>
                      <a:pt x="190" y="11"/>
                    </a:lnTo>
                    <a:lnTo>
                      <a:pt x="146" y="6"/>
                    </a:lnTo>
                    <a:lnTo>
                      <a:pt x="108" y="0"/>
                    </a:lnTo>
                    <a:lnTo>
                      <a:pt x="75" y="11"/>
                    </a:lnTo>
                    <a:lnTo>
                      <a:pt x="29" y="18"/>
                    </a:lnTo>
                    <a:lnTo>
                      <a:pt x="0" y="25"/>
                    </a:lnTo>
                    <a:close/>
                  </a:path>
                </a:pathLst>
              </a:custGeom>
              <a:blipFill rotWithShape="0">
                <a:blip r:embed="rId14"/>
                <a:srcRect/>
                <a:stretch/>
              </a:blipFill>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170" name="Freeform 139"/>
              <p:cNvSpPr/>
              <p:nvPr/>
            </p:nvSpPr>
            <p:spPr>
              <a:xfrm>
                <a:off x="2640240" y="3131640"/>
                <a:ext cx="227160" cy="33840"/>
              </a:xfrm>
              <a:custGeom>
                <a:avLst/>
                <a:gdLst>
                  <a:gd name="textAreaLeft" fmla="*/ 0 w 227160"/>
                  <a:gd name="textAreaRight" fmla="*/ 227520 w 227160"/>
                  <a:gd name="textAreaTop" fmla="*/ 0 h 33840"/>
                  <a:gd name="textAreaBottom" fmla="*/ 34200 h 33840"/>
                </a:gdLst>
                <a:ahLst/>
                <a:rect l="textAreaLeft" t="textAreaTop" r="textAreaRight" b="textAreaBottom"/>
                <a:pathLst>
                  <a:path w="630" h="104">
                    <a:moveTo>
                      <a:pt x="0" y="55"/>
                    </a:moveTo>
                    <a:lnTo>
                      <a:pt x="12" y="96"/>
                    </a:lnTo>
                    <a:lnTo>
                      <a:pt x="38" y="96"/>
                    </a:lnTo>
                    <a:lnTo>
                      <a:pt x="74" y="96"/>
                    </a:lnTo>
                    <a:lnTo>
                      <a:pt x="101" y="96"/>
                    </a:lnTo>
                    <a:lnTo>
                      <a:pt x="311" y="104"/>
                    </a:lnTo>
                    <a:lnTo>
                      <a:pt x="351" y="72"/>
                    </a:lnTo>
                    <a:lnTo>
                      <a:pt x="408" y="40"/>
                    </a:lnTo>
                    <a:lnTo>
                      <a:pt x="630" y="40"/>
                    </a:lnTo>
                    <a:lnTo>
                      <a:pt x="630" y="0"/>
                    </a:lnTo>
                    <a:lnTo>
                      <a:pt x="388" y="0"/>
                    </a:lnTo>
                    <a:lnTo>
                      <a:pt x="206" y="0"/>
                    </a:lnTo>
                    <a:lnTo>
                      <a:pt x="157" y="10"/>
                    </a:lnTo>
                    <a:lnTo>
                      <a:pt x="101" y="17"/>
                    </a:lnTo>
                    <a:lnTo>
                      <a:pt x="38" y="40"/>
                    </a:lnTo>
                    <a:lnTo>
                      <a:pt x="0" y="55"/>
                    </a:lnTo>
                    <a:close/>
                  </a:path>
                </a:pathLst>
              </a:custGeom>
              <a:solidFill>
                <a:srgbClr val="ffff00"/>
              </a:solidFill>
              <a:ln w="0">
                <a:solidFill>
                  <a:srgbClr val="000000"/>
                </a:solidFill>
              </a:ln>
            </p:spPr>
            <p:style>
              <a:lnRef idx="0"/>
              <a:fillRef idx="0"/>
              <a:effectRef idx="0"/>
              <a:fontRef idx="minor"/>
            </p:style>
            <p:txBody>
              <a:bodyPr lIns="90000" rIns="90000" tIns="-12600" bIns="-12600" anchor="t">
                <a:noAutofit/>
              </a:bodyPr>
              <a:p>
                <a:endParaRPr b="1" lang="en-US" sz="1800" spc="-1" strike="noStrike">
                  <a:solidFill>
                    <a:srgbClr val="ffffff"/>
                  </a:solidFill>
                  <a:latin typeface="Castellar"/>
                </a:endParaRPr>
              </a:p>
            </p:txBody>
          </p:sp>
          <p:sp>
            <p:nvSpPr>
              <p:cNvPr id="171" name="Freeform 140"/>
              <p:cNvSpPr/>
              <p:nvPr/>
            </p:nvSpPr>
            <p:spPr>
              <a:xfrm>
                <a:off x="2676240" y="3131640"/>
                <a:ext cx="362880" cy="126360"/>
              </a:xfrm>
              <a:custGeom>
                <a:avLst/>
                <a:gdLst>
                  <a:gd name="textAreaLeft" fmla="*/ 0 w 362880"/>
                  <a:gd name="textAreaRight" fmla="*/ 363240 w 362880"/>
                  <a:gd name="textAreaTop" fmla="*/ 0 h 126360"/>
                  <a:gd name="textAreaBottom" fmla="*/ 126720 h 126360"/>
                </a:gdLst>
                <a:ahLst/>
                <a:rect l="textAreaLeft" t="textAreaTop" r="textAreaRight" b="textAreaBottom"/>
                <a:pathLst>
                  <a:path w="1007" h="378">
                    <a:moveTo>
                      <a:pt x="529" y="0"/>
                    </a:moveTo>
                    <a:lnTo>
                      <a:pt x="529" y="50"/>
                    </a:lnTo>
                    <a:lnTo>
                      <a:pt x="307" y="42"/>
                    </a:lnTo>
                    <a:lnTo>
                      <a:pt x="209" y="105"/>
                    </a:lnTo>
                    <a:lnTo>
                      <a:pt x="0" y="105"/>
                    </a:lnTo>
                    <a:lnTo>
                      <a:pt x="9" y="149"/>
                    </a:lnTo>
                    <a:lnTo>
                      <a:pt x="68" y="257"/>
                    </a:lnTo>
                    <a:lnTo>
                      <a:pt x="149" y="295"/>
                    </a:lnTo>
                    <a:lnTo>
                      <a:pt x="217" y="336"/>
                    </a:lnTo>
                    <a:lnTo>
                      <a:pt x="272" y="336"/>
                    </a:lnTo>
                    <a:lnTo>
                      <a:pt x="334" y="336"/>
                    </a:lnTo>
                    <a:lnTo>
                      <a:pt x="361" y="336"/>
                    </a:lnTo>
                    <a:lnTo>
                      <a:pt x="415" y="336"/>
                    </a:lnTo>
                    <a:lnTo>
                      <a:pt x="485" y="343"/>
                    </a:lnTo>
                    <a:lnTo>
                      <a:pt x="523" y="348"/>
                    </a:lnTo>
                    <a:lnTo>
                      <a:pt x="574" y="348"/>
                    </a:lnTo>
                    <a:lnTo>
                      <a:pt x="612" y="348"/>
                    </a:lnTo>
                    <a:lnTo>
                      <a:pt x="653" y="348"/>
                    </a:lnTo>
                    <a:lnTo>
                      <a:pt x="790" y="374"/>
                    </a:lnTo>
                    <a:lnTo>
                      <a:pt x="830" y="378"/>
                    </a:lnTo>
                    <a:lnTo>
                      <a:pt x="883" y="374"/>
                    </a:lnTo>
                    <a:lnTo>
                      <a:pt x="910" y="328"/>
                    </a:lnTo>
                    <a:lnTo>
                      <a:pt x="1007" y="263"/>
                    </a:lnTo>
                    <a:lnTo>
                      <a:pt x="967" y="251"/>
                    </a:lnTo>
                    <a:lnTo>
                      <a:pt x="920" y="230"/>
                    </a:lnTo>
                    <a:lnTo>
                      <a:pt x="871" y="200"/>
                    </a:lnTo>
                    <a:lnTo>
                      <a:pt x="843" y="184"/>
                    </a:lnTo>
                    <a:lnTo>
                      <a:pt x="802" y="160"/>
                    </a:lnTo>
                    <a:lnTo>
                      <a:pt x="749" y="128"/>
                    </a:lnTo>
                    <a:lnTo>
                      <a:pt x="694" y="78"/>
                    </a:lnTo>
                    <a:lnTo>
                      <a:pt x="673" y="57"/>
                    </a:lnTo>
                    <a:lnTo>
                      <a:pt x="681" y="50"/>
                    </a:lnTo>
                    <a:lnTo>
                      <a:pt x="681" y="36"/>
                    </a:lnTo>
                    <a:lnTo>
                      <a:pt x="653" y="27"/>
                    </a:lnTo>
                    <a:lnTo>
                      <a:pt x="620" y="27"/>
                    </a:lnTo>
                    <a:lnTo>
                      <a:pt x="586" y="10"/>
                    </a:lnTo>
                    <a:lnTo>
                      <a:pt x="558" y="5"/>
                    </a:lnTo>
                    <a:lnTo>
                      <a:pt x="529" y="0"/>
                    </a:lnTo>
                    <a:close/>
                  </a:path>
                </a:pathLst>
              </a:custGeom>
              <a:blipFill rotWithShape="0">
                <a:blip r:embed="rId15"/>
                <a:srcRect/>
                <a:stretch/>
              </a:blipFill>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172" name="Freeform 141"/>
              <p:cNvSpPr/>
              <p:nvPr/>
            </p:nvSpPr>
            <p:spPr>
              <a:xfrm>
                <a:off x="2976120" y="3184920"/>
                <a:ext cx="620640" cy="463320"/>
              </a:xfrm>
              <a:custGeom>
                <a:avLst/>
                <a:gdLst>
                  <a:gd name="textAreaLeft" fmla="*/ 0 w 620640"/>
                  <a:gd name="textAreaRight" fmla="*/ 621000 w 620640"/>
                  <a:gd name="textAreaTop" fmla="*/ 0 h 463320"/>
                  <a:gd name="textAreaBottom" fmla="*/ 463680 h 463320"/>
                </a:gdLst>
                <a:ahLst/>
                <a:rect l="textAreaLeft" t="textAreaTop" r="textAreaRight" b="textAreaBottom"/>
                <a:pathLst>
                  <a:path w="1723" h="1384">
                    <a:moveTo>
                      <a:pt x="179" y="110"/>
                    </a:moveTo>
                    <a:lnTo>
                      <a:pt x="275" y="96"/>
                    </a:lnTo>
                    <a:lnTo>
                      <a:pt x="361" y="85"/>
                    </a:lnTo>
                    <a:lnTo>
                      <a:pt x="434" y="91"/>
                    </a:lnTo>
                    <a:lnTo>
                      <a:pt x="511" y="85"/>
                    </a:lnTo>
                    <a:lnTo>
                      <a:pt x="585" y="85"/>
                    </a:lnTo>
                    <a:lnTo>
                      <a:pt x="647" y="67"/>
                    </a:lnTo>
                    <a:lnTo>
                      <a:pt x="710" y="40"/>
                    </a:lnTo>
                    <a:lnTo>
                      <a:pt x="751" y="17"/>
                    </a:lnTo>
                    <a:lnTo>
                      <a:pt x="777" y="0"/>
                    </a:lnTo>
                    <a:lnTo>
                      <a:pt x="784" y="24"/>
                    </a:lnTo>
                    <a:lnTo>
                      <a:pt x="863" y="140"/>
                    </a:lnTo>
                    <a:lnTo>
                      <a:pt x="1043" y="140"/>
                    </a:lnTo>
                    <a:lnTo>
                      <a:pt x="1053" y="254"/>
                    </a:lnTo>
                    <a:lnTo>
                      <a:pt x="1076" y="360"/>
                    </a:lnTo>
                    <a:lnTo>
                      <a:pt x="1053" y="478"/>
                    </a:lnTo>
                    <a:lnTo>
                      <a:pt x="1076" y="598"/>
                    </a:lnTo>
                    <a:lnTo>
                      <a:pt x="1226" y="679"/>
                    </a:lnTo>
                    <a:lnTo>
                      <a:pt x="1389" y="773"/>
                    </a:lnTo>
                    <a:lnTo>
                      <a:pt x="1409" y="857"/>
                    </a:lnTo>
                    <a:lnTo>
                      <a:pt x="1612" y="909"/>
                    </a:lnTo>
                    <a:lnTo>
                      <a:pt x="1723" y="1027"/>
                    </a:lnTo>
                    <a:lnTo>
                      <a:pt x="1607" y="1035"/>
                    </a:lnTo>
                    <a:lnTo>
                      <a:pt x="1538" y="1040"/>
                    </a:lnTo>
                    <a:lnTo>
                      <a:pt x="1435" y="1059"/>
                    </a:lnTo>
                    <a:lnTo>
                      <a:pt x="1355" y="1082"/>
                    </a:lnTo>
                    <a:lnTo>
                      <a:pt x="1273" y="1109"/>
                    </a:lnTo>
                    <a:lnTo>
                      <a:pt x="1192" y="1133"/>
                    </a:lnTo>
                    <a:lnTo>
                      <a:pt x="1130" y="1143"/>
                    </a:lnTo>
                    <a:lnTo>
                      <a:pt x="1063" y="1169"/>
                    </a:lnTo>
                    <a:lnTo>
                      <a:pt x="992" y="1189"/>
                    </a:lnTo>
                    <a:lnTo>
                      <a:pt x="933" y="1231"/>
                    </a:lnTo>
                    <a:lnTo>
                      <a:pt x="818" y="1199"/>
                    </a:lnTo>
                    <a:lnTo>
                      <a:pt x="710" y="1231"/>
                    </a:lnTo>
                    <a:lnTo>
                      <a:pt x="665" y="1316"/>
                    </a:lnTo>
                    <a:lnTo>
                      <a:pt x="523" y="1384"/>
                    </a:lnTo>
                    <a:lnTo>
                      <a:pt x="399" y="1310"/>
                    </a:lnTo>
                    <a:lnTo>
                      <a:pt x="342" y="1316"/>
                    </a:lnTo>
                    <a:lnTo>
                      <a:pt x="246" y="1310"/>
                    </a:lnTo>
                    <a:lnTo>
                      <a:pt x="214" y="1322"/>
                    </a:lnTo>
                    <a:lnTo>
                      <a:pt x="165" y="1316"/>
                    </a:lnTo>
                    <a:lnTo>
                      <a:pt x="138" y="1316"/>
                    </a:lnTo>
                    <a:lnTo>
                      <a:pt x="90" y="1310"/>
                    </a:lnTo>
                    <a:lnTo>
                      <a:pt x="28" y="1310"/>
                    </a:lnTo>
                    <a:lnTo>
                      <a:pt x="138" y="1231"/>
                    </a:lnTo>
                    <a:lnTo>
                      <a:pt x="214" y="1082"/>
                    </a:lnTo>
                    <a:lnTo>
                      <a:pt x="251" y="1027"/>
                    </a:lnTo>
                    <a:lnTo>
                      <a:pt x="293" y="986"/>
                    </a:lnTo>
                    <a:lnTo>
                      <a:pt x="328" y="961"/>
                    </a:lnTo>
                    <a:lnTo>
                      <a:pt x="342" y="925"/>
                    </a:lnTo>
                    <a:lnTo>
                      <a:pt x="449" y="870"/>
                    </a:lnTo>
                    <a:lnTo>
                      <a:pt x="483" y="844"/>
                    </a:lnTo>
                    <a:lnTo>
                      <a:pt x="517" y="812"/>
                    </a:lnTo>
                    <a:lnTo>
                      <a:pt x="517" y="791"/>
                    </a:lnTo>
                    <a:lnTo>
                      <a:pt x="517" y="734"/>
                    </a:lnTo>
                    <a:lnTo>
                      <a:pt x="461" y="691"/>
                    </a:lnTo>
                    <a:lnTo>
                      <a:pt x="416" y="659"/>
                    </a:lnTo>
                    <a:lnTo>
                      <a:pt x="361" y="610"/>
                    </a:lnTo>
                    <a:lnTo>
                      <a:pt x="321" y="587"/>
                    </a:lnTo>
                    <a:lnTo>
                      <a:pt x="293" y="551"/>
                    </a:lnTo>
                    <a:lnTo>
                      <a:pt x="246" y="459"/>
                    </a:lnTo>
                    <a:lnTo>
                      <a:pt x="165" y="391"/>
                    </a:lnTo>
                    <a:lnTo>
                      <a:pt x="90" y="383"/>
                    </a:lnTo>
                    <a:lnTo>
                      <a:pt x="0" y="218"/>
                    </a:lnTo>
                    <a:lnTo>
                      <a:pt x="63" y="213"/>
                    </a:lnTo>
                    <a:lnTo>
                      <a:pt x="81" y="169"/>
                    </a:lnTo>
                    <a:lnTo>
                      <a:pt x="179" y="110"/>
                    </a:lnTo>
                    <a:close/>
                  </a:path>
                </a:pathLst>
              </a:custGeom>
              <a:blipFill rotWithShape="0">
                <a:blip r:embed="rId16"/>
                <a:srcRect/>
                <a:stretch/>
              </a:blipFill>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173" name="Freeform 142"/>
              <p:cNvSpPr/>
              <p:nvPr/>
            </p:nvSpPr>
            <p:spPr>
              <a:xfrm>
                <a:off x="3351240" y="3189960"/>
                <a:ext cx="420480" cy="340560"/>
              </a:xfrm>
              <a:custGeom>
                <a:avLst/>
                <a:gdLst>
                  <a:gd name="textAreaLeft" fmla="*/ 0 w 420480"/>
                  <a:gd name="textAreaRight" fmla="*/ 420840 w 420480"/>
                  <a:gd name="textAreaTop" fmla="*/ 0 h 340560"/>
                  <a:gd name="textAreaBottom" fmla="*/ 340920 h 340560"/>
                </a:gdLst>
                <a:ahLst/>
                <a:rect l="textAreaLeft" t="textAreaTop" r="textAreaRight" b="textAreaBottom"/>
                <a:pathLst>
                  <a:path w="1169" h="1017">
                    <a:moveTo>
                      <a:pt x="868" y="140"/>
                    </a:moveTo>
                    <a:lnTo>
                      <a:pt x="863" y="135"/>
                    </a:lnTo>
                    <a:lnTo>
                      <a:pt x="863" y="129"/>
                    </a:lnTo>
                    <a:lnTo>
                      <a:pt x="841" y="123"/>
                    </a:lnTo>
                    <a:lnTo>
                      <a:pt x="841" y="118"/>
                    </a:lnTo>
                    <a:lnTo>
                      <a:pt x="833" y="105"/>
                    </a:lnTo>
                    <a:lnTo>
                      <a:pt x="718" y="140"/>
                    </a:lnTo>
                    <a:lnTo>
                      <a:pt x="576" y="92"/>
                    </a:lnTo>
                    <a:lnTo>
                      <a:pt x="481" y="61"/>
                    </a:lnTo>
                    <a:lnTo>
                      <a:pt x="407" y="32"/>
                    </a:lnTo>
                    <a:lnTo>
                      <a:pt x="373" y="23"/>
                    </a:lnTo>
                    <a:lnTo>
                      <a:pt x="283" y="0"/>
                    </a:lnTo>
                    <a:lnTo>
                      <a:pt x="154" y="123"/>
                    </a:lnTo>
                    <a:lnTo>
                      <a:pt x="0" y="123"/>
                    </a:lnTo>
                    <a:lnTo>
                      <a:pt x="5" y="190"/>
                    </a:lnTo>
                    <a:lnTo>
                      <a:pt x="19" y="261"/>
                    </a:lnTo>
                    <a:lnTo>
                      <a:pt x="33" y="337"/>
                    </a:lnTo>
                    <a:lnTo>
                      <a:pt x="19" y="416"/>
                    </a:lnTo>
                    <a:lnTo>
                      <a:pt x="10" y="461"/>
                    </a:lnTo>
                    <a:lnTo>
                      <a:pt x="33" y="581"/>
                    </a:lnTo>
                    <a:lnTo>
                      <a:pt x="170" y="655"/>
                    </a:lnTo>
                    <a:lnTo>
                      <a:pt x="345" y="755"/>
                    </a:lnTo>
                    <a:lnTo>
                      <a:pt x="365" y="840"/>
                    </a:lnTo>
                    <a:lnTo>
                      <a:pt x="568" y="891"/>
                    </a:lnTo>
                    <a:lnTo>
                      <a:pt x="680" y="1009"/>
                    </a:lnTo>
                    <a:lnTo>
                      <a:pt x="734" y="1017"/>
                    </a:lnTo>
                    <a:lnTo>
                      <a:pt x="766" y="1017"/>
                    </a:lnTo>
                    <a:lnTo>
                      <a:pt x="833" y="975"/>
                    </a:lnTo>
                    <a:lnTo>
                      <a:pt x="882" y="944"/>
                    </a:lnTo>
                    <a:lnTo>
                      <a:pt x="945" y="921"/>
                    </a:lnTo>
                    <a:lnTo>
                      <a:pt x="1027" y="864"/>
                    </a:lnTo>
                    <a:lnTo>
                      <a:pt x="1066" y="827"/>
                    </a:lnTo>
                    <a:lnTo>
                      <a:pt x="1115" y="814"/>
                    </a:lnTo>
                    <a:lnTo>
                      <a:pt x="1156" y="794"/>
                    </a:lnTo>
                    <a:lnTo>
                      <a:pt x="1169" y="784"/>
                    </a:lnTo>
                    <a:lnTo>
                      <a:pt x="1169" y="734"/>
                    </a:lnTo>
                    <a:lnTo>
                      <a:pt x="1144" y="724"/>
                    </a:lnTo>
                    <a:lnTo>
                      <a:pt x="1099" y="717"/>
                    </a:lnTo>
                    <a:lnTo>
                      <a:pt x="1027" y="673"/>
                    </a:lnTo>
                    <a:lnTo>
                      <a:pt x="965" y="593"/>
                    </a:lnTo>
                    <a:lnTo>
                      <a:pt x="896" y="509"/>
                    </a:lnTo>
                    <a:lnTo>
                      <a:pt x="875" y="398"/>
                    </a:lnTo>
                    <a:lnTo>
                      <a:pt x="868" y="304"/>
                    </a:lnTo>
                    <a:lnTo>
                      <a:pt x="868" y="170"/>
                    </a:lnTo>
                    <a:lnTo>
                      <a:pt x="868" y="140"/>
                    </a:lnTo>
                    <a:close/>
                  </a:path>
                </a:pathLst>
              </a:custGeom>
              <a:blipFill rotWithShape="0">
                <a:blip r:embed="rId17"/>
                <a:srcRect/>
                <a:stretch/>
              </a:blipFill>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174" name="Freeform 143"/>
              <p:cNvSpPr/>
              <p:nvPr/>
            </p:nvSpPr>
            <p:spPr>
              <a:xfrm>
                <a:off x="3627000" y="3225960"/>
                <a:ext cx="608040" cy="408240"/>
              </a:xfrm>
              <a:custGeom>
                <a:avLst/>
                <a:gdLst>
                  <a:gd name="textAreaLeft" fmla="*/ 0 w 608040"/>
                  <a:gd name="textAreaRight" fmla="*/ 608400 w 608040"/>
                  <a:gd name="textAreaTop" fmla="*/ 0 h 408240"/>
                  <a:gd name="textAreaBottom" fmla="*/ 408600 h 408240"/>
                </a:gdLst>
                <a:ahLst/>
                <a:rect l="textAreaLeft" t="textAreaTop" r="textAreaRight" b="textAreaBottom"/>
                <a:pathLst>
                  <a:path w="1688" h="1219">
                    <a:moveTo>
                      <a:pt x="102" y="34"/>
                    </a:moveTo>
                    <a:lnTo>
                      <a:pt x="192" y="45"/>
                    </a:lnTo>
                    <a:lnTo>
                      <a:pt x="254" y="53"/>
                    </a:lnTo>
                    <a:lnTo>
                      <a:pt x="328" y="0"/>
                    </a:lnTo>
                    <a:lnTo>
                      <a:pt x="383" y="64"/>
                    </a:lnTo>
                    <a:lnTo>
                      <a:pt x="431" y="116"/>
                    </a:lnTo>
                    <a:lnTo>
                      <a:pt x="463" y="131"/>
                    </a:lnTo>
                    <a:lnTo>
                      <a:pt x="580" y="116"/>
                    </a:lnTo>
                    <a:lnTo>
                      <a:pt x="715" y="177"/>
                    </a:lnTo>
                    <a:lnTo>
                      <a:pt x="824" y="205"/>
                    </a:lnTo>
                    <a:lnTo>
                      <a:pt x="927" y="237"/>
                    </a:lnTo>
                    <a:lnTo>
                      <a:pt x="959" y="237"/>
                    </a:lnTo>
                    <a:lnTo>
                      <a:pt x="1016" y="292"/>
                    </a:lnTo>
                    <a:lnTo>
                      <a:pt x="1042" y="390"/>
                    </a:lnTo>
                    <a:lnTo>
                      <a:pt x="1049" y="442"/>
                    </a:lnTo>
                    <a:lnTo>
                      <a:pt x="1104" y="451"/>
                    </a:lnTo>
                    <a:lnTo>
                      <a:pt x="1137" y="530"/>
                    </a:lnTo>
                    <a:lnTo>
                      <a:pt x="1171" y="634"/>
                    </a:lnTo>
                    <a:lnTo>
                      <a:pt x="1184" y="685"/>
                    </a:lnTo>
                    <a:lnTo>
                      <a:pt x="1238" y="746"/>
                    </a:lnTo>
                    <a:lnTo>
                      <a:pt x="1351" y="763"/>
                    </a:lnTo>
                    <a:lnTo>
                      <a:pt x="1476" y="763"/>
                    </a:lnTo>
                    <a:lnTo>
                      <a:pt x="1546" y="858"/>
                    </a:lnTo>
                    <a:lnTo>
                      <a:pt x="1627" y="882"/>
                    </a:lnTo>
                    <a:lnTo>
                      <a:pt x="1688" y="966"/>
                    </a:lnTo>
                    <a:lnTo>
                      <a:pt x="1652" y="966"/>
                    </a:lnTo>
                    <a:lnTo>
                      <a:pt x="1525" y="1076"/>
                    </a:lnTo>
                    <a:lnTo>
                      <a:pt x="1382" y="1158"/>
                    </a:lnTo>
                    <a:lnTo>
                      <a:pt x="1246" y="1219"/>
                    </a:lnTo>
                    <a:lnTo>
                      <a:pt x="1171" y="1205"/>
                    </a:lnTo>
                    <a:lnTo>
                      <a:pt x="1116" y="1169"/>
                    </a:lnTo>
                    <a:lnTo>
                      <a:pt x="936" y="1112"/>
                    </a:lnTo>
                    <a:lnTo>
                      <a:pt x="838" y="1090"/>
                    </a:lnTo>
                    <a:lnTo>
                      <a:pt x="736" y="1076"/>
                    </a:lnTo>
                    <a:lnTo>
                      <a:pt x="723" y="1081"/>
                    </a:lnTo>
                    <a:lnTo>
                      <a:pt x="674" y="1047"/>
                    </a:lnTo>
                    <a:lnTo>
                      <a:pt x="613" y="1015"/>
                    </a:lnTo>
                    <a:lnTo>
                      <a:pt x="490" y="985"/>
                    </a:lnTo>
                    <a:lnTo>
                      <a:pt x="368" y="929"/>
                    </a:lnTo>
                    <a:lnTo>
                      <a:pt x="328" y="923"/>
                    </a:lnTo>
                    <a:lnTo>
                      <a:pt x="260" y="917"/>
                    </a:lnTo>
                    <a:lnTo>
                      <a:pt x="0" y="917"/>
                    </a:lnTo>
                    <a:lnTo>
                      <a:pt x="110" y="839"/>
                    </a:lnTo>
                    <a:lnTo>
                      <a:pt x="185" y="819"/>
                    </a:lnTo>
                    <a:lnTo>
                      <a:pt x="266" y="738"/>
                    </a:lnTo>
                    <a:lnTo>
                      <a:pt x="316" y="715"/>
                    </a:lnTo>
                    <a:lnTo>
                      <a:pt x="383" y="702"/>
                    </a:lnTo>
                    <a:lnTo>
                      <a:pt x="411" y="679"/>
                    </a:lnTo>
                    <a:lnTo>
                      <a:pt x="411" y="624"/>
                    </a:lnTo>
                    <a:lnTo>
                      <a:pt x="383" y="618"/>
                    </a:lnTo>
                    <a:lnTo>
                      <a:pt x="333" y="611"/>
                    </a:lnTo>
                    <a:lnTo>
                      <a:pt x="266" y="568"/>
                    </a:lnTo>
                    <a:lnTo>
                      <a:pt x="138" y="403"/>
                    </a:lnTo>
                    <a:lnTo>
                      <a:pt x="122" y="325"/>
                    </a:lnTo>
                    <a:lnTo>
                      <a:pt x="102" y="244"/>
                    </a:lnTo>
                    <a:lnTo>
                      <a:pt x="102" y="116"/>
                    </a:lnTo>
                    <a:lnTo>
                      <a:pt x="102" y="34"/>
                    </a:lnTo>
                    <a:close/>
                  </a:path>
                </a:pathLst>
              </a:custGeom>
              <a:blipFill rotWithShape="0">
                <a:blip r:embed="rId18"/>
                <a:srcRect/>
                <a:stretch/>
              </a:blipFill>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175" name="Freeform 144"/>
              <p:cNvSpPr/>
              <p:nvPr/>
            </p:nvSpPr>
            <p:spPr>
              <a:xfrm>
                <a:off x="3265560" y="3024360"/>
                <a:ext cx="128880" cy="64800"/>
              </a:xfrm>
              <a:custGeom>
                <a:avLst/>
                <a:gdLst>
                  <a:gd name="textAreaLeft" fmla="*/ 0 w 128880"/>
                  <a:gd name="textAreaRight" fmla="*/ 129240 w 128880"/>
                  <a:gd name="textAreaTop" fmla="*/ 0 h 64800"/>
                  <a:gd name="textAreaBottom" fmla="*/ 65160 h 64800"/>
                </a:gdLst>
                <a:ahLst/>
                <a:rect l="textAreaLeft" t="textAreaTop" r="textAreaRight" b="textAreaBottom"/>
                <a:pathLst>
                  <a:path w="356" h="195">
                    <a:moveTo>
                      <a:pt x="123" y="166"/>
                    </a:moveTo>
                    <a:lnTo>
                      <a:pt x="131" y="176"/>
                    </a:lnTo>
                    <a:lnTo>
                      <a:pt x="151" y="190"/>
                    </a:lnTo>
                    <a:lnTo>
                      <a:pt x="171" y="195"/>
                    </a:lnTo>
                    <a:lnTo>
                      <a:pt x="192" y="195"/>
                    </a:lnTo>
                    <a:lnTo>
                      <a:pt x="205" y="195"/>
                    </a:lnTo>
                    <a:lnTo>
                      <a:pt x="219" y="176"/>
                    </a:lnTo>
                    <a:lnTo>
                      <a:pt x="245" y="166"/>
                    </a:lnTo>
                    <a:lnTo>
                      <a:pt x="261" y="159"/>
                    </a:lnTo>
                    <a:lnTo>
                      <a:pt x="267" y="166"/>
                    </a:lnTo>
                    <a:lnTo>
                      <a:pt x="273" y="171"/>
                    </a:lnTo>
                    <a:lnTo>
                      <a:pt x="281" y="171"/>
                    </a:lnTo>
                    <a:lnTo>
                      <a:pt x="302" y="166"/>
                    </a:lnTo>
                    <a:lnTo>
                      <a:pt x="316" y="140"/>
                    </a:lnTo>
                    <a:lnTo>
                      <a:pt x="329" y="128"/>
                    </a:lnTo>
                    <a:lnTo>
                      <a:pt x="349" y="109"/>
                    </a:lnTo>
                    <a:lnTo>
                      <a:pt x="356" y="92"/>
                    </a:lnTo>
                    <a:lnTo>
                      <a:pt x="349" y="66"/>
                    </a:lnTo>
                    <a:lnTo>
                      <a:pt x="343" y="43"/>
                    </a:lnTo>
                    <a:lnTo>
                      <a:pt x="335" y="16"/>
                    </a:lnTo>
                    <a:lnTo>
                      <a:pt x="329" y="11"/>
                    </a:lnTo>
                    <a:lnTo>
                      <a:pt x="329" y="0"/>
                    </a:lnTo>
                    <a:lnTo>
                      <a:pt x="302" y="0"/>
                    </a:lnTo>
                    <a:lnTo>
                      <a:pt x="288" y="11"/>
                    </a:lnTo>
                    <a:lnTo>
                      <a:pt x="267" y="16"/>
                    </a:lnTo>
                    <a:lnTo>
                      <a:pt x="245" y="43"/>
                    </a:lnTo>
                    <a:lnTo>
                      <a:pt x="213" y="55"/>
                    </a:lnTo>
                    <a:lnTo>
                      <a:pt x="192" y="73"/>
                    </a:lnTo>
                    <a:lnTo>
                      <a:pt x="178" y="92"/>
                    </a:lnTo>
                    <a:lnTo>
                      <a:pt x="166" y="109"/>
                    </a:lnTo>
                    <a:lnTo>
                      <a:pt x="145" y="128"/>
                    </a:lnTo>
                    <a:lnTo>
                      <a:pt x="137" y="140"/>
                    </a:lnTo>
                    <a:lnTo>
                      <a:pt x="115" y="140"/>
                    </a:lnTo>
                    <a:lnTo>
                      <a:pt x="96" y="140"/>
                    </a:lnTo>
                    <a:lnTo>
                      <a:pt x="90" y="140"/>
                    </a:lnTo>
                    <a:lnTo>
                      <a:pt x="70" y="122"/>
                    </a:lnTo>
                    <a:lnTo>
                      <a:pt x="62" y="115"/>
                    </a:lnTo>
                    <a:lnTo>
                      <a:pt x="49" y="115"/>
                    </a:lnTo>
                    <a:lnTo>
                      <a:pt x="28" y="122"/>
                    </a:lnTo>
                    <a:lnTo>
                      <a:pt x="22" y="115"/>
                    </a:lnTo>
                    <a:lnTo>
                      <a:pt x="8" y="128"/>
                    </a:lnTo>
                    <a:lnTo>
                      <a:pt x="8" y="140"/>
                    </a:lnTo>
                    <a:lnTo>
                      <a:pt x="0" y="140"/>
                    </a:lnTo>
                    <a:lnTo>
                      <a:pt x="0" y="159"/>
                    </a:lnTo>
                    <a:lnTo>
                      <a:pt x="8" y="171"/>
                    </a:lnTo>
                    <a:lnTo>
                      <a:pt x="28" y="171"/>
                    </a:lnTo>
                    <a:lnTo>
                      <a:pt x="55" y="171"/>
                    </a:lnTo>
                    <a:lnTo>
                      <a:pt x="76" y="166"/>
                    </a:lnTo>
                    <a:lnTo>
                      <a:pt x="90" y="166"/>
                    </a:lnTo>
                    <a:lnTo>
                      <a:pt x="96" y="151"/>
                    </a:lnTo>
                    <a:lnTo>
                      <a:pt x="104" y="151"/>
                    </a:lnTo>
                    <a:lnTo>
                      <a:pt x="115" y="151"/>
                    </a:lnTo>
                    <a:lnTo>
                      <a:pt x="115" y="166"/>
                    </a:lnTo>
                    <a:lnTo>
                      <a:pt x="123" y="166"/>
                    </a:lnTo>
                    <a:close/>
                  </a:path>
                </a:pathLst>
              </a:custGeom>
              <a:blipFill rotWithShape="0">
                <a:blip r:embed="rId19"/>
                <a:srcRect/>
                <a:stretch/>
              </a:blipFill>
              <a:ln w="0">
                <a:solidFill>
                  <a:srgbClr val="000000"/>
                </a:solidFill>
              </a:ln>
            </p:spPr>
            <p:style>
              <a:lnRef idx="0"/>
              <a:fillRef idx="0"/>
              <a:effectRef idx="0"/>
              <a:fontRef idx="minor"/>
            </p:style>
            <p:txBody>
              <a:bodyPr lIns="90000" rIns="90000" tIns="18360" bIns="18360" anchor="t">
                <a:noAutofit/>
              </a:bodyPr>
              <a:p>
                <a:endParaRPr b="1" lang="en-US" sz="1800" spc="-1" strike="noStrike">
                  <a:solidFill>
                    <a:srgbClr val="ffffff"/>
                  </a:solidFill>
                  <a:latin typeface="Castellar"/>
                </a:endParaRPr>
              </a:p>
            </p:txBody>
          </p:sp>
          <p:sp>
            <p:nvSpPr>
              <p:cNvPr id="176" name="Freeform 145"/>
              <p:cNvSpPr/>
              <p:nvPr/>
            </p:nvSpPr>
            <p:spPr>
              <a:xfrm>
                <a:off x="1850040" y="3340800"/>
                <a:ext cx="79920" cy="55080"/>
              </a:xfrm>
              <a:custGeom>
                <a:avLst/>
                <a:gdLst>
                  <a:gd name="textAreaLeft" fmla="*/ 0 w 79920"/>
                  <a:gd name="textAreaRight" fmla="*/ 80280 w 79920"/>
                  <a:gd name="textAreaTop" fmla="*/ 0 h 55080"/>
                  <a:gd name="textAreaBottom" fmla="*/ 55440 h 55080"/>
                </a:gdLst>
                <a:ahLst/>
                <a:rect l="textAreaLeft" t="textAreaTop" r="textAreaRight" b="textAreaBottom"/>
                <a:pathLst>
                  <a:path w="224" h="165">
                    <a:moveTo>
                      <a:pt x="100" y="0"/>
                    </a:moveTo>
                    <a:lnTo>
                      <a:pt x="100" y="26"/>
                    </a:lnTo>
                    <a:lnTo>
                      <a:pt x="75" y="48"/>
                    </a:lnTo>
                    <a:lnTo>
                      <a:pt x="56" y="80"/>
                    </a:lnTo>
                    <a:lnTo>
                      <a:pt x="22" y="99"/>
                    </a:lnTo>
                    <a:lnTo>
                      <a:pt x="0" y="108"/>
                    </a:lnTo>
                    <a:lnTo>
                      <a:pt x="15" y="132"/>
                    </a:lnTo>
                    <a:lnTo>
                      <a:pt x="40" y="153"/>
                    </a:lnTo>
                    <a:lnTo>
                      <a:pt x="83" y="158"/>
                    </a:lnTo>
                    <a:lnTo>
                      <a:pt x="113" y="165"/>
                    </a:lnTo>
                    <a:lnTo>
                      <a:pt x="156" y="153"/>
                    </a:lnTo>
                    <a:lnTo>
                      <a:pt x="191" y="132"/>
                    </a:lnTo>
                    <a:lnTo>
                      <a:pt x="209" y="103"/>
                    </a:lnTo>
                    <a:lnTo>
                      <a:pt x="224" y="74"/>
                    </a:lnTo>
                    <a:lnTo>
                      <a:pt x="224" y="62"/>
                    </a:lnTo>
                    <a:lnTo>
                      <a:pt x="203" y="48"/>
                    </a:lnTo>
                    <a:lnTo>
                      <a:pt x="174" y="38"/>
                    </a:lnTo>
                    <a:lnTo>
                      <a:pt x="156" y="26"/>
                    </a:lnTo>
                    <a:lnTo>
                      <a:pt x="129" y="7"/>
                    </a:lnTo>
                    <a:lnTo>
                      <a:pt x="100" y="0"/>
                    </a:lnTo>
                    <a:close/>
                  </a:path>
                </a:pathLst>
              </a:custGeom>
              <a:solidFill>
                <a:srgbClr val="ff7e00"/>
              </a:solidFill>
              <a:ln w="0">
                <a:solidFill>
                  <a:srgbClr val="000000"/>
                </a:solidFill>
              </a:ln>
            </p:spPr>
            <p:style>
              <a:lnRef idx="0"/>
              <a:fillRef idx="0"/>
              <a:effectRef idx="0"/>
              <a:fontRef idx="minor"/>
            </p:style>
            <p:txBody>
              <a:bodyPr lIns="90000" rIns="90000" tIns="8640" bIns="8640" anchor="t">
                <a:noAutofit/>
              </a:bodyPr>
              <a:p>
                <a:endParaRPr b="1" lang="en-US" sz="1800" spc="-1" strike="noStrike">
                  <a:solidFill>
                    <a:srgbClr val="ffffff"/>
                  </a:solidFill>
                  <a:latin typeface="Castellar"/>
                </a:endParaRPr>
              </a:p>
            </p:txBody>
          </p:sp>
          <p:sp>
            <p:nvSpPr>
              <p:cNvPr id="177" name="Freeform 146"/>
              <p:cNvSpPr/>
              <p:nvPr/>
            </p:nvSpPr>
            <p:spPr>
              <a:xfrm>
                <a:off x="1728360" y="3360960"/>
                <a:ext cx="261000" cy="248040"/>
              </a:xfrm>
              <a:custGeom>
                <a:avLst/>
                <a:gdLst>
                  <a:gd name="textAreaLeft" fmla="*/ 0 w 261000"/>
                  <a:gd name="textAreaRight" fmla="*/ 261360 w 261000"/>
                  <a:gd name="textAreaTop" fmla="*/ 0 h 248040"/>
                  <a:gd name="textAreaBottom" fmla="*/ 248400 h 248040"/>
                </a:gdLst>
                <a:ahLst/>
                <a:rect l="textAreaLeft" t="textAreaTop" r="textAreaRight" b="textAreaBottom"/>
                <a:pathLst>
                  <a:path w="721" h="740">
                    <a:moveTo>
                      <a:pt x="334" y="47"/>
                    </a:moveTo>
                    <a:lnTo>
                      <a:pt x="293" y="65"/>
                    </a:lnTo>
                    <a:lnTo>
                      <a:pt x="314" y="108"/>
                    </a:lnTo>
                    <a:lnTo>
                      <a:pt x="293" y="114"/>
                    </a:lnTo>
                    <a:lnTo>
                      <a:pt x="237" y="140"/>
                    </a:lnTo>
                    <a:lnTo>
                      <a:pt x="183" y="183"/>
                    </a:lnTo>
                    <a:lnTo>
                      <a:pt x="87" y="257"/>
                    </a:lnTo>
                    <a:lnTo>
                      <a:pt x="34" y="285"/>
                    </a:lnTo>
                    <a:lnTo>
                      <a:pt x="18" y="312"/>
                    </a:lnTo>
                    <a:lnTo>
                      <a:pt x="34" y="360"/>
                    </a:lnTo>
                    <a:lnTo>
                      <a:pt x="28" y="405"/>
                    </a:lnTo>
                    <a:lnTo>
                      <a:pt x="18" y="428"/>
                    </a:lnTo>
                    <a:lnTo>
                      <a:pt x="0" y="513"/>
                    </a:lnTo>
                    <a:lnTo>
                      <a:pt x="49" y="587"/>
                    </a:lnTo>
                    <a:lnTo>
                      <a:pt x="76" y="616"/>
                    </a:lnTo>
                    <a:lnTo>
                      <a:pt x="87" y="630"/>
                    </a:lnTo>
                    <a:lnTo>
                      <a:pt x="103" y="667"/>
                    </a:lnTo>
                    <a:lnTo>
                      <a:pt x="121" y="678"/>
                    </a:lnTo>
                    <a:lnTo>
                      <a:pt x="144" y="709"/>
                    </a:lnTo>
                    <a:lnTo>
                      <a:pt x="183" y="728"/>
                    </a:lnTo>
                    <a:lnTo>
                      <a:pt x="218" y="740"/>
                    </a:lnTo>
                    <a:lnTo>
                      <a:pt x="265" y="728"/>
                    </a:lnTo>
                    <a:lnTo>
                      <a:pt x="298" y="717"/>
                    </a:lnTo>
                    <a:lnTo>
                      <a:pt x="341" y="687"/>
                    </a:lnTo>
                    <a:lnTo>
                      <a:pt x="390" y="647"/>
                    </a:lnTo>
                    <a:lnTo>
                      <a:pt x="417" y="616"/>
                    </a:lnTo>
                    <a:lnTo>
                      <a:pt x="448" y="570"/>
                    </a:lnTo>
                    <a:lnTo>
                      <a:pt x="464" y="532"/>
                    </a:lnTo>
                    <a:lnTo>
                      <a:pt x="482" y="479"/>
                    </a:lnTo>
                    <a:lnTo>
                      <a:pt x="491" y="415"/>
                    </a:lnTo>
                    <a:lnTo>
                      <a:pt x="491" y="398"/>
                    </a:lnTo>
                    <a:lnTo>
                      <a:pt x="517" y="360"/>
                    </a:lnTo>
                    <a:lnTo>
                      <a:pt x="538" y="335"/>
                    </a:lnTo>
                    <a:lnTo>
                      <a:pt x="607" y="281"/>
                    </a:lnTo>
                    <a:lnTo>
                      <a:pt x="650" y="231"/>
                    </a:lnTo>
                    <a:lnTo>
                      <a:pt x="681" y="188"/>
                    </a:lnTo>
                    <a:lnTo>
                      <a:pt x="721" y="152"/>
                    </a:lnTo>
                    <a:lnTo>
                      <a:pt x="713" y="132"/>
                    </a:lnTo>
                    <a:lnTo>
                      <a:pt x="696" y="127"/>
                    </a:lnTo>
                    <a:lnTo>
                      <a:pt x="681" y="104"/>
                    </a:lnTo>
                    <a:lnTo>
                      <a:pt x="670" y="84"/>
                    </a:lnTo>
                    <a:lnTo>
                      <a:pt x="650" y="71"/>
                    </a:lnTo>
                    <a:lnTo>
                      <a:pt x="633" y="47"/>
                    </a:lnTo>
                    <a:lnTo>
                      <a:pt x="625" y="42"/>
                    </a:lnTo>
                    <a:lnTo>
                      <a:pt x="621" y="24"/>
                    </a:lnTo>
                    <a:lnTo>
                      <a:pt x="607" y="18"/>
                    </a:lnTo>
                    <a:lnTo>
                      <a:pt x="592" y="13"/>
                    </a:lnTo>
                    <a:lnTo>
                      <a:pt x="564" y="0"/>
                    </a:lnTo>
                    <a:lnTo>
                      <a:pt x="553" y="24"/>
                    </a:lnTo>
                    <a:lnTo>
                      <a:pt x="543" y="55"/>
                    </a:lnTo>
                    <a:lnTo>
                      <a:pt x="517" y="71"/>
                    </a:lnTo>
                    <a:lnTo>
                      <a:pt x="491" y="92"/>
                    </a:lnTo>
                    <a:lnTo>
                      <a:pt x="448" y="104"/>
                    </a:lnTo>
                    <a:lnTo>
                      <a:pt x="424" y="97"/>
                    </a:lnTo>
                    <a:lnTo>
                      <a:pt x="409" y="97"/>
                    </a:lnTo>
                    <a:lnTo>
                      <a:pt x="374" y="92"/>
                    </a:lnTo>
                    <a:lnTo>
                      <a:pt x="349" y="71"/>
                    </a:lnTo>
                    <a:lnTo>
                      <a:pt x="334" y="42"/>
                    </a:lnTo>
                    <a:lnTo>
                      <a:pt x="334" y="47"/>
                    </a:lnTo>
                    <a:close/>
                  </a:path>
                </a:pathLst>
              </a:custGeom>
              <a:blipFill rotWithShape="0">
                <a:blip r:embed="rId20"/>
                <a:srcRect/>
                <a:stretch/>
              </a:blipFill>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178" name="Freeform 147"/>
              <p:cNvSpPr/>
              <p:nvPr/>
            </p:nvSpPr>
            <p:spPr>
              <a:xfrm>
                <a:off x="2426400" y="3128760"/>
                <a:ext cx="191160" cy="140400"/>
              </a:xfrm>
              <a:custGeom>
                <a:avLst/>
                <a:gdLst>
                  <a:gd name="textAreaLeft" fmla="*/ 0 w 191160"/>
                  <a:gd name="textAreaRight" fmla="*/ 191520 w 191160"/>
                  <a:gd name="textAreaTop" fmla="*/ 0 h 140400"/>
                  <a:gd name="textAreaBottom" fmla="*/ 140760 h 140400"/>
                </a:gdLst>
                <a:ahLst/>
                <a:rect l="textAreaLeft" t="textAreaTop" r="textAreaRight" b="textAreaBottom"/>
                <a:pathLst>
                  <a:path w="530" h="421">
                    <a:moveTo>
                      <a:pt x="29" y="0"/>
                    </a:moveTo>
                    <a:lnTo>
                      <a:pt x="67" y="0"/>
                    </a:lnTo>
                    <a:lnTo>
                      <a:pt x="90" y="12"/>
                    </a:lnTo>
                    <a:lnTo>
                      <a:pt x="103" y="33"/>
                    </a:lnTo>
                    <a:lnTo>
                      <a:pt x="117" y="43"/>
                    </a:lnTo>
                    <a:lnTo>
                      <a:pt x="136" y="48"/>
                    </a:lnTo>
                    <a:lnTo>
                      <a:pt x="165" y="63"/>
                    </a:lnTo>
                    <a:lnTo>
                      <a:pt x="191" y="68"/>
                    </a:lnTo>
                    <a:lnTo>
                      <a:pt x="232" y="74"/>
                    </a:lnTo>
                    <a:lnTo>
                      <a:pt x="258" y="80"/>
                    </a:lnTo>
                    <a:lnTo>
                      <a:pt x="279" y="85"/>
                    </a:lnTo>
                    <a:lnTo>
                      <a:pt x="307" y="94"/>
                    </a:lnTo>
                    <a:lnTo>
                      <a:pt x="330" y="94"/>
                    </a:lnTo>
                    <a:lnTo>
                      <a:pt x="336" y="100"/>
                    </a:lnTo>
                    <a:lnTo>
                      <a:pt x="348" y="100"/>
                    </a:lnTo>
                    <a:lnTo>
                      <a:pt x="397" y="135"/>
                    </a:lnTo>
                    <a:lnTo>
                      <a:pt x="403" y="144"/>
                    </a:lnTo>
                    <a:lnTo>
                      <a:pt x="415" y="172"/>
                    </a:lnTo>
                    <a:lnTo>
                      <a:pt x="444" y="184"/>
                    </a:lnTo>
                    <a:lnTo>
                      <a:pt x="444" y="196"/>
                    </a:lnTo>
                    <a:lnTo>
                      <a:pt x="470" y="207"/>
                    </a:lnTo>
                    <a:lnTo>
                      <a:pt x="477" y="237"/>
                    </a:lnTo>
                    <a:lnTo>
                      <a:pt x="497" y="262"/>
                    </a:lnTo>
                    <a:lnTo>
                      <a:pt x="481" y="277"/>
                    </a:lnTo>
                    <a:lnTo>
                      <a:pt x="489" y="324"/>
                    </a:lnTo>
                    <a:lnTo>
                      <a:pt x="497" y="324"/>
                    </a:lnTo>
                    <a:lnTo>
                      <a:pt x="497" y="335"/>
                    </a:lnTo>
                    <a:lnTo>
                      <a:pt x="518" y="343"/>
                    </a:lnTo>
                    <a:lnTo>
                      <a:pt x="526" y="359"/>
                    </a:lnTo>
                    <a:lnTo>
                      <a:pt x="526" y="374"/>
                    </a:lnTo>
                    <a:lnTo>
                      <a:pt x="530" y="399"/>
                    </a:lnTo>
                    <a:lnTo>
                      <a:pt x="497" y="405"/>
                    </a:lnTo>
                    <a:lnTo>
                      <a:pt x="477" y="410"/>
                    </a:lnTo>
                    <a:lnTo>
                      <a:pt x="463" y="410"/>
                    </a:lnTo>
                    <a:lnTo>
                      <a:pt x="444" y="421"/>
                    </a:lnTo>
                    <a:lnTo>
                      <a:pt x="430" y="410"/>
                    </a:lnTo>
                    <a:lnTo>
                      <a:pt x="403" y="416"/>
                    </a:lnTo>
                    <a:lnTo>
                      <a:pt x="388" y="410"/>
                    </a:lnTo>
                    <a:lnTo>
                      <a:pt x="370" y="405"/>
                    </a:lnTo>
                    <a:lnTo>
                      <a:pt x="355" y="399"/>
                    </a:lnTo>
                    <a:lnTo>
                      <a:pt x="336" y="384"/>
                    </a:lnTo>
                    <a:lnTo>
                      <a:pt x="321" y="379"/>
                    </a:lnTo>
                    <a:lnTo>
                      <a:pt x="302" y="366"/>
                    </a:lnTo>
                    <a:lnTo>
                      <a:pt x="279" y="359"/>
                    </a:lnTo>
                    <a:lnTo>
                      <a:pt x="250" y="354"/>
                    </a:lnTo>
                    <a:lnTo>
                      <a:pt x="246" y="343"/>
                    </a:lnTo>
                    <a:lnTo>
                      <a:pt x="227" y="343"/>
                    </a:lnTo>
                    <a:lnTo>
                      <a:pt x="205" y="343"/>
                    </a:lnTo>
                    <a:lnTo>
                      <a:pt x="178" y="343"/>
                    </a:lnTo>
                    <a:lnTo>
                      <a:pt x="165" y="335"/>
                    </a:lnTo>
                    <a:lnTo>
                      <a:pt x="148" y="335"/>
                    </a:lnTo>
                    <a:lnTo>
                      <a:pt x="129" y="335"/>
                    </a:lnTo>
                    <a:lnTo>
                      <a:pt x="96" y="343"/>
                    </a:lnTo>
                    <a:lnTo>
                      <a:pt x="83" y="343"/>
                    </a:lnTo>
                    <a:lnTo>
                      <a:pt x="55" y="343"/>
                    </a:lnTo>
                    <a:lnTo>
                      <a:pt x="29" y="354"/>
                    </a:lnTo>
                    <a:lnTo>
                      <a:pt x="0" y="354"/>
                    </a:lnTo>
                    <a:lnTo>
                      <a:pt x="0" y="324"/>
                    </a:lnTo>
                    <a:lnTo>
                      <a:pt x="0" y="294"/>
                    </a:lnTo>
                    <a:lnTo>
                      <a:pt x="0" y="270"/>
                    </a:lnTo>
                    <a:lnTo>
                      <a:pt x="5" y="257"/>
                    </a:lnTo>
                    <a:lnTo>
                      <a:pt x="5" y="237"/>
                    </a:lnTo>
                    <a:lnTo>
                      <a:pt x="21" y="222"/>
                    </a:lnTo>
                    <a:lnTo>
                      <a:pt x="29" y="184"/>
                    </a:lnTo>
                    <a:lnTo>
                      <a:pt x="34" y="155"/>
                    </a:lnTo>
                    <a:lnTo>
                      <a:pt x="41" y="124"/>
                    </a:lnTo>
                    <a:lnTo>
                      <a:pt x="41" y="85"/>
                    </a:lnTo>
                    <a:lnTo>
                      <a:pt x="34" y="63"/>
                    </a:lnTo>
                    <a:lnTo>
                      <a:pt x="29" y="43"/>
                    </a:lnTo>
                    <a:lnTo>
                      <a:pt x="55" y="6"/>
                    </a:lnTo>
                    <a:lnTo>
                      <a:pt x="29" y="0"/>
                    </a:lnTo>
                    <a:close/>
                  </a:path>
                </a:pathLst>
              </a:custGeom>
              <a:blipFill rotWithShape="0">
                <a:blip r:embed="rId21"/>
                <a:srcRect/>
                <a:stretch/>
              </a:blipFill>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179" name="Freeform 148"/>
              <p:cNvSpPr/>
              <p:nvPr/>
            </p:nvSpPr>
            <p:spPr>
              <a:xfrm>
                <a:off x="2513880" y="3939840"/>
                <a:ext cx="984600" cy="994680"/>
              </a:xfrm>
              <a:custGeom>
                <a:avLst/>
                <a:gdLst>
                  <a:gd name="textAreaLeft" fmla="*/ 0 w 984600"/>
                  <a:gd name="textAreaRight" fmla="*/ 984960 w 984600"/>
                  <a:gd name="textAreaTop" fmla="*/ 0 h 994680"/>
                  <a:gd name="textAreaBottom" fmla="*/ 995040 h 994680"/>
                </a:gdLst>
                <a:ahLst/>
                <a:rect l="textAreaLeft" t="textAreaTop" r="textAreaRight" b="textAreaBottom"/>
                <a:pathLst>
                  <a:path w="2729" h="2968">
                    <a:moveTo>
                      <a:pt x="266" y="8"/>
                    </a:moveTo>
                    <a:lnTo>
                      <a:pt x="346" y="69"/>
                    </a:lnTo>
                    <a:lnTo>
                      <a:pt x="375" y="79"/>
                    </a:lnTo>
                    <a:lnTo>
                      <a:pt x="395" y="99"/>
                    </a:lnTo>
                    <a:lnTo>
                      <a:pt x="509" y="208"/>
                    </a:lnTo>
                    <a:lnTo>
                      <a:pt x="619" y="170"/>
                    </a:lnTo>
                    <a:lnTo>
                      <a:pt x="693" y="141"/>
                    </a:lnTo>
                    <a:lnTo>
                      <a:pt x="810" y="129"/>
                    </a:lnTo>
                    <a:lnTo>
                      <a:pt x="945" y="141"/>
                    </a:lnTo>
                    <a:lnTo>
                      <a:pt x="967" y="160"/>
                    </a:lnTo>
                    <a:lnTo>
                      <a:pt x="1224" y="0"/>
                    </a:lnTo>
                    <a:lnTo>
                      <a:pt x="1354" y="191"/>
                    </a:lnTo>
                    <a:lnTo>
                      <a:pt x="1408" y="202"/>
                    </a:lnTo>
                    <a:lnTo>
                      <a:pt x="1456" y="202"/>
                    </a:lnTo>
                    <a:lnTo>
                      <a:pt x="1485" y="220"/>
                    </a:lnTo>
                    <a:lnTo>
                      <a:pt x="1529" y="277"/>
                    </a:lnTo>
                    <a:lnTo>
                      <a:pt x="1600" y="300"/>
                    </a:lnTo>
                    <a:lnTo>
                      <a:pt x="1524" y="411"/>
                    </a:lnTo>
                    <a:lnTo>
                      <a:pt x="1511" y="443"/>
                    </a:lnTo>
                    <a:lnTo>
                      <a:pt x="1667" y="710"/>
                    </a:lnTo>
                    <a:lnTo>
                      <a:pt x="1723" y="710"/>
                    </a:lnTo>
                    <a:lnTo>
                      <a:pt x="1775" y="784"/>
                    </a:lnTo>
                    <a:lnTo>
                      <a:pt x="1872" y="827"/>
                    </a:lnTo>
                    <a:lnTo>
                      <a:pt x="1883" y="1007"/>
                    </a:lnTo>
                    <a:lnTo>
                      <a:pt x="1917" y="1085"/>
                    </a:lnTo>
                    <a:lnTo>
                      <a:pt x="1925" y="1160"/>
                    </a:lnTo>
                    <a:lnTo>
                      <a:pt x="2061" y="1208"/>
                    </a:lnTo>
                    <a:lnTo>
                      <a:pt x="2061" y="1293"/>
                    </a:lnTo>
                    <a:lnTo>
                      <a:pt x="2109" y="1385"/>
                    </a:lnTo>
                    <a:lnTo>
                      <a:pt x="2130" y="1495"/>
                    </a:lnTo>
                    <a:lnTo>
                      <a:pt x="2183" y="1566"/>
                    </a:lnTo>
                    <a:lnTo>
                      <a:pt x="2218" y="1709"/>
                    </a:lnTo>
                    <a:lnTo>
                      <a:pt x="2253" y="1759"/>
                    </a:lnTo>
                    <a:lnTo>
                      <a:pt x="2292" y="1877"/>
                    </a:lnTo>
                    <a:lnTo>
                      <a:pt x="2359" y="1980"/>
                    </a:lnTo>
                    <a:lnTo>
                      <a:pt x="2491" y="1980"/>
                    </a:lnTo>
                    <a:lnTo>
                      <a:pt x="2612" y="1980"/>
                    </a:lnTo>
                    <a:lnTo>
                      <a:pt x="2729" y="2004"/>
                    </a:lnTo>
                    <a:lnTo>
                      <a:pt x="2729" y="2054"/>
                    </a:lnTo>
                    <a:lnTo>
                      <a:pt x="2702" y="2129"/>
                    </a:lnTo>
                    <a:lnTo>
                      <a:pt x="2680" y="2161"/>
                    </a:lnTo>
                    <a:lnTo>
                      <a:pt x="2572" y="2161"/>
                    </a:lnTo>
                    <a:lnTo>
                      <a:pt x="2450" y="2219"/>
                    </a:lnTo>
                    <a:lnTo>
                      <a:pt x="2359" y="2280"/>
                    </a:lnTo>
                    <a:lnTo>
                      <a:pt x="2332" y="2341"/>
                    </a:lnTo>
                    <a:lnTo>
                      <a:pt x="2258" y="2439"/>
                    </a:lnTo>
                    <a:lnTo>
                      <a:pt x="2137" y="2484"/>
                    </a:lnTo>
                    <a:lnTo>
                      <a:pt x="1980" y="2563"/>
                    </a:lnTo>
                    <a:lnTo>
                      <a:pt x="1795" y="2607"/>
                    </a:lnTo>
                    <a:lnTo>
                      <a:pt x="1694" y="2668"/>
                    </a:lnTo>
                    <a:lnTo>
                      <a:pt x="1586" y="2759"/>
                    </a:lnTo>
                    <a:lnTo>
                      <a:pt x="1503" y="2859"/>
                    </a:lnTo>
                    <a:lnTo>
                      <a:pt x="1400" y="2968"/>
                    </a:lnTo>
                    <a:lnTo>
                      <a:pt x="1354" y="2936"/>
                    </a:lnTo>
                    <a:lnTo>
                      <a:pt x="1306" y="2826"/>
                    </a:lnTo>
                    <a:lnTo>
                      <a:pt x="1211" y="2859"/>
                    </a:lnTo>
                    <a:lnTo>
                      <a:pt x="1137" y="2863"/>
                    </a:lnTo>
                    <a:lnTo>
                      <a:pt x="1035" y="2863"/>
                    </a:lnTo>
                    <a:lnTo>
                      <a:pt x="864" y="2826"/>
                    </a:lnTo>
                    <a:lnTo>
                      <a:pt x="699" y="2730"/>
                    </a:lnTo>
                    <a:lnTo>
                      <a:pt x="641" y="2625"/>
                    </a:lnTo>
                    <a:lnTo>
                      <a:pt x="592" y="2514"/>
                    </a:lnTo>
                    <a:lnTo>
                      <a:pt x="539" y="2380"/>
                    </a:lnTo>
                    <a:lnTo>
                      <a:pt x="449" y="2236"/>
                    </a:lnTo>
                    <a:lnTo>
                      <a:pt x="395" y="2161"/>
                    </a:lnTo>
                    <a:lnTo>
                      <a:pt x="346" y="2023"/>
                    </a:lnTo>
                    <a:lnTo>
                      <a:pt x="266" y="1937"/>
                    </a:lnTo>
                    <a:lnTo>
                      <a:pt x="204" y="1877"/>
                    </a:lnTo>
                    <a:lnTo>
                      <a:pt x="89" y="1877"/>
                    </a:lnTo>
                    <a:lnTo>
                      <a:pt x="346" y="1518"/>
                    </a:lnTo>
                    <a:lnTo>
                      <a:pt x="340" y="1454"/>
                    </a:lnTo>
                    <a:lnTo>
                      <a:pt x="266" y="1331"/>
                    </a:lnTo>
                    <a:lnTo>
                      <a:pt x="198" y="1246"/>
                    </a:lnTo>
                    <a:lnTo>
                      <a:pt x="170" y="1129"/>
                    </a:lnTo>
                    <a:lnTo>
                      <a:pt x="95" y="1097"/>
                    </a:lnTo>
                    <a:lnTo>
                      <a:pt x="56" y="981"/>
                    </a:lnTo>
                    <a:lnTo>
                      <a:pt x="21" y="950"/>
                    </a:lnTo>
                    <a:lnTo>
                      <a:pt x="0" y="879"/>
                    </a:lnTo>
                    <a:lnTo>
                      <a:pt x="26" y="755"/>
                    </a:lnTo>
                    <a:lnTo>
                      <a:pt x="26" y="620"/>
                    </a:lnTo>
                    <a:lnTo>
                      <a:pt x="5" y="443"/>
                    </a:lnTo>
                    <a:lnTo>
                      <a:pt x="41" y="382"/>
                    </a:lnTo>
                    <a:lnTo>
                      <a:pt x="151" y="354"/>
                    </a:lnTo>
                    <a:lnTo>
                      <a:pt x="151" y="232"/>
                    </a:lnTo>
                    <a:lnTo>
                      <a:pt x="217" y="185"/>
                    </a:lnTo>
                    <a:lnTo>
                      <a:pt x="236" y="69"/>
                    </a:lnTo>
                    <a:lnTo>
                      <a:pt x="252" y="8"/>
                    </a:lnTo>
                    <a:lnTo>
                      <a:pt x="266" y="8"/>
                    </a:lnTo>
                    <a:close/>
                  </a:path>
                </a:pathLst>
              </a:custGeom>
              <a:blipFill rotWithShape="0">
                <a:blip r:embed="rId22"/>
                <a:srcRect/>
                <a:stretch/>
              </a:blipFill>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180" name="Freeform 149"/>
              <p:cNvSpPr/>
              <p:nvPr/>
            </p:nvSpPr>
            <p:spPr>
              <a:xfrm>
                <a:off x="2601720" y="3529080"/>
                <a:ext cx="1467360" cy="880560"/>
              </a:xfrm>
              <a:custGeom>
                <a:avLst/>
                <a:gdLst>
                  <a:gd name="textAreaLeft" fmla="*/ 0 w 1467360"/>
                  <a:gd name="textAreaRight" fmla="*/ 1467360 w 1467360"/>
                  <a:gd name="textAreaTop" fmla="*/ 0 h 880560"/>
                  <a:gd name="textAreaBottom" fmla="*/ 880920 h 880560"/>
                </a:gdLst>
                <a:ahLst/>
                <a:rect l="textAreaLeft" t="textAreaTop" r="textAreaRight" b="textAreaBottom"/>
                <a:pathLst>
                  <a:path w="4071" h="2629">
                    <a:moveTo>
                      <a:pt x="84" y="1129"/>
                    </a:moveTo>
                    <a:lnTo>
                      <a:pt x="0" y="1222"/>
                    </a:lnTo>
                    <a:lnTo>
                      <a:pt x="143" y="1319"/>
                    </a:lnTo>
                    <a:lnTo>
                      <a:pt x="266" y="1435"/>
                    </a:lnTo>
                    <a:lnTo>
                      <a:pt x="354" y="1412"/>
                    </a:lnTo>
                    <a:lnTo>
                      <a:pt x="436" y="1372"/>
                    </a:lnTo>
                    <a:lnTo>
                      <a:pt x="580" y="1356"/>
                    </a:lnTo>
                    <a:lnTo>
                      <a:pt x="674" y="1362"/>
                    </a:lnTo>
                    <a:lnTo>
                      <a:pt x="729" y="1387"/>
                    </a:lnTo>
                    <a:lnTo>
                      <a:pt x="826" y="1319"/>
                    </a:lnTo>
                    <a:lnTo>
                      <a:pt x="920" y="1270"/>
                    </a:lnTo>
                    <a:lnTo>
                      <a:pt x="981" y="1235"/>
                    </a:lnTo>
                    <a:lnTo>
                      <a:pt x="1043" y="1319"/>
                    </a:lnTo>
                    <a:lnTo>
                      <a:pt x="1104" y="1418"/>
                    </a:lnTo>
                    <a:lnTo>
                      <a:pt x="1173" y="1435"/>
                    </a:lnTo>
                    <a:lnTo>
                      <a:pt x="1241" y="1435"/>
                    </a:lnTo>
                    <a:lnTo>
                      <a:pt x="1286" y="1504"/>
                    </a:lnTo>
                    <a:lnTo>
                      <a:pt x="1350" y="1532"/>
                    </a:lnTo>
                    <a:lnTo>
                      <a:pt x="1310" y="1621"/>
                    </a:lnTo>
                    <a:lnTo>
                      <a:pt x="1260" y="1670"/>
                    </a:lnTo>
                    <a:lnTo>
                      <a:pt x="1281" y="1694"/>
                    </a:lnTo>
                    <a:lnTo>
                      <a:pt x="1328" y="1786"/>
                    </a:lnTo>
                    <a:lnTo>
                      <a:pt x="1409" y="1914"/>
                    </a:lnTo>
                    <a:lnTo>
                      <a:pt x="1484" y="1950"/>
                    </a:lnTo>
                    <a:lnTo>
                      <a:pt x="1546" y="2006"/>
                    </a:lnTo>
                    <a:lnTo>
                      <a:pt x="1640" y="2043"/>
                    </a:lnTo>
                    <a:lnTo>
                      <a:pt x="1640" y="2170"/>
                    </a:lnTo>
                    <a:lnTo>
                      <a:pt x="1640" y="2234"/>
                    </a:lnTo>
                    <a:lnTo>
                      <a:pt x="1668" y="2294"/>
                    </a:lnTo>
                    <a:lnTo>
                      <a:pt x="1798" y="2324"/>
                    </a:lnTo>
                    <a:lnTo>
                      <a:pt x="1959" y="2373"/>
                    </a:lnTo>
                    <a:lnTo>
                      <a:pt x="2088" y="2387"/>
                    </a:lnTo>
                    <a:lnTo>
                      <a:pt x="2248" y="2399"/>
                    </a:lnTo>
                    <a:lnTo>
                      <a:pt x="2397" y="2378"/>
                    </a:lnTo>
                    <a:lnTo>
                      <a:pt x="2491" y="2399"/>
                    </a:lnTo>
                    <a:lnTo>
                      <a:pt x="2568" y="2435"/>
                    </a:lnTo>
                    <a:lnTo>
                      <a:pt x="2579" y="2448"/>
                    </a:lnTo>
                    <a:lnTo>
                      <a:pt x="2613" y="2509"/>
                    </a:lnTo>
                    <a:lnTo>
                      <a:pt x="2688" y="2558"/>
                    </a:lnTo>
                    <a:lnTo>
                      <a:pt x="2744" y="2594"/>
                    </a:lnTo>
                    <a:lnTo>
                      <a:pt x="2770" y="2629"/>
                    </a:lnTo>
                    <a:lnTo>
                      <a:pt x="2844" y="2602"/>
                    </a:lnTo>
                    <a:lnTo>
                      <a:pt x="2850" y="2558"/>
                    </a:lnTo>
                    <a:lnTo>
                      <a:pt x="2824" y="2496"/>
                    </a:lnTo>
                    <a:lnTo>
                      <a:pt x="2798" y="2409"/>
                    </a:lnTo>
                    <a:lnTo>
                      <a:pt x="2932" y="2324"/>
                    </a:lnTo>
                    <a:lnTo>
                      <a:pt x="3056" y="2268"/>
                    </a:lnTo>
                    <a:lnTo>
                      <a:pt x="3177" y="2282"/>
                    </a:lnTo>
                    <a:lnTo>
                      <a:pt x="3301" y="2238"/>
                    </a:lnTo>
                    <a:lnTo>
                      <a:pt x="3477" y="2234"/>
                    </a:lnTo>
                    <a:lnTo>
                      <a:pt x="3603" y="2136"/>
                    </a:lnTo>
                    <a:lnTo>
                      <a:pt x="3723" y="2043"/>
                    </a:lnTo>
                    <a:lnTo>
                      <a:pt x="3803" y="1963"/>
                    </a:lnTo>
                    <a:lnTo>
                      <a:pt x="3893" y="1866"/>
                    </a:lnTo>
                    <a:lnTo>
                      <a:pt x="3975" y="1809"/>
                    </a:lnTo>
                    <a:lnTo>
                      <a:pt x="3968" y="1711"/>
                    </a:lnTo>
                    <a:lnTo>
                      <a:pt x="3913" y="1577"/>
                    </a:lnTo>
                    <a:lnTo>
                      <a:pt x="3846" y="1493"/>
                    </a:lnTo>
                    <a:lnTo>
                      <a:pt x="3789" y="1435"/>
                    </a:lnTo>
                    <a:lnTo>
                      <a:pt x="3723" y="1372"/>
                    </a:lnTo>
                    <a:lnTo>
                      <a:pt x="3629" y="1336"/>
                    </a:lnTo>
                    <a:lnTo>
                      <a:pt x="3614" y="1190"/>
                    </a:lnTo>
                    <a:lnTo>
                      <a:pt x="3696" y="1135"/>
                    </a:lnTo>
                    <a:lnTo>
                      <a:pt x="3718" y="1012"/>
                    </a:lnTo>
                    <a:lnTo>
                      <a:pt x="3771" y="908"/>
                    </a:lnTo>
                    <a:lnTo>
                      <a:pt x="3905" y="786"/>
                    </a:lnTo>
                    <a:lnTo>
                      <a:pt x="4016" y="720"/>
                    </a:lnTo>
                    <a:lnTo>
                      <a:pt x="4071" y="706"/>
                    </a:lnTo>
                    <a:lnTo>
                      <a:pt x="4035" y="516"/>
                    </a:lnTo>
                    <a:lnTo>
                      <a:pt x="3968" y="400"/>
                    </a:lnTo>
                    <a:lnTo>
                      <a:pt x="3968" y="321"/>
                    </a:lnTo>
                    <a:lnTo>
                      <a:pt x="3960" y="259"/>
                    </a:lnTo>
                    <a:lnTo>
                      <a:pt x="3780" y="209"/>
                    </a:lnTo>
                    <a:lnTo>
                      <a:pt x="3682" y="185"/>
                    </a:lnTo>
                    <a:lnTo>
                      <a:pt x="3574" y="176"/>
                    </a:lnTo>
                    <a:lnTo>
                      <a:pt x="3465" y="112"/>
                    </a:lnTo>
                    <a:lnTo>
                      <a:pt x="3329" y="74"/>
                    </a:lnTo>
                    <a:lnTo>
                      <a:pt x="3213" y="25"/>
                    </a:lnTo>
                    <a:lnTo>
                      <a:pt x="3080" y="8"/>
                    </a:lnTo>
                    <a:lnTo>
                      <a:pt x="2850" y="8"/>
                    </a:lnTo>
                    <a:lnTo>
                      <a:pt x="2765" y="0"/>
                    </a:lnTo>
                    <a:lnTo>
                      <a:pt x="2646" y="0"/>
                    </a:lnTo>
                    <a:lnTo>
                      <a:pt x="2470" y="32"/>
                    </a:lnTo>
                    <a:lnTo>
                      <a:pt x="2186" y="112"/>
                    </a:lnTo>
                    <a:lnTo>
                      <a:pt x="2021" y="162"/>
                    </a:lnTo>
                    <a:lnTo>
                      <a:pt x="1959" y="204"/>
                    </a:lnTo>
                    <a:lnTo>
                      <a:pt x="1853" y="166"/>
                    </a:lnTo>
                    <a:lnTo>
                      <a:pt x="1745" y="204"/>
                    </a:lnTo>
                    <a:lnTo>
                      <a:pt x="1690" y="295"/>
                    </a:lnTo>
                    <a:lnTo>
                      <a:pt x="1566" y="357"/>
                    </a:lnTo>
                    <a:lnTo>
                      <a:pt x="1428" y="283"/>
                    </a:lnTo>
                    <a:lnTo>
                      <a:pt x="1224" y="295"/>
                    </a:lnTo>
                    <a:lnTo>
                      <a:pt x="1049" y="272"/>
                    </a:lnTo>
                    <a:lnTo>
                      <a:pt x="933" y="278"/>
                    </a:lnTo>
                    <a:lnTo>
                      <a:pt x="859" y="338"/>
                    </a:lnTo>
                    <a:lnTo>
                      <a:pt x="735" y="388"/>
                    </a:lnTo>
                    <a:lnTo>
                      <a:pt x="647" y="383"/>
                    </a:lnTo>
                    <a:lnTo>
                      <a:pt x="607" y="400"/>
                    </a:lnTo>
                    <a:lnTo>
                      <a:pt x="491" y="528"/>
                    </a:lnTo>
                    <a:lnTo>
                      <a:pt x="376" y="589"/>
                    </a:lnTo>
                    <a:lnTo>
                      <a:pt x="214" y="675"/>
                    </a:lnTo>
                    <a:lnTo>
                      <a:pt x="199" y="860"/>
                    </a:lnTo>
                    <a:lnTo>
                      <a:pt x="152" y="1000"/>
                    </a:lnTo>
                    <a:lnTo>
                      <a:pt x="109" y="1090"/>
                    </a:lnTo>
                    <a:lnTo>
                      <a:pt x="84" y="1129"/>
                    </a:lnTo>
                    <a:close/>
                  </a:path>
                </a:pathLst>
              </a:custGeom>
              <a:blipFill rotWithShape="0">
                <a:blip r:embed="rId23"/>
                <a:srcRect/>
                <a:stretch/>
              </a:blipFill>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181" name="Rectangle 150"/>
              <p:cNvSpPr/>
              <p:nvPr/>
            </p:nvSpPr>
            <p:spPr>
              <a:xfrm>
                <a:off x="2631600" y="2973600"/>
                <a:ext cx="571320" cy="269640"/>
              </a:xfrm>
              <a:prstGeom prst="rect">
                <a:avLst/>
              </a:prstGeom>
              <a:noFill/>
              <a:ln w="0">
                <a:noFill/>
              </a:ln>
            </p:spPr>
            <p:style>
              <a:lnRef idx="0"/>
              <a:fillRef idx="0"/>
              <a:effectRef idx="0"/>
              <a:fontRef idx="minor"/>
            </p:style>
            <p:txBody>
              <a:bodyPr lIns="0" rIns="0" tIns="0" bIns="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Caracas</a:t>
                </a:r>
                <a:endParaRPr b="1" lang="en-US" sz="900" spc="-1" strike="noStrike">
                  <a:solidFill>
                    <a:srgbClr val="ffffff"/>
                  </a:solidFill>
                  <a:latin typeface="Castellar"/>
                </a:endParaRPr>
              </a:p>
            </p:txBody>
          </p:sp>
          <p:sp>
            <p:nvSpPr>
              <p:cNvPr id="182" name="Rectangle 151"/>
              <p:cNvSpPr/>
              <p:nvPr/>
            </p:nvSpPr>
            <p:spPr>
              <a:xfrm>
                <a:off x="1573200" y="3114360"/>
                <a:ext cx="726120" cy="269640"/>
              </a:xfrm>
              <a:prstGeom prst="rect">
                <a:avLst/>
              </a:prstGeom>
              <a:noFill/>
              <a:ln w="0">
                <a:noFill/>
              </a:ln>
            </p:spPr>
            <p:style>
              <a:lnRef idx="0"/>
              <a:fillRef idx="0"/>
              <a:effectRef idx="0"/>
              <a:fontRef idx="minor"/>
            </p:style>
            <p:txBody>
              <a:bodyPr lIns="0" rIns="0" tIns="0" bIns="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Maracaibo</a:t>
                </a:r>
                <a:endParaRPr b="1" lang="en-US" sz="900" spc="-1" strike="noStrike">
                  <a:solidFill>
                    <a:srgbClr val="ffffff"/>
                  </a:solidFill>
                  <a:latin typeface="Castellar"/>
                </a:endParaRPr>
              </a:p>
            </p:txBody>
          </p:sp>
          <p:sp>
            <p:nvSpPr>
              <p:cNvPr id="183" name="Rectangle 152"/>
              <p:cNvSpPr/>
              <p:nvPr/>
            </p:nvSpPr>
            <p:spPr>
              <a:xfrm>
                <a:off x="3552480" y="3606840"/>
                <a:ext cx="734040" cy="269640"/>
              </a:xfrm>
              <a:prstGeom prst="rect">
                <a:avLst/>
              </a:prstGeom>
              <a:noFill/>
              <a:ln w="0">
                <a:noFill/>
              </a:ln>
            </p:spPr>
            <p:style>
              <a:lnRef idx="0"/>
              <a:fillRef idx="0"/>
              <a:effectRef idx="0"/>
              <a:fontRef idx="minor"/>
            </p:style>
            <p:txBody>
              <a:bodyPr lIns="0" rIns="0" tIns="0" bIns="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Pto. </a:t>
                </a:r>
                <a:r>
                  <a:rPr b="1" lang="es-ES_tradnl" sz="900" spc="-1" strike="noStrike">
                    <a:solidFill>
                      <a:srgbClr val="000000"/>
                    </a:solidFill>
                    <a:latin typeface="Arial"/>
                  </a:rPr>
                  <a:t>Ordaz</a:t>
                </a:r>
                <a:endParaRPr b="1" lang="en-US" sz="900" spc="-1" strike="noStrike">
                  <a:solidFill>
                    <a:srgbClr val="ffffff"/>
                  </a:solidFill>
                  <a:latin typeface="Castellar"/>
                </a:endParaRPr>
              </a:p>
            </p:txBody>
          </p:sp>
          <p:sp>
            <p:nvSpPr>
              <p:cNvPr id="184" name="Freeform 153"/>
              <p:cNvSpPr/>
              <p:nvPr/>
            </p:nvSpPr>
            <p:spPr>
              <a:xfrm>
                <a:off x="2716200" y="3112920"/>
                <a:ext cx="102240" cy="84240"/>
              </a:xfrm>
              <a:custGeom>
                <a:avLst/>
                <a:gdLst>
                  <a:gd name="textAreaLeft" fmla="*/ 0 w 102240"/>
                  <a:gd name="textAreaRight" fmla="*/ 102600 w 102240"/>
                  <a:gd name="textAreaTop" fmla="*/ 0 h 84240"/>
                  <a:gd name="textAreaBottom" fmla="*/ 84600 h 84240"/>
                </a:gdLst>
                <a:ahLst/>
                <a:rect l="textAreaLeft" t="textAreaTop" r="textAreaRight" b="textAreaBottom"/>
                <a:pathLst>
                  <a:path w="285" h="252">
                    <a:moveTo>
                      <a:pt x="285" y="126"/>
                    </a:moveTo>
                    <a:lnTo>
                      <a:pt x="243" y="36"/>
                    </a:lnTo>
                    <a:lnTo>
                      <a:pt x="143" y="0"/>
                    </a:lnTo>
                    <a:lnTo>
                      <a:pt x="41" y="36"/>
                    </a:lnTo>
                    <a:lnTo>
                      <a:pt x="0" y="126"/>
                    </a:lnTo>
                    <a:lnTo>
                      <a:pt x="41" y="215"/>
                    </a:lnTo>
                    <a:lnTo>
                      <a:pt x="143" y="252"/>
                    </a:lnTo>
                    <a:lnTo>
                      <a:pt x="243" y="215"/>
                    </a:lnTo>
                    <a:lnTo>
                      <a:pt x="285" y="126"/>
                    </a:lnTo>
                    <a:close/>
                  </a:path>
                </a:pathLst>
              </a:custGeom>
              <a:solidFill>
                <a:srgbClr val="000000"/>
              </a:solidFill>
              <a:ln w="0">
                <a:solidFill>
                  <a:srgbClr val="000000"/>
                </a:solidFill>
              </a:ln>
            </p:spPr>
            <p:style>
              <a:lnRef idx="0"/>
              <a:fillRef idx="0"/>
              <a:effectRef idx="0"/>
              <a:fontRef idx="minor"/>
            </p:style>
            <p:txBody>
              <a:bodyPr lIns="90000" rIns="90000" tIns="37800" bIns="37800" anchor="t">
                <a:noAutofit/>
              </a:bodyPr>
              <a:p>
                <a:endParaRPr b="1" lang="en-US" sz="1800" spc="-1" strike="noStrike">
                  <a:solidFill>
                    <a:srgbClr val="ffffff"/>
                  </a:solidFill>
                  <a:latin typeface="Castellar"/>
                </a:endParaRPr>
              </a:p>
            </p:txBody>
          </p:sp>
          <p:sp>
            <p:nvSpPr>
              <p:cNvPr id="185" name="Freeform 154"/>
              <p:cNvSpPr/>
              <p:nvPr/>
            </p:nvSpPr>
            <p:spPr>
              <a:xfrm>
                <a:off x="1693080" y="3051000"/>
                <a:ext cx="84240" cy="87120"/>
              </a:xfrm>
              <a:custGeom>
                <a:avLst/>
                <a:gdLst>
                  <a:gd name="textAreaLeft" fmla="*/ 0 w 84240"/>
                  <a:gd name="textAreaRight" fmla="*/ 84600 w 84240"/>
                  <a:gd name="textAreaTop" fmla="*/ 0 h 87120"/>
                  <a:gd name="textAreaBottom" fmla="*/ 87480 h 87120"/>
                </a:gdLst>
                <a:ahLst/>
                <a:rect l="textAreaLeft" t="textAreaTop" r="textAreaRight" b="textAreaBottom"/>
                <a:pathLst>
                  <a:path w="236" h="259">
                    <a:moveTo>
                      <a:pt x="236" y="130"/>
                    </a:moveTo>
                    <a:lnTo>
                      <a:pt x="201" y="38"/>
                    </a:lnTo>
                    <a:lnTo>
                      <a:pt x="118" y="0"/>
                    </a:lnTo>
                    <a:lnTo>
                      <a:pt x="34" y="38"/>
                    </a:lnTo>
                    <a:lnTo>
                      <a:pt x="0" y="130"/>
                    </a:lnTo>
                    <a:lnTo>
                      <a:pt x="34" y="221"/>
                    </a:lnTo>
                    <a:lnTo>
                      <a:pt x="118" y="259"/>
                    </a:lnTo>
                    <a:lnTo>
                      <a:pt x="201" y="221"/>
                    </a:lnTo>
                    <a:lnTo>
                      <a:pt x="236" y="130"/>
                    </a:lnTo>
                    <a:close/>
                  </a:path>
                </a:pathLst>
              </a:custGeom>
              <a:solidFill>
                <a:srgbClr val="000000"/>
              </a:solidFill>
              <a:ln w="0">
                <a:solidFill>
                  <a:srgbClr val="000000"/>
                </a:solidFill>
              </a:ln>
            </p:spPr>
            <p:style>
              <a:lnRef idx="0"/>
              <a:fillRef idx="0"/>
              <a:effectRef idx="0"/>
              <a:fontRef idx="minor"/>
            </p:style>
            <p:txBody>
              <a:bodyPr lIns="90000" rIns="90000" tIns="40680" bIns="40680" anchor="t">
                <a:noAutofit/>
              </a:bodyPr>
              <a:p>
                <a:endParaRPr b="1" lang="en-US" sz="1800" spc="-1" strike="noStrike">
                  <a:solidFill>
                    <a:srgbClr val="ffffff"/>
                  </a:solidFill>
                  <a:latin typeface="Castellar"/>
                </a:endParaRPr>
              </a:p>
            </p:txBody>
          </p:sp>
          <p:sp>
            <p:nvSpPr>
              <p:cNvPr id="186" name="Freeform 155"/>
              <p:cNvSpPr/>
              <p:nvPr/>
            </p:nvSpPr>
            <p:spPr>
              <a:xfrm>
                <a:off x="3497400" y="3514680"/>
                <a:ext cx="95760" cy="87120"/>
              </a:xfrm>
              <a:custGeom>
                <a:avLst/>
                <a:gdLst>
                  <a:gd name="textAreaLeft" fmla="*/ 0 w 95760"/>
                  <a:gd name="textAreaRight" fmla="*/ 96120 w 95760"/>
                  <a:gd name="textAreaTop" fmla="*/ 0 h 87120"/>
                  <a:gd name="textAreaBottom" fmla="*/ 87480 h 87120"/>
                </a:gdLst>
                <a:ahLst/>
                <a:rect l="textAreaLeft" t="textAreaTop" r="textAreaRight" b="textAreaBottom"/>
                <a:pathLst>
                  <a:path w="266" h="260">
                    <a:moveTo>
                      <a:pt x="266" y="130"/>
                    </a:moveTo>
                    <a:lnTo>
                      <a:pt x="226" y="38"/>
                    </a:lnTo>
                    <a:lnTo>
                      <a:pt x="133" y="0"/>
                    </a:lnTo>
                    <a:lnTo>
                      <a:pt x="40" y="38"/>
                    </a:lnTo>
                    <a:lnTo>
                      <a:pt x="0" y="130"/>
                    </a:lnTo>
                    <a:lnTo>
                      <a:pt x="40" y="221"/>
                    </a:lnTo>
                    <a:lnTo>
                      <a:pt x="133" y="260"/>
                    </a:lnTo>
                    <a:lnTo>
                      <a:pt x="226" y="221"/>
                    </a:lnTo>
                    <a:lnTo>
                      <a:pt x="266" y="130"/>
                    </a:lnTo>
                    <a:close/>
                  </a:path>
                </a:pathLst>
              </a:custGeom>
              <a:solidFill>
                <a:srgbClr val="000000"/>
              </a:solidFill>
              <a:ln w="0">
                <a:solidFill>
                  <a:srgbClr val="000000"/>
                </a:solidFill>
              </a:ln>
            </p:spPr>
            <p:style>
              <a:lnRef idx="0"/>
              <a:fillRef idx="0"/>
              <a:effectRef idx="0"/>
              <a:fontRef idx="minor"/>
            </p:style>
            <p:txBody>
              <a:bodyPr lIns="90000" rIns="90000" tIns="40680" bIns="40680" anchor="t">
                <a:noAutofit/>
              </a:bodyPr>
              <a:p>
                <a:endParaRPr b="1" lang="en-US" sz="1800" spc="-1" strike="noStrike">
                  <a:solidFill>
                    <a:srgbClr val="ffffff"/>
                  </a:solidFill>
                  <a:latin typeface="Castellar"/>
                </a:endParaRPr>
              </a:p>
            </p:txBody>
          </p:sp>
          <p:sp>
            <p:nvSpPr>
              <p:cNvPr id="187" name="Rectangle 156"/>
              <p:cNvSpPr/>
              <p:nvPr/>
            </p:nvSpPr>
            <p:spPr>
              <a:xfrm>
                <a:off x="2408040" y="3325320"/>
                <a:ext cx="888480" cy="40428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u="sng">
                    <a:solidFill>
                      <a:srgbClr val="ff0000"/>
                    </a:solidFill>
                    <a:uFillTx/>
                    <a:latin typeface="Times New Roman"/>
                  </a:rPr>
                  <a:t>Venezuela</a:t>
                </a:r>
                <a:endParaRPr b="1" lang="en-US" sz="1100" spc="-1" strike="noStrike">
                  <a:solidFill>
                    <a:srgbClr val="ffffff"/>
                  </a:solidFill>
                  <a:latin typeface="Castellar"/>
                </a:endParaRPr>
              </a:p>
            </p:txBody>
          </p:sp>
        </p:grpSp>
        <p:grpSp>
          <p:nvGrpSpPr>
            <p:cNvPr id="188" name="Group 157"/>
            <p:cNvGrpSpPr/>
            <p:nvPr/>
          </p:nvGrpSpPr>
          <p:grpSpPr>
            <a:xfrm>
              <a:off x="3200040" y="3536640"/>
              <a:ext cx="1222920" cy="959040"/>
              <a:chOff x="3200040" y="3536640"/>
              <a:chExt cx="1222920" cy="959040"/>
            </a:xfrm>
          </p:grpSpPr>
          <p:sp>
            <p:nvSpPr>
              <p:cNvPr id="189" name="Rectangle 158"/>
              <p:cNvSpPr/>
              <p:nvPr/>
            </p:nvSpPr>
            <p:spPr>
              <a:xfrm>
                <a:off x="3449880" y="3538440"/>
                <a:ext cx="973080" cy="9572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stellar"/>
                </a:endParaRPr>
              </a:p>
            </p:txBody>
          </p:sp>
          <p:sp>
            <p:nvSpPr>
              <p:cNvPr id="190" name="Freeform 159"/>
              <p:cNvSpPr/>
              <p:nvPr/>
            </p:nvSpPr>
            <p:spPr>
              <a:xfrm>
                <a:off x="3200040" y="3536640"/>
                <a:ext cx="810720" cy="854640"/>
              </a:xfrm>
              <a:custGeom>
                <a:avLst/>
                <a:gdLst>
                  <a:gd name="textAreaLeft" fmla="*/ 0 w 810720"/>
                  <a:gd name="textAreaRight" fmla="*/ 811080 w 810720"/>
                  <a:gd name="textAreaTop" fmla="*/ 0 h 854640"/>
                  <a:gd name="textAreaBottom" fmla="*/ 855000 h 854640"/>
                </a:gdLst>
                <a:ahLst/>
                <a:rect l="textAreaLeft" t="textAreaTop" r="textAreaRight" b="textAreaBottom"/>
                <a:pathLst>
                  <a:path w="2250" h="2548">
                    <a:moveTo>
                      <a:pt x="709" y="2288"/>
                    </a:moveTo>
                    <a:lnTo>
                      <a:pt x="562" y="2268"/>
                    </a:lnTo>
                    <a:lnTo>
                      <a:pt x="448" y="2241"/>
                    </a:lnTo>
                    <a:lnTo>
                      <a:pt x="375" y="2159"/>
                    </a:lnTo>
                    <a:lnTo>
                      <a:pt x="301" y="2105"/>
                    </a:lnTo>
                    <a:lnTo>
                      <a:pt x="269" y="2042"/>
                    </a:lnTo>
                    <a:lnTo>
                      <a:pt x="253" y="1967"/>
                    </a:lnTo>
                    <a:lnTo>
                      <a:pt x="213" y="1941"/>
                    </a:lnTo>
                    <a:lnTo>
                      <a:pt x="180" y="1967"/>
                    </a:lnTo>
                    <a:lnTo>
                      <a:pt x="171" y="1932"/>
                    </a:lnTo>
                    <a:lnTo>
                      <a:pt x="114" y="1858"/>
                    </a:lnTo>
                    <a:lnTo>
                      <a:pt x="105" y="1822"/>
                    </a:lnTo>
                    <a:lnTo>
                      <a:pt x="171" y="1776"/>
                    </a:lnTo>
                    <a:lnTo>
                      <a:pt x="213" y="1731"/>
                    </a:lnTo>
                    <a:lnTo>
                      <a:pt x="180" y="1658"/>
                    </a:lnTo>
                    <a:lnTo>
                      <a:pt x="155" y="1613"/>
                    </a:lnTo>
                    <a:lnTo>
                      <a:pt x="97" y="1613"/>
                    </a:lnTo>
                    <a:lnTo>
                      <a:pt x="57" y="1577"/>
                    </a:lnTo>
                    <a:lnTo>
                      <a:pt x="49" y="1541"/>
                    </a:lnTo>
                    <a:lnTo>
                      <a:pt x="82" y="1485"/>
                    </a:lnTo>
                    <a:lnTo>
                      <a:pt x="32" y="1421"/>
                    </a:lnTo>
                    <a:lnTo>
                      <a:pt x="32" y="1322"/>
                    </a:lnTo>
                    <a:lnTo>
                      <a:pt x="0" y="1286"/>
                    </a:lnTo>
                    <a:lnTo>
                      <a:pt x="15" y="1122"/>
                    </a:lnTo>
                    <a:lnTo>
                      <a:pt x="49" y="1131"/>
                    </a:lnTo>
                    <a:lnTo>
                      <a:pt x="138" y="1011"/>
                    </a:lnTo>
                    <a:lnTo>
                      <a:pt x="171" y="912"/>
                    </a:lnTo>
                    <a:lnTo>
                      <a:pt x="203" y="875"/>
                    </a:lnTo>
                    <a:lnTo>
                      <a:pt x="219" y="785"/>
                    </a:lnTo>
                    <a:lnTo>
                      <a:pt x="236" y="593"/>
                    </a:lnTo>
                    <a:lnTo>
                      <a:pt x="294" y="512"/>
                    </a:lnTo>
                    <a:lnTo>
                      <a:pt x="219" y="456"/>
                    </a:lnTo>
                    <a:lnTo>
                      <a:pt x="228" y="401"/>
                    </a:lnTo>
                    <a:lnTo>
                      <a:pt x="277" y="293"/>
                    </a:lnTo>
                    <a:lnTo>
                      <a:pt x="310" y="248"/>
                    </a:lnTo>
                    <a:lnTo>
                      <a:pt x="465" y="83"/>
                    </a:lnTo>
                    <a:lnTo>
                      <a:pt x="562" y="0"/>
                    </a:lnTo>
                    <a:lnTo>
                      <a:pt x="637" y="74"/>
                    </a:lnTo>
                    <a:lnTo>
                      <a:pt x="644" y="184"/>
                    </a:lnTo>
                    <a:lnTo>
                      <a:pt x="693" y="237"/>
                    </a:lnTo>
                    <a:lnTo>
                      <a:pt x="709" y="284"/>
                    </a:lnTo>
                    <a:lnTo>
                      <a:pt x="685" y="375"/>
                    </a:lnTo>
                    <a:lnTo>
                      <a:pt x="701" y="439"/>
                    </a:lnTo>
                    <a:lnTo>
                      <a:pt x="701" y="519"/>
                    </a:lnTo>
                    <a:lnTo>
                      <a:pt x="693" y="602"/>
                    </a:lnTo>
                    <a:lnTo>
                      <a:pt x="693" y="693"/>
                    </a:lnTo>
                    <a:lnTo>
                      <a:pt x="644" y="812"/>
                    </a:lnTo>
                    <a:lnTo>
                      <a:pt x="669" y="912"/>
                    </a:lnTo>
                    <a:lnTo>
                      <a:pt x="751" y="930"/>
                    </a:lnTo>
                    <a:lnTo>
                      <a:pt x="831" y="966"/>
                    </a:lnTo>
                    <a:lnTo>
                      <a:pt x="857" y="1011"/>
                    </a:lnTo>
                    <a:lnTo>
                      <a:pt x="848" y="1076"/>
                    </a:lnTo>
                    <a:lnTo>
                      <a:pt x="923" y="1085"/>
                    </a:lnTo>
                    <a:lnTo>
                      <a:pt x="971" y="1011"/>
                    </a:lnTo>
                    <a:lnTo>
                      <a:pt x="995" y="1022"/>
                    </a:lnTo>
                    <a:lnTo>
                      <a:pt x="1020" y="1002"/>
                    </a:lnTo>
                    <a:lnTo>
                      <a:pt x="1052" y="1058"/>
                    </a:lnTo>
                    <a:lnTo>
                      <a:pt x="1110" y="1095"/>
                    </a:lnTo>
                    <a:lnTo>
                      <a:pt x="1191" y="1067"/>
                    </a:lnTo>
                    <a:lnTo>
                      <a:pt x="1240" y="1058"/>
                    </a:lnTo>
                    <a:lnTo>
                      <a:pt x="1386" y="1140"/>
                    </a:lnTo>
                    <a:lnTo>
                      <a:pt x="1443" y="1186"/>
                    </a:lnTo>
                    <a:lnTo>
                      <a:pt x="1460" y="1221"/>
                    </a:lnTo>
                    <a:lnTo>
                      <a:pt x="1550" y="1250"/>
                    </a:lnTo>
                    <a:lnTo>
                      <a:pt x="1664" y="1203"/>
                    </a:lnTo>
                    <a:lnTo>
                      <a:pt x="1795" y="1176"/>
                    </a:lnTo>
                    <a:lnTo>
                      <a:pt x="1868" y="1203"/>
                    </a:lnTo>
                    <a:lnTo>
                      <a:pt x="1936" y="1209"/>
                    </a:lnTo>
                    <a:lnTo>
                      <a:pt x="2084" y="1404"/>
                    </a:lnTo>
                    <a:lnTo>
                      <a:pt x="2143" y="1437"/>
                    </a:lnTo>
                    <a:lnTo>
                      <a:pt x="2250" y="1638"/>
                    </a:lnTo>
                    <a:lnTo>
                      <a:pt x="2216" y="1755"/>
                    </a:lnTo>
                    <a:lnTo>
                      <a:pt x="2163" y="1817"/>
                    </a:lnTo>
                    <a:lnTo>
                      <a:pt x="2099" y="1933"/>
                    </a:lnTo>
                    <a:lnTo>
                      <a:pt x="1995" y="1976"/>
                    </a:lnTo>
                    <a:lnTo>
                      <a:pt x="1898" y="2029"/>
                    </a:lnTo>
                    <a:lnTo>
                      <a:pt x="1823" y="2104"/>
                    </a:lnTo>
                    <a:lnTo>
                      <a:pt x="1741" y="2157"/>
                    </a:lnTo>
                    <a:lnTo>
                      <a:pt x="1697" y="2183"/>
                    </a:lnTo>
                    <a:lnTo>
                      <a:pt x="1539" y="2219"/>
                    </a:lnTo>
                    <a:lnTo>
                      <a:pt x="1407" y="2198"/>
                    </a:lnTo>
                    <a:lnTo>
                      <a:pt x="1279" y="2262"/>
                    </a:lnTo>
                    <a:lnTo>
                      <a:pt x="1212" y="2331"/>
                    </a:lnTo>
                    <a:lnTo>
                      <a:pt x="1241" y="2479"/>
                    </a:lnTo>
                    <a:lnTo>
                      <a:pt x="1162" y="2548"/>
                    </a:lnTo>
                    <a:lnTo>
                      <a:pt x="1064" y="2442"/>
                    </a:lnTo>
                    <a:lnTo>
                      <a:pt x="956" y="2415"/>
                    </a:lnTo>
                    <a:lnTo>
                      <a:pt x="898" y="2384"/>
                    </a:lnTo>
                    <a:lnTo>
                      <a:pt x="804" y="2326"/>
                    </a:lnTo>
                    <a:lnTo>
                      <a:pt x="711" y="2283"/>
                    </a:lnTo>
                    <a:lnTo>
                      <a:pt x="709" y="2288"/>
                    </a:lnTo>
                    <a:close/>
                  </a:path>
                </a:pathLst>
              </a:custGeom>
              <a:solidFill>
                <a:srgbClr val="000000"/>
              </a:solidFill>
              <a:ln w="0">
                <a:solidFill>
                  <a:srgbClr val="ffffff"/>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grpSp>
        <p:sp>
          <p:nvSpPr>
            <p:cNvPr id="191" name="Line 160"/>
            <p:cNvSpPr/>
            <p:nvPr/>
          </p:nvSpPr>
          <p:spPr>
            <a:xfrm flipV="1">
              <a:off x="3416040" y="2382480"/>
              <a:ext cx="1316160" cy="11854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192" name="Rectangle 161"/>
            <p:cNvSpPr/>
            <p:nvPr/>
          </p:nvSpPr>
          <p:spPr>
            <a:xfrm>
              <a:off x="4784400" y="2430360"/>
              <a:ext cx="2430720" cy="2998440"/>
            </a:xfrm>
            <a:prstGeom prst="rect">
              <a:avLst/>
            </a:prstGeom>
            <a:gradFill rotWithShape="0">
              <a:gsLst>
                <a:gs pos="0">
                  <a:srgbClr val="00cc99"/>
                </a:gs>
                <a:gs pos="100000">
                  <a:srgbClr val="99ffcc"/>
                </a:gs>
              </a:gsLst>
              <a:lin ang="5400000"/>
            </a:gra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stellar"/>
              </a:endParaRPr>
            </a:p>
          </p:txBody>
        </p:sp>
        <p:sp>
          <p:nvSpPr>
            <p:cNvPr id="193" name="Line 162"/>
            <p:cNvSpPr/>
            <p:nvPr/>
          </p:nvSpPr>
          <p:spPr>
            <a:xfrm>
              <a:off x="3524040" y="4377960"/>
              <a:ext cx="1208160" cy="10083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194" name="Line 163"/>
            <p:cNvSpPr/>
            <p:nvPr/>
          </p:nvSpPr>
          <p:spPr>
            <a:xfrm>
              <a:off x="3876840" y="4232880"/>
              <a:ext cx="855360" cy="37296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195" name="Freeform 164"/>
            <p:cNvSpPr/>
            <p:nvPr/>
          </p:nvSpPr>
          <p:spPr>
            <a:xfrm>
              <a:off x="3421440" y="3652920"/>
              <a:ext cx="796320" cy="552960"/>
            </a:xfrm>
            <a:custGeom>
              <a:avLst/>
              <a:gdLst>
                <a:gd name="textAreaLeft" fmla="*/ 0 w 796320"/>
                <a:gd name="textAreaRight" fmla="*/ 796680 w 796320"/>
                <a:gd name="textAreaTop" fmla="*/ 0 h 552960"/>
                <a:gd name="textAreaBottom" fmla="*/ 553320 h 552960"/>
              </a:gdLst>
              <a:ahLst/>
              <a:rect l="textAreaLeft" t="textAreaTop" r="textAreaRight" b="textAreaBottom"/>
              <a:pathLst>
                <a:path w="841" h="416">
                  <a:moveTo>
                    <a:pt x="0" y="416"/>
                  </a:moveTo>
                  <a:lnTo>
                    <a:pt x="0" y="346"/>
                  </a:lnTo>
                  <a:lnTo>
                    <a:pt x="841"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196" name="Freeform 165"/>
            <p:cNvSpPr/>
            <p:nvPr/>
          </p:nvSpPr>
          <p:spPr>
            <a:xfrm>
              <a:off x="5790240" y="4587840"/>
              <a:ext cx="89640" cy="90360"/>
            </a:xfrm>
            <a:custGeom>
              <a:avLst/>
              <a:gdLst>
                <a:gd name="textAreaLeft" fmla="*/ 0 w 89640"/>
                <a:gd name="textAreaRight" fmla="*/ 90000 w 89640"/>
                <a:gd name="textAreaTop" fmla="*/ 0 h 90360"/>
                <a:gd name="textAreaBottom" fmla="*/ 90720 h 90360"/>
              </a:gdLst>
              <a:ahLst/>
              <a:rect l="textAreaLeft" t="textAreaTop" r="textAreaRight" b="textAreaBottom"/>
              <a:pathLst>
                <a:path w="248" h="270">
                  <a:moveTo>
                    <a:pt x="0" y="0"/>
                  </a:moveTo>
                  <a:lnTo>
                    <a:pt x="248" y="98"/>
                  </a:lnTo>
                  <a:lnTo>
                    <a:pt x="76" y="270"/>
                  </a:lnTo>
                  <a:lnTo>
                    <a:pt x="0" y="0"/>
                  </a:lnTo>
                  <a:close/>
                </a:path>
              </a:pathLst>
            </a:custGeom>
            <a:solidFill>
              <a:srgbClr val="ff0000"/>
            </a:solidFill>
            <a:ln w="0">
              <a:solidFill>
                <a:srgbClr val="ff0000"/>
              </a:solidFill>
            </a:ln>
          </p:spPr>
          <p:style>
            <a:lnRef idx="0"/>
            <a:fillRef idx="0"/>
            <a:effectRef idx="0"/>
            <a:fontRef idx="minor"/>
          </p:style>
          <p:txBody>
            <a:bodyPr lIns="90000" rIns="90000" tIns="43920" bIns="43920" anchor="t">
              <a:noAutofit/>
            </a:bodyPr>
            <a:p>
              <a:endParaRPr b="1" lang="en-US" sz="1800" spc="-1" strike="noStrike">
                <a:solidFill>
                  <a:srgbClr val="ffffff"/>
                </a:solidFill>
                <a:latin typeface="Castellar"/>
              </a:endParaRPr>
            </a:p>
          </p:txBody>
        </p:sp>
        <p:sp>
          <p:nvSpPr>
            <p:cNvPr id="197" name="Freeform 166"/>
            <p:cNvSpPr/>
            <p:nvPr/>
          </p:nvSpPr>
          <p:spPr>
            <a:xfrm>
              <a:off x="5063760" y="3665520"/>
              <a:ext cx="86040" cy="91800"/>
            </a:xfrm>
            <a:custGeom>
              <a:avLst/>
              <a:gdLst>
                <a:gd name="textAreaLeft" fmla="*/ 0 w 86040"/>
                <a:gd name="textAreaRight" fmla="*/ 86400 w 86040"/>
                <a:gd name="textAreaTop" fmla="*/ 0 h 91800"/>
                <a:gd name="textAreaBottom" fmla="*/ 92160 h 91800"/>
              </a:gdLst>
              <a:ahLst/>
              <a:rect l="textAreaLeft" t="textAreaTop" r="textAreaRight" b="textAreaBottom"/>
              <a:pathLst>
                <a:path w="241" h="274">
                  <a:moveTo>
                    <a:pt x="241" y="0"/>
                  </a:moveTo>
                  <a:lnTo>
                    <a:pt x="184" y="274"/>
                  </a:lnTo>
                  <a:lnTo>
                    <a:pt x="0" y="115"/>
                  </a:lnTo>
                  <a:lnTo>
                    <a:pt x="241" y="0"/>
                  </a:lnTo>
                  <a:close/>
                </a:path>
              </a:pathLst>
            </a:custGeom>
            <a:noFill/>
            <a:ln w="0">
              <a:solidFill>
                <a:srgbClr val="ff0000"/>
              </a:solidFill>
            </a:ln>
          </p:spPr>
          <p:style>
            <a:lnRef idx="0"/>
            <a:fillRef idx="0"/>
            <a:effectRef idx="0"/>
            <a:fontRef idx="minor"/>
          </p:style>
          <p:txBody>
            <a:bodyPr lIns="90000" rIns="90000" tIns="45360" bIns="45360" anchor="t">
              <a:noAutofit/>
            </a:bodyPr>
            <a:p>
              <a:endParaRPr b="1" lang="en-US" sz="1800" spc="-1" strike="noStrike">
                <a:solidFill>
                  <a:srgbClr val="ffffff"/>
                </a:solidFill>
                <a:latin typeface="Castellar"/>
              </a:endParaRPr>
            </a:p>
          </p:txBody>
        </p:sp>
        <p:sp>
          <p:nvSpPr>
            <p:cNvPr id="198" name="Freeform 167"/>
            <p:cNvSpPr/>
            <p:nvPr/>
          </p:nvSpPr>
          <p:spPr>
            <a:xfrm>
              <a:off x="5445000" y="3544920"/>
              <a:ext cx="363600" cy="1059120"/>
            </a:xfrm>
            <a:custGeom>
              <a:avLst/>
              <a:gdLst>
                <a:gd name="textAreaLeft" fmla="*/ 0 w 363600"/>
                <a:gd name="textAreaRight" fmla="*/ 363960 w 363600"/>
                <a:gd name="textAreaTop" fmla="*/ 0 h 1059120"/>
                <a:gd name="textAreaBottom" fmla="*/ 1059480 h 1059120"/>
              </a:gdLst>
              <a:ahLst/>
              <a:rect l="textAreaLeft" t="textAreaTop" r="textAreaRight" b="textAreaBottom"/>
              <a:pathLst>
                <a:path w="1008" h="3159">
                  <a:moveTo>
                    <a:pt x="343" y="0"/>
                  </a:moveTo>
                  <a:lnTo>
                    <a:pt x="379" y="53"/>
                  </a:lnTo>
                  <a:lnTo>
                    <a:pt x="423" y="129"/>
                  </a:lnTo>
                  <a:lnTo>
                    <a:pt x="379" y="188"/>
                  </a:lnTo>
                  <a:lnTo>
                    <a:pt x="270" y="352"/>
                  </a:lnTo>
                  <a:lnTo>
                    <a:pt x="190" y="478"/>
                  </a:lnTo>
                  <a:lnTo>
                    <a:pt x="146" y="643"/>
                  </a:lnTo>
                  <a:lnTo>
                    <a:pt x="227" y="927"/>
                  </a:lnTo>
                  <a:lnTo>
                    <a:pt x="263" y="1173"/>
                  </a:lnTo>
                  <a:lnTo>
                    <a:pt x="234" y="1338"/>
                  </a:lnTo>
                  <a:lnTo>
                    <a:pt x="161" y="1503"/>
                  </a:lnTo>
                  <a:lnTo>
                    <a:pt x="205" y="1801"/>
                  </a:lnTo>
                  <a:lnTo>
                    <a:pt x="211" y="2024"/>
                  </a:lnTo>
                  <a:lnTo>
                    <a:pt x="256" y="2204"/>
                  </a:lnTo>
                  <a:lnTo>
                    <a:pt x="402" y="2323"/>
                  </a:lnTo>
                  <a:lnTo>
                    <a:pt x="511" y="2301"/>
                  </a:lnTo>
                  <a:lnTo>
                    <a:pt x="497" y="2255"/>
                  </a:lnTo>
                  <a:lnTo>
                    <a:pt x="584" y="2286"/>
                  </a:lnTo>
                  <a:lnTo>
                    <a:pt x="613" y="2270"/>
                  </a:lnTo>
                  <a:lnTo>
                    <a:pt x="628" y="2301"/>
                  </a:lnTo>
                  <a:lnTo>
                    <a:pt x="613" y="2338"/>
                  </a:lnTo>
                  <a:lnTo>
                    <a:pt x="825" y="2450"/>
                  </a:lnTo>
                  <a:lnTo>
                    <a:pt x="848" y="2516"/>
                  </a:lnTo>
                  <a:lnTo>
                    <a:pt x="920" y="2576"/>
                  </a:lnTo>
                  <a:lnTo>
                    <a:pt x="979" y="2600"/>
                  </a:lnTo>
                  <a:lnTo>
                    <a:pt x="987" y="2644"/>
                  </a:lnTo>
                  <a:lnTo>
                    <a:pt x="920" y="2883"/>
                  </a:lnTo>
                  <a:lnTo>
                    <a:pt x="920" y="3063"/>
                  </a:lnTo>
                  <a:lnTo>
                    <a:pt x="1008" y="3122"/>
                  </a:lnTo>
                  <a:lnTo>
                    <a:pt x="956" y="3115"/>
                  </a:lnTo>
                  <a:lnTo>
                    <a:pt x="964" y="3159"/>
                  </a:lnTo>
                  <a:lnTo>
                    <a:pt x="876" y="3056"/>
                  </a:lnTo>
                  <a:lnTo>
                    <a:pt x="884" y="2847"/>
                  </a:lnTo>
                  <a:lnTo>
                    <a:pt x="920" y="2628"/>
                  </a:lnTo>
                  <a:lnTo>
                    <a:pt x="803" y="2556"/>
                  </a:lnTo>
                  <a:lnTo>
                    <a:pt x="672" y="2419"/>
                  </a:lnTo>
                  <a:lnTo>
                    <a:pt x="373" y="2367"/>
                  </a:lnTo>
                  <a:lnTo>
                    <a:pt x="219" y="2249"/>
                  </a:lnTo>
                  <a:lnTo>
                    <a:pt x="168" y="2068"/>
                  </a:lnTo>
                  <a:lnTo>
                    <a:pt x="139" y="1793"/>
                  </a:lnTo>
                  <a:lnTo>
                    <a:pt x="67" y="1673"/>
                  </a:lnTo>
                  <a:lnTo>
                    <a:pt x="0" y="1665"/>
                  </a:lnTo>
                  <a:lnTo>
                    <a:pt x="7" y="1628"/>
                  </a:lnTo>
                  <a:lnTo>
                    <a:pt x="124" y="1606"/>
                  </a:lnTo>
                  <a:lnTo>
                    <a:pt x="132" y="1398"/>
                  </a:lnTo>
                  <a:lnTo>
                    <a:pt x="183" y="1241"/>
                  </a:lnTo>
                  <a:lnTo>
                    <a:pt x="154" y="1165"/>
                  </a:lnTo>
                  <a:lnTo>
                    <a:pt x="161" y="1092"/>
                  </a:lnTo>
                  <a:lnTo>
                    <a:pt x="190" y="979"/>
                  </a:lnTo>
                  <a:lnTo>
                    <a:pt x="102" y="666"/>
                  </a:lnTo>
                  <a:lnTo>
                    <a:pt x="44" y="630"/>
                  </a:lnTo>
                  <a:lnTo>
                    <a:pt x="59" y="575"/>
                  </a:lnTo>
                  <a:lnTo>
                    <a:pt x="111" y="569"/>
                  </a:lnTo>
                  <a:lnTo>
                    <a:pt x="247" y="285"/>
                  </a:lnTo>
                  <a:lnTo>
                    <a:pt x="365" y="135"/>
                  </a:lnTo>
                  <a:lnTo>
                    <a:pt x="306" y="37"/>
                  </a:lnTo>
                  <a:lnTo>
                    <a:pt x="343" y="0"/>
                  </a:lnTo>
                  <a:close/>
                </a:path>
              </a:pathLst>
            </a:custGeom>
            <a:solidFill>
              <a:srgbClr val="0000ff"/>
            </a:solidFill>
            <a:ln w="0">
              <a:solidFill>
                <a:srgbClr val="0000ff"/>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199" name="Freeform 168"/>
            <p:cNvSpPr/>
            <p:nvPr/>
          </p:nvSpPr>
          <p:spPr>
            <a:xfrm>
              <a:off x="5301720" y="3073320"/>
              <a:ext cx="392040" cy="484560"/>
            </a:xfrm>
            <a:custGeom>
              <a:avLst/>
              <a:gdLst>
                <a:gd name="textAreaLeft" fmla="*/ 0 w 392040"/>
                <a:gd name="textAreaRight" fmla="*/ 392400 w 392040"/>
                <a:gd name="textAreaTop" fmla="*/ 0 h 484560"/>
                <a:gd name="textAreaBottom" fmla="*/ 484920 h 484560"/>
              </a:gdLst>
              <a:ahLst/>
              <a:rect l="textAreaLeft" t="textAreaTop" r="textAreaRight" b="textAreaBottom"/>
              <a:pathLst>
                <a:path w="1090" h="1445">
                  <a:moveTo>
                    <a:pt x="655" y="8"/>
                  </a:moveTo>
                  <a:lnTo>
                    <a:pt x="678" y="39"/>
                  </a:lnTo>
                  <a:lnTo>
                    <a:pt x="777" y="62"/>
                  </a:lnTo>
                  <a:lnTo>
                    <a:pt x="830" y="0"/>
                  </a:lnTo>
                  <a:lnTo>
                    <a:pt x="910" y="28"/>
                  </a:lnTo>
                  <a:lnTo>
                    <a:pt x="981" y="78"/>
                  </a:lnTo>
                  <a:lnTo>
                    <a:pt x="1090" y="78"/>
                  </a:lnTo>
                  <a:lnTo>
                    <a:pt x="1016" y="148"/>
                  </a:lnTo>
                  <a:lnTo>
                    <a:pt x="1012" y="227"/>
                  </a:lnTo>
                  <a:lnTo>
                    <a:pt x="821" y="265"/>
                  </a:lnTo>
                  <a:lnTo>
                    <a:pt x="1012" y="371"/>
                  </a:lnTo>
                  <a:lnTo>
                    <a:pt x="963" y="487"/>
                  </a:lnTo>
                  <a:lnTo>
                    <a:pt x="891" y="557"/>
                  </a:lnTo>
                  <a:lnTo>
                    <a:pt x="968" y="650"/>
                  </a:lnTo>
                  <a:lnTo>
                    <a:pt x="960" y="702"/>
                  </a:lnTo>
                  <a:lnTo>
                    <a:pt x="849" y="780"/>
                  </a:lnTo>
                  <a:lnTo>
                    <a:pt x="801" y="732"/>
                  </a:lnTo>
                  <a:lnTo>
                    <a:pt x="743" y="786"/>
                  </a:lnTo>
                  <a:lnTo>
                    <a:pt x="724" y="897"/>
                  </a:lnTo>
                  <a:lnTo>
                    <a:pt x="849" y="950"/>
                  </a:lnTo>
                  <a:lnTo>
                    <a:pt x="610" y="1067"/>
                  </a:lnTo>
                  <a:lnTo>
                    <a:pt x="599" y="1185"/>
                  </a:lnTo>
                  <a:lnTo>
                    <a:pt x="658" y="1250"/>
                  </a:lnTo>
                  <a:lnTo>
                    <a:pt x="583" y="1223"/>
                  </a:lnTo>
                  <a:lnTo>
                    <a:pt x="617" y="1340"/>
                  </a:lnTo>
                  <a:lnTo>
                    <a:pt x="537" y="1254"/>
                  </a:lnTo>
                  <a:lnTo>
                    <a:pt x="419" y="1325"/>
                  </a:lnTo>
                  <a:lnTo>
                    <a:pt x="320" y="1353"/>
                  </a:lnTo>
                  <a:lnTo>
                    <a:pt x="254" y="1312"/>
                  </a:lnTo>
                  <a:lnTo>
                    <a:pt x="172" y="1353"/>
                  </a:lnTo>
                  <a:lnTo>
                    <a:pt x="149" y="1445"/>
                  </a:lnTo>
                  <a:lnTo>
                    <a:pt x="108" y="1340"/>
                  </a:lnTo>
                  <a:lnTo>
                    <a:pt x="39" y="1254"/>
                  </a:lnTo>
                  <a:lnTo>
                    <a:pt x="108" y="1254"/>
                  </a:lnTo>
                  <a:lnTo>
                    <a:pt x="202" y="1169"/>
                  </a:lnTo>
                  <a:lnTo>
                    <a:pt x="240" y="1185"/>
                  </a:lnTo>
                  <a:lnTo>
                    <a:pt x="384" y="1181"/>
                  </a:lnTo>
                  <a:lnTo>
                    <a:pt x="315" y="994"/>
                  </a:lnTo>
                  <a:lnTo>
                    <a:pt x="230" y="1009"/>
                  </a:lnTo>
                  <a:lnTo>
                    <a:pt x="145" y="1009"/>
                  </a:lnTo>
                  <a:lnTo>
                    <a:pt x="39" y="1048"/>
                  </a:lnTo>
                  <a:lnTo>
                    <a:pt x="0" y="947"/>
                  </a:lnTo>
                  <a:lnTo>
                    <a:pt x="74" y="857"/>
                  </a:lnTo>
                  <a:lnTo>
                    <a:pt x="289" y="784"/>
                  </a:lnTo>
                  <a:lnTo>
                    <a:pt x="320" y="721"/>
                  </a:lnTo>
                  <a:lnTo>
                    <a:pt x="392" y="690"/>
                  </a:lnTo>
                  <a:lnTo>
                    <a:pt x="484" y="697"/>
                  </a:lnTo>
                  <a:lnTo>
                    <a:pt x="480" y="604"/>
                  </a:lnTo>
                  <a:lnTo>
                    <a:pt x="401" y="548"/>
                  </a:lnTo>
                  <a:lnTo>
                    <a:pt x="355" y="503"/>
                  </a:lnTo>
                  <a:lnTo>
                    <a:pt x="315" y="343"/>
                  </a:lnTo>
                  <a:lnTo>
                    <a:pt x="423" y="346"/>
                  </a:lnTo>
                  <a:lnTo>
                    <a:pt x="411" y="285"/>
                  </a:lnTo>
                  <a:lnTo>
                    <a:pt x="365" y="253"/>
                  </a:lnTo>
                  <a:lnTo>
                    <a:pt x="438" y="211"/>
                  </a:lnTo>
                  <a:lnTo>
                    <a:pt x="365" y="176"/>
                  </a:lnTo>
                  <a:lnTo>
                    <a:pt x="293" y="199"/>
                  </a:lnTo>
                  <a:lnTo>
                    <a:pt x="315" y="117"/>
                  </a:lnTo>
                  <a:lnTo>
                    <a:pt x="384" y="78"/>
                  </a:lnTo>
                  <a:lnTo>
                    <a:pt x="511" y="66"/>
                  </a:lnTo>
                  <a:lnTo>
                    <a:pt x="658" y="4"/>
                  </a:lnTo>
                  <a:lnTo>
                    <a:pt x="655" y="8"/>
                  </a:lnTo>
                  <a:close/>
                </a:path>
              </a:pathLst>
            </a:custGeom>
            <a:solidFill>
              <a:srgbClr val="0000ff"/>
            </a:solidFill>
            <a:ln w="0">
              <a:solidFill>
                <a:srgbClr val="0000ff"/>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200" name="Freeform 169"/>
            <p:cNvSpPr/>
            <p:nvPr/>
          </p:nvSpPr>
          <p:spPr>
            <a:xfrm>
              <a:off x="5511240" y="3483000"/>
              <a:ext cx="89640" cy="89280"/>
            </a:xfrm>
            <a:custGeom>
              <a:avLst/>
              <a:gdLst>
                <a:gd name="textAreaLeft" fmla="*/ 0 w 89640"/>
                <a:gd name="textAreaRight" fmla="*/ 90000 w 89640"/>
                <a:gd name="textAreaTop" fmla="*/ 0 h 89280"/>
                <a:gd name="textAreaBottom" fmla="*/ 89280 h 89280"/>
              </a:gdLst>
              <a:ahLst/>
              <a:rect l="textAreaLeft" t="textAreaTop" r="textAreaRight" b="textAreaBottom"/>
              <a:pathLst>
                <a:path w="249" h="267">
                  <a:moveTo>
                    <a:pt x="0" y="0"/>
                  </a:moveTo>
                  <a:lnTo>
                    <a:pt x="249" y="89"/>
                  </a:lnTo>
                  <a:lnTo>
                    <a:pt x="82" y="267"/>
                  </a:lnTo>
                  <a:lnTo>
                    <a:pt x="0" y="0"/>
                  </a:lnTo>
                  <a:close/>
                </a:path>
              </a:pathLst>
            </a:custGeom>
            <a:noFill/>
            <a:ln w="0">
              <a:solidFill>
                <a:srgbClr val="ff0000"/>
              </a:solidFill>
            </a:ln>
          </p:spPr>
          <p:style>
            <a:lnRef idx="0"/>
            <a:fillRef idx="0"/>
            <a:effectRef idx="0"/>
            <a:fontRef idx="minor"/>
          </p:style>
          <p:txBody>
            <a:bodyPr lIns="90000" rIns="90000" tIns="42480" bIns="42480" anchor="t">
              <a:noAutofit/>
            </a:bodyPr>
            <a:p>
              <a:endParaRPr b="1" lang="en-US" sz="1800" spc="-1" strike="noStrike">
                <a:solidFill>
                  <a:srgbClr val="ffffff"/>
                </a:solidFill>
                <a:latin typeface="Castellar"/>
              </a:endParaRPr>
            </a:p>
          </p:txBody>
        </p:sp>
        <p:sp>
          <p:nvSpPr>
            <p:cNvPr id="201" name="Freeform 170"/>
            <p:cNvSpPr/>
            <p:nvPr/>
          </p:nvSpPr>
          <p:spPr>
            <a:xfrm>
              <a:off x="5596920" y="2759760"/>
              <a:ext cx="60120" cy="60840"/>
            </a:xfrm>
            <a:custGeom>
              <a:avLst/>
              <a:gdLst>
                <a:gd name="textAreaLeft" fmla="*/ 0 w 60120"/>
                <a:gd name="textAreaRight" fmla="*/ 60480 w 60120"/>
                <a:gd name="textAreaTop" fmla="*/ 0 h 60840"/>
                <a:gd name="textAreaBottom" fmla="*/ 61200 h 60840"/>
              </a:gdLst>
              <a:ahLst/>
              <a:rect l="textAreaLeft" t="textAreaTop" r="textAreaRight" b="textAreaBottom"/>
              <a:pathLst>
                <a:path w="168" h="184">
                  <a:moveTo>
                    <a:pt x="120" y="0"/>
                  </a:moveTo>
                  <a:lnTo>
                    <a:pt x="168" y="35"/>
                  </a:lnTo>
                  <a:lnTo>
                    <a:pt x="149" y="50"/>
                  </a:lnTo>
                  <a:lnTo>
                    <a:pt x="91" y="145"/>
                  </a:lnTo>
                  <a:lnTo>
                    <a:pt x="0" y="184"/>
                  </a:lnTo>
                  <a:lnTo>
                    <a:pt x="27" y="114"/>
                  </a:lnTo>
                  <a:lnTo>
                    <a:pt x="5" y="115"/>
                  </a:lnTo>
                  <a:lnTo>
                    <a:pt x="37" y="68"/>
                  </a:lnTo>
                  <a:lnTo>
                    <a:pt x="120" y="2"/>
                  </a:lnTo>
                  <a:lnTo>
                    <a:pt x="120" y="0"/>
                  </a:lnTo>
                  <a:close/>
                </a:path>
              </a:pathLst>
            </a:custGeom>
            <a:solidFill>
              <a:srgbClr val="0000ff"/>
            </a:solidFill>
            <a:ln w="0">
              <a:solidFill>
                <a:srgbClr val="0000ff"/>
              </a:solidFill>
            </a:ln>
          </p:spPr>
          <p:style>
            <a:lnRef idx="0"/>
            <a:fillRef idx="0"/>
            <a:effectRef idx="0"/>
            <a:fontRef idx="minor"/>
          </p:style>
          <p:txBody>
            <a:bodyPr lIns="90000" rIns="90000" tIns="14400" bIns="14400" anchor="t">
              <a:noAutofit/>
            </a:bodyPr>
            <a:p>
              <a:endParaRPr b="1" lang="en-US" sz="1800" spc="-1" strike="noStrike">
                <a:solidFill>
                  <a:srgbClr val="ffffff"/>
                </a:solidFill>
                <a:latin typeface="Castellar"/>
              </a:endParaRPr>
            </a:p>
          </p:txBody>
        </p:sp>
        <p:sp>
          <p:nvSpPr>
            <p:cNvPr id="202" name="Freeform 171"/>
            <p:cNvSpPr/>
            <p:nvPr/>
          </p:nvSpPr>
          <p:spPr>
            <a:xfrm>
              <a:off x="5450760" y="2837160"/>
              <a:ext cx="93960" cy="66240"/>
            </a:xfrm>
            <a:custGeom>
              <a:avLst/>
              <a:gdLst>
                <a:gd name="textAreaLeft" fmla="*/ 0 w 93960"/>
                <a:gd name="textAreaRight" fmla="*/ 94320 w 93960"/>
                <a:gd name="textAreaTop" fmla="*/ 0 h 66240"/>
                <a:gd name="textAreaBottom" fmla="*/ 66600 h 66240"/>
              </a:gdLst>
              <a:ahLst/>
              <a:rect l="textAreaLeft" t="textAreaTop" r="textAreaRight" b="textAreaBottom"/>
              <a:pathLst>
                <a:path w="259" h="197">
                  <a:moveTo>
                    <a:pt x="206" y="0"/>
                  </a:moveTo>
                  <a:lnTo>
                    <a:pt x="259" y="65"/>
                  </a:lnTo>
                  <a:lnTo>
                    <a:pt x="179" y="117"/>
                  </a:lnTo>
                  <a:lnTo>
                    <a:pt x="100" y="197"/>
                  </a:lnTo>
                  <a:lnTo>
                    <a:pt x="100" y="99"/>
                  </a:lnTo>
                  <a:lnTo>
                    <a:pt x="0" y="179"/>
                  </a:lnTo>
                  <a:lnTo>
                    <a:pt x="27" y="117"/>
                  </a:lnTo>
                  <a:lnTo>
                    <a:pt x="125" y="42"/>
                  </a:lnTo>
                  <a:lnTo>
                    <a:pt x="206" y="0"/>
                  </a:lnTo>
                  <a:close/>
                </a:path>
              </a:pathLst>
            </a:custGeom>
            <a:solidFill>
              <a:srgbClr val="0000ff"/>
            </a:solidFill>
            <a:ln w="0">
              <a:solidFill>
                <a:srgbClr val="0000ff"/>
              </a:solidFill>
            </a:ln>
          </p:spPr>
          <p:style>
            <a:lnRef idx="0"/>
            <a:fillRef idx="0"/>
            <a:effectRef idx="0"/>
            <a:fontRef idx="minor"/>
          </p:style>
          <p:txBody>
            <a:bodyPr lIns="90000" rIns="90000" tIns="19800" bIns="19800" anchor="t">
              <a:noAutofit/>
            </a:bodyPr>
            <a:p>
              <a:endParaRPr b="1" lang="en-US" sz="1800" spc="-1" strike="noStrike">
                <a:solidFill>
                  <a:srgbClr val="ffffff"/>
                </a:solidFill>
                <a:latin typeface="Castellar"/>
              </a:endParaRPr>
            </a:p>
          </p:txBody>
        </p:sp>
        <p:sp>
          <p:nvSpPr>
            <p:cNvPr id="203" name="Freeform 172"/>
            <p:cNvSpPr/>
            <p:nvPr/>
          </p:nvSpPr>
          <p:spPr>
            <a:xfrm>
              <a:off x="5442120" y="2944080"/>
              <a:ext cx="51840" cy="109080"/>
            </a:xfrm>
            <a:custGeom>
              <a:avLst/>
              <a:gdLst>
                <a:gd name="textAreaLeft" fmla="*/ 0 w 51840"/>
                <a:gd name="textAreaRight" fmla="*/ 52200 w 51840"/>
                <a:gd name="textAreaTop" fmla="*/ 0 h 109080"/>
                <a:gd name="textAreaBottom" fmla="*/ 109440 h 109080"/>
              </a:gdLst>
              <a:ahLst/>
              <a:rect l="textAreaLeft" t="textAreaTop" r="textAreaRight" b="textAreaBottom"/>
              <a:pathLst>
                <a:path w="143" h="329">
                  <a:moveTo>
                    <a:pt x="118" y="62"/>
                  </a:moveTo>
                  <a:lnTo>
                    <a:pt x="130" y="184"/>
                  </a:lnTo>
                  <a:lnTo>
                    <a:pt x="143" y="213"/>
                  </a:lnTo>
                  <a:lnTo>
                    <a:pt x="130" y="329"/>
                  </a:lnTo>
                  <a:lnTo>
                    <a:pt x="78" y="246"/>
                  </a:lnTo>
                  <a:lnTo>
                    <a:pt x="56" y="127"/>
                  </a:lnTo>
                  <a:lnTo>
                    <a:pt x="0" y="46"/>
                  </a:lnTo>
                  <a:lnTo>
                    <a:pt x="0" y="0"/>
                  </a:lnTo>
                  <a:lnTo>
                    <a:pt x="118" y="62"/>
                  </a:lnTo>
                  <a:close/>
                </a:path>
              </a:pathLst>
            </a:custGeom>
            <a:solidFill>
              <a:srgbClr val="0000ff"/>
            </a:solidFill>
            <a:ln w="0">
              <a:solidFill>
                <a:srgbClr val="0000ff"/>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204" name="Freeform 173"/>
            <p:cNvSpPr/>
            <p:nvPr/>
          </p:nvSpPr>
          <p:spPr>
            <a:xfrm>
              <a:off x="5484240" y="3001320"/>
              <a:ext cx="79920" cy="93240"/>
            </a:xfrm>
            <a:custGeom>
              <a:avLst/>
              <a:gdLst>
                <a:gd name="textAreaLeft" fmla="*/ 0 w 79920"/>
                <a:gd name="textAreaRight" fmla="*/ 80280 w 79920"/>
                <a:gd name="textAreaTop" fmla="*/ 0 h 93240"/>
                <a:gd name="textAreaBottom" fmla="*/ 93600 h 93240"/>
              </a:gdLst>
              <a:ahLst/>
              <a:rect l="textAreaLeft" t="textAreaTop" r="textAreaRight" b="textAreaBottom"/>
              <a:pathLst>
                <a:path w="222" h="279">
                  <a:moveTo>
                    <a:pt x="30" y="0"/>
                  </a:moveTo>
                  <a:lnTo>
                    <a:pt x="222" y="193"/>
                  </a:lnTo>
                  <a:lnTo>
                    <a:pt x="0" y="279"/>
                  </a:lnTo>
                  <a:lnTo>
                    <a:pt x="30" y="0"/>
                  </a:lnTo>
                  <a:close/>
                </a:path>
              </a:pathLst>
            </a:custGeom>
            <a:noFill/>
            <a:ln w="0">
              <a:solidFill>
                <a:srgbClr val="ff0000"/>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205" name="Freeform 174"/>
            <p:cNvSpPr/>
            <p:nvPr/>
          </p:nvSpPr>
          <p:spPr>
            <a:xfrm>
              <a:off x="6413400" y="2855880"/>
              <a:ext cx="656280" cy="1657080"/>
            </a:xfrm>
            <a:custGeom>
              <a:avLst/>
              <a:gdLst>
                <a:gd name="textAreaLeft" fmla="*/ 0 w 656280"/>
                <a:gd name="textAreaRight" fmla="*/ 656640 w 656280"/>
                <a:gd name="textAreaTop" fmla="*/ 0 h 1657080"/>
                <a:gd name="textAreaBottom" fmla="*/ 1657440 h 1657080"/>
              </a:gdLst>
              <a:ahLst/>
              <a:rect l="textAreaLeft" t="textAreaTop" r="textAreaRight" b="textAreaBottom"/>
              <a:pathLst>
                <a:path w="1821" h="4942">
                  <a:moveTo>
                    <a:pt x="1808" y="14"/>
                  </a:moveTo>
                  <a:lnTo>
                    <a:pt x="1446" y="421"/>
                  </a:lnTo>
                  <a:lnTo>
                    <a:pt x="1356" y="633"/>
                  </a:lnTo>
                  <a:lnTo>
                    <a:pt x="1176" y="713"/>
                  </a:lnTo>
                  <a:lnTo>
                    <a:pt x="1136" y="792"/>
                  </a:lnTo>
                  <a:lnTo>
                    <a:pt x="1343" y="1003"/>
                  </a:lnTo>
                  <a:lnTo>
                    <a:pt x="1330" y="1228"/>
                  </a:lnTo>
                  <a:lnTo>
                    <a:pt x="1356" y="1268"/>
                  </a:lnTo>
                  <a:lnTo>
                    <a:pt x="1434" y="1414"/>
                  </a:lnTo>
                  <a:lnTo>
                    <a:pt x="1419" y="1888"/>
                  </a:lnTo>
                  <a:lnTo>
                    <a:pt x="1330" y="1941"/>
                  </a:lnTo>
                  <a:lnTo>
                    <a:pt x="1265" y="2035"/>
                  </a:lnTo>
                  <a:lnTo>
                    <a:pt x="1253" y="2074"/>
                  </a:lnTo>
                  <a:lnTo>
                    <a:pt x="1176" y="2127"/>
                  </a:lnTo>
                  <a:lnTo>
                    <a:pt x="931" y="1969"/>
                  </a:lnTo>
                  <a:lnTo>
                    <a:pt x="904" y="2008"/>
                  </a:lnTo>
                  <a:lnTo>
                    <a:pt x="865" y="2047"/>
                  </a:lnTo>
                  <a:lnTo>
                    <a:pt x="685" y="2035"/>
                  </a:lnTo>
                  <a:lnTo>
                    <a:pt x="685" y="2114"/>
                  </a:lnTo>
                  <a:lnTo>
                    <a:pt x="516" y="2114"/>
                  </a:lnTo>
                  <a:lnTo>
                    <a:pt x="464" y="2298"/>
                  </a:lnTo>
                  <a:lnTo>
                    <a:pt x="516" y="2404"/>
                  </a:lnTo>
                  <a:lnTo>
                    <a:pt x="568" y="2523"/>
                  </a:lnTo>
                  <a:lnTo>
                    <a:pt x="504" y="2749"/>
                  </a:lnTo>
                  <a:lnTo>
                    <a:pt x="608" y="2880"/>
                  </a:lnTo>
                  <a:lnTo>
                    <a:pt x="581" y="3000"/>
                  </a:lnTo>
                  <a:lnTo>
                    <a:pt x="478" y="3053"/>
                  </a:lnTo>
                  <a:lnTo>
                    <a:pt x="426" y="3092"/>
                  </a:lnTo>
                  <a:lnTo>
                    <a:pt x="310" y="3224"/>
                  </a:lnTo>
                  <a:lnTo>
                    <a:pt x="233" y="3343"/>
                  </a:lnTo>
                  <a:lnTo>
                    <a:pt x="129" y="3356"/>
                  </a:lnTo>
                  <a:lnTo>
                    <a:pt x="51" y="3369"/>
                  </a:lnTo>
                  <a:lnTo>
                    <a:pt x="0" y="3408"/>
                  </a:lnTo>
                  <a:lnTo>
                    <a:pt x="271" y="3646"/>
                  </a:lnTo>
                  <a:lnTo>
                    <a:pt x="478" y="3871"/>
                  </a:lnTo>
                  <a:lnTo>
                    <a:pt x="646" y="4056"/>
                  </a:lnTo>
                  <a:lnTo>
                    <a:pt x="762" y="4162"/>
                  </a:lnTo>
                  <a:lnTo>
                    <a:pt x="931" y="4386"/>
                  </a:lnTo>
                  <a:lnTo>
                    <a:pt x="1098" y="4531"/>
                  </a:lnTo>
                  <a:lnTo>
                    <a:pt x="1188" y="4584"/>
                  </a:lnTo>
                  <a:lnTo>
                    <a:pt x="1318" y="4544"/>
                  </a:lnTo>
                  <a:lnTo>
                    <a:pt x="1459" y="4623"/>
                  </a:lnTo>
                  <a:lnTo>
                    <a:pt x="1821" y="4942"/>
                  </a:lnTo>
                  <a:lnTo>
                    <a:pt x="1821" y="0"/>
                  </a:lnTo>
                </a:path>
              </a:pathLst>
            </a:custGeom>
            <a:noFill/>
            <a:ln w="0">
              <a:solidFill>
                <a:srgbClr val="ffffff"/>
              </a:solidFill>
              <a:prstDash val="sysDash"/>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206" name="Freeform 175"/>
            <p:cNvSpPr/>
            <p:nvPr/>
          </p:nvSpPr>
          <p:spPr>
            <a:xfrm>
              <a:off x="4795920" y="2693160"/>
              <a:ext cx="1280880" cy="2605320"/>
            </a:xfrm>
            <a:custGeom>
              <a:avLst/>
              <a:gdLst>
                <a:gd name="textAreaLeft" fmla="*/ 0 w 1280880"/>
                <a:gd name="textAreaRight" fmla="*/ 1281240 w 1280880"/>
                <a:gd name="textAreaTop" fmla="*/ 0 h 2605320"/>
                <a:gd name="textAreaBottom" fmla="*/ 2605680 h 2605320"/>
              </a:gdLst>
              <a:ahLst/>
              <a:rect l="textAreaLeft" t="textAreaTop" r="textAreaRight" b="textAreaBottom"/>
              <a:pathLst>
                <a:path w="3553" h="7772">
                  <a:moveTo>
                    <a:pt x="2405" y="0"/>
                  </a:moveTo>
                  <a:lnTo>
                    <a:pt x="2240" y="152"/>
                  </a:lnTo>
                  <a:lnTo>
                    <a:pt x="2053" y="170"/>
                  </a:lnTo>
                  <a:lnTo>
                    <a:pt x="1794" y="361"/>
                  </a:lnTo>
                  <a:lnTo>
                    <a:pt x="1610" y="456"/>
                  </a:lnTo>
                  <a:lnTo>
                    <a:pt x="1461" y="530"/>
                  </a:lnTo>
                  <a:lnTo>
                    <a:pt x="1350" y="777"/>
                  </a:lnTo>
                  <a:lnTo>
                    <a:pt x="1147" y="1025"/>
                  </a:lnTo>
                  <a:lnTo>
                    <a:pt x="1110" y="1081"/>
                  </a:lnTo>
                  <a:lnTo>
                    <a:pt x="1183" y="1157"/>
                  </a:lnTo>
                  <a:lnTo>
                    <a:pt x="1331" y="1289"/>
                  </a:lnTo>
                  <a:lnTo>
                    <a:pt x="1350" y="1383"/>
                  </a:lnTo>
                  <a:lnTo>
                    <a:pt x="1258" y="1479"/>
                  </a:lnTo>
                  <a:lnTo>
                    <a:pt x="1165" y="1555"/>
                  </a:lnTo>
                  <a:lnTo>
                    <a:pt x="1129" y="1612"/>
                  </a:lnTo>
                  <a:lnTo>
                    <a:pt x="1092" y="1725"/>
                  </a:lnTo>
                  <a:lnTo>
                    <a:pt x="1055" y="1878"/>
                  </a:lnTo>
                  <a:lnTo>
                    <a:pt x="1055" y="1990"/>
                  </a:lnTo>
                  <a:lnTo>
                    <a:pt x="944" y="2066"/>
                  </a:lnTo>
                  <a:lnTo>
                    <a:pt x="926" y="2199"/>
                  </a:lnTo>
                  <a:lnTo>
                    <a:pt x="926" y="2352"/>
                  </a:lnTo>
                  <a:lnTo>
                    <a:pt x="889" y="2445"/>
                  </a:lnTo>
                  <a:lnTo>
                    <a:pt x="758" y="2522"/>
                  </a:lnTo>
                  <a:lnTo>
                    <a:pt x="684" y="2636"/>
                  </a:lnTo>
                  <a:lnTo>
                    <a:pt x="611" y="2845"/>
                  </a:lnTo>
                  <a:lnTo>
                    <a:pt x="499" y="2958"/>
                  </a:lnTo>
                  <a:lnTo>
                    <a:pt x="407" y="3034"/>
                  </a:lnTo>
                  <a:lnTo>
                    <a:pt x="371" y="3110"/>
                  </a:lnTo>
                  <a:lnTo>
                    <a:pt x="241" y="3166"/>
                  </a:lnTo>
                  <a:lnTo>
                    <a:pt x="148" y="3110"/>
                  </a:lnTo>
                  <a:lnTo>
                    <a:pt x="111" y="3185"/>
                  </a:lnTo>
                  <a:lnTo>
                    <a:pt x="74" y="3469"/>
                  </a:lnTo>
                  <a:lnTo>
                    <a:pt x="0" y="3565"/>
                  </a:lnTo>
                  <a:lnTo>
                    <a:pt x="111" y="3716"/>
                  </a:lnTo>
                  <a:lnTo>
                    <a:pt x="92" y="3830"/>
                  </a:lnTo>
                  <a:lnTo>
                    <a:pt x="18" y="3906"/>
                  </a:lnTo>
                  <a:lnTo>
                    <a:pt x="37" y="4038"/>
                  </a:lnTo>
                  <a:lnTo>
                    <a:pt x="129" y="4114"/>
                  </a:lnTo>
                  <a:lnTo>
                    <a:pt x="166" y="4246"/>
                  </a:lnTo>
                  <a:lnTo>
                    <a:pt x="74" y="4342"/>
                  </a:lnTo>
                  <a:lnTo>
                    <a:pt x="0" y="4342"/>
                  </a:lnTo>
                  <a:lnTo>
                    <a:pt x="92" y="4456"/>
                  </a:lnTo>
                  <a:lnTo>
                    <a:pt x="0" y="4550"/>
                  </a:lnTo>
                  <a:lnTo>
                    <a:pt x="129" y="4664"/>
                  </a:lnTo>
                  <a:lnTo>
                    <a:pt x="278" y="4646"/>
                  </a:lnTo>
                  <a:lnTo>
                    <a:pt x="371" y="4701"/>
                  </a:lnTo>
                  <a:lnTo>
                    <a:pt x="351" y="4910"/>
                  </a:lnTo>
                  <a:lnTo>
                    <a:pt x="426" y="4967"/>
                  </a:lnTo>
                  <a:lnTo>
                    <a:pt x="444" y="5138"/>
                  </a:lnTo>
                  <a:lnTo>
                    <a:pt x="333" y="5119"/>
                  </a:lnTo>
                  <a:lnTo>
                    <a:pt x="260" y="5231"/>
                  </a:lnTo>
                  <a:lnTo>
                    <a:pt x="92" y="5231"/>
                  </a:lnTo>
                  <a:lnTo>
                    <a:pt x="0" y="5346"/>
                  </a:lnTo>
                  <a:lnTo>
                    <a:pt x="92" y="5518"/>
                  </a:lnTo>
                  <a:lnTo>
                    <a:pt x="92" y="5592"/>
                  </a:lnTo>
                  <a:lnTo>
                    <a:pt x="204" y="5669"/>
                  </a:lnTo>
                  <a:lnTo>
                    <a:pt x="148" y="5801"/>
                  </a:lnTo>
                  <a:lnTo>
                    <a:pt x="204" y="5821"/>
                  </a:lnTo>
                  <a:lnTo>
                    <a:pt x="260" y="5706"/>
                  </a:lnTo>
                  <a:lnTo>
                    <a:pt x="351" y="5821"/>
                  </a:lnTo>
                  <a:lnTo>
                    <a:pt x="463" y="5915"/>
                  </a:lnTo>
                  <a:lnTo>
                    <a:pt x="407" y="5991"/>
                  </a:lnTo>
                  <a:lnTo>
                    <a:pt x="426" y="6066"/>
                  </a:lnTo>
                  <a:lnTo>
                    <a:pt x="371" y="6180"/>
                  </a:lnTo>
                  <a:lnTo>
                    <a:pt x="463" y="6238"/>
                  </a:lnTo>
                  <a:lnTo>
                    <a:pt x="517" y="6408"/>
                  </a:lnTo>
                  <a:lnTo>
                    <a:pt x="611" y="6427"/>
                  </a:lnTo>
                  <a:lnTo>
                    <a:pt x="629" y="6503"/>
                  </a:lnTo>
                  <a:lnTo>
                    <a:pt x="739" y="6541"/>
                  </a:lnTo>
                  <a:lnTo>
                    <a:pt x="777" y="6654"/>
                  </a:lnTo>
                  <a:lnTo>
                    <a:pt x="814" y="6768"/>
                  </a:lnTo>
                  <a:lnTo>
                    <a:pt x="907" y="6920"/>
                  </a:lnTo>
                  <a:lnTo>
                    <a:pt x="1017" y="6977"/>
                  </a:lnTo>
                  <a:lnTo>
                    <a:pt x="1037" y="7129"/>
                  </a:lnTo>
                  <a:lnTo>
                    <a:pt x="1092" y="7148"/>
                  </a:lnTo>
                  <a:lnTo>
                    <a:pt x="1203" y="7186"/>
                  </a:lnTo>
                  <a:lnTo>
                    <a:pt x="1276" y="7242"/>
                  </a:lnTo>
                  <a:lnTo>
                    <a:pt x="1350" y="7318"/>
                  </a:lnTo>
                  <a:lnTo>
                    <a:pt x="1424" y="7356"/>
                  </a:lnTo>
                  <a:lnTo>
                    <a:pt x="1536" y="7451"/>
                  </a:lnTo>
                  <a:lnTo>
                    <a:pt x="1480" y="7545"/>
                  </a:lnTo>
                  <a:lnTo>
                    <a:pt x="1592" y="7621"/>
                  </a:lnTo>
                  <a:lnTo>
                    <a:pt x="1665" y="7735"/>
                  </a:lnTo>
                  <a:lnTo>
                    <a:pt x="1721" y="7772"/>
                  </a:lnTo>
                  <a:lnTo>
                    <a:pt x="1831" y="7640"/>
                  </a:lnTo>
                  <a:lnTo>
                    <a:pt x="1942" y="7545"/>
                  </a:lnTo>
                  <a:lnTo>
                    <a:pt x="2035" y="7489"/>
                  </a:lnTo>
                  <a:lnTo>
                    <a:pt x="2053" y="7394"/>
                  </a:lnTo>
                  <a:lnTo>
                    <a:pt x="2109" y="7280"/>
                  </a:lnTo>
                  <a:lnTo>
                    <a:pt x="2091" y="7186"/>
                  </a:lnTo>
                  <a:lnTo>
                    <a:pt x="2184" y="7091"/>
                  </a:lnTo>
                  <a:lnTo>
                    <a:pt x="2275" y="7034"/>
                  </a:lnTo>
                  <a:lnTo>
                    <a:pt x="2369" y="7034"/>
                  </a:lnTo>
                  <a:lnTo>
                    <a:pt x="2460" y="6996"/>
                  </a:lnTo>
                  <a:lnTo>
                    <a:pt x="2553" y="6977"/>
                  </a:lnTo>
                  <a:lnTo>
                    <a:pt x="2627" y="6863"/>
                  </a:lnTo>
                  <a:lnTo>
                    <a:pt x="2720" y="6845"/>
                  </a:lnTo>
                  <a:lnTo>
                    <a:pt x="2794" y="6787"/>
                  </a:lnTo>
                  <a:lnTo>
                    <a:pt x="2887" y="6806"/>
                  </a:lnTo>
                  <a:lnTo>
                    <a:pt x="3015" y="6826"/>
                  </a:lnTo>
                  <a:lnTo>
                    <a:pt x="3201" y="6938"/>
                  </a:lnTo>
                  <a:lnTo>
                    <a:pt x="3256" y="6882"/>
                  </a:lnTo>
                  <a:lnTo>
                    <a:pt x="3348" y="6882"/>
                  </a:lnTo>
                  <a:lnTo>
                    <a:pt x="3460" y="6845"/>
                  </a:lnTo>
                  <a:lnTo>
                    <a:pt x="3553" y="6826"/>
                  </a:lnTo>
                </a:path>
              </a:pathLst>
            </a:custGeom>
            <a:noFill/>
            <a:ln w="15840">
              <a:solidFill>
                <a:srgbClr val="ff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207" name="Freeform 176"/>
            <p:cNvSpPr/>
            <p:nvPr/>
          </p:nvSpPr>
          <p:spPr>
            <a:xfrm>
              <a:off x="6076080" y="4810320"/>
              <a:ext cx="387360" cy="171720"/>
            </a:xfrm>
            <a:custGeom>
              <a:avLst/>
              <a:gdLst>
                <a:gd name="textAreaLeft" fmla="*/ 0 w 387360"/>
                <a:gd name="textAreaRight" fmla="*/ 387720 w 387360"/>
                <a:gd name="textAreaTop" fmla="*/ 0 h 171720"/>
                <a:gd name="textAreaBottom" fmla="*/ 172080 h 171720"/>
              </a:gdLst>
              <a:ahLst/>
              <a:rect l="textAreaLeft" t="textAreaTop" r="textAreaRight" b="textAreaBottom"/>
              <a:pathLst>
                <a:path w="1072" h="513">
                  <a:moveTo>
                    <a:pt x="0" y="493"/>
                  </a:moveTo>
                  <a:lnTo>
                    <a:pt x="109" y="513"/>
                  </a:lnTo>
                  <a:lnTo>
                    <a:pt x="184" y="455"/>
                  </a:lnTo>
                  <a:lnTo>
                    <a:pt x="259" y="379"/>
                  </a:lnTo>
                  <a:lnTo>
                    <a:pt x="333" y="341"/>
                  </a:lnTo>
                  <a:lnTo>
                    <a:pt x="535" y="304"/>
                  </a:lnTo>
                  <a:lnTo>
                    <a:pt x="666" y="285"/>
                  </a:lnTo>
                  <a:lnTo>
                    <a:pt x="757" y="265"/>
                  </a:lnTo>
                  <a:lnTo>
                    <a:pt x="757" y="151"/>
                  </a:lnTo>
                  <a:lnTo>
                    <a:pt x="793" y="77"/>
                  </a:lnTo>
                  <a:lnTo>
                    <a:pt x="850" y="19"/>
                  </a:lnTo>
                  <a:lnTo>
                    <a:pt x="943" y="19"/>
                  </a:lnTo>
                  <a:lnTo>
                    <a:pt x="1017" y="38"/>
                  </a:lnTo>
                  <a:lnTo>
                    <a:pt x="1072" y="0"/>
                  </a:lnTo>
                </a:path>
              </a:pathLst>
            </a:custGeom>
            <a:noFill/>
            <a:ln w="0">
              <a:solidFill>
                <a:srgbClr val="000000"/>
              </a:solidFill>
              <a:prstDash val="sysDash"/>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208" name="Freeform 177"/>
            <p:cNvSpPr/>
            <p:nvPr/>
          </p:nvSpPr>
          <p:spPr>
            <a:xfrm>
              <a:off x="5576040" y="3633480"/>
              <a:ext cx="1340280" cy="1169280"/>
            </a:xfrm>
            <a:custGeom>
              <a:avLst/>
              <a:gdLst>
                <a:gd name="textAreaLeft" fmla="*/ 0 w 1340280"/>
                <a:gd name="textAreaRight" fmla="*/ 1340640 w 1340280"/>
                <a:gd name="textAreaTop" fmla="*/ 0 h 1169280"/>
                <a:gd name="textAreaBottom" fmla="*/ 1169640 h 1169280"/>
              </a:gdLst>
              <a:ahLst/>
              <a:rect l="textAreaLeft" t="textAreaTop" r="textAreaRight" b="textAreaBottom"/>
              <a:pathLst>
                <a:path w="3719" h="3489">
                  <a:moveTo>
                    <a:pt x="2479" y="3489"/>
                  </a:moveTo>
                  <a:lnTo>
                    <a:pt x="2460" y="3392"/>
                  </a:lnTo>
                  <a:lnTo>
                    <a:pt x="2498" y="3374"/>
                  </a:lnTo>
                  <a:lnTo>
                    <a:pt x="2664" y="3392"/>
                  </a:lnTo>
                  <a:lnTo>
                    <a:pt x="2739" y="3469"/>
                  </a:lnTo>
                  <a:lnTo>
                    <a:pt x="2904" y="3412"/>
                  </a:lnTo>
                  <a:lnTo>
                    <a:pt x="3015" y="3412"/>
                  </a:lnTo>
                  <a:lnTo>
                    <a:pt x="3108" y="3297"/>
                  </a:lnTo>
                  <a:lnTo>
                    <a:pt x="3108" y="3185"/>
                  </a:lnTo>
                  <a:lnTo>
                    <a:pt x="3163" y="3109"/>
                  </a:lnTo>
                  <a:lnTo>
                    <a:pt x="3311" y="3088"/>
                  </a:lnTo>
                  <a:lnTo>
                    <a:pt x="3348" y="3051"/>
                  </a:lnTo>
                  <a:lnTo>
                    <a:pt x="3441" y="2995"/>
                  </a:lnTo>
                  <a:lnTo>
                    <a:pt x="3551" y="2920"/>
                  </a:lnTo>
                  <a:lnTo>
                    <a:pt x="3699" y="2806"/>
                  </a:lnTo>
                  <a:lnTo>
                    <a:pt x="3719" y="2711"/>
                  </a:lnTo>
                  <a:lnTo>
                    <a:pt x="3663" y="2617"/>
                  </a:lnTo>
                  <a:lnTo>
                    <a:pt x="3625" y="2578"/>
                  </a:lnTo>
                  <a:lnTo>
                    <a:pt x="3588" y="2502"/>
                  </a:lnTo>
                  <a:lnTo>
                    <a:pt x="3607" y="2408"/>
                  </a:lnTo>
                  <a:lnTo>
                    <a:pt x="3588" y="2350"/>
                  </a:lnTo>
                  <a:lnTo>
                    <a:pt x="3496" y="2293"/>
                  </a:lnTo>
                  <a:lnTo>
                    <a:pt x="3441" y="2350"/>
                  </a:lnTo>
                  <a:lnTo>
                    <a:pt x="3441" y="2445"/>
                  </a:lnTo>
                  <a:lnTo>
                    <a:pt x="3366" y="2369"/>
                  </a:lnTo>
                  <a:lnTo>
                    <a:pt x="3330" y="2313"/>
                  </a:lnTo>
                  <a:lnTo>
                    <a:pt x="3330" y="2218"/>
                  </a:lnTo>
                  <a:lnTo>
                    <a:pt x="3238" y="2142"/>
                  </a:lnTo>
                  <a:lnTo>
                    <a:pt x="3163" y="2103"/>
                  </a:lnTo>
                  <a:lnTo>
                    <a:pt x="3015" y="2028"/>
                  </a:lnTo>
                  <a:lnTo>
                    <a:pt x="2997" y="1952"/>
                  </a:lnTo>
                  <a:lnTo>
                    <a:pt x="2922" y="1894"/>
                  </a:lnTo>
                  <a:lnTo>
                    <a:pt x="2830" y="1915"/>
                  </a:lnTo>
                  <a:lnTo>
                    <a:pt x="2739" y="1839"/>
                  </a:lnTo>
                  <a:lnTo>
                    <a:pt x="2700" y="1800"/>
                  </a:lnTo>
                  <a:lnTo>
                    <a:pt x="2664" y="1706"/>
                  </a:lnTo>
                  <a:lnTo>
                    <a:pt x="2554" y="1724"/>
                  </a:lnTo>
                  <a:lnTo>
                    <a:pt x="2424" y="1687"/>
                  </a:lnTo>
                  <a:lnTo>
                    <a:pt x="2368" y="1650"/>
                  </a:lnTo>
                  <a:lnTo>
                    <a:pt x="2349" y="1536"/>
                  </a:lnTo>
                  <a:lnTo>
                    <a:pt x="2368" y="1478"/>
                  </a:lnTo>
                  <a:lnTo>
                    <a:pt x="2387" y="1421"/>
                  </a:lnTo>
                  <a:lnTo>
                    <a:pt x="2349" y="1326"/>
                  </a:lnTo>
                  <a:lnTo>
                    <a:pt x="2313" y="1251"/>
                  </a:lnTo>
                  <a:lnTo>
                    <a:pt x="2238" y="1232"/>
                  </a:lnTo>
                  <a:lnTo>
                    <a:pt x="2146" y="1232"/>
                  </a:lnTo>
                  <a:lnTo>
                    <a:pt x="2109" y="1176"/>
                  </a:lnTo>
                  <a:lnTo>
                    <a:pt x="2128" y="1118"/>
                  </a:lnTo>
                  <a:lnTo>
                    <a:pt x="2091" y="1062"/>
                  </a:lnTo>
                  <a:lnTo>
                    <a:pt x="2035" y="1023"/>
                  </a:lnTo>
                  <a:lnTo>
                    <a:pt x="2055" y="986"/>
                  </a:lnTo>
                  <a:lnTo>
                    <a:pt x="1961" y="986"/>
                  </a:lnTo>
                  <a:lnTo>
                    <a:pt x="1868" y="967"/>
                  </a:lnTo>
                  <a:lnTo>
                    <a:pt x="1813" y="891"/>
                  </a:lnTo>
                  <a:lnTo>
                    <a:pt x="1850" y="854"/>
                  </a:lnTo>
                  <a:lnTo>
                    <a:pt x="1758" y="797"/>
                  </a:lnTo>
                  <a:lnTo>
                    <a:pt x="1665" y="815"/>
                  </a:lnTo>
                  <a:lnTo>
                    <a:pt x="1591" y="873"/>
                  </a:lnTo>
                  <a:lnTo>
                    <a:pt x="1517" y="909"/>
                  </a:lnTo>
                  <a:lnTo>
                    <a:pt x="1389" y="909"/>
                  </a:lnTo>
                  <a:lnTo>
                    <a:pt x="1314" y="854"/>
                  </a:lnTo>
                  <a:lnTo>
                    <a:pt x="1258" y="797"/>
                  </a:lnTo>
                  <a:lnTo>
                    <a:pt x="1183" y="815"/>
                  </a:lnTo>
                  <a:lnTo>
                    <a:pt x="1129" y="662"/>
                  </a:lnTo>
                  <a:lnTo>
                    <a:pt x="1110" y="530"/>
                  </a:lnTo>
                  <a:lnTo>
                    <a:pt x="1017" y="569"/>
                  </a:lnTo>
                  <a:lnTo>
                    <a:pt x="962" y="530"/>
                  </a:lnTo>
                  <a:lnTo>
                    <a:pt x="907" y="625"/>
                  </a:lnTo>
                  <a:lnTo>
                    <a:pt x="832" y="720"/>
                  </a:lnTo>
                  <a:lnTo>
                    <a:pt x="796" y="758"/>
                  </a:lnTo>
                  <a:lnTo>
                    <a:pt x="723" y="758"/>
                  </a:lnTo>
                  <a:lnTo>
                    <a:pt x="666" y="702"/>
                  </a:lnTo>
                  <a:lnTo>
                    <a:pt x="630" y="625"/>
                  </a:lnTo>
                  <a:lnTo>
                    <a:pt x="573" y="588"/>
                  </a:lnTo>
                  <a:lnTo>
                    <a:pt x="573" y="512"/>
                  </a:lnTo>
                  <a:lnTo>
                    <a:pt x="630" y="455"/>
                  </a:lnTo>
                  <a:lnTo>
                    <a:pt x="666" y="398"/>
                  </a:lnTo>
                  <a:lnTo>
                    <a:pt x="611" y="342"/>
                  </a:lnTo>
                  <a:lnTo>
                    <a:pt x="554" y="284"/>
                  </a:lnTo>
                  <a:lnTo>
                    <a:pt x="481" y="209"/>
                  </a:lnTo>
                  <a:lnTo>
                    <a:pt x="408" y="151"/>
                  </a:lnTo>
                  <a:lnTo>
                    <a:pt x="296" y="114"/>
                  </a:lnTo>
                  <a:lnTo>
                    <a:pt x="149" y="77"/>
                  </a:lnTo>
                  <a:lnTo>
                    <a:pt x="76" y="77"/>
                  </a:lnTo>
                  <a:lnTo>
                    <a:pt x="0" y="0"/>
                  </a:lnTo>
                </a:path>
              </a:pathLst>
            </a:custGeom>
            <a:noFill/>
            <a:ln w="15840">
              <a:solidFill>
                <a:srgbClr val="ff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209" name="Freeform 178"/>
            <p:cNvSpPr/>
            <p:nvPr/>
          </p:nvSpPr>
          <p:spPr>
            <a:xfrm>
              <a:off x="5630400" y="2699280"/>
              <a:ext cx="172800" cy="819720"/>
            </a:xfrm>
            <a:custGeom>
              <a:avLst/>
              <a:gdLst>
                <a:gd name="textAreaLeft" fmla="*/ 0 w 172800"/>
                <a:gd name="textAreaRight" fmla="*/ 173160 w 172800"/>
                <a:gd name="textAreaTop" fmla="*/ 0 h 819720"/>
                <a:gd name="textAreaBottom" fmla="*/ 820080 h 819720"/>
              </a:gdLst>
              <a:ahLst/>
              <a:rect l="textAreaLeft" t="textAreaTop" r="textAreaRight" b="textAreaBottom"/>
              <a:pathLst>
                <a:path w="480" h="2445">
                  <a:moveTo>
                    <a:pt x="0" y="2445"/>
                  </a:moveTo>
                  <a:lnTo>
                    <a:pt x="0" y="2370"/>
                  </a:lnTo>
                  <a:lnTo>
                    <a:pt x="92" y="2294"/>
                  </a:lnTo>
                  <a:lnTo>
                    <a:pt x="147" y="2275"/>
                  </a:lnTo>
                  <a:lnTo>
                    <a:pt x="166" y="2236"/>
                  </a:lnTo>
                  <a:lnTo>
                    <a:pt x="166" y="2161"/>
                  </a:lnTo>
                  <a:lnTo>
                    <a:pt x="129" y="2104"/>
                  </a:lnTo>
                  <a:lnTo>
                    <a:pt x="166" y="2047"/>
                  </a:lnTo>
                  <a:lnTo>
                    <a:pt x="203" y="1992"/>
                  </a:lnTo>
                  <a:lnTo>
                    <a:pt x="203" y="1914"/>
                  </a:lnTo>
                  <a:lnTo>
                    <a:pt x="166" y="1839"/>
                  </a:lnTo>
                  <a:lnTo>
                    <a:pt x="203" y="1782"/>
                  </a:lnTo>
                  <a:lnTo>
                    <a:pt x="295" y="1724"/>
                  </a:lnTo>
                  <a:lnTo>
                    <a:pt x="314" y="1630"/>
                  </a:lnTo>
                  <a:lnTo>
                    <a:pt x="259" y="1554"/>
                  </a:lnTo>
                  <a:lnTo>
                    <a:pt x="240" y="1498"/>
                  </a:lnTo>
                  <a:lnTo>
                    <a:pt x="240" y="1403"/>
                  </a:lnTo>
                  <a:lnTo>
                    <a:pt x="295" y="1327"/>
                  </a:lnTo>
                  <a:lnTo>
                    <a:pt x="368" y="1269"/>
                  </a:lnTo>
                  <a:lnTo>
                    <a:pt x="350" y="1213"/>
                  </a:lnTo>
                  <a:lnTo>
                    <a:pt x="295" y="1137"/>
                  </a:lnTo>
                  <a:lnTo>
                    <a:pt x="295" y="1080"/>
                  </a:lnTo>
                  <a:lnTo>
                    <a:pt x="332" y="986"/>
                  </a:lnTo>
                  <a:lnTo>
                    <a:pt x="388" y="909"/>
                  </a:lnTo>
                  <a:lnTo>
                    <a:pt x="480" y="891"/>
                  </a:lnTo>
                  <a:lnTo>
                    <a:pt x="480" y="834"/>
                  </a:lnTo>
                  <a:lnTo>
                    <a:pt x="462" y="776"/>
                  </a:lnTo>
                  <a:lnTo>
                    <a:pt x="424" y="721"/>
                  </a:lnTo>
                  <a:lnTo>
                    <a:pt x="368" y="625"/>
                  </a:lnTo>
                  <a:lnTo>
                    <a:pt x="332" y="549"/>
                  </a:lnTo>
                  <a:lnTo>
                    <a:pt x="332" y="455"/>
                  </a:lnTo>
                  <a:lnTo>
                    <a:pt x="350" y="378"/>
                  </a:lnTo>
                  <a:lnTo>
                    <a:pt x="350" y="302"/>
                  </a:lnTo>
                  <a:lnTo>
                    <a:pt x="368" y="228"/>
                  </a:lnTo>
                  <a:lnTo>
                    <a:pt x="350" y="133"/>
                  </a:lnTo>
                  <a:lnTo>
                    <a:pt x="277" y="56"/>
                  </a:lnTo>
                  <a:lnTo>
                    <a:pt x="203" y="0"/>
                  </a:lnTo>
                </a:path>
              </a:pathLst>
            </a:custGeom>
            <a:noFill/>
            <a:ln w="15840">
              <a:solidFill>
                <a:srgbClr val="ff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210" name="Freeform 179"/>
            <p:cNvSpPr/>
            <p:nvPr/>
          </p:nvSpPr>
          <p:spPr>
            <a:xfrm>
              <a:off x="4836240" y="4383720"/>
              <a:ext cx="2100600" cy="920520"/>
            </a:xfrm>
            <a:custGeom>
              <a:avLst/>
              <a:gdLst>
                <a:gd name="textAreaLeft" fmla="*/ 0 w 2100600"/>
                <a:gd name="textAreaRight" fmla="*/ 2100600 w 2100600"/>
                <a:gd name="textAreaTop" fmla="*/ 0 h 920520"/>
                <a:gd name="textAreaBottom" fmla="*/ 920880 h 920520"/>
              </a:gdLst>
              <a:ahLst/>
              <a:rect l="textAreaLeft" t="textAreaTop" r="textAreaRight" b="textAreaBottom"/>
              <a:pathLst>
                <a:path w="5826" h="2749">
                  <a:moveTo>
                    <a:pt x="0" y="1934"/>
                  </a:moveTo>
                  <a:lnTo>
                    <a:pt x="111" y="1972"/>
                  </a:lnTo>
                  <a:lnTo>
                    <a:pt x="239" y="1972"/>
                  </a:lnTo>
                  <a:lnTo>
                    <a:pt x="332" y="1953"/>
                  </a:lnTo>
                  <a:lnTo>
                    <a:pt x="444" y="1991"/>
                  </a:lnTo>
                  <a:lnTo>
                    <a:pt x="554" y="1991"/>
                  </a:lnTo>
                  <a:lnTo>
                    <a:pt x="647" y="1991"/>
                  </a:lnTo>
                  <a:lnTo>
                    <a:pt x="740" y="1991"/>
                  </a:lnTo>
                  <a:lnTo>
                    <a:pt x="814" y="2009"/>
                  </a:lnTo>
                  <a:lnTo>
                    <a:pt x="905" y="2086"/>
                  </a:lnTo>
                  <a:lnTo>
                    <a:pt x="1017" y="2123"/>
                  </a:lnTo>
                  <a:lnTo>
                    <a:pt x="1129" y="2180"/>
                  </a:lnTo>
                  <a:lnTo>
                    <a:pt x="1147" y="2218"/>
                  </a:lnTo>
                  <a:lnTo>
                    <a:pt x="1258" y="2294"/>
                  </a:lnTo>
                  <a:lnTo>
                    <a:pt x="1313" y="2351"/>
                  </a:lnTo>
                  <a:lnTo>
                    <a:pt x="1350" y="2388"/>
                  </a:lnTo>
                  <a:lnTo>
                    <a:pt x="1387" y="2408"/>
                  </a:lnTo>
                  <a:lnTo>
                    <a:pt x="1332" y="2502"/>
                  </a:lnTo>
                  <a:lnTo>
                    <a:pt x="1424" y="2578"/>
                  </a:lnTo>
                  <a:lnTo>
                    <a:pt x="1480" y="2635"/>
                  </a:lnTo>
                  <a:lnTo>
                    <a:pt x="1553" y="2712"/>
                  </a:lnTo>
                  <a:lnTo>
                    <a:pt x="1609" y="2749"/>
                  </a:lnTo>
                  <a:lnTo>
                    <a:pt x="1701" y="2635"/>
                  </a:lnTo>
                  <a:lnTo>
                    <a:pt x="1831" y="2522"/>
                  </a:lnTo>
                  <a:lnTo>
                    <a:pt x="1924" y="2484"/>
                  </a:lnTo>
                  <a:lnTo>
                    <a:pt x="1960" y="2408"/>
                  </a:lnTo>
                  <a:lnTo>
                    <a:pt x="1942" y="2331"/>
                  </a:lnTo>
                  <a:lnTo>
                    <a:pt x="1997" y="2294"/>
                  </a:lnTo>
                  <a:lnTo>
                    <a:pt x="2053" y="2237"/>
                  </a:lnTo>
                  <a:lnTo>
                    <a:pt x="1997" y="2180"/>
                  </a:lnTo>
                  <a:lnTo>
                    <a:pt x="2072" y="2086"/>
                  </a:lnTo>
                  <a:lnTo>
                    <a:pt x="2128" y="2048"/>
                  </a:lnTo>
                  <a:lnTo>
                    <a:pt x="2201" y="2009"/>
                  </a:lnTo>
                  <a:lnTo>
                    <a:pt x="2312" y="1991"/>
                  </a:lnTo>
                  <a:lnTo>
                    <a:pt x="2368" y="1934"/>
                  </a:lnTo>
                  <a:lnTo>
                    <a:pt x="2497" y="1934"/>
                  </a:lnTo>
                  <a:lnTo>
                    <a:pt x="2516" y="1857"/>
                  </a:lnTo>
                  <a:lnTo>
                    <a:pt x="2552" y="1820"/>
                  </a:lnTo>
                  <a:lnTo>
                    <a:pt x="2645" y="1782"/>
                  </a:lnTo>
                  <a:lnTo>
                    <a:pt x="2756" y="1782"/>
                  </a:lnTo>
                  <a:lnTo>
                    <a:pt x="2848" y="1802"/>
                  </a:lnTo>
                  <a:lnTo>
                    <a:pt x="2923" y="1839"/>
                  </a:lnTo>
                  <a:lnTo>
                    <a:pt x="2996" y="1877"/>
                  </a:lnTo>
                  <a:lnTo>
                    <a:pt x="3052" y="1914"/>
                  </a:lnTo>
                  <a:lnTo>
                    <a:pt x="3127" y="1895"/>
                  </a:lnTo>
                  <a:lnTo>
                    <a:pt x="3182" y="1857"/>
                  </a:lnTo>
                  <a:lnTo>
                    <a:pt x="3274" y="1802"/>
                  </a:lnTo>
                  <a:lnTo>
                    <a:pt x="3404" y="1782"/>
                  </a:lnTo>
                  <a:lnTo>
                    <a:pt x="3532" y="1820"/>
                  </a:lnTo>
                  <a:lnTo>
                    <a:pt x="3589" y="1782"/>
                  </a:lnTo>
                  <a:lnTo>
                    <a:pt x="3662" y="1725"/>
                  </a:lnTo>
                  <a:lnTo>
                    <a:pt x="3756" y="1630"/>
                  </a:lnTo>
                  <a:lnTo>
                    <a:pt x="3940" y="1593"/>
                  </a:lnTo>
                  <a:lnTo>
                    <a:pt x="4161" y="1574"/>
                  </a:lnTo>
                  <a:lnTo>
                    <a:pt x="4235" y="1516"/>
                  </a:lnTo>
                  <a:lnTo>
                    <a:pt x="4217" y="1442"/>
                  </a:lnTo>
                  <a:lnTo>
                    <a:pt x="4235" y="1384"/>
                  </a:lnTo>
                  <a:lnTo>
                    <a:pt x="4291" y="1327"/>
                  </a:lnTo>
                  <a:lnTo>
                    <a:pt x="4366" y="1289"/>
                  </a:lnTo>
                  <a:lnTo>
                    <a:pt x="4458" y="1327"/>
                  </a:lnTo>
                  <a:lnTo>
                    <a:pt x="4532" y="1232"/>
                  </a:lnTo>
                  <a:lnTo>
                    <a:pt x="4513" y="1175"/>
                  </a:lnTo>
                  <a:lnTo>
                    <a:pt x="4587" y="1155"/>
                  </a:lnTo>
                  <a:lnTo>
                    <a:pt x="4734" y="1175"/>
                  </a:lnTo>
                  <a:lnTo>
                    <a:pt x="4772" y="1251"/>
                  </a:lnTo>
                  <a:lnTo>
                    <a:pt x="4939" y="1195"/>
                  </a:lnTo>
                  <a:lnTo>
                    <a:pt x="5087" y="1195"/>
                  </a:lnTo>
                  <a:lnTo>
                    <a:pt x="5179" y="1043"/>
                  </a:lnTo>
                  <a:lnTo>
                    <a:pt x="5215" y="891"/>
                  </a:lnTo>
                  <a:lnTo>
                    <a:pt x="5382" y="891"/>
                  </a:lnTo>
                  <a:lnTo>
                    <a:pt x="5697" y="663"/>
                  </a:lnTo>
                  <a:lnTo>
                    <a:pt x="5790" y="531"/>
                  </a:lnTo>
                  <a:lnTo>
                    <a:pt x="5735" y="284"/>
                  </a:lnTo>
                  <a:lnTo>
                    <a:pt x="5660" y="265"/>
                  </a:lnTo>
                  <a:lnTo>
                    <a:pt x="5678" y="152"/>
                  </a:lnTo>
                  <a:lnTo>
                    <a:pt x="5587" y="38"/>
                  </a:lnTo>
                  <a:lnTo>
                    <a:pt x="5678" y="0"/>
                  </a:lnTo>
                  <a:lnTo>
                    <a:pt x="5826" y="76"/>
                  </a:lnTo>
                </a:path>
              </a:pathLst>
            </a:custGeom>
            <a:noFill/>
            <a:ln w="0">
              <a:solidFill>
                <a:srgbClr val="000000"/>
              </a:solidFill>
              <a:prstDash val="sysDash"/>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211" name="Freeform 180"/>
            <p:cNvSpPr/>
            <p:nvPr/>
          </p:nvSpPr>
          <p:spPr>
            <a:xfrm>
              <a:off x="5883480" y="3959280"/>
              <a:ext cx="352440" cy="88200"/>
            </a:xfrm>
            <a:custGeom>
              <a:avLst/>
              <a:gdLst>
                <a:gd name="textAreaLeft" fmla="*/ 0 w 352440"/>
                <a:gd name="textAreaRight" fmla="*/ 352800 w 352440"/>
                <a:gd name="textAreaTop" fmla="*/ 0 h 88200"/>
                <a:gd name="textAreaBottom" fmla="*/ 88560 h 88200"/>
              </a:gdLst>
              <a:ahLst/>
              <a:rect l="textAreaLeft" t="textAreaTop" r="textAreaRight" b="textAreaBottom"/>
              <a:pathLst>
                <a:path w="978" h="264">
                  <a:moveTo>
                    <a:pt x="0" y="113"/>
                  </a:moveTo>
                  <a:lnTo>
                    <a:pt x="54" y="56"/>
                  </a:lnTo>
                  <a:lnTo>
                    <a:pt x="110" y="75"/>
                  </a:lnTo>
                  <a:lnTo>
                    <a:pt x="164" y="94"/>
                  </a:lnTo>
                  <a:lnTo>
                    <a:pt x="221" y="37"/>
                  </a:lnTo>
                  <a:lnTo>
                    <a:pt x="257" y="18"/>
                  </a:lnTo>
                  <a:lnTo>
                    <a:pt x="295" y="113"/>
                  </a:lnTo>
                  <a:lnTo>
                    <a:pt x="350" y="56"/>
                  </a:lnTo>
                  <a:lnTo>
                    <a:pt x="405" y="18"/>
                  </a:lnTo>
                  <a:lnTo>
                    <a:pt x="479" y="0"/>
                  </a:lnTo>
                  <a:lnTo>
                    <a:pt x="555" y="56"/>
                  </a:lnTo>
                  <a:lnTo>
                    <a:pt x="628" y="75"/>
                  </a:lnTo>
                  <a:lnTo>
                    <a:pt x="739" y="94"/>
                  </a:lnTo>
                  <a:lnTo>
                    <a:pt x="812" y="152"/>
                  </a:lnTo>
                  <a:lnTo>
                    <a:pt x="868" y="189"/>
                  </a:lnTo>
                  <a:lnTo>
                    <a:pt x="960" y="227"/>
                  </a:lnTo>
                  <a:lnTo>
                    <a:pt x="978" y="264"/>
                  </a:lnTo>
                </a:path>
              </a:pathLst>
            </a:custGeom>
            <a:noFill/>
            <a:ln w="0">
              <a:solidFill>
                <a:srgbClr val="0000ff"/>
              </a:solidFill>
            </a:ln>
          </p:spPr>
          <p:style>
            <a:lnRef idx="0"/>
            <a:fillRef idx="0"/>
            <a:effectRef idx="0"/>
            <a:fontRef idx="minor"/>
          </p:style>
          <p:txBody>
            <a:bodyPr lIns="90000" rIns="90000" tIns="41760" bIns="41760" anchor="t">
              <a:noAutofit/>
            </a:bodyPr>
            <a:p>
              <a:endParaRPr b="1" lang="en-US" sz="1800" spc="-1" strike="noStrike">
                <a:solidFill>
                  <a:srgbClr val="ffffff"/>
                </a:solidFill>
                <a:latin typeface="Castellar"/>
              </a:endParaRPr>
            </a:p>
          </p:txBody>
        </p:sp>
        <p:sp>
          <p:nvSpPr>
            <p:cNvPr id="212" name="Freeform 181"/>
            <p:cNvSpPr/>
            <p:nvPr/>
          </p:nvSpPr>
          <p:spPr>
            <a:xfrm>
              <a:off x="5859720" y="4103280"/>
              <a:ext cx="13680" cy="88200"/>
            </a:xfrm>
            <a:custGeom>
              <a:avLst/>
              <a:gdLst>
                <a:gd name="textAreaLeft" fmla="*/ 0 w 13680"/>
                <a:gd name="textAreaRight" fmla="*/ 13680 w 13680"/>
                <a:gd name="textAreaTop" fmla="*/ 0 h 88200"/>
                <a:gd name="textAreaBottom" fmla="*/ 88560 h 88200"/>
              </a:gdLst>
              <a:ahLst/>
              <a:rect l="textAreaLeft" t="textAreaTop" r="textAreaRight" b="textAreaBottom"/>
              <a:pathLst>
                <a:path w="37" h="264">
                  <a:moveTo>
                    <a:pt x="37" y="0"/>
                  </a:moveTo>
                  <a:lnTo>
                    <a:pt x="37" y="95"/>
                  </a:lnTo>
                  <a:lnTo>
                    <a:pt x="0" y="190"/>
                  </a:lnTo>
                  <a:lnTo>
                    <a:pt x="0" y="264"/>
                  </a:lnTo>
                </a:path>
              </a:pathLst>
            </a:custGeom>
            <a:noFill/>
            <a:ln w="0">
              <a:solidFill>
                <a:srgbClr val="0000ff"/>
              </a:solidFill>
            </a:ln>
          </p:spPr>
          <p:style>
            <a:lnRef idx="0"/>
            <a:fillRef idx="0"/>
            <a:effectRef idx="0"/>
            <a:fontRef idx="minor"/>
          </p:style>
          <p:txBody>
            <a:bodyPr lIns="90000" rIns="90000" tIns="41760" bIns="41760" anchor="t">
              <a:noAutofit/>
            </a:bodyPr>
            <a:p>
              <a:endParaRPr b="1" lang="en-US" sz="1800" spc="-1" strike="noStrike">
                <a:solidFill>
                  <a:srgbClr val="ffffff"/>
                </a:solidFill>
                <a:latin typeface="Castellar"/>
              </a:endParaRPr>
            </a:p>
          </p:txBody>
        </p:sp>
        <p:sp>
          <p:nvSpPr>
            <p:cNvPr id="213" name="Freeform 182"/>
            <p:cNvSpPr/>
            <p:nvPr/>
          </p:nvSpPr>
          <p:spPr>
            <a:xfrm>
              <a:off x="5811840" y="4071240"/>
              <a:ext cx="59760" cy="56160"/>
            </a:xfrm>
            <a:custGeom>
              <a:avLst/>
              <a:gdLst>
                <a:gd name="textAreaLeft" fmla="*/ 0 w 59760"/>
                <a:gd name="textAreaRight" fmla="*/ 60120 w 59760"/>
                <a:gd name="textAreaTop" fmla="*/ 0 h 56160"/>
                <a:gd name="textAreaBottom" fmla="*/ 56520 h 56160"/>
              </a:gdLst>
              <a:ahLst/>
              <a:rect l="textAreaLeft" t="textAreaTop" r="textAreaRight" b="textAreaBottom"/>
              <a:pathLst>
                <a:path w="166" h="169">
                  <a:moveTo>
                    <a:pt x="166" y="94"/>
                  </a:moveTo>
                  <a:lnTo>
                    <a:pt x="147" y="169"/>
                  </a:lnTo>
                  <a:lnTo>
                    <a:pt x="109" y="151"/>
                  </a:lnTo>
                  <a:lnTo>
                    <a:pt x="37" y="75"/>
                  </a:lnTo>
                  <a:lnTo>
                    <a:pt x="0" y="0"/>
                  </a:lnTo>
                </a:path>
              </a:pathLst>
            </a:custGeom>
            <a:noFill/>
            <a:ln w="0">
              <a:solidFill>
                <a:srgbClr val="0000ff"/>
              </a:solidFill>
            </a:ln>
          </p:spPr>
          <p:style>
            <a:lnRef idx="0"/>
            <a:fillRef idx="0"/>
            <a:effectRef idx="0"/>
            <a:fontRef idx="minor"/>
          </p:style>
          <p:txBody>
            <a:bodyPr lIns="90000" rIns="90000" tIns="9720" bIns="9720" anchor="t">
              <a:noAutofit/>
            </a:bodyPr>
            <a:p>
              <a:endParaRPr b="1" lang="en-US" sz="1800" spc="-1" strike="noStrike">
                <a:solidFill>
                  <a:srgbClr val="ffffff"/>
                </a:solidFill>
                <a:latin typeface="Castellar"/>
              </a:endParaRPr>
            </a:p>
          </p:txBody>
        </p:sp>
        <p:sp>
          <p:nvSpPr>
            <p:cNvPr id="214" name="Freeform 183"/>
            <p:cNvSpPr/>
            <p:nvPr/>
          </p:nvSpPr>
          <p:spPr>
            <a:xfrm>
              <a:off x="6108120" y="4123440"/>
              <a:ext cx="113760" cy="302040"/>
            </a:xfrm>
            <a:custGeom>
              <a:avLst/>
              <a:gdLst>
                <a:gd name="textAreaLeft" fmla="*/ 0 w 113760"/>
                <a:gd name="textAreaRight" fmla="*/ 114120 w 113760"/>
                <a:gd name="textAreaTop" fmla="*/ 0 h 302040"/>
                <a:gd name="textAreaBottom" fmla="*/ 302400 h 302040"/>
              </a:gdLst>
              <a:ahLst/>
              <a:rect l="textAreaLeft" t="textAreaTop" r="textAreaRight" b="textAreaBottom"/>
              <a:pathLst>
                <a:path w="315" h="904">
                  <a:moveTo>
                    <a:pt x="110" y="904"/>
                  </a:moveTo>
                  <a:lnTo>
                    <a:pt x="74" y="804"/>
                  </a:lnTo>
                  <a:lnTo>
                    <a:pt x="18" y="753"/>
                  </a:lnTo>
                  <a:lnTo>
                    <a:pt x="55" y="652"/>
                  </a:lnTo>
                  <a:lnTo>
                    <a:pt x="37" y="578"/>
                  </a:lnTo>
                  <a:lnTo>
                    <a:pt x="0" y="476"/>
                  </a:lnTo>
                  <a:lnTo>
                    <a:pt x="18" y="377"/>
                  </a:lnTo>
                  <a:lnTo>
                    <a:pt x="74" y="226"/>
                  </a:lnTo>
                  <a:lnTo>
                    <a:pt x="110" y="175"/>
                  </a:lnTo>
                  <a:lnTo>
                    <a:pt x="148" y="75"/>
                  </a:lnTo>
                  <a:lnTo>
                    <a:pt x="204" y="0"/>
                  </a:lnTo>
                  <a:lnTo>
                    <a:pt x="223" y="150"/>
                  </a:lnTo>
                  <a:lnTo>
                    <a:pt x="315" y="277"/>
                  </a:lnTo>
                </a:path>
              </a:pathLst>
            </a:custGeom>
            <a:noFill/>
            <a:ln w="0">
              <a:solidFill>
                <a:srgbClr val="0000ff"/>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215" name="Freeform 184"/>
            <p:cNvSpPr/>
            <p:nvPr/>
          </p:nvSpPr>
          <p:spPr>
            <a:xfrm>
              <a:off x="6362640" y="4420800"/>
              <a:ext cx="88560" cy="148680"/>
            </a:xfrm>
            <a:custGeom>
              <a:avLst/>
              <a:gdLst>
                <a:gd name="textAreaLeft" fmla="*/ 0 w 88560"/>
                <a:gd name="textAreaRight" fmla="*/ 88920 w 88560"/>
                <a:gd name="textAreaTop" fmla="*/ 0 h 148680"/>
                <a:gd name="textAreaBottom" fmla="*/ 149040 h 148680"/>
              </a:gdLst>
              <a:ahLst/>
              <a:rect l="textAreaLeft" t="textAreaTop" r="textAreaRight" b="textAreaBottom"/>
              <a:pathLst>
                <a:path w="246" h="444">
                  <a:moveTo>
                    <a:pt x="0" y="444"/>
                  </a:moveTo>
                  <a:lnTo>
                    <a:pt x="0" y="321"/>
                  </a:lnTo>
                  <a:lnTo>
                    <a:pt x="35" y="246"/>
                  </a:lnTo>
                  <a:lnTo>
                    <a:pt x="70" y="197"/>
                  </a:lnTo>
                  <a:lnTo>
                    <a:pt x="140" y="174"/>
                  </a:lnTo>
                  <a:lnTo>
                    <a:pt x="158" y="125"/>
                  </a:lnTo>
                  <a:lnTo>
                    <a:pt x="175" y="50"/>
                  </a:lnTo>
                  <a:lnTo>
                    <a:pt x="246" y="0"/>
                  </a:lnTo>
                </a:path>
              </a:pathLst>
            </a:custGeom>
            <a:noFill/>
            <a:ln w="0">
              <a:solidFill>
                <a:srgbClr val="0000ff"/>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216" name="Freeform 185"/>
            <p:cNvSpPr/>
            <p:nvPr/>
          </p:nvSpPr>
          <p:spPr>
            <a:xfrm>
              <a:off x="6389640" y="4066200"/>
              <a:ext cx="106200" cy="355320"/>
            </a:xfrm>
            <a:custGeom>
              <a:avLst/>
              <a:gdLst>
                <a:gd name="textAreaLeft" fmla="*/ 0 w 106200"/>
                <a:gd name="textAreaRight" fmla="*/ 106560 w 106200"/>
                <a:gd name="textAreaTop" fmla="*/ 0 h 355320"/>
                <a:gd name="textAreaBottom" fmla="*/ 355680 h 355320"/>
              </a:gdLst>
              <a:ahLst/>
              <a:rect l="textAreaLeft" t="textAreaTop" r="textAreaRight" b="textAreaBottom"/>
              <a:pathLst>
                <a:path w="295" h="1063">
                  <a:moveTo>
                    <a:pt x="167" y="1063"/>
                  </a:moveTo>
                  <a:lnTo>
                    <a:pt x="203" y="1024"/>
                  </a:lnTo>
                  <a:lnTo>
                    <a:pt x="258" y="949"/>
                  </a:lnTo>
                  <a:lnTo>
                    <a:pt x="258" y="872"/>
                  </a:lnTo>
                  <a:lnTo>
                    <a:pt x="295" y="835"/>
                  </a:lnTo>
                  <a:lnTo>
                    <a:pt x="222" y="798"/>
                  </a:lnTo>
                  <a:lnTo>
                    <a:pt x="147" y="740"/>
                  </a:lnTo>
                  <a:lnTo>
                    <a:pt x="129" y="682"/>
                  </a:lnTo>
                  <a:lnTo>
                    <a:pt x="74" y="663"/>
                  </a:lnTo>
                  <a:lnTo>
                    <a:pt x="56" y="607"/>
                  </a:lnTo>
                  <a:lnTo>
                    <a:pt x="74" y="511"/>
                  </a:lnTo>
                  <a:lnTo>
                    <a:pt x="37" y="436"/>
                  </a:lnTo>
                  <a:lnTo>
                    <a:pt x="0" y="361"/>
                  </a:lnTo>
                  <a:lnTo>
                    <a:pt x="18" y="228"/>
                  </a:lnTo>
                  <a:lnTo>
                    <a:pt x="0" y="96"/>
                  </a:lnTo>
                  <a:lnTo>
                    <a:pt x="0" y="0"/>
                  </a:lnTo>
                </a:path>
              </a:pathLst>
            </a:custGeom>
            <a:noFill/>
            <a:ln w="0">
              <a:solidFill>
                <a:srgbClr val="0000ff"/>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217" name="Freeform 186"/>
            <p:cNvSpPr/>
            <p:nvPr/>
          </p:nvSpPr>
          <p:spPr>
            <a:xfrm>
              <a:off x="6389640" y="4123440"/>
              <a:ext cx="152640" cy="42840"/>
            </a:xfrm>
            <a:custGeom>
              <a:avLst/>
              <a:gdLst>
                <a:gd name="textAreaLeft" fmla="*/ 0 w 152640"/>
                <a:gd name="textAreaRight" fmla="*/ 153000 w 152640"/>
                <a:gd name="textAreaTop" fmla="*/ 0 h 42840"/>
                <a:gd name="textAreaBottom" fmla="*/ 43200 h 42840"/>
              </a:gdLst>
              <a:ahLst/>
              <a:rect l="textAreaLeft" t="textAreaTop" r="textAreaRight" b="textAreaBottom"/>
              <a:pathLst>
                <a:path w="425" h="131">
                  <a:moveTo>
                    <a:pt x="0" y="113"/>
                  </a:moveTo>
                  <a:lnTo>
                    <a:pt x="129" y="131"/>
                  </a:lnTo>
                  <a:lnTo>
                    <a:pt x="203" y="113"/>
                  </a:lnTo>
                  <a:lnTo>
                    <a:pt x="277" y="57"/>
                  </a:lnTo>
                  <a:lnTo>
                    <a:pt x="389" y="19"/>
                  </a:lnTo>
                  <a:lnTo>
                    <a:pt x="425" y="0"/>
                  </a:lnTo>
                </a:path>
              </a:pathLst>
            </a:custGeom>
            <a:noFill/>
            <a:ln w="0">
              <a:solidFill>
                <a:srgbClr val="0000ff"/>
              </a:solidFill>
            </a:ln>
          </p:spPr>
          <p:style>
            <a:lnRef idx="0"/>
            <a:fillRef idx="0"/>
            <a:effectRef idx="0"/>
            <a:fontRef idx="minor"/>
          </p:style>
          <p:txBody>
            <a:bodyPr lIns="90000" rIns="90000" tIns="-3600" bIns="-3600" anchor="t">
              <a:noAutofit/>
            </a:bodyPr>
            <a:p>
              <a:endParaRPr b="1" lang="en-US" sz="1800" spc="-1" strike="noStrike">
                <a:solidFill>
                  <a:srgbClr val="ffffff"/>
                </a:solidFill>
                <a:latin typeface="Castellar"/>
              </a:endParaRPr>
            </a:p>
          </p:txBody>
        </p:sp>
        <p:sp>
          <p:nvSpPr>
            <p:cNvPr id="218" name="Freeform 187"/>
            <p:cNvSpPr/>
            <p:nvPr/>
          </p:nvSpPr>
          <p:spPr>
            <a:xfrm>
              <a:off x="6451200" y="4550760"/>
              <a:ext cx="144720" cy="68400"/>
            </a:xfrm>
            <a:custGeom>
              <a:avLst/>
              <a:gdLst>
                <a:gd name="textAreaLeft" fmla="*/ 0 w 144720"/>
                <a:gd name="textAreaRight" fmla="*/ 144720 w 144720"/>
                <a:gd name="textAreaTop" fmla="*/ 0 h 68400"/>
                <a:gd name="textAreaBottom" fmla="*/ 68760 h 68400"/>
              </a:gdLst>
              <a:ahLst/>
              <a:rect l="textAreaLeft" t="textAreaTop" r="textAreaRight" b="textAreaBottom"/>
              <a:pathLst>
                <a:path w="401" h="206">
                  <a:moveTo>
                    <a:pt x="0" y="0"/>
                  </a:moveTo>
                  <a:lnTo>
                    <a:pt x="95" y="0"/>
                  </a:lnTo>
                  <a:lnTo>
                    <a:pt x="166" y="51"/>
                  </a:lnTo>
                  <a:lnTo>
                    <a:pt x="213" y="51"/>
                  </a:lnTo>
                  <a:lnTo>
                    <a:pt x="236" y="120"/>
                  </a:lnTo>
                  <a:lnTo>
                    <a:pt x="331" y="136"/>
                  </a:lnTo>
                  <a:lnTo>
                    <a:pt x="401" y="206"/>
                  </a:lnTo>
                </a:path>
              </a:pathLst>
            </a:custGeom>
            <a:noFill/>
            <a:ln w="0">
              <a:solidFill>
                <a:srgbClr val="0000ff"/>
              </a:solidFill>
            </a:ln>
          </p:spPr>
          <p:style>
            <a:lnRef idx="0"/>
            <a:fillRef idx="0"/>
            <a:effectRef idx="0"/>
            <a:fontRef idx="minor"/>
          </p:style>
          <p:txBody>
            <a:bodyPr lIns="90000" rIns="90000" tIns="21960" bIns="21960" anchor="t">
              <a:noAutofit/>
            </a:bodyPr>
            <a:p>
              <a:endParaRPr b="1" lang="en-US" sz="1800" spc="-1" strike="noStrike">
                <a:solidFill>
                  <a:srgbClr val="ffffff"/>
                </a:solidFill>
                <a:latin typeface="Castellar"/>
              </a:endParaRPr>
            </a:p>
          </p:txBody>
        </p:sp>
        <p:sp>
          <p:nvSpPr>
            <p:cNvPr id="219" name="Freeform 188"/>
            <p:cNvSpPr/>
            <p:nvPr/>
          </p:nvSpPr>
          <p:spPr>
            <a:xfrm>
              <a:off x="6602760" y="4440960"/>
              <a:ext cx="180000" cy="254160"/>
            </a:xfrm>
            <a:custGeom>
              <a:avLst/>
              <a:gdLst>
                <a:gd name="textAreaLeft" fmla="*/ 0 w 180000"/>
                <a:gd name="textAreaRight" fmla="*/ 180360 w 180000"/>
                <a:gd name="textAreaTop" fmla="*/ 0 h 254160"/>
                <a:gd name="textAreaBottom" fmla="*/ 254520 h 254160"/>
              </a:gdLst>
              <a:ahLst/>
              <a:rect l="textAreaLeft" t="textAreaTop" r="textAreaRight" b="textAreaBottom"/>
              <a:pathLst>
                <a:path w="500" h="758">
                  <a:moveTo>
                    <a:pt x="0" y="607"/>
                  </a:moveTo>
                  <a:lnTo>
                    <a:pt x="38" y="664"/>
                  </a:lnTo>
                  <a:lnTo>
                    <a:pt x="74" y="720"/>
                  </a:lnTo>
                  <a:lnTo>
                    <a:pt x="149" y="758"/>
                  </a:lnTo>
                  <a:lnTo>
                    <a:pt x="205" y="720"/>
                  </a:lnTo>
                  <a:lnTo>
                    <a:pt x="241" y="682"/>
                  </a:lnTo>
                  <a:lnTo>
                    <a:pt x="278" y="626"/>
                  </a:lnTo>
                  <a:lnTo>
                    <a:pt x="390" y="607"/>
                  </a:lnTo>
                  <a:lnTo>
                    <a:pt x="408" y="551"/>
                  </a:lnTo>
                  <a:lnTo>
                    <a:pt x="445" y="455"/>
                  </a:lnTo>
                  <a:lnTo>
                    <a:pt x="463" y="400"/>
                  </a:lnTo>
                  <a:lnTo>
                    <a:pt x="482" y="304"/>
                  </a:lnTo>
                  <a:lnTo>
                    <a:pt x="482" y="228"/>
                  </a:lnTo>
                  <a:lnTo>
                    <a:pt x="500" y="113"/>
                  </a:lnTo>
                  <a:lnTo>
                    <a:pt x="482" y="38"/>
                  </a:lnTo>
                  <a:lnTo>
                    <a:pt x="463" y="0"/>
                  </a:lnTo>
                </a:path>
              </a:pathLst>
            </a:custGeom>
            <a:noFill/>
            <a:ln w="0">
              <a:solidFill>
                <a:srgbClr val="0000ff"/>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220" name="Line 189"/>
            <p:cNvSpPr/>
            <p:nvPr/>
          </p:nvSpPr>
          <p:spPr>
            <a:xfrm flipV="1">
              <a:off x="6530040" y="4523040"/>
              <a:ext cx="32400" cy="37800"/>
            </a:xfrm>
            <a:prstGeom prst="line">
              <a:avLst/>
            </a:prstGeom>
            <a:ln w="0">
              <a:solidFill>
                <a:srgbClr val="0000ff"/>
              </a:solidFill>
            </a:ln>
          </p:spPr>
          <p:style>
            <a:lnRef idx="0"/>
            <a:fillRef idx="0"/>
            <a:effectRef idx="0"/>
            <a:fontRef idx="minor"/>
          </p:style>
          <p:txBody>
            <a:bodyPr lIns="90000" rIns="90000" tIns="-9000" bIns="-9000" anchor="t">
              <a:noAutofit/>
            </a:bodyPr>
            <a:p>
              <a:endParaRPr b="1" lang="en-US" sz="1800" spc="-1" strike="noStrike">
                <a:solidFill>
                  <a:srgbClr val="ffffff"/>
                </a:solidFill>
                <a:latin typeface="Castellar"/>
              </a:endParaRPr>
            </a:p>
          </p:txBody>
        </p:sp>
        <p:sp>
          <p:nvSpPr>
            <p:cNvPr id="221" name="Freeform 190"/>
            <p:cNvSpPr/>
            <p:nvPr/>
          </p:nvSpPr>
          <p:spPr>
            <a:xfrm>
              <a:off x="6576480" y="4294440"/>
              <a:ext cx="113760" cy="223200"/>
            </a:xfrm>
            <a:custGeom>
              <a:avLst/>
              <a:gdLst>
                <a:gd name="textAreaLeft" fmla="*/ 0 w 113760"/>
                <a:gd name="textAreaRight" fmla="*/ 114120 w 113760"/>
                <a:gd name="textAreaTop" fmla="*/ 0 h 223200"/>
                <a:gd name="textAreaBottom" fmla="*/ 223560 h 223200"/>
              </a:gdLst>
              <a:ahLst/>
              <a:rect l="textAreaLeft" t="textAreaTop" r="textAreaRight" b="textAreaBottom"/>
              <a:pathLst>
                <a:path w="315" h="664">
                  <a:moveTo>
                    <a:pt x="0" y="664"/>
                  </a:moveTo>
                  <a:lnTo>
                    <a:pt x="37" y="646"/>
                  </a:lnTo>
                  <a:lnTo>
                    <a:pt x="110" y="626"/>
                  </a:lnTo>
                  <a:lnTo>
                    <a:pt x="129" y="569"/>
                  </a:lnTo>
                  <a:lnTo>
                    <a:pt x="148" y="474"/>
                  </a:lnTo>
                  <a:lnTo>
                    <a:pt x="241" y="494"/>
                  </a:lnTo>
                  <a:lnTo>
                    <a:pt x="315" y="474"/>
                  </a:lnTo>
                  <a:lnTo>
                    <a:pt x="279" y="418"/>
                  </a:lnTo>
                  <a:lnTo>
                    <a:pt x="204" y="360"/>
                  </a:lnTo>
                  <a:lnTo>
                    <a:pt x="204" y="285"/>
                  </a:lnTo>
                  <a:lnTo>
                    <a:pt x="166" y="171"/>
                  </a:lnTo>
                  <a:lnTo>
                    <a:pt x="129" y="77"/>
                  </a:lnTo>
                  <a:lnTo>
                    <a:pt x="148" y="0"/>
                  </a:lnTo>
                </a:path>
              </a:pathLst>
            </a:custGeom>
            <a:noFill/>
            <a:ln w="0">
              <a:solidFill>
                <a:srgbClr val="0000ff"/>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222" name="Freeform 191"/>
            <p:cNvSpPr/>
            <p:nvPr/>
          </p:nvSpPr>
          <p:spPr>
            <a:xfrm>
              <a:off x="5352120" y="4438800"/>
              <a:ext cx="380520" cy="476640"/>
            </a:xfrm>
            <a:custGeom>
              <a:avLst/>
              <a:gdLst>
                <a:gd name="textAreaLeft" fmla="*/ 0 w 380520"/>
                <a:gd name="textAreaRight" fmla="*/ 380880 w 380520"/>
                <a:gd name="textAreaTop" fmla="*/ 0 h 476640"/>
                <a:gd name="textAreaBottom" fmla="*/ 477000 h 476640"/>
              </a:gdLst>
              <a:ahLst/>
              <a:rect l="textAreaLeft" t="textAreaTop" r="textAreaRight" b="textAreaBottom"/>
              <a:pathLst>
                <a:path w="1055" h="1423">
                  <a:moveTo>
                    <a:pt x="38" y="0"/>
                  </a:moveTo>
                  <a:lnTo>
                    <a:pt x="93" y="78"/>
                  </a:lnTo>
                  <a:lnTo>
                    <a:pt x="56" y="153"/>
                  </a:lnTo>
                  <a:lnTo>
                    <a:pt x="20" y="172"/>
                  </a:lnTo>
                  <a:lnTo>
                    <a:pt x="0" y="247"/>
                  </a:lnTo>
                  <a:lnTo>
                    <a:pt x="56" y="304"/>
                  </a:lnTo>
                  <a:lnTo>
                    <a:pt x="150" y="381"/>
                  </a:lnTo>
                  <a:lnTo>
                    <a:pt x="184" y="475"/>
                  </a:lnTo>
                  <a:lnTo>
                    <a:pt x="314" y="533"/>
                  </a:lnTo>
                  <a:lnTo>
                    <a:pt x="426" y="588"/>
                  </a:lnTo>
                  <a:lnTo>
                    <a:pt x="499" y="684"/>
                  </a:lnTo>
                  <a:lnTo>
                    <a:pt x="481" y="741"/>
                  </a:lnTo>
                  <a:lnTo>
                    <a:pt x="574" y="835"/>
                  </a:lnTo>
                  <a:lnTo>
                    <a:pt x="667" y="968"/>
                  </a:lnTo>
                  <a:lnTo>
                    <a:pt x="759" y="1082"/>
                  </a:lnTo>
                  <a:lnTo>
                    <a:pt x="777" y="1157"/>
                  </a:lnTo>
                  <a:lnTo>
                    <a:pt x="777" y="1271"/>
                  </a:lnTo>
                  <a:lnTo>
                    <a:pt x="850" y="1404"/>
                  </a:lnTo>
                  <a:lnTo>
                    <a:pt x="981" y="1423"/>
                  </a:lnTo>
                  <a:lnTo>
                    <a:pt x="1055" y="1423"/>
                  </a:lnTo>
                </a:path>
              </a:pathLst>
            </a:custGeom>
            <a:noFill/>
            <a:ln w="0">
              <a:solidFill>
                <a:srgbClr val="0000ff"/>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223" name="Freeform 192"/>
            <p:cNvSpPr/>
            <p:nvPr/>
          </p:nvSpPr>
          <p:spPr>
            <a:xfrm>
              <a:off x="5350320" y="4784760"/>
              <a:ext cx="239400" cy="235440"/>
            </a:xfrm>
            <a:custGeom>
              <a:avLst/>
              <a:gdLst>
                <a:gd name="textAreaLeft" fmla="*/ 0 w 239400"/>
                <a:gd name="textAreaRight" fmla="*/ 239760 w 239400"/>
                <a:gd name="textAreaTop" fmla="*/ 0 h 235440"/>
                <a:gd name="textAreaBottom" fmla="*/ 235800 h 235440"/>
              </a:gdLst>
              <a:ahLst/>
              <a:rect l="textAreaLeft" t="textAreaTop" r="textAreaRight" b="textAreaBottom"/>
              <a:pathLst>
                <a:path w="667" h="702">
                  <a:moveTo>
                    <a:pt x="0" y="0"/>
                  </a:moveTo>
                  <a:lnTo>
                    <a:pt x="113" y="57"/>
                  </a:lnTo>
                  <a:lnTo>
                    <a:pt x="186" y="114"/>
                  </a:lnTo>
                  <a:lnTo>
                    <a:pt x="259" y="209"/>
                  </a:lnTo>
                  <a:lnTo>
                    <a:pt x="279" y="303"/>
                  </a:lnTo>
                  <a:lnTo>
                    <a:pt x="204" y="323"/>
                  </a:lnTo>
                  <a:lnTo>
                    <a:pt x="131" y="361"/>
                  </a:lnTo>
                  <a:lnTo>
                    <a:pt x="186" y="435"/>
                  </a:lnTo>
                  <a:lnTo>
                    <a:pt x="113" y="493"/>
                  </a:lnTo>
                  <a:lnTo>
                    <a:pt x="75" y="530"/>
                  </a:lnTo>
                  <a:lnTo>
                    <a:pt x="167" y="607"/>
                  </a:lnTo>
                  <a:lnTo>
                    <a:pt x="279" y="607"/>
                  </a:lnTo>
                  <a:lnTo>
                    <a:pt x="407" y="644"/>
                  </a:lnTo>
                  <a:lnTo>
                    <a:pt x="573" y="664"/>
                  </a:lnTo>
                  <a:lnTo>
                    <a:pt x="667" y="702"/>
                  </a:lnTo>
                </a:path>
              </a:pathLst>
            </a:custGeom>
            <a:noFill/>
            <a:ln w="0">
              <a:solidFill>
                <a:srgbClr val="0000ff"/>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224" name="Freeform 193"/>
            <p:cNvSpPr/>
            <p:nvPr/>
          </p:nvSpPr>
          <p:spPr>
            <a:xfrm>
              <a:off x="5145480" y="4752360"/>
              <a:ext cx="105480" cy="216360"/>
            </a:xfrm>
            <a:custGeom>
              <a:avLst/>
              <a:gdLst>
                <a:gd name="textAreaLeft" fmla="*/ 0 w 105480"/>
                <a:gd name="textAreaRight" fmla="*/ 105840 w 105480"/>
                <a:gd name="textAreaTop" fmla="*/ 0 h 216360"/>
                <a:gd name="textAreaBottom" fmla="*/ 216720 h 216360"/>
              </a:gdLst>
              <a:ahLst/>
              <a:rect l="textAreaLeft" t="textAreaTop" r="textAreaRight" b="textAreaBottom"/>
              <a:pathLst>
                <a:path w="296" h="645">
                  <a:moveTo>
                    <a:pt x="149" y="0"/>
                  </a:moveTo>
                  <a:lnTo>
                    <a:pt x="204" y="76"/>
                  </a:lnTo>
                  <a:lnTo>
                    <a:pt x="278" y="56"/>
                  </a:lnTo>
                  <a:lnTo>
                    <a:pt x="278" y="172"/>
                  </a:lnTo>
                  <a:lnTo>
                    <a:pt x="296" y="284"/>
                  </a:lnTo>
                  <a:lnTo>
                    <a:pt x="296" y="379"/>
                  </a:lnTo>
                  <a:lnTo>
                    <a:pt x="258" y="474"/>
                  </a:lnTo>
                  <a:lnTo>
                    <a:pt x="149" y="474"/>
                  </a:lnTo>
                  <a:lnTo>
                    <a:pt x="55" y="474"/>
                  </a:lnTo>
                  <a:lnTo>
                    <a:pt x="38" y="588"/>
                  </a:lnTo>
                  <a:lnTo>
                    <a:pt x="0" y="645"/>
                  </a:lnTo>
                </a:path>
              </a:pathLst>
            </a:custGeom>
            <a:noFill/>
            <a:ln w="0">
              <a:solidFill>
                <a:srgbClr val="0000ff"/>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225" name="Freeform 194"/>
            <p:cNvSpPr/>
            <p:nvPr/>
          </p:nvSpPr>
          <p:spPr>
            <a:xfrm>
              <a:off x="6523920" y="4739760"/>
              <a:ext cx="132480" cy="18720"/>
            </a:xfrm>
            <a:custGeom>
              <a:avLst/>
              <a:gdLst>
                <a:gd name="textAreaLeft" fmla="*/ 0 w 132480"/>
                <a:gd name="textAreaRight" fmla="*/ 132840 w 132480"/>
                <a:gd name="textAreaTop" fmla="*/ 0 h 18720"/>
                <a:gd name="textAreaBottom" fmla="*/ 19080 h 18720"/>
              </a:gdLst>
              <a:ahLst/>
              <a:rect l="textAreaLeft" t="textAreaTop" r="textAreaRight" b="textAreaBottom"/>
              <a:pathLst>
                <a:path w="370" h="57">
                  <a:moveTo>
                    <a:pt x="0" y="0"/>
                  </a:moveTo>
                  <a:lnTo>
                    <a:pt x="73" y="40"/>
                  </a:lnTo>
                  <a:lnTo>
                    <a:pt x="148" y="57"/>
                  </a:lnTo>
                  <a:lnTo>
                    <a:pt x="203" y="20"/>
                  </a:lnTo>
                  <a:lnTo>
                    <a:pt x="259" y="0"/>
                  </a:lnTo>
                  <a:lnTo>
                    <a:pt x="370" y="20"/>
                  </a:lnTo>
                </a:path>
              </a:pathLst>
            </a:custGeom>
            <a:noFill/>
            <a:ln w="0">
              <a:solidFill>
                <a:srgbClr val="0000ff"/>
              </a:solidFill>
            </a:ln>
          </p:spPr>
          <p:style>
            <a:lnRef idx="0"/>
            <a:fillRef idx="0"/>
            <a:effectRef idx="0"/>
            <a:fontRef idx="minor"/>
          </p:style>
          <p:txBody>
            <a:bodyPr lIns="90000" rIns="90000" tIns="-27720" bIns="-27720" anchor="t">
              <a:noAutofit/>
            </a:bodyPr>
            <a:p>
              <a:endParaRPr b="1" lang="en-US" sz="1800" spc="-1" strike="noStrike">
                <a:solidFill>
                  <a:srgbClr val="ffffff"/>
                </a:solidFill>
                <a:latin typeface="Castellar"/>
              </a:endParaRPr>
            </a:p>
          </p:txBody>
        </p:sp>
        <p:sp>
          <p:nvSpPr>
            <p:cNvPr id="226" name="Line 195"/>
            <p:cNvSpPr/>
            <p:nvPr/>
          </p:nvSpPr>
          <p:spPr>
            <a:xfrm flipV="1">
              <a:off x="6622920" y="4714560"/>
              <a:ext cx="5400" cy="23760"/>
            </a:xfrm>
            <a:prstGeom prst="line">
              <a:avLst/>
            </a:prstGeom>
            <a:ln w="0">
              <a:solidFill>
                <a:srgbClr val="0000ff"/>
              </a:solidFill>
            </a:ln>
          </p:spPr>
          <p:style>
            <a:lnRef idx="0"/>
            <a:fillRef idx="0"/>
            <a:effectRef idx="0"/>
            <a:fontRef idx="minor"/>
          </p:style>
          <p:txBody>
            <a:bodyPr lIns="90000" rIns="90000" tIns="-23040" bIns="-23040" anchor="t">
              <a:noAutofit/>
            </a:bodyPr>
            <a:p>
              <a:endParaRPr b="1" lang="en-US" sz="1800" spc="-1" strike="noStrike">
                <a:solidFill>
                  <a:srgbClr val="ffffff"/>
                </a:solidFill>
                <a:latin typeface="Castellar"/>
              </a:endParaRPr>
            </a:p>
          </p:txBody>
        </p:sp>
        <p:sp>
          <p:nvSpPr>
            <p:cNvPr id="227" name="Freeform 196"/>
            <p:cNvSpPr/>
            <p:nvPr/>
          </p:nvSpPr>
          <p:spPr>
            <a:xfrm>
              <a:off x="4835160" y="2629800"/>
              <a:ext cx="941040" cy="285480"/>
            </a:xfrm>
            <a:custGeom>
              <a:avLst/>
              <a:gdLst>
                <a:gd name="textAreaLeft" fmla="*/ 0 w 941040"/>
                <a:gd name="textAreaRight" fmla="*/ 941400 w 941040"/>
                <a:gd name="textAreaTop" fmla="*/ 0 h 285480"/>
                <a:gd name="textAreaBottom" fmla="*/ 285840 h 285480"/>
              </a:gdLst>
              <a:ahLst/>
              <a:rect l="textAreaLeft" t="textAreaTop" r="textAreaRight" b="textAreaBottom"/>
              <a:pathLst>
                <a:path w="2609" h="853">
                  <a:moveTo>
                    <a:pt x="2516" y="0"/>
                  </a:moveTo>
                  <a:lnTo>
                    <a:pt x="2479" y="113"/>
                  </a:lnTo>
                  <a:lnTo>
                    <a:pt x="2368" y="152"/>
                  </a:lnTo>
                  <a:lnTo>
                    <a:pt x="2276" y="113"/>
                  </a:lnTo>
                  <a:lnTo>
                    <a:pt x="2202" y="113"/>
                  </a:lnTo>
                  <a:lnTo>
                    <a:pt x="2202" y="171"/>
                  </a:lnTo>
                  <a:lnTo>
                    <a:pt x="2129" y="247"/>
                  </a:lnTo>
                  <a:lnTo>
                    <a:pt x="1998" y="266"/>
                  </a:lnTo>
                  <a:lnTo>
                    <a:pt x="1923" y="247"/>
                  </a:lnTo>
                  <a:lnTo>
                    <a:pt x="1831" y="228"/>
                  </a:lnTo>
                  <a:lnTo>
                    <a:pt x="1720" y="171"/>
                  </a:lnTo>
                  <a:lnTo>
                    <a:pt x="1592" y="152"/>
                  </a:lnTo>
                  <a:lnTo>
                    <a:pt x="1554" y="228"/>
                  </a:lnTo>
                  <a:lnTo>
                    <a:pt x="1481" y="190"/>
                  </a:lnTo>
                  <a:lnTo>
                    <a:pt x="1406" y="190"/>
                  </a:lnTo>
                  <a:lnTo>
                    <a:pt x="1351" y="303"/>
                  </a:lnTo>
                  <a:lnTo>
                    <a:pt x="1184" y="360"/>
                  </a:lnTo>
                  <a:lnTo>
                    <a:pt x="1072" y="379"/>
                  </a:lnTo>
                  <a:lnTo>
                    <a:pt x="962" y="437"/>
                  </a:lnTo>
                  <a:lnTo>
                    <a:pt x="815" y="474"/>
                  </a:lnTo>
                  <a:lnTo>
                    <a:pt x="703" y="492"/>
                  </a:lnTo>
                  <a:lnTo>
                    <a:pt x="591" y="511"/>
                  </a:lnTo>
                  <a:lnTo>
                    <a:pt x="463" y="511"/>
                  </a:lnTo>
                  <a:lnTo>
                    <a:pt x="370" y="606"/>
                  </a:lnTo>
                  <a:lnTo>
                    <a:pt x="296" y="683"/>
                  </a:lnTo>
                  <a:lnTo>
                    <a:pt x="222" y="759"/>
                  </a:lnTo>
                  <a:lnTo>
                    <a:pt x="74" y="778"/>
                  </a:lnTo>
                  <a:lnTo>
                    <a:pt x="0" y="815"/>
                  </a:lnTo>
                  <a:lnTo>
                    <a:pt x="18" y="853"/>
                  </a:lnTo>
                  <a:lnTo>
                    <a:pt x="130" y="853"/>
                  </a:lnTo>
                  <a:lnTo>
                    <a:pt x="222" y="853"/>
                  </a:lnTo>
                  <a:lnTo>
                    <a:pt x="296" y="797"/>
                  </a:lnTo>
                  <a:lnTo>
                    <a:pt x="333" y="720"/>
                  </a:lnTo>
                  <a:lnTo>
                    <a:pt x="406" y="664"/>
                  </a:lnTo>
                  <a:lnTo>
                    <a:pt x="482" y="625"/>
                  </a:lnTo>
                  <a:lnTo>
                    <a:pt x="591" y="587"/>
                  </a:lnTo>
                  <a:lnTo>
                    <a:pt x="666" y="569"/>
                  </a:lnTo>
                  <a:lnTo>
                    <a:pt x="758" y="551"/>
                  </a:lnTo>
                  <a:lnTo>
                    <a:pt x="888" y="532"/>
                  </a:lnTo>
                  <a:lnTo>
                    <a:pt x="944" y="551"/>
                  </a:lnTo>
                  <a:lnTo>
                    <a:pt x="1036" y="492"/>
                  </a:lnTo>
                  <a:lnTo>
                    <a:pt x="1091" y="474"/>
                  </a:lnTo>
                  <a:lnTo>
                    <a:pt x="1184" y="455"/>
                  </a:lnTo>
                  <a:lnTo>
                    <a:pt x="1257" y="417"/>
                  </a:lnTo>
                  <a:lnTo>
                    <a:pt x="1313" y="399"/>
                  </a:lnTo>
                  <a:lnTo>
                    <a:pt x="1370" y="360"/>
                  </a:lnTo>
                  <a:lnTo>
                    <a:pt x="1444" y="303"/>
                  </a:lnTo>
                  <a:lnTo>
                    <a:pt x="1499" y="285"/>
                  </a:lnTo>
                  <a:lnTo>
                    <a:pt x="1610" y="266"/>
                  </a:lnTo>
                  <a:lnTo>
                    <a:pt x="1683" y="247"/>
                  </a:lnTo>
                  <a:lnTo>
                    <a:pt x="1776" y="285"/>
                  </a:lnTo>
                  <a:lnTo>
                    <a:pt x="1904" y="303"/>
                  </a:lnTo>
                  <a:lnTo>
                    <a:pt x="2054" y="303"/>
                  </a:lnTo>
                  <a:lnTo>
                    <a:pt x="2147" y="266"/>
                  </a:lnTo>
                  <a:lnTo>
                    <a:pt x="2238" y="247"/>
                  </a:lnTo>
                  <a:lnTo>
                    <a:pt x="2349" y="228"/>
                  </a:lnTo>
                  <a:lnTo>
                    <a:pt x="2479" y="247"/>
                  </a:lnTo>
                  <a:lnTo>
                    <a:pt x="2571" y="209"/>
                  </a:lnTo>
                  <a:lnTo>
                    <a:pt x="2609" y="133"/>
                  </a:lnTo>
                  <a:lnTo>
                    <a:pt x="2571" y="39"/>
                  </a:lnTo>
                  <a:lnTo>
                    <a:pt x="2516" y="0"/>
                  </a:lnTo>
                  <a:close/>
                </a:path>
              </a:pathLst>
            </a:custGeom>
            <a:solidFill>
              <a:srgbClr val="0000ff"/>
            </a:solidFill>
            <a:ln w="0">
              <a:solidFill>
                <a:srgbClr val="0000ff"/>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228" name="Freeform 197"/>
            <p:cNvSpPr/>
            <p:nvPr/>
          </p:nvSpPr>
          <p:spPr>
            <a:xfrm>
              <a:off x="5268960" y="3761280"/>
              <a:ext cx="519840" cy="1219680"/>
            </a:xfrm>
            <a:custGeom>
              <a:avLst/>
              <a:gdLst>
                <a:gd name="textAreaLeft" fmla="*/ 0 w 519840"/>
                <a:gd name="textAreaRight" fmla="*/ 520200 w 519840"/>
                <a:gd name="textAreaTop" fmla="*/ 0 h 1219680"/>
                <a:gd name="textAreaBottom" fmla="*/ 1220040 h 1219680"/>
              </a:gdLst>
              <a:ahLst/>
              <a:rect l="textAreaLeft" t="textAreaTop" r="textAreaRight" b="textAreaBottom"/>
              <a:pathLst>
                <a:path w="1443" h="3640">
                  <a:moveTo>
                    <a:pt x="1443" y="3640"/>
                  </a:moveTo>
                  <a:lnTo>
                    <a:pt x="1388" y="3526"/>
                  </a:lnTo>
                  <a:lnTo>
                    <a:pt x="1350" y="3432"/>
                  </a:lnTo>
                  <a:lnTo>
                    <a:pt x="1314" y="3318"/>
                  </a:lnTo>
                  <a:lnTo>
                    <a:pt x="1314" y="3185"/>
                  </a:lnTo>
                  <a:lnTo>
                    <a:pt x="1314" y="3128"/>
                  </a:lnTo>
                  <a:lnTo>
                    <a:pt x="1368" y="3071"/>
                  </a:lnTo>
                  <a:lnTo>
                    <a:pt x="1350" y="3033"/>
                  </a:lnTo>
                  <a:lnTo>
                    <a:pt x="1259" y="2976"/>
                  </a:lnTo>
                  <a:lnTo>
                    <a:pt x="1202" y="2939"/>
                  </a:lnTo>
                  <a:lnTo>
                    <a:pt x="1277" y="2881"/>
                  </a:lnTo>
                  <a:lnTo>
                    <a:pt x="1314" y="2862"/>
                  </a:lnTo>
                  <a:lnTo>
                    <a:pt x="1240" y="2807"/>
                  </a:lnTo>
                  <a:lnTo>
                    <a:pt x="1184" y="2710"/>
                  </a:lnTo>
                  <a:lnTo>
                    <a:pt x="1147" y="2655"/>
                  </a:lnTo>
                  <a:lnTo>
                    <a:pt x="1074" y="2636"/>
                  </a:lnTo>
                  <a:lnTo>
                    <a:pt x="1017" y="2579"/>
                  </a:lnTo>
                  <a:lnTo>
                    <a:pt x="944" y="2541"/>
                  </a:lnTo>
                  <a:lnTo>
                    <a:pt x="944" y="2484"/>
                  </a:lnTo>
                  <a:lnTo>
                    <a:pt x="944" y="2389"/>
                  </a:lnTo>
                  <a:lnTo>
                    <a:pt x="981" y="2333"/>
                  </a:lnTo>
                  <a:lnTo>
                    <a:pt x="1036" y="2275"/>
                  </a:lnTo>
                  <a:lnTo>
                    <a:pt x="1129" y="2238"/>
                  </a:lnTo>
                  <a:lnTo>
                    <a:pt x="1166" y="2161"/>
                  </a:lnTo>
                  <a:lnTo>
                    <a:pt x="1202" y="2029"/>
                  </a:lnTo>
                  <a:lnTo>
                    <a:pt x="1222" y="1972"/>
                  </a:lnTo>
                  <a:lnTo>
                    <a:pt x="1166" y="1934"/>
                  </a:lnTo>
                  <a:lnTo>
                    <a:pt x="1092" y="1858"/>
                  </a:lnTo>
                  <a:lnTo>
                    <a:pt x="907" y="1745"/>
                  </a:lnTo>
                  <a:lnTo>
                    <a:pt x="814" y="1801"/>
                  </a:lnTo>
                  <a:lnTo>
                    <a:pt x="740" y="1801"/>
                  </a:lnTo>
                  <a:lnTo>
                    <a:pt x="648" y="1724"/>
                  </a:lnTo>
                  <a:lnTo>
                    <a:pt x="684" y="1610"/>
                  </a:lnTo>
                  <a:lnTo>
                    <a:pt x="648" y="1573"/>
                  </a:lnTo>
                  <a:lnTo>
                    <a:pt x="611" y="1516"/>
                  </a:lnTo>
                  <a:lnTo>
                    <a:pt x="574" y="1441"/>
                  </a:lnTo>
                  <a:lnTo>
                    <a:pt x="593" y="1345"/>
                  </a:lnTo>
                  <a:lnTo>
                    <a:pt x="536" y="1251"/>
                  </a:lnTo>
                  <a:lnTo>
                    <a:pt x="556" y="1194"/>
                  </a:lnTo>
                  <a:lnTo>
                    <a:pt x="463" y="1157"/>
                  </a:lnTo>
                  <a:lnTo>
                    <a:pt x="389" y="1138"/>
                  </a:lnTo>
                  <a:lnTo>
                    <a:pt x="296" y="1212"/>
                  </a:lnTo>
                  <a:lnTo>
                    <a:pt x="221" y="1251"/>
                  </a:lnTo>
                  <a:lnTo>
                    <a:pt x="185" y="1308"/>
                  </a:lnTo>
                  <a:lnTo>
                    <a:pt x="111" y="1232"/>
                  </a:lnTo>
                  <a:lnTo>
                    <a:pt x="37" y="1212"/>
                  </a:lnTo>
                  <a:lnTo>
                    <a:pt x="0" y="1138"/>
                  </a:lnTo>
                  <a:lnTo>
                    <a:pt x="18" y="1061"/>
                  </a:lnTo>
                  <a:lnTo>
                    <a:pt x="75" y="985"/>
                  </a:lnTo>
                  <a:lnTo>
                    <a:pt x="37" y="930"/>
                  </a:lnTo>
                  <a:lnTo>
                    <a:pt x="18" y="853"/>
                  </a:lnTo>
                  <a:lnTo>
                    <a:pt x="111" y="834"/>
                  </a:lnTo>
                  <a:lnTo>
                    <a:pt x="167" y="910"/>
                  </a:lnTo>
                  <a:lnTo>
                    <a:pt x="241" y="910"/>
                  </a:lnTo>
                  <a:lnTo>
                    <a:pt x="315" y="892"/>
                  </a:lnTo>
                  <a:lnTo>
                    <a:pt x="351" y="834"/>
                  </a:lnTo>
                  <a:lnTo>
                    <a:pt x="407" y="797"/>
                  </a:lnTo>
                  <a:lnTo>
                    <a:pt x="500" y="834"/>
                  </a:lnTo>
                  <a:lnTo>
                    <a:pt x="463" y="910"/>
                  </a:lnTo>
                  <a:lnTo>
                    <a:pt x="518" y="910"/>
                  </a:lnTo>
                  <a:lnTo>
                    <a:pt x="556" y="873"/>
                  </a:lnTo>
                  <a:lnTo>
                    <a:pt x="574" y="816"/>
                  </a:lnTo>
                  <a:lnTo>
                    <a:pt x="593" y="739"/>
                  </a:lnTo>
                  <a:lnTo>
                    <a:pt x="593" y="702"/>
                  </a:lnTo>
                  <a:lnTo>
                    <a:pt x="593" y="665"/>
                  </a:lnTo>
                  <a:lnTo>
                    <a:pt x="611" y="588"/>
                  </a:lnTo>
                  <a:lnTo>
                    <a:pt x="611" y="513"/>
                  </a:lnTo>
                  <a:lnTo>
                    <a:pt x="593" y="455"/>
                  </a:lnTo>
                  <a:lnTo>
                    <a:pt x="629" y="400"/>
                  </a:lnTo>
                  <a:lnTo>
                    <a:pt x="629" y="323"/>
                  </a:lnTo>
                  <a:lnTo>
                    <a:pt x="629" y="228"/>
                  </a:lnTo>
                  <a:lnTo>
                    <a:pt x="593" y="152"/>
                  </a:lnTo>
                  <a:lnTo>
                    <a:pt x="556" y="114"/>
                  </a:lnTo>
                  <a:lnTo>
                    <a:pt x="481" y="0"/>
                  </a:lnTo>
                </a:path>
              </a:pathLst>
            </a:custGeom>
            <a:noFill/>
            <a:ln w="15840">
              <a:solidFill>
                <a:srgbClr val="ff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229" name="Freeform 198"/>
            <p:cNvSpPr/>
            <p:nvPr/>
          </p:nvSpPr>
          <p:spPr>
            <a:xfrm>
              <a:off x="5429880" y="3684600"/>
              <a:ext cx="19440" cy="69120"/>
            </a:xfrm>
            <a:custGeom>
              <a:avLst/>
              <a:gdLst>
                <a:gd name="textAreaLeft" fmla="*/ 0 w 19440"/>
                <a:gd name="textAreaRight" fmla="*/ 19800 w 19440"/>
                <a:gd name="textAreaTop" fmla="*/ 0 h 69120"/>
                <a:gd name="textAreaBottom" fmla="*/ 69480 h 69120"/>
              </a:gdLst>
              <a:ahLst/>
              <a:rect l="textAreaLeft" t="textAreaTop" r="textAreaRight" b="textAreaBottom"/>
              <a:pathLst>
                <a:path w="55" h="208">
                  <a:moveTo>
                    <a:pt x="19" y="208"/>
                  </a:moveTo>
                  <a:lnTo>
                    <a:pt x="0" y="131"/>
                  </a:lnTo>
                  <a:lnTo>
                    <a:pt x="19" y="77"/>
                  </a:lnTo>
                  <a:lnTo>
                    <a:pt x="19" y="21"/>
                  </a:lnTo>
                  <a:lnTo>
                    <a:pt x="55" y="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1" lang="en-US" sz="1800" spc="-1" strike="noStrike">
                <a:solidFill>
                  <a:srgbClr val="ffffff"/>
                </a:solidFill>
                <a:latin typeface="Castellar"/>
              </a:endParaRPr>
            </a:p>
          </p:txBody>
        </p:sp>
        <p:sp>
          <p:nvSpPr>
            <p:cNvPr id="230" name="Freeform 199"/>
            <p:cNvSpPr/>
            <p:nvPr/>
          </p:nvSpPr>
          <p:spPr>
            <a:xfrm>
              <a:off x="5422680" y="3621600"/>
              <a:ext cx="113400" cy="69120"/>
            </a:xfrm>
            <a:custGeom>
              <a:avLst/>
              <a:gdLst>
                <a:gd name="textAreaLeft" fmla="*/ 0 w 113400"/>
                <a:gd name="textAreaRight" fmla="*/ 113760 w 113400"/>
                <a:gd name="textAreaTop" fmla="*/ 0 h 69120"/>
                <a:gd name="textAreaBottom" fmla="*/ 69480 h 69120"/>
              </a:gdLst>
              <a:ahLst/>
              <a:rect l="textAreaLeft" t="textAreaTop" r="textAreaRight" b="textAreaBottom"/>
              <a:pathLst>
                <a:path w="315" h="209">
                  <a:moveTo>
                    <a:pt x="55" y="151"/>
                  </a:moveTo>
                  <a:lnTo>
                    <a:pt x="37" y="209"/>
                  </a:lnTo>
                  <a:lnTo>
                    <a:pt x="37" y="151"/>
                  </a:lnTo>
                  <a:lnTo>
                    <a:pt x="0" y="96"/>
                  </a:lnTo>
                  <a:lnTo>
                    <a:pt x="55" y="96"/>
                  </a:lnTo>
                  <a:lnTo>
                    <a:pt x="148" y="77"/>
                  </a:lnTo>
                  <a:lnTo>
                    <a:pt x="223" y="96"/>
                  </a:lnTo>
                  <a:lnTo>
                    <a:pt x="259" y="19"/>
                  </a:lnTo>
                  <a:lnTo>
                    <a:pt x="315" y="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1" lang="en-US" sz="1800" spc="-1" strike="noStrike">
                <a:solidFill>
                  <a:srgbClr val="ffffff"/>
                </a:solidFill>
                <a:latin typeface="Castellar"/>
              </a:endParaRPr>
            </a:p>
          </p:txBody>
        </p:sp>
        <p:sp>
          <p:nvSpPr>
            <p:cNvPr id="231" name="Freeform 200"/>
            <p:cNvSpPr/>
            <p:nvPr/>
          </p:nvSpPr>
          <p:spPr>
            <a:xfrm>
              <a:off x="5123160" y="3436560"/>
              <a:ext cx="313200" cy="5760"/>
            </a:xfrm>
            <a:custGeom>
              <a:avLst/>
              <a:gdLst>
                <a:gd name="textAreaLeft" fmla="*/ 0 w 313200"/>
                <a:gd name="textAreaRight" fmla="*/ 313200 w 313200"/>
                <a:gd name="textAreaTop" fmla="*/ 0 h 5760"/>
                <a:gd name="textAreaBottom" fmla="*/ 6120 h 5760"/>
              </a:gdLst>
              <a:ahLst/>
              <a:rect l="textAreaLeft" t="textAreaTop" r="textAreaRight" b="textAreaBottom"/>
              <a:pathLst>
                <a:path w="869" h="19">
                  <a:moveTo>
                    <a:pt x="0" y="0"/>
                  </a:moveTo>
                  <a:lnTo>
                    <a:pt x="130" y="19"/>
                  </a:lnTo>
                  <a:lnTo>
                    <a:pt x="258" y="0"/>
                  </a:lnTo>
                  <a:lnTo>
                    <a:pt x="406" y="0"/>
                  </a:lnTo>
                  <a:lnTo>
                    <a:pt x="574" y="19"/>
                  </a:lnTo>
                  <a:lnTo>
                    <a:pt x="758" y="0"/>
                  </a:lnTo>
                  <a:lnTo>
                    <a:pt x="869" y="19"/>
                  </a:lnTo>
                </a:path>
              </a:pathLst>
            </a:custGeom>
            <a:noFill/>
            <a:ln w="0">
              <a:solidFill>
                <a:srgbClr val="ff0000"/>
              </a:solidFill>
              <a:prstDash val="sysDash"/>
            </a:ln>
          </p:spPr>
          <p:style>
            <a:lnRef idx="0"/>
            <a:fillRef idx="0"/>
            <a:effectRef idx="0"/>
            <a:fontRef idx="minor"/>
          </p:style>
          <p:txBody>
            <a:bodyPr lIns="90000" rIns="90000" tIns="-40680" bIns="-40680" anchor="t">
              <a:noAutofit/>
            </a:bodyPr>
            <a:p>
              <a:endParaRPr b="1" lang="en-US" sz="1800" spc="-1" strike="noStrike">
                <a:solidFill>
                  <a:srgbClr val="ffffff"/>
                </a:solidFill>
                <a:latin typeface="Castellar"/>
              </a:endParaRPr>
            </a:p>
          </p:txBody>
        </p:sp>
        <p:sp>
          <p:nvSpPr>
            <p:cNvPr id="232" name="Freeform 201"/>
            <p:cNvSpPr/>
            <p:nvPr/>
          </p:nvSpPr>
          <p:spPr>
            <a:xfrm>
              <a:off x="5522040" y="3443400"/>
              <a:ext cx="159840" cy="12960"/>
            </a:xfrm>
            <a:custGeom>
              <a:avLst/>
              <a:gdLst>
                <a:gd name="textAreaLeft" fmla="*/ 0 w 159840"/>
                <a:gd name="textAreaRight" fmla="*/ 160200 w 159840"/>
                <a:gd name="textAreaTop" fmla="*/ 0 h 12960"/>
                <a:gd name="textAreaBottom" fmla="*/ 13320 h 12960"/>
              </a:gdLst>
              <a:ahLst/>
              <a:rect l="textAreaLeft" t="textAreaTop" r="textAreaRight" b="textAreaBottom"/>
              <a:pathLst>
                <a:path w="444" h="37">
                  <a:moveTo>
                    <a:pt x="0" y="0"/>
                  </a:moveTo>
                  <a:lnTo>
                    <a:pt x="130" y="18"/>
                  </a:lnTo>
                  <a:lnTo>
                    <a:pt x="185" y="37"/>
                  </a:lnTo>
                  <a:lnTo>
                    <a:pt x="279" y="18"/>
                  </a:lnTo>
                  <a:lnTo>
                    <a:pt x="389" y="0"/>
                  </a:lnTo>
                  <a:lnTo>
                    <a:pt x="444" y="18"/>
                  </a:lnTo>
                </a:path>
              </a:pathLst>
            </a:custGeom>
            <a:noFill/>
            <a:ln w="0">
              <a:solidFill>
                <a:srgbClr val="ff0000"/>
              </a:solidFill>
              <a:prstDash val="sysDash"/>
            </a:ln>
          </p:spPr>
          <p:style>
            <a:lnRef idx="0"/>
            <a:fillRef idx="0"/>
            <a:effectRef idx="0"/>
            <a:fontRef idx="minor"/>
          </p:style>
          <p:txBody>
            <a:bodyPr lIns="90000" rIns="90000" tIns="-33480" bIns="-33480" anchor="t">
              <a:noAutofit/>
            </a:bodyPr>
            <a:p>
              <a:endParaRPr b="1" lang="en-US" sz="1800" spc="-1" strike="noStrike">
                <a:solidFill>
                  <a:srgbClr val="ffffff"/>
                </a:solidFill>
                <a:latin typeface="Castellar"/>
              </a:endParaRPr>
            </a:p>
          </p:txBody>
        </p:sp>
        <p:sp>
          <p:nvSpPr>
            <p:cNvPr id="233" name="Freeform 202"/>
            <p:cNvSpPr/>
            <p:nvPr/>
          </p:nvSpPr>
          <p:spPr>
            <a:xfrm>
              <a:off x="5512320" y="2796840"/>
              <a:ext cx="91440" cy="87480"/>
            </a:xfrm>
            <a:custGeom>
              <a:avLst/>
              <a:gdLst>
                <a:gd name="textAreaLeft" fmla="*/ 0 w 91440"/>
                <a:gd name="textAreaRight" fmla="*/ 91800 w 91440"/>
                <a:gd name="textAreaTop" fmla="*/ 0 h 87480"/>
                <a:gd name="textAreaBottom" fmla="*/ 87840 h 87480"/>
              </a:gdLst>
              <a:ahLst/>
              <a:rect l="textAreaLeft" t="textAreaTop" r="textAreaRight" b="textAreaBottom"/>
              <a:pathLst>
                <a:path w="254" h="260">
                  <a:moveTo>
                    <a:pt x="254" y="0"/>
                  </a:moveTo>
                  <a:lnTo>
                    <a:pt x="155" y="260"/>
                  </a:lnTo>
                  <a:lnTo>
                    <a:pt x="0" y="69"/>
                  </a:lnTo>
                  <a:lnTo>
                    <a:pt x="254" y="0"/>
                  </a:lnTo>
                  <a:close/>
                </a:path>
              </a:pathLst>
            </a:custGeom>
            <a:noFill/>
            <a:ln w="0">
              <a:solidFill>
                <a:srgbClr val="ff0000"/>
              </a:solidFill>
            </a:ln>
          </p:spPr>
          <p:style>
            <a:lnRef idx="0"/>
            <a:fillRef idx="0"/>
            <a:effectRef idx="0"/>
            <a:fontRef idx="minor"/>
          </p:style>
          <p:txBody>
            <a:bodyPr lIns="90000" rIns="90000" tIns="41040" bIns="41040" anchor="t">
              <a:noAutofit/>
            </a:bodyPr>
            <a:p>
              <a:endParaRPr b="1" lang="en-US" sz="1800" spc="-1" strike="noStrike">
                <a:solidFill>
                  <a:srgbClr val="ffffff"/>
                </a:solidFill>
                <a:latin typeface="Castellar"/>
              </a:endParaRPr>
            </a:p>
          </p:txBody>
        </p:sp>
        <p:sp>
          <p:nvSpPr>
            <p:cNvPr id="234" name="Freeform 203"/>
            <p:cNvSpPr/>
            <p:nvPr/>
          </p:nvSpPr>
          <p:spPr>
            <a:xfrm>
              <a:off x="5412600" y="2872080"/>
              <a:ext cx="77040" cy="93600"/>
            </a:xfrm>
            <a:custGeom>
              <a:avLst/>
              <a:gdLst>
                <a:gd name="textAreaLeft" fmla="*/ 0 w 77040"/>
                <a:gd name="textAreaRight" fmla="*/ 77400 w 77040"/>
                <a:gd name="textAreaTop" fmla="*/ 0 h 93600"/>
                <a:gd name="textAreaBottom" fmla="*/ 93960 h 93600"/>
              </a:gdLst>
              <a:ahLst/>
              <a:rect l="textAreaLeft" t="textAreaTop" r="textAreaRight" b="textAreaBottom"/>
              <a:pathLst>
                <a:path w="211" h="279">
                  <a:moveTo>
                    <a:pt x="209" y="0"/>
                  </a:moveTo>
                  <a:lnTo>
                    <a:pt x="211" y="279"/>
                  </a:lnTo>
                  <a:lnTo>
                    <a:pt x="0" y="170"/>
                  </a:lnTo>
                  <a:lnTo>
                    <a:pt x="209" y="0"/>
                  </a:lnTo>
                  <a:close/>
                </a:path>
              </a:pathLst>
            </a:custGeom>
            <a:noFill/>
            <a:ln w="0">
              <a:solidFill>
                <a:srgbClr val="ff0000"/>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235" name="Freeform 204"/>
            <p:cNvSpPr/>
            <p:nvPr/>
          </p:nvSpPr>
          <p:spPr>
            <a:xfrm>
              <a:off x="5612040" y="2694240"/>
              <a:ext cx="81720" cy="93240"/>
            </a:xfrm>
            <a:custGeom>
              <a:avLst/>
              <a:gdLst>
                <a:gd name="textAreaLeft" fmla="*/ 0 w 81720"/>
                <a:gd name="textAreaRight" fmla="*/ 82080 w 81720"/>
                <a:gd name="textAreaTop" fmla="*/ 0 h 93240"/>
                <a:gd name="textAreaBottom" fmla="*/ 93600 h 93240"/>
              </a:gdLst>
              <a:ahLst/>
              <a:rect l="textAreaLeft" t="textAreaTop" r="textAreaRight" b="textAreaBottom"/>
              <a:pathLst>
                <a:path w="227" h="280">
                  <a:moveTo>
                    <a:pt x="227" y="0"/>
                  </a:moveTo>
                  <a:lnTo>
                    <a:pt x="197" y="280"/>
                  </a:lnTo>
                  <a:lnTo>
                    <a:pt x="0" y="144"/>
                  </a:lnTo>
                  <a:lnTo>
                    <a:pt x="227" y="0"/>
                  </a:lnTo>
                  <a:close/>
                </a:path>
              </a:pathLst>
            </a:custGeom>
            <a:noFill/>
            <a:ln w="0">
              <a:solidFill>
                <a:srgbClr val="ff0000"/>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236" name="Freeform 205"/>
            <p:cNvSpPr/>
            <p:nvPr/>
          </p:nvSpPr>
          <p:spPr>
            <a:xfrm>
              <a:off x="6043680" y="4605120"/>
              <a:ext cx="92520" cy="85320"/>
            </a:xfrm>
            <a:custGeom>
              <a:avLst/>
              <a:gdLst>
                <a:gd name="textAreaLeft" fmla="*/ 0 w 92520"/>
                <a:gd name="textAreaRight" fmla="*/ 92880 w 92520"/>
                <a:gd name="textAreaTop" fmla="*/ 0 h 85320"/>
                <a:gd name="textAreaBottom" fmla="*/ 85680 h 85320"/>
              </a:gdLst>
              <a:ahLst/>
              <a:rect l="textAreaLeft" t="textAreaTop" r="textAreaRight" b="textAreaBottom"/>
              <a:pathLst>
                <a:path w="257" h="257">
                  <a:moveTo>
                    <a:pt x="0" y="257"/>
                  </a:moveTo>
                  <a:lnTo>
                    <a:pt x="105" y="0"/>
                  </a:lnTo>
                  <a:lnTo>
                    <a:pt x="257" y="193"/>
                  </a:lnTo>
                  <a:lnTo>
                    <a:pt x="0" y="257"/>
                  </a:lnTo>
                  <a:close/>
                </a:path>
              </a:pathLst>
            </a:custGeom>
            <a:solidFill>
              <a:srgbClr val="ff0000"/>
            </a:solidFill>
            <a:ln w="0">
              <a:solidFill>
                <a:srgbClr val="ff0000"/>
              </a:solidFill>
            </a:ln>
          </p:spPr>
          <p:style>
            <a:lnRef idx="0"/>
            <a:fillRef idx="0"/>
            <a:effectRef idx="0"/>
            <a:fontRef idx="minor"/>
          </p:style>
          <p:txBody>
            <a:bodyPr lIns="90000" rIns="90000" tIns="38880" bIns="38880" anchor="t">
              <a:noAutofit/>
            </a:bodyPr>
            <a:p>
              <a:endParaRPr b="1" lang="en-US" sz="1800" spc="-1" strike="noStrike">
                <a:solidFill>
                  <a:srgbClr val="ffffff"/>
                </a:solidFill>
                <a:latin typeface="Castellar"/>
              </a:endParaRPr>
            </a:p>
          </p:txBody>
        </p:sp>
        <p:sp>
          <p:nvSpPr>
            <p:cNvPr id="237" name="Rectangle 206"/>
            <p:cNvSpPr/>
            <p:nvPr/>
          </p:nvSpPr>
          <p:spPr>
            <a:xfrm>
              <a:off x="5734440" y="2754360"/>
              <a:ext cx="447120" cy="156960"/>
            </a:xfrm>
            <a:prstGeom prst="rect">
              <a:avLst/>
            </a:prstGeom>
            <a:noFill/>
            <a:ln w="0">
              <a:noFill/>
            </a:ln>
          </p:spPr>
          <p:style>
            <a:lnRef idx="0"/>
            <a:fillRef idx="0"/>
            <a:effectRef idx="0"/>
            <a:fontRef idx="minor"/>
          </p:style>
          <p:txBody>
            <a:bodyPr lIns="0" rIns="0" tIns="0" bIns="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Sanfelix</a:t>
              </a:r>
              <a:endParaRPr b="1" lang="en-US" sz="800" spc="-1" strike="noStrike">
                <a:solidFill>
                  <a:srgbClr val="ffffff"/>
                </a:solidFill>
                <a:latin typeface="Castellar"/>
              </a:endParaRPr>
            </a:p>
          </p:txBody>
        </p:sp>
        <p:sp>
          <p:nvSpPr>
            <p:cNvPr id="238" name="Rectangle 207"/>
            <p:cNvSpPr/>
            <p:nvPr/>
          </p:nvSpPr>
          <p:spPr>
            <a:xfrm>
              <a:off x="5633280" y="2837520"/>
              <a:ext cx="456480" cy="1569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stellar"/>
              </a:endParaRPr>
            </a:p>
          </p:txBody>
        </p:sp>
        <p:sp>
          <p:nvSpPr>
            <p:cNvPr id="239" name="Rectangle 208"/>
            <p:cNvSpPr/>
            <p:nvPr/>
          </p:nvSpPr>
          <p:spPr>
            <a:xfrm>
              <a:off x="5576400" y="2922840"/>
              <a:ext cx="380520" cy="1569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stellar"/>
              </a:endParaRPr>
            </a:p>
          </p:txBody>
        </p:sp>
        <p:sp>
          <p:nvSpPr>
            <p:cNvPr id="240" name="Rectangle 209"/>
            <p:cNvSpPr/>
            <p:nvPr/>
          </p:nvSpPr>
          <p:spPr>
            <a:xfrm>
              <a:off x="5576400" y="3063600"/>
              <a:ext cx="214560" cy="784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stellar"/>
              </a:endParaRPr>
            </a:p>
          </p:txBody>
        </p:sp>
        <p:sp>
          <p:nvSpPr>
            <p:cNvPr id="241" name="Rectangle 210"/>
            <p:cNvSpPr/>
            <p:nvPr/>
          </p:nvSpPr>
          <p:spPr>
            <a:xfrm>
              <a:off x="5654160" y="3395880"/>
              <a:ext cx="532080" cy="2019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stellar"/>
              </a:endParaRPr>
            </a:p>
          </p:txBody>
        </p:sp>
        <p:sp>
          <p:nvSpPr>
            <p:cNvPr id="242" name="Rectangle 211"/>
            <p:cNvSpPr/>
            <p:nvPr/>
          </p:nvSpPr>
          <p:spPr>
            <a:xfrm>
              <a:off x="5206320" y="3723840"/>
              <a:ext cx="519480" cy="2019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stellar"/>
              </a:endParaRPr>
            </a:p>
          </p:txBody>
        </p:sp>
        <p:sp>
          <p:nvSpPr>
            <p:cNvPr id="243" name="Rectangle 212"/>
            <p:cNvSpPr/>
            <p:nvPr/>
          </p:nvSpPr>
          <p:spPr>
            <a:xfrm>
              <a:off x="5224320" y="4591800"/>
              <a:ext cx="483120" cy="2019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stellar"/>
              </a:endParaRPr>
            </a:p>
          </p:txBody>
        </p:sp>
        <p:sp>
          <p:nvSpPr>
            <p:cNvPr id="244" name="Rectangle 213"/>
            <p:cNvSpPr/>
            <p:nvPr/>
          </p:nvSpPr>
          <p:spPr>
            <a:xfrm>
              <a:off x="5104800" y="2826360"/>
              <a:ext cx="63360" cy="63000"/>
            </a:xfrm>
            <a:prstGeom prst="rect">
              <a:avLst/>
            </a:prstGeom>
            <a:solidFill>
              <a:srgbClr val="000000"/>
            </a:solidFill>
            <a:ln w="0">
              <a:noFill/>
            </a:ln>
          </p:spPr>
          <p:style>
            <a:lnRef idx="0"/>
            <a:fillRef idx="0"/>
            <a:effectRef idx="0"/>
            <a:fontRef idx="minor"/>
          </p:style>
          <p:txBody>
            <a:bodyPr lIns="90000" rIns="90000" tIns="16200" bIns="16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stellar"/>
              </a:endParaRPr>
            </a:p>
          </p:txBody>
        </p:sp>
        <p:sp>
          <p:nvSpPr>
            <p:cNvPr id="245" name="Rectangle 214"/>
            <p:cNvSpPr/>
            <p:nvPr/>
          </p:nvSpPr>
          <p:spPr>
            <a:xfrm>
              <a:off x="5104800" y="2826360"/>
              <a:ext cx="63360" cy="63000"/>
            </a:xfrm>
            <a:prstGeom prst="rect">
              <a:avLst/>
            </a:prstGeom>
            <a:noFill/>
            <a:ln w="0">
              <a:solidFill>
                <a:srgbClr val="000000"/>
              </a:solidFill>
              <a:prstDash val="sysDash"/>
            </a:ln>
          </p:spPr>
          <p:style>
            <a:lnRef idx="0"/>
            <a:fillRef idx="0"/>
            <a:effectRef idx="0"/>
            <a:fontRef idx="minor"/>
          </p:style>
          <p:txBody>
            <a:bodyPr lIns="90000" rIns="90000" tIns="16200" bIns="16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stellar"/>
              </a:endParaRPr>
            </a:p>
          </p:txBody>
        </p:sp>
        <p:sp>
          <p:nvSpPr>
            <p:cNvPr id="246" name="Rectangle 215"/>
            <p:cNvSpPr/>
            <p:nvPr/>
          </p:nvSpPr>
          <p:spPr>
            <a:xfrm>
              <a:off x="4996440" y="2896200"/>
              <a:ext cx="232560" cy="2019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stellar"/>
              </a:endParaRPr>
            </a:p>
          </p:txBody>
        </p:sp>
        <p:sp>
          <p:nvSpPr>
            <p:cNvPr id="247" name="Freeform 216"/>
            <p:cNvSpPr/>
            <p:nvPr/>
          </p:nvSpPr>
          <p:spPr>
            <a:xfrm>
              <a:off x="5777640" y="2673360"/>
              <a:ext cx="50400" cy="50040"/>
            </a:xfrm>
            <a:custGeom>
              <a:avLst/>
              <a:gdLst>
                <a:gd name="textAreaLeft" fmla="*/ 0 w 50400"/>
                <a:gd name="textAreaRight" fmla="*/ 50760 w 50400"/>
                <a:gd name="textAreaTop" fmla="*/ 0 h 50040"/>
                <a:gd name="textAreaBottom" fmla="*/ 50400 h 50040"/>
              </a:gdLst>
              <a:ahLst/>
              <a:rect l="textAreaLeft" t="textAreaTop" r="textAreaRight" b="textAreaBottom"/>
              <a:pathLst>
                <a:path w="142" h="150">
                  <a:moveTo>
                    <a:pt x="71" y="150"/>
                  </a:moveTo>
                  <a:lnTo>
                    <a:pt x="75" y="150"/>
                  </a:lnTo>
                  <a:lnTo>
                    <a:pt x="80" y="150"/>
                  </a:lnTo>
                  <a:lnTo>
                    <a:pt x="87" y="150"/>
                  </a:lnTo>
                  <a:lnTo>
                    <a:pt x="91" y="148"/>
                  </a:lnTo>
                  <a:lnTo>
                    <a:pt x="97" y="146"/>
                  </a:lnTo>
                  <a:lnTo>
                    <a:pt x="101" y="143"/>
                  </a:lnTo>
                  <a:lnTo>
                    <a:pt x="106" y="141"/>
                  </a:lnTo>
                  <a:lnTo>
                    <a:pt x="110" y="139"/>
                  </a:lnTo>
                  <a:lnTo>
                    <a:pt x="115" y="135"/>
                  </a:lnTo>
                  <a:lnTo>
                    <a:pt x="118" y="131"/>
                  </a:lnTo>
                  <a:lnTo>
                    <a:pt x="123" y="127"/>
                  </a:lnTo>
                  <a:lnTo>
                    <a:pt x="126" y="123"/>
                  </a:lnTo>
                  <a:lnTo>
                    <a:pt x="129" y="118"/>
                  </a:lnTo>
                  <a:lnTo>
                    <a:pt x="132" y="114"/>
                  </a:lnTo>
                  <a:lnTo>
                    <a:pt x="135" y="108"/>
                  </a:lnTo>
                  <a:lnTo>
                    <a:pt x="138" y="104"/>
                  </a:lnTo>
                  <a:lnTo>
                    <a:pt x="138" y="97"/>
                  </a:lnTo>
                  <a:lnTo>
                    <a:pt x="140" y="93"/>
                  </a:lnTo>
                  <a:lnTo>
                    <a:pt x="140" y="87"/>
                  </a:lnTo>
                  <a:lnTo>
                    <a:pt x="142" y="81"/>
                  </a:lnTo>
                  <a:lnTo>
                    <a:pt x="142" y="76"/>
                  </a:lnTo>
                  <a:lnTo>
                    <a:pt x="142" y="71"/>
                  </a:lnTo>
                  <a:lnTo>
                    <a:pt x="140" y="65"/>
                  </a:lnTo>
                  <a:lnTo>
                    <a:pt x="140" y="60"/>
                  </a:lnTo>
                  <a:lnTo>
                    <a:pt x="138" y="54"/>
                  </a:lnTo>
                  <a:lnTo>
                    <a:pt x="138" y="50"/>
                  </a:lnTo>
                  <a:lnTo>
                    <a:pt x="135" y="43"/>
                  </a:lnTo>
                  <a:lnTo>
                    <a:pt x="132" y="38"/>
                  </a:lnTo>
                  <a:lnTo>
                    <a:pt x="129" y="34"/>
                  </a:lnTo>
                  <a:lnTo>
                    <a:pt x="126" y="29"/>
                  </a:lnTo>
                  <a:lnTo>
                    <a:pt x="123" y="26"/>
                  </a:lnTo>
                  <a:lnTo>
                    <a:pt x="118" y="21"/>
                  </a:lnTo>
                  <a:lnTo>
                    <a:pt x="115" y="18"/>
                  </a:lnTo>
                  <a:lnTo>
                    <a:pt x="110" y="14"/>
                  </a:lnTo>
                  <a:lnTo>
                    <a:pt x="106" y="11"/>
                  </a:lnTo>
                  <a:lnTo>
                    <a:pt x="101" y="8"/>
                  </a:lnTo>
                  <a:lnTo>
                    <a:pt x="97" y="6"/>
                  </a:lnTo>
                  <a:lnTo>
                    <a:pt x="91" y="3"/>
                  </a:lnTo>
                  <a:lnTo>
                    <a:pt x="87" y="2"/>
                  </a:lnTo>
                  <a:lnTo>
                    <a:pt x="80" y="1"/>
                  </a:lnTo>
                  <a:lnTo>
                    <a:pt x="75" y="0"/>
                  </a:lnTo>
                  <a:lnTo>
                    <a:pt x="71" y="0"/>
                  </a:lnTo>
                  <a:lnTo>
                    <a:pt x="68" y="0"/>
                  </a:lnTo>
                  <a:lnTo>
                    <a:pt x="61" y="1"/>
                  </a:lnTo>
                  <a:lnTo>
                    <a:pt x="56" y="2"/>
                  </a:lnTo>
                  <a:lnTo>
                    <a:pt x="51" y="3"/>
                  </a:lnTo>
                  <a:lnTo>
                    <a:pt x="45" y="6"/>
                  </a:lnTo>
                  <a:lnTo>
                    <a:pt x="40" y="8"/>
                  </a:lnTo>
                  <a:lnTo>
                    <a:pt x="35" y="11"/>
                  </a:lnTo>
                  <a:lnTo>
                    <a:pt x="31" y="14"/>
                  </a:lnTo>
                  <a:lnTo>
                    <a:pt x="28" y="18"/>
                  </a:lnTo>
                  <a:lnTo>
                    <a:pt x="22" y="21"/>
                  </a:lnTo>
                  <a:lnTo>
                    <a:pt x="19" y="26"/>
                  </a:lnTo>
                  <a:lnTo>
                    <a:pt x="16" y="29"/>
                  </a:lnTo>
                  <a:lnTo>
                    <a:pt x="13" y="34"/>
                  </a:lnTo>
                  <a:lnTo>
                    <a:pt x="11" y="38"/>
                  </a:lnTo>
                  <a:lnTo>
                    <a:pt x="7" y="43"/>
                  </a:lnTo>
                  <a:lnTo>
                    <a:pt x="6" y="50"/>
                  </a:lnTo>
                  <a:lnTo>
                    <a:pt x="4" y="54"/>
                  </a:lnTo>
                  <a:lnTo>
                    <a:pt x="2" y="60"/>
                  </a:lnTo>
                  <a:lnTo>
                    <a:pt x="2" y="65"/>
                  </a:lnTo>
                  <a:lnTo>
                    <a:pt x="0" y="71"/>
                  </a:lnTo>
                  <a:lnTo>
                    <a:pt x="0" y="76"/>
                  </a:lnTo>
                  <a:lnTo>
                    <a:pt x="0" y="81"/>
                  </a:lnTo>
                  <a:lnTo>
                    <a:pt x="2" y="87"/>
                  </a:lnTo>
                  <a:lnTo>
                    <a:pt x="2" y="93"/>
                  </a:lnTo>
                  <a:lnTo>
                    <a:pt x="4" y="97"/>
                  </a:lnTo>
                  <a:lnTo>
                    <a:pt x="6" y="104"/>
                  </a:lnTo>
                  <a:lnTo>
                    <a:pt x="7" y="108"/>
                  </a:lnTo>
                  <a:lnTo>
                    <a:pt x="11" y="114"/>
                  </a:lnTo>
                  <a:lnTo>
                    <a:pt x="13" y="118"/>
                  </a:lnTo>
                  <a:lnTo>
                    <a:pt x="16" y="123"/>
                  </a:lnTo>
                  <a:lnTo>
                    <a:pt x="19" y="127"/>
                  </a:lnTo>
                  <a:lnTo>
                    <a:pt x="22" y="131"/>
                  </a:lnTo>
                  <a:lnTo>
                    <a:pt x="28" y="135"/>
                  </a:lnTo>
                  <a:lnTo>
                    <a:pt x="31" y="139"/>
                  </a:lnTo>
                  <a:lnTo>
                    <a:pt x="35" y="141"/>
                  </a:lnTo>
                  <a:lnTo>
                    <a:pt x="40" y="143"/>
                  </a:lnTo>
                  <a:lnTo>
                    <a:pt x="45" y="146"/>
                  </a:lnTo>
                  <a:lnTo>
                    <a:pt x="51" y="148"/>
                  </a:lnTo>
                  <a:lnTo>
                    <a:pt x="56" y="150"/>
                  </a:lnTo>
                  <a:lnTo>
                    <a:pt x="61" y="150"/>
                  </a:lnTo>
                  <a:lnTo>
                    <a:pt x="68" y="150"/>
                  </a:lnTo>
                  <a:lnTo>
                    <a:pt x="71" y="150"/>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1800" spc="-1" strike="noStrike">
                <a:solidFill>
                  <a:srgbClr val="ffffff"/>
                </a:solidFill>
                <a:latin typeface="Castellar"/>
              </a:endParaRPr>
            </a:p>
          </p:txBody>
        </p:sp>
        <p:sp>
          <p:nvSpPr>
            <p:cNvPr id="248" name="Freeform 217"/>
            <p:cNvSpPr/>
            <p:nvPr/>
          </p:nvSpPr>
          <p:spPr>
            <a:xfrm>
              <a:off x="5777640" y="2673360"/>
              <a:ext cx="50400" cy="50040"/>
            </a:xfrm>
            <a:custGeom>
              <a:avLst/>
              <a:gdLst>
                <a:gd name="textAreaLeft" fmla="*/ 0 w 50400"/>
                <a:gd name="textAreaRight" fmla="*/ 50760 w 50400"/>
                <a:gd name="textAreaTop" fmla="*/ 0 h 50040"/>
                <a:gd name="textAreaBottom" fmla="*/ 50400 h 50040"/>
              </a:gdLst>
              <a:ahLst/>
              <a:rect l="textAreaLeft" t="textAreaTop" r="textAreaRight" b="textAreaBottom"/>
              <a:pathLst>
                <a:path w="142" h="150">
                  <a:moveTo>
                    <a:pt x="71" y="150"/>
                  </a:moveTo>
                  <a:lnTo>
                    <a:pt x="75" y="150"/>
                  </a:lnTo>
                  <a:lnTo>
                    <a:pt x="80" y="150"/>
                  </a:lnTo>
                  <a:lnTo>
                    <a:pt x="87" y="150"/>
                  </a:lnTo>
                  <a:lnTo>
                    <a:pt x="91" y="148"/>
                  </a:lnTo>
                  <a:lnTo>
                    <a:pt x="97" y="146"/>
                  </a:lnTo>
                  <a:lnTo>
                    <a:pt x="101" y="143"/>
                  </a:lnTo>
                  <a:lnTo>
                    <a:pt x="106" y="141"/>
                  </a:lnTo>
                  <a:lnTo>
                    <a:pt x="110" y="139"/>
                  </a:lnTo>
                  <a:lnTo>
                    <a:pt x="115" y="135"/>
                  </a:lnTo>
                  <a:lnTo>
                    <a:pt x="118" y="131"/>
                  </a:lnTo>
                  <a:lnTo>
                    <a:pt x="123" y="127"/>
                  </a:lnTo>
                  <a:lnTo>
                    <a:pt x="126" y="123"/>
                  </a:lnTo>
                  <a:lnTo>
                    <a:pt x="129" y="118"/>
                  </a:lnTo>
                  <a:lnTo>
                    <a:pt x="132" y="114"/>
                  </a:lnTo>
                  <a:lnTo>
                    <a:pt x="135" y="108"/>
                  </a:lnTo>
                  <a:lnTo>
                    <a:pt x="138" y="104"/>
                  </a:lnTo>
                  <a:lnTo>
                    <a:pt x="138" y="97"/>
                  </a:lnTo>
                  <a:lnTo>
                    <a:pt x="140" y="93"/>
                  </a:lnTo>
                  <a:lnTo>
                    <a:pt x="140" y="87"/>
                  </a:lnTo>
                  <a:lnTo>
                    <a:pt x="142" y="81"/>
                  </a:lnTo>
                  <a:lnTo>
                    <a:pt x="142" y="76"/>
                  </a:lnTo>
                  <a:lnTo>
                    <a:pt x="142" y="71"/>
                  </a:lnTo>
                  <a:lnTo>
                    <a:pt x="140" y="65"/>
                  </a:lnTo>
                  <a:lnTo>
                    <a:pt x="140" y="60"/>
                  </a:lnTo>
                  <a:lnTo>
                    <a:pt x="138" y="54"/>
                  </a:lnTo>
                  <a:lnTo>
                    <a:pt x="138" y="50"/>
                  </a:lnTo>
                  <a:lnTo>
                    <a:pt x="135" y="43"/>
                  </a:lnTo>
                  <a:lnTo>
                    <a:pt x="132" y="38"/>
                  </a:lnTo>
                  <a:lnTo>
                    <a:pt x="129" y="34"/>
                  </a:lnTo>
                  <a:lnTo>
                    <a:pt x="126" y="29"/>
                  </a:lnTo>
                  <a:lnTo>
                    <a:pt x="123" y="26"/>
                  </a:lnTo>
                  <a:lnTo>
                    <a:pt x="118" y="21"/>
                  </a:lnTo>
                  <a:lnTo>
                    <a:pt x="115" y="18"/>
                  </a:lnTo>
                  <a:lnTo>
                    <a:pt x="110" y="14"/>
                  </a:lnTo>
                  <a:lnTo>
                    <a:pt x="106" y="11"/>
                  </a:lnTo>
                  <a:lnTo>
                    <a:pt x="101" y="8"/>
                  </a:lnTo>
                  <a:lnTo>
                    <a:pt x="97" y="6"/>
                  </a:lnTo>
                  <a:lnTo>
                    <a:pt x="91" y="3"/>
                  </a:lnTo>
                  <a:lnTo>
                    <a:pt x="87" y="2"/>
                  </a:lnTo>
                  <a:lnTo>
                    <a:pt x="80" y="1"/>
                  </a:lnTo>
                  <a:lnTo>
                    <a:pt x="75" y="0"/>
                  </a:lnTo>
                  <a:lnTo>
                    <a:pt x="71" y="0"/>
                  </a:lnTo>
                  <a:lnTo>
                    <a:pt x="68" y="0"/>
                  </a:lnTo>
                  <a:lnTo>
                    <a:pt x="61" y="1"/>
                  </a:lnTo>
                  <a:lnTo>
                    <a:pt x="56" y="2"/>
                  </a:lnTo>
                  <a:lnTo>
                    <a:pt x="51" y="3"/>
                  </a:lnTo>
                  <a:lnTo>
                    <a:pt x="45" y="6"/>
                  </a:lnTo>
                  <a:lnTo>
                    <a:pt x="40" y="8"/>
                  </a:lnTo>
                  <a:lnTo>
                    <a:pt x="35" y="11"/>
                  </a:lnTo>
                  <a:lnTo>
                    <a:pt x="31" y="14"/>
                  </a:lnTo>
                  <a:lnTo>
                    <a:pt x="28" y="18"/>
                  </a:lnTo>
                  <a:lnTo>
                    <a:pt x="22" y="21"/>
                  </a:lnTo>
                  <a:lnTo>
                    <a:pt x="19" y="26"/>
                  </a:lnTo>
                  <a:lnTo>
                    <a:pt x="16" y="29"/>
                  </a:lnTo>
                  <a:lnTo>
                    <a:pt x="13" y="34"/>
                  </a:lnTo>
                  <a:lnTo>
                    <a:pt x="11" y="38"/>
                  </a:lnTo>
                  <a:lnTo>
                    <a:pt x="7" y="43"/>
                  </a:lnTo>
                  <a:lnTo>
                    <a:pt x="6" y="50"/>
                  </a:lnTo>
                  <a:lnTo>
                    <a:pt x="4" y="54"/>
                  </a:lnTo>
                  <a:lnTo>
                    <a:pt x="2" y="60"/>
                  </a:lnTo>
                  <a:lnTo>
                    <a:pt x="2" y="65"/>
                  </a:lnTo>
                  <a:lnTo>
                    <a:pt x="0" y="71"/>
                  </a:lnTo>
                  <a:lnTo>
                    <a:pt x="0" y="76"/>
                  </a:lnTo>
                  <a:lnTo>
                    <a:pt x="0" y="81"/>
                  </a:lnTo>
                  <a:lnTo>
                    <a:pt x="2" y="87"/>
                  </a:lnTo>
                  <a:lnTo>
                    <a:pt x="2" y="93"/>
                  </a:lnTo>
                  <a:lnTo>
                    <a:pt x="4" y="97"/>
                  </a:lnTo>
                  <a:lnTo>
                    <a:pt x="6" y="104"/>
                  </a:lnTo>
                  <a:lnTo>
                    <a:pt x="7" y="108"/>
                  </a:lnTo>
                  <a:lnTo>
                    <a:pt x="11" y="114"/>
                  </a:lnTo>
                  <a:lnTo>
                    <a:pt x="13" y="118"/>
                  </a:lnTo>
                  <a:lnTo>
                    <a:pt x="16" y="123"/>
                  </a:lnTo>
                  <a:lnTo>
                    <a:pt x="19" y="127"/>
                  </a:lnTo>
                  <a:lnTo>
                    <a:pt x="22" y="131"/>
                  </a:lnTo>
                  <a:lnTo>
                    <a:pt x="28" y="135"/>
                  </a:lnTo>
                  <a:lnTo>
                    <a:pt x="31" y="139"/>
                  </a:lnTo>
                  <a:lnTo>
                    <a:pt x="35" y="141"/>
                  </a:lnTo>
                  <a:lnTo>
                    <a:pt x="40" y="143"/>
                  </a:lnTo>
                  <a:lnTo>
                    <a:pt x="45" y="146"/>
                  </a:lnTo>
                  <a:lnTo>
                    <a:pt x="51" y="148"/>
                  </a:lnTo>
                  <a:lnTo>
                    <a:pt x="56" y="150"/>
                  </a:lnTo>
                  <a:lnTo>
                    <a:pt x="61" y="150"/>
                  </a:lnTo>
                  <a:lnTo>
                    <a:pt x="68" y="150"/>
                  </a:lnTo>
                  <a:lnTo>
                    <a:pt x="71" y="150"/>
                  </a:lnTo>
                </a:path>
              </a:pathLst>
            </a:custGeom>
            <a:noFill/>
            <a:ln w="0">
              <a:solidFill>
                <a:srgbClr val="000000"/>
              </a:solidFill>
              <a:prstDash val="sysDash"/>
            </a:ln>
          </p:spPr>
          <p:style>
            <a:lnRef idx="0"/>
            <a:fillRef idx="0"/>
            <a:effectRef idx="0"/>
            <a:fontRef idx="minor"/>
          </p:style>
          <p:txBody>
            <a:bodyPr lIns="90000" rIns="90000" tIns="3600" bIns="3600" anchor="t">
              <a:noAutofit/>
            </a:bodyPr>
            <a:p>
              <a:endParaRPr b="1" lang="en-US" sz="1800" spc="-1" strike="noStrike">
                <a:solidFill>
                  <a:srgbClr val="ffffff"/>
                </a:solidFill>
                <a:latin typeface="Castellar"/>
              </a:endParaRPr>
            </a:p>
          </p:txBody>
        </p:sp>
        <p:sp>
          <p:nvSpPr>
            <p:cNvPr id="249" name="Rectangle 218"/>
            <p:cNvSpPr/>
            <p:nvPr/>
          </p:nvSpPr>
          <p:spPr>
            <a:xfrm>
              <a:off x="5312520" y="2500920"/>
              <a:ext cx="350640" cy="134640"/>
            </a:xfrm>
            <a:prstGeom prst="rect">
              <a:avLst/>
            </a:prstGeom>
            <a:noFill/>
            <a:ln w="0">
              <a:noFill/>
            </a:ln>
          </p:spPr>
          <p:style>
            <a:lnRef idx="0"/>
            <a:fillRef idx="0"/>
            <a:effectRef idx="0"/>
            <a:fontRef idx="minor"/>
          </p:style>
          <p:txBody>
            <a:bodyPr lIns="0" rIns="0" tIns="0" bIns="0" anchor="t">
              <a:normAutofit fontScale="66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800" spc="-1" strike="noStrike">
                  <a:solidFill>
                    <a:srgbClr val="000000"/>
                  </a:solidFill>
                  <a:latin typeface="Arial"/>
                </a:rPr>
                <a:t>Pto.Ordazz</a:t>
              </a:r>
              <a:endParaRPr b="1" lang="en-US" sz="800" spc="-1" strike="noStrike">
                <a:solidFill>
                  <a:srgbClr val="ffffff"/>
                </a:solidFill>
                <a:latin typeface="Castellar"/>
              </a:endParaRPr>
            </a:p>
          </p:txBody>
        </p:sp>
        <p:sp>
          <p:nvSpPr>
            <p:cNvPr id="250" name="Rectangle 219"/>
            <p:cNvSpPr/>
            <p:nvPr/>
          </p:nvSpPr>
          <p:spPr>
            <a:xfrm>
              <a:off x="5655960" y="2481840"/>
              <a:ext cx="306000" cy="1346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stellar"/>
              </a:endParaRPr>
            </a:p>
          </p:txBody>
        </p:sp>
        <p:sp>
          <p:nvSpPr>
            <p:cNvPr id="251" name="Rectangle 220"/>
            <p:cNvSpPr/>
            <p:nvPr/>
          </p:nvSpPr>
          <p:spPr>
            <a:xfrm rot="21397800">
              <a:off x="5752440" y="4240080"/>
              <a:ext cx="380520" cy="269640"/>
            </a:xfrm>
            <a:prstGeom prst="rect">
              <a:avLst/>
            </a:prstGeom>
            <a:noFill/>
            <a:ln w="0">
              <a:noFill/>
            </a:ln>
          </p:spPr>
          <p:style>
            <a:lnRef idx="0"/>
            <a:fillRef idx="0"/>
            <a:effectRef idx="0"/>
            <a:fontRef idx="minor"/>
          </p:style>
          <p:txBody>
            <a:bodyPr lIns="0" rIns="0" tIns="0" bIns="0" anchor="t">
              <a:normAutofit fontScale="59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800" spc="-1" strike="noStrike">
                  <a:solidFill>
                    <a:srgbClr val="000000"/>
                  </a:solidFill>
                  <a:latin typeface="Arial"/>
                </a:rPr>
                <a:t>  </a:t>
              </a:r>
              <a:r>
                <a:rPr b="1" i="1" lang="es-ES_tradnl" sz="800" spc="-1" strike="noStrike">
                  <a:solidFill>
                    <a:srgbClr val="000000"/>
                  </a:solidFill>
                  <a:latin typeface="Arial"/>
                </a:rPr>
                <a:t>RIO</a:t>
              </a:r>
              <a:endParaRPr b="1" lang="en-US" sz="800" spc="-1" strike="noStrike">
                <a:solidFill>
                  <a:srgbClr val="ffffff"/>
                </a:solidFill>
                <a:latin typeface="Castellar"/>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800" spc="-1" strike="noStrike">
                  <a:solidFill>
                    <a:srgbClr val="000000"/>
                  </a:solidFill>
                  <a:latin typeface="Arial"/>
                </a:rPr>
                <a:t>CAROnnniNI  </a:t>
              </a:r>
              <a:endParaRPr b="1" lang="en-US" sz="800" spc="-1" strike="noStrike">
                <a:solidFill>
                  <a:srgbClr val="ffffff"/>
                </a:solidFill>
                <a:latin typeface="Castellar"/>
              </a:endParaRPr>
            </a:p>
          </p:txBody>
        </p:sp>
        <p:sp>
          <p:nvSpPr>
            <p:cNvPr id="252" name="Rectangle 221"/>
            <p:cNvSpPr/>
            <p:nvPr/>
          </p:nvSpPr>
          <p:spPr>
            <a:xfrm rot="2760000">
              <a:off x="5670000" y="4371480"/>
              <a:ext cx="156960" cy="92160"/>
            </a:xfrm>
            <a:prstGeom prst="rect">
              <a:avLst/>
            </a:prstGeom>
            <a:noFill/>
            <a:ln w="0">
              <a:noFill/>
            </a:ln>
          </p:spPr>
          <p:style>
            <a:lnRef idx="0"/>
            <a:fillRef idx="0"/>
            <a:effectRef idx="0"/>
            <a:fontRef idx="minor"/>
          </p:style>
          <p:txBody>
            <a:bodyPr lIns="0" rIns="0" tIns="0" bIns="0" anchor="t" vert="eaVert" rot="10800000">
              <a:normAutofit fontScale="6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stellar"/>
              </a:endParaRPr>
            </a:p>
          </p:txBody>
        </p:sp>
        <p:sp>
          <p:nvSpPr>
            <p:cNvPr id="253" name="Rectangle 222"/>
            <p:cNvSpPr/>
            <p:nvPr/>
          </p:nvSpPr>
          <p:spPr>
            <a:xfrm rot="82200">
              <a:off x="4784040" y="3958560"/>
              <a:ext cx="706320" cy="1796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stellar"/>
              </a:endParaRPr>
            </a:p>
          </p:txBody>
        </p:sp>
        <p:sp>
          <p:nvSpPr>
            <p:cNvPr id="254" name="Freeform 223"/>
            <p:cNvSpPr/>
            <p:nvPr/>
          </p:nvSpPr>
          <p:spPr>
            <a:xfrm>
              <a:off x="5403960" y="2719800"/>
              <a:ext cx="50400" cy="49680"/>
            </a:xfrm>
            <a:custGeom>
              <a:avLst/>
              <a:gdLst>
                <a:gd name="textAreaLeft" fmla="*/ 0 w 50400"/>
                <a:gd name="textAreaRight" fmla="*/ 50760 w 50400"/>
                <a:gd name="textAreaTop" fmla="*/ 0 h 49680"/>
                <a:gd name="textAreaBottom" fmla="*/ 50040 h 49680"/>
              </a:gdLst>
              <a:ahLst/>
              <a:rect l="textAreaLeft" t="textAreaTop" r="textAreaRight" b="textAreaBottom"/>
              <a:pathLst>
                <a:path w="142" h="150">
                  <a:moveTo>
                    <a:pt x="71" y="150"/>
                  </a:moveTo>
                  <a:lnTo>
                    <a:pt x="75" y="150"/>
                  </a:lnTo>
                  <a:lnTo>
                    <a:pt x="81" y="150"/>
                  </a:lnTo>
                  <a:lnTo>
                    <a:pt x="86" y="150"/>
                  </a:lnTo>
                  <a:lnTo>
                    <a:pt x="91" y="147"/>
                  </a:lnTo>
                  <a:lnTo>
                    <a:pt x="97" y="145"/>
                  </a:lnTo>
                  <a:lnTo>
                    <a:pt x="101" y="143"/>
                  </a:lnTo>
                  <a:lnTo>
                    <a:pt x="106" y="141"/>
                  </a:lnTo>
                  <a:lnTo>
                    <a:pt x="110" y="138"/>
                  </a:lnTo>
                  <a:lnTo>
                    <a:pt x="115" y="135"/>
                  </a:lnTo>
                  <a:lnTo>
                    <a:pt x="118" y="131"/>
                  </a:lnTo>
                  <a:lnTo>
                    <a:pt x="123" y="126"/>
                  </a:lnTo>
                  <a:lnTo>
                    <a:pt x="126" y="123"/>
                  </a:lnTo>
                  <a:lnTo>
                    <a:pt x="130" y="118"/>
                  </a:lnTo>
                  <a:lnTo>
                    <a:pt x="132" y="112"/>
                  </a:lnTo>
                  <a:lnTo>
                    <a:pt x="135" y="108"/>
                  </a:lnTo>
                  <a:lnTo>
                    <a:pt x="136" y="103"/>
                  </a:lnTo>
                  <a:lnTo>
                    <a:pt x="137" y="97"/>
                  </a:lnTo>
                  <a:lnTo>
                    <a:pt x="140" y="92"/>
                  </a:lnTo>
                  <a:lnTo>
                    <a:pt x="142" y="87"/>
                  </a:lnTo>
                  <a:lnTo>
                    <a:pt x="142" y="80"/>
                  </a:lnTo>
                  <a:lnTo>
                    <a:pt x="142" y="75"/>
                  </a:lnTo>
                  <a:lnTo>
                    <a:pt x="142" y="71"/>
                  </a:lnTo>
                  <a:lnTo>
                    <a:pt x="142" y="65"/>
                  </a:lnTo>
                  <a:lnTo>
                    <a:pt x="140" y="59"/>
                  </a:lnTo>
                  <a:lnTo>
                    <a:pt x="137" y="53"/>
                  </a:lnTo>
                  <a:lnTo>
                    <a:pt x="136" y="47"/>
                  </a:lnTo>
                  <a:lnTo>
                    <a:pt x="135" y="43"/>
                  </a:lnTo>
                  <a:lnTo>
                    <a:pt x="132" y="38"/>
                  </a:lnTo>
                  <a:lnTo>
                    <a:pt x="130" y="33"/>
                  </a:lnTo>
                  <a:lnTo>
                    <a:pt x="126" y="30"/>
                  </a:lnTo>
                  <a:lnTo>
                    <a:pt x="123" y="26"/>
                  </a:lnTo>
                  <a:lnTo>
                    <a:pt x="118" y="20"/>
                  </a:lnTo>
                  <a:lnTo>
                    <a:pt x="115" y="17"/>
                  </a:lnTo>
                  <a:lnTo>
                    <a:pt x="110" y="13"/>
                  </a:lnTo>
                  <a:lnTo>
                    <a:pt x="106" y="11"/>
                  </a:lnTo>
                  <a:lnTo>
                    <a:pt x="101" y="8"/>
                  </a:lnTo>
                  <a:lnTo>
                    <a:pt x="97" y="4"/>
                  </a:lnTo>
                  <a:lnTo>
                    <a:pt x="91" y="3"/>
                  </a:lnTo>
                  <a:lnTo>
                    <a:pt x="86" y="2"/>
                  </a:lnTo>
                  <a:lnTo>
                    <a:pt x="81" y="1"/>
                  </a:lnTo>
                  <a:lnTo>
                    <a:pt x="75" y="0"/>
                  </a:lnTo>
                  <a:lnTo>
                    <a:pt x="71" y="0"/>
                  </a:lnTo>
                  <a:lnTo>
                    <a:pt x="65" y="0"/>
                  </a:lnTo>
                  <a:lnTo>
                    <a:pt x="61" y="1"/>
                  </a:lnTo>
                  <a:lnTo>
                    <a:pt x="56" y="2"/>
                  </a:lnTo>
                  <a:lnTo>
                    <a:pt x="51" y="3"/>
                  </a:lnTo>
                  <a:lnTo>
                    <a:pt x="45" y="4"/>
                  </a:lnTo>
                  <a:lnTo>
                    <a:pt x="40" y="8"/>
                  </a:lnTo>
                  <a:lnTo>
                    <a:pt x="35" y="11"/>
                  </a:lnTo>
                  <a:lnTo>
                    <a:pt x="32" y="13"/>
                  </a:lnTo>
                  <a:lnTo>
                    <a:pt x="27" y="17"/>
                  </a:lnTo>
                  <a:lnTo>
                    <a:pt x="22" y="20"/>
                  </a:lnTo>
                  <a:lnTo>
                    <a:pt x="19" y="26"/>
                  </a:lnTo>
                  <a:lnTo>
                    <a:pt x="16" y="30"/>
                  </a:lnTo>
                  <a:lnTo>
                    <a:pt x="13" y="33"/>
                  </a:lnTo>
                  <a:lnTo>
                    <a:pt x="11" y="38"/>
                  </a:lnTo>
                  <a:lnTo>
                    <a:pt x="8" y="43"/>
                  </a:lnTo>
                  <a:lnTo>
                    <a:pt x="4" y="47"/>
                  </a:lnTo>
                  <a:lnTo>
                    <a:pt x="3" y="53"/>
                  </a:lnTo>
                  <a:lnTo>
                    <a:pt x="2" y="59"/>
                  </a:lnTo>
                  <a:lnTo>
                    <a:pt x="1" y="65"/>
                  </a:lnTo>
                  <a:lnTo>
                    <a:pt x="0" y="71"/>
                  </a:lnTo>
                  <a:lnTo>
                    <a:pt x="0" y="75"/>
                  </a:lnTo>
                  <a:lnTo>
                    <a:pt x="0" y="80"/>
                  </a:lnTo>
                  <a:lnTo>
                    <a:pt x="1" y="87"/>
                  </a:lnTo>
                  <a:lnTo>
                    <a:pt x="2" y="92"/>
                  </a:lnTo>
                  <a:lnTo>
                    <a:pt x="3" y="97"/>
                  </a:lnTo>
                  <a:lnTo>
                    <a:pt x="4" y="103"/>
                  </a:lnTo>
                  <a:lnTo>
                    <a:pt x="8" y="108"/>
                  </a:lnTo>
                  <a:lnTo>
                    <a:pt x="11" y="112"/>
                  </a:lnTo>
                  <a:lnTo>
                    <a:pt x="13" y="118"/>
                  </a:lnTo>
                  <a:lnTo>
                    <a:pt x="16" y="123"/>
                  </a:lnTo>
                  <a:lnTo>
                    <a:pt x="19" y="126"/>
                  </a:lnTo>
                  <a:lnTo>
                    <a:pt x="22" y="131"/>
                  </a:lnTo>
                  <a:lnTo>
                    <a:pt x="27" y="135"/>
                  </a:lnTo>
                  <a:lnTo>
                    <a:pt x="32" y="138"/>
                  </a:lnTo>
                  <a:lnTo>
                    <a:pt x="35" y="141"/>
                  </a:lnTo>
                  <a:lnTo>
                    <a:pt x="40" y="143"/>
                  </a:lnTo>
                  <a:lnTo>
                    <a:pt x="45" y="145"/>
                  </a:lnTo>
                  <a:lnTo>
                    <a:pt x="51" y="147"/>
                  </a:lnTo>
                  <a:lnTo>
                    <a:pt x="56" y="150"/>
                  </a:lnTo>
                  <a:lnTo>
                    <a:pt x="61" y="150"/>
                  </a:lnTo>
                  <a:lnTo>
                    <a:pt x="65" y="150"/>
                  </a:lnTo>
                  <a:lnTo>
                    <a:pt x="71" y="150"/>
                  </a:lnTo>
                  <a:close/>
                </a:path>
              </a:pathLst>
            </a:custGeom>
            <a:solidFill>
              <a:srgbClr val="000000"/>
            </a:solidFill>
            <a:ln w="0">
              <a:noFill/>
            </a:ln>
          </p:spPr>
          <p:style>
            <a:lnRef idx="0"/>
            <a:fillRef idx="0"/>
            <a:effectRef idx="0"/>
            <a:fontRef idx="minor"/>
          </p:style>
          <p:txBody>
            <a:bodyPr lIns="90000" rIns="90000" tIns="3240" bIns="3240" anchor="t">
              <a:noAutofit/>
            </a:bodyPr>
            <a:p>
              <a:endParaRPr b="1" lang="en-US" sz="1800" spc="-1" strike="noStrike">
                <a:solidFill>
                  <a:srgbClr val="ffffff"/>
                </a:solidFill>
                <a:latin typeface="Castellar"/>
              </a:endParaRPr>
            </a:p>
          </p:txBody>
        </p:sp>
        <p:sp>
          <p:nvSpPr>
            <p:cNvPr id="255" name="Freeform 224"/>
            <p:cNvSpPr/>
            <p:nvPr/>
          </p:nvSpPr>
          <p:spPr>
            <a:xfrm>
              <a:off x="5403960" y="2719800"/>
              <a:ext cx="50400" cy="49680"/>
            </a:xfrm>
            <a:custGeom>
              <a:avLst/>
              <a:gdLst>
                <a:gd name="textAreaLeft" fmla="*/ 0 w 50400"/>
                <a:gd name="textAreaRight" fmla="*/ 50760 w 50400"/>
                <a:gd name="textAreaTop" fmla="*/ 0 h 49680"/>
                <a:gd name="textAreaBottom" fmla="*/ 50040 h 49680"/>
              </a:gdLst>
              <a:ahLst/>
              <a:rect l="textAreaLeft" t="textAreaTop" r="textAreaRight" b="textAreaBottom"/>
              <a:pathLst>
                <a:path w="142" h="150">
                  <a:moveTo>
                    <a:pt x="71" y="150"/>
                  </a:moveTo>
                  <a:lnTo>
                    <a:pt x="75" y="150"/>
                  </a:lnTo>
                  <a:lnTo>
                    <a:pt x="81" y="150"/>
                  </a:lnTo>
                  <a:lnTo>
                    <a:pt x="86" y="150"/>
                  </a:lnTo>
                  <a:lnTo>
                    <a:pt x="91" y="147"/>
                  </a:lnTo>
                  <a:lnTo>
                    <a:pt x="97" y="145"/>
                  </a:lnTo>
                  <a:lnTo>
                    <a:pt x="101" y="143"/>
                  </a:lnTo>
                  <a:lnTo>
                    <a:pt x="106" y="141"/>
                  </a:lnTo>
                  <a:lnTo>
                    <a:pt x="110" y="138"/>
                  </a:lnTo>
                  <a:lnTo>
                    <a:pt x="115" y="135"/>
                  </a:lnTo>
                  <a:lnTo>
                    <a:pt x="118" y="131"/>
                  </a:lnTo>
                  <a:lnTo>
                    <a:pt x="123" y="126"/>
                  </a:lnTo>
                  <a:lnTo>
                    <a:pt x="126" y="123"/>
                  </a:lnTo>
                  <a:lnTo>
                    <a:pt x="130" y="118"/>
                  </a:lnTo>
                  <a:lnTo>
                    <a:pt x="132" y="112"/>
                  </a:lnTo>
                  <a:lnTo>
                    <a:pt x="135" y="108"/>
                  </a:lnTo>
                  <a:lnTo>
                    <a:pt x="136" y="103"/>
                  </a:lnTo>
                  <a:lnTo>
                    <a:pt x="137" y="97"/>
                  </a:lnTo>
                  <a:lnTo>
                    <a:pt x="140" y="92"/>
                  </a:lnTo>
                  <a:lnTo>
                    <a:pt x="142" y="87"/>
                  </a:lnTo>
                  <a:lnTo>
                    <a:pt x="142" y="80"/>
                  </a:lnTo>
                  <a:lnTo>
                    <a:pt x="142" y="75"/>
                  </a:lnTo>
                  <a:lnTo>
                    <a:pt x="142" y="71"/>
                  </a:lnTo>
                  <a:lnTo>
                    <a:pt x="142" y="65"/>
                  </a:lnTo>
                  <a:lnTo>
                    <a:pt x="140" y="59"/>
                  </a:lnTo>
                  <a:lnTo>
                    <a:pt x="137" y="53"/>
                  </a:lnTo>
                  <a:lnTo>
                    <a:pt x="136" y="47"/>
                  </a:lnTo>
                  <a:lnTo>
                    <a:pt x="135" y="43"/>
                  </a:lnTo>
                  <a:lnTo>
                    <a:pt x="132" y="38"/>
                  </a:lnTo>
                  <a:lnTo>
                    <a:pt x="130" y="33"/>
                  </a:lnTo>
                  <a:lnTo>
                    <a:pt x="126" y="30"/>
                  </a:lnTo>
                  <a:lnTo>
                    <a:pt x="123" y="26"/>
                  </a:lnTo>
                  <a:lnTo>
                    <a:pt x="118" y="20"/>
                  </a:lnTo>
                  <a:lnTo>
                    <a:pt x="115" y="17"/>
                  </a:lnTo>
                  <a:lnTo>
                    <a:pt x="110" y="13"/>
                  </a:lnTo>
                  <a:lnTo>
                    <a:pt x="106" y="11"/>
                  </a:lnTo>
                  <a:lnTo>
                    <a:pt x="101" y="8"/>
                  </a:lnTo>
                  <a:lnTo>
                    <a:pt x="97" y="4"/>
                  </a:lnTo>
                  <a:lnTo>
                    <a:pt x="91" y="3"/>
                  </a:lnTo>
                  <a:lnTo>
                    <a:pt x="86" y="2"/>
                  </a:lnTo>
                  <a:lnTo>
                    <a:pt x="81" y="1"/>
                  </a:lnTo>
                  <a:lnTo>
                    <a:pt x="75" y="0"/>
                  </a:lnTo>
                  <a:lnTo>
                    <a:pt x="71" y="0"/>
                  </a:lnTo>
                  <a:lnTo>
                    <a:pt x="65" y="0"/>
                  </a:lnTo>
                  <a:lnTo>
                    <a:pt x="61" y="1"/>
                  </a:lnTo>
                  <a:lnTo>
                    <a:pt x="56" y="2"/>
                  </a:lnTo>
                  <a:lnTo>
                    <a:pt x="51" y="3"/>
                  </a:lnTo>
                  <a:lnTo>
                    <a:pt x="45" y="4"/>
                  </a:lnTo>
                  <a:lnTo>
                    <a:pt x="40" y="8"/>
                  </a:lnTo>
                  <a:lnTo>
                    <a:pt x="35" y="11"/>
                  </a:lnTo>
                  <a:lnTo>
                    <a:pt x="32" y="13"/>
                  </a:lnTo>
                  <a:lnTo>
                    <a:pt x="27" y="17"/>
                  </a:lnTo>
                  <a:lnTo>
                    <a:pt x="22" y="20"/>
                  </a:lnTo>
                  <a:lnTo>
                    <a:pt x="19" y="26"/>
                  </a:lnTo>
                  <a:lnTo>
                    <a:pt x="16" y="30"/>
                  </a:lnTo>
                  <a:lnTo>
                    <a:pt x="13" y="33"/>
                  </a:lnTo>
                  <a:lnTo>
                    <a:pt x="11" y="38"/>
                  </a:lnTo>
                  <a:lnTo>
                    <a:pt x="8" y="43"/>
                  </a:lnTo>
                  <a:lnTo>
                    <a:pt x="4" y="47"/>
                  </a:lnTo>
                  <a:lnTo>
                    <a:pt x="3" y="53"/>
                  </a:lnTo>
                  <a:lnTo>
                    <a:pt x="2" y="59"/>
                  </a:lnTo>
                  <a:lnTo>
                    <a:pt x="1" y="65"/>
                  </a:lnTo>
                  <a:lnTo>
                    <a:pt x="0" y="71"/>
                  </a:lnTo>
                  <a:lnTo>
                    <a:pt x="0" y="75"/>
                  </a:lnTo>
                  <a:lnTo>
                    <a:pt x="0" y="80"/>
                  </a:lnTo>
                  <a:lnTo>
                    <a:pt x="1" y="87"/>
                  </a:lnTo>
                  <a:lnTo>
                    <a:pt x="2" y="92"/>
                  </a:lnTo>
                  <a:lnTo>
                    <a:pt x="3" y="97"/>
                  </a:lnTo>
                  <a:lnTo>
                    <a:pt x="4" y="103"/>
                  </a:lnTo>
                  <a:lnTo>
                    <a:pt x="8" y="108"/>
                  </a:lnTo>
                  <a:lnTo>
                    <a:pt x="11" y="112"/>
                  </a:lnTo>
                  <a:lnTo>
                    <a:pt x="13" y="118"/>
                  </a:lnTo>
                  <a:lnTo>
                    <a:pt x="16" y="123"/>
                  </a:lnTo>
                  <a:lnTo>
                    <a:pt x="19" y="126"/>
                  </a:lnTo>
                  <a:lnTo>
                    <a:pt x="22" y="131"/>
                  </a:lnTo>
                  <a:lnTo>
                    <a:pt x="27" y="135"/>
                  </a:lnTo>
                  <a:lnTo>
                    <a:pt x="32" y="138"/>
                  </a:lnTo>
                  <a:lnTo>
                    <a:pt x="35" y="141"/>
                  </a:lnTo>
                  <a:lnTo>
                    <a:pt x="40" y="143"/>
                  </a:lnTo>
                  <a:lnTo>
                    <a:pt x="45" y="145"/>
                  </a:lnTo>
                  <a:lnTo>
                    <a:pt x="51" y="147"/>
                  </a:lnTo>
                  <a:lnTo>
                    <a:pt x="56" y="150"/>
                  </a:lnTo>
                  <a:lnTo>
                    <a:pt x="61" y="150"/>
                  </a:lnTo>
                  <a:lnTo>
                    <a:pt x="65" y="150"/>
                  </a:lnTo>
                  <a:lnTo>
                    <a:pt x="71" y="150"/>
                  </a:lnTo>
                </a:path>
              </a:pathLst>
            </a:custGeom>
            <a:noFill/>
            <a:ln w="0">
              <a:solidFill>
                <a:srgbClr val="000000"/>
              </a:solidFill>
              <a:prstDash val="sysDash"/>
            </a:ln>
          </p:spPr>
          <p:style>
            <a:lnRef idx="0"/>
            <a:fillRef idx="0"/>
            <a:effectRef idx="0"/>
            <a:fontRef idx="minor"/>
          </p:style>
          <p:txBody>
            <a:bodyPr lIns="90000" rIns="90000" tIns="3240" bIns="3240" anchor="t">
              <a:noAutofit/>
            </a:bodyPr>
            <a:p>
              <a:endParaRPr b="1" lang="en-US" sz="1800" spc="-1" strike="noStrike">
                <a:solidFill>
                  <a:srgbClr val="ffffff"/>
                </a:solidFill>
                <a:latin typeface="Castellar"/>
              </a:endParaRPr>
            </a:p>
          </p:txBody>
        </p:sp>
        <p:sp>
          <p:nvSpPr>
            <p:cNvPr id="256" name="Line 225"/>
            <p:cNvSpPr/>
            <p:nvPr/>
          </p:nvSpPr>
          <p:spPr>
            <a:xfrm flipV="1">
              <a:off x="6563880" y="4514040"/>
              <a:ext cx="13680" cy="7200"/>
            </a:xfrm>
            <a:prstGeom prst="line">
              <a:avLst/>
            </a:prstGeom>
            <a:ln w="0">
              <a:solidFill>
                <a:srgbClr val="0000ff"/>
              </a:solidFill>
            </a:ln>
          </p:spPr>
          <p:style>
            <a:lnRef idx="0"/>
            <a:fillRef idx="0"/>
            <a:effectRef idx="0"/>
            <a:fontRef idx="minor"/>
          </p:style>
          <p:txBody>
            <a:bodyPr lIns="90000" rIns="90000" tIns="-39600" bIns="-39600" anchor="t">
              <a:noAutofit/>
            </a:bodyPr>
            <a:p>
              <a:endParaRPr b="1" lang="en-US" sz="1800" spc="-1" strike="noStrike">
                <a:solidFill>
                  <a:srgbClr val="ffffff"/>
                </a:solidFill>
                <a:latin typeface="Castellar"/>
              </a:endParaRPr>
            </a:p>
          </p:txBody>
        </p:sp>
        <p:sp>
          <p:nvSpPr>
            <p:cNvPr id="257" name="Line 226"/>
            <p:cNvSpPr/>
            <p:nvPr/>
          </p:nvSpPr>
          <p:spPr>
            <a:xfrm>
              <a:off x="6594840" y="4615920"/>
              <a:ext cx="6480" cy="30240"/>
            </a:xfrm>
            <a:prstGeom prst="line">
              <a:avLst/>
            </a:prstGeom>
            <a:ln w="0">
              <a:solidFill>
                <a:srgbClr val="0000ff"/>
              </a:solidFill>
            </a:ln>
          </p:spPr>
          <p:style>
            <a:lnRef idx="0"/>
            <a:fillRef idx="0"/>
            <a:effectRef idx="0"/>
            <a:fontRef idx="minor"/>
          </p:style>
          <p:txBody>
            <a:bodyPr lIns="90000" rIns="90000" tIns="-16560" bIns="-16560" anchor="t">
              <a:noAutofit/>
            </a:bodyPr>
            <a:p>
              <a:endParaRPr b="1" lang="en-US" sz="1800" spc="-1" strike="noStrike">
                <a:solidFill>
                  <a:srgbClr val="ffffff"/>
                </a:solidFill>
                <a:latin typeface="Castellar"/>
              </a:endParaRPr>
            </a:p>
          </p:txBody>
        </p:sp>
        <p:sp>
          <p:nvSpPr>
            <p:cNvPr id="258" name="Line 227"/>
            <p:cNvSpPr/>
            <p:nvPr/>
          </p:nvSpPr>
          <p:spPr>
            <a:xfrm flipV="1">
              <a:off x="6629760" y="4687560"/>
              <a:ext cx="9720" cy="23760"/>
            </a:xfrm>
            <a:prstGeom prst="line">
              <a:avLst/>
            </a:prstGeom>
            <a:ln w="0">
              <a:solidFill>
                <a:srgbClr val="0000ff"/>
              </a:solidFill>
            </a:ln>
          </p:spPr>
          <p:style>
            <a:lnRef idx="0"/>
            <a:fillRef idx="0"/>
            <a:effectRef idx="0"/>
            <a:fontRef idx="minor"/>
          </p:style>
          <p:txBody>
            <a:bodyPr lIns="90000" rIns="90000" tIns="-23040" bIns="-23040" anchor="t">
              <a:noAutofit/>
            </a:bodyPr>
            <a:p>
              <a:endParaRPr b="1" lang="en-US" sz="1800" spc="-1" strike="noStrike">
                <a:solidFill>
                  <a:srgbClr val="ffffff"/>
                </a:solidFill>
                <a:latin typeface="Castellar"/>
              </a:endParaRPr>
            </a:p>
          </p:txBody>
        </p:sp>
        <p:sp>
          <p:nvSpPr>
            <p:cNvPr id="259" name="Freeform 228"/>
            <p:cNvSpPr/>
            <p:nvPr/>
          </p:nvSpPr>
          <p:spPr>
            <a:xfrm>
              <a:off x="5744520" y="2522520"/>
              <a:ext cx="585360" cy="148680"/>
            </a:xfrm>
            <a:custGeom>
              <a:avLst/>
              <a:gdLst>
                <a:gd name="textAreaLeft" fmla="*/ 0 w 585360"/>
                <a:gd name="textAreaRight" fmla="*/ 585720 w 585360"/>
                <a:gd name="textAreaTop" fmla="*/ 0 h 148680"/>
                <a:gd name="textAreaBottom" fmla="*/ 149040 h 148680"/>
              </a:gdLst>
              <a:ahLst/>
              <a:rect l="textAreaLeft" t="textAreaTop" r="textAreaRight" b="textAreaBottom"/>
              <a:pathLst>
                <a:path w="1624" h="444">
                  <a:moveTo>
                    <a:pt x="0" y="325"/>
                  </a:moveTo>
                  <a:lnTo>
                    <a:pt x="144" y="254"/>
                  </a:lnTo>
                  <a:lnTo>
                    <a:pt x="255" y="219"/>
                  </a:lnTo>
                  <a:lnTo>
                    <a:pt x="359" y="226"/>
                  </a:lnTo>
                  <a:lnTo>
                    <a:pt x="544" y="177"/>
                  </a:lnTo>
                  <a:lnTo>
                    <a:pt x="702" y="154"/>
                  </a:lnTo>
                  <a:lnTo>
                    <a:pt x="854" y="121"/>
                  </a:lnTo>
                  <a:lnTo>
                    <a:pt x="1046" y="106"/>
                  </a:lnTo>
                  <a:lnTo>
                    <a:pt x="1246" y="57"/>
                  </a:lnTo>
                  <a:lnTo>
                    <a:pt x="1390" y="29"/>
                  </a:lnTo>
                  <a:lnTo>
                    <a:pt x="1508" y="0"/>
                  </a:lnTo>
                  <a:lnTo>
                    <a:pt x="1563" y="86"/>
                  </a:lnTo>
                  <a:lnTo>
                    <a:pt x="1597" y="191"/>
                  </a:lnTo>
                  <a:lnTo>
                    <a:pt x="1624" y="247"/>
                  </a:lnTo>
                  <a:lnTo>
                    <a:pt x="1583" y="219"/>
                  </a:lnTo>
                  <a:lnTo>
                    <a:pt x="1514" y="191"/>
                  </a:lnTo>
                  <a:lnTo>
                    <a:pt x="1458" y="169"/>
                  </a:lnTo>
                  <a:lnTo>
                    <a:pt x="1321" y="162"/>
                  </a:lnTo>
                  <a:lnTo>
                    <a:pt x="1197" y="191"/>
                  </a:lnTo>
                  <a:lnTo>
                    <a:pt x="1066" y="226"/>
                  </a:lnTo>
                  <a:lnTo>
                    <a:pt x="923" y="275"/>
                  </a:lnTo>
                  <a:lnTo>
                    <a:pt x="854" y="290"/>
                  </a:lnTo>
                  <a:lnTo>
                    <a:pt x="771" y="282"/>
                  </a:lnTo>
                  <a:lnTo>
                    <a:pt x="687" y="297"/>
                  </a:lnTo>
                  <a:lnTo>
                    <a:pt x="578" y="318"/>
                  </a:lnTo>
                  <a:lnTo>
                    <a:pt x="496" y="360"/>
                  </a:lnTo>
                  <a:lnTo>
                    <a:pt x="391" y="381"/>
                  </a:lnTo>
                  <a:lnTo>
                    <a:pt x="248" y="402"/>
                  </a:lnTo>
                  <a:lnTo>
                    <a:pt x="158" y="424"/>
                  </a:lnTo>
                  <a:lnTo>
                    <a:pt x="82" y="444"/>
                  </a:lnTo>
                  <a:lnTo>
                    <a:pt x="61" y="388"/>
                  </a:lnTo>
                  <a:lnTo>
                    <a:pt x="47" y="360"/>
                  </a:lnTo>
                  <a:lnTo>
                    <a:pt x="0" y="325"/>
                  </a:lnTo>
                  <a:close/>
                </a:path>
              </a:pathLst>
            </a:custGeom>
            <a:solidFill>
              <a:srgbClr val="0000ff"/>
            </a:solidFill>
            <a:ln w="0">
              <a:solidFill>
                <a:srgbClr val="0000ff"/>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260" name="Rectangle 229"/>
            <p:cNvSpPr/>
            <p:nvPr/>
          </p:nvSpPr>
          <p:spPr>
            <a:xfrm flipH="1" rot="10822800">
              <a:off x="4871520" y="2571480"/>
              <a:ext cx="467280" cy="269640"/>
            </a:xfrm>
            <a:prstGeom prst="rect">
              <a:avLst/>
            </a:prstGeom>
            <a:noFill/>
            <a:ln w="0">
              <a:noFill/>
            </a:ln>
          </p:spPr>
          <p:style>
            <a:lnRef idx="0"/>
            <a:fillRef idx="0"/>
            <a:effectRef idx="0"/>
            <a:fontRef idx="minor"/>
          </p:style>
          <p:txBody>
            <a:bodyPr lIns="0" rIns="0" tIns="0" bIns="0" anchor="t">
              <a:normAutofit fontScale="73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a:rPr>
                <a:t> </a:t>
              </a:r>
              <a:r>
                <a:rPr b="1" i="1" lang="es-ES_tradnl" sz="800" spc="-1" strike="noStrike">
                  <a:solidFill>
                    <a:srgbClr val="000000"/>
                  </a:solidFill>
                  <a:latin typeface="Arial"/>
                </a:rPr>
                <a:t>RIO</a:t>
              </a:r>
              <a:endParaRPr b="1" lang="en-US" sz="800" spc="-1" strike="noStrike">
                <a:solidFill>
                  <a:srgbClr val="ffffff"/>
                </a:solidFill>
                <a:latin typeface="Castellar"/>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800" spc="-1" strike="noStrike">
                  <a:solidFill>
                    <a:srgbClr val="000000"/>
                  </a:solidFill>
                  <a:latin typeface="Arial"/>
                </a:rPr>
                <a:t>ORINOCO</a:t>
              </a:r>
              <a:r>
                <a:rPr b="0" i="1" lang="es-ES_tradnl" sz="800" spc="-1" strike="noStrike">
                  <a:solidFill>
                    <a:srgbClr val="000000"/>
                  </a:solidFill>
                  <a:latin typeface="Arial"/>
                </a:rPr>
                <a:t> </a:t>
              </a:r>
              <a:endParaRPr b="1" lang="en-US" sz="800" spc="-1" strike="noStrike">
                <a:solidFill>
                  <a:srgbClr val="ffffff"/>
                </a:solidFill>
                <a:latin typeface="Castellar"/>
              </a:endParaRPr>
            </a:p>
          </p:txBody>
        </p:sp>
        <p:sp>
          <p:nvSpPr>
            <p:cNvPr id="261" name="Rectangle 230"/>
            <p:cNvSpPr/>
            <p:nvPr/>
          </p:nvSpPr>
          <p:spPr>
            <a:xfrm rot="20460000">
              <a:off x="4962960" y="2752560"/>
              <a:ext cx="92160" cy="1569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stellar"/>
              </a:endParaRPr>
            </a:p>
          </p:txBody>
        </p:sp>
        <p:sp>
          <p:nvSpPr>
            <p:cNvPr id="262" name="Freeform 231"/>
            <p:cNvSpPr/>
            <p:nvPr/>
          </p:nvSpPr>
          <p:spPr>
            <a:xfrm>
              <a:off x="5503680" y="3781440"/>
              <a:ext cx="383760" cy="324720"/>
            </a:xfrm>
            <a:custGeom>
              <a:avLst/>
              <a:gdLst>
                <a:gd name="textAreaLeft" fmla="*/ 0 w 383760"/>
                <a:gd name="textAreaRight" fmla="*/ 384120 w 383760"/>
                <a:gd name="textAreaTop" fmla="*/ 0 h 324720"/>
                <a:gd name="textAreaBottom" fmla="*/ 325080 h 324720"/>
              </a:gdLst>
              <a:ahLst/>
              <a:rect l="textAreaLeft" t="textAreaTop" r="textAreaRight" b="textAreaBottom"/>
              <a:pathLst>
                <a:path w="1066" h="969">
                  <a:moveTo>
                    <a:pt x="0" y="0"/>
                  </a:moveTo>
                  <a:lnTo>
                    <a:pt x="154" y="81"/>
                  </a:lnTo>
                  <a:lnTo>
                    <a:pt x="256" y="224"/>
                  </a:lnTo>
                  <a:lnTo>
                    <a:pt x="344" y="380"/>
                  </a:lnTo>
                  <a:lnTo>
                    <a:pt x="452" y="395"/>
                  </a:lnTo>
                  <a:lnTo>
                    <a:pt x="605" y="328"/>
                  </a:lnTo>
                  <a:lnTo>
                    <a:pt x="730" y="321"/>
                  </a:lnTo>
                  <a:lnTo>
                    <a:pt x="826" y="418"/>
                  </a:lnTo>
                  <a:lnTo>
                    <a:pt x="935" y="492"/>
                  </a:lnTo>
                  <a:lnTo>
                    <a:pt x="1037" y="581"/>
                  </a:lnTo>
                  <a:lnTo>
                    <a:pt x="1066" y="664"/>
                  </a:lnTo>
                  <a:lnTo>
                    <a:pt x="1051" y="739"/>
                  </a:lnTo>
                  <a:lnTo>
                    <a:pt x="1045" y="881"/>
                  </a:lnTo>
                  <a:lnTo>
                    <a:pt x="1037" y="969"/>
                  </a:lnTo>
                </a:path>
              </a:pathLst>
            </a:custGeom>
            <a:noFill/>
            <a:ln w="0">
              <a:solidFill>
                <a:srgbClr val="0000ff"/>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263" name="Freeform 232"/>
            <p:cNvSpPr/>
            <p:nvPr/>
          </p:nvSpPr>
          <p:spPr>
            <a:xfrm>
              <a:off x="5683680" y="3903840"/>
              <a:ext cx="78840" cy="124200"/>
            </a:xfrm>
            <a:custGeom>
              <a:avLst/>
              <a:gdLst>
                <a:gd name="textAreaLeft" fmla="*/ 0 w 78840"/>
                <a:gd name="textAreaRight" fmla="*/ 79200 w 78840"/>
                <a:gd name="textAreaTop" fmla="*/ 0 h 124200"/>
                <a:gd name="textAreaBottom" fmla="*/ 124560 h 124200"/>
              </a:gdLst>
              <a:ahLst/>
              <a:rect l="textAreaLeft" t="textAreaTop" r="textAreaRight" b="textAreaBottom"/>
              <a:pathLst>
                <a:path w="219" h="372">
                  <a:moveTo>
                    <a:pt x="0" y="0"/>
                  </a:moveTo>
                  <a:lnTo>
                    <a:pt x="82" y="74"/>
                  </a:lnTo>
                  <a:lnTo>
                    <a:pt x="191" y="142"/>
                  </a:lnTo>
                  <a:lnTo>
                    <a:pt x="191" y="291"/>
                  </a:lnTo>
                  <a:lnTo>
                    <a:pt x="219" y="372"/>
                  </a:lnTo>
                </a:path>
              </a:pathLst>
            </a:custGeom>
            <a:noFill/>
            <a:ln w="0">
              <a:solidFill>
                <a:srgbClr val="0000ff"/>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264" name="Freeform 233"/>
            <p:cNvSpPr/>
            <p:nvPr/>
          </p:nvSpPr>
          <p:spPr>
            <a:xfrm>
              <a:off x="5653080" y="3803400"/>
              <a:ext cx="9720" cy="108000"/>
            </a:xfrm>
            <a:custGeom>
              <a:avLst/>
              <a:gdLst>
                <a:gd name="textAreaLeft" fmla="*/ 0 w 9720"/>
                <a:gd name="textAreaRight" fmla="*/ 10080 w 9720"/>
                <a:gd name="textAreaTop" fmla="*/ 0 h 108000"/>
                <a:gd name="textAreaBottom" fmla="*/ 108360 h 108000"/>
              </a:gdLst>
              <a:ahLst/>
              <a:rect l="textAreaLeft" t="textAreaTop" r="textAreaRight" b="textAreaBottom"/>
              <a:pathLst>
                <a:path w="28" h="321">
                  <a:moveTo>
                    <a:pt x="0" y="321"/>
                  </a:moveTo>
                  <a:lnTo>
                    <a:pt x="6" y="201"/>
                  </a:lnTo>
                  <a:lnTo>
                    <a:pt x="14" y="67"/>
                  </a:lnTo>
                  <a:lnTo>
                    <a:pt x="28" y="0"/>
                  </a:lnTo>
                </a:path>
              </a:pathLst>
            </a:custGeom>
            <a:noFill/>
            <a:ln w="0">
              <a:solidFill>
                <a:srgbClr val="0000ff"/>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265" name="Freeform 234"/>
            <p:cNvSpPr/>
            <p:nvPr/>
          </p:nvSpPr>
          <p:spPr>
            <a:xfrm>
              <a:off x="5134680" y="3460320"/>
              <a:ext cx="241200" cy="207000"/>
            </a:xfrm>
            <a:custGeom>
              <a:avLst/>
              <a:gdLst>
                <a:gd name="textAreaLeft" fmla="*/ 0 w 241200"/>
                <a:gd name="textAreaRight" fmla="*/ 241560 w 241200"/>
                <a:gd name="textAreaTop" fmla="*/ 0 h 207000"/>
                <a:gd name="textAreaBottom" fmla="*/ 207360 h 207000"/>
              </a:gdLst>
              <a:ahLst/>
              <a:rect l="textAreaLeft" t="textAreaTop" r="textAreaRight" b="textAreaBottom"/>
              <a:pathLst>
                <a:path w="667" h="619">
                  <a:moveTo>
                    <a:pt x="627" y="44"/>
                  </a:moveTo>
                  <a:lnTo>
                    <a:pt x="667" y="10"/>
                  </a:lnTo>
                  <a:lnTo>
                    <a:pt x="599" y="6"/>
                  </a:lnTo>
                  <a:lnTo>
                    <a:pt x="518" y="0"/>
                  </a:lnTo>
                  <a:lnTo>
                    <a:pt x="399" y="40"/>
                  </a:lnTo>
                  <a:lnTo>
                    <a:pt x="294" y="103"/>
                  </a:lnTo>
                  <a:lnTo>
                    <a:pt x="276" y="151"/>
                  </a:lnTo>
                  <a:lnTo>
                    <a:pt x="238" y="185"/>
                  </a:lnTo>
                  <a:lnTo>
                    <a:pt x="171" y="210"/>
                  </a:lnTo>
                  <a:lnTo>
                    <a:pt x="95" y="248"/>
                  </a:lnTo>
                  <a:lnTo>
                    <a:pt x="62" y="327"/>
                  </a:lnTo>
                  <a:lnTo>
                    <a:pt x="43" y="400"/>
                  </a:lnTo>
                  <a:lnTo>
                    <a:pt x="23" y="502"/>
                  </a:lnTo>
                  <a:lnTo>
                    <a:pt x="0" y="619"/>
                  </a:lnTo>
                  <a:lnTo>
                    <a:pt x="37" y="608"/>
                  </a:lnTo>
                  <a:lnTo>
                    <a:pt x="48" y="536"/>
                  </a:lnTo>
                  <a:lnTo>
                    <a:pt x="48" y="478"/>
                  </a:lnTo>
                  <a:lnTo>
                    <a:pt x="66" y="385"/>
                  </a:lnTo>
                  <a:lnTo>
                    <a:pt x="114" y="283"/>
                  </a:lnTo>
                  <a:lnTo>
                    <a:pt x="181" y="238"/>
                  </a:lnTo>
                  <a:lnTo>
                    <a:pt x="251" y="200"/>
                  </a:lnTo>
                  <a:lnTo>
                    <a:pt x="328" y="118"/>
                  </a:lnTo>
                  <a:lnTo>
                    <a:pt x="380" y="97"/>
                  </a:lnTo>
                  <a:lnTo>
                    <a:pt x="423" y="166"/>
                  </a:lnTo>
                  <a:lnTo>
                    <a:pt x="447" y="210"/>
                  </a:lnTo>
                  <a:lnTo>
                    <a:pt x="447" y="195"/>
                  </a:lnTo>
                  <a:lnTo>
                    <a:pt x="404" y="93"/>
                  </a:lnTo>
                  <a:lnTo>
                    <a:pt x="442" y="74"/>
                  </a:lnTo>
                  <a:lnTo>
                    <a:pt x="518" y="25"/>
                  </a:lnTo>
                  <a:lnTo>
                    <a:pt x="623" y="49"/>
                  </a:lnTo>
                  <a:lnTo>
                    <a:pt x="627" y="44"/>
                  </a:lnTo>
                  <a:close/>
                </a:path>
              </a:pathLst>
            </a:custGeom>
            <a:solidFill>
              <a:srgbClr val="0000ff"/>
            </a:solidFill>
            <a:ln w="0">
              <a:solidFill>
                <a:srgbClr val="0000ff"/>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266" name="Freeform 235"/>
            <p:cNvSpPr/>
            <p:nvPr/>
          </p:nvSpPr>
          <p:spPr>
            <a:xfrm>
              <a:off x="4893840" y="3725280"/>
              <a:ext cx="471240" cy="715680"/>
            </a:xfrm>
            <a:custGeom>
              <a:avLst/>
              <a:gdLst>
                <a:gd name="textAreaLeft" fmla="*/ 0 w 471240"/>
                <a:gd name="textAreaRight" fmla="*/ 471600 w 471240"/>
                <a:gd name="textAreaTop" fmla="*/ 0 h 715680"/>
                <a:gd name="textAreaBottom" fmla="*/ 716040 h 715680"/>
              </a:gdLst>
              <a:ahLst/>
              <a:rect l="textAreaLeft" t="textAreaTop" r="textAreaRight" b="textAreaBottom"/>
              <a:pathLst>
                <a:path w="1310" h="2138">
                  <a:moveTo>
                    <a:pt x="550" y="15"/>
                  </a:moveTo>
                  <a:lnTo>
                    <a:pt x="585" y="42"/>
                  </a:lnTo>
                  <a:lnTo>
                    <a:pt x="528" y="135"/>
                  </a:lnTo>
                  <a:lnTo>
                    <a:pt x="647" y="158"/>
                  </a:lnTo>
                  <a:lnTo>
                    <a:pt x="683" y="165"/>
                  </a:lnTo>
                  <a:lnTo>
                    <a:pt x="654" y="194"/>
                  </a:lnTo>
                  <a:lnTo>
                    <a:pt x="486" y="186"/>
                  </a:lnTo>
                  <a:lnTo>
                    <a:pt x="323" y="281"/>
                  </a:lnTo>
                  <a:lnTo>
                    <a:pt x="288" y="395"/>
                  </a:lnTo>
                  <a:lnTo>
                    <a:pt x="394" y="395"/>
                  </a:lnTo>
                  <a:lnTo>
                    <a:pt x="521" y="309"/>
                  </a:lnTo>
                  <a:lnTo>
                    <a:pt x="556" y="309"/>
                  </a:lnTo>
                  <a:lnTo>
                    <a:pt x="422" y="410"/>
                  </a:lnTo>
                  <a:lnTo>
                    <a:pt x="387" y="547"/>
                  </a:lnTo>
                  <a:lnTo>
                    <a:pt x="422" y="605"/>
                  </a:lnTo>
                  <a:lnTo>
                    <a:pt x="472" y="612"/>
                  </a:lnTo>
                  <a:lnTo>
                    <a:pt x="451" y="640"/>
                  </a:lnTo>
                  <a:lnTo>
                    <a:pt x="387" y="662"/>
                  </a:lnTo>
                  <a:lnTo>
                    <a:pt x="394" y="705"/>
                  </a:lnTo>
                  <a:lnTo>
                    <a:pt x="359" y="705"/>
                  </a:lnTo>
                  <a:lnTo>
                    <a:pt x="323" y="705"/>
                  </a:lnTo>
                  <a:lnTo>
                    <a:pt x="373" y="439"/>
                  </a:lnTo>
                  <a:lnTo>
                    <a:pt x="219" y="439"/>
                  </a:lnTo>
                  <a:lnTo>
                    <a:pt x="155" y="806"/>
                  </a:lnTo>
                  <a:lnTo>
                    <a:pt x="35" y="1115"/>
                  </a:lnTo>
                  <a:lnTo>
                    <a:pt x="155" y="1289"/>
                  </a:lnTo>
                  <a:lnTo>
                    <a:pt x="331" y="1374"/>
                  </a:lnTo>
                  <a:lnTo>
                    <a:pt x="528" y="1324"/>
                  </a:lnTo>
                  <a:lnTo>
                    <a:pt x="569" y="1201"/>
                  </a:lnTo>
                  <a:lnTo>
                    <a:pt x="591" y="1195"/>
                  </a:lnTo>
                  <a:lnTo>
                    <a:pt x="563" y="1331"/>
                  </a:lnTo>
                  <a:lnTo>
                    <a:pt x="663" y="1366"/>
                  </a:lnTo>
                  <a:lnTo>
                    <a:pt x="746" y="1331"/>
                  </a:lnTo>
                  <a:lnTo>
                    <a:pt x="780" y="1374"/>
                  </a:lnTo>
                  <a:lnTo>
                    <a:pt x="711" y="1389"/>
                  </a:lnTo>
                  <a:lnTo>
                    <a:pt x="528" y="1366"/>
                  </a:lnTo>
                  <a:lnTo>
                    <a:pt x="344" y="1403"/>
                  </a:lnTo>
                  <a:lnTo>
                    <a:pt x="429" y="1503"/>
                  </a:lnTo>
                  <a:lnTo>
                    <a:pt x="465" y="1491"/>
                  </a:lnTo>
                  <a:lnTo>
                    <a:pt x="486" y="1527"/>
                  </a:lnTo>
                  <a:lnTo>
                    <a:pt x="683" y="1649"/>
                  </a:lnTo>
                  <a:lnTo>
                    <a:pt x="767" y="1626"/>
                  </a:lnTo>
                  <a:lnTo>
                    <a:pt x="810" y="1620"/>
                  </a:lnTo>
                  <a:lnTo>
                    <a:pt x="698" y="1691"/>
                  </a:lnTo>
                  <a:lnTo>
                    <a:pt x="724" y="1762"/>
                  </a:lnTo>
                  <a:lnTo>
                    <a:pt x="845" y="1849"/>
                  </a:lnTo>
                  <a:lnTo>
                    <a:pt x="979" y="1929"/>
                  </a:lnTo>
                  <a:lnTo>
                    <a:pt x="1104" y="1864"/>
                  </a:lnTo>
                  <a:lnTo>
                    <a:pt x="1113" y="1756"/>
                  </a:lnTo>
                  <a:lnTo>
                    <a:pt x="1190" y="1685"/>
                  </a:lnTo>
                  <a:lnTo>
                    <a:pt x="1233" y="1713"/>
                  </a:lnTo>
                  <a:lnTo>
                    <a:pt x="1161" y="1770"/>
                  </a:lnTo>
                  <a:lnTo>
                    <a:pt x="1170" y="1864"/>
                  </a:lnTo>
                  <a:lnTo>
                    <a:pt x="1198" y="1885"/>
                  </a:lnTo>
                  <a:lnTo>
                    <a:pt x="1198" y="1944"/>
                  </a:lnTo>
                  <a:lnTo>
                    <a:pt x="1254" y="1972"/>
                  </a:lnTo>
                  <a:lnTo>
                    <a:pt x="1310" y="2015"/>
                  </a:lnTo>
                  <a:lnTo>
                    <a:pt x="1302" y="2072"/>
                  </a:lnTo>
                  <a:lnTo>
                    <a:pt x="1302" y="2138"/>
                  </a:lnTo>
                  <a:lnTo>
                    <a:pt x="1204" y="2015"/>
                  </a:lnTo>
                  <a:lnTo>
                    <a:pt x="1120" y="1944"/>
                  </a:lnTo>
                  <a:lnTo>
                    <a:pt x="979" y="1958"/>
                  </a:lnTo>
                  <a:lnTo>
                    <a:pt x="858" y="1915"/>
                  </a:lnTo>
                  <a:lnTo>
                    <a:pt x="831" y="2002"/>
                  </a:lnTo>
                  <a:lnTo>
                    <a:pt x="874" y="2052"/>
                  </a:lnTo>
                  <a:lnTo>
                    <a:pt x="796" y="2038"/>
                  </a:lnTo>
                  <a:lnTo>
                    <a:pt x="788" y="1995"/>
                  </a:lnTo>
                  <a:lnTo>
                    <a:pt x="780" y="1879"/>
                  </a:lnTo>
                  <a:lnTo>
                    <a:pt x="724" y="1844"/>
                  </a:lnTo>
                  <a:lnTo>
                    <a:pt x="654" y="1713"/>
                  </a:lnTo>
                  <a:lnTo>
                    <a:pt x="550" y="1606"/>
                  </a:lnTo>
                  <a:lnTo>
                    <a:pt x="500" y="1670"/>
                  </a:lnTo>
                  <a:lnTo>
                    <a:pt x="478" y="1734"/>
                  </a:lnTo>
                  <a:lnTo>
                    <a:pt x="457" y="1721"/>
                  </a:lnTo>
                  <a:lnTo>
                    <a:pt x="492" y="1576"/>
                  </a:lnTo>
                  <a:lnTo>
                    <a:pt x="401" y="1583"/>
                  </a:lnTo>
                  <a:lnTo>
                    <a:pt x="316" y="1677"/>
                  </a:lnTo>
                  <a:lnTo>
                    <a:pt x="288" y="1655"/>
                  </a:lnTo>
                  <a:lnTo>
                    <a:pt x="331" y="1620"/>
                  </a:lnTo>
                  <a:lnTo>
                    <a:pt x="288" y="1611"/>
                  </a:lnTo>
                  <a:lnTo>
                    <a:pt x="303" y="1592"/>
                  </a:lnTo>
                  <a:lnTo>
                    <a:pt x="409" y="1554"/>
                  </a:lnTo>
                  <a:lnTo>
                    <a:pt x="190" y="1360"/>
                  </a:lnTo>
                  <a:lnTo>
                    <a:pt x="0" y="1144"/>
                  </a:lnTo>
                  <a:lnTo>
                    <a:pt x="98" y="806"/>
                  </a:lnTo>
                  <a:lnTo>
                    <a:pt x="168" y="519"/>
                  </a:lnTo>
                  <a:lnTo>
                    <a:pt x="163" y="447"/>
                  </a:lnTo>
                  <a:lnTo>
                    <a:pt x="211" y="359"/>
                  </a:lnTo>
                  <a:lnTo>
                    <a:pt x="141" y="325"/>
                  </a:lnTo>
                  <a:lnTo>
                    <a:pt x="190" y="309"/>
                  </a:lnTo>
                  <a:lnTo>
                    <a:pt x="444" y="158"/>
                  </a:lnTo>
                  <a:lnTo>
                    <a:pt x="542" y="0"/>
                  </a:lnTo>
                  <a:lnTo>
                    <a:pt x="550" y="15"/>
                  </a:lnTo>
                  <a:close/>
                </a:path>
              </a:pathLst>
            </a:custGeom>
            <a:solidFill>
              <a:srgbClr val="0000ff"/>
            </a:solidFill>
            <a:ln w="0">
              <a:solidFill>
                <a:srgbClr val="0000ff"/>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267" name="Freeform 236"/>
            <p:cNvSpPr/>
            <p:nvPr/>
          </p:nvSpPr>
          <p:spPr>
            <a:xfrm>
              <a:off x="5021640" y="4389480"/>
              <a:ext cx="329400" cy="394920"/>
            </a:xfrm>
            <a:custGeom>
              <a:avLst/>
              <a:gdLst>
                <a:gd name="textAreaLeft" fmla="*/ 0 w 329400"/>
                <a:gd name="textAreaRight" fmla="*/ 329400 w 329400"/>
                <a:gd name="textAreaTop" fmla="*/ 0 h 394920"/>
                <a:gd name="textAreaBottom" fmla="*/ 395280 h 394920"/>
              </a:gdLst>
              <a:ahLst/>
              <a:rect l="textAreaLeft" t="textAreaTop" r="textAreaRight" b="textAreaBottom"/>
              <a:pathLst>
                <a:path w="915" h="1179">
                  <a:moveTo>
                    <a:pt x="429" y="0"/>
                  </a:moveTo>
                  <a:lnTo>
                    <a:pt x="435" y="35"/>
                  </a:lnTo>
                  <a:lnTo>
                    <a:pt x="301" y="84"/>
                  </a:lnTo>
                  <a:lnTo>
                    <a:pt x="211" y="150"/>
                  </a:lnTo>
                  <a:lnTo>
                    <a:pt x="254" y="237"/>
                  </a:lnTo>
                  <a:lnTo>
                    <a:pt x="332" y="258"/>
                  </a:lnTo>
                  <a:lnTo>
                    <a:pt x="345" y="323"/>
                  </a:lnTo>
                  <a:lnTo>
                    <a:pt x="449" y="401"/>
                  </a:lnTo>
                  <a:lnTo>
                    <a:pt x="562" y="380"/>
                  </a:lnTo>
                  <a:lnTo>
                    <a:pt x="521" y="445"/>
                  </a:lnTo>
                  <a:lnTo>
                    <a:pt x="583" y="531"/>
                  </a:lnTo>
                  <a:lnTo>
                    <a:pt x="669" y="574"/>
                  </a:lnTo>
                  <a:lnTo>
                    <a:pt x="732" y="531"/>
                  </a:lnTo>
                  <a:lnTo>
                    <a:pt x="676" y="632"/>
                  </a:lnTo>
                  <a:lnTo>
                    <a:pt x="471" y="445"/>
                  </a:lnTo>
                  <a:lnTo>
                    <a:pt x="485" y="776"/>
                  </a:lnTo>
                  <a:lnTo>
                    <a:pt x="640" y="819"/>
                  </a:lnTo>
                  <a:lnTo>
                    <a:pt x="809" y="899"/>
                  </a:lnTo>
                  <a:lnTo>
                    <a:pt x="872" y="1071"/>
                  </a:lnTo>
                  <a:lnTo>
                    <a:pt x="915" y="1179"/>
                  </a:lnTo>
                  <a:lnTo>
                    <a:pt x="880" y="1159"/>
                  </a:lnTo>
                  <a:lnTo>
                    <a:pt x="773" y="921"/>
                  </a:lnTo>
                  <a:lnTo>
                    <a:pt x="548" y="826"/>
                  </a:lnTo>
                  <a:lnTo>
                    <a:pt x="501" y="1079"/>
                  </a:lnTo>
                  <a:lnTo>
                    <a:pt x="471" y="1065"/>
                  </a:lnTo>
                  <a:lnTo>
                    <a:pt x="492" y="834"/>
                  </a:lnTo>
                  <a:lnTo>
                    <a:pt x="429" y="704"/>
                  </a:lnTo>
                  <a:lnTo>
                    <a:pt x="435" y="474"/>
                  </a:lnTo>
                  <a:lnTo>
                    <a:pt x="324" y="344"/>
                  </a:lnTo>
                  <a:lnTo>
                    <a:pt x="246" y="294"/>
                  </a:lnTo>
                  <a:lnTo>
                    <a:pt x="161" y="158"/>
                  </a:lnTo>
                  <a:lnTo>
                    <a:pt x="0" y="99"/>
                  </a:lnTo>
                  <a:lnTo>
                    <a:pt x="8" y="71"/>
                  </a:lnTo>
                  <a:lnTo>
                    <a:pt x="91" y="63"/>
                  </a:lnTo>
                  <a:lnTo>
                    <a:pt x="113" y="42"/>
                  </a:lnTo>
                  <a:lnTo>
                    <a:pt x="176" y="128"/>
                  </a:lnTo>
                  <a:lnTo>
                    <a:pt x="352" y="12"/>
                  </a:lnTo>
                  <a:lnTo>
                    <a:pt x="422" y="0"/>
                  </a:lnTo>
                  <a:lnTo>
                    <a:pt x="429" y="0"/>
                  </a:lnTo>
                  <a:close/>
                </a:path>
              </a:pathLst>
            </a:custGeom>
            <a:solidFill>
              <a:srgbClr val="0000ff"/>
            </a:solidFill>
            <a:ln w="0">
              <a:solidFill>
                <a:srgbClr val="0000ff"/>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268" name="Freeform 237"/>
            <p:cNvSpPr/>
            <p:nvPr/>
          </p:nvSpPr>
          <p:spPr>
            <a:xfrm>
              <a:off x="5844240" y="4609800"/>
              <a:ext cx="482760" cy="337680"/>
            </a:xfrm>
            <a:custGeom>
              <a:avLst/>
              <a:gdLst>
                <a:gd name="textAreaLeft" fmla="*/ 0 w 482760"/>
                <a:gd name="textAreaRight" fmla="*/ 483120 w 482760"/>
                <a:gd name="textAreaTop" fmla="*/ 0 h 337680"/>
                <a:gd name="textAreaBottom" fmla="*/ 338040 h 337680"/>
              </a:gdLst>
              <a:ahLst/>
              <a:rect l="textAreaLeft" t="textAreaTop" r="textAreaRight" b="textAreaBottom"/>
              <a:pathLst>
                <a:path w="1340" h="1009">
                  <a:moveTo>
                    <a:pt x="40" y="93"/>
                  </a:moveTo>
                  <a:lnTo>
                    <a:pt x="0" y="128"/>
                  </a:lnTo>
                  <a:lnTo>
                    <a:pt x="137" y="280"/>
                  </a:lnTo>
                  <a:lnTo>
                    <a:pt x="210" y="490"/>
                  </a:lnTo>
                  <a:lnTo>
                    <a:pt x="193" y="542"/>
                  </a:lnTo>
                  <a:lnTo>
                    <a:pt x="235" y="579"/>
                  </a:lnTo>
                  <a:lnTo>
                    <a:pt x="318" y="665"/>
                  </a:lnTo>
                  <a:lnTo>
                    <a:pt x="291" y="783"/>
                  </a:lnTo>
                  <a:lnTo>
                    <a:pt x="349" y="834"/>
                  </a:lnTo>
                  <a:lnTo>
                    <a:pt x="400" y="922"/>
                  </a:lnTo>
                  <a:lnTo>
                    <a:pt x="349" y="975"/>
                  </a:lnTo>
                  <a:lnTo>
                    <a:pt x="365" y="1009"/>
                  </a:lnTo>
                  <a:lnTo>
                    <a:pt x="714" y="963"/>
                  </a:lnTo>
                  <a:lnTo>
                    <a:pt x="873" y="892"/>
                  </a:lnTo>
                  <a:lnTo>
                    <a:pt x="1056" y="840"/>
                  </a:lnTo>
                  <a:lnTo>
                    <a:pt x="1227" y="840"/>
                  </a:lnTo>
                  <a:lnTo>
                    <a:pt x="1312" y="846"/>
                  </a:lnTo>
                  <a:lnTo>
                    <a:pt x="1340" y="777"/>
                  </a:lnTo>
                  <a:lnTo>
                    <a:pt x="1317" y="777"/>
                  </a:lnTo>
                  <a:lnTo>
                    <a:pt x="1284" y="823"/>
                  </a:lnTo>
                  <a:lnTo>
                    <a:pt x="1089" y="799"/>
                  </a:lnTo>
                  <a:lnTo>
                    <a:pt x="940" y="846"/>
                  </a:lnTo>
                  <a:lnTo>
                    <a:pt x="952" y="717"/>
                  </a:lnTo>
                  <a:lnTo>
                    <a:pt x="919" y="707"/>
                  </a:lnTo>
                  <a:lnTo>
                    <a:pt x="895" y="852"/>
                  </a:lnTo>
                  <a:lnTo>
                    <a:pt x="776" y="911"/>
                  </a:lnTo>
                  <a:lnTo>
                    <a:pt x="764" y="840"/>
                  </a:lnTo>
                  <a:lnTo>
                    <a:pt x="736" y="852"/>
                  </a:lnTo>
                  <a:lnTo>
                    <a:pt x="718" y="935"/>
                  </a:lnTo>
                  <a:lnTo>
                    <a:pt x="473" y="957"/>
                  </a:lnTo>
                  <a:lnTo>
                    <a:pt x="428" y="876"/>
                  </a:lnTo>
                  <a:lnTo>
                    <a:pt x="388" y="765"/>
                  </a:lnTo>
                  <a:lnTo>
                    <a:pt x="417" y="636"/>
                  </a:lnTo>
                  <a:lnTo>
                    <a:pt x="525" y="606"/>
                  </a:lnTo>
                  <a:lnTo>
                    <a:pt x="519" y="572"/>
                  </a:lnTo>
                  <a:lnTo>
                    <a:pt x="335" y="620"/>
                  </a:lnTo>
                  <a:lnTo>
                    <a:pt x="241" y="427"/>
                  </a:lnTo>
                  <a:lnTo>
                    <a:pt x="160" y="245"/>
                  </a:lnTo>
                  <a:lnTo>
                    <a:pt x="434" y="251"/>
                  </a:lnTo>
                  <a:lnTo>
                    <a:pt x="565" y="280"/>
                  </a:lnTo>
                  <a:lnTo>
                    <a:pt x="604" y="234"/>
                  </a:lnTo>
                  <a:lnTo>
                    <a:pt x="553" y="245"/>
                  </a:lnTo>
                  <a:lnTo>
                    <a:pt x="565" y="193"/>
                  </a:lnTo>
                  <a:lnTo>
                    <a:pt x="451" y="199"/>
                  </a:lnTo>
                  <a:lnTo>
                    <a:pt x="268" y="216"/>
                  </a:lnTo>
                  <a:lnTo>
                    <a:pt x="245" y="100"/>
                  </a:lnTo>
                  <a:lnTo>
                    <a:pt x="228" y="0"/>
                  </a:lnTo>
                  <a:lnTo>
                    <a:pt x="206" y="6"/>
                  </a:lnTo>
                  <a:lnTo>
                    <a:pt x="228" y="211"/>
                  </a:lnTo>
                  <a:lnTo>
                    <a:pt x="143" y="205"/>
                  </a:lnTo>
                  <a:lnTo>
                    <a:pt x="40" y="100"/>
                  </a:lnTo>
                  <a:lnTo>
                    <a:pt x="40" y="93"/>
                  </a:lnTo>
                  <a:close/>
                </a:path>
              </a:pathLst>
            </a:custGeom>
            <a:solidFill>
              <a:srgbClr val="0000ff"/>
            </a:solidFill>
            <a:ln w="0">
              <a:solidFill>
                <a:srgbClr val="0000ff"/>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269" name="Freeform 238"/>
            <p:cNvSpPr/>
            <p:nvPr/>
          </p:nvSpPr>
          <p:spPr>
            <a:xfrm>
              <a:off x="6098400" y="4406760"/>
              <a:ext cx="359640" cy="269640"/>
            </a:xfrm>
            <a:custGeom>
              <a:avLst/>
              <a:gdLst>
                <a:gd name="textAreaLeft" fmla="*/ 0 w 359640"/>
                <a:gd name="textAreaRight" fmla="*/ 359640 w 359640"/>
                <a:gd name="textAreaTop" fmla="*/ 0 h 269640"/>
                <a:gd name="textAreaBottom" fmla="*/ 270000 h 269640"/>
              </a:gdLst>
              <a:ahLst/>
              <a:rect l="textAreaLeft" t="textAreaTop" r="textAreaRight" b="textAreaBottom"/>
              <a:pathLst>
                <a:path w="998" h="806">
                  <a:moveTo>
                    <a:pt x="0" y="654"/>
                  </a:moveTo>
                  <a:lnTo>
                    <a:pt x="50" y="718"/>
                  </a:lnTo>
                  <a:lnTo>
                    <a:pt x="194" y="602"/>
                  </a:lnTo>
                  <a:lnTo>
                    <a:pt x="260" y="694"/>
                  </a:lnTo>
                  <a:lnTo>
                    <a:pt x="301" y="683"/>
                  </a:lnTo>
                  <a:lnTo>
                    <a:pt x="284" y="554"/>
                  </a:lnTo>
                  <a:lnTo>
                    <a:pt x="359" y="531"/>
                  </a:lnTo>
                  <a:lnTo>
                    <a:pt x="523" y="654"/>
                  </a:lnTo>
                  <a:lnTo>
                    <a:pt x="587" y="782"/>
                  </a:lnTo>
                  <a:lnTo>
                    <a:pt x="666" y="806"/>
                  </a:lnTo>
                  <a:lnTo>
                    <a:pt x="792" y="747"/>
                  </a:lnTo>
                  <a:lnTo>
                    <a:pt x="850" y="607"/>
                  </a:lnTo>
                  <a:lnTo>
                    <a:pt x="998" y="602"/>
                  </a:lnTo>
                  <a:lnTo>
                    <a:pt x="998" y="531"/>
                  </a:lnTo>
                  <a:lnTo>
                    <a:pt x="991" y="409"/>
                  </a:lnTo>
                  <a:lnTo>
                    <a:pt x="957" y="396"/>
                  </a:lnTo>
                  <a:lnTo>
                    <a:pt x="964" y="567"/>
                  </a:lnTo>
                  <a:lnTo>
                    <a:pt x="826" y="573"/>
                  </a:lnTo>
                  <a:lnTo>
                    <a:pt x="753" y="694"/>
                  </a:lnTo>
                  <a:lnTo>
                    <a:pt x="632" y="712"/>
                  </a:lnTo>
                  <a:lnTo>
                    <a:pt x="587" y="642"/>
                  </a:lnTo>
                  <a:lnTo>
                    <a:pt x="671" y="543"/>
                  </a:lnTo>
                  <a:lnTo>
                    <a:pt x="736" y="468"/>
                  </a:lnTo>
                  <a:lnTo>
                    <a:pt x="718" y="456"/>
                  </a:lnTo>
                  <a:lnTo>
                    <a:pt x="592" y="573"/>
                  </a:lnTo>
                  <a:lnTo>
                    <a:pt x="450" y="543"/>
                  </a:lnTo>
                  <a:lnTo>
                    <a:pt x="427" y="391"/>
                  </a:lnTo>
                  <a:lnTo>
                    <a:pt x="455" y="322"/>
                  </a:lnTo>
                  <a:lnTo>
                    <a:pt x="370" y="316"/>
                  </a:lnTo>
                  <a:lnTo>
                    <a:pt x="267" y="181"/>
                  </a:lnTo>
                  <a:lnTo>
                    <a:pt x="370" y="134"/>
                  </a:lnTo>
                  <a:lnTo>
                    <a:pt x="359" y="94"/>
                  </a:lnTo>
                  <a:lnTo>
                    <a:pt x="273" y="72"/>
                  </a:lnTo>
                  <a:lnTo>
                    <a:pt x="176" y="0"/>
                  </a:lnTo>
                  <a:lnTo>
                    <a:pt x="164" y="53"/>
                  </a:lnTo>
                  <a:lnTo>
                    <a:pt x="56" y="72"/>
                  </a:lnTo>
                  <a:lnTo>
                    <a:pt x="56" y="94"/>
                  </a:lnTo>
                  <a:lnTo>
                    <a:pt x="211" y="100"/>
                  </a:lnTo>
                  <a:lnTo>
                    <a:pt x="297" y="316"/>
                  </a:lnTo>
                  <a:lnTo>
                    <a:pt x="290" y="427"/>
                  </a:lnTo>
                  <a:lnTo>
                    <a:pt x="159" y="549"/>
                  </a:lnTo>
                  <a:lnTo>
                    <a:pt x="96" y="521"/>
                  </a:lnTo>
                  <a:lnTo>
                    <a:pt x="56" y="415"/>
                  </a:lnTo>
                  <a:lnTo>
                    <a:pt x="39" y="431"/>
                  </a:lnTo>
                  <a:lnTo>
                    <a:pt x="96" y="595"/>
                  </a:lnTo>
                  <a:lnTo>
                    <a:pt x="17" y="683"/>
                  </a:lnTo>
                  <a:lnTo>
                    <a:pt x="0" y="654"/>
                  </a:lnTo>
                  <a:close/>
                </a:path>
              </a:pathLst>
            </a:custGeom>
            <a:solidFill>
              <a:srgbClr val="0000ff"/>
            </a:solidFill>
            <a:ln w="0">
              <a:solidFill>
                <a:srgbClr val="0000ff"/>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stellar"/>
              </a:endParaRPr>
            </a:p>
          </p:txBody>
        </p:sp>
        <p:sp>
          <p:nvSpPr>
            <p:cNvPr id="270" name="Rectangle 239"/>
            <p:cNvSpPr/>
            <p:nvPr/>
          </p:nvSpPr>
          <p:spPr>
            <a:xfrm>
              <a:off x="6220800" y="4662360"/>
              <a:ext cx="745560" cy="2019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stellar"/>
              </a:endParaRPr>
            </a:p>
          </p:txBody>
        </p:sp>
        <p:sp>
          <p:nvSpPr>
            <p:cNvPr id="271" name="Freeform 240"/>
            <p:cNvSpPr/>
            <p:nvPr/>
          </p:nvSpPr>
          <p:spPr>
            <a:xfrm>
              <a:off x="5693400" y="5135760"/>
              <a:ext cx="86040" cy="86760"/>
            </a:xfrm>
            <a:custGeom>
              <a:avLst/>
              <a:gdLst>
                <a:gd name="textAreaLeft" fmla="*/ 0 w 86040"/>
                <a:gd name="textAreaRight" fmla="*/ 86400 w 86040"/>
                <a:gd name="textAreaTop" fmla="*/ 0 h 86760"/>
                <a:gd name="textAreaBottom" fmla="*/ 87120 h 86760"/>
              </a:gdLst>
              <a:ahLst/>
              <a:rect l="textAreaLeft" t="textAreaTop" r="textAreaRight" b="textAreaBottom"/>
              <a:pathLst>
                <a:path w="238" h="256">
                  <a:moveTo>
                    <a:pt x="110" y="0"/>
                  </a:moveTo>
                  <a:lnTo>
                    <a:pt x="238" y="247"/>
                  </a:lnTo>
                  <a:lnTo>
                    <a:pt x="0" y="256"/>
                  </a:lnTo>
                  <a:lnTo>
                    <a:pt x="110" y="0"/>
                  </a:lnTo>
                  <a:close/>
                </a:path>
              </a:pathLst>
            </a:custGeom>
            <a:noFill/>
            <a:ln w="0">
              <a:solidFill>
                <a:srgbClr val="ff0000"/>
              </a:solidFill>
            </a:ln>
          </p:spPr>
          <p:style>
            <a:lnRef idx="0"/>
            <a:fillRef idx="0"/>
            <a:effectRef idx="0"/>
            <a:fontRef idx="minor"/>
          </p:style>
          <p:txBody>
            <a:bodyPr lIns="90000" rIns="90000" tIns="40320" bIns="40320" anchor="t">
              <a:noAutofit/>
            </a:bodyPr>
            <a:p>
              <a:endParaRPr b="1" lang="en-US" sz="1800" spc="-1" strike="noStrike">
                <a:solidFill>
                  <a:srgbClr val="ffffff"/>
                </a:solidFill>
                <a:latin typeface="Castellar"/>
              </a:endParaRPr>
            </a:p>
          </p:txBody>
        </p:sp>
        <p:sp>
          <p:nvSpPr>
            <p:cNvPr id="272" name="Rectangle 241"/>
            <p:cNvSpPr/>
            <p:nvPr/>
          </p:nvSpPr>
          <p:spPr>
            <a:xfrm>
              <a:off x="5868000" y="5200200"/>
              <a:ext cx="337320" cy="1796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stellar"/>
              </a:endParaRPr>
            </a:p>
          </p:txBody>
        </p:sp>
      </p:grpSp>
      <p:pic>
        <p:nvPicPr>
          <p:cNvPr id="273" name="Picture 7" descr=""/>
          <p:cNvPicPr/>
          <p:nvPr/>
        </p:nvPicPr>
        <p:blipFill>
          <a:blip r:embed="rId24"/>
          <a:stretch/>
        </p:blipFill>
        <p:spPr>
          <a:xfrm>
            <a:off x="7596360" y="189000"/>
            <a:ext cx="1547640" cy="647640"/>
          </a:xfrm>
          <a:prstGeom prst="rect">
            <a:avLst/>
          </a:prstGeom>
          <a:ln w="0">
            <a:noFill/>
          </a:ln>
        </p:spPr>
      </p:pic>
      <p:pic>
        <p:nvPicPr>
          <p:cNvPr id="274" name="Picture 7" descr=""/>
          <p:cNvPicPr/>
          <p:nvPr/>
        </p:nvPicPr>
        <p:blipFill>
          <a:blip r:embed="rId25"/>
          <a:stretch/>
        </p:blipFill>
        <p:spPr>
          <a:xfrm>
            <a:off x="3286080" y="3929040"/>
            <a:ext cx="571680" cy="285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3 CuadroTexto"/>
          <p:cNvSpPr/>
          <p:nvPr/>
        </p:nvSpPr>
        <p:spPr>
          <a:xfrm>
            <a:off x="3059280" y="620640"/>
            <a:ext cx="3214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astellar"/>
              </a:rPr>
              <a:t>ESTRUCTURA DE CAPITAL</a:t>
            </a:r>
            <a:endParaRPr b="1" lang="en-US" sz="2000" spc="-1" strike="noStrike">
              <a:solidFill>
                <a:srgbClr val="ffffff"/>
              </a:solidFill>
              <a:latin typeface="Castellar"/>
            </a:endParaRPr>
          </a:p>
        </p:txBody>
      </p:sp>
      <p:sp>
        <p:nvSpPr>
          <p:cNvPr id="276" name="4 CuadroTexto"/>
          <p:cNvSpPr/>
          <p:nvPr/>
        </p:nvSpPr>
        <p:spPr>
          <a:xfrm>
            <a:off x="1258920" y="1916280"/>
            <a:ext cx="735804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La </a:t>
            </a:r>
            <a:r>
              <a:rPr b="1" lang="es-ES" sz="2000" spc="-1" strike="noStrike">
                <a:solidFill>
                  <a:srgbClr val="ffffff"/>
                </a:solidFill>
                <a:latin typeface="Book Antiqua"/>
              </a:rPr>
              <a:t>Global Materials Services Venezuela C.A </a:t>
            </a:r>
            <a:r>
              <a:rPr b="0" lang="es-ES" sz="2000" spc="-1" strike="noStrike">
                <a:solidFill>
                  <a:srgbClr val="ffffff"/>
                </a:solidFill>
                <a:latin typeface="Book Antiqua"/>
              </a:rPr>
              <a:t>le pertenece a 2 socios, los cuales bajo estipulaciones previamente acordadas hicieron la compra de las acciones en partes iguales. </a:t>
            </a:r>
            <a:endParaRPr b="1" lang="en-US" sz="2000" spc="-1" strike="noStrike">
              <a:solidFill>
                <a:srgbClr val="ffffff"/>
              </a:solidFill>
              <a:latin typeface="Castella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Cabe destacar, que las deudas generadas como estrategias de acondicionamiento y mejoras a las instalaciones son pagadas o amortizadas por los accionistas y acreedores del mismo. </a:t>
            </a:r>
            <a:endParaRPr b="1" lang="en-US" sz="2000" spc="-1" strike="noStrike">
              <a:solidFill>
                <a:srgbClr val="ffffff"/>
              </a:solidFill>
              <a:latin typeface="Castella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astellar"/>
            </a:endParaRPr>
          </a:p>
        </p:txBody>
      </p:sp>
      <p:pic>
        <p:nvPicPr>
          <p:cNvPr id="277" name="Picture 4" descr=""/>
          <p:cNvPicPr/>
          <p:nvPr/>
        </p:nvPicPr>
        <p:blipFill>
          <a:blip r:embed="rId1"/>
          <a:stretch/>
        </p:blipFill>
        <p:spPr>
          <a:xfrm>
            <a:off x="6877080" y="260280"/>
            <a:ext cx="2016000" cy="504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3 CuadroTexto"/>
          <p:cNvSpPr/>
          <p:nvPr/>
        </p:nvSpPr>
        <p:spPr>
          <a:xfrm>
            <a:off x="1692360" y="2276640"/>
            <a:ext cx="5616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astellar"/>
              </a:rPr>
              <a:t>Estados financieros Proyectados</a:t>
            </a:r>
            <a:endParaRPr b="1" lang="en-US" sz="3200" spc="-1" strike="noStrike">
              <a:solidFill>
                <a:srgbClr val="ffffff"/>
              </a:solidFill>
              <a:latin typeface="Castellar"/>
            </a:endParaRPr>
          </a:p>
        </p:txBody>
      </p:sp>
      <p:pic>
        <p:nvPicPr>
          <p:cNvPr id="279" name="Picture 7" descr=""/>
          <p:cNvPicPr/>
          <p:nvPr/>
        </p:nvPicPr>
        <p:blipFill>
          <a:blip r:embed="rId1"/>
          <a:stretch/>
        </p:blipFill>
        <p:spPr>
          <a:xfrm>
            <a:off x="6877080" y="189000"/>
            <a:ext cx="1942920" cy="485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3 CuadroTexto"/>
          <p:cNvSpPr/>
          <p:nvPr/>
        </p:nvSpPr>
        <p:spPr>
          <a:xfrm>
            <a:off x="2786040" y="428760"/>
            <a:ext cx="3286080" cy="64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ffcc"/>
                </a:solidFill>
                <a:uFillTx/>
                <a:latin typeface="Castellar"/>
                <a:ea typeface="Arial"/>
                <a:hlinkClick r:id="rId1"/>
              </a:rPr>
              <a:t>BALANCE GENERAL PROYECTADO </a:t>
            </a:r>
            <a:endParaRPr b="1" lang="en-US" sz="1600" spc="-1" strike="noStrike">
              <a:solidFill>
                <a:srgbClr val="ffffff"/>
              </a:solidFill>
              <a:latin typeface="Castella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ffcc"/>
                </a:solidFill>
                <a:uFillTx/>
                <a:latin typeface="Castellar"/>
                <a:ea typeface="Arial"/>
                <a:hlinkClick r:id="rId2"/>
              </a:rPr>
              <a:t>(Bs.F.)</a:t>
            </a:r>
            <a:endParaRPr b="1" lang="en-US" sz="1600" spc="-1" strike="noStrike">
              <a:solidFill>
                <a:srgbClr val="ffffff"/>
              </a:solidFill>
              <a:latin typeface="Castellar"/>
            </a:endParaRPr>
          </a:p>
        </p:txBody>
      </p:sp>
      <p:graphicFrame>
        <p:nvGraphicFramePr>
          <p:cNvPr id="281" name=""/>
          <p:cNvGraphicFramePr/>
          <p:nvPr/>
        </p:nvGraphicFramePr>
        <p:xfrm>
          <a:off x="1000080" y="1279440"/>
          <a:ext cx="7000920" cy="5435640"/>
        </p:xfrm>
        <a:graphic>
          <a:graphicData uri="http://schemas.openxmlformats.org/drawingml/2006/table">
            <a:tbl>
              <a:tblPr/>
              <a:tblGrid>
                <a:gridCol w="2938680"/>
                <a:gridCol w="1204920"/>
                <a:gridCol w="826920"/>
                <a:gridCol w="2030400"/>
              </a:tblGrid>
              <a:tr h="126360">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a:noFill/>
                    </a:lnL>
                    <a:lnR w="5760">
                      <a:solidFill>
                        <a:srgbClr val="000000"/>
                      </a:solidFill>
                    </a:lnR>
                    <a:lnT>
                      <a:noFill/>
                    </a:lnT>
                    <a:lnB w="5760">
                      <a:solidFill>
                        <a:srgbClr val="000000"/>
                      </a:solidFill>
                    </a:lnB>
                    <a:no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2007</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2008</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2009</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126360">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ACTIVO</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w="5760">
                      <a:solidFill>
                        <a:srgbClr val="000000"/>
                      </a:solidFill>
                    </a:lnT>
                    <a:lnB>
                      <a:noFill/>
                    </a:lnB>
                    <a:solidFill>
                      <a:srgbClr val="eaf1dd"/>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4.172.634</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w="5760">
                      <a:solidFill>
                        <a:srgbClr val="000000"/>
                      </a:solid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4.260.837</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w="5760">
                      <a:solidFill>
                        <a:srgbClr val="000000"/>
                      </a:solid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4.612.068</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w="5760">
                      <a:solidFill>
                        <a:srgbClr val="000000"/>
                      </a:solidFill>
                    </a:lnT>
                    <a:lnB>
                      <a:noFill/>
                    </a:lnB>
                    <a:solidFill>
                      <a:srgbClr val="f2f2f2"/>
                    </a:solidFill>
                  </a:tcPr>
                </a:tc>
              </a:tr>
              <a:tr h="126360">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eaf1dd"/>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r>
              <a:tr h="126360">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ACTIVO CIRCULANTE</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eaf1dd"/>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29.227</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135.212</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148.052</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r>
              <a:tr h="126360">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eaf1dd"/>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r>
              <a:tr h="126360">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r>
                        <a:rPr b="0" lang="es-ES_tradnl" sz="800" spc="-1" strike="noStrike">
                          <a:solidFill>
                            <a:srgbClr val="000000"/>
                          </a:solidFill>
                          <a:latin typeface="Arial"/>
                        </a:rPr>
                        <a:t>CAJA Y BANCO</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eaf1dd"/>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74.984</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8.145</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7.985</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r>
              <a:tr h="126360">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r>
                        <a:rPr b="0" lang="es-ES_tradnl" sz="800" spc="-1" strike="noStrike">
                          <a:solidFill>
                            <a:srgbClr val="000000"/>
                          </a:solidFill>
                          <a:latin typeface="Arial"/>
                        </a:rPr>
                        <a:t>CUENTAS POR COBRAR</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eaf1dd"/>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85.879</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44.321</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57.321</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r>
              <a:tr h="126360">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r>
                        <a:rPr b="0" lang="es-ES_tradnl" sz="800" spc="-1" strike="noStrike">
                          <a:solidFill>
                            <a:srgbClr val="000000"/>
                          </a:solidFill>
                          <a:latin typeface="Arial"/>
                        </a:rPr>
                        <a:t>-CLIENTES</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eaf1dd"/>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36.145</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2.336</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32.336</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r>
              <a:tr h="126360">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r>
                        <a:rPr b="0" lang="es-ES_tradnl" sz="800" spc="-1" strike="noStrike">
                          <a:solidFill>
                            <a:srgbClr val="000000"/>
                          </a:solidFill>
                          <a:latin typeface="Arial"/>
                        </a:rPr>
                        <a:t>-OTRAS POR COBRAR</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eaf1dd"/>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1.634</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1.985</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2.145</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r>
              <a:tr h="126360">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r>
                        <a:rPr b="0" lang="es-ES_tradnl" sz="800" spc="-1" strike="noStrike">
                          <a:solidFill>
                            <a:srgbClr val="000000"/>
                          </a:solidFill>
                          <a:latin typeface="Arial"/>
                        </a:rPr>
                        <a:t>INVENTARIOS</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eaf1dd"/>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68.364</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82.746</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82.746</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r>
              <a:tr h="126360">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eaf1dd"/>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r>
              <a:tr h="126360">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ACTIVO NO CIRCULANTE</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eaf1dd"/>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3.852.406</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4.678.018</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4.686.018</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r>
              <a:tr h="126360">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eaf1dd"/>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r>
              <a:tr h="126360">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r>
                        <a:rPr b="0" lang="es-ES_tradnl" sz="800" spc="-1" strike="noStrike">
                          <a:solidFill>
                            <a:srgbClr val="000000"/>
                          </a:solidFill>
                          <a:latin typeface="Arial"/>
                        </a:rPr>
                        <a:t>ACTIVO FIJO BRUTO</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eaf1dd"/>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1.354.976</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616.369</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616.369</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r>
              <a:tr h="126360">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r>
                        <a:rPr b="0" lang="es-ES_tradnl" sz="800" spc="-1" strike="noStrike">
                          <a:solidFill>
                            <a:srgbClr val="000000"/>
                          </a:solidFill>
                          <a:latin typeface="Arial"/>
                        </a:rPr>
                        <a:t>DEPRECIACION</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eaf1dd"/>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16.154</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43.563</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343.563</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r>
              <a:tr h="126360">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r>
                        <a:rPr b="0" lang="es-ES_tradnl" sz="800" spc="-1" strike="noStrike">
                          <a:solidFill>
                            <a:srgbClr val="000000"/>
                          </a:solidFill>
                          <a:latin typeface="Arial"/>
                        </a:rPr>
                        <a:t>OBRAS EN PROCESO</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eaf1dd"/>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648.795</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217.251</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377.251</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r>
              <a:tr h="126360">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r>
                        <a:rPr b="0" lang="es-ES_tradnl" sz="800" spc="-1" strike="noStrike">
                          <a:solidFill>
                            <a:srgbClr val="000000"/>
                          </a:solidFill>
                          <a:latin typeface="Arial"/>
                        </a:rPr>
                        <a:t>CARGOS DIFERIDOS</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eaf1dd"/>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0</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0</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0</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r>
              <a:tr h="126360">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r>
                        <a:rPr b="0" lang="es-ES_tradnl" sz="800" spc="-1" strike="noStrike">
                          <a:solidFill>
                            <a:srgbClr val="000000"/>
                          </a:solidFill>
                          <a:latin typeface="Arial"/>
                        </a:rPr>
                        <a:t>OTROS ACTIVOS</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eaf1dd"/>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64.789</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87.961</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35.961</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r>
              <a:tr h="126360">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eaf1dd"/>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r>
              <a:tr h="126360">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PASIVO</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eaf1dd"/>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1.277.835</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982.791</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742.791</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r>
              <a:tr h="126360">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eaf1dd"/>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r>
              <a:tr h="126360">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PASIVO CIRCULANTE</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eaf1dd"/>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167.517</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162.839</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142.839</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r>
              <a:tr h="126360">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eaf1dd"/>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r>
              <a:tr h="126360">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r>
                        <a:rPr b="0" lang="es-ES_tradnl" sz="800" spc="-1" strike="noStrike">
                          <a:solidFill>
                            <a:srgbClr val="000000"/>
                          </a:solidFill>
                          <a:latin typeface="Arial"/>
                        </a:rPr>
                        <a:t>PRESTAMOS A CORO PLAZO</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eaf1dd"/>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0</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0</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0</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r>
              <a:tr h="126360">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r>
                        <a:rPr b="0" lang="es-ES_tradnl" sz="800" spc="-1" strike="noStrike">
                          <a:solidFill>
                            <a:srgbClr val="000000"/>
                          </a:solidFill>
                          <a:latin typeface="Arial"/>
                        </a:rPr>
                        <a:t>CUENTAS Y EFECTOS POR PAGAR</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eaf1dd"/>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87.364</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60.075</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70.075</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r>
              <a:tr h="126360">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r>
                        <a:rPr b="0" lang="es-ES_tradnl" sz="800" spc="-1" strike="noStrike">
                          <a:solidFill>
                            <a:srgbClr val="000000"/>
                          </a:solidFill>
                          <a:latin typeface="Arial"/>
                        </a:rPr>
                        <a:t>GASTOS ACUMULADOS POR PAGAR</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eaf1dd"/>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45.789</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57.156</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47.156</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r>
              <a:tr h="126360">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r>
                        <a:rPr b="0" lang="es-ES_tradnl" sz="800" spc="-1" strike="noStrike">
                          <a:solidFill>
                            <a:srgbClr val="000000"/>
                          </a:solidFill>
                          <a:latin typeface="Arial"/>
                        </a:rPr>
                        <a:t>PORCION CIRC. DEUDA L.P</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eaf1dd"/>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34.364</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45.608</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5.608</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r>
              <a:tr h="126360">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eaf1dd"/>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r>
              <a:tr h="126360">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PASIVO LARGO PLAZO</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eaf1dd"/>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1.110.318</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819.952</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599.952</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r>
              <a:tr h="126360">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eaf1dd"/>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r>
              <a:tr h="126360">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r>
                        <a:rPr b="0" lang="es-ES_tradnl" sz="800" spc="-1" strike="noStrike">
                          <a:solidFill>
                            <a:srgbClr val="000000"/>
                          </a:solidFill>
                          <a:latin typeface="Arial"/>
                        </a:rPr>
                        <a:t>RESERVA PREST. SOCIALES</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eaf1dd"/>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74.161</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87.926</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67.926</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r>
              <a:tr h="126360">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r>
                        <a:rPr b="0" lang="es-ES_tradnl" sz="800" spc="-1" strike="noStrike">
                          <a:solidFill>
                            <a:srgbClr val="000000"/>
                          </a:solidFill>
                          <a:latin typeface="Arial"/>
                        </a:rPr>
                        <a:t>DEUDA LARGO PLAZO</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eaf1dd"/>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976.542</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683.727</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483.727</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r>
              <a:tr h="126360">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r>
                        <a:rPr b="0" lang="es-ES_tradnl" sz="800" spc="-1" strike="noStrike">
                          <a:solidFill>
                            <a:srgbClr val="000000"/>
                          </a:solidFill>
                          <a:latin typeface="Arial"/>
                        </a:rPr>
                        <a:t>OTROS PASIVOS LARGO PLAZO</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eaf1dd"/>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59.615</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48.299</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48.299</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r>
              <a:tr h="126360">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eaf1dd"/>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r>
              <a:tr h="126360">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PATRIMONIO</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eaf1dd"/>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894.799</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3.278.046</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3.869.277</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r>
              <a:tr h="126360">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eaf1dd"/>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r>
              <a:tr h="126360">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r>
                        <a:rPr b="0" lang="es-ES_tradnl" sz="800" spc="-1" strike="noStrike">
                          <a:solidFill>
                            <a:srgbClr val="000000"/>
                          </a:solidFill>
                          <a:latin typeface="Arial"/>
                        </a:rPr>
                        <a:t>CAPITAL SOCIAL</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eaf1dd"/>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1.784.654</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130.889</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874.889</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r>
              <a:tr h="126360">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r>
                        <a:rPr b="0" lang="es-ES_tradnl" sz="800" spc="-1" strike="noStrike">
                          <a:solidFill>
                            <a:srgbClr val="000000"/>
                          </a:solidFill>
                          <a:latin typeface="Arial"/>
                        </a:rPr>
                        <a:t>RESERVAS</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eaf1dd"/>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540.642</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466.083</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345.083</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r>
              <a:tr h="126360">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r>
                        <a:rPr b="0" lang="es-ES_tradnl" sz="800" spc="-1" strike="noStrike">
                          <a:solidFill>
                            <a:srgbClr val="000000"/>
                          </a:solidFill>
                          <a:latin typeface="Arial"/>
                        </a:rPr>
                        <a:t>SUP(DEFICIT) ACUM. AÑOS ANTER.</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eaf1dd"/>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32.421</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9.860</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9.860</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r>
              <a:tr h="126360">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r>
                        <a:rPr b="0" lang="es-ES_tradnl" sz="800" spc="-1" strike="noStrike">
                          <a:solidFill>
                            <a:srgbClr val="000000"/>
                          </a:solidFill>
                          <a:latin typeface="Arial"/>
                        </a:rPr>
                        <a:t>SUPERAVIT POR REV./ TENENCIA ACTIV</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eaf1dd"/>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8.531</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691</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551</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r>
              <a:tr h="126360">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r>
                        <a:rPr b="0" lang="es-ES_tradnl" sz="800" spc="-1" strike="noStrike">
                          <a:solidFill>
                            <a:srgbClr val="000000"/>
                          </a:solidFill>
                          <a:latin typeface="Arial"/>
                        </a:rPr>
                        <a:t>UTILIDAD ACUMULADA EN EJERCICIO</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eaf1dd"/>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610.455</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713.625</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681.716</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a:noFill/>
                    </a:lnB>
                    <a:solidFill>
                      <a:srgbClr val="f2f2f2"/>
                    </a:solidFill>
                  </a:tcPr>
                </a:tc>
              </a:tr>
              <a:tr h="126360">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w="5760">
                      <a:solidFill>
                        <a:srgbClr val="000000"/>
                      </a:solidFill>
                    </a:lnB>
                    <a:solidFill>
                      <a:srgbClr val="eaf1dd"/>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w="5760">
                      <a:solidFill>
                        <a:srgbClr val="000000"/>
                      </a:solidFill>
                    </a:lnB>
                    <a:solidFill>
                      <a:srgbClr val="f2f2f2"/>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w="5760">
                      <a:solidFill>
                        <a:srgbClr val="000000"/>
                      </a:solidFill>
                    </a:lnB>
                    <a:solidFill>
                      <a:srgbClr val="f2f2f2"/>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a:noFill/>
                    </a:lnT>
                    <a:lnB w="5760">
                      <a:solidFill>
                        <a:srgbClr val="000000"/>
                      </a:solidFill>
                    </a:lnB>
                    <a:solidFill>
                      <a:srgbClr val="f2f2f2"/>
                    </a:solidFill>
                  </a:tcPr>
                </a:tc>
              </a:tr>
              <a:tr h="126360">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PASIVO Y PATRIMONIO</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w="5760">
                      <a:solidFill>
                        <a:srgbClr val="000000"/>
                      </a:solidFill>
                    </a:lnT>
                    <a:lnB w="5760">
                      <a:solidFill>
                        <a:srgbClr val="000000"/>
                      </a:solidFill>
                    </a:lnB>
                    <a:solidFill>
                      <a:srgbClr val="8db4e3"/>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4.172.634</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w="5760">
                      <a:solidFill>
                        <a:srgbClr val="000000"/>
                      </a:solidFill>
                    </a:lnT>
                    <a:lnB w="5760">
                      <a:solidFill>
                        <a:srgbClr val="000000"/>
                      </a:solidFill>
                    </a:lnB>
                    <a:solidFill>
                      <a:srgbClr val="8db4e3"/>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4.260.837</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w="5760">
                      <a:solidFill>
                        <a:srgbClr val="000000"/>
                      </a:solidFill>
                    </a:lnT>
                    <a:lnB w="5760">
                      <a:solidFill>
                        <a:srgbClr val="000000"/>
                      </a:solidFill>
                    </a:lnB>
                    <a:solidFill>
                      <a:srgbClr val="8db4e3"/>
                    </a:solidFill>
                  </a:tcPr>
                </a:tc>
                <a:tc>
                  <a:txBody>
                    <a:bodyPr lIns="4320" rIns="432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4.612.068</a:t>
                      </a:r>
                      <a:endParaRPr b="1" lang="en-US" sz="800" spc="-1" strike="noStrike">
                        <a:solidFill>
                          <a:srgbClr val="ffffff"/>
                        </a:solidFill>
                        <a:latin typeface="Castellar"/>
                      </a:endParaRPr>
                    </a:p>
                  </a:txBody>
                  <a:tcPr anchor="b" marL="4320" marR="4320">
                    <a:lnL w="5760">
                      <a:solidFill>
                        <a:srgbClr val="000000"/>
                      </a:solidFill>
                    </a:lnL>
                    <a:lnR w="5760">
                      <a:solidFill>
                        <a:srgbClr val="000000"/>
                      </a:solidFill>
                    </a:lnR>
                    <a:lnT w="5760">
                      <a:solidFill>
                        <a:srgbClr val="000000"/>
                      </a:solidFill>
                    </a:lnT>
                    <a:lnB w="5760">
                      <a:solidFill>
                        <a:srgbClr val="000000"/>
                      </a:solidFill>
                    </a:lnB>
                    <a:solidFill>
                      <a:srgbClr val="8db4e3"/>
                    </a:solidFill>
                  </a:tcPr>
                </a:tc>
              </a:tr>
            </a:tbl>
          </a:graphicData>
        </a:graphic>
      </p:graphicFrame>
      <p:pic>
        <p:nvPicPr>
          <p:cNvPr id="282" name="Picture 191" descr=""/>
          <p:cNvPicPr/>
          <p:nvPr/>
        </p:nvPicPr>
        <p:blipFill>
          <a:blip r:embed="rId3"/>
          <a:stretch/>
        </p:blipFill>
        <p:spPr>
          <a:xfrm>
            <a:off x="6877080" y="189000"/>
            <a:ext cx="1942920" cy="485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08:53:56Z</dcterms:created>
  <dc:creator>GRUPO</dc:creator>
  <dc:description/>
  <cp:keywords>INGENIERÍA FINANCIERA</cp:keywords>
  <dc:language>en-US</dc:language>
  <cp:lastModifiedBy>Ivan Turmero</cp:lastModifiedBy>
  <dcterms:modified xsi:type="dcterms:W3CDTF">2016-12-14T15:15:03Z</dcterms:modified>
  <cp:revision>34</cp:revision>
  <dc:subject/>
  <dc:title>DII</dc:title>
</cp:coreProperties>
</file>