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rebuchet MS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0F7-8E94-4898-B48D-B52AADB552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69E9-C9F0-461C-BD57-000A1CF3F4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907-CA74-4631-A0CB-4ED6452094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48EA-5EC5-4556-AE27-81318684C0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FFEC-70B1-47D0-A914-A9B671ED79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EF8-5BD4-4CC5-860A-5B8792B6EA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7323-8539-4446-BA0A-3AB439CA27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27C5-DAB9-4FEC-A88C-A5FDF0FE55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C49B-AF50-4050-A994-4DE545F4C9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28AB-81C9-4378-960C-2ED249141A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3761-4206-45C9-B100-95CA181057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B12-0D86-437B-9214-532FADF243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08D-6191-4FE0-95D7-7FB390B002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C1C9-E699-4F18-90BD-E0FD0BD89E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C53-A271-47AA-8FB9-342ED509C2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2FC-FB6F-41A8-AD6E-321B4D2DA1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A8D-FE5D-4E10-96AB-2456815843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B4AB-3C30-4B53-9B2E-C6ACE76501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90C-1EB4-48ED-9444-4A1534FE83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8A7B-CF25-4961-9952-CF9EE2CD86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910D-68F3-4BB5-9F58-BBD2F2963A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6C1-5CA6-40D6-8143-85D6BB164B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1E3-B180-47EA-859B-DB8D2BF430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1F43-6189-4265-A3E4-0113C92747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9D3-179B-4504-A603-C558DFC188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C7F6-05A0-4B4F-B66E-742776D7F1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6E1C-4960-4043-83DE-520E636EA0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AFCC-5D5B-4A6B-BBDD-BE7CBCC47E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1CC-AE24-4847-80D3-9B7284A2A2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907-B915-4297-8CD3-D071842A5E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2FE-79D8-4C2E-9B39-483AD99653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AEF-D3C3-477E-A7FA-243963F9AC07}" type="slidenum"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06F6-CD23-4BF4-88C1-49F02318E1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8A66-B6B6-43E4-BB2C-2F589B6A22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554B-EDCB-4B92-BE25-19DC770993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57CA-F960-4C18-8649-76BF34FC2B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FA1-B3A3-43EE-9E5D-3255D6F89A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467A-DB39-481F-B4B8-794F310914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BD36-4A88-4745-9025-69FC74180C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BCA1-361F-42F0-BD3B-8E912620B9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989B-52F1-40B1-93A2-C8FE859E38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0FE1-EF5F-49BC-8820-2434ED57AF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530-8993-481F-B9CA-EA878412D4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A611-50F2-44A7-A140-11CDF84E43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A83-9294-49F1-8923-456B7DC9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C76-1B79-43FC-A89E-F00CF7ED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F8A90-D61B-485F-A21F-4F60AE79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0F0DF-EA92-4AC4-9A26-D6446AD6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5FA3D-F4DC-41B0-81FC-143621FF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6AC9F-DD17-4B8C-B535-45EEA371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DF290-EB4B-4237-8A14-1851762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23AA-5021-439D-8D2E-7B8EEE9E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498CE-929F-45EA-8E7A-6C329BF2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52D0A-A71F-4FC2-ACAF-FF66EE77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55A1B-B30A-48D3-B46E-8C8A42BE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141EE-C196-4C37-A85A-6BF8B24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2DC-5F6C-4711-8942-3C8DE60F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A0851-96BF-4869-94B9-740A64F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65098-FB97-4046-BE1B-BD20C4F3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53BCE-7972-4F63-805C-A4EF0A0A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3FABB-5541-46BF-9A90-B97BB417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CB4F9-8421-458A-B4D5-9715854A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9CC95-6116-43D1-A703-B744102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D405F-1A1A-4E39-B141-FB0F35E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851CF-7F20-4123-86A3-FFBD525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7C7F8-F368-4D79-896A-13CC8CAE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3D422-5814-4F4F-890A-12C8114E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176-2AD9-4AA5-A75A-358847F7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45094-5C3F-4ABE-879C-143D91FD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8C7DF-79C2-4410-95EE-46571A3E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C453A-C33C-49D8-847D-7DB75FDD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1A718-A542-43C0-9F65-CEE7540C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D116-C4DD-42C7-904E-3B6C885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A5FDB-E733-4D7B-9294-58C4E5C9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9BB02-6631-40BA-B8AA-4A85A898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2AC5A-D0ED-4E00-965A-406C60A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4C0C0-D16F-4935-81C1-411321E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1B376-27CD-4373-A2A8-05D3BBDF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0F9D-44BB-4C4B-B115-993FB690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4062C-130D-4BE3-A684-CC083A21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8C47B-EC69-47F2-9713-B25B389A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77FCF-6086-469E-AD4B-2D043F51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91451-A61A-4BDB-92BB-6282F1BD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0A1A1-06DD-497F-B605-719539C3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8278B-C942-4879-9D67-2D72506B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B340C-2447-4F41-B13A-A0B5E769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07707-E8E4-4CFE-BE41-CBDCD07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DF4D1-7803-4877-BDF5-DF0FEDDC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C0BDB-FA47-44A2-A3DA-B951076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E416-2630-4E50-B54C-05D9E00F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A2987-0658-48CF-A7CD-65434AF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EB246-14A9-460E-9C56-18985E8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5F44-F086-47A7-9D4C-7EE8A04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C43A1-1AB4-4509-8F9E-EC9ED96A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D77CB-A5A7-4F88-B096-F529CE39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A3D9-593E-4BEF-8048-3ABD37DC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3F40-BF99-4FBC-BD06-16F78CD7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9429-7321-469F-BE10-5530BC9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170C-B58D-4FCA-B58D-BEC0BB5D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1D6-CAEF-46AD-B03A-5B223B7D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F92-5CC2-4A2E-A27C-06C3ADAD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1AFE-A304-4771-979A-62F0A04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C54-66A3-4F12-85B0-463B5FD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5679-7267-42A9-AC4A-C7C140B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224-F311-4371-8A6E-EC4A7D9D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95B2-F769-48E6-BF3A-5FF21750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1ADA-9A8E-468E-A21C-5CF9936C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364A-E575-4475-B61F-1CAF6385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6BCB4-E37F-45DF-99ED-234CB33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9B83-3A97-4B00-A8FE-4396714B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E8DD-B77C-42E9-84D1-C20845F9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AFA-B138-4885-BFA0-7362AFDA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B9AC-545A-4208-B6D1-39E6B5CF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B7DD-C823-45B4-827D-E113174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ED9C-97E8-4EFF-86D2-B0A613D6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8CF1-3EB6-408D-94A2-19A9E9A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7CA8-8162-4AA3-BEE3-AA25C071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174E-59D5-4675-B911-263BF3F6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4EC4-E364-457E-9461-1B8BFFC8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9E67-DF9C-4CA5-9EEC-0E2FB7C8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1814-D01C-437B-A496-29CECCB1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2157-781E-4C61-B15F-0C27389F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914-FE3D-4BD1-B697-0E04C567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82DE-0DF3-455C-8B45-377EB20A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500F4-2F63-4381-906E-7633F62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1248B-3A26-4882-831D-E89490D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1433-4BB4-42A1-86EC-D789138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3226-1EC8-4C16-9AE1-C61D37E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199F-6C62-4D21-AD3A-FDDA1C9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0BAF-A4DA-44DD-9F9A-40563A17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8FB55-294F-4600-B87F-3C7DE6CE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7D3E-13CA-4B78-8E7C-1BAF3C88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ADE20-9A97-42E2-ADF7-CF293444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C2E-015F-4876-B82D-76EB73F8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2FA56-86CC-4D3F-8737-FC83B471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B172-02A9-4766-BF45-0F7D8FED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96D2-19B6-4357-B2FE-A0895CC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BD78-E316-496B-83CE-603B63C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AC31-E197-4E0E-AEAB-DB0C021A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069FA-4A83-461F-9CD7-A3FB034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5F7A-075B-45CC-A2AB-FCA5925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601B-36FC-42CB-9681-FD754B46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C472-E07D-498B-9CE8-01327607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4971-DFBD-4AD8-A14C-2AF4725B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3A7-C8F8-45F6-8249-BDA0A2F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8392D-02BA-4E39-BD86-5813D620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ED689-C4F0-4A4F-B45A-76D0DFAE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9811-0460-4B77-9A55-9FE4CD8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34DB1-9244-4975-BC76-B053EDA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1DA6-90FF-47D3-8B50-9D87EF2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058F-DC41-49F2-9CF1-A7B78DB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E6BF0-762E-4B02-9AE6-5323F0C8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57930-87BD-41E1-A477-A4E5E89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5E20-536A-47EC-B40E-F45D07B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D296-105D-4D8A-9511-EF46200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673-6765-4396-86D5-A135B41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C7F3D-AD79-4414-86F6-B616EA81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F68A-A3D9-4FCF-A4A4-2EA4F52D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AFED-F6A0-47CE-8EDA-0DD45DA5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75F5-4728-4AB3-957E-49960885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1C255-0868-4CD8-BA9D-1614570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BF59-45D3-4614-B903-48999E59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D043-0BC8-482E-8ABB-948BCD6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3ED6-2CE8-4D05-884C-53AD9D7F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B5B0E-9C9E-455B-9DF5-A99CC231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FD24-CEA6-484B-A3DC-4592BBF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B04-2921-48BF-A8A4-91A75FC8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052D5-39DF-40A0-8E2E-E27422E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8FE7-6424-4ECA-B185-38E6B1A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A50E-1242-4995-BB45-ED905533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EE2C-E0A2-48AC-8CFB-EE96EF55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12B8-9D5B-4BD1-8B95-C3B2859B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71F9-F52E-4C65-93ED-D3CBF81E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C271A-5493-451E-8B1F-6959D2F6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F4E4-7D40-4D88-9117-9057FA5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B0428-E41D-474A-973F-ABD2E62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ACB4-2E75-4010-B576-958F5593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D88-930F-4ACD-8D00-458D093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1A923-337D-4183-9F30-4A4F0D9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AFAAE-814D-41A0-A141-11004295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C361-8668-464D-92FE-FC3B409E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C30BF-8682-4696-AAD4-A11A423D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F23FF-BAE1-4C0B-9F9F-6FB44F81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EEA7-BE0D-4675-BB7A-F962055C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7187A-6A7B-44AD-9424-C6869E1A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FA972-01E9-491F-961A-C3345CC8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9832-B1C4-4CFC-B525-6D00633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39C1C-70AC-468B-A41B-0205D273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4A3E-59B4-4E24-87C9-FDFD66FD5B12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4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5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6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7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1987-CE98-4945-93E4-D0FBA1E8C8DC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F14C-857B-4DD4-B8A6-1D8C60FF57BD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2BCA-97E0-41B1-9497-0130E395D74A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FE6E-AF2D-443A-A745-ACF36AE962C1}" type="slidenum">
              <a:rPr b="0" lang="es-ES" sz="1200" spc="-1" strike="noStrike">
                <a:solidFill>
                  <a:srgbClr val="d1eaee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3114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71560" y="6357960"/>
            <a:ext cx="51433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CF58-0349-4015-B78C-CB8661C9DD66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AD3C-8D4C-40BF-87AB-08E2D028C22E}" type="slidenum">
              <a:rPr b="0" lang="es-ES" sz="1200" spc="-1" strike="noStrike">
                <a:solidFill>
                  <a:srgbClr val="d1eaee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CEEF-2411-4AC1-8667-9808516F3615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E7C-B4C9-44C4-9D29-66AD3D0ED79E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4E22-4A8E-4271-951D-BE28A1CAD767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084-9370-4EF7-900A-F39D4CF1B141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rebuchet MS"/>
              </a:rPr>
              <a:t>Zaragoza. 13 de Noviembre d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Trebuchet MS"/>
              </a:rPr>
              <a:t>Máquinas recreativas, emuladores y MAME. Miguel Ángel Horna (ElSe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82CA-DBA1-4585-834F-23592B73A3C4}" type="slidenum">
              <a:rPr b="0" lang="es-ES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eep-project.eu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ystem16.com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1 Título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519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Estructura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760" y="17856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rontend (MAME: OSD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Dependiente del sistema operativo, facilita la portabilida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Cargar las ROMs a memori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Acceso a video y sonid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eer contro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Librería de dispositivos (MAME: Core):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rocesado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Chips de soni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Chips de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Emulación de máquinas/sistemas (MAME/MESS: Drivers)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Instanciar dispositivos de la librerí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Asociar mapas de memoria al emulador del procesad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Conectar chips de la librería (sonido, gráficos) al procesad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Implementar e interconectar los chips específicos al sistem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Ejecución de procesadores (timesli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cesador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28760" y="171468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Identificar el procesador (o procesadores) de la plac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onocimiento del lenguaje máquina del procesado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esensamblado de ROMs de programa (DataRescue ID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MAME core: Decenas de emulaciones de procesadores testeadas y funcion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istemas de juegos años 90, lo normal: 68000+Z8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ecenas de emuladores de 68k y Z80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cesador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2876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jecutar el programa original (Z80, 68k) sobre un procesador diferente (x86, PowerPC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mulación aproximadamente un 10% de la velocidad original: Emular 10Mhz requiere 100Mhz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l núcleo del emulador (core). Debe funcionar 100% igual que el original (incluyendo errores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MAME core: Decenas de emulaciones de procesadores testeadas y funcion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istemas de juegos años 90, lo normal: 68000+Z8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ecenas de emuladores de 68000 y Z80 libres. Gran cantidad de documentación para hacer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cesador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28760" y="171468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A veces no existe un core ya hecho para el procesado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scribirlo usando los manuales de programación y hardware. Problem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uede que ya no estén disponibles para descarga. Internet Archive (Manuales de HW Video Model 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totipos o procesadores “clasificados”. Ingeniería Inversa (TGP de model 2/2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n japonés (TGPx4 de model 2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ebe funcionar exactamente igual que el original. Pequeños errores causan fallos difíciles de encontra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cesador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00040" y="171468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gistros -&gt; Struct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emoria -&gt; Array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El emulador lee una instrucción y ejecuta las acciones sobre registros y memoria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L/E a memoria (mapa de memoria)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OM: Devuelve de un array con el contenido leído de las ROM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AM: Lee/Escribe a array de dato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ispositivos: Ejecuta función del emulador. Parámetros: Dirección a leer/escribir y valor a escribir (o devuelve valor leído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nterrupciones. Prioridad, colas,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Optimización: Generadores de código, Threaded code, Recompilación dinámi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cesador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Verificación en el Hardware = Correr código en la placa y comparar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642960" y="297648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557" name="5 Imagen" descr="DSCN9190"/>
          <p:cNvPicPr/>
          <p:nvPr/>
        </p:nvPicPr>
        <p:blipFill>
          <a:blip r:embed="rId2"/>
          <a:stretch/>
        </p:blipFill>
        <p:spPr>
          <a:xfrm>
            <a:off x="3357720" y="29764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558" name="6 Imagen" descr="DSCN9200"/>
          <p:cNvPicPr/>
          <p:nvPr/>
        </p:nvPicPr>
        <p:blipFill>
          <a:blip r:embed="rId3"/>
          <a:stretch/>
        </p:blipFill>
        <p:spPr>
          <a:xfrm>
            <a:off x="6000840" y="2976480"/>
            <a:ext cx="2609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Mapa de memoria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28760" y="185688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¿Que hay en cada rango de memoria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RAM, R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Registros de vídeo, RAM de vídeo, tilemaps, sprites, display l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Registros de soni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uertos de E/S (Control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rotecció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Test de memoria del menú de servicio, da pistas sobre qué hay en cada área (a veces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1285920" y="4357800"/>
            <a:ext cx="3071880" cy="2139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4786200" y="4143240"/>
            <a:ext cx="27860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28760" y="17146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Hardware sistemas 2D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Framebuff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Tilemaps + Spri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Framebuff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ibujar toda la pantalla cada frame pixel a pix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cesadores lentos=Haría falta un procesador dedicado a dibujar (existen sistemas así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Blitters (DMAs de ROM/RAM a Framebuffer con efecto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Tilemap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856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ibujado por hardware, 0% de CP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osaico de NxN piezas de MxM Pixel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iezas (Tiles) en ROM o RA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Área de memoria con las casill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ada casilla, índice a tile + paleta de colo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Gráficos limitados a los tiles existen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osaico mas grande que la pantalla. Scroll H/V cambiando un registro. Movimiento “gratis” para la CP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os forma de emularl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ibujar al framebuffer todo el tilemap cada fram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rga en textura y usar GPU para scroll, y mezcla. También “gratis” para el emulador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Tilemap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aracterísticas avanzad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ioridad mezclada con los spri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inescroll, Columnscrol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O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Modificaciones por interrupciones ras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Emuladore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jecutar el programa original sobre hardware diferente. Normalmente sin acceso al fuente origin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ara ello, simular el funcionamiento del Hardware por Softwa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ero existe multitud de hardware actual (y futuro) donde queremos que funcione. Portabi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royecto KEEP (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Keeping Emulation Environments Portable)</a:t>
            </a: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600" spc="-1" strike="noStrike" u="sng">
                <a:solidFill>
                  <a:srgbClr val="e2d700"/>
                </a:solidFill>
                <a:uFillTx/>
                <a:latin typeface="Trebuchet MS"/>
                <a:hlinkClick r:id="rId1"/>
              </a:rPr>
              <a:t>http://www.keep-project.e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Sprite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isplay List: Lista de índices en RAM o ROM + Paleta + posició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ada sprite, uno o mas ti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rioridad, intercalación entre tilemap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ara emularlo, recorrer la display list y dibujar tiles al framebuff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También precargar como texturas y dibujar quads, (sobre sistemas con 3D potente pero poco procesador (PSP)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PS1/CPS2: 3 Tilemaps (32x32,16x16,8x8 orden programable) + Spr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NeoGeo: 1 Tilemap (8x8, fijo) + Spr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GM: 2 Tilemaps (8x8,16x16 orden fijo) + Spri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rystal System: Blit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Model2: 2 Tilemaps (8x8 orden programable) + 3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lmacenamiento en ROM, una pesadill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divinar buscando gráficos conocidos (letras, número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ada fabricante su sistem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PS1/2: Bit interleaved en 4 roms. 1 bit de cada rom=pixel de 4bpp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eoGeo: Byte interleaved en 2 roms. Bloques de 4 bytes, 1 bit de cada byte en el bloque=4bp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PGM: rom máscaras de pixels visibles + rom de colores (solo los visibles) empaquetados a 5bpp: 6 pixels en 32 bits (2 no usado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PS3: Tablas de sustitución de patrones de 2 bytes + compresión RLE. Fue un milagr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76" name="Picture 3" descr="C:\Documents and Settings\Miguel Angel.MUY-C6XF9BFXXAS\Mis documentos\Mis imágenes\kk.PNG"/>
          <p:cNvPicPr/>
          <p:nvPr/>
        </p:nvPicPr>
        <p:blipFill>
          <a:blip r:embed="rId1"/>
          <a:stretch/>
        </p:blipFill>
        <p:spPr>
          <a:xfrm>
            <a:off x="428760" y="2428920"/>
            <a:ext cx="4000320" cy="27860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C:\Documents and Settings\Miguel Angel.MUY-C6XF9BFXXAS\Mis documentos\Mis imágenes\jojotst.png"/>
          <p:cNvPicPr/>
          <p:nvPr/>
        </p:nvPicPr>
        <p:blipFill>
          <a:blip r:embed="rId2"/>
          <a:stretch/>
        </p:blipFill>
        <p:spPr>
          <a:xfrm>
            <a:off x="4572000" y="2428920"/>
            <a:ext cx="4000680" cy="2786040"/>
          </a:xfrm>
          <a:prstGeom prst="rect">
            <a:avLst/>
          </a:prstGeom>
          <a:ln w="0">
            <a:noFill/>
          </a:ln>
        </p:spPr>
      </p:pic>
      <p:sp>
        <p:nvSpPr>
          <p:cNvPr id="578" name="6 CuadroTexto"/>
          <p:cNvSpPr/>
          <p:nvPr/>
        </p:nvSpPr>
        <p:spPr>
          <a:xfrm>
            <a:off x="3402360" y="5357880"/>
            <a:ext cx="19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Tilemap Texto (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80" name="Picture 6" descr="C:\Documents and Settings\Miguel Angel.MUY-C6XF9BFXXAS\Mis documentos\Mis imágenes\jojo1.png"/>
          <p:cNvPicPr/>
          <p:nvPr/>
        </p:nvPicPr>
        <p:blipFill>
          <a:blip r:embed="rId1"/>
          <a:stretch/>
        </p:blipFill>
        <p:spPr>
          <a:xfrm>
            <a:off x="571680" y="2500200"/>
            <a:ext cx="3692520" cy="25718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C:\Documents and Settings\Miguel Angel.MUY-C6XF9BFXXAS\Mis documentos\Mis imágenes\sf3ng.PNG"/>
          <p:cNvPicPr/>
          <p:nvPr/>
        </p:nvPicPr>
        <p:blipFill>
          <a:blip r:embed="rId2"/>
          <a:stretch/>
        </p:blipFill>
        <p:spPr>
          <a:xfrm>
            <a:off x="4286160" y="2500200"/>
            <a:ext cx="3692520" cy="2571840"/>
          </a:xfrm>
          <a:prstGeom prst="rect">
            <a:avLst/>
          </a:prstGeom>
          <a:ln w="0">
            <a:noFill/>
          </a:ln>
        </p:spPr>
      </p:pic>
      <p:sp>
        <p:nvSpPr>
          <p:cNvPr id="582" name="10 CuadroTexto"/>
          <p:cNvSpPr/>
          <p:nvPr/>
        </p:nvSpPr>
        <p:spPr>
          <a:xfrm>
            <a:off x="3483000" y="535788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Tilemap Texto (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84" name="Picture 11" descr="C:\Documents and Settings\Miguel Angel.MUY-C6XF9BFXXAS\Mis documentos\Mis imágenes\good.png"/>
          <p:cNvPicPr/>
          <p:nvPr/>
        </p:nvPicPr>
        <p:blipFill>
          <a:blip r:embed="rId1"/>
          <a:stretch/>
        </p:blipFill>
        <p:spPr>
          <a:xfrm>
            <a:off x="4613400" y="2143080"/>
            <a:ext cx="3998880" cy="2786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C:\Documents and Settings\Miguel Angel.MUY-C6XF9BFXXAS\Mis documentos\Mis imágenes\junk.png"/>
          <p:cNvPicPr/>
          <p:nvPr/>
        </p:nvPicPr>
        <p:blipFill>
          <a:blip r:embed="rId2"/>
          <a:stretch/>
        </p:blipFill>
        <p:spPr>
          <a:xfrm>
            <a:off x="500040" y="2143080"/>
            <a:ext cx="4000680" cy="2786040"/>
          </a:xfrm>
          <a:prstGeom prst="rect">
            <a:avLst/>
          </a:prstGeom>
          <a:ln w="0">
            <a:noFill/>
          </a:ln>
        </p:spPr>
      </p:pic>
      <p:sp>
        <p:nvSpPr>
          <p:cNvPr id="586" name="16 CuadroTexto"/>
          <p:cNvSpPr/>
          <p:nvPr/>
        </p:nvSpPr>
        <p:spPr>
          <a:xfrm>
            <a:off x="3912840" y="514368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Tilemaps Scr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88" name="Picture 8" descr="C:\Documents and Settings\Miguel Angel.MUY-C6XF9BFXXAS\Mis documentos\Mis imágenes\sf32ipal.PNG"/>
          <p:cNvPicPr/>
          <p:nvPr/>
        </p:nvPicPr>
        <p:blipFill>
          <a:blip r:embed="rId1"/>
          <a:stretch/>
        </p:blipFill>
        <p:spPr>
          <a:xfrm>
            <a:off x="500040" y="2286000"/>
            <a:ext cx="4102200" cy="2857680"/>
          </a:xfrm>
          <a:prstGeom prst="rect">
            <a:avLst/>
          </a:prstGeom>
          <a:ln w="0">
            <a:noFill/>
          </a:ln>
        </p:spPr>
      </p:pic>
      <p:sp>
        <p:nvSpPr>
          <p:cNvPr id="589" name="12 CuadroTexto"/>
          <p:cNvSpPr/>
          <p:nvPr/>
        </p:nvSpPr>
        <p:spPr>
          <a:xfrm>
            <a:off x="1910160" y="52862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Sprites (Posi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9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103640" cy="2857680"/>
          </a:xfrm>
          <a:prstGeom prst="rect">
            <a:avLst/>
          </a:prstGeom>
          <a:ln w="0">
            <a:noFill/>
          </a:ln>
        </p:spPr>
      </p:pic>
      <p:sp>
        <p:nvSpPr>
          <p:cNvPr id="591" name="17 CuadroTexto"/>
          <p:cNvSpPr/>
          <p:nvPr/>
        </p:nvSpPr>
        <p:spPr>
          <a:xfrm>
            <a:off x="6213600" y="52149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93" name="Picture 2" descr="C:\Documents and Settings\Miguel Angel.MUY-C6XF9BFXXAS\Mis documentos\Mis imágenes\sf2.PNG"/>
          <p:cNvPicPr/>
          <p:nvPr/>
        </p:nvPicPr>
        <p:blipFill>
          <a:blip r:embed="rId1"/>
          <a:stretch/>
        </p:blipFill>
        <p:spPr>
          <a:xfrm>
            <a:off x="2071800" y="1928880"/>
            <a:ext cx="47941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3D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isplay li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SPs para leer la display list y hacer T&amp;L de polígon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os opcion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mular el DSP. Mas precisa pero mas lenta: MA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studiar el código del DSP y reescribirlo en el emulador optimizado (Model2 Emulator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Rasterizació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oftware render: Pixel accurate, más lento: MA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irect3D/OpenGL: Menos preciso. Más rápido, aprovecha tarjetas 3D. Model2 Emulato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3D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97" name="3 Imagen" descr="schamp8"/>
          <p:cNvPicPr/>
          <p:nvPr/>
        </p:nvPicPr>
        <p:blipFill>
          <a:blip r:embed="rId1"/>
          <a:stretch/>
        </p:blipFill>
        <p:spPr>
          <a:xfrm>
            <a:off x="642960" y="3009960"/>
            <a:ext cx="3416400" cy="2928960"/>
          </a:xfrm>
          <a:prstGeom prst="rect">
            <a:avLst/>
          </a:prstGeom>
          <a:ln w="0">
            <a:noFill/>
          </a:ln>
        </p:spPr>
      </p:pic>
      <p:pic>
        <p:nvPicPr>
          <p:cNvPr id="598" name="4 Imagen" descr="schamp11"/>
          <p:cNvPicPr/>
          <p:nvPr/>
        </p:nvPicPr>
        <p:blipFill>
          <a:blip r:embed="rId2"/>
          <a:stretch/>
        </p:blipFill>
        <p:spPr>
          <a:xfrm>
            <a:off x="4500720" y="3009960"/>
            <a:ext cx="3429000" cy="2938320"/>
          </a:xfrm>
          <a:prstGeom prst="rect">
            <a:avLst/>
          </a:prstGeom>
          <a:ln w="0">
            <a:noFill/>
          </a:ln>
        </p:spPr>
      </p:pic>
      <p:sp>
        <p:nvSpPr>
          <p:cNvPr id="599" name="5 CuadroTexto"/>
          <p:cNvSpPr/>
          <p:nvPr/>
        </p:nvSpPr>
        <p:spPr>
          <a:xfrm>
            <a:off x="3557160" y="608184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Geome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28400" y="1785960"/>
            <a:ext cx="80722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volución de la emulación de 3D del emulador de Model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Emuladore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reservar los sistemas antiguos (y los juego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Datos en ordenadores o soportes que los sistemas actuales no pueden le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El resurgir de los juegos clásic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XBOX Live Arca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layStation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Nintendo Virtual Conso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lassic Collec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Las empresas de videojuegos apuestan por sagas clásicas, éxito asegurad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3D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602" name="6 Imagen" descr="sonic4"/>
          <p:cNvPicPr/>
          <p:nvPr/>
        </p:nvPicPr>
        <p:blipFill>
          <a:blip r:embed="rId1"/>
          <a:stretch/>
        </p:blipFill>
        <p:spPr>
          <a:xfrm>
            <a:off x="571680" y="2286000"/>
            <a:ext cx="3857400" cy="3313080"/>
          </a:xfrm>
          <a:prstGeom prst="rect">
            <a:avLst/>
          </a:prstGeom>
          <a:ln w="0">
            <a:noFill/>
          </a:ln>
        </p:spPr>
      </p:pic>
      <p:pic>
        <p:nvPicPr>
          <p:cNvPr id="603" name="7 Imagen" descr="sonic2"/>
          <p:cNvPicPr/>
          <p:nvPr/>
        </p:nvPicPr>
        <p:blipFill>
          <a:blip r:embed="rId2"/>
          <a:stretch/>
        </p:blipFill>
        <p:spPr>
          <a:xfrm>
            <a:off x="4429080" y="2286000"/>
            <a:ext cx="3929040" cy="333216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4134960" y="57150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Gráficos: 3D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606" name="9 Imagen" descr=""/>
          <p:cNvPicPr/>
          <p:nvPr/>
        </p:nvPicPr>
        <p:blipFill>
          <a:blip r:embed="rId1"/>
          <a:stretch/>
        </p:blipFill>
        <p:spPr>
          <a:xfrm>
            <a:off x="4357800" y="2357280"/>
            <a:ext cx="4119480" cy="3214800"/>
          </a:xfrm>
          <a:prstGeom prst="rect">
            <a:avLst/>
          </a:prstGeom>
          <a:ln w="0">
            <a:noFill/>
          </a:ln>
        </p:spPr>
      </p:pic>
      <p:pic>
        <p:nvPicPr>
          <p:cNvPr id="607" name="10 Imagen" descr="sonictex"/>
          <p:cNvPicPr/>
          <p:nvPr/>
        </p:nvPicPr>
        <p:blipFill>
          <a:blip r:embed="rId2"/>
          <a:stretch/>
        </p:blipFill>
        <p:spPr>
          <a:xfrm>
            <a:off x="642960" y="2357280"/>
            <a:ext cx="3746520" cy="3214800"/>
          </a:xfrm>
          <a:prstGeom prst="rect">
            <a:avLst/>
          </a:prstGeom>
          <a:ln w="0">
            <a:noFill/>
          </a:ln>
        </p:spPr>
      </p:pic>
      <p:sp>
        <p:nvSpPr>
          <p:cNvPr id="608" name="11 CuadroTexto"/>
          <p:cNvSpPr/>
          <p:nvPr/>
        </p:nvSpPr>
        <p:spPr>
          <a:xfrm>
            <a:off x="3980520" y="571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Text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Sonido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mponentes “discretos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Osciladores, filtros, electrónic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Librería de simulación de redes electrónicas (MAM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M (Frequency Modulation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Chips Yamah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Sonido “electrónico”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Interconexiones programables de generadores de ondas y modulador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MAME: librería completa de chips Yamaha (menos mal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ample mix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Diseño propi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Sonido digitaliza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Varios canales, bucles, frecuencia variabl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ormalmente un procesador aparte dedicado a sonid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Sonido: Sample mixer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argar ROM de sonido en programa de edición de audi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uebas con diferentes configuraciones de canales, frecuencia, bits, endiannes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CM,u-Law,a-Law, ADPCM. (Aun no había MP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Buscar un sample reconocible (meter moneda, start, sound test en el menú de servici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arar el emulador en el punto del juego donde se gener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Buscar relación registros de sonido con dirección, frecuencia, etc… del sample encontr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tección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ongles (Mochil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EGA (System32, Model2, Model3). Infrautilizada, fácil de emular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ncripta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apcom (CPS2,CPS3), IGS (PGM), SNK (Neogeo), Gaelc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Buscar puntos débiles para extraer los datos desencriptados (BIOS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oprocesado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IGS (PGM), Konami, Gaelc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Adivinar” el funcionamiento a partir de los parámetro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i es programable, obtener el programa (tablas sin bounds check, decapping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rotección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935000"/>
            <a:ext cx="8229600" cy="17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xtraer los datos no es fácil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atos a pantalla + Fotografía + Teclear a mano (Martial Masters: 4KB a mano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nexión Placa &lt;-&gt; PC (JammaLink, JVSLink 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apping + microfotografí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17" name="Picture 1" descr="D:\cps2\pgm\mmasters\MMTROJ\DSCN1960.JPG"/>
          <p:cNvPicPr/>
          <p:nvPr/>
        </p:nvPicPr>
        <p:blipFill>
          <a:blip r:embed="rId1"/>
          <a:stretch/>
        </p:blipFill>
        <p:spPr>
          <a:xfrm>
            <a:off x="642960" y="3786120"/>
            <a:ext cx="2500200" cy="1876320"/>
          </a:xfrm>
          <a:prstGeom prst="rect">
            <a:avLst/>
          </a:prstGeom>
          <a:ln w="0">
            <a:noFill/>
          </a:ln>
        </p:spPr>
      </p:pic>
      <p:sp>
        <p:nvSpPr>
          <p:cNvPr id="618" name="4 CuadroTexto"/>
          <p:cNvSpPr/>
          <p:nvPr/>
        </p:nvSpPr>
        <p:spPr>
          <a:xfrm>
            <a:off x="642960" y="564372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xtracción de programa de protección Martial Ma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3357720" y="3714840"/>
            <a:ext cx="2571480" cy="1974600"/>
          </a:xfrm>
          <a:prstGeom prst="rect">
            <a:avLst/>
          </a:prstGeom>
          <a:ln w="0">
            <a:noFill/>
          </a:ln>
        </p:spPr>
      </p:pic>
      <p:sp>
        <p:nvSpPr>
          <p:cNvPr id="620" name="6 CuadroTexto"/>
          <p:cNvSpPr/>
          <p:nvPr/>
        </p:nvSpPr>
        <p:spPr>
          <a:xfrm>
            <a:off x="3357720" y="564372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able de conexión JAMMA &lt;-&gt; Puerto Paralelo de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9" descr="http://mail.google.com/mail/?attid=0.1&amp;disp=emb&amp;view=att&amp;th=1104bbbf8273e61a"/>
          <p:cNvPicPr/>
          <p:nvPr/>
        </p:nvPicPr>
        <p:blipFill>
          <a:blip r:embed="rId3"/>
          <a:stretch/>
        </p:blipFill>
        <p:spPr>
          <a:xfrm>
            <a:off x="6143760" y="3714840"/>
            <a:ext cx="2666880" cy="1928880"/>
          </a:xfrm>
          <a:prstGeom prst="rect">
            <a:avLst/>
          </a:prstGeom>
          <a:ln w="0">
            <a:noFill/>
          </a:ln>
        </p:spPr>
      </p:pic>
      <p:sp>
        <p:nvSpPr>
          <p:cNvPr id="622" name="6 CuadroTexto"/>
          <p:cNvSpPr/>
          <p:nvPr/>
        </p:nvSpPr>
        <p:spPr>
          <a:xfrm>
            <a:off x="6143760" y="564372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Microfotografía de ROM de MCU de sonido de Nam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Cuando todo funciona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93464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mular características poco usadas del hardware o que tengan pequeños fall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Optimiza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Profiling: encontrar las funciones crítica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Optimización a ensamblador (MMX).No portab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ultiprocesador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Otras características del emulad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iltros gráfic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avestates (a veces es bueno tenerlos ante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Netpla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Trucos (Cheat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MAME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AMEDev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ecenas de programadores de todo el mund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Un responsable del proyect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FTP con roms, manuales, documentos, datasheets…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ailing list, IRC (no oficial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Repositorio SVN para el códig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OSD: Frontend y partes de acceso a video y sonid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re: Librerías de dispositivos comunes (CPUs, chips de sonido, EEPROMs,…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rivers: instanciación de dispositivos + mapa de memoria + emulación de video (también sonido si es específica al HW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Convertir un juego de una plataforma a otra, a partir del fuente. Ejempl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reamcast-&gt;Xbox,PS3,PSVita (Jet Set Radi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Xbox-&gt;PS3,PSVita (Fez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egadrive-&gt;Xbox,PS3 (Sonic C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Cada plataforma tiene su propio API (a menudo incompatible incluso entre plataformas del mismo fabricant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APIs de video no estandar (Xbox si, DirectX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BlitWorks (www.blitworks.com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onic CD: de MegaCD a Xbox,PS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Jet Set Radio: de Dreamcast a Xbox,PS3,PSVita,PC,iOS,Androi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pelunky: de Xbox a PS3,PSVi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ez: de Xbox (XNA C#) a PS3,PSVita,PS4 (C++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ge Of Zombies: de iOS a PSVi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Emuladores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Nebula: CPS1, CPS2, NeoGeo, PGM, Konam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odel2 Emulator: Sega Model 2 (original y revs A,B y 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PS3 Emulator: Capcom CPS3 (CPX3 versión para XBOX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rystal System Emulator: BrezzaSoft Crystal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hankast: Emulador de Dreamcast (Sonido y Maple bus), Naomi (prelimina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AME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laboración en CPS2,Neogeo, Model 1, Konami (Protecciones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Drivers para PGM, Crystal Syste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Cores para DSPs y CPU de Model 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0280" indent="-23832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onido para Saturn/Model2 (SCSP) y Dreamcast/Naomi (AICA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Juegos ya existentes y con una rentabilidad “asegurada”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n teoría poco trabajo pero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iferencias de potencia entre plataform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APIs de las consolas son incompatibles entre ell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Incluso dentro del mismo fabricante (PS3/PSVita/PS4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PIs de video propias, acceso directo al hardwa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Intentar desarrollar un framework básico que abstraiga el hardware de la consol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ada API grafica expone las peculiaridades del hardwar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S3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Generación directa de display list a la GPU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Multiples display lists en paralelo, con call/return entre ella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Parcheo en memoria de constantes en fragment program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SVit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Cada render target cambia escena (overhead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Alpha blending en el fragment shader (cache de shaders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Vertex fetch en vertex shader (cache de shaders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877680" indent="-23616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rebuchet MS"/>
              </a:rPr>
              <a:t>Todo esto lo abstrae OpenGL en iOS, pero no hay contro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Jet Set Radi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ódigo fuente de Dreamcas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atos en blobs binarios con direcciones absolutas de memoria!!, la dreamcast no tenia un SO al u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reamcast: Little endian. Xbox y PS3 big endian. Convertir los datos. Algunos sin el fuente origi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dibujado de algunas texturas en 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onido MIDI en formato propio, grabado de emulado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Desarrollo de una versión de la librería grafica de Dreamcast para cada targe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Jet Set Rad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39" name="Picture 2" descr="http://greenhillszone.files.wordpress.com/2013/05/199531-jet-grind-radio-dreamcast-screenshot-graffiti-interfaces.jpg"/>
          <p:cNvPicPr/>
          <p:nvPr/>
        </p:nvPicPr>
        <p:blipFill>
          <a:blip r:embed="rId1"/>
          <a:stretch/>
        </p:blipFill>
        <p:spPr>
          <a:xfrm>
            <a:off x="755640" y="2852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http://www.touchgen.net/wp-content/uploads/2012/12/jet-set-radio-main.jpg"/>
          <p:cNvPicPr/>
          <p:nvPr/>
        </p:nvPicPr>
        <p:blipFill>
          <a:blip r:embed="rId2"/>
          <a:stretch/>
        </p:blipFill>
        <p:spPr>
          <a:xfrm>
            <a:off x="4140360" y="2708280"/>
            <a:ext cx="4192560" cy="2359080"/>
          </a:xfrm>
          <a:prstGeom prst="rect">
            <a:avLst/>
          </a:prstGeom>
          <a:ln w="0">
            <a:noFill/>
          </a:ln>
        </p:spPr>
      </p:pic>
      <p:sp>
        <p:nvSpPr>
          <p:cNvPr id="641" name="5 CuadroTexto"/>
          <p:cNvSpPr/>
          <p:nvPr/>
        </p:nvSpPr>
        <p:spPr>
          <a:xfrm>
            <a:off x="900000" y="4869000"/>
            <a:ext cx="24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ream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:3 ratio. Max 576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 fps with frequent frame d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6 CuadroTexto"/>
          <p:cNvSpPr/>
          <p:nvPr/>
        </p:nvSpPr>
        <p:spPr>
          <a:xfrm>
            <a:off x="4211640" y="5084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X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:9 ratio. 720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 fps 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onic CD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l principio se iba a usar la version de MegaCD, parchea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implementación casera en scripts del juego origin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Insertar trofeos, records,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pelunk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A partir de la versión de Xbo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haders complejos. 10fps en vi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ucho alphablending, costoso en vi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orting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Fez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Versión en C#!!, convertir a C++ (C++11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Reimplementar XNA por cada plataforma!!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Shaders no optimiza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ucha geometria, vertex shaders lentos en PS3/Vita : backface culling por CPU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ucho alpha test (discard): Lento en PSVi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Version xbox: frecuentes saltos (aleatorios) en el framerate debido al GC. En PS3/Vita framerate consistente, determinist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¿Qué hay dentro de una máquina?</a:t>
            </a: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Monitor, Amplificador, Fuente de alimentación, controles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ableado: Sonido, video, control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aquinas antiguas: Conexiones específicas para cada jueg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aquinas recientes (90s): Estándar JAMMA (sonido mono, solo entradas digitales, 2 players, 4 boton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(Más recientes JVS (JAMMA2) pocas máquina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áquinas dedicad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laca (o placas) de jueg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lacas de juego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tandalone. Un juego por plac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Cambiar el juego=Cambiar la plac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Hardware diferente para cada juego=Código diferente en el emulado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ucho trabajo=1 jueg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istemas”. Una placa Base + placa(s) con el jueg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El mismo hardware, solo cambian las ROMs=El emulador solo tiene que cargar las roms apropiadas, el resto del código es igu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Mucho trabajo=muchos juegos (o no, CPS3 6 juegos, Crystal System 3 juego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lacas de juego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28760" y="188568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istemas de juegos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Cartucho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SNK (NeoGe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IGS (PolyGameMaster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Rom Board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Capcom (CPS1,CPS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SEGA (System16,System32,Model2,Model3,…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Namc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Disco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Capcom (CPS3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</a:rPr>
              <a:t>SEGA (Naomi GDRom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Standalon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626760" indent="-24084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Konami (Diseño modular. En MAME librería de componentes básico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Mucha info en </a:t>
            </a:r>
            <a:r>
              <a:rPr b="0" lang="es-ES_tradnl" sz="2200" spc="-1" strike="noStrike" u="sng">
                <a:solidFill>
                  <a:srgbClr val="e2d700"/>
                </a:solidFill>
                <a:uFillTx/>
                <a:latin typeface="Trebuchet MS"/>
                <a:hlinkClick r:id="rId1"/>
              </a:rPr>
              <a:t>www.system16.com</a:t>
            </a:r>
            <a:r>
              <a:rPr b="0" lang="es-ES_tradnl" sz="2200" spc="-1" strike="noStrike">
                <a:solidFill>
                  <a:srgbClr val="000000"/>
                </a:solidFill>
                <a:latin typeface="Trebuchet MS"/>
              </a:rPr>
              <a:t>. Mantenido por MAMEDevs, información correcta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96040" indent="-241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Placas de juego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500040" y="1938240"/>
            <a:ext cx="1714680" cy="2286000"/>
          </a:xfrm>
          <a:prstGeom prst="rect">
            <a:avLst/>
          </a:prstGeom>
          <a:ln w="0">
            <a:noFill/>
          </a:ln>
        </p:spPr>
      </p:pic>
      <p:sp>
        <p:nvSpPr>
          <p:cNvPr id="527" name="4 CuadroTexto"/>
          <p:cNvSpPr/>
          <p:nvPr/>
        </p:nvSpPr>
        <p:spPr>
          <a:xfrm>
            <a:off x="428760" y="421488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apcom CP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http://www.system16.com/boards/pgm_complete.jpg"/>
          <p:cNvPicPr/>
          <p:nvPr/>
        </p:nvPicPr>
        <p:blipFill>
          <a:blip r:embed="rId2"/>
          <a:stretch/>
        </p:blipFill>
        <p:spPr>
          <a:xfrm>
            <a:off x="2571840" y="1938240"/>
            <a:ext cx="171432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6 CuadroTexto"/>
          <p:cNvSpPr/>
          <p:nvPr/>
        </p:nvSpPr>
        <p:spPr>
          <a:xfrm>
            <a:off x="2500200" y="42148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IGS PolyGame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http://www.system16.com/boards/pgm_mobo.jpg"/>
          <p:cNvPicPr/>
          <p:nvPr/>
        </p:nvPicPr>
        <p:blipFill>
          <a:blip r:embed="rId3"/>
          <a:stretch/>
        </p:blipFill>
        <p:spPr>
          <a:xfrm>
            <a:off x="2571840" y="3081240"/>
            <a:ext cx="170496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http://www.system16.com/boards/mvs1.jpg"/>
          <p:cNvPicPr/>
          <p:nvPr/>
        </p:nvPicPr>
        <p:blipFill>
          <a:blip r:embed="rId4"/>
          <a:stretch/>
        </p:blipFill>
        <p:spPr>
          <a:xfrm>
            <a:off x="4429080" y="1938240"/>
            <a:ext cx="2998800" cy="2286000"/>
          </a:xfrm>
          <a:prstGeom prst="rect">
            <a:avLst/>
          </a:prstGeom>
          <a:ln w="0">
            <a:noFill/>
          </a:ln>
        </p:spPr>
      </p:pic>
      <p:sp>
        <p:nvSpPr>
          <p:cNvPr id="532" name="9 CuadroTexto"/>
          <p:cNvSpPr/>
          <p:nvPr/>
        </p:nvSpPr>
        <p:spPr>
          <a:xfrm>
            <a:off x="4357800" y="421488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SNK NeoG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http://www.system16.com/boards/cps2.gif"/>
          <p:cNvPicPr/>
          <p:nvPr/>
        </p:nvPicPr>
        <p:blipFill>
          <a:blip r:embed="rId5"/>
          <a:stretch/>
        </p:blipFill>
        <p:spPr>
          <a:xfrm>
            <a:off x="500040" y="4581360"/>
            <a:ext cx="1738440" cy="1285920"/>
          </a:xfrm>
          <a:prstGeom prst="rect">
            <a:avLst/>
          </a:prstGeom>
          <a:ln w="0">
            <a:noFill/>
          </a:ln>
        </p:spPr>
      </p:pic>
      <p:sp>
        <p:nvSpPr>
          <p:cNvPr id="534" name="11 CuadroTexto"/>
          <p:cNvSpPr/>
          <p:nvPr/>
        </p:nvSpPr>
        <p:spPr>
          <a:xfrm>
            <a:off x="428760" y="6000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apcom CP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2" descr="http://www.system16.com/boards/model2a.jpg"/>
          <p:cNvPicPr/>
          <p:nvPr/>
        </p:nvPicPr>
        <p:blipFill>
          <a:blip r:embed="rId6"/>
          <a:stretch/>
        </p:blipFill>
        <p:spPr>
          <a:xfrm>
            <a:off x="2571840" y="4510080"/>
            <a:ext cx="1928880" cy="1451160"/>
          </a:xfrm>
          <a:prstGeom prst="rect">
            <a:avLst/>
          </a:prstGeom>
          <a:ln w="0">
            <a:noFill/>
          </a:ln>
        </p:spPr>
      </p:pic>
      <p:sp>
        <p:nvSpPr>
          <p:cNvPr id="536" name="14 CuadroTexto"/>
          <p:cNvSpPr/>
          <p:nvPr/>
        </p:nvSpPr>
        <p:spPr>
          <a:xfrm>
            <a:off x="2571840" y="6000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Sega Model2 A-C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6" descr="http://www.system16.com/boards/gaiapolis.jpg"/>
          <p:cNvPicPr/>
          <p:nvPr/>
        </p:nvPicPr>
        <p:blipFill>
          <a:blip r:embed="rId7"/>
          <a:stretch/>
        </p:blipFill>
        <p:spPr>
          <a:xfrm>
            <a:off x="4572000" y="4514760"/>
            <a:ext cx="2286000" cy="1474920"/>
          </a:xfrm>
          <a:prstGeom prst="rect">
            <a:avLst/>
          </a:prstGeom>
          <a:ln w="0">
            <a:noFill/>
          </a:ln>
        </p:spPr>
      </p:pic>
      <p:sp>
        <p:nvSpPr>
          <p:cNvPr id="538" name="17 CuadroTexto"/>
          <p:cNvSpPr/>
          <p:nvPr/>
        </p:nvSpPr>
        <p:spPr>
          <a:xfrm>
            <a:off x="4572000" y="600084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Konami Mystic War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17 CuadroTexto"/>
          <p:cNvSpPr/>
          <p:nvPr/>
        </p:nvSpPr>
        <p:spPr>
          <a:xfrm>
            <a:off x="6929280" y="600084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rys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9" descr="http://www.system16.com/boards/crystal_pcb.jpg"/>
          <p:cNvPicPr/>
          <p:nvPr/>
        </p:nvPicPr>
        <p:blipFill>
          <a:blip r:embed="rId8"/>
          <a:stretch/>
        </p:blipFill>
        <p:spPr>
          <a:xfrm>
            <a:off x="6929280" y="4500720"/>
            <a:ext cx="1814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ROMs</a:t>
            </a:r>
            <a:r>
              <a:rPr b="0" lang="es-ES_tradnl" sz="5000" spc="-1" strike="noStrike">
                <a:solidFill>
                  <a:srgbClr val="04617b"/>
                </a:solidFill>
                <a:latin typeface="Trebuchet MS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Pasar el código almacenado en las ROMS a un archiv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Se usan programadores/lectores de RO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hips DIP: fáciles. Programadores barat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rebuchet MS"/>
              </a:rPr>
              <a:t>Chips SMD: desoldar + adaptadores caros = que lo hagan los que saben (MAMEDev, The Dumping Projec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2786040" y="4714920"/>
            <a:ext cx="20718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6:25:57Z</dcterms:created>
  <dc:creator>Pablo Turmero</dc:creator>
  <dc:description/>
  <dc:language>en-US</dc:language>
  <cp:lastModifiedBy>Pablo Turmero</cp:lastModifiedBy>
  <dcterms:modified xsi:type="dcterms:W3CDTF">2017-04-15T19:42:40Z</dcterms:modified>
  <cp:revision>102</cp:revision>
  <dc:subject/>
  <dc:title>Emulación y Porting</dc:title>
</cp:coreProperties>
</file>