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AF3-2619-45AE-8F89-619DD1D6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F68-A468-4196-87EE-0351365A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97643-0E38-4579-9B36-2514614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C557B-CEBD-4FAD-B990-04F5C916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35FAB-F9F7-4E7E-9D48-970FB661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755F3-53A3-468D-AA7C-DDD41A3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4A748-C467-48CC-8587-879AE57C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66827-D076-415D-B86C-21E92C3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A3EFD-04CF-4BE6-B28A-6D42380A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EA997-CDAF-4D80-859E-386C88B4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7EBA2-0D45-422D-9480-AD50D26C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D1C48-D833-4099-AFDC-27F5DED7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30B-0CD7-45D8-9C73-55619E90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7D790-30F0-4072-BB1F-EC5BFDE9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15C60-7E92-4A9B-9A0D-3738CF04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F40EA-96B1-45F5-9B9A-7B59EAA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DD6AE-7C72-420C-B24A-BAFFCBB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B92C6-11D0-48E0-9437-CE196D47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85B4A-6E9A-41A4-A287-C026CFA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D2938-E285-4FB1-8EDF-38EBC3A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80D14-34A8-481A-A6D0-8265964C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D13F4-60E0-4667-B078-1AAD8380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4AC0B-36EB-4A42-9E41-CEF20498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550-438F-4D8C-AE6E-FC32E13E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89FCA-E47C-4EAE-B18C-0BEE5BB1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2EE1-6405-40E2-8DC3-AC16FCF4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2BDCA-DBCB-4E49-96E2-567C0D09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A4DBC-9242-463E-B9A6-E6979B8E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BAE0F-0A58-4E69-98A4-6DEEBAAA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30931-9B35-4182-BF91-D2F36FF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D5D46-E812-46DC-B742-42CD69DA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BE741-280E-4271-9F80-9E18B37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4C688-A5EC-4E08-A488-7ABF7E64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7E100-87D2-4FEA-9B88-8453C8F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0DFB-8163-4708-8568-DB7418F9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498EA-8406-473E-A454-4A960759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A2B1C-7F43-4E9C-ACFF-B1BB8D2D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66AAC-76E3-4B55-8F77-31EF1693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C20EE-8EC2-43AE-819D-A4EDAAA0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9CEAE-B315-49B7-BA05-B1285BF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C72C9-5313-4505-ACCD-872CD99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D6BA5-8ADC-4C71-A4CF-93E38415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7BB50-2987-4621-B08F-B1CF3F57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47227-7BA0-40FB-9CF5-CE7CCB70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296D8-0941-4CE8-ABB9-1C390E3D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48DF-1362-45BD-ABF1-06A83CD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B107F-7C37-496C-8342-64A87AF4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A6465-202F-4A43-A49C-9E9ADBF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69275-D69D-4A31-89D7-073F6D9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D31D8-733C-4E0D-84B8-A6E96AB9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1CBB8-C2A0-4832-8F21-D3EC31AC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19F1-A8CF-40FD-B7AA-0331ADF7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D3DF-5D07-49EF-AC7E-21F182AF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DD16-7DFF-4919-9A5B-01E81CB7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E29E-5E4F-4F1B-A878-4A40DB7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058C-3028-4E38-928E-D257552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1BC-D060-47EC-B1C9-4D2D29A2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8374-26E0-451C-A4DF-2EC80E0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5C68-2EA4-4282-9329-E7B9484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F44A-4D4E-4F78-8CFD-1ECB735B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9EC1-7CE4-42A9-AFF4-F4A2F8D6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F674-C2E5-4EB5-ACCA-60D69AE6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F204-BEA6-4908-AFCF-37FE81FB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C20E-A23B-4E39-9A1F-E41B5F11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2431-DD7C-4FFE-8370-179D61B6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7561-835A-4AE8-8DF9-5F060D99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A682-410F-4E49-B6A2-741E6AAC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C65-476D-4C0C-BA0B-D26542E8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7298-4729-48B5-9E50-B5D01B3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F0CE-468F-4DF2-A81B-C308D28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6C2B-36BC-418C-841C-C11C350D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E5AA-D906-4461-A705-9F25C8D7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D2BD-D50F-45DA-9088-9AE4961B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99AC-4FC6-4FF8-8E46-EE08C557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AEC7-BE15-44A7-A3F0-335DA418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B174-18D9-4B58-9597-B35E642A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0D5FE-E5C8-48B6-BF82-D836F09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E62D-32FE-45AD-81DA-5D309A68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3CA-7C47-4899-B52D-A991288A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5C9E-7BE1-4154-BBFF-9B3709B2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12AF-96DE-4D5E-BB90-DB84DBC4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D942-A748-4BD4-8DAB-1A6796DA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E0A0-CFE4-4F0F-95CE-D28973D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1142-05E7-4972-B94F-BB24E92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63B7-84C2-4C41-8082-2D76EB8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9C5B-390B-4785-B559-56782D08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7BBD-121B-46AF-8C1C-7409A835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BF65-9278-410E-B2A8-AB32F10A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8105A-170D-4B05-98C9-81A3F417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4AD-1B46-46E7-B1B6-AF9A03E7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B465-2436-4617-9ECE-A898A5CE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BAA4-8155-4DB1-A9C5-3A125413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64DF-6068-4C0F-80D4-0AF8E854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09FB6-16C3-4E6E-A24F-E4379870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A34DE-826B-41B3-AE00-ACA7DCF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193C-8999-4198-9BAA-10B7A95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18B4A-86BD-4CF5-8194-B22F4DE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8A265-070D-4A85-885E-47F1674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0C6A8-EE0D-475B-90C5-ED4DE769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B4DA-2ECE-4B8D-938C-E612E532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097-6D16-42F1-8425-9B9F924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3B20-221B-477A-A6BB-A5607F44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4EC54-E4FE-4BAE-AE25-000200E6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05AE-F171-4657-AF21-BBEDE419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4B9A2-DE67-42CF-B619-EB5BBF7C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71887-6EC6-42D9-8615-8E079F9D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2A9DD-9BDC-43BE-9943-5D9A6E84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BBAA-BE8D-435D-A581-BE90283C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776B9-D66C-48BF-B3F5-51BE28D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56C7-D15D-4AA9-A03B-80DF697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C0FB-4367-47F8-B67D-06CBFF8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458-B928-4528-A5AB-4ABDF6C2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C289-AED5-4F0A-9C61-173CEA45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8D78-7F8B-45A6-B4DA-EEDE1AC7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D31C-6FAE-4AB9-A52B-4AF92DFD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10F5-92F2-4EA2-87F3-AB0D936A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7AD23-A583-44A9-90FD-D157FD9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FC9AE-BAA6-42A4-AE4B-D1EA9B0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80D09-206A-48E7-8A89-40D1B853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8046A-AB31-42F5-8773-29DCB28A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6CCB2-F986-4FD7-8C3A-90BC44E3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208C0-8050-462A-BF70-C0AD47A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FAA-5C09-4A9E-9195-FC2305E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4B91-2C19-429F-8FDB-769F5E27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013CE-CF91-429D-8238-3F982E51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FB12D-95C1-41FD-9ECC-8F29FC2B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663F1-17EF-4FFA-8E25-97355CAC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11F5-A26E-43E3-930D-3DE5B6E7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3BA3A-284A-478E-8DA1-CCA1A86D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5C2F-0788-4E2F-AE6C-572D228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38CA2-1F96-46DA-A5BA-265FC067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AF9EF-0E15-43B4-B1F2-221F00BC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84028-F1FD-4545-BAD0-FC5C2FE7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DBB-3B50-40AA-8999-638802C2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CAC3E-0695-45A5-BBC0-A33DC90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C532A-C3D0-437E-B380-D8734F23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01CAF-2129-4E9B-B953-E07AC06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E66F8-E47B-482B-B58B-238B7A5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D9877-655E-4308-808C-CCE03FED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EEE55-0109-4BC3-BF73-D72C1872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D54F5-1C08-45E3-BE9A-EE868B40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ED1D4-FB84-4A09-AA0C-38065623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60A81-8750-4035-9A20-6C069118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A454F-C667-4B4E-BD17-908EFFC3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15D-1141-4611-B9BB-AC4F2C0097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5D32-5CA4-4F17-82FD-995A68A8C4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8614-3926-410B-8CF1-5E773A1E4A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CD3B-A597-411B-818E-EA2622B804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F0BC-FC57-40D4-9547-3BBE689CB2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7568-884F-4306-A3B1-1CABC2FFF3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F640-DCAD-4FCA-96F7-A61B5945F3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A654-E222-4B37-8D77-FD186FA379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4B29-A968-413C-9844-EB70C2F704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6062-B096-4E2A-9499-8A605F30CA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E4D1-356E-482F-9E62-75C3BA1630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4578-A9EA-431F-A5E7-55859014CF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422280" y="2924280"/>
            <a:ext cx="829944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Times New Roman"/>
              </a:rPr>
              <a:t>Métodos y metodologías en Ciencia de los alimentos. Análisis básico, acidez de los alimentos y análisis mineral. Análisis en leche y derivados. Análisis en aceites y grasas. Análisis en bebidas alcohólicas. Análisis de aditivos al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1547640" y="1238400"/>
            <a:ext cx="6048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Arial"/>
              </a:rPr>
              <a:t>Análisis de Ali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tretch/>
        </p:blipFill>
        <p:spPr>
          <a:xfrm>
            <a:off x="372960" y="544680"/>
            <a:ext cx="8439120" cy="60498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DE ACEITES Y 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DE ACEITES Y 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7"/>
          <p:cNvSpPr/>
          <p:nvPr/>
        </p:nvSpPr>
        <p:spPr>
          <a:xfrm>
            <a:off x="291960" y="500040"/>
            <a:ext cx="8599680" cy="6263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imes New Roman"/>
              </a:rPr>
              <a:t>Identificación de 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Times New Roman"/>
              </a:rPr>
              <a:t>Para caracterizar la composición química y el estado de las grasas se establecen una serie de índices mediante los cuales se pueden determinar ciertos grupos funcionales o componentes de las mis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Índice de acidez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eso en mg de KOH necesario para neutralizar  1 g de materia grasa (se valoran los ácidos grasos lib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Índice de saponific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peso en mg de KOH necesario para saponificar 1 g de grasa (valoración con HCl del exceso medido  de KO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Índice de hidroxil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peso en mg de KOH necesario  para neutralizar el ácido acético que se combina por acetilación con 1 g de grasa (se determinan los ácidos hidroxigrasos, alcoholes grasos , mono y acilgliceroles y la glicerina libre). Se emplea como reactivo anhidrido acé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Índice de Yo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Cantidad de 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fijado por 100 g de grasa. Indica el contenido de la grasa en ácidos insaturados, para ácido oleico 89,9, para linoleico 181 y para linolénico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Índice de tiocianoge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Similar al anterior, y se determina por la fijación de tiocianogeno ((SCN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 a los dobles enlaces de los ácidos insaturados. Se expresa como peso de 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quivalente al (SCN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 absorbido por 100 partes de peso de la gr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DE ACEITES Y 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79440" y="549360"/>
            <a:ext cx="8426520" cy="6050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imes New Roman"/>
              </a:rPr>
              <a:t>Determinación de la calidad de las 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calidad de las grasas se ve influida por los procedimientos de obtención, elaboración y almacenamiento. Para analizar las posibles modificaciones que pueden sufrir las grasas existen métodos analíticos encaminados a detectar procesos de lipólisis de autooxidación, y su estabilidad té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Lipólisi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Viene determinada por el contenido de ácidos grasos lib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Índice de acidez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Se determina por valoración con Na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Autooxid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Las grasas se alteran por autooxidación de los restos acilos insaturados , en el proceso llamado peroxidación lipidica, transformándose en hidroperoxidos. El contenido se determina mediante el índice de peróxid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Índice de peróxid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meq de oxigeno activo contenidos en 1 Kg de materia grasa, calculados a partir del 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liberado con 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imes New Roman"/>
              </a:rPr>
              <a:t>Determinaciones cromat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técnicas cromatográficas (generalmente la cromatografía de gases) permiten separar y determinar los ácidos grasos (libres o formando parte de los triglicéridos) como esteres metili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identificación y determinación de los ácidos grasos permite detectar adulteraciones de acei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ambién se determinan anilinas, anilidas grasas, colorantes no autorizados, 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DE BEBIDAS ALCOHO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262080" y="522360"/>
            <a:ext cx="8599320" cy="60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Times New Roman"/>
              </a:rPr>
              <a:t>Bebidas alcohó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preparan a partir de liquidos azucarados sometidos a la fermentación alcohólica. Los azucares fermentables o bien se hallan presentes como tales o se generan por escisión hidrolitica de almidones, dextrinas, disacáridos, polisacáridos, 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mas importantes son la cerveza, el vino y los aguar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Cervez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e elabora a partir de cebada malteada, lúpulo, levadura y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Composi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Etanol, Extracto seco, Ácidos (carbónico, láctico, acetico fórmico, succinico, ect), Hidratos de carbono (glicerol) ,Compuestos nitrogenados (procedente de las proteinas de la levad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Vi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e obtiene a partir de uva fresca, uva macerada o mosto de uva mediante fermentación alcoholica completa o 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Composi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Etanol, Extracto seco, Ácidos (tartárico, málico, cítrico, succinico, ect), Compuestos nitrogenados (procedente de las proteinas de la levadura), Hidratos de carbono (glucosa y fructosa), Otros alcoholes (metanol, alcoholes superiores, glicerina, ect), Compuestos fenólicos, Minerales y sustancias arom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Aguardient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on todos los líquidos incluido el alcohol vínico obtenidos mediante fermentación y desti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EN V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279360" y="506520"/>
            <a:ext cx="8624880" cy="6291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compuestos mas importantes que se suelen determinar en los vin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tanol ; b) Estracto seco ; c) Acidos; d) Azucares ; e) 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Contenido en Etanol (Titulo alcohométr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define como el  % en volumen de Etanol. La determinación consiste en destilar la muestra alcalinizada con lechada de cal ( CaO disuelto en agua) , medir la densidad del destilado con un picnómetro o un aerómetro y calcular el grado alcohólico con valores tab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Extracto seco to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el conjunto de todas los componentes del vino que no se volatilizan con el Etanol. Se determina destilando el  vino, se mide la densidad  una vez ajustado el volumen inicial y se calcula comparando la densidad con los valores tabulados para disoluciones de sacar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Acidez tot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e determina valorando directamente el vino, exento de 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 NaOH y se expresa en meq/l o en gramos de ácido tartá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Acidez volati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está constituida por la parte de ácidos grasos pertenecientes a la serie acética. Se determina mediante la separación de los ácidos volátiles por arrastre con vapor de agua y posterior valoración con NaOH. Se expresa en meq/l, en g/l de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o en g/l de 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ambien se suelen determinar : -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Acido tartáric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or los métodos del racemato -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Acido cítric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ácido láctico : Separandolos por cromatografía i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EN V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762120"/>
            <a:ext cx="9367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227160" y="479520"/>
            <a:ext cx="8729640" cy="6545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Azuc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Azucares reductor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Los métodos para su determinación se basan en la separación previa por precipitación de todas las especies reductoras distintas de los azucares (con disolución saturada de Pb(C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COO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o Hg(C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COO)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Na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na vez separados se valoran indirectamente con Cu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zucar + Cu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↓    C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↓ + Fe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→ Fe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2+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+ Cu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2+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valora con  M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Sacar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e determina por la diferencia de los poderes reductores antes y despues de la hidrólisis clorhidrica de los liquidos procedentes de la separación de las especies reductoras distintas de los azuc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Anhidrido sulfuroso (SO</a:t>
            </a:r>
            <a:r>
              <a:rPr b="1" lang="es-ES" sz="20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la elaboración del vino, se utiliza como desinfectante 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, y  posteriormente se elimina totalmente, si la eliminación no es total, pueden quedar en el vino restos disueltos (libre) o combinados : Se determina mediante los méto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étodo Pau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En primer lugar se determina el </a:t>
            </a:r>
            <a:r>
              <a:rPr b="0" lang="es-ES" sz="2000" spc="-1" strike="noStrike">
                <a:solidFill>
                  <a:srgbClr val="ff9900"/>
                </a:solidFill>
                <a:latin typeface="Times New Roman"/>
              </a:rPr>
              <a:t>sulfuroso libr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Consiste en liberar por acidificación del vino con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,arrastre por corriente de aire , oxidación por borboteo en agua oxigenada neutra y valoración del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formado con NaOH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 continuación por ebullición moderada  y por el mismo procedimiento se valora el </a:t>
            </a:r>
            <a:r>
              <a:rPr b="0" lang="es-ES" sz="2000" spc="-1" strike="noStrike">
                <a:solidFill>
                  <a:srgbClr val="ff9900"/>
                </a:solidFill>
                <a:latin typeface="Times New Roman"/>
              </a:rPr>
              <a:t>sulfuroso combin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étodo Ripper doble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Valoración yodometrica directa en el v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DITIVOS AL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262080" y="434880"/>
            <a:ext cx="8619840" cy="137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imes New Roman"/>
              </a:rPr>
              <a:t>Aditivos al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n sustancias que se añaden a los productos alimenticios sin cambiar su valor nutritivo , con la finalidad de modificar sus caracteristicas, las tecnicas de elaboración y para mejorar su adaptación al uso que se dest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44" descr=""/>
          <p:cNvPicPr/>
          <p:nvPr/>
        </p:nvPicPr>
        <p:blipFill>
          <a:blip r:embed="rId1"/>
          <a:stretch/>
        </p:blipFill>
        <p:spPr>
          <a:xfrm>
            <a:off x="274680" y="1857240"/>
            <a:ext cx="5032440" cy="32306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45"/>
          <p:cNvSpPr/>
          <p:nvPr/>
        </p:nvSpPr>
        <p:spPr>
          <a:xfrm>
            <a:off x="5398920" y="1914480"/>
            <a:ext cx="348300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EDULCO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clamato, glucina y sac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COLO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turales y artifi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CONSER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gua oxigenada, ácido bórico, ácido benzoico, bicarbonatos, cloraminas y perclórico, formol. ácido 5- nitrofluracrílico,  ácido monobromoáce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282600" y="5116680"/>
            <a:ext cx="85788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ANTIOXID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tilhidroxianisol (BHA), butilhidroxitolueno(BHT), Galato de dodecilo (GD), galato de octilo (GO), galato de propilo (GP), ácido nordihidroguayarético (ND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AGENTES SECUESTRANTES ( QUELATA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D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DITIVOS AL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262080" y="582480"/>
            <a:ext cx="8555040" cy="60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imes New Roman"/>
              </a:rPr>
              <a:t>Identificación y análisis de aditivos al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ACIDUL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Determinación cromatografica de </a:t>
            </a:r>
            <a:r>
              <a:rPr b="0" lang="es-ES" sz="2000" spc="-1" strike="noStrike">
                <a:solidFill>
                  <a:srgbClr val="ff9900"/>
                </a:solidFill>
                <a:latin typeface="Times New Roman"/>
              </a:rPr>
              <a:t>ácidos : citrico, láctico, málico y tartá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Preparación de la muestra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En líquidos : Filtrar la muestra a traves de un filtro de 2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 sólidos : Se extraen con agua acidulada con HCl 2 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diciones cromatográficas : </a:t>
            </a:r>
            <a:r>
              <a:rPr b="0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Colum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fase reversa ; </a:t>
            </a:r>
            <a:r>
              <a:rPr b="0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luyent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Agua destilada con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H 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ANTIOXID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rminación por HPLC en grasas alimentarias de :</a:t>
            </a:r>
            <a:r>
              <a:rPr b="0" lang="es-ES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HA,BHT,GD, GP y ND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eparación de la muestra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tracción de los antioxidantes con acetonitri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cromatográficas : </a:t>
            </a:r>
            <a:r>
              <a:rPr b="0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lum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fase reversa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luyente 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ampón 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H 2,5  </a:t>
            </a:r>
            <a:r>
              <a:rPr b="0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luyente B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Acetonitrilo-meta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écn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Gradiente % B 60 a % B 100 en 8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SER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terminación espectrofotomética de </a:t>
            </a:r>
            <a:r>
              <a:rPr b="0" lang="es-ES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ácido bórico y derivad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quinaliz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eparación de la muestr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extraen los compuestos de B con agua ca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espectrofotométrica: Se preparan disoluciones de ácido bórico llevandose a cabo la determinación del complejo coloreado con quinalizarina por el metedo de la adición patr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5"/>
          <p:cNvSpPr/>
          <p:nvPr/>
        </p:nvSpPr>
        <p:spPr>
          <a:xfrm>
            <a:off x="1006920" y="-1080"/>
            <a:ext cx="71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COMPOSICION QUÍMICA DE LOS ALIM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250920" y="512280"/>
            <a:ext cx="864216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llevar a cabo todos los procesos el organismo humano necesita un suministro continuo de materiales que debemos ingerir: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os nutriente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Sólo existen unas pocas sustancias, que nos sirven como combustible o para incorporar a nuestras propias estructura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 clasifican en base a las cantidades en que están pres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Macronutr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úcidos o hidratos de carbo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 almidones, azúcares y fi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ípidos o Gras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triglicéridos, ácidos grasos y fosfolíp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teín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Están formadas por largas cadenas lineales de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Micronut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Vitaminas 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n sustancias orgánicas imprescindibles en los procesos metabólicos que tienen lugar en la nutrición de los seres vivos.Existen dos tipos de vitamin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0" i="1" lang="es-ES" sz="2000" spc="-1" strike="noStrike">
                <a:solidFill>
                  <a:srgbClr val="ff3300"/>
                </a:solidFill>
                <a:latin typeface="Times New Roman"/>
              </a:rPr>
              <a:t>liposolub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A, D, E,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0" i="1" lang="es-ES" sz="2000" spc="-1" strike="noStrike">
                <a:solidFill>
                  <a:srgbClr val="ff3300"/>
                </a:solidFill>
                <a:latin typeface="Times New Roman"/>
              </a:rPr>
              <a:t>hidrosolub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C y complejo 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ineral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n los componentes inorgánicos necesarios para la elaboración de tejidos, síntesis de hormonas y en la mayor parte de las reacciones químicas en las que intervienen los enzimas . Se dividen en tres grup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i="1" lang="es-ES" sz="2000" spc="-1" strike="noStrike">
                <a:solidFill>
                  <a:srgbClr val="ff3300"/>
                </a:solidFill>
                <a:latin typeface="Times New Roman"/>
              </a:rPr>
              <a:t>macroelement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que son los que el organismo necesita en mayor cantidad (gramos): Na, K, Ca, P, Mg, Cl y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Times New Roman"/>
              <a:buChar char="-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Times New Roman"/>
              </a:rPr>
              <a:t>microelement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mg) : Fe, F, I, Mn, Co, Cu y Z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3300"/>
              </a:buClr>
              <a:buFont typeface="Times New Roman"/>
              <a:buChar char="-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Times New Roman"/>
              </a:rPr>
              <a:t>oligoelementos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 o </a:t>
            </a:r>
            <a:r>
              <a:rPr b="1" i="1" lang="es-ES" sz="2000" spc="-1" strike="noStrike">
                <a:solidFill>
                  <a:srgbClr val="ff3300"/>
                </a:solidFill>
                <a:latin typeface="Times New Roman"/>
              </a:rPr>
              <a:t>elementos traz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i, Ni, Cr, Li, Mo y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MÉTODOS DE ANALISIS EN CIENCIA DE LOS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250920" y="549360"/>
            <a:ext cx="864216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métodos de análisis de los alimentos pueden ser: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 Subjetivo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aspecto del alimento, olor, gusto y sensaciones táctiles,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 Objetiv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físicos, químicos, microscópicos y microbiológicos) y  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Otro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biológicos y encuestas nutricion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Métod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Métodos físic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Las propiedades físicas objeto de estos métodos son :                          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La apariencia  :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que se determina por medio de fotografías;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El col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que se determina por el método de Munsell  que basa en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edida del matiz, intensidad y saturación del color y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La textura: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que esta relacionada con características físicas de los alimentos como plasticidad, dureza, fragilidad, elasticidad, 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Métodos Químic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Incluyen todos los métodos destinados a determinar los componentes nutritivos de los alimentos, los que afectan a su sabor y los considerados como contaminantes o impurezas como :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étodos clásic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e emplean en la determinación de humedad, contenido en agua, cenizas, materia grasa, fibra , materia grasa, ect ;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étodos instrumenta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Óptic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los atómicos para la determinación de metales y las técnicas moleculares (UV-Visible) para determinar compuestos orgánicos; 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Electroquímic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otenciometricos (electrodos selectivos) o valoraciones potenciometricas y 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Cromatográfic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La cromatografía de gases para la determinación de gases y sustancias volátiles (aromas), la cromatografía líquida para sustancias orgánicas no volátiles como vitaminas, ácidos grasos, azucares, aditivos, 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BÁSICO Y MINERAL DE LOS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35000" y="549360"/>
            <a:ext cx="88740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la mayoría de los alimentos se realizan una serie de determinaciones comunes , lo que se entiende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mposición bru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a)Contenido en agua (humedad); b)Ni-trogeno total o proteína bruta; c)  Cenizas. ; d) Fibra bruta ;e) Extracto etéreo o grasa bruta; f) Sustancias extractabas no nitrogenadas; g) Minerales; h) Acid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135000" y="2013120"/>
            <a:ext cx="4437000" cy="47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Contenido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ayoría de los alimentos contienen una proporción comprendida entre el 60 y el 95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uede estar co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libr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libera con faci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lig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como agua de cristalización , unida a las proteínas a los azucares o adsorbida sobre los coloides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quiere un calentamiento de distinta intensidad y en algunos casos permanece ligada incluso al carbonizar el ali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% de agua en un alimento solo tendrá significado si se especifica el método seguido para su 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886280" y="2013120"/>
          <a:ext cx="4122720" cy="4668840"/>
        </p:xfrm>
        <a:graphic>
          <a:graphicData uri="http://schemas.openxmlformats.org/drawingml/2006/table">
            <a:tbl>
              <a:tblPr/>
              <a:tblGrid>
                <a:gridCol w="2254320"/>
                <a:gridCol w="1868400"/>
              </a:tblGrid>
              <a:tr h="50940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Contenido en a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termin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plic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1081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Desecación en estufa hasta peso const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Queso y ca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1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Deshidratación hasta temperatura amb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Tejidos vege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Destilación con un disolvente orgá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Alimentos ricos en azúc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Métodos químicos: Karl Fis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Alimentos deshidra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BÁSICO Y MINERAL DE LOS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369720" y="704880"/>
            <a:ext cx="8402760" cy="5666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Nitrógeno total o proteína br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nitrógeno total o proteico (N x 6,25)  se determina por el método de Kjeldahl, que consiste en convertir todo el N orgánico (de las proteínas en su mayoría ) en N amoniacal (como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 , destilar el amoniaco (en medio básico) y valorarlo con una disolución ácida contrastada. El % de proteína se calcula multiplicado el % de N por el factor de 6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Ceni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cenizas se obtienen al someter el alimento a un proceso de incineración, mediante el cual se destruye la materia orgán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án constituidas por óxidos o sales (carbonatos, fosfatos, sulfatos,  ect), de los diferente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pendiendo del tipo de alimento, así será el método de incineración mas conven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Fibra br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á constituida por celulosa, lignina y pentos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índice de las sustancias presentes en los alimentos veget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método para su determinación consiste en la digestión de la muestra vegetal con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NaOH en condiciones especi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281160" y="555480"/>
            <a:ext cx="372564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Extracto etéreo o grasa br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conjunto de sustancias de un alimento que se extraen con éter etílico ( esteres de los ácidos grasos, fosfolípidos, lecitinas, esteroles, ceras, ácidos grasos libr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extracción consiste en someter la muestra exenta de agua (deshidratada) a un proceso de extracción continua (Soshlet) utilizando como extractante éter etí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Sustancias extractivas no nitroge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 este termino se designa el valor obtenido al restar de 100 la suma de los % obtenidos en los índices anteri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% SENN : 100 - ( % agua + % Proteína + % extracto etéreo + % cenizas + % fib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BÁSICO Y MINERAL DE LOS AL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200480" y="554040"/>
            <a:ext cx="46674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Análisis mi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número de elementos que se encuentran en los alimentos es muy considerable.Los métodos habituales para su determinación, se basan en la mineralización de la muestra y posterior determinación por técnicas de absorción o de emisión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Acidez de los al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contenido total de ácidos de un alimento la determina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la acidez valorable tot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(AVT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mediante valoración con NaOH y se indica en términos del ácido que predomine en el alimento (láctico en la leche, oleico en el aceite, cítrico en las frutas, 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La acidez volátil  (AV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, se determina por diferencia entre la valoración de la acidez total antes y después de evaporar la muestra con a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La acidez fija (AF)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rresponde a la acidez de la muestra después de someterla a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EN LECHE Y DE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262080" y="450720"/>
            <a:ext cx="8599320" cy="1699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Métodos de análisis de la le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leche, esta constituida por agua, lípidos , proteínas (caseína), vitaminas, lactosa y sustancias minerales (Ca, K y P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análisis mas importantes de la leche son los que determinan la </a:t>
            </a: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composición química bru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otras determina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como detección del aguado,  presencia de conservadores, fosfatasa residual , antibióticos o elementos mi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281160" y="2135160"/>
            <a:ext cx="8600760" cy="4762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terminación de la composición química bruta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Determinación del extracto seco y ceni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extracto sec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se obtiene calentando a 102 º C. El contenido en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 ceniza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obtiene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inerando el extracto seco a 550ºC.  Se expresan en % en 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Determinación de Lact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el constituyente mayoritario del extracto seco es la lactosa, y se suele determinar para la detección de fraudes. Se determin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buClr>
                <a:srgbClr val="ff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étodo de Bertran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e basa en la reducción del Cu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a Cu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or la lactosa, el Cu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obtenido se precipita en medio básico como C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 y se valora con M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buClr>
                <a:srgbClr val="ff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étodo de la Cloramina 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: Se basa en la valoración del 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roducido al final de la reacción entre la lactosa y el IK-CloraminaT. A la muestra desproteinizada (suero) se le añade un exceso medido de Cloramina T y KI , y el 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resultante se valora con tiosulf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q 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= eq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eq Lactosa = eq Cloramina T – eq 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150840" y="534960"/>
            <a:ext cx="8881920" cy="627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terminación de la composición química bru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Determin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nitrógeno de la leche procede casi en su totalidad de las proteínas como caseína, y otras como albúmina, globulina o las proteasas pept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N total o el de las distintas fracciones se determina por el método de Kjeld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eche + HAc/Ac</a:t>
            </a:r>
            <a:r>
              <a:rPr b="0" lang="es-ES" sz="20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pH 4.6)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Casei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uero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NN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+ Ác. tricloroacético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→ 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Prot. tota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+ Suero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(NN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ero (NNC) + Calor →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Albúmina + Globulina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+ Suero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(NPP, NN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ero(NNC) + Mg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Globuli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(NG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+ Suero (Albumina, PP,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NN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T= N total   NPP= N de las proteasas peptonas NG= N de la Globulina             NNC= N no caseinico  NNP= N no prote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Determinación de materia gr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determina para diferenciar los distintos tipos de leche que difieren en su contenido graso. Los métodos se basan en medir la materia grasa separada por destrucción con ácidos  o por extracción con disolventes. Para determinar la grasa liberada se emplean entre otros los siguientes méto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étodo gravimétrico de 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Rose-Gottlieb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Se extrae la materia grasa en una disolución alcohólico amoniacal con éter etílico y éter de petróleo , se evapora el disolvente y se pesa el res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étodo del butirómetro de 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Gerber 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uestra se trata con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alcohol amilico , las proteínas quedan en la fracción acuosa, y las grasas en el alcohol, se centrifuga y en el tubo graduado del butirometro se mide el volumen de gr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5"/>
          <p:cNvSpPr/>
          <p:nvPr/>
        </p:nvSpPr>
        <p:spPr>
          <a:xfrm>
            <a:off x="3570120" y="34290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EN LECHE Y DE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ANALISIS EN ACEITES Y 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262080" y="2857680"/>
            <a:ext cx="50162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ANALISIS EN ACEITES Y GRAS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principales análisis de aceites y grasas se resumen en varias determin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dentificación del tipo de gr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terminación de mezclas de grasas o ace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terminación de componentes extraños (disolventes, metales, pesticidas,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terminación de ad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ado de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ado de lipó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dentificación de grasas endurecidas o interesterific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262080" y="487440"/>
            <a:ext cx="86198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LIP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lípidos son moléculas orgánicas formadas básicamente por carbono,  hidrógeno y oxígeno. Además pueden contener fósforo, nitrógeno y azufre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ACEITES Y GRA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grasas están  formadas principalmente por acilgliceridos que se diferencian entre si por su composición  en ácidos grasos  . Pueden contener fosfolípidos, ácidos grasos libres y algunos lípidos insaponificables . Los aceites son líquidos a temperatura ambiente y las grasas sólidos.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7"/>
          <p:cNvSpPr/>
          <p:nvPr/>
        </p:nvSpPr>
        <p:spPr>
          <a:xfrm>
            <a:off x="5424480" y="2855880"/>
            <a:ext cx="3470400" cy="3753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Clasif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Lípidos </a:t>
            </a: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saponific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Simp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Acilglicér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ér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Complej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sfolíp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Times New Roman"/>
              </a:rPr>
              <a:t>Lípidos insaponific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rp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ero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stagland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9:44:52Z</dcterms:created>
  <dc:creator>Pablo Turmero</dc:creator>
  <dc:description/>
  <dc:language>en-US</dc:language>
  <cp:lastModifiedBy>Pablo Turmero</cp:lastModifiedBy>
  <dcterms:modified xsi:type="dcterms:W3CDTF">2017-08-12T17:57:42Z</dcterms:modified>
  <cp:revision>16</cp:revision>
  <dc:subject/>
  <dc:title>Análisis de Alimentos</dc:title>
</cp:coreProperties>
</file>