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jpeg" ContentType="image/jpeg"/>
  <Override PartName="/ppt/media/image2.png" ContentType="image/png"/>
  <Override PartName="/ppt/media/image27.wmf" ContentType="image/x-wmf"/>
  <Override PartName="/ppt/media/image25.wmf" ContentType="image/x-wmf"/>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5CA77-B03D-40A8-A5DD-B57B6814F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47BF-F472-4BBB-BF4E-A9764352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0E3C0-E9C9-4F3B-A184-69C30FFAB1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65131-CFC9-45B3-8973-1200A5B51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798D6-D0FA-4A81-8585-5E9FC8FFF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14F99-2A44-4473-8E4C-45E9F85E6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8976A-3F62-43EC-B604-3ECD4D624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65D2F-965D-4BE4-AA83-DD4DC802C3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A9459-CB2F-41DE-8EB5-F6C738CF4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A4CAF-BAED-433B-9DCC-B75747AE79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B9F370-89D7-4970-A475-9699EAED7D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E1947-B18A-4218-85FB-B08B4E0C7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9342E-9DD0-42D3-88A0-E0B1BD8DB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E6B67-4D66-432D-B0A9-8F325A28C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74391-A447-44E8-8534-D606BF1B6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9A7D-41F2-4CE6-B967-481FE8E79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B6FA6-FE16-485A-9510-2568872B4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0514-D0A7-4815-A865-6EC6A329E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8A6C9-850D-4A04-977E-7839AC0F1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A43E-0C65-42C6-BC0B-3E6B79602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55CFC-39DB-4F9E-9B2D-650A4678E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67205-E939-40A0-8FEB-7F0DA8F32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0AEDB-2A05-4D53-AAD3-C1C18DC29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4C101-592A-4E9B-93BA-597FF5A4E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D03EF-EC74-4819-8D50-ECE5113CF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BF101-7B2C-440C-AE3E-4DA79C560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3144F-909E-432C-A625-D51732964D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2CFA5-8C5A-4C0D-AD91-3EDFBE0EB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41D2F-A438-4B4E-9686-997915747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850F8-2CEE-4045-811F-1088DB0EF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D9826-C074-48FD-9A01-A9EE7CB1E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ECC5-E936-4BCF-9D29-7CB4E54E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3A0A3-AD42-49F6-AD97-A255BB479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28A4A-3028-4D26-9362-FB2DBA123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D2B90-0187-4D8D-97BC-C3DAEA6E7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9CC11-4136-40B4-AF53-DEC781273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71F1B-726F-4598-B300-3EAA17D3D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E42761-F2C0-4507-A732-194D06E86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22AD7B-00AC-40B8-91E2-5C26609534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3779D-9965-420F-B21A-B4F16B3BB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333F2-5DF3-4648-80D9-E26FA35FF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900EA-483D-4823-8D7D-F83F28A13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CE71-4B66-4A0E-9186-861027FB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10195-3735-480A-8BEF-920A23078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6D50B-64C5-451D-AC19-D81FF32BA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8B62B-66FE-43B4-8807-6F4A878D8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354C3-565A-4CAE-A530-1A6212127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676D7-256A-4092-ABAF-58D0E8591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4612B-C424-4359-BF97-E5EE154CE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24221-C474-453E-ADA2-4DB9F0CCD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5294D-5779-4388-8AA6-A0A6CD22D9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EECAF-345D-408C-9E5D-A93D818D45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70BEC-A372-4BE8-9930-13A95044D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6D6C4-CE0E-44B1-AE2E-27BF0F1F8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2E28C-A3CC-4DFB-BE58-486F92DBF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DE96A0-B53C-4CD3-B927-CF2A01BBD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F9396-705E-4B44-8684-212A43444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F1AD8-2E42-49CC-B9EC-996F21648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2CE35-B911-4243-A419-6652CFE9F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0A0DF-349E-4E6B-A33F-D086A09E4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92552-6C92-4A60-A406-E9D6D3561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5326B-45EA-4B4E-AD7B-958EACC33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00DC8-473D-4BA8-9D07-FA907E94C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D4B23C-BE9F-4F63-9E0D-59E25C8BF6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93FA-9A3C-4494-9E73-43A88A314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B28A9C-5E67-4BB5-98FF-1BB64B736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1F808-D194-406A-9482-1309E9CAF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7AF238-4CB4-4F1F-A4CD-F2598C483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7F027-ADE2-43AB-A248-34EA29D38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44085-C1F7-4DF4-A76A-C42A0AEE2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35A19-F635-48A3-A3F6-E48560239F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02239-BE6B-4BA7-943F-B1F4DB315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56AA5-AED7-4961-B2F9-77B830313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FA989-4E72-4DB4-9ED9-4692BDF6B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1E875-6451-4910-8279-5EE277E8C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53CF-F10B-4AEA-9723-3468EE53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18939-7B61-4AFA-BE7B-E51EBF06A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31394-A19D-43B3-997B-45B6CE9E99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4C8BB9-A812-4C5F-BA58-1717786949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745A2-98AC-4019-B23F-BC6877A706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20FCC-A16A-4116-A974-DBD07BFDF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DC1C4-B960-4205-9C42-A6E5772F4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F9EC3A-3495-4614-9F38-B67770636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5A5C8D-A26D-41E2-B1E3-75E282474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C7C55-FDF3-4246-80BA-DACA8721D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5D427-11AB-43BD-B042-8A98DFE92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3FDD-7137-4E01-92AA-045AEAE4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C1990-771F-4C35-82F3-789CAEAA2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C69A9-E346-4941-B28A-A606744A6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8222A6-FB26-4511-B874-3B5048CE8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BD77AF-E9F9-4082-8E59-FC157C9D0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E9387-F2AA-4F7E-B4B2-F718272A2E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897FFF-8987-4FCA-85D8-69426A2D39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409314-0341-4449-A4F7-133370FB2C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69F420-250E-49D3-B842-E6B0388A3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41743-A500-48E6-A63F-FF5EBAEF8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80218-DFBD-4540-8B9F-21032A2B1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0271-077B-4AD7-876F-3AB6A484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7F83B3-8BEC-4AC9-A8F8-11569B295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3D8F4-4A8D-4BC9-829D-9E20CEDBF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114131-916C-46ED-8EA1-9F61DDEC0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0D78B-441F-425C-A81B-190EF7924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39054-C1F4-4C7E-AEE4-FC43F8538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B93AC0-8C68-4C73-8B99-0524AAC1D4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1206ED-762B-4722-8558-4A1467B969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C3778B-DB82-473F-AACA-E25027F3B5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38F25C-28D9-4802-A204-1477C2148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B7B9B-B142-4B29-9B12-EE25C16039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12640" y="1042920"/>
            <a:ext cx="8631360" cy="17640"/>
            <a:chOff x="512640" y="1042920"/>
            <a:chExt cx="8631360" cy="17640"/>
          </a:xfrm>
        </p:grpSpPr>
        <p:pic>
          <p:nvPicPr>
            <p:cNvPr id="1" name="6 Conector recto"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D692-47FD-47AD-B196-B0B0092AA5E7}"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12640" y="1042920"/>
            <a:ext cx="8631360" cy="17640"/>
            <a:chOff x="512640" y="1042920"/>
            <a:chExt cx="8631360" cy="17640"/>
          </a:xfrm>
        </p:grpSpPr>
        <p:pic>
          <p:nvPicPr>
            <p:cNvPr id="9" name="8 Conector recto"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11 Conector recto"/>
          <p:cNvGrpSpPr/>
          <p:nvPr/>
        </p:nvGrpSpPr>
        <p:grpSpPr>
          <a:xfrm>
            <a:off x="512640" y="1054080"/>
            <a:ext cx="8631360" cy="12600"/>
            <a:chOff x="512640" y="1054080"/>
            <a:chExt cx="8631360" cy="12600"/>
          </a:xfrm>
        </p:grpSpPr>
        <p:pic>
          <p:nvPicPr>
            <p:cNvPr id="12" name="11 Conector recto"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12640" y="5346720"/>
            <a:ext cx="8631360" cy="11160"/>
            <a:chOff x="512640" y="5346720"/>
            <a:chExt cx="8631360" cy="11160"/>
          </a:xfrm>
        </p:grpSpPr>
        <p:pic>
          <p:nvPicPr>
            <p:cNvPr id="51" name="12 Conector recto"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A7D7-9F13-4EE8-9677-7FF2AB172AF2}"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12640" y="1042920"/>
            <a:ext cx="8631360" cy="17640"/>
            <a:chOff x="512640" y="1042920"/>
            <a:chExt cx="8631360" cy="17640"/>
          </a:xfrm>
        </p:grpSpPr>
        <p:pic>
          <p:nvPicPr>
            <p:cNvPr id="95" name="6 Conector recto"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8 Conector recto"/>
          <p:cNvGrpSpPr/>
          <p:nvPr/>
        </p:nvGrpSpPr>
        <p:grpSpPr>
          <a:xfrm>
            <a:off x="512640" y="1042920"/>
            <a:ext cx="8631360" cy="17640"/>
            <a:chOff x="512640" y="1042920"/>
            <a:chExt cx="8631360" cy="17640"/>
          </a:xfrm>
        </p:grpSpPr>
        <p:pic>
          <p:nvPicPr>
            <p:cNvPr id="98" name="8 Conector recto"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11 Conector recto"/>
          <p:cNvGrpSpPr/>
          <p:nvPr/>
        </p:nvGrpSpPr>
        <p:grpSpPr>
          <a:xfrm>
            <a:off x="512640" y="1054080"/>
            <a:ext cx="8631360" cy="12600"/>
            <a:chOff x="512640" y="1054080"/>
            <a:chExt cx="8631360" cy="12600"/>
          </a:xfrm>
        </p:grpSpPr>
        <p:pic>
          <p:nvPicPr>
            <p:cNvPr id="101" name="11 Conector recto"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7A3C-018E-45F3-87CD-091E83699AE1}"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12640" y="3438360"/>
            <a:ext cx="8631360" cy="11160"/>
            <a:chOff x="512640" y="3438360"/>
            <a:chExt cx="8631360" cy="11160"/>
          </a:xfrm>
        </p:grpSpPr>
        <p:pic>
          <p:nvPicPr>
            <p:cNvPr id="145" name="12 Conector recto"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D229-5171-4E19-8E0F-F0929C7E8A10}"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12640" y="6016680"/>
            <a:ext cx="8631360" cy="12600"/>
            <a:chOff x="512640" y="6016680"/>
            <a:chExt cx="8631360" cy="12600"/>
          </a:xfrm>
        </p:grpSpPr>
        <p:pic>
          <p:nvPicPr>
            <p:cNvPr id="189" name="12 Conector recto"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76C2-A2EF-4D21-B826-2F2C84AD6567}"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3A93-C59E-4C7C-9F40-52916E328621}"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12640" y="5846760"/>
            <a:ext cx="8631360" cy="11160"/>
            <a:chOff x="512640" y="5846760"/>
            <a:chExt cx="8631360" cy="11160"/>
          </a:xfrm>
        </p:grpSpPr>
        <p:pic>
          <p:nvPicPr>
            <p:cNvPr id="274" name="12 Conector recto"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8B18-BC25-42FA-9DCD-4FF89DB0802F}"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F98E-287B-4126-B634-80E0B1948960}"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5143-B702-4525-A2FD-3AF9470A11DC}" type="slidenum">
              <a:rPr b="0" lang="es-VE"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10 CuadroTexto"/>
          <p:cNvSpPr/>
          <p:nvPr/>
        </p:nvSpPr>
        <p:spPr>
          <a:xfrm>
            <a:off x="1476360" y="476280"/>
            <a:ext cx="6480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iversidad Nacional Experimental Politécnica</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t>
            </a:r>
            <a:r>
              <a:rPr b="0" lang="es-ES" sz="1800" spc="-1" strike="noStrike">
                <a:solidFill>
                  <a:srgbClr val="000000"/>
                </a:solidFill>
                <a:latin typeface="Arial"/>
                <a:ea typeface="Arial"/>
              </a:rPr>
              <a:t>Antonio José de Sucre”</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Vice-Rectorado Puerto Ordaz</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partamento de Ingeniería Industrial</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NGENIERÍA FINANCIERA</a:t>
            </a:r>
            <a:endParaRPr b="0" lang="en-US" sz="1800" spc="-1" strike="noStrike">
              <a:solidFill>
                <a:srgbClr val="000000"/>
              </a:solidFill>
              <a:latin typeface="Franklin Gothic Book"/>
            </a:endParaRPr>
          </a:p>
        </p:txBody>
      </p:sp>
      <p:pic>
        <p:nvPicPr>
          <p:cNvPr id="400" name="Picture 19" descr=""/>
          <p:cNvPicPr/>
          <p:nvPr/>
        </p:nvPicPr>
        <p:blipFill>
          <a:blip r:embed="rId1"/>
          <a:stretch/>
        </p:blipFill>
        <p:spPr>
          <a:xfrm>
            <a:off x="695160" y="438120"/>
            <a:ext cx="1371600" cy="1335240"/>
          </a:xfrm>
          <a:prstGeom prst="rect">
            <a:avLst/>
          </a:prstGeom>
          <a:ln w="0">
            <a:noFill/>
          </a:ln>
        </p:spPr>
      </p:pic>
      <p:sp>
        <p:nvSpPr>
          <p:cNvPr id="401" name="18 CuadroTexto"/>
          <p:cNvSpPr/>
          <p:nvPr/>
        </p:nvSpPr>
        <p:spPr>
          <a:xfrm>
            <a:off x="1476360" y="6154560"/>
            <a:ext cx="607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UDAD GUAYANA, ENERO DE 2017</a:t>
            </a:r>
            <a:endParaRPr b="0" lang="en-US" sz="1800" spc="-1" strike="noStrike">
              <a:solidFill>
                <a:srgbClr val="000000"/>
              </a:solidFill>
              <a:latin typeface="Franklin Gothic Book"/>
            </a:endParaRPr>
          </a:p>
        </p:txBody>
      </p:sp>
      <p:pic>
        <p:nvPicPr>
          <p:cNvPr id="402" name="1 Rectángulo" descr=""/>
          <p:cNvPicPr/>
          <p:nvPr/>
        </p:nvPicPr>
        <p:blipFill>
          <a:blip r:embed="rId2"/>
          <a:stretch/>
        </p:blipFill>
        <p:spPr>
          <a:xfrm>
            <a:off x="1176480" y="2243160"/>
            <a:ext cx="4041720" cy="2079720"/>
          </a:xfrm>
          <a:prstGeom prst="rect">
            <a:avLst/>
          </a:prstGeom>
          <a:ln w="0">
            <a:noFill/>
          </a:ln>
        </p:spPr>
      </p:pic>
      <p:sp>
        <p:nvSpPr>
          <p:cNvPr id="403" name="AutoShape 11"/>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04" name="AutoShape 13"/>
          <p:cNvSpPr/>
          <p:nvPr/>
        </p:nvSpPr>
        <p:spPr>
          <a:xfrm>
            <a:off x="30168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05" name="14 CuadroTexto"/>
          <p:cNvSpPr/>
          <p:nvPr/>
        </p:nvSpPr>
        <p:spPr>
          <a:xfrm>
            <a:off x="343080" y="4670280"/>
            <a:ext cx="322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Asesor Académico</a:t>
            </a:r>
            <a:r>
              <a:rPr b="1" lang="es-ES" sz="1600" spc="-1" strike="noStrike">
                <a:solidFill>
                  <a:srgbClr val="000000"/>
                </a:solidFill>
                <a:latin typeface="Arial"/>
                <a:ea typeface="Arial"/>
              </a:rPr>
              <a:t>:</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Sc. Ing. Iván J. Turmero Astros</a:t>
            </a:r>
            <a:endParaRPr b="0" lang="en-US" sz="1600" spc="-1" strike="noStrike">
              <a:solidFill>
                <a:srgbClr val="000000"/>
              </a:solidFill>
              <a:latin typeface="Franklin Gothic Book"/>
            </a:endParaRPr>
          </a:p>
        </p:txBody>
      </p:sp>
      <p:sp>
        <p:nvSpPr>
          <p:cNvPr id="406" name="17 CuadroTexto"/>
          <p:cNvSpPr/>
          <p:nvPr/>
        </p:nvSpPr>
        <p:spPr>
          <a:xfrm>
            <a:off x="6588000" y="4508640"/>
            <a:ext cx="2089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Integrantes</a:t>
            </a:r>
            <a:r>
              <a:rPr b="1" lang="es-ES" sz="1600" spc="-1" strike="noStrike">
                <a:solidFill>
                  <a:srgbClr val="000000"/>
                </a:solidFill>
                <a:latin typeface="Arial"/>
                <a:ea typeface="Arial"/>
              </a:rPr>
              <a:t>:</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amírez, Miguel Pacheco, Anthony</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rrasco, Alfredo</a:t>
            </a:r>
            <a:endParaRPr b="0" lang="en-US" sz="1600" spc="-1" strike="noStrike">
              <a:solidFill>
                <a:srgbClr val="000000"/>
              </a:solidFill>
              <a:latin typeface="Franklin Gothic Book"/>
            </a:endParaRPr>
          </a:p>
        </p:txBody>
      </p:sp>
      <p:pic>
        <p:nvPicPr>
          <p:cNvPr id="407" name="Picture 2" descr=""/>
          <p:cNvPicPr/>
          <p:nvPr/>
        </p:nvPicPr>
        <p:blipFill>
          <a:blip r:embed="rId3"/>
          <a:stretch/>
        </p:blipFill>
        <p:spPr>
          <a:xfrm>
            <a:off x="5173560" y="2441520"/>
            <a:ext cx="2376720" cy="159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924360" y="980640"/>
            <a:ext cx="5060880" cy="4032360"/>
          </a:xfrm>
          <a:prstGeom prst="rect">
            <a:avLst/>
          </a:prstGeom>
          <a:noFill/>
          <a:ln w="0">
            <a:noFill/>
          </a:ln>
        </p:spPr>
        <p:txBody>
          <a:bodyPr anchor="t">
            <a:normAutofit/>
          </a:bodyPr>
          <a:p>
            <a:pPr marL="343080" indent="-343080" algn="just">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e3b30"/>
                </a:solidFill>
                <a:latin typeface="Arial"/>
                <a:ea typeface="Arial"/>
              </a:rPr>
              <a:t> </a:t>
            </a:r>
            <a:r>
              <a:rPr b="0" lang="es-MX" sz="2000" spc="-1" strike="noStrike">
                <a:solidFill>
                  <a:srgbClr val="4e3b30"/>
                </a:solidFill>
                <a:latin typeface="Arial"/>
                <a:ea typeface="Arial"/>
              </a:rPr>
              <a:t>	</a:t>
            </a:r>
            <a:r>
              <a:rPr b="0" lang="es-MX" sz="2000" spc="-1" strike="noStrike">
                <a:solidFill>
                  <a:srgbClr val="4e3b30"/>
                </a:solidFill>
                <a:latin typeface="Arial"/>
                <a:ea typeface="Arial"/>
              </a:rPr>
              <a:t>	</a:t>
            </a:r>
            <a:r>
              <a:rPr b="0" lang="es-MX" sz="1800" spc="-1" strike="noStrike">
                <a:solidFill>
                  <a:srgbClr val="4e3b30"/>
                </a:solidFill>
                <a:latin typeface="Arial"/>
                <a:ea typeface="Arial"/>
              </a:rPr>
              <a:t>La riqueza propia R de esa isla se deben satisfacer las necesidades materiales (en forma directa o indirecta), de todos sus habitantes –de otra manera no tendría razón vivir en ella, y que éstos pueden hacer uso de esa riqueza mediante su actividad T, la actividad humana cumple con el ciclo económico; proceso que en sí mismo representa qué han hecho de bueno los habitantes de la isla. Sin T, el trabajo social o actividad social o energía social, nada de esto es posible. Por eso tendríamos que definir un valor concreto para esa variable T.</a:t>
            </a:r>
            <a:endParaRPr b="0" lang="en-US" sz="1800" spc="-1" strike="noStrike">
              <a:solidFill>
                <a:srgbClr val="4e3b30"/>
              </a:solidFill>
              <a:latin typeface="Franklin Gothic Book"/>
            </a:endParaRPr>
          </a:p>
        </p:txBody>
      </p:sp>
      <p:pic>
        <p:nvPicPr>
          <p:cNvPr id="431" name="Picture 4" descr="https://encrypted-tbn3.gstatic.com/images?q=tbn:ANd9GcSRuJOvQhR_QPcgaKt-pfqflh1Sif1rTpACCWImk0Ps6WhodlFm"/>
          <p:cNvPicPr/>
          <p:nvPr/>
        </p:nvPicPr>
        <p:blipFill>
          <a:blip r:embed="rId1"/>
          <a:stretch/>
        </p:blipFill>
        <p:spPr>
          <a:xfrm>
            <a:off x="420840" y="2255760"/>
            <a:ext cx="3382920" cy="19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1 Título" descr=""/>
          <p:cNvPicPr/>
          <p:nvPr/>
        </p:nvPicPr>
        <p:blipFill>
          <a:blip r:embed="rId1"/>
          <a:stretch/>
        </p:blipFill>
        <p:spPr>
          <a:xfrm>
            <a:off x="139680" y="1554120"/>
            <a:ext cx="5475240" cy="3316320"/>
          </a:xfrm>
          <a:prstGeom prst="rect">
            <a:avLst/>
          </a:prstGeom>
          <a:ln w="0">
            <a:noFill/>
          </a:ln>
        </p:spPr>
      </p:pic>
      <p:pic>
        <p:nvPicPr>
          <p:cNvPr id="433" name="3 Imagen" descr=""/>
          <p:cNvPicPr/>
          <p:nvPr/>
        </p:nvPicPr>
        <p:blipFill>
          <a:blip r:embed="rId2"/>
          <a:stretch/>
        </p:blipFill>
        <p:spPr>
          <a:xfrm>
            <a:off x="5510160" y="1127160"/>
            <a:ext cx="3633840" cy="43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1 Título" descr=""/>
          <p:cNvPicPr/>
          <p:nvPr/>
        </p:nvPicPr>
        <p:blipFill>
          <a:blip r:embed="rId1"/>
          <a:stretch/>
        </p:blipFill>
        <p:spPr>
          <a:xfrm>
            <a:off x="92160" y="798480"/>
            <a:ext cx="8813880" cy="1785960"/>
          </a:xfrm>
          <a:prstGeom prst="rect">
            <a:avLst/>
          </a:prstGeom>
          <a:ln w="0">
            <a:noFill/>
          </a:ln>
        </p:spPr>
      </p:pic>
      <p:pic>
        <p:nvPicPr>
          <p:cNvPr id="435" name="Picture 2" descr="http://1.bp.blogspot.com/-75FYowv_o5E/T2P6cFG__uI/AAAAAAAACHw/rPTM1WEcP_M/s1600/capital.jpg"/>
          <p:cNvPicPr/>
          <p:nvPr/>
        </p:nvPicPr>
        <p:blipFill>
          <a:blip r:embed="rId2"/>
          <a:stretch/>
        </p:blipFill>
        <p:spPr>
          <a:xfrm>
            <a:off x="2968560" y="2743200"/>
            <a:ext cx="3402000" cy="556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1 Título" descr=""/>
          <p:cNvPicPr/>
          <p:nvPr/>
        </p:nvPicPr>
        <p:blipFill>
          <a:blip r:embed="rId1"/>
          <a:stretch/>
        </p:blipFill>
        <p:spPr>
          <a:xfrm>
            <a:off x="311040" y="255600"/>
            <a:ext cx="8399520" cy="1712880"/>
          </a:xfrm>
          <a:prstGeom prst="rect">
            <a:avLst/>
          </a:prstGeom>
          <a:ln w="0">
            <a:noFill/>
          </a:ln>
        </p:spPr>
      </p:pic>
      <p:pic>
        <p:nvPicPr>
          <p:cNvPr id="437" name="3 Imagen" descr=""/>
          <p:cNvPicPr/>
          <p:nvPr/>
        </p:nvPicPr>
        <p:blipFill>
          <a:blip r:embed="rId2"/>
          <a:stretch/>
        </p:blipFill>
        <p:spPr>
          <a:xfrm>
            <a:off x="2486160" y="2400480"/>
            <a:ext cx="4171680" cy="3476520"/>
          </a:xfrm>
          <a:prstGeom prst="rect">
            <a:avLst/>
          </a:prstGeom>
          <a:ln w="9360">
            <a:solidFill>
              <a:srgbClr val="000000"/>
            </a:solidFill>
            <a:miter/>
          </a:ln>
        </p:spPr>
      </p:pic>
      <p:sp>
        <p:nvSpPr>
          <p:cNvPr id="438" name="4 Rectángulo"/>
          <p:cNvSpPr/>
          <p:nvPr/>
        </p:nvSpPr>
        <p:spPr>
          <a:xfrm>
            <a:off x="395280" y="1197000"/>
            <a:ext cx="82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ea typeface="Arial"/>
              </a:rPr>
              <a:t>Esto es, si se cumple con la reposición en sus dos formas de la riqueza extraída.</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1 Título" descr=""/>
          <p:cNvPicPr/>
          <p:nvPr/>
        </p:nvPicPr>
        <p:blipFill>
          <a:blip r:embed="rId1"/>
          <a:stretch/>
        </p:blipFill>
        <p:spPr>
          <a:xfrm>
            <a:off x="4121280" y="1914480"/>
            <a:ext cx="4717800" cy="2693880"/>
          </a:xfrm>
          <a:prstGeom prst="rect">
            <a:avLst/>
          </a:prstGeom>
          <a:ln w="0">
            <a:noFill/>
          </a:ln>
        </p:spPr>
      </p:pic>
      <p:pic>
        <p:nvPicPr>
          <p:cNvPr id="440" name="3 Imagen" descr=""/>
          <p:cNvPicPr/>
          <p:nvPr/>
        </p:nvPicPr>
        <p:blipFill>
          <a:blip r:embed="rId2"/>
          <a:stretch/>
        </p:blipFill>
        <p:spPr>
          <a:xfrm>
            <a:off x="324000" y="1700280"/>
            <a:ext cx="3527280" cy="2922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2 Rectángulo"/>
          <p:cNvSpPr/>
          <p:nvPr/>
        </p:nvSpPr>
        <p:spPr>
          <a:xfrm>
            <a:off x="900000" y="2508120"/>
            <a:ext cx="7704360" cy="2126520"/>
          </a:xfrm>
          <a:prstGeom prst="roundRect">
            <a:avLst>
              <a:gd name="adj" fmla="val 16667"/>
            </a:avLst>
          </a:prstGeom>
          <a:gradFill rotWithShape="0">
            <a:gsLst>
              <a:gs pos="0">
                <a:srgbClr val="fae5d5"/>
              </a:gs>
              <a:gs pos="100000">
                <a:srgbClr val="efab6f"/>
              </a:gs>
            </a:gsLst>
            <a:lin ang="5400000"/>
          </a:gradFill>
          <a:ln w="10080">
            <a:solidFill>
              <a:srgbClr val="c3986d"/>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proceso cíclico está conformado por la naturales de la riqueza como producción y consumo, social o individual, de bienes o mercancías. Son totalmente dependientes de la capacidad de trabajo social del hombre; capacidad que es una actividad intencional y es la energía que mueve y empuja dicho proceso</a:t>
            </a:r>
            <a:endParaRPr b="0" lang="en-US" sz="1600" spc="-1" strike="noStrike">
              <a:solidFill>
                <a:srgbClr val="000000"/>
              </a:solidFill>
              <a:latin typeface="Franklin Gothic Book"/>
            </a:endParaRPr>
          </a:p>
        </p:txBody>
      </p:sp>
      <p:pic>
        <p:nvPicPr>
          <p:cNvPr id="409" name="1 Título" descr=""/>
          <p:cNvPicPr/>
          <p:nvPr/>
        </p:nvPicPr>
        <p:blipFill>
          <a:blip r:embed="rId1"/>
          <a:stretch/>
        </p:blipFill>
        <p:spPr>
          <a:xfrm>
            <a:off x="371520" y="122400"/>
            <a:ext cx="8400960" cy="143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Rectángulo"/>
          <p:cNvSpPr/>
          <p:nvPr/>
        </p:nvSpPr>
        <p:spPr>
          <a:xfrm>
            <a:off x="885960" y="1125360"/>
            <a:ext cx="4572000" cy="2651400"/>
          </a:xfrm>
          <a:prstGeom prst="rect">
            <a:avLst/>
          </a:prstGeom>
          <a:gradFill rotWithShape="0">
            <a:gsLst>
              <a:gs pos="0">
                <a:srgbClr val="f2d9d4"/>
              </a:gs>
              <a:gs pos="100000">
                <a:srgbClr val="d47962"/>
              </a:gs>
            </a:gsLst>
            <a:lin ang="5400000"/>
          </a:gradFill>
          <a:ln w="10080">
            <a:solidFill>
              <a:srgbClr val="a5644e"/>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sultado de la actividad humana, (las mercancías o bienes producidos) tienen objeto de ser, razón y sentido, solamente, si son accedidas por el benefactor. Además de ser éste el objeto de todo acto económico, respaldado por la anterior aseveración, el benefactor es quien paga todos los costos de cualquier actividad, a la vez que transforma los costos sociales en beneficio general.</a:t>
            </a:r>
            <a:endParaRPr b="0" lang="en-US" sz="1400" spc="-1" strike="noStrike">
              <a:solidFill>
                <a:srgbClr val="000000"/>
              </a:solidFill>
              <a:latin typeface="Franklin Gothic Book"/>
            </a:endParaRPr>
          </a:p>
        </p:txBody>
      </p:sp>
      <p:pic>
        <p:nvPicPr>
          <p:cNvPr id="411" name="Picture 2" descr=""/>
          <p:cNvPicPr/>
          <p:nvPr/>
        </p:nvPicPr>
        <p:blipFill>
          <a:blip r:embed="rId1"/>
          <a:stretch/>
        </p:blipFill>
        <p:spPr>
          <a:xfrm>
            <a:off x="5664240" y="3789360"/>
            <a:ext cx="3011400" cy="27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1 Recortar rectángulo de esquina diagonal"/>
          <p:cNvSpPr/>
          <p:nvPr/>
        </p:nvSpPr>
        <p:spPr>
          <a:xfrm>
            <a:off x="684360" y="404640"/>
            <a:ext cx="8208720" cy="4249800"/>
          </a:xfrm>
          <a:prstGeom prst="pie">
            <a:avLst/>
          </a:prstGeom>
          <a:gradFill rotWithShape="0">
            <a:gsLst>
              <a:gs pos="0">
                <a:srgbClr val="fddccc"/>
              </a:gs>
              <a:gs pos="100000">
                <a:srgbClr val="fd8a41"/>
              </a:gs>
            </a:gsLst>
            <a:lin ang="5400000"/>
          </a:gradFill>
          <a:ln w="10080">
            <a:solidFill>
              <a:srgbClr val="c1752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iclo económico natural que corresponde a la humanidad se conforma de tres etapas bien diferenciadas: producción (extracción e industrialización), comercialización y reposición o reparación. Así es toda actividad que realmente transforma, crea y no agota la única riqueza a la que puede acceder para su propio bien la riqueza de origen natural</a:t>
            </a: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pic>
        <p:nvPicPr>
          <p:cNvPr id="413" name="Picture 2" descr=""/>
          <p:cNvPicPr/>
          <p:nvPr/>
        </p:nvPicPr>
        <p:blipFill>
          <a:blip r:embed="rId1"/>
          <a:stretch/>
        </p:blipFill>
        <p:spPr>
          <a:xfrm>
            <a:off x="2700360" y="2492280"/>
            <a:ext cx="4392720" cy="29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1 Rectángulo"/>
          <p:cNvSpPr/>
          <p:nvPr/>
        </p:nvSpPr>
        <p:spPr>
          <a:xfrm>
            <a:off x="971640" y="666720"/>
            <a:ext cx="7416720" cy="2126520"/>
          </a:xfrm>
          <a:prstGeom prst="roundRect">
            <a:avLst>
              <a:gd name="adj" fmla="val 16667"/>
            </a:avLst>
          </a:prstGeom>
          <a:gradFill rotWithShape="0">
            <a:gsLst>
              <a:gs pos="0">
                <a:srgbClr val="ffe4c3"/>
              </a:gs>
              <a:gs pos="100000">
                <a:srgbClr val="ffb52e"/>
              </a:gs>
            </a:gsLst>
            <a:lin ang="5400000"/>
          </a:gradFill>
          <a:ln w="10080">
            <a:solidFill>
              <a:srgbClr val="f0a22e"/>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roducción en su forma extractiva es la etapa que inicia el ciclo y que, ella misma, comienza con la toma en consignación, con la toma en préstamo (un anticipo que no es gratuito) por parte del hombre productor, de la riqueza que existe en la naturaleza, de la que todos y cada cosa formamos parte, destruyéndola como tal, y transformándola en materia prima.</a:t>
            </a:r>
            <a:endParaRPr b="0" lang="en-US" sz="1600" spc="-1" strike="noStrike">
              <a:solidFill>
                <a:srgbClr val="000000"/>
              </a:solidFill>
              <a:latin typeface="Franklin Gothic Book"/>
            </a:endParaRPr>
          </a:p>
        </p:txBody>
      </p:sp>
      <p:sp>
        <p:nvSpPr>
          <p:cNvPr id="415" name="2 Elipse"/>
          <p:cNvSpPr/>
          <p:nvPr/>
        </p:nvSpPr>
        <p:spPr>
          <a:xfrm>
            <a:off x="826920" y="2852640"/>
            <a:ext cx="4969080" cy="3749400"/>
          </a:xfrm>
          <a:prstGeom prst="ellipse">
            <a:avLst/>
          </a:prstGeom>
          <a:gradFill rotWithShape="0">
            <a:gsLst>
              <a:gs pos="0">
                <a:srgbClr val="ffe4c3"/>
              </a:gs>
              <a:gs pos="100000">
                <a:srgbClr val="ffb52e"/>
              </a:gs>
            </a:gsLst>
            <a:lin ang="5400000"/>
          </a:gradFill>
          <a:ln w="10080">
            <a:solidFill>
              <a:srgbClr val="f0a22e"/>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iclo nos enseña que todo proceso productivo comienza con la extracción de una parte de la riqueza natural. Es una toma destructiva, depredadora y deliberada de riqueza, de la que se apropia el productor, adquiriendo éste un “capital” que, por las características de ésa apropiación, se adeuda. Es un préstamo que necesariamente debe ser devuelto, debe ser repuesto, especialmente para poder continuar con su tarea</a:t>
            </a:r>
            <a:endParaRPr b="0" lang="en-US" sz="1400" spc="-1" strike="noStrike">
              <a:solidFill>
                <a:srgbClr val="000000"/>
              </a:solidFill>
              <a:latin typeface="Franklin Gothic Book"/>
            </a:endParaRPr>
          </a:p>
        </p:txBody>
      </p:sp>
      <p:pic>
        <p:nvPicPr>
          <p:cNvPr id="416" name="Picture 2" descr=""/>
          <p:cNvPicPr/>
          <p:nvPr/>
        </p:nvPicPr>
        <p:blipFill>
          <a:blip r:embed="rId1"/>
          <a:stretch/>
        </p:blipFill>
        <p:spPr>
          <a:xfrm>
            <a:off x="7020000" y="3186000"/>
            <a:ext cx="1604880" cy="30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1 Rectángulo"/>
          <p:cNvSpPr/>
          <p:nvPr/>
        </p:nvSpPr>
        <p:spPr>
          <a:xfrm>
            <a:off x="1114560" y="1649520"/>
            <a:ext cx="7345080" cy="1692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e muestran distintas cifras teóricas, que son la relación de lo ya expuesto anteriormente, para demostrar la ideas de y para darle un soporte matemático.  </a:t>
            </a:r>
            <a:endParaRPr b="0" lang="en-US" sz="1400" spc="-1" strike="noStrike">
              <a:solidFill>
                <a:srgbClr val="000000"/>
              </a:solidFill>
              <a:latin typeface="Franklin Gothic Boo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upongamos una pachamama con forma de isla, desierta de seres humanos, similar a tantas otras, habitable, aunque podría no serlo. Hace bastante tiempo se enviaron a ella a un grupo de científicos para que estudiaran las posibilidades de su explotación.</a:t>
            </a:r>
            <a:endParaRPr b="0" lang="en-US" sz="1400" spc="-1" strike="noStrike">
              <a:solidFill>
                <a:srgbClr val="000000"/>
              </a:solidFill>
              <a:latin typeface="Franklin Gothic Book"/>
            </a:endParaRPr>
          </a:p>
        </p:txBody>
      </p:sp>
      <p:pic>
        <p:nvPicPr>
          <p:cNvPr id="418" name="Picture 2" descr=""/>
          <p:cNvPicPr/>
          <p:nvPr/>
        </p:nvPicPr>
        <p:blipFill>
          <a:blip r:embed="rId1"/>
          <a:stretch/>
        </p:blipFill>
        <p:spPr>
          <a:xfrm>
            <a:off x="1332000" y="3719520"/>
            <a:ext cx="1944720" cy="1365120"/>
          </a:xfrm>
          <a:prstGeom prst="rect">
            <a:avLst/>
          </a:prstGeom>
          <a:ln w="0">
            <a:noFill/>
          </a:ln>
        </p:spPr>
      </p:pic>
      <p:sp>
        <p:nvSpPr>
          <p:cNvPr id="419" name="2 Rectángulo"/>
          <p:cNvSpPr/>
          <p:nvPr/>
        </p:nvSpPr>
        <p:spPr>
          <a:xfrm>
            <a:off x="539640" y="5084640"/>
            <a:ext cx="4572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sta representación piramidal tridimensional del diagrama da una idea de ese espacio vital, que contiene y representa una cantidad desconocida de riqueza potencial</a:t>
            </a:r>
            <a:endParaRPr b="0" lang="en-US" sz="1400" spc="-1" strike="noStrike">
              <a:solidFill>
                <a:srgbClr val="000000"/>
              </a:solidFill>
              <a:latin typeface="Franklin Gothic Book"/>
            </a:endParaRPr>
          </a:p>
        </p:txBody>
      </p:sp>
      <p:sp>
        <p:nvSpPr>
          <p:cNvPr id="420" name="3 Redondear rectángulo de esquina diagonal"/>
          <p:cNvSpPr/>
          <p:nvPr/>
        </p:nvSpPr>
        <p:spPr>
          <a:xfrm>
            <a:off x="5651640" y="4076640"/>
            <a:ext cx="2700360" cy="2009160"/>
          </a:xfrm>
          <a:prstGeom prst="pie">
            <a:avLst/>
          </a:prstGeom>
          <a:gradFill rotWithShape="0">
            <a:gsLst>
              <a:gs pos="0">
                <a:srgbClr val="96010c"/>
              </a:gs>
              <a:gs pos="100000">
                <a:srgbClr val="ff0b1c"/>
              </a:gs>
            </a:gsLst>
            <a:lin ang="5400000"/>
          </a:gra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Q = X + R</a:t>
            </a:r>
            <a:endParaRPr b="0" lang="en-US" sz="1200" spc="-1" strike="noStrike">
              <a:solidFill>
                <a:srgbClr val="000000"/>
              </a:solidFill>
              <a:latin typeface="Franklin Gothic Book"/>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Esta cifra Q se conforma a su vez de dos componentes de magnitud también desconocida y diferenciados: una riqueza X, que por razones</a:t>
            </a:r>
            <a:endParaRPr b="0" lang="en-US" sz="1200" spc="-1" strike="noStrike">
              <a:solidFill>
                <a:srgbClr val="000000"/>
              </a:solidFill>
              <a:latin typeface="Franklin Gothic Book"/>
            </a:endParaRPr>
          </a:p>
        </p:txBody>
      </p:sp>
      <p:pic>
        <p:nvPicPr>
          <p:cNvPr id="421" name="1 Título" descr=""/>
          <p:cNvPicPr/>
          <p:nvPr/>
        </p:nvPicPr>
        <p:blipFill>
          <a:blip r:embed="rId2"/>
          <a:stretch/>
        </p:blipFill>
        <p:spPr>
          <a:xfrm>
            <a:off x="371520" y="128520"/>
            <a:ext cx="8400960" cy="142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1 Título" descr=""/>
          <p:cNvPicPr/>
          <p:nvPr/>
        </p:nvPicPr>
        <p:blipFill>
          <a:blip r:embed="rId1"/>
          <a:stretch/>
        </p:blipFill>
        <p:spPr>
          <a:xfrm>
            <a:off x="596880" y="438120"/>
            <a:ext cx="8309160" cy="5499000"/>
          </a:xfrm>
          <a:prstGeom prst="rect">
            <a:avLst/>
          </a:prstGeom>
          <a:ln w="0">
            <a:noFill/>
          </a:ln>
        </p:spPr>
      </p:pic>
      <p:pic>
        <p:nvPicPr>
          <p:cNvPr id="423" name="3 Imagen" descr=""/>
          <p:cNvPicPr/>
          <p:nvPr/>
        </p:nvPicPr>
        <p:blipFill>
          <a:blip r:embed="rId2"/>
          <a:stretch/>
        </p:blipFill>
        <p:spPr>
          <a:xfrm>
            <a:off x="2343240" y="2708280"/>
            <a:ext cx="5253120" cy="2639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1 Título" descr=""/>
          <p:cNvPicPr/>
          <p:nvPr/>
        </p:nvPicPr>
        <p:blipFill>
          <a:blip r:embed="rId1"/>
          <a:stretch/>
        </p:blipFill>
        <p:spPr>
          <a:xfrm>
            <a:off x="212760" y="1219320"/>
            <a:ext cx="4895640" cy="3120840"/>
          </a:xfrm>
          <a:prstGeom prst="rect">
            <a:avLst/>
          </a:prstGeom>
          <a:ln w="0">
            <a:noFill/>
          </a:ln>
        </p:spPr>
      </p:pic>
      <p:pic>
        <p:nvPicPr>
          <p:cNvPr id="425" name="3 Imagen" descr=""/>
          <p:cNvPicPr/>
          <p:nvPr/>
        </p:nvPicPr>
        <p:blipFill>
          <a:blip r:embed="rId2"/>
          <a:stretch/>
        </p:blipFill>
        <p:spPr>
          <a:xfrm>
            <a:off x="5435640" y="1052640"/>
            <a:ext cx="3529080" cy="1771560"/>
          </a:xfrm>
          <a:prstGeom prst="rect">
            <a:avLst/>
          </a:prstGeom>
          <a:ln w="0">
            <a:noFill/>
          </a:ln>
        </p:spPr>
      </p:pic>
      <p:pic>
        <p:nvPicPr>
          <p:cNvPr id="426" name="4 Imagen" descr=""/>
          <p:cNvPicPr/>
          <p:nvPr/>
        </p:nvPicPr>
        <p:blipFill>
          <a:blip r:embed="rId3"/>
          <a:stretch/>
        </p:blipFill>
        <p:spPr>
          <a:xfrm>
            <a:off x="5292720" y="3284640"/>
            <a:ext cx="3427560" cy="1323720"/>
          </a:xfrm>
          <a:prstGeom prst="rect">
            <a:avLst/>
          </a:prstGeom>
          <a:ln w="0">
            <a:noFill/>
          </a:ln>
        </p:spPr>
      </p:pic>
      <p:sp>
        <p:nvSpPr>
          <p:cNvPr id="427" name="Rectangle 1"/>
          <p:cNvSpPr/>
          <p:nvPr/>
        </p:nvSpPr>
        <p:spPr>
          <a:xfrm>
            <a:off x="1547640" y="4732200"/>
            <a:ext cx="7345440" cy="155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DONDE:</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H</a:t>
            </a:r>
            <a:r>
              <a:rPr b="0" lang="es-MX" sz="1600" spc="-1" strike="noStrike">
                <a:solidFill>
                  <a:srgbClr val="000000"/>
                </a:solidFill>
                <a:latin typeface="Arial"/>
                <a:ea typeface="Calibri"/>
              </a:rPr>
              <a:t>:es la riqueza total que el hombre puede crear y usar desde la isla</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R</a:t>
            </a:r>
            <a:r>
              <a:rPr b="0" lang="es-MX" sz="1600" spc="-1" strike="noStrike">
                <a:solidFill>
                  <a:srgbClr val="000000"/>
                </a:solidFill>
                <a:latin typeface="Arial"/>
                <a:ea typeface="Calibri"/>
              </a:rPr>
              <a:t>:es la riqueza natural total de la zona que el hombre habita</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N</a:t>
            </a:r>
            <a:r>
              <a:rPr b="0" lang="es-MX" sz="1600" spc="-1" strike="noStrike">
                <a:solidFill>
                  <a:srgbClr val="000000"/>
                </a:solidFill>
                <a:latin typeface="Arial"/>
                <a:ea typeface="Calibri"/>
              </a:rPr>
              <a:t>:representa lo que comúnmente se llaman “recursos naturales”</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A:</a:t>
            </a:r>
            <a:r>
              <a:rPr b="0" lang="es-MX" sz="1600" spc="-1" strike="noStrike">
                <a:solidFill>
                  <a:srgbClr val="000000"/>
                </a:solidFill>
                <a:latin typeface="Arial"/>
                <a:ea typeface="Calibri"/>
              </a:rPr>
              <a:t>es riqueza artificial, todo bien o producto material hecho por el hombre</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Calibri"/>
              </a:rPr>
              <a:t>T</a:t>
            </a:r>
            <a:r>
              <a:rPr b="0" lang="es-MX" sz="1600" spc="-1" strike="noStrike">
                <a:solidFill>
                  <a:srgbClr val="000000"/>
                </a:solidFill>
                <a:latin typeface="Arial"/>
                <a:ea typeface="Calibri"/>
              </a:rPr>
              <a:t>:es la totalidad del esfuerzo humano, físico e intelectual: el trabajo social</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3 Rectángulo"/>
          <p:cNvSpPr/>
          <p:nvPr/>
        </p:nvSpPr>
        <p:spPr>
          <a:xfrm>
            <a:off x="900000" y="1230480"/>
            <a:ext cx="7488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Una parte de N se destruye, pero mediante su trabajo de reposición, el hombre la restituye y la aumenta, pero que crea nueva riqueza, que antes no existía. Este es otro concepto básico: por eso el trabajo T es creador y transformador, es un multiplicativo, es un factor multiplicador de ambas riquezas.</a:t>
            </a:r>
            <a:endParaRPr b="0" lang="en-US" sz="1800" spc="-1" strike="noStrike">
              <a:solidFill>
                <a:srgbClr val="000000"/>
              </a:solidFill>
              <a:latin typeface="Franklin Gothic Book"/>
            </a:endParaRPr>
          </a:p>
        </p:txBody>
      </p:sp>
      <p:pic>
        <p:nvPicPr>
          <p:cNvPr id="429" name="4 Imagen" descr=""/>
          <p:cNvPicPr/>
          <p:nvPr/>
        </p:nvPicPr>
        <p:blipFill>
          <a:blip r:embed="rId1"/>
          <a:stretch/>
        </p:blipFill>
        <p:spPr>
          <a:xfrm>
            <a:off x="2050920" y="3429000"/>
            <a:ext cx="5170680" cy="259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8:15:21Z</dcterms:created>
  <dc:creator>GRUPO</dc:creator>
  <dc:description/>
  <cp:keywords>INGENIERÍA FINANCIERA</cp:keywords>
  <dc:language>en-US</dc:language>
  <cp:lastModifiedBy>Ivan Turmero</cp:lastModifiedBy>
  <dcterms:modified xsi:type="dcterms:W3CDTF">2017-06-02T12:05:28Z</dcterms:modified>
  <cp:revision>39</cp:revision>
  <dc:subject/>
  <dc:title>DII</dc:title>
</cp:coreProperties>
</file>