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  <p:sldId id="269" r:id="rId51"/>
    <p:sldId id="270" r:id="rId52"/>
    <p:sldId id="271" r:id="rId53"/>
    <p:sldId id="272" r:id="rId54"/>
    <p:sldId id="273" r:id="rId55"/>
    <p:sldId id="274" r:id="rId56"/>
    <p:sldId id="275" r:id="rId57"/>
    <p:sldId id="276" r:id="rId58"/>
    <p:sldId id="277" r:id="rId59"/>
    <p:sldId id="278" r:id="rId60"/>
    <p:sldId id="279" r:id="rId61"/>
    <p:sldId id="280" r:id="rId62"/>
    <p:sldId id="281" r:id="rId63"/>
    <p:sldId id="282" r:id="rId64"/>
    <p:sldId id="283" r:id="rId65"/>
    <p:sldId id="284" r:id="rId66"/>
    <p:sldId id="285" r:id="rId67"/>
    <p:sldId id="286" r:id="rId68"/>
    <p:sldId id="287" r:id="rId69"/>
    <p:sldId id="288" r:id="rId70"/>
    <p:sldId id="289" r:id="rId71"/>
    <p:sldId id="290" r:id="rId72"/>
    <p:sldId id="291" r:id="rId73"/>
    <p:sldId id="292" r:id="rId74"/>
    <p:sldId id="293" r:id="rId75"/>
    <p:sldId id="294" r:id="rId76"/>
    <p:sldId id="295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slide" Target="slides/slide14.xml"/><Relationship Id="rId52" Type="http://schemas.openxmlformats.org/officeDocument/2006/relationships/slide" Target="slides/slide15.xml"/><Relationship Id="rId53" Type="http://schemas.openxmlformats.org/officeDocument/2006/relationships/slide" Target="slides/slide16.xml"/><Relationship Id="rId54" Type="http://schemas.openxmlformats.org/officeDocument/2006/relationships/slide" Target="slides/slide17.xml"/><Relationship Id="rId55" Type="http://schemas.openxmlformats.org/officeDocument/2006/relationships/slide" Target="slides/slide18.xml"/><Relationship Id="rId56" Type="http://schemas.openxmlformats.org/officeDocument/2006/relationships/slide" Target="slides/slide19.xml"/><Relationship Id="rId57" Type="http://schemas.openxmlformats.org/officeDocument/2006/relationships/slide" Target="slides/slide20.xml"/><Relationship Id="rId58" Type="http://schemas.openxmlformats.org/officeDocument/2006/relationships/slide" Target="slides/slide21.xml"/><Relationship Id="rId59" Type="http://schemas.openxmlformats.org/officeDocument/2006/relationships/slide" Target="slides/slide22.xml"/><Relationship Id="rId60" Type="http://schemas.openxmlformats.org/officeDocument/2006/relationships/slide" Target="slides/slide23.xml"/><Relationship Id="rId61" Type="http://schemas.openxmlformats.org/officeDocument/2006/relationships/slide" Target="slides/slide24.xml"/><Relationship Id="rId62" Type="http://schemas.openxmlformats.org/officeDocument/2006/relationships/slide" Target="slides/slide25.xml"/><Relationship Id="rId63" Type="http://schemas.openxmlformats.org/officeDocument/2006/relationships/slide" Target="slides/slide26.xml"/><Relationship Id="rId64" Type="http://schemas.openxmlformats.org/officeDocument/2006/relationships/slide" Target="slides/slide27.xml"/><Relationship Id="rId65" Type="http://schemas.openxmlformats.org/officeDocument/2006/relationships/slide" Target="slides/slide28.xml"/><Relationship Id="rId66" Type="http://schemas.openxmlformats.org/officeDocument/2006/relationships/slide" Target="slides/slide29.xml"/><Relationship Id="rId67" Type="http://schemas.openxmlformats.org/officeDocument/2006/relationships/slide" Target="slides/slide30.xml"/><Relationship Id="rId68" Type="http://schemas.openxmlformats.org/officeDocument/2006/relationships/slide" Target="slides/slide31.xml"/><Relationship Id="rId69" Type="http://schemas.openxmlformats.org/officeDocument/2006/relationships/slide" Target="slides/slide32.xml"/><Relationship Id="rId70" Type="http://schemas.openxmlformats.org/officeDocument/2006/relationships/slide" Target="slides/slide33.xml"/><Relationship Id="rId71" Type="http://schemas.openxmlformats.org/officeDocument/2006/relationships/slide" Target="slides/slide34.xml"/><Relationship Id="rId72" Type="http://schemas.openxmlformats.org/officeDocument/2006/relationships/slide" Target="slides/slide35.xml"/><Relationship Id="rId73" Type="http://schemas.openxmlformats.org/officeDocument/2006/relationships/slide" Target="slides/slide36.xml"/><Relationship Id="rId74" Type="http://schemas.openxmlformats.org/officeDocument/2006/relationships/slide" Target="slides/slide37.xml"/><Relationship Id="rId75" Type="http://schemas.openxmlformats.org/officeDocument/2006/relationships/slide" Target="slides/slide38.xml"/><Relationship Id="rId76" Type="http://schemas.openxmlformats.org/officeDocument/2006/relationships/slide" Target="slides/slide39.xml"/><Relationship Id="rId77" Type="http://schemas.openxmlformats.org/officeDocument/2006/relationships/slide" Target="slides/slide40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7DD-5F81-4DBC-8A5A-EF3E6B10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3C88-A24D-43F5-BC9D-C0BDFBD4C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91F976-3A06-4021-B304-1905892B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9181D-1428-4C8C-95FA-29B1ABE2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AF25C9-42A6-4E7C-B3D9-16064CB2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BE3F9-39D4-4D9F-B6F3-2AF852E5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529D7-3EA5-426E-852D-7DF9A198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B70D0-30C7-4DC3-829D-F7B1AC42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B6B49-F93D-4D08-A415-EAD48D1D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28A2B9-048C-463D-9B22-287E4D6B0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26DB1-2CC4-42A9-8D5D-3729E90B9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01802-2137-4CDA-A3EB-EC6E866C6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A352-1C46-4E5F-9279-48F03E83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63D040-B68D-42BB-8427-E0279DD2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2519D4-2A7F-4A4E-A8C0-1F1B7A91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F19A67-84E3-4F91-9BE4-DD9E218B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98378D-EEB7-4531-B4E8-5D9855E8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404C28-6BF6-49D3-B732-2C11BE6C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F6EF1-6877-4482-8A04-B2A8355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110616-46F2-4B1D-AA4F-6D9B06F7C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1D3024-476C-449A-AD17-4D87993B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CBD392-2821-4E95-9C4C-6271D83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1A9D67-C477-448F-A8F3-0F807A16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246-CBCF-4627-ACA5-D7568322C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97D4C-2EBB-4D36-BE2C-67BA9CBB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FC33EB-5BF4-4652-8333-FE53B929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C47985-13D2-4009-9808-EC3D705E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52F5D-02C9-488C-BB35-87A4FFD9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BC89C-D2B8-49EC-8605-37DF6938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DCEC3-49D2-4692-86AB-356955C48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0984F-7519-482A-9320-5CF0EEDF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8F7DC-7B72-4CAA-ACB0-5357F9F40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647F2-7EFC-4598-8075-25ED0297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656AAC-2CC2-46B4-B236-0B69E84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072-7219-4F57-886D-88CCBCAC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4F9CBC-774E-4CD4-8741-08266C4D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21D9C-02D8-4C28-A0F8-23A233B17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DDE4F-189C-4DD8-93F9-DC06C02F1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F125A7-1A87-4ED9-BD87-F4BEDD48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C079A7-D93B-459C-9CD5-1EC5D13A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425EBE-144D-4B9D-BB90-0EDF8C1EC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4C5FE-C1E7-4D2E-96B8-3B79E08E7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F174F-D690-490F-941F-6135B220F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086E36-A770-49FF-AE8A-AFBE120A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355241-70CE-45A3-89CC-C14E20DB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E6489-0FDE-4607-A320-1D730608E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F2E22E-D71F-4798-9009-CF993BBDF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B768D-D400-44E2-8AFE-C7303EAB8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78550D-AB52-4D0A-976E-366BB5C87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CCBE0-927B-40E9-B1CE-D94351BA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EC815-067A-498C-B210-8F4DAB276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A91D9-9B7B-4735-93BE-969E2BEA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B7403-EDE5-49B1-ACD8-D5E1E5860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A50A9F-A82E-4C1F-BA11-4C31771F6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E71AD-AEA6-45DC-83EA-5D8E9C27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6980C4-A858-4639-A9D1-63593775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7AC3-AB21-4CA9-8C55-2C5EEDCC5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D55F21-3157-43A0-95E1-1A96695F3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5F01C-AEFD-4CDE-BA5B-7173CA1E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A4892-1526-4261-9C92-1789549F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C5346-CC1D-4E57-B63A-C598F66C4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901257-ABD0-44F5-B322-9B4246929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E5F76E-2158-47A5-B168-931D17AA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63DA9-5997-475F-9ABA-05AAF7097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792502-6FF4-4846-938F-F0F5A0EEC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CAC3E4-F979-4B9A-B451-0B24B3633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73DFB-F8E4-4CF0-B466-5BEBE502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2B2-F126-471E-9D27-77C96D410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61C658-2F1C-46A1-83D4-C65C586C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38802-A5B8-4CB2-9A72-967AB335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065D04-B1D1-4742-9F8D-549DF73E9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771978-23A7-4B4E-B3AA-8FBD4A9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34C2A9-3C10-407E-A062-E56EEBB0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98CC93-BC9D-4367-BB73-23DF07CF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1F6BD3-78AB-4DBA-A36A-58119916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79B7D-2586-44DB-9D37-774DB16AB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8274A6-FC39-46F1-A82C-FF509BE4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86919A-5B16-4599-870E-B15F5161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DDF4-2EA5-4A06-916C-4F7147C2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7AB6A6-CAA2-422F-8956-CF246B029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AD428C-2B05-41BD-A210-508A75B5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563A25-777D-49F5-9D92-12805B0C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DA82B-BAA9-4741-A8F7-B8966492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671A3E-A38C-4ACA-9F26-BFE6344C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151184-2FBD-4BF5-9D32-13D4C6551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0B3F44-68BD-4C71-8D79-174B0CA66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281BB-E06F-43D1-BC69-3BA72F2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2941F2-6F26-404A-8F75-A959F1728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1359EB-2F89-4582-95BD-D0404C125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00FE-EB69-4B0A-A3A5-90038307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88E98E-BC54-471B-A2D3-BA7F8A184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7A932-3A0F-4F4D-BFFA-3ED9184D5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EBA92-33FC-4FBA-9C89-98E9D919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7EEE11-4A25-4C5F-AAE4-C8CE78DF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91159-E54E-43AC-82BD-16F95C5F1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D414BB-4DE4-482A-A25F-E5FAF4A2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83B3FF-FBCF-4D05-8E56-97B9A731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6796B-8DAD-47DF-AC2A-6DEEE232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10679-9C29-4D2F-813B-536541C0C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6CFFA0-0F84-425A-AFD7-3A44093B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AA5E-A013-4B3F-93CF-3458593D7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2FDB4A-3413-4987-AA52-276228807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BD008E-2B2D-4961-8272-FDDD7248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FA5843-EB2F-43F9-B753-426D65508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529124-83E4-4491-8249-A9440110A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F67786-A924-42C7-9185-FBD4893D2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F69653-243B-4B94-90A6-EFF10631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385357-045A-4E3D-BEAD-9A21F535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8961F4-9D56-443C-AA70-67BF87A9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8A24D-EB0C-4B5F-A5D0-2A6B4D73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DE3656-77E0-465B-B1B6-B16B6D95D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CDF9-5BDB-4443-B5A7-24C4CBDDB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02D5D-889B-4F2A-BD0F-DFEA089B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C1D844-30E3-46E0-B7A1-7FE86C3D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EC268-C45C-43B6-A438-2470CB52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CF184-1AC1-486F-9F99-75EA3643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7B5476-65EE-4993-8415-111A209EF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FDD72-5B81-4AFB-94E9-090C336B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351843-E535-443C-AB80-A970713E8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1EEDA3-E6F5-4973-9F07-AB9035BA2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75E9F2-8169-40E5-A6AB-151C8BDBB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2A6FC2-E621-4790-AA2E-08EEB509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05625C-F3FC-48F6-BE29-0B089876F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5616-3C1F-45C5-A8B8-9EA2672A1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FFB5E-7BC4-403A-B3BD-60449ED26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546FD0-5498-40D7-9FB7-AEA54E1EB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907B20-3144-45B6-B7B9-6C87EAE8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E1907-6A5C-47FE-9D03-8A5DCC22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8AF0AF-BBCF-4B1E-8804-4E6A53A7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E09236-80C0-4ECA-9831-03F60987F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926215-9255-4EAF-BFB8-0B90C27BD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025732-4DDE-469E-B318-CFDE3A038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07B59A-DD77-4795-A500-A516E115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6E8998-E2EF-4420-A394-DD5706646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4910-4DEA-4AF4-A577-E1C71C897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482E3C-2254-46E6-84D8-6FBA43C7B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421902-58FA-4FA2-AF2A-5D0BA8E2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349405-5DF6-42DA-BA9F-87A336723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8EAF40-1FD2-4F0C-B7CE-83BA8FD7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98EAF-9329-4D42-BA1B-AC1E7508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09D984-9C59-4749-A827-4ED4BA6DA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2CE3BD-7ABE-44FD-A78E-32F276AE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D8BC64-78B0-4B0B-916D-FABE48BE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34AB59-5A5C-43E2-B1A6-8FC795ED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BD21AF-29C3-4861-ADC5-80D57C433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29AB-4D69-4EB5-A469-A713D2F5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51D22-84D0-46E7-BEDB-E65372FE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0D740F-9605-4F2A-B046-E421A74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EDCD35-0E14-48F8-A549-12D254056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BFE250-2EFE-4EA1-99F5-9B41A9AF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5B3EBB-4D9F-4116-966D-C2D88F3F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A60135-2396-45CE-A9AD-2C3B846E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95E2C2-C170-4B98-BB50-12729D33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FBBE84-D25D-495A-AF08-1237A003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24ED10-2DEC-4385-A33F-27172F390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B3DDD-B3EA-4F79-A625-A32F9C0B8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B517-2B4F-4F91-B863-DCE86EB7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9F21E9-63B9-4816-942C-5A6837A08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0E7962-3595-441C-9B3C-C3FD16C18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C790F-0E43-4D6B-990B-DA1D954D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7604CA-EFFE-42C5-BF2B-C45FC676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E0ECE8-F61A-437D-B55A-7B3B0C8A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914210-7221-4609-A6FE-3BFE4871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3B24E2-ABE5-4E0B-A4E2-B92BBBC9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4A53D5-CCE1-46B7-AECD-FAB01ADE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624617F-1173-47E7-B8C5-A8099BA6E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23EF0-CE51-4910-B90F-EB4D9921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050D5-445E-4787-88C8-5C746BE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8F28B-E3F1-4E44-ABA7-BC3CE79B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E3E416-2C25-4992-B5E1-6F1D3F7F6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A7C41C-5B9C-4B5F-906E-EF8D72197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FE9FAF-78FD-4CED-B095-E4894586A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1756C9-EA51-4F6E-A193-90FD07A9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3BB3BD-48C2-41E7-BF6B-C4E3A560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CC6DDE-A974-4252-813F-F9F716EF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14AA88-5CDC-4962-B53A-B82DA5B5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A6A2ED-7B9D-44C7-9D0B-E309C190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E1D980-DC82-4D86-BCF4-448B47CF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4F414-3271-40A3-9B6E-06B86324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8B10F-DA42-49C8-B33A-629AE432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F5CE83-1EE1-45A4-9DED-A7030CCDB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533BB6-5D50-43EB-8920-11F053EC1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8C15B0-57D9-4166-9863-B14E80B2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7609FB-5006-4ED8-B341-164B21CF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EC027F-FBF2-4480-B38F-888EE5A88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DF864C5-4082-407E-B04A-5D24EF39F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CB5205-2797-4E84-AF54-369EC275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A906B1-F666-453D-892E-9EB7F01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47AF3D-DA42-4FEF-B789-0053D27F3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D0C9C-DDDC-4C84-8B13-CEA0FBF2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9CA4F1-73F0-45C1-91E4-E281A5BEA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91D474-05EC-4A09-8236-AFFAAEF3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371F16-DC88-42D1-B039-CFB26995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1ECB78-BFEA-4019-A7BD-B11EF0DE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631F8B-93CD-48D6-9576-EEDBCE870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76BB1B-18BB-42F0-A373-111AFF61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1EA490-FF73-4223-8BAD-E1FB4F36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8850076-7F27-4078-9433-83E579F4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3AF6BCE-F437-4C23-86D8-E1C08E1E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938AC9-E582-4C1C-9471-96B7A45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62B91-CD4F-49B1-B818-9C0820A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2DBC6D-32CF-40D9-80A1-BBC1A1D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0CB10D-2B1C-4CDE-BDA7-E977F68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2DE260-CAE1-4592-BD04-94627C728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81EC20-4BE6-4CF3-BA2A-FEA2DF03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AC8DE7-EC22-42E6-9674-23D6EB59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E3C505-161A-4430-9DFD-50E60C15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2D4B3B-A9E3-41CB-B87E-D13142A43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B3DA4A-DE68-433D-83A6-06821E51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296D5EA-4904-4C46-80F2-15F58BC38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A507BA-0D77-43E4-9DB8-C45FE14D9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F6609-C45E-49C5-A877-1D4F0E50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D42821-AD2B-4DD0-AF98-AF60DCFB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49F707-BF46-42D5-B214-564A8CB82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65BFEC9-2BB5-425A-B7D3-23D012E75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8F5137-B5BB-4407-A233-CF73A48D8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D9B64-2C07-4637-A851-1412BF2F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1AC03D-5FC3-4A18-907F-23BE2D8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9D5CDE-F8F8-432B-971A-A197CB24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35A86FF-0266-431B-BDB3-48693DAC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06960D8-BCD5-4E31-A74C-05EFBD2E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95AC46-734D-43D6-82BA-856252050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E18-0A91-4DD7-B7B3-C973F60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914AA-EB2A-4EAD-9A85-82564F44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227619-C4FE-42B7-A5CB-0E4356DF7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66231A-CED9-435C-BE4F-E0788E38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974A96-2938-4F71-BBF7-4C827B43B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530723-FB08-44C6-BA33-3F51A7B4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83C2E2-B332-4262-9FFE-BD86C8769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DB7007-AB8E-4244-9D0E-341D4121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026700-0C6B-4C3B-B5F0-918B95D1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A8E643-EAEE-42A6-92EF-EAE7ADE7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0EC9D6-5FBF-4B57-A3C0-6B8E62946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D28097-A768-44FC-9767-10F1B7C2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B8832-5CBC-4160-BD8E-3EF60B93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176E443-A94C-4834-A5CE-4F4A97A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51866F-317C-49D1-8CD1-94DC8F35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B95007-67C5-488E-8809-157B4FFC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03AC45-39FC-4227-BB79-23E2D6EC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D01495-1874-4A27-BA86-CD5B89F9F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75A796-3E63-487D-9EE3-DC2820C7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1F5033F-B2BA-4677-B85E-31525B2D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3E3B30-E09E-4848-B00A-0EE71BF8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1FE5510-3DE4-4D25-BAE0-A9C12A5C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83B0C7-373E-49E0-AD24-0C710826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F74F-C2CA-4F0F-BD3F-ED5D3146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C0639C-C743-4863-8412-AA12AC47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CE8E84-0551-4D5F-84ED-61AB83929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79822B7-7BA5-48D4-88EC-DBEA2958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8199F74-6AEA-43CE-B436-16F679E0D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8E9C41-C15A-44DB-B4A2-13F36CCED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AB7B541-CE6B-4978-A2A1-884D01266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2E0E977-CC40-40D1-8DCD-3567FBB7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324251-A6D4-4602-BA92-D334B167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470487-3598-4BE0-91F3-9550171D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897EC5-FB64-4D61-9586-078CF7E1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C2C2D-D020-442B-A88F-6AA9E06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AFCE5E-543D-41D0-AD1D-0BD4DBE8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4EFA89-5450-4B4A-A6A3-73CD3589A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9097CE3-BE8F-413E-9CC4-93025A9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EB0B9E-5AF7-43D7-9FC2-35A2A7D6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10C2DF-AA99-4EB4-8587-68B0E893E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1B938C-206E-4208-89A4-C1A584C7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0D4FCB0-226A-4A98-B4CE-F2173A2B7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AE05F88-25B8-4C4B-ACAF-D4E8A567E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46B15A1-B5E3-43BA-B860-D11DE49D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3FA7C7-57FC-4C2F-A9E1-5CF480E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9310F-E047-42D1-9FE4-A03287BA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1A22EA-AAA9-4038-9FC9-DC203F6E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35012F-9FE6-4061-BA1E-FE033ECA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739EC1-0AA8-479F-B80B-3F33D63F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DF0F3B-82D3-4892-B452-D5F08C51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C13449-7450-40E3-A47D-37F42071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44558AD-41DB-444B-A404-39A444CE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12DD74-9DE8-43F2-B625-A7AFF6C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08A784-EBE7-4153-8749-C61109C7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0D3B8D-C8E4-4AB8-B476-0688A994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F9CBF9D-C22F-4F83-8A1B-B33B0647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DDFCA-066F-4366-9EF2-56BA5503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6F5ACD-942B-4A53-8AA4-6DCBDA23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3EF99B-4F31-4942-BAC2-1DBCD63E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AA6EC6-7A88-4006-9444-D18FE06C9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3C9EC9-9F10-4CF2-8EA2-2F5F456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C8FA46-AFDC-4DB0-B0E6-90B67E65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CA2F9A-7C33-498A-BE81-4F352BA5F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08FF2FF-DFEF-4379-AD18-CDFB9974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EBC81E-7FF8-4634-A74A-35BDA80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1DF311-A97E-41E4-AB3E-0A7602E5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6464B78-B0F4-4F29-B435-9195A40F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E312-C9F8-4699-878D-88016E7B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293EFB-CA16-4E72-B981-ECCE720CF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5203AA7-C72B-4BC9-88B1-6A77701D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DB32604-E070-44A5-BCF3-5C5EB820C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3353D5-389A-4523-B487-230F85E5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69C2F3-C995-4BA7-ACA7-1AC9123D1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62CC42-343C-47DB-9080-75AC7FD8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E9D2660-8459-4BD3-B63E-559AE91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69D3217-3017-4A62-9BDF-0EFACA8D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5D3A7C-7954-4C24-B802-3F97B81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22A7086-69B6-44BD-B665-5D4B22B5F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578EA4-9CB6-4A5B-A61F-79AF45700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C2A073D-FD7C-4B1F-816C-C077E02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D9B8681-F0D9-45B1-895F-7350FA21D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BC9685-0EA7-409D-AC26-5704DA5E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727AFDB-6226-4C65-B0C4-633C1386E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0538CFD-65D7-4A04-BC02-675386DC2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31DF684-636E-4D9A-909B-04263D9D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91699C-98B0-4471-8393-8D7999B7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1699F90-FA5C-4980-BBB6-8686C2163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D6EC18-D498-46A3-BFAF-AD21A555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76F206-C645-4AFB-AD0D-8327A3B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036EA-C40A-4C58-BA6F-CB236279F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F02D184-CABE-42C3-BF12-499ECBAE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0D3ACEE-1003-48AE-9286-9C910A6C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85E86C9-983D-43F3-B2F8-4BA8DC5A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63DBC2-32F8-457D-97E6-0A0931C5A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68959C4-0ABB-4C0A-ADA3-1A802D0FE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359BEED-4B04-4B6E-BC6E-5C0EBCF2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7BE1DE-20F3-47A4-B609-2DF4F6CF5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BDA62E-78FC-4223-BA13-2944DBD1B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C0357E-6646-4F35-9876-D34490FED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A2683B7-7176-4575-8815-1F2B53DEC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FB33C-EBF8-4169-B3A5-E07EDBA0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99EE3AB-0ACF-4948-959E-A1C808E5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E52BF1-E587-4201-A41E-FA6E4303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CE29996-07BF-4E61-BED0-25680965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E73076-999D-4063-B319-12BB7828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045CB2-F15B-425C-94B7-711A4514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81AC304-BD9E-45D2-923A-190335F1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C561AAC-27D6-45DC-A302-B05548D9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5870343-E070-4D21-AC68-DD4DC59F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6DA6EDE-A403-456A-AF97-FF20723B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76F58E4-8087-4BE6-8516-0FD0D6AA3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4995-4FA4-4280-B175-6702AA67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3744-7AB4-4F2C-B16F-EE88C48E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685A39-5AE9-40BA-8682-76D143BDE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485FEC3-D3A8-4187-A1C9-EC343038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242C0ED-4420-4375-B321-5FAFE052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63F7FAC-3439-4B7C-8136-7FC54BB0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ECA1D0-421C-4E82-A805-FE45EFC7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61774A6-7C76-40E4-9A1B-4D341A23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7A525AC-7575-4DA1-BCE5-4C304AC1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D698C1-928F-4960-B167-D785EBE80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D1FFA5-9E6D-44DC-B095-FA735752A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5BAD17-2F54-4EFB-974A-4A39C0B8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0402C-D45E-49E7-BE45-1598DD87E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5366EB3-1707-4788-88C2-B6B3F6DF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3EB6C96-F0BE-43E5-83F0-720FE9A9E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03B5EC-E3D4-4472-BC14-7902301F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BC15DC-6F21-4386-9E8E-11825D7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8A8216D-316F-479B-92F8-27D77931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D52C4F-111B-4007-AC7C-F2AEE06F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D29C916-FA6F-423F-94C5-C39D6CDA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2A20346-BB55-4E1A-A147-74708CD16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DE1B4B6-BB80-44EB-8745-A131899D2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C65B30C-3218-4F30-83CF-0158612F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CC8EF-99C3-4153-B7BE-081BE867E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8D5214A-A116-4691-B1C6-4286B0E1A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139F70-7F66-48EE-8AE5-FF55678D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78E4E9-650D-4CD7-9F8E-20A6BE08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BC7FBC-23A1-4B9C-8364-834A9CDD4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26F111-BFA5-4872-817F-FA3F8F056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E12DC23-9250-4BC1-9F99-63709987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142995-773B-4109-8976-E50AC235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D5BB971-1405-4771-A2CE-C6838D13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7ED933-226B-4325-96B4-AFA25297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0D989FD-E4B1-421B-9F75-5DFC139A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0F911-FBB0-4C63-8141-BA04C8BF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45D550-4C2F-462E-822C-E95FA3633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8E4A56-EAED-410F-88CD-B9163A2C1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B11D0D5-8B19-419F-A188-F2254A6B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E49A2-088B-4C9F-9703-1DC373E6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13DB8-DD09-4F68-A438-3BA5E483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FC9B9-8D51-4784-B8FD-00B9E1A8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9DDD3-9FEC-41FA-947F-934440203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6282-3953-4238-9A2C-983933CAD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4C77D-4EF4-40C7-8B9B-D445C49A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8543-2DEA-49C7-98A3-3BB3EE08A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76EFD3-6D31-4AC9-ABC3-86D6FB5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AE387-0478-43AE-AF9B-790433DB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216F2A-B047-4704-B012-73E60046D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8BF7-9022-48B0-9BA5-B300FEBA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E58F-7F40-4137-B85A-437D43D3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301822-DD59-4842-BF75-353CD4FC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03017-497B-448D-A865-5B50B8D75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651FE-5ED3-447E-8E58-42665850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F10908-03A9-4040-AB64-75A0F9AFF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1113B5-FC5D-40BE-B997-AB49F73DE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25E1-51AB-49C0-A10C-A4C41704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26DD5-E823-4D6D-8C2B-FC466BDC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AAA21C-1A26-47C0-8F7B-2807A9D0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FB496-511A-48BA-AEAB-DFD398C4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FA5DC-62C9-4703-97C8-8EF7AB49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B2B93-C633-4161-9C64-A5F9DE588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DD77C-F3B8-44AF-97B6-A174C19F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F2621-D544-4FEF-BC53-4F51A7186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7056-3FE4-4683-B685-34449D4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089A-0037-4E0A-B071-3DDB197B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6E648-73B4-41B2-ADF6-E72D47F3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C53-9F8A-4F6A-A0B1-ABA58015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895D4-4564-4C15-A660-356C0760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7AB9F-B169-4AAC-BC97-A27B06F6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70C66-4987-4E62-B949-40ABC0733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3FABF-3968-4AA6-BEA8-F3FF6BE3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BD61D7-0FA3-4D4B-95EE-602527D7F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37ACA-4630-4F07-8BE4-ACC020F9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F9733-FB19-411F-B5A2-E7F7C053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1E1E1-B6BF-4A01-864D-FB813547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E204A-CE76-441E-B6FC-DAC84F4F0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44CED2-9444-4B46-B9DD-9E26FB7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9828-4801-4532-8775-A6C9EF30A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CD5BC-F61F-4D7A-AF4D-FDF651C5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C3928-9BBD-44E6-B672-8C2CA1C2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142C-CF92-4854-ADAC-8EF36D21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53282-644B-4A0F-B892-8E99896FE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1C08D5-71EC-4CD4-A84F-0F6888F53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6DAEE-7FAB-4788-824D-28946A50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A6C03A-439C-4EAA-9680-6E320A90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4520A-7F18-4D40-B321-9DC913C05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088741-8549-44C9-91E8-DF437418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34ACC-03EF-4A04-856C-985F445B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F101-95CC-48D2-8FEA-87DEFDDA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D1462-4849-4D56-A913-09DAE95E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66911-E5D6-47FB-90A5-E703098B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92A29-0CFE-40D3-946E-EC5196C2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7754B-CD8D-4552-B90C-4BA171456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43291-15E9-4E08-9F65-2802E700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6A210-5B85-45D3-AB0A-BA2572F1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B1DC9-1A9C-4AF9-8A89-FFB1A316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0B1EA-5208-4CDC-9FE0-574183C3B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60893D-1114-4B55-9442-65FCE686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B57A-06BC-4AA7-A279-0FCE58F2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FC02-1A4F-415B-8E0A-E63F7532A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710E-6929-451A-AF21-C7295A60B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7D88-24F8-4570-9A6E-18D05EC2BE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4DDB-14BF-40AE-9DE9-167CE30F0C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A901-DE92-4366-8902-BB51E05878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A0A4-CC5A-4F1C-9573-0FF094AEB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CEB5-E7BE-4189-8C42-FFD1028FC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4875-6C2A-4E7C-A96D-F41455270B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59A-439F-4B7E-8A75-286B53981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7499-FEC6-44F7-BEA3-A522FEE824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B18A-E548-4656-933F-88ACAFF0F1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C1667-52C5-4105-B6C6-FD11F33C0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0342-6AD6-441F-80A4-C9A6CBACC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154A-F07B-4B07-A60A-3B3A4FBBC5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EDDF5-89E5-4CC6-9A15-DAA37C1B1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298B-F712-42BB-90ED-63DA6FD51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4849-4FA5-4C5D-B8F0-051736B5B4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4017C-0397-455E-8081-7543BDA106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60E9-8782-4200-AB60-8C363C8CB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3DFA-6E24-465F-B374-B0BA57AF5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3747-F01C-4E4C-9CC0-D9C767765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90AD-6BAC-4613-98AC-4073C4C91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E4E-B494-47FE-8112-B3A1DA09B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3E7B-68CA-427D-9E65-A6DD7AFF47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FB738-298E-4D19-8F24-2CAA1F01B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84A7A-17CE-4580-B939-65F681FF7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2603-95C2-4E79-88E3-B16617294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83A4-951A-4CD4-8C96-E3695AD3E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FF26-4654-4B9B-BD61-6281886A48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F186-2926-43E2-86CD-F82F41B40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6E9B-D69F-448C-B5BD-D69C751857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43C-4020-4956-BAE3-B6B22B801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735B-3751-4C96-8323-F8622A4F8E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E677-8B87-4419-AE10-1C6F1FD397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75F4-B7FE-4BC9-8BA1-0733594C1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b4bb"/>
            </a:gs>
            <a:gs pos="100000">
              <a:srgbClr val="d6ecee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71FC-2F76-4383-96E4-849065B7D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subTitle"/>
          </p:nvPr>
        </p:nvSpPr>
        <p:spPr>
          <a:xfrm>
            <a:off x="0" y="21337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"/>
              </a:rPr>
              <a:t>El desarrollo social-emocional dentro del contexto de las rel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llazgos de la investigación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subTitle"/>
          </p:nvPr>
        </p:nvSpPr>
        <p:spPr>
          <a:xfrm>
            <a:off x="1066680" y="1828440"/>
            <a:ext cx="70106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ultura de la familia influye en todas las áreas del desarrollo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un bebé, incluyendo el área social-emo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5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uchos factores pueden afectar el desarrollo social-emocional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cluyendo retrasos del desarrollo o cuestiones graves de 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alud del bebé, o un ambiente que incluya múltiples factores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iesgo (por ej., la pobreza, el abuso de fármacos o de alcohol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blemas de salud mental en los adultos, violencia domést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16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comunicación de un bebé sobre sus sentimientos y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ecesidades establece las conexiones de aprendizaje en 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erebro que posibilitan todo el aprendizaje posterior, sea físico,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gnitivo o emo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Extraído de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eurons to neighborhoods:  The science of early childhood developm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0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); Emotional connections:  How relationships guide early learning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desarrollo social y emocional durante la primera inf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subTitle"/>
          </p:nvPr>
        </p:nvSpPr>
        <p:spPr>
          <a:xfrm>
            <a:off x="762120" y="16761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salud mental de la primera infancia, o sea el bienestar social-emocional infantil, es la capacidad que el niño desarrolla entre el nacimiento y los 3 años de edad para experimentar, regular y expresar los sentimientos; formar relaciones estrechas y seguras con otras personas; explorar el ambiente y aprender. Todas las facetas del desarrollo social-emocional se realizan en el contexto de las expectativas de la familia, la comunidad y la cultura para los niños peque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apacidad que se desarrol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s recuerda el ritmo extraordinariamente rápido del crecimiento y los cambios durante los primeros 3 años de 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bebés y niños de corta edad dependen mucho de los adultos para ayudarlos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erimentar, regular y expresar los sent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medio de la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laciones estrechas, caracterizadas por 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ierno cuid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 los padres y otros cuidadores, los niños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pequeños aprenden lo que la gente espera de ellos y lo qu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ellos pueden esperar de otr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desarrollo social y emocional durante la primera infanc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impulso po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lorar y dominar el ambiente de un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es innato en los seres humanos. La participación activa de los bebés y niños pequeños en su propio aprendizaje y desarrollo es una faceta importante de su salud 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 el contexto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familia y la comunidad,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los bebés y niños pequeños aprenden a expresar y comunicar sus sentimientos y experiencias a cuidadores importantes y a otros niños. Aprenden a percibirse a sí mismos como individuos aptos, competentes y valor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fluye en todo aspecto del desarrollo humano, incluyendo en la comprensión de la salud mental infantil, las metas y expectativas de los adultos para el desarrollo de niños pequeños, y las prácticas de crianza y educación utilizadas por padres de familia y cuidad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ZERO TO THREE, 2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1625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Tres elementos claves del bienestar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social-emocional durante el primer año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1828800" y="2286000"/>
            <a:ext cx="55627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Formar relaciones estrechas y seg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erimentar, expresar y regular los sentimi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plorar el ambiente y apren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auto-regulación y el estrés durante los primeros meses de vi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2" name=""/>
          <p:cNvGraphicFramePr/>
          <p:nvPr/>
        </p:nvGraphicFramePr>
        <p:xfrm>
          <a:off x="0" y="1752480"/>
          <a:ext cx="9144000" cy="514188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68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ios de la auto-regul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ios de estré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413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spiración regular; temperatura calurosa del cuerpo; color constante de la pie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stezar, babear, tener hipo; temperatura fría o piel fría y húmeda; piel pálida o con manchas de colo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206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en tono de los músculos; puede levantar los brazos y las piernas en contra de la graveda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o tono de los músculos; agita los brazos o las piernas descontroladamente o no puede levantarlas en contra de la gravedad; estremecimien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018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despierta o se duerme fácilmente, con poca ayuda o consuelo; cuando está despierto, a veces está tranquilo y alerta, a veces activo y alerta; puede tranquilizarse después de llor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despierta llorando fuertemente; no puede relajarse para dormirse o se duerme de repente en medio de ruidos y conmoción; tiene problemas para enfocarse cuando está despier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10952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susta brevemente con los ruidos fuertes pero recupera la tranquilidad; tolera ser manejado aun durante los cambios de pañal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indent="-22860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susta con los ruidos, las luces y el toque de su piel, y no puede tranquilizars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strategias para ayudar la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uto-regulación de los beb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914040" y="190476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ener sus brazos y piernas envolviéndolos estrechamente, abrazarlo y sostenerlo cerca del pecho y los latidos del coraz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veerle algo para chupar: un chupete, su propia mano o de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mitar los estímulos del amb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yudar al bebé a despertarse o a dormirse meciéndolo, abrazándolo, tocándolo suavemente, hablándole en tonos suaves, cantándole una    canción o cantándole en tonos monót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ocarlo de manera firme pero su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ctividad de grupos pequeñ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El tempe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2"/>
          <p:cNvSpPr>
            <a:spLocks noGrp="1"/>
          </p:cNvSpPr>
          <p:nvPr>
            <p:ph type="subTitle"/>
          </p:nvPr>
        </p:nvSpPr>
        <p:spPr>
          <a:xfrm>
            <a:off x="1066320" y="1599840"/>
            <a:ext cx="7086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ece verse afectado por factores biológic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 más o menos constante a través del tiemp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fecta las reacciones de un niño ante otras personas y el ambi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racterísticas del tempe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do de activ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suele estar activo o por lo general está cal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tmos biológ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posibilidad de predecir el hambre, el sueño y la eli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rcamiento o reti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maneras de responder a las situaciones nue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 de áni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tendencia a reaccionar con un estado de ánimo positivo o negativo, serio, quejumbros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nsidad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energía o intensidad de la reacción emo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omodidad con varios grados de estímulo sensorial: sonidos, intensidad de la luz, la textura de la ropa, sabore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apta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facilidad de manejar las transiciones o los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ejo de las distr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facilidad con que se distrae a un niño de un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sist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cantidad de tiempo que un niño continú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con una actividad que encuentra dificul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ipos de temperamen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1" name=""/>
          <p:cNvGraphicFramePr/>
          <p:nvPr/>
        </p:nvGraphicFramePr>
        <p:xfrm>
          <a:off x="0" y="1447920"/>
          <a:ext cx="9144000" cy="5410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536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lexi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edo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nérg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0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tmos regula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dapta lenta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do de ánimo pos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reti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imientos inten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apta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distrae fácil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870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 intens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868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ca sensibilid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re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864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ne cambios grandes en el estado de áni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Objetivos de aprendizaj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subTitle"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rticipantes podrán describir los elementos del bienestar social-emocional de bebés y niños de 1 y 2 años (cimientos para lograr objetivos en el nivel preescolar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rticipantes podrán describir los conceptos claves sobre el desarrollo que afectan el desarrollo social-emocional de bebés y niños de 1 y 2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rticipantes podrán describir la importancia singular de las familias para el desarrollo social-emocional de bebés y niños de 1 y 2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rticipantes podrán describir la importancia de la auto-conciencia de los cuidadores para el desarrollo social-emocional positivo de bebés y niños de 1 y 2 años y para apoyar a las familias que los crían y educ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participantes podrán describir las necesidades social-emocionales claves de bebés y niños de 1 y 2 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* Los participantes podrán describir la importancia de las relaciones para el desarrollo social-emocional de niños entre el nacimiento y el tercer cumpleañ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Tipos de temperamentos</a:t>
            </a:r>
            <a:br>
              <a:rPr sz="32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exible, miedoso y enérg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3" name="Picture 7" descr="flexible"/>
          <p:cNvPicPr/>
          <p:nvPr/>
        </p:nvPicPr>
        <p:blipFill>
          <a:blip r:embed="rId1"/>
          <a:stretch/>
        </p:blipFill>
        <p:spPr>
          <a:xfrm>
            <a:off x="533520" y="167652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514" name="Picture 6" descr="feisty"/>
          <p:cNvPicPr/>
          <p:nvPr/>
        </p:nvPicPr>
        <p:blipFill>
          <a:blip r:embed="rId2"/>
          <a:stretch/>
        </p:blipFill>
        <p:spPr>
          <a:xfrm>
            <a:off x="6172200" y="167652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8" descr="fearful"/>
          <p:cNvPicPr/>
          <p:nvPr/>
        </p:nvPicPr>
        <p:blipFill>
          <a:blip r:embed="rId3"/>
          <a:stretch/>
        </p:blipFill>
        <p:spPr>
          <a:xfrm>
            <a:off x="3124080" y="2971800"/>
            <a:ext cx="292572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aracterísticas del temper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rado de activ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suele estar activo o por lo general está calm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itmos biológ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posibilidad de predecir el hambre, el sueño y la elim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ercamiento o reti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maneras de responder a las situaciones nue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stado de ánim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tendencia a reaccionar con un estado de ánimo positivo o negativo, serio, quejumbroso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nsidad de re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energía o intensidad de la reacción emo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nsi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comodidad con varios grados de estímulo sensorial: sonidos, intensidad de la luz, la textura de la ropa, sabores nue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aptabi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facilidad de manejar las transiciones o los camb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nejo de las distrac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facilidad con que se distrae a un niño de una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ersist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– la cantidad de tiempo que un niño continú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con una actividad que encuentra dificult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838080" y="2666520"/>
            <a:ext cx="73915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Folleto sobre la consideración del temper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desarrollo social y emocional durante la primera infa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alud mental de la primera infancia, o sea el bienestar social-emocional infantil, es la capacidad que el niño desarrolla entre el nacimiento y los 3 años de edad para experimentar, regular y expresar los sentimientos; formar relaciones estrechas y seguras con otras personas; explorar el ambiente y aprender. Todas las facetas del desarrollo social-emocional se realizan en el contexto de las expectativas de la familia, la comunidad y la cultura para los niños peq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capacidad que se desarroll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nos recuerda el ritmo extraordinariamente rápido del crecimiento y los cambios durante los primeros 3 años de 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bebés y niños de corta edad dependen mucho de los adultos para ayudarlos a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xperimentar, regular y expresar los senti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r medio d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s relaciones estrechas, caracterizadas por el tierno cuidad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con los padres y otros cuidadores, los niños pequeños aprenden lo que la gente espera de ellos y lo que ellos pueden esperar de otras perso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l desarrollo social y emocional durante la primera infancia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impulso po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plorar y dominar el ambiente de un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innato en los seres humanos. La participación activa de los bebés y niños pequeños en su propio aprendizaje y desarrollo es una faceta importante de su salud 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el contexto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familia y la comunidad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bebés y niños pequeños aprenden a expresar y comunicar sus sentimientos y experiencias a cuidadores importantes y a otros niños. Aprenden a percibirse a sí mismos como individuos aptos, competentes y valo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cul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fluye en todo aspecto del desarrollo humano, incluyendo en la comprensión de la salud mental infantil, las metas y expectativas de los adultos para el desarrollo de niños pequeños, y las prácticas de crianza y educación utilizadas por padres de familia y cuidadores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ERO TO THREE,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s relaciones de ape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apego es un patrón de interacción que se desarrolla a través del tiempo a medida que el niño pequeño y su cuidador/a se relacion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 type="subTitle"/>
          </p:nvPr>
        </p:nvSpPr>
        <p:spPr>
          <a:xfrm>
            <a:off x="2209320" y="2819520"/>
            <a:ext cx="4800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Las relaciones de ape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tinuidad en el desarrollo entre el nacimiento y los 15 meses: Indicios social-emo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9" name=""/>
          <p:cNvGraphicFramePr/>
          <p:nvPr/>
        </p:nvGraphicFramePr>
        <p:xfrm>
          <a:off x="0" y="2133720"/>
          <a:ext cx="9144000" cy="52578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g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anza y segu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-concienci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dad y amor prop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ación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nomía e indepen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bé (del nacimiento a los 15 mes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ecién nacido reconoce el lenguaje humano y prefiere la voz de su propia m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las caras hum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imera interacción social es sonreír y mirar a quien lo m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leja de un adulto andando a gatas pero vuelve a mirarlo, lo llama y hace gestos para mantener el contacto con é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iende las manos para ser levan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a adultos cono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ansiedad en presencia de personas desconoc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una cobija o un animal de peluche para sentirse seguro o reasegu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principio se chupa las manos sin darse cuenta, luego progresa para observarlas atent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ta hacer que algo ocu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 o patea cosas para lograr que pueda seguir viendo o escuchando algo agrad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habla a sí mismo cuando está s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ser sostenido por personas conoc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ta comportamientos de adu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 el propio 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ende instrucciones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e el pulgar o la mano a la b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escuchando la voz de su m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 las propias ma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bucea usando todo tipo de so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algunas palabras en combinación con el balbuceo para formar fr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 un adulto lo hace saltar sobre las rodillas, intenta continuar el juego moviéndose para que el adulto vuelva a hacerlo sal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sentimientos fuertes (enojo, ansiedad, cariñ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tinuidad en el desarrollo entre los 12 meses y los 2 años y medio: Indicios social-emociona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1" name=""/>
          <p:cNvGraphicFramePr/>
          <p:nvPr/>
        </p:nvGraphicFramePr>
        <p:xfrm>
          <a:off x="0" y="2057400"/>
          <a:ext cx="9144000" cy="52578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g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anza y segu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-concienci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dad y amor prop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ación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nomía e indepen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416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bé (del nacimiento a los 15 mes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 recién nacido reconoce el lenguaje humano y prefiere la voz de su propia m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las caras human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primera interacción social es sonreír y mirar a quien lo mi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aleja de un adulto andando a gatas pero vuelve a mirarlo, lo llama y hace gestos para mantener el contacto con és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iende las manos para ser levan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a adultos conoc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ansiedad en presencia de personas desconoc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una cobija o un animal de peluche para sentirse seguro o reasegu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 principio se chupa las manos sin darse cuenta, luego progresa para observarlas atentam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ta hacer que algo ocur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ga o patea cosas para lograr que pueda seguir viendo o escuchando algo agradab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 habla a sí mismo cuando está so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fiere ser sostenido por personas conoci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ita comportamientos de adul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noce el propio nomb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iende instrucciones si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e el pulgar o la mano a la b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ue escuchando la voz de su mad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erva las propias man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bucea usando todo tipo de soni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algunas palabras en combinación con el balbuceo para formar fr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ando un adulto lo hace saltar sobre las rodillas, intenta continuar el juego moviéndose para que el adulto vuelva a hacerlo salt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sentimientos fuertes (enojo, ansiedad, cariñ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ntinuidad en el desarrollo entre los 2 años y medio y 3 años y medio: Indicios social-emocionales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3" name=""/>
          <p:cNvGraphicFramePr/>
          <p:nvPr/>
        </p:nvGraphicFramePr>
        <p:xfrm>
          <a:off x="0" y="2057400"/>
          <a:ext cx="9144000" cy="496080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84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da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go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fianza y segur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-conciencia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entidad y amor prop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loración</a:t>
                      </a:r>
                      <a:br>
                        <a:rPr sz="1600"/>
                      </a:br>
                      <a:r>
                        <a:rPr b="1" lang="es-E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utonomía e indepen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9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escolar (2 años y medio a 3 años y 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 jugar de forma dramát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más control sobre todo aspecto de sí m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esita la instrucción de adultos para llevarse bien con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be los sentimientos con palabras y mediante juegos simbó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más consciente de los sentimientos ajen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 planear para el fut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 evaluarse a sí mismo (por ejemplo, bueno, malo, guapo, fe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ta controlarse (por ejemplo, los sentimientos y el hacer de cuerpo o ir al bañ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e a turnarse en las convers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be mucho sobre la comunicación en el estilo de su propia 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 su propio nombre y los de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de contar a otras personas lo que ha sucedido el mismo d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ene un vocabulario mucho más grande para expresar id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iesta preocupación por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90360" indent="-9036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ifica, etiqueta y agrupa objetos y experi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1447920" y="182844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punte una cosa que Ud. quiere aprender hoy sobre el desarrollo social-emocional de bebés y niños entre el nacimiento y el tercer cumple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debería decir la leyenda al pie de esta fo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5" name="Picture 6" descr="relationships - caption activity"/>
          <p:cNvPicPr/>
          <p:nvPr/>
        </p:nvPicPr>
        <p:blipFill>
          <a:blip r:embed="rId1"/>
          <a:stretch/>
        </p:blipFill>
        <p:spPr>
          <a:xfrm>
            <a:off x="2255760" y="2265480"/>
            <a:ext cx="463248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debería decir la leyenda al pie de esta fo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7" name="Picture 1036" descr="distressed 1 captions activity"/>
          <p:cNvPicPr/>
          <p:nvPr/>
        </p:nvPicPr>
        <p:blipFill>
          <a:blip r:embed="rId1"/>
          <a:stretch/>
        </p:blipFill>
        <p:spPr>
          <a:xfrm>
            <a:off x="1905120" y="1981080"/>
            <a:ext cx="553536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debería decir la leyenda al pie de esta fo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1036" descr="distressed 2 captions activity"/>
          <p:cNvPicPr/>
          <p:nvPr/>
        </p:nvPicPr>
        <p:blipFill>
          <a:blip r:embed="rId1"/>
          <a:stretch/>
        </p:blipFill>
        <p:spPr>
          <a:xfrm>
            <a:off x="3276720" y="1828800"/>
            <a:ext cx="2666880" cy="40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¿Qué debería decir la leyenda al pie de esta fot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1" name="Picture 10" descr="distressed 3 captions activity"/>
          <p:cNvPicPr/>
          <p:nvPr/>
        </p:nvPicPr>
        <p:blipFill>
          <a:blip r:embed="rId1"/>
          <a:stretch/>
        </p:blipFill>
        <p:spPr>
          <a:xfrm>
            <a:off x="2819520" y="2057400"/>
            <a:ext cx="34290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85800" y="12949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bebé nace en el seno de una familia singular que tiene su propia cultura e historia, sus propias fortalezas y su propia manera de hacer frente al estrés y la adversidad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Rectangle 8"/>
          <p:cNvSpPr/>
          <p:nvPr/>
        </p:nvSpPr>
        <p:spPr>
          <a:xfrm>
            <a:off x="5123160" y="472428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Parlakian y Seibel, 2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066680" y="9903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as familias tienen la relación más constante e intensa con el niño. Los bebés y niños de corta edad aprenden lo que la gente espera de ellos y lo que pueden esperar de otras personas mediante las experiencias que viven con sus padres y otros cuidadores durante la primera infanc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Rectangle 8"/>
          <p:cNvSpPr/>
          <p:nvPr/>
        </p:nvSpPr>
        <p:spPr>
          <a:xfrm>
            <a:off x="5121000" y="4724280"/>
            <a:ext cx="25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Day y Parlakian, 200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 type="subTitle"/>
          </p:nvPr>
        </p:nvSpPr>
        <p:spPr>
          <a:xfrm>
            <a:off x="1523520" y="2819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Aprender acerca de expresar y controlar los sent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Factores que suponen dificultades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para las fami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1294920" y="2514240"/>
            <a:ext cx="66294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diciones laborales que permiten muy poca flexi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se pueden tomar días libres del trabajo para cuidar al beb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ca ayuda de otros familiares o veci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laciones dificultosas con la propia fam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buso de alcohol o fárma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olencia domés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 type="subTitle"/>
          </p:nvPr>
        </p:nvSpPr>
        <p:spPr>
          <a:xfrm>
            <a:off x="1523520" y="2819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Inventario de colaboración con las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1523520" y="281952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Mensajes positivos esenciales para cada ni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Picture 3" descr="pyramidenespanol.jpg"/>
          <p:cNvPicPr/>
          <p:nvPr/>
        </p:nvPicPr>
        <p:blipFill>
          <a:blip r:embed="rId1"/>
          <a:stretch/>
        </p:blipFill>
        <p:spPr>
          <a:xfrm>
            <a:off x="1568520" y="609480"/>
            <a:ext cx="6006960" cy="6248520"/>
          </a:xfrm>
          <a:prstGeom prst="rect">
            <a:avLst/>
          </a:prstGeom>
          <a:ln w="0">
            <a:noFill/>
          </a:ln>
        </p:spPr>
      </p:pic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Modelo de la Pirámide de CSE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Mensajes principales para </a:t>
            </a:r>
            <a:br>
              <a:rPr sz="3600"/>
            </a:b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levar a cas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 type="subTitle"/>
          </p:nvPr>
        </p:nvSpPr>
        <p:spPr>
          <a:xfrm>
            <a:off x="914400" y="2133720"/>
            <a:ext cx="739152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urante la primera infancia, el bienestar social-emocional se desarrolla dentro del contexto de las re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cuidadores aprovechan sus capacidades para ayudar a los bebés a expresar los sentimientos y regular su estado de ánimo, y a entablar relaciones estrechas y segur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 las familias los niños aprenden a experimentar y comunicar sus sent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ara apoyar el bienestar emocional de bebés y niño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 de 1 y 2 años, así como para apoyar a sus familias, necesitamos estar conscientes de nuestro propio            historial emoc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Definición de CSEFEL del desarrollo social-emo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 type="subTitle"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l usar el término ‘desarrollo social-emocional’ nos referimos a la capacidad que un niño desarrolla entre el nacimiento y los cinco años de edad para formar relaciones estrechas y seguras con adultos y compañeros; experimentar, regular y expresar los sentimientos de maneras social y culturalmente apropiadas; explorar su entorno y aprender. Todas las facetas del desarrollo social-emocional se realizan en el contexto de la familia, la comunidad y la cultu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cuidadores de un niño fomentan su desarrollo sano trabajando para apoyar el bienestar social-emocional de todos los niños pequeños, y hacen todo los esfuerzos necesarios para prevenir la ocurrencia o la intensificación de problemas de índole social-emocional en los niños que corren más riesgo. Identifican y procuran remediar problemas que surgen y, cuando es necesario, remiten a niños pequeños y a sus familias a los servicios apropi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Las relaciones son distintas de las interacc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subTitle"/>
          </p:nvPr>
        </p:nvSpPr>
        <p:spPr>
          <a:xfrm>
            <a:off x="990360" y="2437920"/>
            <a:ext cx="693396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s relacion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conexiones emocionale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erduran a través del tiempo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nen algún significado especial entre l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os personas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ean memorias y expectativ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las mentes de ambas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omplete el Inventario reflex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Arial"/>
              </a:rPr>
              <a:t>Hallazgos de la investigación asociados al desarrollo social-emocional de la primera infa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 type="subTitle"/>
          </p:nvPr>
        </p:nvSpPr>
        <p:spPr>
          <a:xfrm>
            <a:off x="990720" y="220932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ambiente y el cuidado se combinan para definir quién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mos como individu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eres humanos nacen por naturaleza con capacidades,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critas por ciertos científicos como aptitudes 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tivaciones de la primera infa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nacen con la capacidad para formar conexion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 otros seres huma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discriminan los sonidos del lenguaje oral cuan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todavía muy peque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reconocen las voces de sus pad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pueden corresponder el tono emocional de un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z con la expresión emocional de la ca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prefieren mirar las ca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Hallazgos de la investigación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(cont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subTitle"/>
          </p:nvPr>
        </p:nvSpPr>
        <p:spPr>
          <a:xfrm>
            <a:off x="1066680" y="19051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buscan el equilibrio físico y emoci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están predispuestos a hacer conocer su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ecesidades a alguien que los ayude a sobreviv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provocan sentimientos fuertes en los adul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bebés nacen con el deseo de dominar y explorar su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orno y participan activamente en su propi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prendiza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desarrollo cerebral de un recién nacido está diseñado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conectarlo con otros seres humanos que lo cuidarán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entor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erebro crece mediante las experiencias que el bebé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ive relacionándose con el mundo. Los padres y otro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ultos importantes son ese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7:11:39Z</dcterms:created>
  <dc:creator>Pablo Turmero</dc:creator>
  <dc:description/>
  <dc:language>en-US</dc:language>
  <cp:lastModifiedBy>Pablo Turmero</cp:lastModifiedBy>
  <dcterms:modified xsi:type="dcterms:W3CDTF">2017-07-02T13:59:05Z</dcterms:modified>
  <cp:revision>29</cp:revision>
  <dc:subject/>
  <dc:title>El desarrollo social-emocional dentro del contexto de las relaciones</dc:title>
</cp:coreProperties>
</file>