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132730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Img"/>
          </p:nvPr>
        </p:nvSpPr>
        <p:spPr>
          <a:xfrm>
            <a:off x="111240" y="685440"/>
            <a:ext cx="663552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12F0E-CA73-4960-B62F-AD49C6B201C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1240" y="685800"/>
            <a:ext cx="663552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V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CAE87-3E09-44BE-8323-2140F35A00D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1240" y="685800"/>
            <a:ext cx="663552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V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927C2-9718-413A-BB70-5BBF3067A5D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9997-85CC-4411-853D-A66905D71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3120" y="274320"/>
            <a:ext cx="1194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63120" y="1600200"/>
            <a:ext cx="1194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20" y="3964320"/>
            <a:ext cx="1194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9FA2-6342-484E-B6A6-A478A4BF1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3120" y="274320"/>
            <a:ext cx="1194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63120" y="1600200"/>
            <a:ext cx="5828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783840" y="1600200"/>
            <a:ext cx="5828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63120" y="3964320"/>
            <a:ext cx="5828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783840" y="3964320"/>
            <a:ext cx="5828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C19D-2555-489B-A4B9-EC151202E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3120" y="274320"/>
            <a:ext cx="1194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3120" y="1600200"/>
            <a:ext cx="384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01600" y="1600200"/>
            <a:ext cx="384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740080" y="1600200"/>
            <a:ext cx="384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63120" y="3964320"/>
            <a:ext cx="384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701600" y="3964320"/>
            <a:ext cx="384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740080" y="3964320"/>
            <a:ext cx="384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A870-6BAB-41A0-A699-3BCA97D17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2861F-E5B6-4B5E-B14C-F5AB232D7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63120" y="274320"/>
            <a:ext cx="1194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63120" y="1600200"/>
            <a:ext cx="11944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C2A74-A151-4024-B718-65D637290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63120" y="274320"/>
            <a:ext cx="1194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63120" y="1600200"/>
            <a:ext cx="11944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AEC78-E54F-4730-BBF0-BFE4021F1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63120" y="274320"/>
            <a:ext cx="1194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63120" y="1600200"/>
            <a:ext cx="5828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783840" y="1600200"/>
            <a:ext cx="5828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7F61D-4EFA-4BC5-BBEF-9974DAF1C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63120" y="274320"/>
            <a:ext cx="1194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687C0-E4AC-4C45-ACF2-97D445954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63120" y="274320"/>
            <a:ext cx="1194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14EFC-3642-4C6A-96EB-0420CC3ED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63120" y="274320"/>
            <a:ext cx="1194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63120" y="1600200"/>
            <a:ext cx="5828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783840" y="1600200"/>
            <a:ext cx="5828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63120" y="3964320"/>
            <a:ext cx="5828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A123E-65CF-4FAC-958C-A85311938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3120" y="274320"/>
            <a:ext cx="1194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63120" y="1600200"/>
            <a:ext cx="11944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B083-902E-4FBC-9B5E-D68D2C7B3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63120" y="274320"/>
            <a:ext cx="1194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63120" y="1600200"/>
            <a:ext cx="5828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783840" y="1600200"/>
            <a:ext cx="5828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783840" y="3964320"/>
            <a:ext cx="5828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5A1A8-CC7B-4C51-B743-B6A187DD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63120" y="274320"/>
            <a:ext cx="1194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63120" y="1600200"/>
            <a:ext cx="5828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783840" y="1600200"/>
            <a:ext cx="5828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63120" y="3964320"/>
            <a:ext cx="1194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87708-873C-4D7C-A5DE-9859855A5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63120" y="274320"/>
            <a:ext cx="1194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63120" y="1600200"/>
            <a:ext cx="1194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63120" y="3964320"/>
            <a:ext cx="1194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09EA4-5CFA-4BF1-900C-C25030B36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63120" y="274320"/>
            <a:ext cx="1194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3120" y="1600200"/>
            <a:ext cx="5828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783840" y="1600200"/>
            <a:ext cx="5828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3120" y="3964320"/>
            <a:ext cx="5828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783840" y="3964320"/>
            <a:ext cx="5828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E2CC5-4853-45D3-8CBF-1D7E8B994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63120" y="274320"/>
            <a:ext cx="1194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3120" y="1600200"/>
            <a:ext cx="384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01600" y="1600200"/>
            <a:ext cx="384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740080" y="1600200"/>
            <a:ext cx="384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63120" y="3964320"/>
            <a:ext cx="384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701600" y="3964320"/>
            <a:ext cx="384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740080" y="3964320"/>
            <a:ext cx="384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C8FE4-7557-4BDB-AAF4-7B6B602F3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08B1E-38BD-44A3-A4F0-066F67066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63120" y="274320"/>
            <a:ext cx="1194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63120" y="1600200"/>
            <a:ext cx="11944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A78A7-104D-4792-A1EA-B765CE232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63120" y="274320"/>
            <a:ext cx="1194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63120" y="1600200"/>
            <a:ext cx="11944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57038-3DEB-44D0-BA37-33EEFCA45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63120" y="274320"/>
            <a:ext cx="1194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63120" y="1600200"/>
            <a:ext cx="5828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783840" y="1600200"/>
            <a:ext cx="5828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A95E0-8220-4702-9097-5067725FE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63120" y="274320"/>
            <a:ext cx="1194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D0579-8675-4B1C-B362-B7B6C5E1A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3120" y="274320"/>
            <a:ext cx="1194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63120" y="1600200"/>
            <a:ext cx="11944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F7A3-A31A-483C-A08A-59AB57543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63120" y="274320"/>
            <a:ext cx="1194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2B6BC-B3FF-4D3A-8A56-AAE9865A8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63120" y="274320"/>
            <a:ext cx="1194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63120" y="1600200"/>
            <a:ext cx="5828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783840" y="1600200"/>
            <a:ext cx="5828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63120" y="3964320"/>
            <a:ext cx="5828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9E61C-D1B8-432A-91DA-EADDD76D6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63120" y="274320"/>
            <a:ext cx="1194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63120" y="1600200"/>
            <a:ext cx="5828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783840" y="1600200"/>
            <a:ext cx="5828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783840" y="3964320"/>
            <a:ext cx="5828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5DAA8-307C-4B1D-8AD9-401463F38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63120" y="274320"/>
            <a:ext cx="1194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63120" y="1600200"/>
            <a:ext cx="5828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783840" y="1600200"/>
            <a:ext cx="5828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63120" y="3964320"/>
            <a:ext cx="1194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4A144-6359-4AC4-B253-41AEBACB4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63120" y="274320"/>
            <a:ext cx="1194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63120" y="1600200"/>
            <a:ext cx="1194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63120" y="3964320"/>
            <a:ext cx="1194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85C76-FC74-4E49-BDBD-4A4A12DA4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63120" y="274320"/>
            <a:ext cx="1194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63120" y="1600200"/>
            <a:ext cx="5828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783840" y="1600200"/>
            <a:ext cx="5828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63120" y="3964320"/>
            <a:ext cx="5828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783840" y="3964320"/>
            <a:ext cx="5828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51EA6-EB4F-4C0E-A1A3-05284E50B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63120" y="274320"/>
            <a:ext cx="1194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63120" y="1600200"/>
            <a:ext cx="384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01600" y="1600200"/>
            <a:ext cx="384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40080" y="1600200"/>
            <a:ext cx="384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63120" y="3964320"/>
            <a:ext cx="384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701600" y="3964320"/>
            <a:ext cx="384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740080" y="3964320"/>
            <a:ext cx="384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2F311-CC19-4C56-BB70-FB54732D9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94BCF-AC83-4E2D-89C8-DE254EFC6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63120" y="274320"/>
            <a:ext cx="1194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63120" y="1600200"/>
            <a:ext cx="11944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FC1F4-7555-49C9-A010-B89446440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63120" y="274320"/>
            <a:ext cx="1194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63120" y="1600200"/>
            <a:ext cx="11944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857BE-3FB4-4DEC-82C2-21A9B5025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3120" y="274320"/>
            <a:ext cx="1194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63120" y="1600200"/>
            <a:ext cx="5828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783840" y="1600200"/>
            <a:ext cx="5828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F0AC-F98D-44E2-85D2-42439F375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63120" y="274320"/>
            <a:ext cx="1194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63120" y="1600200"/>
            <a:ext cx="5828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783840" y="1600200"/>
            <a:ext cx="5828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36026-D949-488B-A0EB-10CCDCDBA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63120" y="274320"/>
            <a:ext cx="1194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474BB-34A3-457A-8264-E06237AF3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63120" y="274320"/>
            <a:ext cx="1194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E46A2-F12B-4E32-B4D1-764A9E306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63120" y="274320"/>
            <a:ext cx="1194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63120" y="1600200"/>
            <a:ext cx="5828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783840" y="1600200"/>
            <a:ext cx="5828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63120" y="3964320"/>
            <a:ext cx="5828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52219-361C-41D0-A1E1-94ADF9BF6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63120" y="274320"/>
            <a:ext cx="1194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63120" y="1600200"/>
            <a:ext cx="5828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783840" y="1600200"/>
            <a:ext cx="5828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783840" y="3964320"/>
            <a:ext cx="5828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3F30C-E609-4AE3-991D-3F0969811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63120" y="274320"/>
            <a:ext cx="1194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63120" y="1600200"/>
            <a:ext cx="5828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783840" y="1600200"/>
            <a:ext cx="5828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63120" y="3964320"/>
            <a:ext cx="1194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6E4AB-FB84-4F99-9B3F-ACF0175F4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63120" y="274320"/>
            <a:ext cx="1194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63120" y="1600200"/>
            <a:ext cx="1194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63120" y="3964320"/>
            <a:ext cx="1194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F6390-185A-451A-BC70-731462EAD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63120" y="274320"/>
            <a:ext cx="1194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63120" y="1600200"/>
            <a:ext cx="5828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783840" y="1600200"/>
            <a:ext cx="5828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63120" y="3964320"/>
            <a:ext cx="5828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783840" y="3964320"/>
            <a:ext cx="5828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A6A37-C6C8-430C-A426-4D57CB052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63120" y="274320"/>
            <a:ext cx="1194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63120" y="1600200"/>
            <a:ext cx="384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01600" y="1600200"/>
            <a:ext cx="384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740080" y="1600200"/>
            <a:ext cx="384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63120" y="3964320"/>
            <a:ext cx="384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701600" y="3964320"/>
            <a:ext cx="384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8740080" y="3964320"/>
            <a:ext cx="384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2C50D-F654-42CA-A60D-C7807E471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BB7873-9935-40C3-A919-F4CEA377C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3120" y="274320"/>
            <a:ext cx="1194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1F05-D6BD-4F20-B3DF-46E886D4F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63120" y="274320"/>
            <a:ext cx="1194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63120" y="1600200"/>
            <a:ext cx="11944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489740-F8A8-4743-834A-2B996FAAF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63120" y="274320"/>
            <a:ext cx="1194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63120" y="1600200"/>
            <a:ext cx="11944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9352A9-3502-4369-A137-758B77924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63120" y="274320"/>
            <a:ext cx="1194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63120" y="1600200"/>
            <a:ext cx="5828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783840" y="1600200"/>
            <a:ext cx="5828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F45864-C83C-45BF-B85B-62B0C8497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63120" y="274320"/>
            <a:ext cx="1194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FEF8F3-C178-4212-BE39-4FF32E9ED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63120" y="274320"/>
            <a:ext cx="1194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F03027-2C4F-4408-B8A8-61262DBC0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63120" y="274320"/>
            <a:ext cx="1194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63120" y="1600200"/>
            <a:ext cx="5828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783840" y="1600200"/>
            <a:ext cx="5828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63120" y="3964320"/>
            <a:ext cx="5828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8D2B7-6EA9-4DEE-9A3E-47B8BDEB6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63120" y="274320"/>
            <a:ext cx="1194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63120" y="1600200"/>
            <a:ext cx="5828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783840" y="1600200"/>
            <a:ext cx="5828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783840" y="3964320"/>
            <a:ext cx="5828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E20164-FE51-47A9-BF3F-C2E01F46C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63120" y="274320"/>
            <a:ext cx="1194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63120" y="1600200"/>
            <a:ext cx="5828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783840" y="1600200"/>
            <a:ext cx="5828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63120" y="3964320"/>
            <a:ext cx="1194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DEFFE5-0DAE-4676-BB1A-03FED6777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63120" y="274320"/>
            <a:ext cx="1194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63120" y="1600200"/>
            <a:ext cx="1194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63120" y="3964320"/>
            <a:ext cx="1194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1A212A-5DC9-4134-81DB-C63BEB9EA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63120" y="274320"/>
            <a:ext cx="1194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63120" y="1600200"/>
            <a:ext cx="5828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783840" y="1600200"/>
            <a:ext cx="5828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63120" y="3964320"/>
            <a:ext cx="5828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783840" y="3964320"/>
            <a:ext cx="5828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B2DE41-EB72-4D12-A381-AEC45A8EC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3120" y="274320"/>
            <a:ext cx="1194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A01F-830C-4285-B9AB-7C8363AB7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63120" y="274320"/>
            <a:ext cx="1194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63120" y="1600200"/>
            <a:ext cx="384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01600" y="1600200"/>
            <a:ext cx="384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740080" y="1600200"/>
            <a:ext cx="384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63120" y="3964320"/>
            <a:ext cx="384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701600" y="3964320"/>
            <a:ext cx="384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8740080" y="3964320"/>
            <a:ext cx="384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B17305-C97F-4213-847E-459135602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3120" y="274320"/>
            <a:ext cx="1194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3120" y="1600200"/>
            <a:ext cx="5828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783840" y="1600200"/>
            <a:ext cx="5828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63120" y="3964320"/>
            <a:ext cx="5828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547B-27D2-42FE-ADEC-6F809F24B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3120" y="274320"/>
            <a:ext cx="1194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63120" y="1600200"/>
            <a:ext cx="5828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783840" y="1600200"/>
            <a:ext cx="5828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783840" y="3964320"/>
            <a:ext cx="5828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1E73-FEAB-4434-B800-21DDA7062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3120" y="274320"/>
            <a:ext cx="1194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63120" y="1600200"/>
            <a:ext cx="5828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783840" y="1600200"/>
            <a:ext cx="5828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63120" y="3964320"/>
            <a:ext cx="1194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77BB-C6E2-4E75-B327-18C409A28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3120" y="274320"/>
            <a:ext cx="1194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3120" y="1600200"/>
            <a:ext cx="11944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3480" y="6356520"/>
            <a:ext cx="309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33480" y="6356520"/>
            <a:ext cx="420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510480" y="6356520"/>
            <a:ext cx="3097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04858-2F1F-4444-84C6-9C4ADBA2A5EE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63120" y="274320"/>
            <a:ext cx="1194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63120" y="1600200"/>
            <a:ext cx="11944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63480" y="6356520"/>
            <a:ext cx="309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533480" y="6356520"/>
            <a:ext cx="420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9510480" y="6356520"/>
            <a:ext cx="3097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FCF86-5761-470B-AD7A-03DD8E36F70B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63120" y="274320"/>
            <a:ext cx="1194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63120" y="1600200"/>
            <a:ext cx="11944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63480" y="6356520"/>
            <a:ext cx="309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533480" y="6356520"/>
            <a:ext cx="420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9510480" y="6356520"/>
            <a:ext cx="3097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6BD7F-8642-4375-8998-C5DCB9FC3D6F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63120" y="274320"/>
            <a:ext cx="1194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63120" y="1600200"/>
            <a:ext cx="11944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63480" y="6356520"/>
            <a:ext cx="309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533480" y="6356520"/>
            <a:ext cx="420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9510480" y="6356520"/>
            <a:ext cx="3097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20E5C-1F2E-45C4-AC2A-B2E901CD4B77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63120" y="274320"/>
            <a:ext cx="1194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63120" y="1600200"/>
            <a:ext cx="11944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63480" y="6356520"/>
            <a:ext cx="309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533480" y="6356520"/>
            <a:ext cx="420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9510480" y="6356520"/>
            <a:ext cx="3097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453A3-C249-4243-B6EF-100D045ECA84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CuadroTexto 4"/>
          <p:cNvSpPr/>
          <p:nvPr/>
        </p:nvSpPr>
        <p:spPr>
          <a:xfrm>
            <a:off x="1441440" y="2589120"/>
            <a:ext cx="10758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ECONOMÍA DE EMPRES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LAS PYME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CuadroTexto 5"/>
          <p:cNvSpPr/>
          <p:nvPr/>
        </p:nvSpPr>
        <p:spPr>
          <a:xfrm>
            <a:off x="1076400" y="5127480"/>
            <a:ext cx="393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esor Académico</a:t>
            </a:r>
            <a:r>
              <a:rPr b="0" lang="es-V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Sc. Ing. Iván J. Turmero Astr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CuadroTexto 6"/>
          <p:cNvSpPr/>
          <p:nvPr/>
        </p:nvSpPr>
        <p:spPr>
          <a:xfrm>
            <a:off x="10186920" y="3657600"/>
            <a:ext cx="2163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rant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xanna Alvara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ra Beníte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ía Marcan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is Cov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lo Ramo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ismer Rome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CuadroTexto 7"/>
          <p:cNvSpPr/>
          <p:nvPr/>
        </p:nvSpPr>
        <p:spPr>
          <a:xfrm>
            <a:off x="3290760" y="6108840"/>
            <a:ext cx="668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erto Ordaz, JUNIO de 201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Imagen 8" descr=""/>
          <p:cNvPicPr/>
          <p:nvPr/>
        </p:nvPicPr>
        <p:blipFill>
          <a:blip r:embed="rId1"/>
          <a:stretch/>
        </p:blipFill>
        <p:spPr>
          <a:xfrm>
            <a:off x="746280" y="390600"/>
            <a:ext cx="1873080" cy="1447560"/>
          </a:xfrm>
          <a:prstGeom prst="rect">
            <a:avLst/>
          </a:prstGeom>
          <a:ln w="0">
            <a:noFill/>
          </a:ln>
        </p:spPr>
      </p:pic>
      <p:sp>
        <p:nvSpPr>
          <p:cNvPr id="217" name="CuadroTexto 3"/>
          <p:cNvSpPr/>
          <p:nvPr/>
        </p:nvSpPr>
        <p:spPr>
          <a:xfrm>
            <a:off x="2901960" y="119160"/>
            <a:ext cx="7553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ública Bolivariana de Venezuel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idad Nacional Experimental Politécn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s-V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onio José de Sucre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ce-rectorado Puerto Orda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artamento de Ingeniería Industri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GENIERÍA FINANCIE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8 Imagen" descr=""/>
          <p:cNvPicPr/>
          <p:nvPr/>
        </p:nvPicPr>
        <p:blipFill>
          <a:blip r:embed="rId2"/>
          <a:stretch/>
        </p:blipFill>
        <p:spPr>
          <a:xfrm>
            <a:off x="5553000" y="4029120"/>
            <a:ext cx="2536920" cy="14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6 Imagen" descr=""/>
          <p:cNvPicPr/>
          <p:nvPr/>
        </p:nvPicPr>
        <p:blipFill>
          <a:blip r:embed="rId1"/>
          <a:stretch/>
        </p:blipFill>
        <p:spPr>
          <a:xfrm>
            <a:off x="463680" y="2590920"/>
            <a:ext cx="3332160" cy="215100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63120" y="-100440"/>
            <a:ext cx="1194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ZÓN DE SER DEL CAPITAL RIESG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5 Rectángulo"/>
          <p:cNvSpPr/>
          <p:nvPr/>
        </p:nvSpPr>
        <p:spPr>
          <a:xfrm>
            <a:off x="4302000" y="2057400"/>
            <a:ext cx="7472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Capital Riesgo ocurre como con los créditos participativos, una modalidad financiera que ha demostrado ser especialmente útiles para la creación, regeneración y mantenimiento del tejido empresari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6 Imagen" descr=""/>
          <p:cNvPicPr/>
          <p:nvPr/>
        </p:nvPicPr>
        <p:blipFill>
          <a:blip r:embed="rId1"/>
          <a:stretch/>
        </p:blipFill>
        <p:spPr>
          <a:xfrm>
            <a:off x="9074160" y="3454560"/>
            <a:ext cx="3214800" cy="21081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63120" y="-27360"/>
            <a:ext cx="1194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IFICACIÓN DE LOS OPERADORES DEL SECTO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3 Rectángulo"/>
          <p:cNvSpPr/>
          <p:nvPr/>
        </p:nvSpPr>
        <p:spPr>
          <a:xfrm>
            <a:off x="1014840" y="1778040"/>
            <a:ext cx="542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idades de Capital Ries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4 Rectángulo"/>
          <p:cNvSpPr/>
          <p:nvPr/>
        </p:nvSpPr>
        <p:spPr>
          <a:xfrm>
            <a:off x="2068560" y="2855880"/>
            <a:ext cx="5329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iedades de Capital Riesgo (SCR):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n sociedades mercantiles, de carácter financiero, con forma de Sociedad Anóni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11 Imagen" descr=""/>
          <p:cNvPicPr/>
          <p:nvPr/>
        </p:nvPicPr>
        <p:blipFill>
          <a:blip r:embed="rId1"/>
          <a:srcRect l="6415" t="3307" r="4993" b="34893"/>
          <a:stretch/>
        </p:blipFill>
        <p:spPr>
          <a:xfrm>
            <a:off x="1919160" y="3560760"/>
            <a:ext cx="1806840" cy="127476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63120" y="-27360"/>
            <a:ext cx="1194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IFICACIÓN DE LOS OPERADORES DEL SECTO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5 Rectángulo"/>
          <p:cNvSpPr/>
          <p:nvPr/>
        </p:nvSpPr>
        <p:spPr>
          <a:xfrm>
            <a:off x="5035680" y="2724120"/>
            <a:ext cx="55386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ndos de Capital Riesgo (FCR):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n entidades no consideradas personas jurídicas, sino una mera sindicación de aportaciones de particulares en inversiones temporales en capit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3 Rectángulo"/>
          <p:cNvSpPr/>
          <p:nvPr/>
        </p:nvSpPr>
        <p:spPr>
          <a:xfrm>
            <a:off x="1014840" y="1778040"/>
            <a:ext cx="542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idades de Capital Ries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12 Imagen" descr=""/>
          <p:cNvPicPr/>
          <p:nvPr/>
        </p:nvPicPr>
        <p:blipFill>
          <a:blip r:embed="rId1"/>
          <a:stretch/>
        </p:blipFill>
        <p:spPr>
          <a:xfrm>
            <a:off x="5187960" y="4950000"/>
            <a:ext cx="3139920" cy="153000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63120" y="-27360"/>
            <a:ext cx="1194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IFICACIÓN DE LOS OPERADORES DEL SECTO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7 Rectángulo"/>
          <p:cNvSpPr/>
          <p:nvPr/>
        </p:nvSpPr>
        <p:spPr>
          <a:xfrm>
            <a:off x="1000080" y="1676520"/>
            <a:ext cx="1104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iedades Gestoras de Entidades de Capital Riesgo (SGEC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8 Rectángulo"/>
          <p:cNvSpPr/>
          <p:nvPr/>
        </p:nvSpPr>
        <p:spPr>
          <a:xfrm>
            <a:off x="1974960" y="2971800"/>
            <a:ext cx="9004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stionara los FCR, </a:t>
            </a:r>
            <a:r>
              <a:rPr b="0" lang="es-V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ministra los bienes de las SCR y además permite realizar las labores de asesoramiento previstas para las SC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63120" y="-27360"/>
            <a:ext cx="1194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IFICACIÓN DE LOS OPERADORES DEL SECTO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9 Rectángulo"/>
          <p:cNvSpPr/>
          <p:nvPr/>
        </p:nvSpPr>
        <p:spPr>
          <a:xfrm>
            <a:off x="786960" y="3048120"/>
            <a:ext cx="560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orcios de Capital Ries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10 Rectángulo"/>
          <p:cNvSpPr/>
          <p:nvPr/>
        </p:nvSpPr>
        <p:spPr>
          <a:xfrm>
            <a:off x="1122480" y="3962520"/>
            <a:ext cx="11914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la participación, de forma conjunta, de varias SCR en empresas que soliciten su apoyo. Carecen de personalidad jurídica independiente, pero su entidad es reconocida en el Derecho comunitario a efectos de ayuda a su activida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1" name="7 Imagen" descr=""/>
          <p:cNvPicPr/>
          <p:nvPr/>
        </p:nvPicPr>
        <p:blipFill>
          <a:blip r:embed="rId1"/>
          <a:stretch/>
        </p:blipFill>
        <p:spPr>
          <a:xfrm>
            <a:off x="5340240" y="1219320"/>
            <a:ext cx="296244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63120" y="-18000"/>
            <a:ext cx="1194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Times New Roman"/>
                <a:ea typeface="Tahoma"/>
              </a:rPr>
              <a:t>IMPORTANCIA DE LAS PYME EN LA ECONOMÍA DE LA EMPRES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3 Rectángulo"/>
          <p:cNvSpPr/>
          <p:nvPr/>
        </p:nvSpPr>
        <p:spPr>
          <a:xfrm>
            <a:off x="914400" y="1754280"/>
            <a:ext cx="937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ortancia 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antitativa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las PYME en la economía: </a:t>
            </a:r>
            <a:r>
              <a:rPr b="0" lang="es-V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relevancia del tema del tamaño está estrechamente relacionada con la trascendencia de las PYME como colectivo, su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V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ortancia se basa en la creación de puestos de trabajo, con respecto a las grandes empres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6 Imagen" descr=""/>
          <p:cNvPicPr/>
          <p:nvPr/>
        </p:nvPicPr>
        <p:blipFill>
          <a:blip r:embed="rId1"/>
          <a:stretch/>
        </p:blipFill>
        <p:spPr>
          <a:xfrm>
            <a:off x="9929880" y="4522680"/>
            <a:ext cx="2481120" cy="26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7 Imagen" descr=""/>
          <p:cNvPicPr/>
          <p:nvPr/>
        </p:nvPicPr>
        <p:blipFill>
          <a:blip r:embed="rId1"/>
          <a:stretch/>
        </p:blipFill>
        <p:spPr>
          <a:xfrm>
            <a:off x="8845560" y="4724280"/>
            <a:ext cx="3070080" cy="13654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63120" y="-18000"/>
            <a:ext cx="1194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Times New Roman"/>
                <a:ea typeface="Tahoma"/>
              </a:rPr>
              <a:t>IMPORTANCIA DE LAS PYME EN LA ECONOMÍA DE LA EMPRES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4 Rectángulo"/>
          <p:cNvSpPr/>
          <p:nvPr/>
        </p:nvSpPr>
        <p:spPr>
          <a:xfrm>
            <a:off x="762120" y="2209680"/>
            <a:ext cx="937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ortancia 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alitativa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las PYME en la política industrial: Radica también en la necesidad de protección oficial de la que adolecen, en virtud de determinadas debilidades estructura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8 Imagen" descr=""/>
          <p:cNvPicPr/>
          <p:nvPr/>
        </p:nvPicPr>
        <p:blipFill>
          <a:blip r:embed="rId1"/>
          <a:stretch/>
        </p:blipFill>
        <p:spPr>
          <a:xfrm>
            <a:off x="10750680" y="3798720"/>
            <a:ext cx="1939680" cy="168300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63120" y="-18000"/>
            <a:ext cx="1194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Times New Roman"/>
                <a:ea typeface="Tahoma"/>
              </a:rPr>
              <a:t>IMPORTANCIA DE LAS PYME EN LA ECONOMÍA DE LA EMPRES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5 Rectángulo"/>
          <p:cNvSpPr/>
          <p:nvPr/>
        </p:nvSpPr>
        <p:spPr>
          <a:xfrm>
            <a:off x="609480" y="1981080"/>
            <a:ext cx="9379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ortancia 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ciente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las PYME como objeto de investigación: La pequeña y mediana empresa (PYME) es un objeto de estudio de importancia cada vez mayor en el campo de la Economía de la Empresa; esto no sólo se debe a la importancia de este tipo de empresas, en términos agregados, sino a las peculiaridades de su competitividad, con respecto a las grandes empres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8 Imagen" descr=""/>
          <p:cNvPicPr/>
          <p:nvPr/>
        </p:nvPicPr>
        <p:blipFill>
          <a:blip r:embed="rId1"/>
          <a:stretch/>
        </p:blipFill>
        <p:spPr>
          <a:xfrm>
            <a:off x="5187960" y="4495680"/>
            <a:ext cx="2225520" cy="15354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63120" y="43920"/>
            <a:ext cx="1194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ICULARIDADES DE LA VALORACIÓN DE PYM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3 Rectángulo"/>
          <p:cNvSpPr/>
          <p:nvPr/>
        </p:nvSpPr>
        <p:spPr>
          <a:xfrm>
            <a:off x="2139840" y="1752480"/>
            <a:ext cx="8856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icultad de no disponer de la referencia de la cotización de sus acciones. Su transmisión se produce normalmente por negociación privada (salvo casos de donación, herencia o expropiación forzosa)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9 Imagen" descr=""/>
          <p:cNvPicPr/>
          <p:nvPr/>
        </p:nvPicPr>
        <p:blipFill>
          <a:blip r:embed="rId1"/>
          <a:stretch/>
        </p:blipFill>
        <p:spPr>
          <a:xfrm>
            <a:off x="8218440" y="2755800"/>
            <a:ext cx="4102200" cy="169704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63120" y="43920"/>
            <a:ext cx="1194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ICULARIDADES DE LA VALORACIÓN DE PYM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4 Rectángulo"/>
          <p:cNvSpPr/>
          <p:nvPr/>
        </p:nvSpPr>
        <p:spPr>
          <a:xfrm>
            <a:off x="914400" y="2349360"/>
            <a:ext cx="6635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oración de empresas de nueva creación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s-V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biliza el patrimonio según el principio de precio de adquisición, valor que será siempre mayor al valor de liquidació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7 Imagen" descr=""/>
          <p:cNvPicPr/>
          <p:nvPr/>
        </p:nvPicPr>
        <p:blipFill>
          <a:blip r:embed="rId1"/>
          <a:stretch/>
        </p:blipFill>
        <p:spPr>
          <a:xfrm>
            <a:off x="692280" y="2362320"/>
            <a:ext cx="5078160" cy="258588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3120" y="43920"/>
            <a:ext cx="1194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ICULARIDADES DE LA VALORACIÓN DE PYM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5 Rectángulo"/>
          <p:cNvSpPr/>
          <p:nvPr/>
        </p:nvSpPr>
        <p:spPr>
          <a:xfrm>
            <a:off x="6026040" y="2057400"/>
            <a:ext cx="67932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oración de empresas familiares: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ne una acción por el hecho de formar parte de un paquete significativo. </a:t>
            </a:r>
            <a:r>
              <a:rPr b="0" lang="es-V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hecho de tener una participación mayoritaria en una empresa es un incentivo para interesarse por la gestió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63120" y="43920"/>
            <a:ext cx="1194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ICULARIDADES DE LA VALORACIÓN DE PYM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6 Rectángulo"/>
          <p:cNvSpPr/>
          <p:nvPr/>
        </p:nvSpPr>
        <p:spPr>
          <a:xfrm>
            <a:off x="406440" y="3271680"/>
            <a:ext cx="12301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oración de empresas tecnológicas: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 transmisión se produce normalmente por negociación privada (salvo casos de donación, herencia, expropiación, entrada o salida de inversores de Capital Riesgo, etc.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9" name="9 Imagen" descr=""/>
          <p:cNvPicPr/>
          <p:nvPr/>
        </p:nvPicPr>
        <p:blipFill>
          <a:blip r:embed="rId1"/>
          <a:stretch/>
        </p:blipFill>
        <p:spPr>
          <a:xfrm>
            <a:off x="4730760" y="1200240"/>
            <a:ext cx="3376440" cy="19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4 Imagen" descr=""/>
          <p:cNvPicPr/>
          <p:nvPr/>
        </p:nvPicPr>
        <p:blipFill>
          <a:blip r:embed="rId1"/>
          <a:stretch/>
        </p:blipFill>
        <p:spPr>
          <a:xfrm>
            <a:off x="8515440" y="231840"/>
            <a:ext cx="4457520" cy="257184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63120" y="-100440"/>
            <a:ext cx="1194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ZÓN DE SER DEL CAPITAL RIESG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3 Rectángulo"/>
          <p:cNvSpPr/>
          <p:nvPr/>
        </p:nvSpPr>
        <p:spPr>
          <a:xfrm>
            <a:off x="1817640" y="3200400"/>
            <a:ext cx="7942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acciones de la empresa participada se valorarán, por parte de la entidad inversora, en función de las oportunidades de inversión que ocasione la entrada de un nuevo socio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29T17:01:57Z</dcterms:created>
  <dc:creator>GRUPO</dc:creator>
  <dc:description/>
  <cp:keywords>INGENIERÍA FINANCIERA</cp:keywords>
  <dc:language>en-US</dc:language>
  <cp:lastModifiedBy>Ivan Turmero</cp:lastModifiedBy>
  <dcterms:modified xsi:type="dcterms:W3CDTF">2017-08-24T14:49:08Z</dcterms:modified>
  <cp:revision>162</cp:revision>
  <dc:subject/>
  <dc:title>Diapositiva 1</dc:title>
</cp:coreProperties>
</file>