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2.jpeg" ContentType="image/jpeg"/>
  <Override PartName="/ppt/media/image36.jpeg" ContentType="image/jpeg"/>
  <Override PartName="/ppt/media/image23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25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9.jpeg" ContentType="image/jpeg"/>
  <Override PartName="/ppt/media/image64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17.jpeg" ContentType="image/jpeg"/>
  <Override PartName="/ppt/media/image61.jpeg" ContentType="image/jpeg"/>
  <Override PartName="/ppt/media/image24.jpeg" ContentType="image/jpeg"/>
  <Override PartName="/ppt/media/image13.jpeg" ContentType="image/jpeg"/>
  <Override PartName="/ppt/media/image40.jpeg" ContentType="image/jpeg"/>
  <Override PartName="/ppt/media/image26.jpeg" ContentType="image/jpeg"/>
  <Override PartName="/ppt/media/image7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1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F204-7DA0-40F5-A9B9-FEBE32F8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2410-8A5D-43EC-98A2-9AE6087EB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1DBBF-F0C1-40FD-859F-0E89D32DE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0E625-8F52-49D3-BBD1-E7A71AB3A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D34F0-E042-493A-AE0B-4B9312C3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F80AC2-3306-433B-8ABB-0134BB11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5C97E-7E0B-484E-B1A2-52408FC5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71535-8D94-4116-9988-0435D067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7B5DE-0A13-4270-85CE-8BAA8466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80F8F-7F69-4350-930E-747D715F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5E60E-DBB8-4E5A-9AC5-3F0E668B3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D5A9B-594D-439E-9A14-A70AD620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2883-255F-4D69-8CE3-22DD4DCAE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D5552-9ECF-4316-A1A0-749C7898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B273B-C88A-44AC-AE94-106C54B52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EC75B0-3A79-4F61-8E82-E3FD319A2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958DE-70E4-4755-A4F9-19ADCB0B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61054B-142C-4C12-9636-E28F7604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53A968-88D5-4302-882C-58E3FBBB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2C3EB-DE6B-4D44-AA77-B80C8319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DA53E-EEA0-4128-8AB0-68CF90AC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13B40-6FDF-433E-B4E4-830BA2A0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BFA133-A935-432D-8D8B-9F8DB221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BA03-6CF5-4231-AA61-C5A71C99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15F9FE-2B1A-4DF5-A121-942DB4DC4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3BFC4-42EA-425E-9C59-8AE3307B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4DE1F-E876-4787-87E6-11443AEE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64E247-64B5-42FF-9114-38B91449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76516-2D76-4970-A4C5-6AD03EBB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413C4D-A7A9-436B-A88C-0CF9BC0B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8C2EE9-086B-4ADC-AE21-6208A07D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0BDDAD-CA3C-40B9-8D08-DDB1D787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6039B8-C657-4D19-8459-66B6471B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17602-88A3-428E-8C7C-2D0E8E66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A2ED-D782-4CA2-BB1F-D9749742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54F3A9-8301-41D7-91AE-8EA99579E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60467-8222-477E-B703-D31A2A725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7B42BB-653C-47FC-9030-E6C7E3071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FEF69D-B740-40D8-A941-E24FB2687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3F115-F6B7-4348-A99D-AD9207B9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1BB02E-8785-4937-9FBD-93999A03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FD3F1-4873-43A7-BBB3-5229FA23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0766CD-5A3B-45A1-8497-87484AB0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33370-8318-4B3D-957D-4935A663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0246B-D549-4EF4-81B3-B2A8BEB7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31B3-7D6F-46FD-BBEE-D55C2BD6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766CA9-5ACF-4530-A16D-345BA7204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E0929B-76EC-4987-AC8F-80BA274EA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EAEAB-1733-4E0E-8464-F67F3A18C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AE5680-F0D1-4B30-9121-14DC1DEC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51CB7-BB90-43B1-87F1-B31AE3C5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A5F6-0F74-494A-BBB4-D3C69710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9BFA-8898-461C-82A1-D35AE9919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77FE-B99B-4804-93CB-49D91B49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8B3FD-4C90-4052-B004-33880E8A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FEF5-C940-426A-B6AE-3CBB63E53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CE24-4174-4F6A-8529-378C1497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0C723-3274-4BE7-AE74-398F74F97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4D61-E25B-4978-A63D-EE106FC21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57A6-61A5-4DCD-BBA7-B05E86FC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A2ED-799C-4555-B54E-46FB7542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284C6-956C-47D8-A4D2-CD208E765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FFC9-AB41-49AC-8424-6DABB362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C2FB7-B12D-4BB8-8CEE-95997A87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AAD6A-E478-4D8E-B670-F38D2FF5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EA260-3328-416B-A16A-DED34AF4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F6CC1-2042-4ACE-B57A-BB27A21B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BE4-7B65-4AB9-93A1-E4EDB615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F2F1E-5CB2-4A1D-9A10-AE5B1484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3B74D-0880-4FBC-9B52-2DADBB68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8E929-8F53-4434-A597-16E80D22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1BC88A-BFA9-4995-9DE8-01913397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5A103-A67F-4281-A56D-74DAA839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E689D-F912-4346-BADE-45EDB39B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3BCD2-804C-42C3-A1E4-E1CD94618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1280F-DE54-4E03-A46A-C1AAEBD00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94BD4-310E-4F98-A20C-3A6AFC995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40FED-B808-4B6C-ABA0-76AE29A4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FB96-8C6D-4572-AB59-35AAEE94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2229C-7040-4F9A-A029-70D6E0F0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B855D-D598-481A-9EB4-565D26AB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41C81-0B95-45FC-B4DF-946B759C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D1812-0673-43F3-8695-6B77C5E1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50FDF-C292-49A2-960C-7C47DE052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F8F0C-53C3-468F-B063-6FA54B79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9953B-7CBF-458C-9790-9450B070B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42AE9-245F-43AA-994C-6C4317F2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F4DD1-D326-4738-8C09-33ECA943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5C6B3-5E29-4E21-A43F-69528655C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51CC-4752-4FDE-9D02-966FD623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184F7-039A-4594-B06B-5A5A5373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23EF3-E940-470B-BD04-D2CA71E3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381C4-F564-4882-982C-5D9659F4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8585E4-448A-4303-BD63-EC1AFC46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495E62-B6C9-4CE5-A5E3-971B056DE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EAC59-1BB7-4877-9A3C-7B566554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668B3C-35A4-44E8-AA91-E82C6E9F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1A447-7B64-448F-B133-4D2D267A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FFCA8-C3E7-42D9-B4B5-F31D1C51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0A5D0-54D0-44AF-BEBC-4CC8FF0FF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35F4-3C57-4DB4-97A0-5C5429370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DFA49-40BD-404B-BC17-AF800484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006CA-F591-41B3-953B-1100D8482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95CC03-F469-4854-95E3-190DABA8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D91EA-046A-4C7C-B3AB-C959EC77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3442B-8ABB-4D6A-9AF8-B7EE2EFE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80811-0197-494A-8F00-4FC9129E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709B2-8C77-4495-8E2E-024972FC8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04CC7-A95E-4DCC-8F04-18933718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E4AE0-3EF5-4A58-B22A-BEDE594D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43531-AA96-4B4B-AFD7-6511F6D3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0692-697D-4D6F-820B-D01FDA29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0DC90-C278-4B90-B1BF-AFCBBDF1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7A26D2-8715-4EFD-9F9A-57FF6CA9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C9E57-D763-4109-AF58-AA4FA4B0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C4BC94-586B-4043-95C3-61084F2BD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B1321-D3A4-42B4-B7DB-0A3C43EE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E29C1F-71E1-4AA2-AB99-5390FB56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16150-BC1E-4FD7-B453-DA40FAEB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976AF-65AA-491B-A252-95B27025C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30C02D-0B10-4679-A106-8BFBCA4E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8E621-9333-48FD-ADAD-D5EAF005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FD23-513F-473F-BB9E-8F401198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2BE5E-717E-4884-B0DB-BC856C1F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5074D-F0B8-4AAD-B14C-6DF5543C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B85A9-121F-40D8-970A-82C4789CE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46DAE-D3C4-4016-93AC-953FEEBF9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8F4B8-F83D-4B3B-A68A-F9D6EDC6A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07DC5-FA21-44FF-8B39-5257369A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A84C17-91F1-447C-8879-DD7B7086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AC5B1-9C73-4A45-A664-55B81ECB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0FFC6-8ECF-4FB2-A55E-B012C463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ED5867-9120-4489-8473-75A3D737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E3CC-C132-4834-B453-026E175F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07837-6C57-4F19-928C-F522A408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B69A7-1A7A-4DDF-8EE2-02D0D86B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961F8-580E-44B1-9FAE-96FBA44A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68E63-4A1B-403A-A44A-96F095EA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18C042-08A3-4666-BDAF-9D09F93A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1310CE-921C-4EDB-868D-8E120486E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EF2C3-8544-4AC3-B625-621AB37D2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B9919-07D7-4B33-A16C-FACE40AC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C972AA-A905-4060-995D-A146CB9C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CEF93-FF38-44F2-B85A-B331C2D6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46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CDB8-2D10-40D1-AC44-B96020215D8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46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1FED-FAD3-460F-97B7-5231A04B806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46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63FB-4B8A-4030-B292-8E57EB0392A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46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35E7-4B27-4467-9C6F-5C38AE4352D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46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C554-580E-4449-93F1-E1D9CD6CFF7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46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0194-402A-421D-9444-413F0F313E9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46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E8D3-BB00-426E-9057-A33D1242F75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46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7295-02C5-47A1-81A1-6F4D30D54D2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46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4F5F-8395-4D58-8154-D350B799E4A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46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9955-91C9-4ECC-8A14-B917184DD94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46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31EF-3732-4880-9E87-D307911FD3E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46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B371-930B-4910-AE7C-7F8A5FBB442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8.jpeg"/><Relationship Id="rId4" Type="http://schemas.openxmlformats.org/officeDocument/2006/relationships/image" Target="../media/image29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image" Target="../media/image57.jpeg"/><Relationship Id="rId5" Type="http://schemas.openxmlformats.org/officeDocument/2006/relationships/image" Target="../media/image58.jpeg"/><Relationship Id="rId6" Type="http://schemas.openxmlformats.org/officeDocument/2006/relationships/image" Target="../media/image59.jpeg"/><Relationship Id="rId7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6"/>
          <p:cNvSpPr/>
          <p:nvPr/>
        </p:nvSpPr>
        <p:spPr>
          <a:xfrm>
            <a:off x="900000" y="153036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Tipos de Reacciones química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La combust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La combust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s una reacción química (los reactivos provocan el cambio de una sustancia en una sustancia o producto diferent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la combustión algunas sustancias </a:t>
            </a: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arde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al entrar en contacto con una chispa o cerilla encend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0" name="Picture 5" descr="ANd9GcQDMPknmNDggw34pt1t17atPaHqZT75oOJ_Ge3HnmVwjbHTWaScWg"/>
          <p:cNvPicPr/>
          <p:nvPr/>
        </p:nvPicPr>
        <p:blipFill>
          <a:blip r:embed="rId1"/>
          <a:stretch/>
        </p:blipFill>
        <p:spPr>
          <a:xfrm>
            <a:off x="1476360" y="5495760"/>
            <a:ext cx="1817640" cy="136224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7" descr="ANd9GcSegr05RNEh-G6V3asJNAnMaS0Iwz9DROF0KKrmQOaHJiHkISgPJA"/>
          <p:cNvPicPr/>
          <p:nvPr/>
        </p:nvPicPr>
        <p:blipFill>
          <a:blip r:embed="rId2"/>
          <a:stretch/>
        </p:blipFill>
        <p:spPr>
          <a:xfrm>
            <a:off x="3755880" y="5373720"/>
            <a:ext cx="1236960" cy="14842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9" descr="ANd9GcS6gng8KobQhkOWX3R_ttC3R9it1aguFwWJEemPOFoRxPhT00dURw"/>
          <p:cNvPicPr/>
          <p:nvPr/>
        </p:nvPicPr>
        <p:blipFill>
          <a:blip r:embed="rId3"/>
          <a:stretch/>
        </p:blipFill>
        <p:spPr>
          <a:xfrm>
            <a:off x="6227640" y="5340240"/>
            <a:ext cx="2025720" cy="1517760"/>
          </a:xfrm>
          <a:prstGeom prst="rect">
            <a:avLst/>
          </a:prstGeom>
          <a:ln w="0">
            <a:noFill/>
          </a:ln>
        </p:spPr>
      </p:pic>
      <p:sp>
        <p:nvSpPr>
          <p:cNvPr id="553" name="Line 10"/>
          <p:cNvSpPr/>
          <p:nvPr/>
        </p:nvSpPr>
        <p:spPr>
          <a:xfrm>
            <a:off x="5148360" y="6093000"/>
            <a:ext cx="100800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La combust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la combustión a las sustancias se les llama </a:t>
            </a:r>
            <a:r>
              <a:rPr b="1" lang="es-ES" sz="3200" spc="-1" strike="noStrike">
                <a:solidFill>
                  <a:srgbClr val="ff6600"/>
                </a:solidFill>
                <a:latin typeface="Arial"/>
              </a:rPr>
              <a:t>combustible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Leñ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Carb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Alcoh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But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Gasolin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5" descr="ANd9GcQ_qRvCRV5BgclVLnYtxVljBjLN07tzeHsBRn8fyjImyZRo55jt"/>
          <p:cNvPicPr/>
          <p:nvPr/>
        </p:nvPicPr>
        <p:blipFill>
          <a:blip r:embed="rId1"/>
          <a:stretch/>
        </p:blipFill>
        <p:spPr>
          <a:xfrm>
            <a:off x="3276720" y="2708280"/>
            <a:ext cx="1753920" cy="13669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7" descr="ANd9GcSKQR-CMR8t3FFabvFmVz17WpOWJG9uVQjONZpjEKYGM1_ikifb"/>
          <p:cNvPicPr/>
          <p:nvPr/>
        </p:nvPicPr>
        <p:blipFill>
          <a:blip r:embed="rId2"/>
          <a:stretch/>
        </p:blipFill>
        <p:spPr>
          <a:xfrm>
            <a:off x="5724360" y="2637000"/>
            <a:ext cx="1819440" cy="13618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9" descr="ANd9GcSL2yy52fBptd-IjWnc4IkcQgHFa0u2gdxUPQDOo1KRADVLIMnEuw"/>
          <p:cNvPicPr/>
          <p:nvPr/>
        </p:nvPicPr>
        <p:blipFill>
          <a:blip r:embed="rId3"/>
          <a:stretch/>
        </p:blipFill>
        <p:spPr>
          <a:xfrm>
            <a:off x="3059280" y="4221000"/>
            <a:ext cx="1538280" cy="151776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1" descr="ANd9GcRBD3d08QuOVtJ1MaaHtC16UH7Q5CKYNINRuzBAG-ymx3Z-_16rAA"/>
          <p:cNvPicPr/>
          <p:nvPr/>
        </p:nvPicPr>
        <p:blipFill>
          <a:blip r:embed="rId4"/>
          <a:stretch/>
        </p:blipFill>
        <p:spPr>
          <a:xfrm>
            <a:off x="5292720" y="4292640"/>
            <a:ext cx="857160" cy="14857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3" descr="ANd9GcSqnAsguUCx4jVufaGKhosVMEPeX8Wvybibkqv-mFYyKQ1SCi9t"/>
          <p:cNvPicPr/>
          <p:nvPr/>
        </p:nvPicPr>
        <p:blipFill>
          <a:blip r:embed="rId5"/>
          <a:stretch/>
        </p:blipFill>
        <p:spPr>
          <a:xfrm>
            <a:off x="6877080" y="4149720"/>
            <a:ext cx="124776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La combust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uando los combustibles arden, </a:t>
            </a:r>
            <a:r>
              <a:rPr b="0" lang="es-ES" sz="3200" spc="-1" strike="noStrike">
                <a:solidFill>
                  <a:srgbClr val="bbe0e3"/>
                </a:solidFill>
                <a:latin typeface="Arial"/>
              </a:rPr>
              <a:t>toman oxígen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del aire y se queman (sin oxígeno no hay combust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5" descr="ANd9GcQkyDFry2z6qHo7oD8AKeWya-lfLrdUt_9SbkB0IN4s1X_t3ctg"/>
          <p:cNvPicPr/>
          <p:nvPr/>
        </p:nvPicPr>
        <p:blipFill>
          <a:blip r:embed="rId1"/>
          <a:stretch/>
        </p:blipFill>
        <p:spPr>
          <a:xfrm>
            <a:off x="395280" y="3357720"/>
            <a:ext cx="2629080" cy="174276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7" descr="ANd9GcRvRl89rNJkaoxVHPTlt2fgaS6z6OybdH_0nlECXk-XDcOUuc2X"/>
          <p:cNvPicPr/>
          <p:nvPr/>
        </p:nvPicPr>
        <p:blipFill>
          <a:blip r:embed="rId2"/>
          <a:stretch/>
        </p:blipFill>
        <p:spPr>
          <a:xfrm>
            <a:off x="3348000" y="3213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9" descr="ANd9GcR89mzfl4htVbH90L_ol_RzkAmZvxCSby00CmMqv0N0zum3Agt6"/>
          <p:cNvPicPr/>
          <p:nvPr/>
        </p:nvPicPr>
        <p:blipFill>
          <a:blip r:embed="rId3"/>
          <a:stretch/>
        </p:blipFill>
        <p:spPr>
          <a:xfrm>
            <a:off x="6227640" y="3213000"/>
            <a:ext cx="2457720" cy="18576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ANd9GcR0hCW4-jKoQxKpWdOVV8D_xuFr-QvhSCgoaEsdQjmlYZWR9CiULA"/>
          <p:cNvPicPr/>
          <p:nvPr/>
        </p:nvPicPr>
        <p:blipFill>
          <a:blip r:embed="rId4"/>
          <a:stretch/>
        </p:blipFill>
        <p:spPr>
          <a:xfrm>
            <a:off x="2411280" y="5229360"/>
            <a:ext cx="1602000" cy="16286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13" descr="b8f798coche_ardiendo_300p"/>
          <p:cNvPicPr/>
          <p:nvPr/>
        </p:nvPicPr>
        <p:blipFill>
          <a:blip r:embed="rId5"/>
          <a:stretch/>
        </p:blipFill>
        <p:spPr>
          <a:xfrm>
            <a:off x="4859280" y="5221440"/>
            <a:ext cx="257040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La combust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5" descr="ANd9GcRup_v681yXmBFqFyMNK4Ux_0mRhR7O35EEtLqzLoaaZWiYf_DMxQ"/>
          <p:cNvPicPr/>
          <p:nvPr/>
        </p:nvPicPr>
        <p:blipFill>
          <a:blip r:embed="rId1"/>
          <a:stretch/>
        </p:blipFill>
        <p:spPr>
          <a:xfrm>
            <a:off x="539640" y="2565360"/>
            <a:ext cx="3313080" cy="24843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7" descr="ANd9GcQWcso0EOjDQswjvo6310PhHtsGXC48jpNqjXirhCEUhX4enR_j2g"/>
          <p:cNvPicPr/>
          <p:nvPr/>
        </p:nvPicPr>
        <p:blipFill>
          <a:blip r:embed="rId2"/>
          <a:stretch/>
        </p:blipFill>
        <p:spPr>
          <a:xfrm>
            <a:off x="4284720" y="2637000"/>
            <a:ext cx="331164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La combust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</a:t>
            </a: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 product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resultantes de la combustión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Vapor de agu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G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Ceniz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66"/>
                </a:solidFill>
                <a:latin typeface="Arial"/>
              </a:rPr>
              <a:t>Ca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" descr="prevencion-quimica-del-fuego_24037_14_3"/>
          <p:cNvPicPr/>
          <p:nvPr/>
        </p:nvPicPr>
        <p:blipFill>
          <a:blip r:embed="rId1"/>
          <a:stretch/>
        </p:blipFill>
        <p:spPr>
          <a:xfrm>
            <a:off x="3851280" y="2276640"/>
            <a:ext cx="504180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La combust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Picture 5" descr="ANd9GcSz1l50DGB9AaCrzfVXq8YCEiNc36Mhd-MdFYsFmEmJeDxxacyA"/>
          <p:cNvPicPr/>
          <p:nvPr/>
        </p:nvPicPr>
        <p:blipFill>
          <a:blip r:embed="rId1"/>
          <a:stretch/>
        </p:blipFill>
        <p:spPr>
          <a:xfrm>
            <a:off x="611280" y="155736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576" name="Text Box 6"/>
          <p:cNvSpPr/>
          <p:nvPr/>
        </p:nvSpPr>
        <p:spPr>
          <a:xfrm>
            <a:off x="684360" y="3789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Sustancia prim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8" descr="ANd9GcQ7xKtNaERXSyuSrViHWgI26y3G-UrDUTZPNu9-UR6i61w89eHQHQ"/>
          <p:cNvPicPr/>
          <p:nvPr/>
        </p:nvPicPr>
        <p:blipFill>
          <a:blip r:embed="rId2"/>
          <a:stretch/>
        </p:blipFill>
        <p:spPr>
          <a:xfrm>
            <a:off x="3851280" y="1844640"/>
            <a:ext cx="1523880" cy="12952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0" descr="ANd9GcTXpSFlZtIFcpBg8urSuQk-peuXZTwj_E3L_mZ1Xw64PIYn007Q"/>
          <p:cNvPicPr/>
          <p:nvPr/>
        </p:nvPicPr>
        <p:blipFill>
          <a:blip r:embed="rId3"/>
          <a:stretch/>
        </p:blipFill>
        <p:spPr>
          <a:xfrm>
            <a:off x="5724360" y="1628640"/>
            <a:ext cx="2190960" cy="163836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11"/>
          <p:cNvSpPr/>
          <p:nvPr/>
        </p:nvSpPr>
        <p:spPr>
          <a:xfrm>
            <a:off x="4859280" y="342900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Re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13" descr="ANd9GcQkyDFry2z6qHo7oD8AKeWya-lfLrdUt_9SbkB0IN4s1X_t3ctg"/>
          <p:cNvPicPr/>
          <p:nvPr/>
        </p:nvPicPr>
        <p:blipFill>
          <a:blip r:embed="rId4"/>
          <a:stretch/>
        </p:blipFill>
        <p:spPr>
          <a:xfrm>
            <a:off x="539640" y="4365720"/>
            <a:ext cx="2629080" cy="1743120"/>
          </a:xfrm>
          <a:prstGeom prst="rect">
            <a:avLst/>
          </a:prstGeom>
          <a:ln w="0">
            <a:noFill/>
          </a:ln>
        </p:spPr>
      </p:pic>
      <p:sp>
        <p:nvSpPr>
          <p:cNvPr id="581" name="Line 14"/>
          <p:cNvSpPr/>
          <p:nvPr/>
        </p:nvSpPr>
        <p:spPr>
          <a:xfrm>
            <a:off x="3132000" y="5229360"/>
            <a:ext cx="43200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16" descr="ANd9GcRZrqBozRJzU7haIGzKMpdzXkioeM-Ub0Fpg1DAbca6Y477Hrf7eg"/>
          <p:cNvPicPr/>
          <p:nvPr/>
        </p:nvPicPr>
        <p:blipFill>
          <a:blip r:embed="rId5"/>
          <a:stretch/>
        </p:blipFill>
        <p:spPr>
          <a:xfrm>
            <a:off x="5292720" y="4365720"/>
            <a:ext cx="1676520" cy="14158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18" descr="ANd9GcSpYHWU_6uageTDhxO2syW6B9U3CjOBbXkTteI6TvnXNHaSxZJt"/>
          <p:cNvPicPr/>
          <p:nvPr/>
        </p:nvPicPr>
        <p:blipFill>
          <a:blip r:embed="rId6"/>
          <a:stretch/>
        </p:blipFill>
        <p:spPr>
          <a:xfrm>
            <a:off x="3635280" y="4437000"/>
            <a:ext cx="1648080" cy="123372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20" descr="ANd9GcTyuDx6Glf4hQWlm1K0E2LUPx-aAHMKCGnleESqyw_qM3k1GI-e"/>
          <p:cNvPicPr/>
          <p:nvPr/>
        </p:nvPicPr>
        <p:blipFill>
          <a:blip r:embed="rId7"/>
          <a:stretch/>
        </p:blipFill>
        <p:spPr>
          <a:xfrm>
            <a:off x="7020000" y="4483080"/>
            <a:ext cx="1619280" cy="1111320"/>
          </a:xfrm>
          <a:prstGeom prst="rect">
            <a:avLst/>
          </a:prstGeom>
          <a:ln w="0">
            <a:noFill/>
          </a:ln>
        </p:spPr>
      </p:pic>
      <p:sp>
        <p:nvSpPr>
          <p:cNvPr id="585" name="Text Box 21"/>
          <p:cNvSpPr/>
          <p:nvPr/>
        </p:nvSpPr>
        <p:spPr>
          <a:xfrm>
            <a:off x="4284720" y="5877000"/>
            <a:ext cx="34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La combust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la reacción química de la combustión debes tener en cuen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5" descr="ANd9GcSluwSrxGNgX86nrOT1ut2yvKdp0XHQL7esGx86kavYXmIBENmb"/>
          <p:cNvPicPr/>
          <p:nvPr/>
        </p:nvPicPr>
        <p:blipFill>
          <a:blip r:embed="rId1"/>
          <a:stretch/>
        </p:blipFill>
        <p:spPr>
          <a:xfrm>
            <a:off x="395280" y="2997360"/>
            <a:ext cx="4248000" cy="268128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6"/>
          <p:cNvSpPr/>
          <p:nvPr/>
        </p:nvSpPr>
        <p:spPr>
          <a:xfrm>
            <a:off x="4859280" y="3141720"/>
            <a:ext cx="33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cc00"/>
                </a:solidFill>
                <a:latin typeface="Arial"/>
              </a:rPr>
              <a:t>La sustancia que expulsa el extintor impide que el fuego reciba oxígeno del aire, por lo que se apa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La combust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5" descr="ANd9GcQgvh00tJMtp3L-EGx9V0-qycNY1bYAiEvJiOUWuqTnw1nLFKhDKQ"/>
          <p:cNvPicPr/>
          <p:nvPr/>
        </p:nvPicPr>
        <p:blipFill>
          <a:blip r:embed="rId1"/>
          <a:stretch/>
        </p:blipFill>
        <p:spPr>
          <a:xfrm>
            <a:off x="468360" y="1628640"/>
            <a:ext cx="3311640" cy="247968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7" descr="ANd9GcTE_fX3dqTHTTb0ma1reC9lrUrWThp1_uYCZp5z5dVcJkulObPFEQ"/>
          <p:cNvPicPr/>
          <p:nvPr/>
        </p:nvPicPr>
        <p:blipFill>
          <a:blip r:embed="rId2"/>
          <a:stretch/>
        </p:blipFill>
        <p:spPr>
          <a:xfrm>
            <a:off x="611280" y="4149720"/>
            <a:ext cx="3024000" cy="225576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8"/>
          <p:cNvSpPr/>
          <p:nvPr/>
        </p:nvSpPr>
        <p:spPr>
          <a:xfrm>
            <a:off x="4067280" y="2852640"/>
            <a:ext cx="410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Las barbacoas pueden causar grandes incendios forestales, ya que el fuego puede propagarse por arbustos y árboles, que son sustancias combustib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3300"/>
                </a:solidFill>
                <a:latin typeface="Arial"/>
              </a:rPr>
              <a:t>La combust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5" descr="productos_limpieza"/>
          <p:cNvPicPr/>
          <p:nvPr/>
        </p:nvPicPr>
        <p:blipFill>
          <a:blip r:embed="rId1"/>
          <a:stretch/>
        </p:blipFill>
        <p:spPr>
          <a:xfrm>
            <a:off x="250920" y="2133720"/>
            <a:ext cx="4819680" cy="333036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6"/>
          <p:cNvSpPr/>
          <p:nvPr/>
        </p:nvSpPr>
        <p:spPr>
          <a:xfrm>
            <a:off x="5364000" y="2637000"/>
            <a:ext cx="3311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6666ff"/>
                </a:solidFill>
                <a:latin typeface="Arial"/>
              </a:rPr>
              <a:t>Debemos guardar los productos inflamables del hogar en lugares seguros, ya que son muy combustibles y pueden originar incendios por combust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6600"/>
                </a:solidFill>
                <a:latin typeface="Arial"/>
              </a:rPr>
              <a:t>La oxid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La oxid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s una reacción química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</a:rPr>
              <a:t>(una sustancia con un reactivo es transformada en otra sustancia o produc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este caso, determinadas sustancias se transforman en otras al tomar el </a:t>
            </a:r>
            <a:r>
              <a:rPr b="0" lang="es-ES" sz="3200" spc="-1" strike="noStrike">
                <a:solidFill>
                  <a:srgbClr val="bbe0e3"/>
                </a:solidFill>
                <a:latin typeface="Arial"/>
              </a:rPr>
              <a:t>oxígeno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del a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5" descr="ANd9GcSLIEfw4Z5yACLkR5KF_6G4LIhnEfrgQuiUnT8XNXZZqiwdClS_3w"/>
          <p:cNvPicPr/>
          <p:nvPr/>
        </p:nvPicPr>
        <p:blipFill>
          <a:blip r:embed="rId1"/>
          <a:stretch/>
        </p:blipFill>
        <p:spPr>
          <a:xfrm>
            <a:off x="3059280" y="4076640"/>
            <a:ext cx="338436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¿Qué es una reacción quím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encemos repasando lo aprendi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Arial"/>
              </a:rPr>
              <a:t>La materia es aquello de lo que están hechas las cos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be0e3"/>
                </a:solidFill>
                <a:latin typeface="Arial"/>
              </a:rPr>
              <a:t>La materia tiene estas propiedades: masa, volumen y dens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66cc"/>
                </a:solidFill>
                <a:latin typeface="Arial"/>
              </a:rPr>
              <a:t>La materia se presenta en tres estados: sólido, líquido y gase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66ff"/>
                </a:solidFill>
                <a:latin typeface="Arial"/>
              </a:rPr>
              <a:t>La materia puede cambiar de estado: fusión, solidificación, vaporización, condensación y sublim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ff33"/>
                </a:solidFill>
                <a:latin typeface="Arial"/>
              </a:rPr>
              <a:t>La materia está hecha de sustancia. Puede ser una sustancia pura o una mezcla (heterogénea u homogénea). También se pueden separar sus componentes: filtración, decantación, evaporación o separación magnét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6600"/>
                </a:solidFill>
                <a:latin typeface="Arial"/>
              </a:rPr>
              <a:t>La oxid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oxidación se produce en los metales como el hierro, que se transforma en otra sustancia (</a:t>
            </a: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óxido de hierro)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or el contacto con el oxígeno del a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es-ES" sz="3200" spc="-1" strike="noStrike">
                <a:solidFill>
                  <a:srgbClr val="cc3300"/>
                </a:solidFill>
                <a:latin typeface="Arial"/>
              </a:rPr>
              <a:t>óxido de hierr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s una sustancia quebradiza de color roji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5" descr="ANd9GcReABOQhVydTpDFUsKjjslv626XOPqeTtt3Xz_rTmW331TaZlcr8w"/>
          <p:cNvPicPr/>
          <p:nvPr/>
        </p:nvPicPr>
        <p:blipFill>
          <a:blip r:embed="rId1"/>
          <a:stretch/>
        </p:blipFill>
        <p:spPr>
          <a:xfrm>
            <a:off x="2843280" y="4869000"/>
            <a:ext cx="3311280" cy="19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6600"/>
                </a:solidFill>
                <a:latin typeface="Arial"/>
              </a:rPr>
              <a:t>La oxid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5" descr="ANd9GcRNftembntETUcvf5s19pE3mRVb7K3W9JMCGi3rMZVXHOFJVHgXNw"/>
          <p:cNvPicPr/>
          <p:nvPr/>
        </p:nvPicPr>
        <p:blipFill>
          <a:blip r:embed="rId1"/>
          <a:stretch/>
        </p:blipFill>
        <p:spPr>
          <a:xfrm>
            <a:off x="539640" y="1557360"/>
            <a:ext cx="1708200" cy="20160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7" descr="ANd9GcSbi2m3PXceB0jXZlJmjpzRcAdvphmDH6xzYc9btyO53iUh81tnSA"/>
          <p:cNvPicPr/>
          <p:nvPr/>
        </p:nvPicPr>
        <p:blipFill>
          <a:blip r:embed="rId2"/>
          <a:stretch/>
        </p:blipFill>
        <p:spPr>
          <a:xfrm>
            <a:off x="3059280" y="134136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9" descr="ANd9GcTD-eNmhqusQmI4W6xxJejKU2lNFHUXDCr6JboIfB-cd_W_UEMSUQ"/>
          <p:cNvPicPr/>
          <p:nvPr/>
        </p:nvPicPr>
        <p:blipFill>
          <a:blip r:embed="rId3"/>
          <a:stretch/>
        </p:blipFill>
        <p:spPr>
          <a:xfrm>
            <a:off x="5724360" y="1557360"/>
            <a:ext cx="2286000" cy="171432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1" descr="ANd9GcTdfgRSCB4EFa49BasVpa4SwNWAMfmZOoafKCvS5j6QEvSmfixtig"/>
          <p:cNvPicPr/>
          <p:nvPr/>
        </p:nvPicPr>
        <p:blipFill>
          <a:blip r:embed="rId4"/>
          <a:stretch/>
        </p:blipFill>
        <p:spPr>
          <a:xfrm>
            <a:off x="395280" y="3933720"/>
            <a:ext cx="3095640" cy="2322720"/>
          </a:xfrm>
          <a:prstGeom prst="rect">
            <a:avLst/>
          </a:prstGeom>
          <a:ln w="0">
            <a:noFill/>
          </a:ln>
        </p:spPr>
      </p:pic>
      <p:sp>
        <p:nvSpPr>
          <p:cNvPr id="608" name="Text Box 12"/>
          <p:cNvSpPr/>
          <p:nvPr/>
        </p:nvSpPr>
        <p:spPr>
          <a:xfrm>
            <a:off x="3851280" y="3933720"/>
            <a:ext cx="4824360" cy="272880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lgunos metales, como el acero inoxidable, no sufren esta reacción quí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14" descr="ANd9GcSyjqE94Hz9m1011AgKpACO6emlyck-lmyT4bjkzndt_qzAeqQtyg"/>
          <p:cNvPicPr/>
          <p:nvPr/>
        </p:nvPicPr>
        <p:blipFill>
          <a:blip r:embed="rId5"/>
          <a:stretch/>
        </p:blipFill>
        <p:spPr>
          <a:xfrm>
            <a:off x="4643280" y="4581360"/>
            <a:ext cx="31672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6600"/>
                </a:solidFill>
                <a:latin typeface="Arial"/>
              </a:rPr>
              <a:t>La oxid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oxidación también la sufren algunos </a:t>
            </a:r>
            <a:r>
              <a:rPr b="0" lang="es-ES" sz="3200" spc="-1" strike="noStrike">
                <a:solidFill>
                  <a:srgbClr val="99cc00"/>
                </a:solidFill>
                <a:latin typeface="Arial"/>
              </a:rPr>
              <a:t>aliment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que, cuando son pelados y expuestos al oxígeno del aire, adquirien tonos más oscu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ucede en manzanas, berenjenas, aguacates, patatas, chirimoyas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5" descr="ANd9GcQdgSL-_Edh0HalydtPbS3HAxRLAGfc-Mk1ppaqDkmSwXLLpKQU_Q"/>
          <p:cNvPicPr/>
          <p:nvPr/>
        </p:nvPicPr>
        <p:blipFill>
          <a:blip r:embed="rId1"/>
          <a:stretch/>
        </p:blipFill>
        <p:spPr>
          <a:xfrm>
            <a:off x="3276720" y="4724280"/>
            <a:ext cx="2286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6600"/>
                </a:solidFill>
                <a:latin typeface="Arial"/>
              </a:rPr>
              <a:t>La oxid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5" descr="2rqn9c3"/>
          <p:cNvPicPr/>
          <p:nvPr/>
        </p:nvPicPr>
        <p:blipFill>
          <a:blip r:embed="rId1"/>
          <a:stretch/>
        </p:blipFill>
        <p:spPr>
          <a:xfrm>
            <a:off x="395280" y="1557360"/>
            <a:ext cx="2019240" cy="494352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7"/>
          <p:cNvSpPr/>
          <p:nvPr/>
        </p:nvSpPr>
        <p:spPr>
          <a:xfrm>
            <a:off x="81000" y="46080"/>
            <a:ext cx="205740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9" descr="arton65097"/>
          <p:cNvPicPr/>
          <p:nvPr/>
        </p:nvPicPr>
        <p:blipFill>
          <a:blip r:embed="rId2"/>
          <a:stretch/>
        </p:blipFill>
        <p:spPr>
          <a:xfrm>
            <a:off x="2627280" y="1484280"/>
            <a:ext cx="2571840" cy="193356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11" descr="ANd9GcRMC_QtK0YXfgCmeTk96lSqpxAodCfFqxeoaPraqqaVBOngtVc13A"/>
          <p:cNvPicPr/>
          <p:nvPr/>
        </p:nvPicPr>
        <p:blipFill>
          <a:blip r:embed="rId3"/>
          <a:stretch/>
        </p:blipFill>
        <p:spPr>
          <a:xfrm>
            <a:off x="2700360" y="3573360"/>
            <a:ext cx="2592360" cy="242424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3" descr="ANd9GcQvqjjFxwUtikTDju6PLEqbf32ZsqBvfr3sKYVVxmK_oP1hux_s"/>
          <p:cNvPicPr/>
          <p:nvPr/>
        </p:nvPicPr>
        <p:blipFill>
          <a:blip r:embed="rId4"/>
          <a:stretch/>
        </p:blipFill>
        <p:spPr>
          <a:xfrm>
            <a:off x="5435640" y="1700280"/>
            <a:ext cx="2952720" cy="16272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15" descr="ANd9GcRJ-1SUOlCq8o0aZHyKWemLyDgXwNG3zDpjEq6iZ8FTNiuLhkR1Vg"/>
          <p:cNvPicPr/>
          <p:nvPr/>
        </p:nvPicPr>
        <p:blipFill>
          <a:blip r:embed="rId5"/>
          <a:stretch/>
        </p:blipFill>
        <p:spPr>
          <a:xfrm>
            <a:off x="5580000" y="4005360"/>
            <a:ext cx="1081080" cy="9889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7" descr="ANd9GcRjVvPUgepBIJaiM1CH-fsfpQCcrnUSZ0bSMBPnYyK2AQWLmP5Rug"/>
          <p:cNvPicPr/>
          <p:nvPr/>
        </p:nvPicPr>
        <p:blipFill>
          <a:blip r:embed="rId6"/>
          <a:stretch/>
        </p:blipFill>
        <p:spPr>
          <a:xfrm>
            <a:off x="6659640" y="4005360"/>
            <a:ext cx="216216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La ferment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66ff"/>
                </a:solidFill>
                <a:latin typeface="Arial"/>
              </a:rPr>
              <a:t>La fermentac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una reacción química </a:t>
            </a: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(una sustancia, gracias a los reactivos, se transforma en otra sustancia o produc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Se produce en </a:t>
            </a:r>
            <a:r>
              <a:rPr b="0" lang="es-ES" sz="3200" spc="-1" strike="noStrike">
                <a:solidFill>
                  <a:srgbClr val="99ccff"/>
                </a:solidFill>
                <a:latin typeface="Arial"/>
              </a:rPr>
              <a:t>sustancias orgánica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que se transforman gracias a reactivos co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Arial"/>
              </a:rPr>
              <a:t>Levadur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Arial"/>
              </a:rPr>
              <a:t>Bacte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66"/>
                </a:solidFill>
                <a:latin typeface="Arial"/>
              </a:rPr>
              <a:t>Hong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5" descr="ANd9GcTLvZZBhEGU1J0yf8tTeOcF-p53Z91p6ZTla3Dcu40BeCT6dEKJBw"/>
          <p:cNvPicPr/>
          <p:nvPr/>
        </p:nvPicPr>
        <p:blipFill>
          <a:blip r:embed="rId1"/>
          <a:stretch/>
        </p:blipFill>
        <p:spPr>
          <a:xfrm>
            <a:off x="3203640" y="4005360"/>
            <a:ext cx="2520720" cy="16272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7" descr="ANd9GcS3xAyKgOqVKFFTWyd4r_XM7pf42ijuQuI9vie1uddeRDNmBheX"/>
          <p:cNvPicPr/>
          <p:nvPr/>
        </p:nvPicPr>
        <p:blipFill>
          <a:blip r:embed="rId2"/>
          <a:stretch/>
        </p:blipFill>
        <p:spPr>
          <a:xfrm>
            <a:off x="6227640" y="3932280"/>
            <a:ext cx="2179800" cy="1631880"/>
          </a:xfrm>
          <a:prstGeom prst="rect">
            <a:avLst/>
          </a:prstGeom>
          <a:ln w="0">
            <a:noFill/>
          </a:ln>
        </p:spPr>
      </p:pic>
      <p:sp>
        <p:nvSpPr>
          <p:cNvPr id="625" name="AutoShape 9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11" descr="milk-kefir"/>
          <p:cNvPicPr/>
          <p:nvPr/>
        </p:nvPicPr>
        <p:blipFill>
          <a:blip r:embed="rId3"/>
          <a:stretch/>
        </p:blipFill>
        <p:spPr>
          <a:xfrm>
            <a:off x="5580000" y="5303880"/>
            <a:ext cx="23288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La ferment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ra que se produzca la fermentación, generalmente, </a:t>
            </a:r>
            <a:r>
              <a:rPr b="0" lang="es-ES" sz="3200" spc="-1" strike="noStrike">
                <a:solidFill>
                  <a:srgbClr val="333399"/>
                </a:solidFill>
                <a:latin typeface="Arial"/>
              </a:rPr>
              <a:t>no debe estar presente el oxíg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común que se </a:t>
            </a:r>
            <a:r>
              <a:rPr b="0" lang="es-ES" sz="3200" spc="-1" strike="noStrike">
                <a:solidFill>
                  <a:srgbClr val="b2b2b2"/>
                </a:solidFill>
                <a:latin typeface="Arial"/>
              </a:rPr>
              <a:t>desprendan g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5" descr="ANd9GcQzITsqgdTCyuwK7j8N9Vn1UQiKhwBEuNh_FukLrv9uiYsh5UEN"/>
          <p:cNvPicPr/>
          <p:nvPr/>
        </p:nvPicPr>
        <p:blipFill>
          <a:blip r:embed="rId1"/>
          <a:stretch/>
        </p:blipFill>
        <p:spPr>
          <a:xfrm>
            <a:off x="2916360" y="4005360"/>
            <a:ext cx="3600360" cy="22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La ferment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La fermentación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s beneficiosa en muchos casos para fabricar alimen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4"/>
          <p:cNvSpPr/>
          <p:nvPr/>
        </p:nvSpPr>
        <p:spPr>
          <a:xfrm>
            <a:off x="539640" y="2997360"/>
            <a:ext cx="359892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A la masa para hacer el pan (harina y agua) se le añade </a:t>
            </a:r>
            <a:r>
              <a:rPr b="0" lang="es-ES" sz="2000" spc="-1" strike="noStrike">
                <a:solidFill>
                  <a:srgbClr val="ffcc66"/>
                </a:solidFill>
                <a:latin typeface="Arial"/>
              </a:rPr>
              <a:t>levadura</a:t>
            </a: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 para que se produzca una ferm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66"/>
                </a:solidFill>
                <a:latin typeface="Arial"/>
              </a:rPr>
              <a:t>La fermentación hace que se desprendan bolitas de dióxido de carbono que luego hacen al pan más esponjoso y tie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6"/>
          <p:cNvSpPr/>
          <p:nvPr/>
        </p:nvSpPr>
        <p:spPr>
          <a:xfrm>
            <a:off x="3433680" y="2424240"/>
            <a:ext cx="2276640" cy="20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8" descr="masa-pan"/>
          <p:cNvPicPr/>
          <p:nvPr/>
        </p:nvPicPr>
        <p:blipFill>
          <a:blip r:embed="rId1"/>
          <a:stretch/>
        </p:blipFill>
        <p:spPr>
          <a:xfrm>
            <a:off x="4211640" y="2852640"/>
            <a:ext cx="2938320" cy="259884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10" descr="ANd9GcTJ6jxwJo72ZlSJicTbpusa--frHKlrrg4LOXq6QQrY_afbYOe4"/>
          <p:cNvPicPr/>
          <p:nvPr/>
        </p:nvPicPr>
        <p:blipFill>
          <a:blip r:embed="rId2"/>
          <a:stretch/>
        </p:blipFill>
        <p:spPr>
          <a:xfrm>
            <a:off x="6629400" y="5038560"/>
            <a:ext cx="25146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La ferment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5" descr="ANd9GcQGcrsFEMcJiHh9AMiW-Ut_UMBVG8MbpGGR-WqtpWFULq0u15FVRg"/>
          <p:cNvPicPr/>
          <p:nvPr/>
        </p:nvPicPr>
        <p:blipFill>
          <a:blip r:embed="rId1"/>
          <a:stretch/>
        </p:blipFill>
        <p:spPr>
          <a:xfrm>
            <a:off x="539640" y="1628640"/>
            <a:ext cx="2457720" cy="185760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7" descr="ANd9GcRHMujJKHOqsg3ywe-K8ZvDJyqjsuBc2leoPOUYJ9Sivi8xmP7OcQ"/>
          <p:cNvPicPr/>
          <p:nvPr/>
        </p:nvPicPr>
        <p:blipFill>
          <a:blip r:embed="rId2"/>
          <a:stretch/>
        </p:blipFill>
        <p:spPr>
          <a:xfrm>
            <a:off x="3132000" y="1628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9" descr="ANd9GcQXTi-2WEc4JkFXwt68jFm4rDagU26jhcX4bDzx83qXQ21LznWH"/>
          <p:cNvPicPr/>
          <p:nvPr/>
        </p:nvPicPr>
        <p:blipFill>
          <a:blip r:embed="rId3"/>
          <a:stretch/>
        </p:blipFill>
        <p:spPr>
          <a:xfrm>
            <a:off x="5867280" y="162864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11" descr="ANd9GcS2unkI-kiZDE9f8_yeFine4JdylRQQOK5wd9NwNIxCPmKseL_-"/>
          <p:cNvPicPr/>
          <p:nvPr/>
        </p:nvPicPr>
        <p:blipFill>
          <a:blip r:embed="rId4"/>
          <a:stretch/>
        </p:blipFill>
        <p:spPr>
          <a:xfrm>
            <a:off x="468360" y="3933720"/>
            <a:ext cx="2324160" cy="1962360"/>
          </a:xfrm>
          <a:prstGeom prst="rect">
            <a:avLst/>
          </a:prstGeom>
          <a:ln w="0">
            <a:noFill/>
          </a:ln>
        </p:spPr>
      </p:pic>
      <p:sp>
        <p:nvSpPr>
          <p:cNvPr id="641" name="Text Box 12"/>
          <p:cNvSpPr/>
          <p:nvPr/>
        </p:nvSpPr>
        <p:spPr>
          <a:xfrm>
            <a:off x="2987640" y="4292640"/>
            <a:ext cx="58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ff99"/>
                </a:solidFill>
                <a:latin typeface="Arial"/>
              </a:rPr>
              <a:t>El </a:t>
            </a:r>
            <a:r>
              <a:rPr b="0" i="1" lang="es-ES" sz="2400" spc="-1" strike="noStrike">
                <a:solidFill>
                  <a:srgbClr val="66ff99"/>
                </a:solidFill>
                <a:latin typeface="Arial"/>
              </a:rPr>
              <a:t>kefir</a:t>
            </a:r>
            <a:r>
              <a:rPr b="0" lang="es-ES" sz="2400" spc="-1" strike="noStrike">
                <a:solidFill>
                  <a:srgbClr val="66ff99"/>
                </a:solidFill>
                <a:latin typeface="Arial"/>
              </a:rPr>
              <a:t> es un tipo de yogur fabricado con leche a la que se añaden unos hongos para que se produzca una fer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La ferment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3780000" y="2421000"/>
            <a:ext cx="4751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yogur se crea a través de una fermentación. A la leche se le añaden unas bacterias benignas; se deja reposar la mezcla durante 4 horas a 43ºC y luego se enfría para detener la ferme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Picture 6" descr="yogur"/>
          <p:cNvPicPr/>
          <p:nvPr/>
        </p:nvPicPr>
        <p:blipFill>
          <a:blip r:embed="rId1"/>
          <a:stretch/>
        </p:blipFill>
        <p:spPr>
          <a:xfrm>
            <a:off x="900000" y="1844640"/>
            <a:ext cx="266724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La fermenta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5" descr="Feremntacion-3-diciembre-08%5D"/>
          <p:cNvPicPr/>
          <p:nvPr/>
        </p:nvPicPr>
        <p:blipFill>
          <a:blip r:embed="rId1"/>
          <a:stretch/>
        </p:blipFill>
        <p:spPr>
          <a:xfrm>
            <a:off x="4356000" y="1844640"/>
            <a:ext cx="3754440" cy="249228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7" descr="ANd9GcQ7wU5zPDc6Hn4kaWA-6zwLytHH1Lyrup60cR26B0khKOz7D9WQ6w"/>
          <p:cNvPicPr/>
          <p:nvPr/>
        </p:nvPicPr>
        <p:blipFill>
          <a:blip r:embed="rId2"/>
          <a:stretch/>
        </p:blipFill>
        <p:spPr>
          <a:xfrm>
            <a:off x="5651640" y="4365720"/>
            <a:ext cx="2952720" cy="221112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9" descr="ANd9GcScoIVCootD2UTE0zY8lbZc542kys2cap8ebKSoUMsXmDDQg83fwA"/>
          <p:cNvPicPr/>
          <p:nvPr/>
        </p:nvPicPr>
        <p:blipFill>
          <a:blip r:embed="rId3"/>
          <a:stretch/>
        </p:blipFill>
        <p:spPr>
          <a:xfrm>
            <a:off x="3419640" y="4437000"/>
            <a:ext cx="2066760" cy="2210040"/>
          </a:xfrm>
          <a:prstGeom prst="rect">
            <a:avLst/>
          </a:prstGeom>
          <a:ln w="0">
            <a:noFill/>
          </a:ln>
        </p:spPr>
      </p:pic>
      <p:sp>
        <p:nvSpPr>
          <p:cNvPr id="649" name="Text Box 10"/>
          <p:cNvSpPr/>
          <p:nvPr/>
        </p:nvSpPr>
        <p:spPr>
          <a:xfrm>
            <a:off x="324000" y="2708280"/>
            <a:ext cx="28796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66"/>
                </a:solidFill>
                <a:latin typeface="Arial"/>
              </a:rPr>
              <a:t>En la fabricación del vino se produce una fermentación. El zumo de uva contiene azúcares que, gracias a unas levaduras, se transforman en alcoh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¿Qué es una reacción quím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na </a:t>
            </a:r>
            <a:r>
              <a:rPr b="1" lang="es-ES" sz="3200" spc="-1" strike="noStrike">
                <a:solidFill>
                  <a:srgbClr val="ff6600"/>
                </a:solidFill>
                <a:latin typeface="Arial"/>
              </a:rPr>
              <a:t>reacción química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es un proceso por el que las sustancias se transforman en otras sustanc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a sustancia inicial se llama </a:t>
            </a:r>
            <a:r>
              <a:rPr b="1" lang="es-ES" sz="3200" spc="-1" strike="noStrike">
                <a:solidFill>
                  <a:srgbClr val="ff6600"/>
                </a:solidFill>
                <a:latin typeface="Arial"/>
              </a:rPr>
              <a:t>reactiv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, mientras que el resultado es el </a:t>
            </a:r>
            <a:r>
              <a:rPr b="1" lang="es-ES" sz="3200" spc="-1" strike="noStrike">
                <a:solidFill>
                  <a:srgbClr val="ff6600"/>
                </a:solidFill>
                <a:latin typeface="Arial"/>
              </a:rPr>
              <a:t>product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Picture 5" descr="ANd9GcQojW4phHUb7sm8hOzydE-2WWCfHlGv_MVvFDQ-epO87Yddinzzvg"/>
          <p:cNvPicPr/>
          <p:nvPr/>
        </p:nvPicPr>
        <p:blipFill>
          <a:blip r:embed="rId1"/>
          <a:stretch/>
        </p:blipFill>
        <p:spPr>
          <a:xfrm>
            <a:off x="971640" y="4579920"/>
            <a:ext cx="1855800" cy="1855800"/>
          </a:xfrm>
          <a:prstGeom prst="rect">
            <a:avLst/>
          </a:prstGeom>
          <a:ln w="0">
            <a:noFill/>
          </a:ln>
        </p:spPr>
      </p:pic>
      <p:sp>
        <p:nvSpPr>
          <p:cNvPr id="498" name="AutoShape 7"/>
          <p:cNvSpPr/>
          <p:nvPr/>
        </p:nvSpPr>
        <p:spPr>
          <a:xfrm>
            <a:off x="3262320" y="2557440"/>
            <a:ext cx="261936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9" descr="milk-kefir"/>
          <p:cNvPicPr/>
          <p:nvPr/>
        </p:nvPicPr>
        <p:blipFill>
          <a:blip r:embed="rId2"/>
          <a:stretch/>
        </p:blipFill>
        <p:spPr>
          <a:xfrm>
            <a:off x="3059280" y="4797360"/>
            <a:ext cx="2379600" cy="15890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11" descr="ANd9GcRPiHjh0YntWh0-QoU38NQSoDadT7wLK_6dX6hGdgQVaZYeCOhvhQ"/>
          <p:cNvPicPr/>
          <p:nvPr/>
        </p:nvPicPr>
        <p:blipFill>
          <a:blip r:embed="rId3"/>
          <a:stretch/>
        </p:blipFill>
        <p:spPr>
          <a:xfrm>
            <a:off x="6227640" y="4221000"/>
            <a:ext cx="1671840" cy="223236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12"/>
          <p:cNvSpPr/>
          <p:nvPr/>
        </p:nvSpPr>
        <p:spPr>
          <a:xfrm>
            <a:off x="900000" y="652464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REAC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3"/>
          <p:cNvSpPr/>
          <p:nvPr/>
        </p:nvSpPr>
        <p:spPr>
          <a:xfrm>
            <a:off x="6300720" y="6524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5"/>
          <p:cNvSpPr/>
          <p:nvPr/>
        </p:nvSpPr>
        <p:spPr>
          <a:xfrm>
            <a:off x="1187280" y="42926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66"/>
                </a:solidFill>
                <a:latin typeface="Arial"/>
              </a:rPr>
              <a:t>Le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6"/>
          <p:cNvSpPr/>
          <p:nvPr/>
        </p:nvSpPr>
        <p:spPr>
          <a:xfrm>
            <a:off x="3564000" y="4508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66"/>
                </a:solidFill>
                <a:latin typeface="Arial"/>
              </a:rPr>
              <a:t>Ho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7"/>
          <p:cNvSpPr/>
          <p:nvPr/>
        </p:nvSpPr>
        <p:spPr>
          <a:xfrm>
            <a:off x="7667640" y="5013360"/>
            <a:ext cx="11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cc66"/>
                </a:solidFill>
                <a:latin typeface="Arial"/>
              </a:rPr>
              <a:t>Yog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8"/>
          <p:cNvSpPr/>
          <p:nvPr/>
        </p:nvSpPr>
        <p:spPr>
          <a:xfrm>
            <a:off x="5508720" y="5589720"/>
            <a:ext cx="64764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¿Qué es una reacción quím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5" descr="000705070"/>
          <p:cNvPicPr/>
          <p:nvPr/>
        </p:nvPicPr>
        <p:blipFill>
          <a:blip r:embed="rId1"/>
          <a:stretch/>
        </p:blipFill>
        <p:spPr>
          <a:xfrm>
            <a:off x="468360" y="1700280"/>
            <a:ext cx="3809880" cy="446724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6"/>
          <p:cNvSpPr/>
          <p:nvPr/>
        </p:nvSpPr>
        <p:spPr>
          <a:xfrm>
            <a:off x="4643280" y="1844640"/>
            <a:ext cx="3673800" cy="42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00"/>
                </a:solidFill>
                <a:latin typeface="Arial"/>
              </a:rPr>
              <a:t>En la fotosíntesis se produce una reacción quí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00"/>
                </a:solidFill>
                <a:latin typeface="Arial"/>
              </a:rPr>
              <a:t>El agua con sales minerales (savia bruta) llega a las hojas, donde la clorofila, con la energía solar, produce una reacción química que la transforma en savia elaborada y dióxido de carb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99cc00"/>
                </a:solidFill>
                <a:latin typeface="Arial"/>
              </a:rPr>
              <a:t>La savia bruta junto a la clorofila y la energía solar serían los </a:t>
            </a: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reactivos</a:t>
            </a:r>
            <a:r>
              <a:rPr b="0" lang="es-ES" sz="1800" spc="-1" strike="noStrike">
                <a:solidFill>
                  <a:srgbClr val="99cc00"/>
                </a:solidFill>
                <a:latin typeface="Arial"/>
              </a:rPr>
              <a:t>, mientras que la savia elaborada y el CO2 son los </a:t>
            </a: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productos</a:t>
            </a:r>
            <a:r>
              <a:rPr b="0" lang="es-ES" sz="1800" spc="-1" strike="noStrike">
                <a:solidFill>
                  <a:srgbClr val="99cc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¿Qué es una reacción quím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5" descr="ANd9GcT-GfFnHrG8C--sDfF7eqhRMxXFDu1z7oIKn-OaMQ6UCiJvrjtb7Q"/>
          <p:cNvPicPr/>
          <p:nvPr/>
        </p:nvPicPr>
        <p:blipFill>
          <a:blip r:embed="rId1"/>
          <a:stretch/>
        </p:blipFill>
        <p:spPr>
          <a:xfrm>
            <a:off x="179280" y="2924280"/>
            <a:ext cx="2592360" cy="155556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ANd9GcSS4p1xMIC9Ll5WpBFbOVMy-pqRvGn3A_1nxZXFkd53OLf8CJ9sKQ"/>
          <p:cNvPicPr/>
          <p:nvPr/>
        </p:nvPicPr>
        <p:blipFill>
          <a:blip r:embed="rId2"/>
          <a:stretch/>
        </p:blipFill>
        <p:spPr>
          <a:xfrm>
            <a:off x="324000" y="4581360"/>
            <a:ext cx="2376360" cy="158148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9" descr="ANd9GcSxmGQCRGm25is9oJpXdu5mfLPHoakqWtFj_IMUk-chQvidv2lDHA"/>
          <p:cNvPicPr/>
          <p:nvPr/>
        </p:nvPicPr>
        <p:blipFill>
          <a:blip r:embed="rId3"/>
          <a:stretch/>
        </p:blipFill>
        <p:spPr>
          <a:xfrm>
            <a:off x="468360" y="1341360"/>
            <a:ext cx="1800000" cy="1548000"/>
          </a:xfrm>
          <a:prstGeom prst="rect">
            <a:avLst/>
          </a:prstGeom>
          <a:ln w="0">
            <a:noFill/>
          </a:ln>
        </p:spPr>
      </p:pic>
      <p:sp>
        <p:nvSpPr>
          <p:cNvPr id="514" name="Text Box 10"/>
          <p:cNvSpPr/>
          <p:nvPr/>
        </p:nvSpPr>
        <p:spPr>
          <a:xfrm>
            <a:off x="539640" y="623736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Hi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12" descr="ANd9GcTXpSFlZtIFcpBg8urSuQk-peuXZTwj_E3L_mZ1Xw64PIYn007Q"/>
          <p:cNvPicPr/>
          <p:nvPr/>
        </p:nvPicPr>
        <p:blipFill>
          <a:blip r:embed="rId4"/>
          <a:stretch/>
        </p:blipFill>
        <p:spPr>
          <a:xfrm>
            <a:off x="2916360" y="1916280"/>
            <a:ext cx="2190600" cy="163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4" descr="ANd9GcSHw167UEmUrIXAwQb7uV-3wqcA0BbP1uorqgkSdEBroZHVMYc0vA"/>
          <p:cNvPicPr/>
          <p:nvPr/>
        </p:nvPicPr>
        <p:blipFill>
          <a:blip r:embed="rId5"/>
          <a:stretch/>
        </p:blipFill>
        <p:spPr>
          <a:xfrm>
            <a:off x="3203640" y="3573360"/>
            <a:ext cx="1942920" cy="145584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15"/>
          <p:cNvSpPr/>
          <p:nvPr/>
        </p:nvSpPr>
        <p:spPr>
          <a:xfrm>
            <a:off x="3276720" y="522936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Oxíg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6"/>
          <p:cNvSpPr/>
          <p:nvPr/>
        </p:nvSpPr>
        <p:spPr>
          <a:xfrm>
            <a:off x="3059280" y="5661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(REAC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7"/>
          <p:cNvSpPr/>
          <p:nvPr/>
        </p:nvSpPr>
        <p:spPr>
          <a:xfrm>
            <a:off x="5292720" y="3933720"/>
            <a:ext cx="79200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9" descr="ANd9GcQMcoYSWD-eSf4Fw0lbKOROS90VUUS9Op4AX79_VFsDQjrDKNgW1g"/>
          <p:cNvPicPr/>
          <p:nvPr/>
        </p:nvPicPr>
        <p:blipFill>
          <a:blip r:embed="rId6"/>
          <a:stretch/>
        </p:blipFill>
        <p:spPr>
          <a:xfrm>
            <a:off x="6156360" y="1268280"/>
            <a:ext cx="2251080" cy="16858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1" descr="ANd9GcTP7lam7MvsUDKnB51ykkXgH3j9raipeYODsg9GlkEKD3t4NTS7Jw"/>
          <p:cNvPicPr/>
          <p:nvPr/>
        </p:nvPicPr>
        <p:blipFill>
          <a:blip r:embed="rId7"/>
          <a:stretch/>
        </p:blipFill>
        <p:spPr>
          <a:xfrm>
            <a:off x="6227640" y="2997360"/>
            <a:ext cx="2016360" cy="16650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3" descr="ANd9GcQkTx6pr4exJVJtE9RFjwIyuK7z8c_jRlpiiZvSUXpNX3mpS4INRw"/>
          <p:cNvPicPr/>
          <p:nvPr/>
        </p:nvPicPr>
        <p:blipFill>
          <a:blip r:embed="rId8"/>
          <a:stretch/>
        </p:blipFill>
        <p:spPr>
          <a:xfrm>
            <a:off x="6516720" y="4797360"/>
            <a:ext cx="1600200" cy="137160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24"/>
          <p:cNvSpPr/>
          <p:nvPr/>
        </p:nvSpPr>
        <p:spPr>
          <a:xfrm>
            <a:off x="6732720" y="616572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Óx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5"/>
          <p:cNvSpPr/>
          <p:nvPr/>
        </p:nvSpPr>
        <p:spPr>
          <a:xfrm>
            <a:off x="6588000" y="6453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(PRODUC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¿Qué es una reacción quím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5" descr="ANd9GcT9vaJBDtg10_j-m_V-3HhzJjfNPCkAVmWHUwcLoVg-2_BUU5gf"/>
          <p:cNvPicPr/>
          <p:nvPr/>
        </p:nvPicPr>
        <p:blipFill>
          <a:blip r:embed="rId1"/>
          <a:stretch/>
        </p:blipFill>
        <p:spPr>
          <a:xfrm>
            <a:off x="395280" y="1628640"/>
            <a:ext cx="2697120" cy="36007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7" descr="ANd9GcQjxdV7MlhjTG9jjn4Su4A7i_fb1BjLwD8A4vzheP0BdcV98lKvkA"/>
          <p:cNvPicPr/>
          <p:nvPr/>
        </p:nvPicPr>
        <p:blipFill>
          <a:blip r:embed="rId2"/>
          <a:stretch/>
        </p:blipFill>
        <p:spPr>
          <a:xfrm>
            <a:off x="3419640" y="3068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8"/>
          <p:cNvSpPr/>
          <p:nvPr/>
        </p:nvSpPr>
        <p:spPr>
          <a:xfrm>
            <a:off x="611280" y="530064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Vinag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9"/>
          <p:cNvSpPr/>
          <p:nvPr/>
        </p:nvSpPr>
        <p:spPr>
          <a:xfrm>
            <a:off x="3564000" y="5300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Bicarbon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0"/>
          <p:cNvSpPr/>
          <p:nvPr/>
        </p:nvSpPr>
        <p:spPr>
          <a:xfrm>
            <a:off x="3348000" y="5805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(REAC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12" descr="ANd9GcQ74fuKQN84zCBv9nnFOqNmwn3zexkDXoPeFFwj4iDXCdo75hkb8A"/>
          <p:cNvPicPr/>
          <p:nvPr/>
        </p:nvPicPr>
        <p:blipFill>
          <a:blip r:embed="rId3"/>
          <a:stretch/>
        </p:blipFill>
        <p:spPr>
          <a:xfrm>
            <a:off x="5940360" y="2133720"/>
            <a:ext cx="2867040" cy="287964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13"/>
          <p:cNvSpPr/>
          <p:nvPr/>
        </p:nvSpPr>
        <p:spPr>
          <a:xfrm>
            <a:off x="6659640" y="5157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6600"/>
                </a:solidFill>
                <a:latin typeface="Arial"/>
              </a:rPr>
              <a:t>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4"/>
          <p:cNvSpPr/>
          <p:nvPr/>
        </p:nvSpPr>
        <p:spPr>
          <a:xfrm>
            <a:off x="6372360" y="5805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6600"/>
                </a:solidFill>
                <a:latin typeface="Arial"/>
              </a:rPr>
              <a:t>(PRODUC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15"/>
          <p:cNvSpPr/>
          <p:nvPr/>
        </p:nvSpPr>
        <p:spPr>
          <a:xfrm>
            <a:off x="5651640" y="4365720"/>
            <a:ext cx="504720" cy="0"/>
          </a:xfrm>
          <a:prstGeom prst="line">
            <a:avLst/>
          </a:prstGeom>
          <a:ln w="7632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¿Qué es una reacción quím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5" descr="imagen01"/>
          <p:cNvPicPr/>
          <p:nvPr/>
        </p:nvPicPr>
        <p:blipFill>
          <a:blip r:embed="rId1"/>
          <a:stretch/>
        </p:blipFill>
        <p:spPr>
          <a:xfrm>
            <a:off x="4284720" y="1557360"/>
            <a:ext cx="4392720" cy="183996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6"/>
          <p:cNvSpPr/>
          <p:nvPr/>
        </p:nvSpPr>
        <p:spPr>
          <a:xfrm>
            <a:off x="611280" y="1773360"/>
            <a:ext cx="76327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66"/>
                </a:solidFill>
                <a:latin typeface="Arial"/>
              </a:rPr>
              <a:t>Materiales</a:t>
            </a:r>
            <a:r>
              <a:rPr b="0" lang="es-ES" sz="1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"/>
              </a:rPr>
              <a:t>Cart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"/>
              </a:rPr>
              <a:t>Bote de yogur líqui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"/>
              </a:rPr>
              <a:t>Plastilina marrón y ver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"/>
              </a:rPr>
              <a:t>Are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"/>
              </a:rPr>
              <a:t>Vinag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"/>
              </a:rPr>
              <a:t>Bicarbonato (de sodi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"/>
              </a:rPr>
              <a:t>Piment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"/>
              </a:rPr>
              <a:t>Embu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"/>
              </a:rPr>
              <a:t>Cucharil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"/>
              </a:rPr>
              <a:t>Pegamento líquid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"/>
              </a:rPr>
              <a:t> </a:t>
            </a:r>
            <a:r>
              <a:rPr b="1" lang="es-ES" sz="1400" spc="-1" strike="noStrike">
                <a:solidFill>
                  <a:srgbClr val="ffff66"/>
                </a:solidFill>
                <a:latin typeface="Arial"/>
              </a:rPr>
              <a:t>Procedimi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"/>
              </a:rPr>
              <a:t>Fijamos el bote sobre el cartón y lo cubrimos con plastilina marrón y verde para simular una montañ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"/>
              </a:rPr>
              <a:t>Con un pincel damos a todo una capa de pegamento líquido.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"/>
              </a:rPr>
              <a:t>Echamos arena sobre el modelo para decorar. 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66"/>
                </a:solidFill>
                <a:latin typeface="Arial"/>
              </a:rPr>
              <a:t>Añadimos las distintas sustancias químicas y esperamos a que se produzca la reacción. Para ello:</a:t>
            </a:r>
            <a:br>
              <a:rPr sz="1400"/>
            </a:br>
            <a:r>
              <a:rPr b="0" lang="es-ES" sz="1400" spc="-1" strike="noStrike">
                <a:solidFill>
                  <a:srgbClr val="ffff66"/>
                </a:solidFill>
                <a:latin typeface="Arial"/>
              </a:rPr>
              <a:t>    • Llenamos dos tercios del bote con vinagre.</a:t>
            </a:r>
            <a:br>
              <a:rPr sz="1400"/>
            </a:br>
            <a:r>
              <a:rPr b="0" lang="es-ES" sz="1400" spc="-1" strike="noStrike">
                <a:solidFill>
                  <a:srgbClr val="ffff66"/>
                </a:solidFill>
                <a:latin typeface="Arial"/>
              </a:rPr>
              <a:t>    • Añadimos pimentón y removemos.</a:t>
            </a:r>
            <a:br>
              <a:rPr sz="1400"/>
            </a:br>
            <a:r>
              <a:rPr b="0" lang="es-ES" sz="1400" spc="-1" strike="noStrike">
                <a:solidFill>
                  <a:srgbClr val="ffff66"/>
                </a:solidFill>
                <a:latin typeface="Arial"/>
              </a:rPr>
              <a:t>    • Añadimos una cucharadita de bicarbonato y vemos la "erupción" que produce la reacción químic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¿Qué es una reacción quím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n algunas reacciones químicas los reactivos producen también 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calor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5" descr="ANd9GcQdqWxDKlxbvhwVxsyXqD0o11nHc5nJ7cNzKJreDTLD9sJnJY7Csg"/>
          <p:cNvPicPr/>
          <p:nvPr/>
        </p:nvPicPr>
        <p:blipFill>
          <a:blip r:embed="rId1"/>
          <a:stretch/>
        </p:blipFill>
        <p:spPr>
          <a:xfrm>
            <a:off x="755640" y="2852640"/>
            <a:ext cx="2697120" cy="360072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6"/>
          <p:cNvSpPr/>
          <p:nvPr/>
        </p:nvSpPr>
        <p:spPr>
          <a:xfrm>
            <a:off x="3708360" y="3141720"/>
            <a:ext cx="4464000" cy="21132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Arial"/>
              </a:rPr>
              <a:t>En el fuego se produce una combust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Arial"/>
              </a:rPr>
              <a:t>El carbón actúa como </a:t>
            </a: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reactivo</a:t>
            </a:r>
            <a:r>
              <a:rPr b="0" lang="es-ES" sz="2400" spc="-1" strike="noStrike">
                <a:solidFill>
                  <a:srgbClr val="ffff66"/>
                </a:solidFill>
                <a:latin typeface="Arial"/>
              </a:rPr>
              <a:t> y los </a:t>
            </a:r>
            <a:r>
              <a:rPr b="0" lang="es-ES" sz="2400" spc="-1" strike="noStrike">
                <a:solidFill>
                  <a:srgbClr val="ff6600"/>
                </a:solidFill>
                <a:latin typeface="Arial"/>
              </a:rPr>
              <a:t>productos</a:t>
            </a:r>
            <a:r>
              <a:rPr b="0" lang="es-ES" sz="2400" spc="-1" strike="noStrike">
                <a:solidFill>
                  <a:srgbClr val="ffff66"/>
                </a:solidFill>
                <a:latin typeface="Arial"/>
              </a:rPr>
              <a:t> serían: cenizas, gases y cal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"/>
          <p:cNvSpPr/>
          <p:nvPr/>
        </p:nvSpPr>
        <p:spPr>
          <a:xfrm flipV="1">
            <a:off x="5508720" y="2637000"/>
            <a:ext cx="1008000" cy="2304720"/>
          </a:xfrm>
          <a:prstGeom prst="line">
            <a:avLst/>
          </a:prstGeom>
          <a:ln w="936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¿Qué es una reacción químic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Veamos ahora distintos tipos de reacciones quím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Combust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Oxid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3300"/>
                </a:solidFill>
                <a:latin typeface="Arial"/>
              </a:rPr>
              <a:t>Fermen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5" descr="ANd9GcSu9VZyp1jhyZWTBMC1OKoBAMMX9wVTD4kkb4ypm6QL1YP9ZePC"/>
          <p:cNvPicPr/>
          <p:nvPr/>
        </p:nvPicPr>
        <p:blipFill>
          <a:blip r:embed="rId1"/>
          <a:stretch/>
        </p:blipFill>
        <p:spPr>
          <a:xfrm>
            <a:off x="539640" y="465300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7" descr="ANd9GcSA6jT2dGD-baahG1QTCUVl7vISgkYVFIELlz_jYG5dGacno0K2"/>
          <p:cNvPicPr/>
          <p:nvPr/>
        </p:nvPicPr>
        <p:blipFill>
          <a:blip r:embed="rId2"/>
          <a:stretch/>
        </p:blipFill>
        <p:spPr>
          <a:xfrm>
            <a:off x="3348000" y="4653000"/>
            <a:ext cx="2457360" cy="18572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9" descr="ANd9GcRYyH_ZENFHZBsbnLhDMRY4QxDlD6lKxpkrPMW__BQB05awPoi-"/>
          <p:cNvPicPr/>
          <p:nvPr/>
        </p:nvPicPr>
        <p:blipFill>
          <a:blip r:embed="rId3"/>
          <a:stretch/>
        </p:blipFill>
        <p:spPr>
          <a:xfrm>
            <a:off x="6443640" y="4221000"/>
            <a:ext cx="1960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7T15:29:58Z</dcterms:created>
  <dc:creator>Pablo Turmero</dc:creator>
  <dc:description/>
  <dc:language>en-US</dc:language>
  <cp:lastModifiedBy>Pablo Turmero</cp:lastModifiedBy>
  <dcterms:modified xsi:type="dcterms:W3CDTF">2017-09-07T18:56:39Z</dcterms:modified>
  <cp:revision>5</cp:revision>
  <dc:subject/>
  <dc:title>Tipos de Reacciones químicas</dc:title>
</cp:coreProperties>
</file>