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20E4-88AB-425A-82B5-D0A4F561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26B-9FC1-4E2F-B26C-C764B5A5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805-5EFE-4C1A-AE79-8C2A82E4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BBE51-C016-42C7-B292-247AC37F8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7B2-E46A-47B1-9E95-C3474C23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C4184-6A61-4ED4-8724-D75FEEA3F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A72-9356-4F12-B261-F374B731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89E11-B212-416C-8513-2E94B630E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37C-636B-4A5E-A513-4B7E3D304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7F92-228A-4F06-8428-8804D0BE1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F6BC-E817-4CEE-A44B-B0C7C2AC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ED36-2F48-4B4C-B83E-75F931B54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5C1-02EB-4813-9A69-1C455370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1D4E0-00CE-4B36-8245-D9B88EB03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FEE-512E-4DC5-8DB3-A7BBE5EA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3D25D-48B8-4C19-8C95-6F2D456F2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D6A-3E1F-45B8-865F-5C367758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183C7-A69B-48A4-9EA1-FE1458DB4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574F-C1C9-4D4B-9C2B-4CDCEF8B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5667-E2CF-41F1-A1EC-586433B6C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C10-6CFE-428D-B809-9280C8BE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F9267-82E4-48D6-BF2D-24D2BB4FD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F62-6699-4FAF-9FC1-B0C02413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3B65-DA6A-4CCB-B817-2E930B5EA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4D6-262E-4C1A-B51B-ED9393F1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BCD16-19BF-4D12-B010-FA5371670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36E-7F85-48F6-9C57-0189D1E8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6FD49-A0E1-4C6E-A1B5-D3E089127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70D6-9BB0-4600-8FE7-98597A26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82FA-F7C3-43F5-ACF0-A35F52C29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2F1B-D88F-48A6-B067-30C5D0F1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23F0-372E-4FC8-B3C3-E1449AAE3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BD8B-6A38-4F9B-8323-B3E00F44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8DD5C-30B0-4DD1-9C06-8DDE0CBE9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F31-525F-48D6-9EA2-DB5E8756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2016E-DF20-4A63-9310-511CDEE18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2E40-EB14-43B6-B226-0F643902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B6E7-D608-4E1B-A822-96DEB69D7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B2B-9C14-4115-BE73-79EA8BA35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AAB01-177F-4D2A-80BE-9AAFBF7C5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87C-8002-44FB-B885-8A18E92F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E15F4-74EE-4665-8E50-CB26DC69D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C6D3-F460-4134-B0BE-2A05780D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341D6-1659-4EF1-81D6-055B873C1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7576-2029-4047-8018-64C7C69E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DC263-3DBC-4207-BB64-45875E9AA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8936-39A0-4546-B0CA-DF3A469A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D8BAA-FF39-4E15-9A42-1DE157D07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CFFF-E092-4A35-8B71-882045DC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9E77-AEEC-46B9-A32A-9B1A9148B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21C-7499-4D2D-92E0-F51D1203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18828-A48F-48A1-A7FA-FB0505042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19FE-2C16-45E2-A547-5585401D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5BFF4-8D0F-4DB8-B314-F8B75241B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9930-FF76-4497-80C6-E9E838E9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3E3BC-D307-4EFE-9D72-D945EDA59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902B-3568-4417-9036-4299B146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616C8-7AA9-4675-8DF1-77F733846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E1AE-4E56-407A-BC4B-A58FC86A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62748-66B3-4671-B477-33957A23A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6DA-21AF-4645-ABB2-BA6AACD2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FB2B-B1A8-4D27-8B8A-DAB6C1079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ED5-A7B5-416F-A14B-FECD5434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8F6A7-E658-4FA4-869F-7AB725959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6B77-5457-4DE6-8CF8-975F5CF0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30C5B-83F6-4F8C-8EEE-A95CC7FC0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335-0441-40BB-BFC5-CF671E2E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96C9A-FDF1-41FE-AC6E-55448CCE7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0ACB-FFCE-413D-9288-3271A522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6D276-1897-4054-9FD8-1E09E1A6B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66AC-DA8C-451C-9746-F6D59007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2DD8F-BEB0-4994-A789-97280D214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0AE4-3917-4AE3-867B-313F4B0B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1619D-A9C8-416B-8EDA-ABB2CD52C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CDF4-9D20-45BA-B17C-7D8CF5BF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0960F-8D40-43D4-83E3-5FA65EB08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59D5-64E3-4717-B430-1F13EF8D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D4F70-8589-41B0-AC9A-AAA7BA559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26E-7F46-4DEC-A3EC-82C02D09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BE531-E2D0-44E8-BABB-04CF89F08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A634-A806-4436-92B5-2F306D6DB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84A6-65A8-40E0-BE2A-BA4423605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8E4-2DFC-4521-A92A-79C78EC9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E1B4-BD4E-4528-89C4-81F338A4A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BE5-2F09-4C4E-93C0-673C3D8B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5E12F-2AE2-4C95-8412-ACC9D47E7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28F-823A-41B7-8E07-E1E3126D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57C7-9BA7-435A-BEE4-D0109C080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6857-95FD-454A-888E-43E96658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C169B-255D-435D-8977-0C520356D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55F9-8FE1-4650-A3FB-4E071709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77689-D4C5-47D8-BAEB-CA45DD22C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F1E9-A73C-44C8-9C79-27C9393B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FB44A-C0F2-4524-8003-81D0E33EB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873-79E9-4B22-B093-A7D86E4D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0E91-E1C8-4FE6-A352-61285B729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F6AA-41BD-4A5F-8460-140270E9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EA101-5B62-495D-9202-5DC0679BC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318-23BF-476A-A7E1-9EA8E87E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7C609-DCF1-490E-ADED-C99147F25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A50-A081-4D42-BBE4-E1C51E04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DA4E2-66C4-42A1-8BA1-2BDCD7362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F4A3-6BB5-4B08-9514-3828A9A3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C955-FF07-4610-938D-EABB82D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01440-2CDD-45F3-941A-AF6276C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161A61-4DFD-490E-90EB-2391CCF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A0AA6-6F86-46E8-9645-DEA4CE7A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9A730-4720-4AD9-9783-97165BD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4ADA5-ECD5-4FF8-9F46-D21D2C4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9E13E-BB15-46E5-8F8F-7CD35AF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82688-3753-4CFA-9629-322FF1BB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E0AAF-6E99-4E84-9E6A-1C26D675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0CFEB-8C7C-43CE-A71F-952B6738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23DCC-716E-42F3-9604-D93C4791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89EE-82D1-41F5-B4EE-42AB7EC7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A2D5F-3266-43AC-B37C-61CBDE3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76C80B-8672-43D1-A89E-921CA86E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D439B-8D67-4F00-B4EB-2342CFD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F5E403-9B0A-4963-8F90-BD431E0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2F8D8-CD9B-4A95-84C1-1C8EE60D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CB62F-0A05-42B7-AD1B-DF4FC5F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6362E8-C79D-49E4-84A6-F35A615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88F759-C75C-49A8-97EC-EFA4791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C6D093-D186-4486-8775-9CFD4DE5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9515BE-A3D5-4B8A-874F-B7C72A01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0BC-2BD9-46A5-9ED1-6E0A5D0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76F72-522B-4F11-BCF3-52CF313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E01B89-4331-467E-BF07-236B68C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1FF952-64FA-4A77-9889-9132E52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15CE6-EC18-4BFC-82FA-470B407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69C11C-8BDE-4B67-AFDE-C3BB482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DBF04F-2EBF-41D3-AA16-BDE2ACF2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600603-389D-4768-B9E2-EF18CA66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33DFA1-5BF9-4940-9C37-78FEF87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0463C9-F7D4-4B09-9635-FECFE17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09C05-F0DF-4C9D-8484-931B343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BEDF-B1C0-4AC8-9099-0B935E97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3F2D0-A71C-4A92-BCBB-EA0CCA0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0A727A-8221-46A7-9A4A-64EC4DCC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E5265-3CB8-4A6F-A582-3FA8FBAF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AA835-792B-47A2-BF79-D7B4D09F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670F92-A250-4BEB-8A0A-597A675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0917CF-5567-4B45-8E8A-8D942A83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DDA403-39F8-4DFC-BE06-7F990596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CE75FD-7121-4C19-9083-405300E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E8CFD-F63A-496C-8104-CD09EF86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8D418A-E4B3-4760-9084-8AD71B2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96EE-B898-4176-A22C-429273D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577FEA-9DF9-456D-BF2B-239C1E7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E81F79-AB2A-4920-B4A9-8655474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179DAB-3B7C-48BA-A97E-DA8B1A2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B22988-3C9A-45F6-BF1B-AA2605BD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386F5F-8F2E-4DDE-A78F-6FDFEF5A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1FD-320D-4B22-AE90-AB292A6A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487-B48F-47D8-A330-46EAC3D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446B-96FD-456A-84E9-1338AAD4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E60-1BA3-4DBC-8E19-81F987E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F771-D722-4AF8-9B03-E0DBD3D9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6701-B344-4B55-84D8-6E7073A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5CC8-5D74-4767-9897-BA87A12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077D-BB6C-43AA-8D1F-EBF9946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2C85-04DD-429D-87F2-570FE37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6F0-4532-4AA4-AC8A-0E8340AD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A22-2E65-4584-A3A5-45D40D4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E3A17-C847-450F-A531-AC28FA23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0BAE-3FBD-4EEE-A9FF-B1975938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2F3BB-863C-40F7-B62C-BDBA5B0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AF048-264D-48DC-92D7-15E9BC03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3C353-F159-464F-BEEF-B6B3B7C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E4DE-19E3-4020-8F47-28240A1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389B4-0F7D-4420-8BA4-711404A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04669-F7F5-4C9E-9707-7111482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D8D8C-F07D-4335-9580-51D5110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351A8-2103-4F18-9FBF-0D670185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8ABE3-1327-4014-BBDB-37420E80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E7E17-6CFA-4BE9-9408-3BCB914B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992F-9DBC-44F8-ADF7-6F07B4E5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230CA-A619-4CD5-A0FE-33343A54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E9437-597D-4C87-80B8-2FD8774C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A8DFE-4E32-4952-BC3B-7E98A30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DD0F-A570-43B7-9C0E-44FFB93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2BC67-9236-43E3-B304-52F01DE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A4F89-FCA9-4D8A-980D-4D40AE7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00954-71F8-40E1-9D4B-006E0AD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A5E2F-170B-46C0-BA55-38CC128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43613-0D29-40C9-9019-BCD764C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7FF8C-8BE2-41FA-890C-0B608C6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E2A79-213B-4116-A882-BE76A2CA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7830F-ED88-4592-96CD-799E5781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FB5FB-1052-4AE7-AA95-968F3480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B97A4-F281-412C-8B73-48920230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CE4D-A4CE-4707-B16E-C7B0D67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1EDBB-B064-4358-B5DB-41321B7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45C83-A0F1-4CBD-AEC3-FCCDD31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0DBC8-5C7D-4E37-B258-3F7822B3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39FD2-8121-42CF-B123-6D069A3B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548A8-4652-40C0-BB6B-73624DE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F07F3-6FAB-4DDD-9D2C-01ADC40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B55F7-136B-49E0-9385-A82E9CC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7F0D8-C4CB-405C-9984-4FA9C26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B2751-DB26-4D90-B53C-E97BF16E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CC2CE-422F-47F2-98DC-4B8A6DB9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BFAB-6421-43FA-8268-EF215BF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68996-4C2B-47BE-ABCF-C593CD66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73274-8118-4919-BC1D-557A86B2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6AFC9-2191-466A-81C4-6F8E351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1885C-26E0-4495-8952-D0DEED5C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45162-6D09-4B2C-8836-12019ED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070A8-1645-4489-829B-5EBAD2F9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12E24-68A4-45CF-B1EB-3E6BC4C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6A4C1-647A-4262-8EB8-86300EA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F0539-1775-4940-A0E1-B586CD0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E965F-B691-4902-B707-B0A4971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377A-8296-443F-8D56-D0A249F2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3683F-F218-4CD0-8B0B-574F4B08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D8018-0ADC-4FC3-B73D-F71E3B2E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A00CD-4887-4D4D-8CF7-0DED1C7E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BBBB0-77CC-4AC5-BB2E-F08A08A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FC953-D794-415C-B9D7-B21CC6DD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16007-A141-43B2-BECA-3A4E042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82302-A09B-4775-B1CF-5EBE9BCF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55BFE-7741-4AD0-BF2D-9D722054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1ED53-CDA9-4C82-A169-CDAC621B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F0B67-CB47-4940-89C3-6DDB950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8005-2F47-4037-AFAA-0684754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7F5E3-0DCF-400A-AC75-FAB9B05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BBC80-72B1-407A-AE2D-18A6203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52514-30E9-4FDB-B111-23B8A6D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9FF0E-20F5-4E32-9650-D8381E97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33AB7-827B-488B-AEE6-035DB608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3790E-BC72-404F-B16B-7A1DAA33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ECB73-4EDD-4738-8906-B44D816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479DE-1BB8-4A44-8D35-D762FF4F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EEF74-42E4-4D3C-8E0E-DB7F2CD0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0894D-904E-4C2E-AEDC-71D599B5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1713-AD7A-487B-B510-8D8E01E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02F51-3E2D-4D5E-8EB4-CDCEA814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1D021-2E31-4CA3-8191-1B4DFE0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AFA363-DC6B-4B2E-B366-2893202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855C5-F884-4862-9AD0-A7DE029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DEC45-EE95-44E0-968A-2AFECD8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346C4-FD78-43CB-A175-1972940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E08B5-8240-48FF-8E8D-2AC67CD1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2ED59-40AE-4CCF-8EAD-2CCF40C1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76455-A1E2-4600-AB48-0FACBC7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E4EDB-0211-43A6-8DE5-C0482720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1A2-A167-4D54-BDE7-DB5CC5BB9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FE9-BB3B-47F4-B85A-72032BBD4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5C5-DF14-4DD2-A8E0-C6971DA60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A05-CF7C-4526-A287-36858BA5D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014C-0A7E-4381-BF37-6DBFBABD9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2FE0-10FF-44E5-8623-64C2ED165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78A-AE60-49A1-8297-A1B520DA3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8421-B74D-44B5-B207-C80B90681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907-88F5-4A3F-A6EB-4CB5E859A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040C-B016-42AE-B0BF-D83118B49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FA61-271A-4E23-A72B-7AF29AF3C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18C-60D2-4180-ACA4-85A66521F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280" y="190512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onfiguración Avanzada de Asteris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nejo de colas: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andos relacionados de la C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ag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muestra los agent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queu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lista todas las co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queu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muestra datos de una cola en partic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ue add memb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grega un miembro a la c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ue remove memb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elimina un miembro de la c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ejo de colas: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e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MyQueue] ; nombre de la c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ic=default ; musica que coloca antes que lo ati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y=ringall ; estrategia d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out=15 ; tiempo maximo de ring a un miem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ry=5 ; tiempo de espera hasta reintentar con otro miem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apuptime=0 ; tiempo de espera luego de intentar con todos los miem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len = 0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unce-frequency = 0 ; cantidad de veces que sale el anun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unce-holdtime = no ;  si dice el tpo de espera aproxi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ber =&gt; Agent/1001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ber =&gt; Agent/1002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ber =&gt; Agent/1003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ejo de colas: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ts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gent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t =&gt; 1001,1111,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t =&gt; 1002,2222,Pe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t =&gt; 1003,3333,P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s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20,1,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20,3,Wait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20,4,SetMusicOnHold(defaul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20,5,Queue(MyQueue|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20,6,Hang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N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UM proviene de tElephone Number Map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asocian los números telefónicos convencionales (E.164) a nombre DNS e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e164.ar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34 944012345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5.4.3.2.1.0.4.4.9.4.3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164.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ervidor DNS que alberga la entrada, tiene registrados los servicios (sip, mail, http) publicados para dicho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 de entrada en B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RIGIN 5.4.3.2.1.0.4.4.9.4.3.e164.ar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PTR 10 100 "u" "E2U+sip" "!^.*$!sip:fulano@foo.com!"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PTR 10 101 "u" "E2U+msg" "!^.*$!mailto:fulano@foo.com!"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ioridad 1: contactar vía SIP con fulano@f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ioridad 2: contactar por correo con fulano@f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N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lamada desde un teléfono IP al +3494499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del teléfono al servidor DNS sobre la dirección 4.3.2.1.9.9.4.4.9.4.3.e164.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NS respon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p:fulano@f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lto:fulano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teléfono llama a sip:fulano@f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N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do del a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soportado por algunos proxies, Asterisk y algunos teléfonos S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DNS .e164.arpa no tiene aún las zonas subdelegadas en muchos paí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ernativa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164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dor DNS privado independiente. Permite al usuario asociar su número de teléfono convencional a una dirección VoIP, correo, web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gistro de llama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erisk permite llevar un control exhaustivo de todas las llamadas que se han realizado o recib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 interesante para control propio de facturación, independiente del proveedor (si no se es uno de ell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ite realizar estadís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e control se denomina CDR: Call Detail Re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gistro de llama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registro del CDR se escribe por defecto en el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var/log/asterisk/cdr-csv/Master.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extensiones al cdr: cdr_mysql por ejemplo,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en almacenar los registros en una base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r_mysql está disponible en asterisk-add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DR se configura en el archivo cdr.conf, para el módulo de MySQL, se utiliza cdr_mysq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confirmar el estado del CDR desde el CLI, se puede ejecu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&gt; cd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gistro de llama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isk genera un CDR (registro) para cada ll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nos de los campos más importa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ountcod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ódigo de la cuenta a uti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número del caller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s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tensión 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contex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texto 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r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ienzo de la llamada (fecha/ho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uesta de la llamada (fecha/ho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n de la llamada (fecha/ho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uración de la llamada en segundos, desde que fue discada hasta el c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llsec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ación de la llamada en segundos, desde que fue atendida hasta el c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osi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tado de la llamada (atendida, no atentendida, ocupado, falli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gistro de llama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en muchas aplicaciones que permite gestionar el CDR. Desarrollar una propia no es realmente muy compl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gunas aplicaciones open source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tbill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s una de las mejores aplicaciones opensource para tarificación, control de cuentas y lla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ski Stat v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 trata de una aplicación para listar y realizar estadísticas de las llamadas realizas o env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2B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scado autom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chivos .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utilizan para iniciar llamadas desde una aplicación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 archivos de texto que al copiarse en el directorio /var/spool/asterisk/outgoing, Asterisk notará su presencia e inmediatamente activará la extensión en la prioridad especificada en el archivo .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mente, se combinan con el programador de tareas de Linux: el c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nos ejemplos de uso son: soluciones de callback, despertador telefónico, anuncios automá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stema de lo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archivo /etc/asterisk/logger.conf se encuentra la configuración del sistema de logging de Aste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distintos niveles de información a capturar en los log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bo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sajes generales sobre lo que está ocurriendo en el sistema (por ej, si el valor de verbosity es mayor a 3, muestra las instrucciones del plan de marc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bu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sajes con información extendida, en general utilizados por program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tificaciones no crí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sajes de alerta posiblemente cr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ro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sajes indicando que ocurrió algo gr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stema d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el contexto [logfiles] del archivo logger.conf se indican los archivos y mensajes a loguear en c/u, la sintaxis es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rchivo =&gt; nivel1,...,niv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 archivos de log se crean por defecto en /var/log/asterisk/ (esto se puede cambiar /etc/asterisk/asterisk.con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bug =&gt; 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=&gt; notice,warning,error,debug,verb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stema d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enviar a la consola, hay que definir el archivo especial cons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ole =&gt; notice,warning,error,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bién se pueden enviar al sys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log.local0 =&gt; debug, warning, error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ce, verb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ndo además en /etc/syslog.con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0.*                  @ip_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stema de logs: C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 comandos relacionados con el manejo del log del CLI s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ger relo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reabre los archivos de log del Asterisk y recarga la configuración del logge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ger rot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rota los archivos de log y luego hace un logger re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set verbose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mbia el nivel de información a mostrar en la consola. Por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verbose 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AGI (o Asterisk Gateway Interface) provee una interfaz estándar para que programas externos puedan controlar el plan de mar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mente, los scripts AGI se utilizan para realizar lógica avanzada, comunicarse con base de datos relacion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 lenguajes más comunes de programación de scripts AGI son: PHP, Python y Perl, aunque se puede utilizar cualquier otro lengu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intercambio de información del script con Asterisk se realiza vía los canales de comunicación: STDIN, STDOUT y STDER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e desde STDIN para obtener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ribe en STDOUT para enviar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ribe en STDERR para enviar información de debug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script AGI envía comandos a Asterisk escribiendo en el STDOUT. Seguidamente Asterisk envía una respuesta por cada uno de ellos que es leída por el 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nos ejemplos de comand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ie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NGU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uel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Y [NUMBER | DIGITS | ALPHA | PHONETICS]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ce un número, dígito, caracter o una cadena foné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 [CONTEXT | EXTENSION | PRIORITY]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tablece un nuevo contexto, extensión o prioridad luego de finalizada la ejecución d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BO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rime un mensaje en el 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IT FOR DIGI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pera que se presione un díg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SET | GET] VARIABL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igna u obtiene el valor de una variable del plan de mar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grama d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er derechos de ejecución y presentar un  intérprete vá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 yum –y install php; chmod 755 mi_cript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523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 localizado por defecto en /var/lib/asterisk/agi-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ómo llamar al script desde el dial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 =&gt; 123,1,Answ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 =&gt; 123,2,AGI(mi_script.php|argu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: ejemplo en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iguiente script está escrito en PHP y dicta los números que se encuentran en el archivo que se le pasa como pará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!/usr/bin/php -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Esta línea es para que que haga no mantenga en un buffer 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_implicit_flush(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_time_limit(6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ror_reporting(0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Se abren los diferentes archivos (STDIN, STDOUT y un archivo de log del AG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in = fopen("php://stdin","r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out = fopen("php://stdout","w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stdlog = fopen("/var/log/asterisk/my_agi.log", "w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Si debug es true, escribe en el archivo de log definido anterior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debug = tru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: ejemplo en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Toma el nombre del archivo con los números a dictar del primer pará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archivo = $argv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Define la funcion read, que lee el input del ST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ction read(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$in, $debug, $stdlog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input = str_replace("\n", "", fgets($in, 4096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($debug) fputs($stdlog, "read: $input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turn $inpu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Define la funcion write, que escribe el output en el STD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ction write($lin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$debug, $stdlog, $ou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($debug) fputs($stdlog, "write: $line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puts($out,$line."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flush($ou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scado automático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el siguiente ejemplo: se llama al 43424444 en el canal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Zap/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hdi/1 y envía la llamada al contexto [mensajes-salida], extensión 84, Priorida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chivo mensaje.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Zap/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hdi/1/434244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Retries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ryTime: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Time: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xt: mensajes-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on: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ority: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ions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mensajes-salid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84,1,Playback(anun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84,2,Playback(vm-goodby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84,3,Hang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: ejemplo en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Lee el archivo que se paso como para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lines = file($archiv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Reproduce los digitos contenidos en cada linea del m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informando en el log del Asterisk la accion reali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ach ($lines as $lin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line=trim($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($i=0;$i&lt;strlen($line);$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("VERBOSE \"REPRODUCIENDO DIGITO $line[$i]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("SAY DIGITS $line[$i] \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eep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/ Se cierran todos los handlers de arch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close($in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close($out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close($stdlog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it; ?&gt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GI: ejemplo en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 ejemplo, si se quiere asociar el script a la extensión 200, se debe agregar al dial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0,1,Answ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0,2,AGI(dicta.php|/tmp/numeros.t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 =&gt; 200,3,Hangu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ás allá de los comandos que se vieron a través del curso, se revisarán algunos otros adicion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al de consola (console cha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e di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ermite hacer un llamada desde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e answ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ermite contestar una llamada desde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e hang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cuelga la llamada en curso en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ción del servid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/restart graceful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arar/recomenzar Asterisk cuando no haya llamadas en curso y sin aceptar nuevas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/restart 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arar/recomenzar inmedia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/restart when conveni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arar/recomenzar Asterisk cuando no haya llamadas en cur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o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carga toda la configuració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load/unlo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cargar/descargar un módul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s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ostrar todos los módulos levan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 applicatio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strar aplicaciones registradas en Aste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 channel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star los canale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 codec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strar información sobre los codecs insta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 transla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strar un cuadro de doble entrada con los tiempos de conversión entre formatos de cod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ft hangup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lgar una llamada en un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bug channe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lizar un debug de un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 de marc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alplan sho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mostrar el plan de marcación a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alplan sa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guardar los cambios rea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alplan add/remove exten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gregar / eliminar una extensión en un contexto dado al plan de mar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alplan add/remove inclu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ncorporar / eliminar un include en un contexto dado en el plan de mar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TERISK MANAGER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 a una aplicación cliente conectarse a una instancia de Asterisk vía TCP/IP y ejecutar comandos o leer ev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, se utiliza el puerto 503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 un protocolo en modo texto que consiste en líneas de tipo "clave: valor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junto de líneas: paqu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PROTOC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Se debe establecer una sesión con el manager antes de ejecutar coma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Los paquetes pueden ser transmitidos en ambas dir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El orden de las líneas dentro del paquete es in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) Las líneas se delimitan con CRLF y una línea en blanco (2 CRLF consecutivos) indica el final del paqu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TIPOS DE PAQUE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ipo de paquete está dado por las siguientes clav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quete originado en el cliente requiriendo llevar a cabo una acción particular. Contiene el nombre de la acción y los parámetros de la mi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pons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a respuesta del Asterisk a la Acción requerida por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ent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atos correspondientes a un evento generado dentro del núcleo de Asterisk o mód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AUTENT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uentas de usuario se configuran en /etc/asterisk/manager.conf. Por 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genera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abled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admi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ret = clavead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y=0.0.0.0/0.0.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mit=127.0.0.1/255.255.25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ad = system,call,log,verbose,command,agent,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rite = system,call,log,verbose,command,agent,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e caso, "admin" es el nombre de usuario, la clave es "claveadmin" y sólo se permiten conexiones para este usuario vía localhost. El resto de las líneas establecen permisos (r,w,r/w) para cada clase (system, call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nejo de co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sistema de colas en Asterisk se compone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s entrantes que son ubicadas en un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embros que contestan las llamadas en la cola (extensiones o bien usuarios que se loguean como ag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estrategia sobre cómo manejar la cola y repartir las llamadas entre los miem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úsica que se reproduce durante la espera en l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uncios para miembros y emisores de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CONEX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viar un mensaje con acción "Login", junto con el usuario y la clave como parámetros. Por 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on: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ername: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ret: adminc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s: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La última línea indica que la conexión no recibirá eventos por parte del Asterisk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CONEX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recibirá por parte del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terisk Call Manager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onse: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sage: Authentication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, en caso de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terisk Call Manager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onse: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sage: Authentication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PAQUETES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n proveer parámetros adicionales (por ej, un número a llamar o canal a desconect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aso que la acción determine la ejecución de una entrada del plan de marcación, también se pueden proveer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ion: &lt;action type&gt;&lt;CRL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&lt;Key 1&gt;: &lt;Value 1&gt;&lt;CRL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&lt;Key 2&gt;: &lt;Value 2&gt;&lt;CRL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riable: &lt;Variable 1&gt;=&lt;Value 1&gt;&lt;CRL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riable: &lt;Variable 2&gt;=&lt;Value 2&gt;&lt;CRL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CRLF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PAQUETES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os ejemplos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mand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ta un comando (por ej, reload) (privilege: command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ent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trola el flujo de los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ngup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gar canal (privilege: call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AXpeer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sta los peers IAX (privilege: system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tCommand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sta los comando disponibles de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off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off de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ilboxCount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erifica la cantidad de mensajes en el mailbox (privilege: call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ilboxStatu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erifica el status del mailbox (privilege: call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igina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rigina llamada (privilege: call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kedCall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 las parked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PAQUETES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os ejemplos de accion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ueAdd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 un miembro a la cola (privilege: agent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ueRemov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mueve un miembro de la cola (privilege: agent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Ppeer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 los peers SIP (privilege: system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tatu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tatus (privilege: call,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apHangup: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uelga un canal Z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apTransfer: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transfiere un canal Z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apShowChannels: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muestras los canales Z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serà recomendable meternos con esto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EJEMPLO LLAM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env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ON: Orig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SIP/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ten: 1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ority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: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recibe, en caso de éx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: New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: SIP/12345-ed8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r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id: 1124982019.19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EJEMPLO LLAM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recibe, en caso de éxito (co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: New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SIP/12345-ed8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te: Ri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ler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queid: 1124982019.19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: New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SIP/12345-ed8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te: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ler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queid: 1124982019.19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EJEMPLO LLAM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recibe, en caso de éxito (co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: Newex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SIP/12345-ed8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: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tension: 1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ority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plication: Se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pData: extension=1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queid: 1124982019.19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onse: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sage: Originate successfully que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EJEMPLO LLAM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recibe, en caso de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: Newex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OutgoingSpool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: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tension: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ority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plication: Se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pData: extension=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queid: 1124981514.587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EJEMPLO LLAM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recibe, en caso de error (co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: Hang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nnel: OutgoingSpool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queid: 1124981514.587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use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onse: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sage: Originate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nejo de colas: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nfiguración de las colas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áticamente: en el archivo queues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ámicamente: la configuración se almacena en una BD, “disponibilizando” los cambios sin necesidad de realizar un rel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nfiguración de los agentes se define en el archivo agents.con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R: PROBL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ocumentación sobre el protocolo y la funcionalidad del manager está in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problemas con el manejo de varias conexiones a la vez ( &gt;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recomendada la utilización de un Proxy (por, ej ProxyAstMan), para sistemas que hagan un uso intensivo del manager, comp pueden ser sistemas de monitoreo y campaña telefó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23428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UN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342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stema peer-to-peer que permite localizar gateways para servicios telefón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hay autoridad central que se encargue de la administración (como ser, el EN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 completamente distrib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puede considerar como un directorio telefó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nejo de colas: a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agentes atienden las llamadas de una cola espec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agente debe realizar u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lamando a una extensión especial que contiene la aplicació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entLog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ndicando que está listo para tomar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miembros son aquellos canales disponibles que están activamente atendiendo la cola. Pueden ser tanto agentes como también canales regulares (sip/jua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nejo de colas: 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llamadas son distribuidas entre los miembros de una cola siguiendo alguna de las siguientes 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ngall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ce sonar todos los canales disponibles hasta que alguno responda (configuración por defec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ndrobin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ce sonar cada interfaz disponible por tu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astrecent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ce sonar la interfaz que fue menos recientemente llamada por esta c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ewestcalls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ce sonar la interfaz con la menor cantidad de llamadas compl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ce sonar una interfaz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rmemory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gual que el round robin pero recuerda cual fue el último teléfono que atendió una llamada y continúa con el sigu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ejo de colas: penalties y pri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nalt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 le asigna una penalidad a cada agente, de manera tal que primero se derivan las llamadas (vía la estrategia definida) a los agentes con el menor valor de penalidad. En el caso de estar todos ocupados, se continúa con la siguiente penalty y así suces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sólo si la telefonista está ocupada, se deriva el llamado a la ofi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e le asigna una prioridad a cada llamada entrante, permitiendo situarla en un lugar más adelante de la cola (no siempre al fin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las llamadas al nro. 110 tienen más prioridad que las del 1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ejo de colas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licaciones principales, utilizadas en extensions.con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u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plicación utilizada para encolar una   llamada (toma como parámetro las colas definidas en queue.con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QueueMemb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grega dinámicamente un miembro a l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veQueueMemb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mueve dinámicamente un miembro de l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entLogi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gin de un agente a un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0:18:15Z</dcterms:created>
  <dc:creator>Pablo Turmero</dc:creator>
  <dc:description/>
  <dc:language>en-US</dc:language>
  <cp:lastModifiedBy>Pablo Turmero</cp:lastModifiedBy>
  <dcterms:modified xsi:type="dcterms:W3CDTF">2017-11-12T19:05:16Z</dcterms:modified>
  <cp:revision>154</cp:revision>
  <dc:subject/>
  <dc:title>Configuración Avanzada de Asterisk</dc:title>
</cp:coreProperties>
</file>