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1.gif" ContentType="image/gif"/>
  <Override PartName="/ppt/media/image8.wmf" ContentType="image/x-wmf"/>
  <Override PartName="/ppt/media/image13.wmf" ContentType="image/x-wmf"/>
  <Override PartName="/ppt/media/image35.jpeg" ContentType="image/jpeg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10.wmf" ContentType="image/x-wmf"/>
  <Override PartName="/ppt/media/image2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4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ftr" idx="44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 type="sldNum" idx="4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0B5B74-FEF5-42E2-A83F-4B78323FE8C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F05042-3A63-42EC-8108-8ADB6D3FB4C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9049D-42D9-4E99-80F3-25EE98E0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96232-47F5-4161-8300-6861A1DA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626427-0AB1-4D29-81DF-7779C103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E5D838-6697-455F-BB71-2A9C6593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A36A02-4B6F-4F67-9632-F54194C3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D9D77B-8FB6-40DE-B670-CED5D4BC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36AA20-95B7-44ED-8279-CB03FDDD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812AD9-ECA9-40AF-B4D4-F694E860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4440D6-6CB0-4D58-A879-8837F15F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AB4477-53B8-49DE-BA43-472273C3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45DBCA-2459-49BE-9526-A07E9BCB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47636B-F312-4C4B-B176-7839F28C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87CD5-F4AA-4A6E-A88C-24A659A8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3F1AE3-BF42-42C0-8BEE-E80BD19A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B72BD2-7BB1-4A9B-963B-F00355FB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F000AD-E5BE-48F2-8D29-43E18814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02F4D3-C531-400B-A526-FA86F3C7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ADBC21-163E-4153-B45F-2D290762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2FBC72-6593-454B-8068-5B3103D3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3B1F11-40A5-4E1A-892A-40E838AC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E41630-A15E-42FC-9B21-79C44938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B70B11-D03E-46DD-B7DA-759872CC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AAF8D7-E634-4440-8F6F-4BF15E6B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93F0A-159A-4827-9C8B-A3CA8865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91314E-42EA-499B-BB09-96A6B20D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9C827B-FABA-4EB0-A312-588D7EBA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AA7E27-0CEF-434C-B1A7-8A1547F3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607B99-89CB-4775-9D29-5F53F955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CB091E-9943-49E8-892E-CA2C3440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B7D650-FF38-4235-B5B1-7AFC616D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11DE59-9F76-4995-AC94-C5ABF834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321B11-A248-4C2D-A9EA-04C86737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F1D5E2-CB53-43C6-BE4B-E6F1C061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B94255-4BD4-472F-8EDA-3DCB31AA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8FF6-33D7-4629-8415-B299E0E5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226C5A-D1DA-4AB3-A7C0-75F3EB47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846537-BA9C-4747-8C21-F5E89EE9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253E83-B213-491C-97BB-A2BB25D5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6E4E10-9390-4DC7-914D-5757F54F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C37BD3-35AE-4A7C-BA1D-3668D0E3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003FE4-A47A-466B-B902-D1E729BF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C6CCD9-5A8F-4890-9081-02ABABF7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C840BF-D71B-4527-B002-14D56F17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C7E07A-03DF-4586-B707-2EA647BB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04D121-5738-41C1-8188-4A0794CC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DBEC-328E-4FA5-B1AC-6DE1199A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72B208-6834-4423-84F9-AB426682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4606DF-9724-4EF6-9ED8-D12AFFAD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BF2D6B-7EEC-40EF-AFB0-28314B7D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791ED2-60D0-4AAF-AC58-D744EB4A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9B8B00-8939-4862-B294-4A2FCC02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AA56E6-0F59-4CCF-89BB-3B0EFDBB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0E5AAF-E80D-4428-8FAF-2E718B74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D75BD0-A417-47E5-A985-B7DA3A2D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426C74-05A3-4CA7-ABDB-845F4E33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2B17DA-DB6C-426B-A291-66FD0A7B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C816-46E3-4673-9CC2-130A65A3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092947-A6D6-429C-8CB3-39BA415A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C6BD05-B58E-4E61-9C7F-3E8EE3B8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B307E4-C90F-4CA8-B110-59FE95D7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8DCB7D-9C69-4E93-952E-7C2B80CD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B4A49A-ECB0-4428-A110-B5DC58E2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7EF280-8DDD-422D-B28F-3D19E82C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90B1B4-13E8-4608-ACDC-F66BC435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D00087-F010-4EFA-8578-00398910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F8606D-2EF9-4A3A-8C65-BD67906A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6564D2-0620-496E-B8D1-0386473A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2E1B-7A9E-45FD-AA99-8E3AAEAA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B4BEE72-4A75-454A-86E4-C601819C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548E14-CF6B-44CC-A611-46B6E7CA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60D4D7C-F8AC-4813-9BC5-8EB76234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7F5680-1898-4BA8-96C9-74D4AD2F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E844C0-4706-4CF4-B2AC-0E323167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CA17F6-61CF-4B23-9821-728F67AC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596698-C3D2-4FCC-916D-06B8740B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DA8DC8-471D-495A-95AE-D7C3C945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8BDCD3-D694-409E-8CA4-3CD34493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4FF3-7337-4F41-BB96-95087EF0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79DC-5190-4136-8BD4-E69668DC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98C4-D35F-46C7-A24A-71C00D7C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A284C-4F41-4165-AAB6-F33977B3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E62E-CA1C-4B06-861D-58F3DF68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2DCA-6F85-4C55-A969-3629A8B9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6865-66DD-475F-B86E-07701E52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6000-AB14-4B4F-9F87-84208DB4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A01F-A715-4022-A851-E91385D1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2DD52-DAFD-454B-AA26-B3D188E5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A9894-64AC-4BE4-BC17-F08EA116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E1D2B-62EA-42C5-A38E-B1040CC6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C5875-1B60-410C-8EFD-5378B91A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561EB-9751-4A8A-9C39-BA48A7B7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DDAFC-1373-4852-83EC-A6F67A58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1169B-8615-4588-A4A3-C2307A56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F77E0-6880-40A6-B1F9-527773FD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762D9-2A2E-4AE7-B2C9-BF6303D8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40C93-37E1-4B96-AE1F-E87D700B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8921C-07CA-4709-AAB2-23785879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DE8DB1-A423-406C-B063-D77352C0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17260-E2F6-4072-A41D-D0E5995D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B788EE-59A5-448A-B603-E04DD293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B5C1A7-296C-484F-A7BE-BCB1FFED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4D768A-3795-4348-B19F-A4BF368B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2C1B6-AD41-4719-AC8A-6DB599C9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B39AF6-E939-4349-B8C2-DC5B63CD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6A5668-4CB4-44EF-A40D-DD52E6A9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5746F7-EA0F-4F25-8704-67B74246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33E2AD-6AF3-4649-875C-D4E4B5AE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D9B3D-2AD8-4B8F-8457-CDB749CA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3A497B-0B9E-443A-AEA4-11BBD03D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44EB1C-685A-42EF-9BE8-326656BA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6087CA-9439-494E-9E70-C392FEAA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0AF735-747A-4371-8AFB-60D8A895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F37673-FED3-4EB6-977F-3697DB31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3719A-5341-409D-938D-F426BB16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DCA878-59B8-4524-84BD-DC4438AF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B3C501-22D2-455A-BF39-51F38CED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9A3EC7-90CC-4D97-AF7A-6F75A799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A092DB-A228-40E4-8F27-FDA2556B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03838A-2B50-4C20-92BA-7B84B38B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8D2EB5-6C30-4792-AEE1-15C8057C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960E09-A4BC-43E3-AEB4-14E2AF38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377978-17E1-457D-B82A-0C19AAA9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EB0A86-B7C8-49DB-8116-E6AAE691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63CE6-E4A6-47F5-8E08-9BAC87BC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D1042-EB97-4771-B0CA-BD1D9939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BC18C-5C96-44B9-9835-EF78792E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E4192-E536-4FE9-9DD3-F1A2A3EB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E4D82D-0A46-4CF1-AFAA-77F26FA2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50FD86-8E01-4B84-80A3-32799778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74170F-1052-46BC-9BEE-43899986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72D37D-82B6-4DF9-BC78-77269C50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BB7C1-91B0-4F25-87E1-D805FEFD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4D6B49-0F10-46C8-8F5F-2A7B9EC7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7C82A-8160-4E4A-B84D-479E27FD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008ED5-9E8B-4FEA-8F9D-CC53E8BE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40D59-3DE6-4F0D-AEFB-61E49054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4AF0E-C99C-43FE-BD64-8EECB469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A1F2C5-7926-49D8-9A92-3AC934EC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86A50-5D03-4792-8810-F354CAF2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187E66-00FA-46A4-AADD-F2D71C56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519AC5-A322-4F94-B53F-DB20D6B6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A0E46A-F539-4116-A8E3-D4AF870A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D05FB1-CE1E-4042-B749-E004C754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7A1BA1-1328-4938-A408-91212D19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4F7738-1150-4129-968B-806FEB4D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62E2D0-59F7-44CE-A85E-CADD108F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4CEC0-4461-42AC-B374-B097EA6A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537672-4064-4837-ACC0-E08D52B6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5337A4-D5C7-4704-89AC-DB408571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968C8B-C4D3-4898-8DFF-DEC96A62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633FB4-3CBD-49BF-8F57-5FD34F77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E752D8-511C-4A8F-9DFA-3BDBF030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A60323-2AC9-4391-9F3F-B88DC939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C7D03A-A5D7-4CB0-9906-88A10B23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3969F7-5074-4B6B-BEF7-88CB99A0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6F87BB-32FC-4E1D-BAC2-8BC45019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AE9CB8-9828-4E44-9226-39E4147B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4F9DC-1EA9-49CF-9A02-FA262CBC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11280" y="115560"/>
            <a:ext cx="8424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9A6F2C-A6F8-4857-AC36-C478A32C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D902E6-F747-4561-8922-E7B35832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447C45-5D29-4BEC-B22D-74ED845C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E9F34A-19B8-4AA1-B965-689D8350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11280" y="3582000"/>
            <a:ext cx="842472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FA298A-CAA0-47F4-A0F6-02100AE2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28400" y="83628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128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928400" y="3582000"/>
            <a:ext cx="41112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50BC76-214F-4FE4-B338-C8B9861C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45996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308640" y="83628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1128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45996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308640" y="3582000"/>
            <a:ext cx="271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277277-6C65-4E62-AB02-35D84D44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85DD09-3B42-45AF-917D-2A554383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DFA3A1-F5D9-40E0-81C8-908ECD7E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70D5B0-E34D-41A4-9486-2EA5F8C2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FAA9-6FBC-4D2D-8925-8017AEB9CA3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0" y="0"/>
            <a:ext cx="285840" cy="533520"/>
          </a:xfrm>
          <a:prstGeom prst="rect">
            <a:avLst/>
          </a:prstGeom>
          <a:gradFill rotWithShape="0">
            <a:gsLst>
              <a:gs pos="0">
                <a:srgbClr val="5f5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611280" cy="6858000"/>
          </a:xfrm>
          <a:prstGeom prst="rect">
            <a:avLst/>
          </a:prstGeom>
          <a:gradFill rotWithShape="0">
            <a:gsLst>
              <a:gs pos="0">
                <a:srgbClr val="7597db"/>
              </a:gs>
              <a:gs pos="100000">
                <a:srgbClr val="4552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Line 117"/>
          <p:cNvSpPr/>
          <p:nvPr/>
        </p:nvSpPr>
        <p:spPr>
          <a:xfrm>
            <a:off x="539640" y="0"/>
            <a:ext cx="0" cy="685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" name="Line 118"/>
          <p:cNvSpPr/>
          <p:nvPr/>
        </p:nvSpPr>
        <p:spPr>
          <a:xfrm>
            <a:off x="46836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8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9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6BD3-E2D5-4938-9867-3F9B01DCFAE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dt" idx="30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31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32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C4F8-F547-471E-9984-A223ADBA9E8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dt" idx="33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ftr" idx="34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sldNum" idx="35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58B1-E137-4C14-80E1-69F5AE2208C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dt" idx="36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ftr" idx="37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sldNum" idx="38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5070-9F79-4D9E-835D-AE13D4C5B28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dt" idx="39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ftr" idx="40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sldNum" idx="41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212C-06DA-423F-8EBE-8B9260336E5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dt" idx="42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gradFill rotWithShape="0">
            <a:gsLst>
              <a:gs pos="0">
                <a:srgbClr val="7597db"/>
              </a:gs>
              <a:gs pos="100000">
                <a:srgbClr val="4552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476360" y="1700280"/>
            <a:ext cx="7667640" cy="2520720"/>
          </a:xfrm>
          <a:prstGeom prst="rect">
            <a:avLst/>
          </a:prstGeom>
          <a:solidFill>
            <a:srgbClr val="4552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9EF9-AFDF-4C2B-90A6-F9C5C87D6D0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7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AEE5-DA25-4910-ABD3-84AC34904B0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dt" idx="9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0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4DB2-CFDA-4639-BA98-47316B1E483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3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A640-7C24-436E-89E6-97689783DF9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5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16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26A0-6D0B-4B7A-BD4A-79834F0D0E8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dt" idx="18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9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20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8903-27D2-4953-83D2-1895FC4DC5E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dt" idx="21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22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23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9C5C-5188-4123-BEDB-71AE970C5C9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dt" idx="24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597d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597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ftr" idx="25"/>
          </p:nvPr>
        </p:nvSpPr>
        <p:spPr>
          <a:xfrm>
            <a:off x="2484000" y="6237360"/>
            <a:ext cx="45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XII Jornadas de Ingeniería del Software y Bases de Da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6"/>
          </p:nvPr>
        </p:nvSpPr>
        <p:spPr>
          <a:xfrm>
            <a:off x="7092720" y="6237000"/>
            <a:ext cx="1881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AEAB-5DCC-4CF2-BD88-B7BD566CA8F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dt" idx="27"/>
          </p:nvPr>
        </p:nvSpPr>
        <p:spPr>
          <a:xfrm>
            <a:off x="755280" y="6245280"/>
            <a:ext cx="16556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image" Target="../media/image10.wmf"/><Relationship Id="rId15" Type="http://schemas.openxmlformats.org/officeDocument/2006/relationships/image" Target="../media/image9.wmf"/><Relationship Id="rId16" Type="http://schemas.openxmlformats.org/officeDocument/2006/relationships/image" Target="../media/image11.wmf"/><Relationship Id="rId17" Type="http://schemas.openxmlformats.org/officeDocument/2006/relationships/image" Target="../media/image12.wmf"/><Relationship Id="rId18" Type="http://schemas.openxmlformats.org/officeDocument/2006/relationships/image" Target="../media/image11.wmf"/><Relationship Id="rId19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6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6.wmf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image" Target="../media/image28.wmf"/><Relationship Id="rId1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7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5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91640" y="1808280"/>
            <a:ext cx="7488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Introducción al modelado del softwar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60240" y="294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¿Qué es un modelo?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440" y="2074680"/>
            <a:ext cx="799164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Un modelo es una simplificación de la realid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Un modelo es resultado de un proceso de abstracción y ayuda a comprender y razonar sobre una re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60240" y="294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¿Qué es un modelo software?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17360" y="1479600"/>
            <a:ext cx="757548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 una descripción de un aspecto del sistema, escrita en un lenguaje bien defini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4" descr=""/>
          <p:cNvPicPr/>
          <p:nvPr/>
        </p:nvPicPr>
        <p:blipFill>
          <a:blip r:embed="rId1"/>
          <a:stretch/>
        </p:blipFill>
        <p:spPr>
          <a:xfrm>
            <a:off x="290520" y="2697120"/>
            <a:ext cx="88534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120" y="185400"/>
            <a:ext cx="842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El lenguaje unificado de modelado, UML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965160" y="1604880"/>
            <a:ext cx="7310520" cy="180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3300"/>
                </a:solidFill>
                <a:latin typeface="Times New Roman"/>
              </a:rPr>
              <a:t>UML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es un lenguaje para visualizar, especificar, construir y documentar los artefactos (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modelo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) de un sistema software, desde una perspectiva orientada a objetos.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62120" y="3835080"/>
            <a:ext cx="77724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Of the 14 million or so software professionals around the world, many know of the existence of the UML yet only a modest percent use the UML on a daily basis”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Grady Booch,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20720" y="3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Utilidad</a:t>
            </a:r>
            <a:r>
              <a:rPr b="1" lang="es-ES_tradnl" sz="3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del modelado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615" name="Group 3"/>
          <p:cNvGrpSpPr/>
          <p:nvPr/>
        </p:nvGrpSpPr>
        <p:grpSpPr>
          <a:xfrm>
            <a:off x="1004760" y="1420920"/>
            <a:ext cx="6750000" cy="3225600"/>
            <a:chOff x="1004760" y="1420920"/>
            <a:chExt cx="6750000" cy="3225600"/>
          </a:xfrm>
        </p:grpSpPr>
        <p:pic>
          <p:nvPicPr>
            <p:cNvPr id="616" name="Object 4" descr=""/>
            <p:cNvPicPr/>
            <p:nvPr/>
          </p:nvPicPr>
          <p:blipFill>
            <a:blip r:embed="rId1"/>
            <a:stretch/>
          </p:blipFill>
          <p:spPr>
            <a:xfrm>
              <a:off x="1004760" y="1820880"/>
              <a:ext cx="1312920" cy="28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AutoShape 5"/>
            <p:cNvSpPr/>
            <p:nvPr/>
          </p:nvSpPr>
          <p:spPr>
            <a:xfrm>
              <a:off x="2870280" y="1420920"/>
              <a:ext cx="4884480" cy="1798560"/>
            </a:xfrm>
            <a:prstGeom prst="cloudCallout">
              <a:avLst>
                <a:gd name="adj1" fmla="val -65893"/>
                <a:gd name="adj2" fmla="val 4458"/>
              </a:avLst>
            </a:pr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8" name="Text Box 6"/>
            <p:cNvSpPr/>
            <p:nvPr/>
          </p:nvSpPr>
          <p:spPr>
            <a:xfrm>
              <a:off x="3044160" y="1962000"/>
              <a:ext cx="4536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¿Por qué no escribo código</a:t>
              </a:r>
              <a:endParaRPr b="0" lang="en-US" sz="2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directamente?</a:t>
              </a:r>
              <a:endParaRPr b="0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19" name="Text Box 7"/>
          <p:cNvSpPr/>
          <p:nvPr/>
        </p:nvSpPr>
        <p:spPr>
          <a:xfrm>
            <a:off x="4001040" y="3780000"/>
            <a:ext cx="32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ía lo ideal pero ....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3332880" y="447516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... necesitamos escribir modelos,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3032280" y="5210280"/>
            <a:ext cx="557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nque la mayoría de desarrolladores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avía no practican el modelado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295200" y="0"/>
            <a:ext cx="8242200" cy="635328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3"/>
          <p:cNvSpPr/>
          <p:nvPr/>
        </p:nvSpPr>
        <p:spPr>
          <a:xfrm>
            <a:off x="6081120" y="735120"/>
            <a:ext cx="1814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Times New Roman"/>
              </a:rPr>
              <a:t>Modelo de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Times New Roman"/>
              </a:rPr>
              <a:t>Estructural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2061360" y="5548320"/>
            <a:ext cx="2608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Times New Roman"/>
              </a:rPr>
              <a:t>Modelo de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Times New Roman"/>
              </a:rPr>
              <a:t>Comportamiento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25" name="Picture 3" descr=""/>
          <p:cNvPicPr/>
          <p:nvPr/>
        </p:nvPicPr>
        <p:blipFill>
          <a:blip r:embed="rId1"/>
          <a:stretch/>
        </p:blipFill>
        <p:spPr>
          <a:xfrm>
            <a:off x="-496800" y="208080"/>
            <a:ext cx="897552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436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Utilidad del modelado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52320" y="1593360"/>
            <a:ext cx="761544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estructuras que no son visibles en los progra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yuda a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razon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obre el cómo se implem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facilita la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munic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ntre el equipo al existir un lenguaje comú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ispone de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document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que trasciende al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Generación de códig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 partir de mod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a surgido un </a:t>
            </a: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nuevo paradigma de desarroll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software a partir de modelos (p.e. MDA de O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9840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Utilidad</a:t>
            </a:r>
            <a:r>
              <a:rPr b="1" lang="es-ES_tradnl" sz="3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del</a:t>
            </a:r>
            <a:r>
              <a:rPr b="1" lang="es-ES_tradnl" sz="3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modelado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96960" y="1819440"/>
            <a:ext cx="743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mode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visualiza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ómo es o queremos que sea 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specifica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a estructura y comportamiento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uían la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constr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documenta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as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1371600" y="343044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¿Se obtienen beneficios con el model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2108160" y="4179960"/>
            <a:ext cx="58723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 coste en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formació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1973160" y="4938840"/>
            <a:ext cx="698832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Una mejora de la 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productivida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Una mejora de la 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calida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l software?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33" name="Group 5"/>
          <p:cNvGrpSpPr/>
          <p:nvPr/>
        </p:nvGrpSpPr>
        <p:grpSpPr>
          <a:xfrm>
            <a:off x="480960" y="162000"/>
            <a:ext cx="8140680" cy="3297240"/>
            <a:chOff x="480960" y="162000"/>
            <a:chExt cx="8140680" cy="3297240"/>
          </a:xfrm>
        </p:grpSpPr>
        <p:pic>
          <p:nvPicPr>
            <p:cNvPr id="634" name="Object 6" descr=""/>
            <p:cNvPicPr/>
            <p:nvPr/>
          </p:nvPicPr>
          <p:blipFill>
            <a:blip r:embed="rId1"/>
            <a:stretch/>
          </p:blipFill>
          <p:spPr>
            <a:xfrm>
              <a:off x="480960" y="633240"/>
              <a:ext cx="1312920" cy="282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AutoShape 7"/>
            <p:cNvSpPr/>
            <p:nvPr/>
          </p:nvSpPr>
          <p:spPr>
            <a:xfrm>
              <a:off x="2347920" y="162000"/>
              <a:ext cx="6273720" cy="1974600"/>
            </a:xfrm>
            <a:prstGeom prst="cloudCallout">
              <a:avLst>
                <a:gd name="adj1" fmla="val -61995"/>
                <a:gd name="adj2" fmla="val -402"/>
              </a:avLst>
            </a:pr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¿Por qué la mayoría de empresas no practican el modelado?</a:t>
              </a:r>
              <a:endParaRPr b="0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984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Modelos en UML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46280" y="175212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ado de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asos de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ado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structur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ado de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ado de flujos de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ado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ado de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splie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20720" y="182160"/>
            <a:ext cx="79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ff"/>
                </a:solidFill>
                <a:latin typeface="Arial"/>
              </a:rPr>
              <a:t>El lenguaje unificado de modelado, UML</a:t>
            </a:r>
            <a:endParaRPr b="0" lang="en-US" sz="3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39360" y="1563480"/>
            <a:ext cx="7674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mediados de los noventa existían muchos métodos de análisis y diseño O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smos conceptos con distinta no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e8ec1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uch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fu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994, Booch, Rumbaugh y Jacobson deciden unificar las notaciones de sus méto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ified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M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deling </a:t>
            </a:r>
            <a:r>
              <a:rPr b="1" lang="es-ES" sz="2400" spc="-1" strike="noStrike">
                <a:solidFill>
                  <a:srgbClr val="0000ff"/>
                </a:solidFill>
                <a:latin typeface="Tahoma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nguage (U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 de estandarización promovido por el O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00ff"/>
                </a:solidFill>
                <a:latin typeface="Arial"/>
              </a:rPr>
              <a:t>http://www.omg.or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60240" y="294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Tipos de modelo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11280" y="1503360"/>
            <a:ext cx="7627680" cy="48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En qué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etapa del proces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e usa? ¿Análisis o Diseñ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ál es su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grado de detall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? ¿Abstracto o detall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Qué sistema describ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? ¿Modelo de negocio o modelo softw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Qué aspecto describ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? ¿Estructural o de comportami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Es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específico o independiente de la platafor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A qué plataforma va dirigi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? EJB, JDBC, .NET, CORB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9840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Propiedades</a:t>
            </a:r>
            <a:r>
              <a:rPr b="1" lang="es-ES_tradnl" sz="3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del</a:t>
            </a:r>
            <a:r>
              <a:rPr b="1" lang="es-ES_tradnl" sz="3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modelado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76080" y="1652760"/>
            <a:ext cx="760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lección de los modelos tiene una profunda influencia sobre cómo se acomete el problema y se moldea la sol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 modelo debe estar ligado a la re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único modelo no es suficiente. Cualquier sistema trivial se aborda mejor a través de un pequeño conjunto de modelos casi independ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2560" y="18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UML</a:t>
            </a:r>
            <a:r>
              <a:rPr b="1" lang="es-ES_tradnl" sz="3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y el modelado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731520" y="4052880"/>
            <a:ext cx="7419960" cy="22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UML es una not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no es un 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han definido muchos procesos para U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ationa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ha ideado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UP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el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“proceso unificad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ble para sistemas que no sea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969840" y="1555920"/>
            <a:ext cx="6923160" cy="198900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1309680" y="1711440"/>
            <a:ext cx="6621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ML es un lenguaje para </a:t>
            </a:r>
            <a:r>
              <a:rPr b="0" i="1" lang="es-ES_tradnl" sz="2400" spc="-1" strike="noStrike">
                <a:solidFill>
                  <a:srgbClr val="0000ff"/>
                </a:solidFill>
                <a:latin typeface="Times New Roman"/>
              </a:rPr>
              <a:t>visualiza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2400" spc="-1" strike="noStrike">
                <a:solidFill>
                  <a:srgbClr val="0000ff"/>
                </a:solidFill>
                <a:latin typeface="Times New Roman"/>
              </a:rPr>
              <a:t>especifica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2400" spc="-1" strike="noStrike">
                <a:solidFill>
                  <a:srgbClr val="0000ff"/>
                </a:solidFill>
                <a:latin typeface="Times New Roman"/>
              </a:rPr>
              <a:t>construi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0000ff"/>
                </a:solidFill>
                <a:latin typeface="Times New Roman"/>
              </a:rPr>
              <a:t>documenta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los artefactos (modelos) de un sistema que involucra una gran cantidad de software, desde una perspectiva </a:t>
            </a:r>
            <a:r>
              <a:rPr b="0" i="1" lang="es-ES_tradnl" sz="2400" spc="-1" strike="noStrike">
                <a:solidFill>
                  <a:srgbClr val="0000ff"/>
                </a:solidFill>
                <a:latin typeface="Times New Roman"/>
              </a:rPr>
              <a:t>orientada a objeto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96960" y="172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Marco Conceptual de UML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07760" y="1630440"/>
            <a:ext cx="7886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Bloques básicos de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ructurales, Comportamiento, Agrupación, Ano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Reglas para combinar blo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en qué es un </a:t>
            </a:r>
            <a:r>
              <a:rPr b="0" i="1" lang="es-ES_tradnl" sz="2400" spc="-1" strike="noStrike">
                <a:solidFill>
                  <a:srgbClr val="0000ff"/>
                </a:solidFill>
                <a:latin typeface="Arial"/>
              </a:rPr>
              <a:t>modelo bien form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Mecanismos com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caciones, Extensibilidad, Dicotomía clase-instancia, Dicotomía interfaz-re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436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Elementos</a:t>
            </a:r>
            <a:r>
              <a:rPr b="1" lang="es-ES_tradnl" sz="3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Estructural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25320" y="1582200"/>
            <a:ext cx="8259840" cy="7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Par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estátic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un mod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Group 4"/>
          <p:cNvGrpSpPr/>
          <p:nvPr/>
        </p:nvGrpSpPr>
        <p:grpSpPr>
          <a:xfrm>
            <a:off x="722160" y="2306520"/>
            <a:ext cx="1201320" cy="2805480"/>
            <a:chOff x="722160" y="2306520"/>
            <a:chExt cx="1201320" cy="2805480"/>
          </a:xfrm>
        </p:grpSpPr>
        <p:sp>
          <p:nvSpPr>
            <p:cNvPr id="651" name="Rectangle 5"/>
            <p:cNvSpPr/>
            <p:nvPr/>
          </p:nvSpPr>
          <p:spPr>
            <a:xfrm>
              <a:off x="722160" y="2306520"/>
              <a:ext cx="932760" cy="182556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2" name="Rectangle 6"/>
            <p:cNvSpPr/>
            <p:nvPr/>
          </p:nvSpPr>
          <p:spPr>
            <a:xfrm>
              <a:off x="866880" y="2371680"/>
              <a:ext cx="613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Ventana</a:t>
              </a:r>
              <a:endParaRPr b="0" lang="en-US" sz="1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3" name="Rectangle 7"/>
            <p:cNvSpPr/>
            <p:nvPr/>
          </p:nvSpPr>
          <p:spPr>
            <a:xfrm>
              <a:off x="722160" y="2590560"/>
              <a:ext cx="932760" cy="15415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4" name="Rectangle 8"/>
            <p:cNvSpPr/>
            <p:nvPr/>
          </p:nvSpPr>
          <p:spPr>
            <a:xfrm>
              <a:off x="722160" y="3109680"/>
              <a:ext cx="932760" cy="10224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55" name="Picture 9" descr=""/>
            <p:cNvPicPr/>
            <p:nvPr/>
          </p:nvPicPr>
          <p:blipFill>
            <a:blip r:embed="rId1"/>
            <a:stretch/>
          </p:blipFill>
          <p:spPr>
            <a:xfrm>
              <a:off x="773280" y="2630160"/>
              <a:ext cx="20664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10" descr=""/>
            <p:cNvPicPr/>
            <p:nvPr/>
          </p:nvPicPr>
          <p:blipFill>
            <a:blip r:embed="rId2"/>
            <a:stretch/>
          </p:blipFill>
          <p:spPr>
            <a:xfrm>
              <a:off x="773280" y="2630160"/>
              <a:ext cx="20664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1" descr=""/>
            <p:cNvPicPr/>
            <p:nvPr/>
          </p:nvPicPr>
          <p:blipFill>
            <a:blip r:embed="rId3"/>
            <a:stretch/>
          </p:blipFill>
          <p:spPr>
            <a:xfrm>
              <a:off x="773280" y="2630160"/>
              <a:ext cx="206640" cy="1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Rectangle 12"/>
            <p:cNvSpPr/>
            <p:nvPr/>
          </p:nvSpPr>
          <p:spPr>
            <a:xfrm>
              <a:off x="963720" y="263016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origen</a:t>
              </a:r>
              <a:endParaRPr b="0" lang="en-US" sz="1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59" name="Picture 13" descr=""/>
            <p:cNvPicPr/>
            <p:nvPr/>
          </p:nvPicPr>
          <p:blipFill>
            <a:blip r:embed="rId4"/>
            <a:stretch/>
          </p:blipFill>
          <p:spPr>
            <a:xfrm>
              <a:off x="773280" y="2836800"/>
              <a:ext cx="20664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Picture 14" descr=""/>
            <p:cNvPicPr/>
            <p:nvPr/>
          </p:nvPicPr>
          <p:blipFill>
            <a:blip r:embed="rId5"/>
            <a:stretch/>
          </p:blipFill>
          <p:spPr>
            <a:xfrm>
              <a:off x="773280" y="2836800"/>
              <a:ext cx="20664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Picture 15" descr=""/>
            <p:cNvPicPr/>
            <p:nvPr/>
          </p:nvPicPr>
          <p:blipFill>
            <a:blip r:embed="rId6"/>
            <a:stretch/>
          </p:blipFill>
          <p:spPr>
            <a:xfrm>
              <a:off x="773280" y="2836800"/>
              <a:ext cx="20664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Rectangle 16"/>
            <p:cNvSpPr/>
            <p:nvPr/>
          </p:nvSpPr>
          <p:spPr>
            <a:xfrm>
              <a:off x="960480" y="2836800"/>
              <a:ext cx="54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tamaño</a:t>
              </a:r>
              <a:endParaRPr b="0" lang="en-US" sz="1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63" name="Picture 17" descr=""/>
            <p:cNvPicPr/>
            <p:nvPr/>
          </p:nvPicPr>
          <p:blipFill>
            <a:blip r:embed="rId7"/>
            <a:stretch/>
          </p:blipFill>
          <p:spPr>
            <a:xfrm>
              <a:off x="773280" y="3251160"/>
              <a:ext cx="20664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Picture 18" descr=""/>
            <p:cNvPicPr/>
            <p:nvPr/>
          </p:nvPicPr>
          <p:blipFill>
            <a:blip r:embed="rId8"/>
            <a:stretch/>
          </p:blipFill>
          <p:spPr>
            <a:xfrm>
              <a:off x="773280" y="3251160"/>
              <a:ext cx="20664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Picture 19" descr=""/>
            <p:cNvPicPr/>
            <p:nvPr/>
          </p:nvPicPr>
          <p:blipFill>
            <a:blip r:embed="rId9"/>
            <a:stretch/>
          </p:blipFill>
          <p:spPr>
            <a:xfrm>
              <a:off x="773280" y="3251160"/>
              <a:ext cx="206640" cy="1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Rectangle 20"/>
            <p:cNvSpPr/>
            <p:nvPr/>
          </p:nvSpPr>
          <p:spPr>
            <a:xfrm>
              <a:off x="964800" y="325116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abrir()</a:t>
              </a:r>
              <a:endParaRPr b="0" lang="en-US" sz="1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67" name="Picture 21" descr=""/>
            <p:cNvPicPr/>
            <p:nvPr/>
          </p:nvPicPr>
          <p:blipFill>
            <a:blip r:embed="rId10"/>
            <a:stretch/>
          </p:blipFill>
          <p:spPr>
            <a:xfrm>
              <a:off x="773280" y="3458880"/>
              <a:ext cx="20664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22" descr=""/>
            <p:cNvPicPr/>
            <p:nvPr/>
          </p:nvPicPr>
          <p:blipFill>
            <a:blip r:embed="rId11"/>
            <a:stretch/>
          </p:blipFill>
          <p:spPr>
            <a:xfrm>
              <a:off x="773280" y="3458880"/>
              <a:ext cx="20664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23" descr=""/>
            <p:cNvPicPr/>
            <p:nvPr/>
          </p:nvPicPr>
          <p:blipFill>
            <a:blip r:embed="rId12"/>
            <a:stretch/>
          </p:blipFill>
          <p:spPr>
            <a:xfrm>
              <a:off x="773280" y="3458880"/>
              <a:ext cx="206640" cy="1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Rectangle 24"/>
            <p:cNvSpPr/>
            <p:nvPr/>
          </p:nvSpPr>
          <p:spPr>
            <a:xfrm>
              <a:off x="961200" y="345888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errar()</a:t>
              </a:r>
              <a:endParaRPr b="0" lang="en-US" sz="1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71" name="Picture 25" descr=""/>
            <p:cNvPicPr/>
            <p:nvPr/>
          </p:nvPicPr>
          <p:blipFill>
            <a:blip r:embed="rId13"/>
            <a:stretch/>
          </p:blipFill>
          <p:spPr>
            <a:xfrm>
              <a:off x="773280" y="3665520"/>
              <a:ext cx="20664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26" descr=""/>
            <p:cNvPicPr/>
            <p:nvPr/>
          </p:nvPicPr>
          <p:blipFill>
            <a:blip r:embed="rId14"/>
            <a:stretch/>
          </p:blipFill>
          <p:spPr>
            <a:xfrm>
              <a:off x="773280" y="3665520"/>
              <a:ext cx="20664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27" descr=""/>
            <p:cNvPicPr/>
            <p:nvPr/>
          </p:nvPicPr>
          <p:blipFill>
            <a:blip r:embed="rId15"/>
            <a:stretch/>
          </p:blipFill>
          <p:spPr>
            <a:xfrm>
              <a:off x="773280" y="3665520"/>
              <a:ext cx="206640" cy="1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Rectangle 28"/>
            <p:cNvSpPr/>
            <p:nvPr/>
          </p:nvSpPr>
          <p:spPr>
            <a:xfrm>
              <a:off x="960120" y="366552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over()</a:t>
              </a:r>
              <a:endParaRPr b="0" lang="en-US" sz="1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75" name="Picture 29" descr=""/>
            <p:cNvPicPr/>
            <p:nvPr/>
          </p:nvPicPr>
          <p:blipFill>
            <a:blip r:embed="rId16"/>
            <a:stretch/>
          </p:blipFill>
          <p:spPr>
            <a:xfrm>
              <a:off x="773280" y="3860640"/>
              <a:ext cx="2066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30" descr=""/>
            <p:cNvPicPr/>
            <p:nvPr/>
          </p:nvPicPr>
          <p:blipFill>
            <a:blip r:embed="rId17"/>
            <a:stretch/>
          </p:blipFill>
          <p:spPr>
            <a:xfrm>
              <a:off x="773280" y="3860640"/>
              <a:ext cx="2066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31" descr=""/>
            <p:cNvPicPr/>
            <p:nvPr/>
          </p:nvPicPr>
          <p:blipFill>
            <a:blip r:embed="rId18"/>
            <a:stretch/>
          </p:blipFill>
          <p:spPr>
            <a:xfrm>
              <a:off x="773280" y="3860640"/>
              <a:ext cx="20664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Rectangle 32"/>
            <p:cNvSpPr/>
            <p:nvPr/>
          </p:nvSpPr>
          <p:spPr>
            <a:xfrm>
              <a:off x="958680" y="386064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dibujar()</a:t>
              </a:r>
              <a:endParaRPr b="0" lang="en-US" sz="1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9" name="Text Box 33"/>
            <p:cNvSpPr/>
            <p:nvPr/>
          </p:nvSpPr>
          <p:spPr>
            <a:xfrm>
              <a:off x="1102680" y="47131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</a:rPr>
                <a:t>clase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680" name="AutoShape 34"/>
            <p:cNvCxnSpPr>
              <a:stCxn id="679" idx="0"/>
            </p:cNvCxnSpPr>
            <p:nvPr/>
          </p:nvCxnSpPr>
          <p:spPr>
            <a:xfrm flipV="1" rot="16200000">
              <a:off x="1107720" y="4307400"/>
              <a:ext cx="491400" cy="320040"/>
            </a:xfrm>
            <a:prstGeom prst="curvedConnector5">
              <a:avLst>
                <a:gd name="adj1" fmla="val 49780"/>
                <a:gd name="adj2" fmla="val 50000"/>
                <a:gd name="adj3" fmla="val 497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1" name="Group 35"/>
          <p:cNvGrpSpPr/>
          <p:nvPr/>
        </p:nvGrpSpPr>
        <p:grpSpPr>
          <a:xfrm>
            <a:off x="2666880" y="2341440"/>
            <a:ext cx="2719440" cy="1497240"/>
            <a:chOff x="2666880" y="2341440"/>
            <a:chExt cx="2719440" cy="1497240"/>
          </a:xfrm>
        </p:grpSpPr>
        <p:sp>
          <p:nvSpPr>
            <p:cNvPr id="682" name="Rectangle 36"/>
            <p:cNvSpPr/>
            <p:nvPr/>
          </p:nvSpPr>
          <p:spPr>
            <a:xfrm>
              <a:off x="2666880" y="2341440"/>
              <a:ext cx="1186920" cy="78084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3" name="Rectangle 37"/>
            <p:cNvSpPr/>
            <p:nvPr/>
          </p:nvSpPr>
          <p:spPr>
            <a:xfrm>
              <a:off x="2946960" y="26190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IAvisable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4" name="Rectangle 38"/>
            <p:cNvSpPr/>
            <p:nvPr/>
          </p:nvSpPr>
          <p:spPr>
            <a:xfrm>
              <a:off x="2666880" y="2844720"/>
              <a:ext cx="1186920" cy="2775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5" name="Rectangle 39"/>
            <p:cNvSpPr/>
            <p:nvPr/>
          </p:nvSpPr>
          <p:spPr>
            <a:xfrm>
              <a:off x="2666880" y="2923920"/>
              <a:ext cx="1186920" cy="1983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6" name="Rectangle 40"/>
            <p:cNvSpPr/>
            <p:nvPr/>
          </p:nvSpPr>
          <p:spPr>
            <a:xfrm>
              <a:off x="2788920" y="2406600"/>
              <a:ext cx="95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&lt;&lt;Interface&gt;&gt;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7" name="Oval 41"/>
            <p:cNvSpPr/>
            <p:nvPr/>
          </p:nvSpPr>
          <p:spPr>
            <a:xfrm>
              <a:off x="4782960" y="2347560"/>
              <a:ext cx="275400" cy="24768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8" name="Rectangle 42"/>
            <p:cNvSpPr/>
            <p:nvPr/>
          </p:nvSpPr>
          <p:spPr>
            <a:xfrm>
              <a:off x="4660200" y="2705040"/>
              <a:ext cx="72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Avisable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9" name="Text Box 43"/>
            <p:cNvSpPr/>
            <p:nvPr/>
          </p:nvSpPr>
          <p:spPr>
            <a:xfrm>
              <a:off x="3705840" y="3439800"/>
              <a:ext cx="133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</a:rPr>
                <a:t>interface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690" name="AutoShape 44"/>
            <p:cNvCxnSpPr>
              <a:stCxn id="689" idx="0"/>
            </p:cNvCxnSpPr>
            <p:nvPr/>
          </p:nvCxnSpPr>
          <p:spPr>
            <a:xfrm flipV="1" rot="16200000">
              <a:off x="3785040" y="2878200"/>
              <a:ext cx="695520" cy="426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1" name="AutoShape 45"/>
            <p:cNvCxnSpPr>
              <a:stCxn id="689" idx="0"/>
            </p:cNvCxnSpPr>
            <p:nvPr/>
          </p:nvCxnSpPr>
          <p:spPr>
            <a:xfrm flipH="1" flipV="1" rot="5400000">
              <a:off x="4116240" y="3040200"/>
              <a:ext cx="629280" cy="170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2" name="Group 46"/>
          <p:cNvGrpSpPr/>
          <p:nvPr/>
        </p:nvGrpSpPr>
        <p:grpSpPr>
          <a:xfrm>
            <a:off x="2663640" y="4794120"/>
            <a:ext cx="4279320" cy="888120"/>
            <a:chOff x="2663640" y="4794120"/>
            <a:chExt cx="4279320" cy="888120"/>
          </a:xfrm>
        </p:grpSpPr>
        <p:sp>
          <p:nvSpPr>
            <p:cNvPr id="693" name="Oval 47"/>
            <p:cNvSpPr/>
            <p:nvPr/>
          </p:nvSpPr>
          <p:spPr>
            <a:xfrm>
              <a:off x="2937960" y="4794120"/>
              <a:ext cx="990000" cy="51588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4" name="Rectangle 48"/>
            <p:cNvSpPr/>
            <p:nvPr/>
          </p:nvSpPr>
          <p:spPr>
            <a:xfrm>
              <a:off x="2663640" y="5468760"/>
              <a:ext cx="1287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RealizarCompra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5" name="Text Box 49"/>
            <p:cNvSpPr/>
            <p:nvPr/>
          </p:nvSpPr>
          <p:spPr>
            <a:xfrm>
              <a:off x="5299200" y="5230440"/>
              <a:ext cx="164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</a:rPr>
                <a:t>caso de uso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696" name="AutoShape 50"/>
            <p:cNvCxnSpPr/>
            <p:nvPr/>
          </p:nvCxnSpPr>
          <p:spPr>
            <a:xfrm flipH="1" flipV="1">
              <a:off x="4048920" y="5073120"/>
              <a:ext cx="118980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7" name="Group 51"/>
          <p:cNvGrpSpPr/>
          <p:nvPr/>
        </p:nvGrpSpPr>
        <p:grpSpPr>
          <a:xfrm>
            <a:off x="5804280" y="2308320"/>
            <a:ext cx="2406240" cy="1739880"/>
            <a:chOff x="5804280" y="2308320"/>
            <a:chExt cx="2406240" cy="1739880"/>
          </a:xfrm>
        </p:grpSpPr>
        <p:sp>
          <p:nvSpPr>
            <p:cNvPr id="698" name="Oval 52"/>
            <p:cNvSpPr/>
            <p:nvPr/>
          </p:nvSpPr>
          <p:spPr>
            <a:xfrm>
              <a:off x="6006960" y="3202200"/>
              <a:ext cx="2203560" cy="84600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9" name="Text Box 53"/>
            <p:cNvSpPr/>
            <p:nvPr/>
          </p:nvSpPr>
          <p:spPr>
            <a:xfrm>
              <a:off x="6027840" y="3340080"/>
              <a:ext cx="2004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000000"/>
                  </a:solidFill>
                  <a:latin typeface="Times New Roman"/>
                </a:rPr>
                <a:t>Gestión Pedidos</a:t>
              </a:r>
              <a:endParaRPr b="0" lang="en-US" sz="2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0" name="Rectangle 54"/>
            <p:cNvSpPr/>
            <p:nvPr/>
          </p:nvSpPr>
          <p:spPr>
            <a:xfrm>
              <a:off x="5804280" y="2308320"/>
              <a:ext cx="182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</a:rPr>
                <a:t>colaboración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701" name="AutoShape 55"/>
            <p:cNvCxnSpPr>
              <a:stCxn id="700" idx="2"/>
            </p:cNvCxnSpPr>
            <p:nvPr/>
          </p:nvCxnSpPr>
          <p:spPr>
            <a:xfrm flipH="1" rot="16200000">
              <a:off x="6752880" y="2735640"/>
              <a:ext cx="429480" cy="3675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7464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Elementos</a:t>
            </a:r>
            <a:r>
              <a:rPr b="1" lang="es-ES_tradnl" sz="3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Estructural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3" name="Text Box 3"/>
          <p:cNvSpPr/>
          <p:nvPr/>
        </p:nvSpPr>
        <p:spPr>
          <a:xfrm>
            <a:off x="2587680" y="192708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clase activ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04" name="AutoShape 4"/>
          <p:cNvCxnSpPr/>
          <p:nvPr/>
        </p:nvCxnSpPr>
        <p:spPr>
          <a:xfrm flipV="1" rot="10800000">
            <a:off x="2153520" y="2235240"/>
            <a:ext cx="562680" cy="87840"/>
          </a:xfrm>
          <a:prstGeom prst="curvedConnector5">
            <a:avLst>
              <a:gd name="adj1" fmla="val 50000"/>
              <a:gd name="adj2" fmla="val 49794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5" name="Text Box 5"/>
          <p:cNvSpPr/>
          <p:nvPr/>
        </p:nvSpPr>
        <p:spPr>
          <a:xfrm>
            <a:off x="5475600" y="3476520"/>
            <a:ext cx="17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component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06" name="AutoShape 6"/>
          <p:cNvCxnSpPr/>
          <p:nvPr/>
        </p:nvCxnSpPr>
        <p:spPr>
          <a:xfrm flipH="1" flipV="1" rot="5400000">
            <a:off x="6452280" y="2891160"/>
            <a:ext cx="554760" cy="518400"/>
          </a:xfrm>
          <a:prstGeom prst="curvedConnector5">
            <a:avLst>
              <a:gd name="adj1" fmla="val 49805"/>
              <a:gd name="adj2" fmla="val 49965"/>
              <a:gd name="adj3" fmla="val 498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07" name="Picture 7" descr=""/>
          <p:cNvPicPr/>
          <p:nvPr/>
        </p:nvPicPr>
        <p:blipFill>
          <a:blip r:embed="rId1"/>
          <a:stretch/>
        </p:blipFill>
        <p:spPr>
          <a:xfrm>
            <a:off x="4734000" y="4430880"/>
            <a:ext cx="1152360" cy="9270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8"/>
          <p:cNvSpPr/>
          <p:nvPr/>
        </p:nvSpPr>
        <p:spPr>
          <a:xfrm>
            <a:off x="6816960" y="500364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nodo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09" name="AutoShape 9"/>
          <p:cNvCxnSpPr/>
          <p:nvPr/>
        </p:nvCxnSpPr>
        <p:spPr>
          <a:xfrm rot="10800000">
            <a:off x="6095160" y="4828320"/>
            <a:ext cx="635760" cy="294480"/>
          </a:xfrm>
          <a:prstGeom prst="curvedConnector5">
            <a:avLst>
              <a:gd name="adj1" fmla="val 49971"/>
              <a:gd name="adj2" fmla="val 49938"/>
              <a:gd name="adj3" fmla="val 49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10" name="Group 10"/>
          <p:cNvGrpSpPr/>
          <p:nvPr/>
        </p:nvGrpSpPr>
        <p:grpSpPr>
          <a:xfrm>
            <a:off x="5470560" y="1709640"/>
            <a:ext cx="2181240" cy="1020960"/>
            <a:chOff x="5470560" y="1709640"/>
            <a:chExt cx="2181240" cy="1020960"/>
          </a:xfrm>
        </p:grpSpPr>
        <p:grpSp>
          <p:nvGrpSpPr>
            <p:cNvPr id="711" name="Group 11"/>
            <p:cNvGrpSpPr/>
            <p:nvPr/>
          </p:nvGrpSpPr>
          <p:grpSpPr>
            <a:xfrm>
              <a:off x="6818040" y="1795320"/>
              <a:ext cx="620640" cy="320760"/>
              <a:chOff x="6818040" y="1795320"/>
              <a:chExt cx="620640" cy="320760"/>
            </a:xfrm>
          </p:grpSpPr>
          <p:sp>
            <p:nvSpPr>
              <p:cNvPr id="712" name="Rectangle 12"/>
              <p:cNvSpPr/>
              <p:nvPr/>
            </p:nvSpPr>
            <p:spPr>
              <a:xfrm>
                <a:off x="6904440" y="1795320"/>
                <a:ext cx="534240" cy="3207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13" name="Rectangle 13"/>
              <p:cNvSpPr/>
              <p:nvPr/>
            </p:nvSpPr>
            <p:spPr>
              <a:xfrm>
                <a:off x="6818040" y="1862280"/>
                <a:ext cx="174240" cy="619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14" name="Rectangle 14"/>
              <p:cNvSpPr/>
              <p:nvPr/>
            </p:nvSpPr>
            <p:spPr>
              <a:xfrm>
                <a:off x="6818040" y="1989000"/>
                <a:ext cx="174240" cy="619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715" name="Rectangle 15"/>
            <p:cNvSpPr/>
            <p:nvPr/>
          </p:nvSpPr>
          <p:spPr>
            <a:xfrm>
              <a:off x="5470560" y="1709640"/>
              <a:ext cx="2181240" cy="102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6" name="Text Box 16"/>
            <p:cNvSpPr/>
            <p:nvPr/>
          </p:nvSpPr>
          <p:spPr>
            <a:xfrm>
              <a:off x="5596560" y="2265480"/>
              <a:ext cx="15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FormularioPedido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17" name="Rectangle 17"/>
          <p:cNvSpPr/>
          <p:nvPr/>
        </p:nvSpPr>
        <p:spPr>
          <a:xfrm>
            <a:off x="811080" y="3824280"/>
            <a:ext cx="1774800" cy="985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8" name="Text Box 18"/>
          <p:cNvSpPr/>
          <p:nvPr/>
        </p:nvSpPr>
        <p:spPr>
          <a:xfrm>
            <a:off x="1131840" y="424512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indow.dll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9" name="Rectangle 19"/>
          <p:cNvSpPr/>
          <p:nvPr/>
        </p:nvSpPr>
        <p:spPr>
          <a:xfrm>
            <a:off x="1067040" y="394812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&lt;artifact&gt;&gt;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0" name="Text Box 20"/>
          <p:cNvSpPr/>
          <p:nvPr/>
        </p:nvSpPr>
        <p:spPr>
          <a:xfrm>
            <a:off x="1867680" y="56275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artefacto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21" name="AutoShape 21"/>
          <p:cNvCxnSpPr/>
          <p:nvPr/>
        </p:nvCxnSpPr>
        <p:spPr>
          <a:xfrm flipV="1" rot="16200000">
            <a:off x="1863000" y="5069160"/>
            <a:ext cx="567360" cy="362520"/>
          </a:xfrm>
          <a:prstGeom prst="curvedConnector5">
            <a:avLst>
              <a:gd name="adj1" fmla="val 49841"/>
              <a:gd name="adj2" fmla="val 50000"/>
              <a:gd name="adj3" fmla="val 498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22" name="Group 22"/>
          <p:cNvGrpSpPr/>
          <p:nvPr/>
        </p:nvGrpSpPr>
        <p:grpSpPr>
          <a:xfrm>
            <a:off x="776160" y="1801800"/>
            <a:ext cx="1284480" cy="1143000"/>
            <a:chOff x="776160" y="1801800"/>
            <a:chExt cx="1284480" cy="1143000"/>
          </a:xfrm>
        </p:grpSpPr>
        <p:sp>
          <p:nvSpPr>
            <p:cNvPr id="723" name="Rectangle 23"/>
            <p:cNvSpPr/>
            <p:nvPr/>
          </p:nvSpPr>
          <p:spPr>
            <a:xfrm>
              <a:off x="776160" y="1801800"/>
              <a:ext cx="1284480" cy="1120680"/>
            </a:xfrm>
            <a:prstGeom prst="rect">
              <a:avLst/>
            </a:prstGeom>
            <a:solidFill>
              <a:srgbClr val="ffffcc"/>
            </a:solidFill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4" name="Rectangle 24"/>
            <p:cNvSpPr/>
            <p:nvPr/>
          </p:nvSpPr>
          <p:spPr>
            <a:xfrm>
              <a:off x="841680" y="1876320"/>
              <a:ext cx="1055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estor Eventos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725" name="Picture 25" descr=""/>
            <p:cNvPicPr/>
            <p:nvPr/>
          </p:nvPicPr>
          <p:blipFill>
            <a:blip r:embed="rId2"/>
            <a:stretch/>
          </p:blipFill>
          <p:spPr>
            <a:xfrm>
              <a:off x="825840" y="2392200"/>
              <a:ext cx="18900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Picture 26" descr=""/>
            <p:cNvPicPr/>
            <p:nvPr/>
          </p:nvPicPr>
          <p:blipFill>
            <a:blip r:embed="rId3"/>
            <a:stretch/>
          </p:blipFill>
          <p:spPr>
            <a:xfrm>
              <a:off x="825840" y="2392200"/>
              <a:ext cx="18900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Picture 27" descr=""/>
            <p:cNvPicPr/>
            <p:nvPr/>
          </p:nvPicPr>
          <p:blipFill>
            <a:blip r:embed="rId4"/>
            <a:stretch/>
          </p:blipFill>
          <p:spPr>
            <a:xfrm>
              <a:off x="825840" y="2392200"/>
              <a:ext cx="1890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Rectangle 28"/>
            <p:cNvSpPr/>
            <p:nvPr/>
          </p:nvSpPr>
          <p:spPr>
            <a:xfrm>
              <a:off x="981000" y="2392200"/>
              <a:ext cx="81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uspender()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729" name="Picture 29" descr=""/>
            <p:cNvPicPr/>
            <p:nvPr/>
          </p:nvPicPr>
          <p:blipFill>
            <a:blip r:embed="rId5"/>
            <a:stretch/>
          </p:blipFill>
          <p:spPr>
            <a:xfrm>
              <a:off x="825840" y="2625840"/>
              <a:ext cx="18900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30" descr=""/>
            <p:cNvPicPr/>
            <p:nvPr/>
          </p:nvPicPr>
          <p:blipFill>
            <a:blip r:embed="rId6"/>
            <a:stretch/>
          </p:blipFill>
          <p:spPr>
            <a:xfrm>
              <a:off x="825840" y="2625840"/>
              <a:ext cx="189000" cy="22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Picture 31" descr=""/>
            <p:cNvPicPr/>
            <p:nvPr/>
          </p:nvPicPr>
          <p:blipFill>
            <a:blip r:embed="rId7"/>
            <a:stretch/>
          </p:blipFill>
          <p:spPr>
            <a:xfrm>
              <a:off x="825840" y="2625840"/>
              <a:ext cx="189000" cy="2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Rectangle 32"/>
            <p:cNvSpPr/>
            <p:nvPr/>
          </p:nvSpPr>
          <p:spPr>
            <a:xfrm>
              <a:off x="981720" y="2625840"/>
              <a:ext cx="82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aciarCola()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3" name="Line 33"/>
            <p:cNvSpPr/>
            <p:nvPr/>
          </p:nvSpPr>
          <p:spPr>
            <a:xfrm flipH="1">
              <a:off x="1992960" y="1817640"/>
              <a:ext cx="2880" cy="11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4" name="Line 34"/>
            <p:cNvSpPr/>
            <p:nvPr/>
          </p:nvSpPr>
          <p:spPr>
            <a:xfrm flipH="1">
              <a:off x="839160" y="1827360"/>
              <a:ext cx="2880" cy="10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5" name="Line 35"/>
            <p:cNvSpPr/>
            <p:nvPr/>
          </p:nvSpPr>
          <p:spPr>
            <a:xfrm>
              <a:off x="853920" y="211464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6" name="Line 36"/>
            <p:cNvSpPr/>
            <p:nvPr/>
          </p:nvSpPr>
          <p:spPr>
            <a:xfrm>
              <a:off x="852120" y="2243160"/>
              <a:ext cx="11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74640" y="18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Elementos</a:t>
            </a:r>
            <a:r>
              <a:rPr b="1" lang="es-ES_tradnl" sz="3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de Comportamiento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8" name="Text Box 3"/>
          <p:cNvSpPr/>
          <p:nvPr/>
        </p:nvSpPr>
        <p:spPr>
          <a:xfrm>
            <a:off x="519480" y="1633680"/>
            <a:ext cx="50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las 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part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dinámic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UML.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790560" y="2390760"/>
            <a:ext cx="734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Interacció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junto de mensajes intercambiados entre vari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tos con un propósito particular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0" name="Line 5"/>
          <p:cNvSpPr/>
          <p:nvPr/>
        </p:nvSpPr>
        <p:spPr>
          <a:xfrm>
            <a:off x="3095640" y="4548240"/>
            <a:ext cx="1608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1" name="Text Box 6"/>
          <p:cNvSpPr/>
          <p:nvPr/>
        </p:nvSpPr>
        <p:spPr>
          <a:xfrm>
            <a:off x="5553720" y="417348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</a:rPr>
              <a:t>mensaje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3093840" y="406404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errarPuja(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397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Elementos de Comportamiento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4" name="Text Box 3"/>
          <p:cNvSpPr/>
          <p:nvPr/>
        </p:nvSpPr>
        <p:spPr>
          <a:xfrm>
            <a:off x="801720" y="1771560"/>
            <a:ext cx="800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Máquina de estado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uencia de estados por las que pasa un objeto durant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 vida en respuesta a eventos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5176800" y="3639960"/>
            <a:ext cx="138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</a:rPr>
              <a:t>estado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6" name="AutoShape 5"/>
          <p:cNvSpPr/>
          <p:nvPr/>
        </p:nvSpPr>
        <p:spPr>
          <a:xfrm>
            <a:off x="2687760" y="3633840"/>
            <a:ext cx="1690560" cy="71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7" name="Text Box 6"/>
          <p:cNvSpPr/>
          <p:nvPr/>
        </p:nvSpPr>
        <p:spPr>
          <a:xfrm>
            <a:off x="2995200" y="37926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ivad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48" name="AutoShape 7"/>
          <p:cNvCxnSpPr/>
          <p:nvPr/>
        </p:nvCxnSpPr>
        <p:spPr>
          <a:xfrm flipV="1" rot="10800000">
            <a:off x="4498200" y="3978000"/>
            <a:ext cx="731160" cy="181440"/>
          </a:xfrm>
          <a:prstGeom prst="curvedConnector5">
            <a:avLst>
              <a:gd name="adj1" fmla="val 50000"/>
              <a:gd name="adj2" fmla="val 499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62040" y="220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Elementos de Agrupación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0" name="Text Box 3"/>
          <p:cNvSpPr/>
          <p:nvPr/>
        </p:nvSpPr>
        <p:spPr>
          <a:xfrm>
            <a:off x="962280" y="1657440"/>
            <a:ext cx="76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las 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partes d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organiz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los modelos UM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1889280" y="3168720"/>
            <a:ext cx="1804680" cy="8017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1889280" y="2882880"/>
            <a:ext cx="653760" cy="28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1889280" y="2882880"/>
            <a:ext cx="653760" cy="285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2032200" y="3300480"/>
            <a:ext cx="157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odelo del Negocio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5" name="Text Box 8"/>
          <p:cNvSpPr/>
          <p:nvPr/>
        </p:nvSpPr>
        <p:spPr>
          <a:xfrm>
            <a:off x="4948200" y="2908440"/>
            <a:ext cx="16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</a:rPr>
              <a:t>paquete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56" name="AutoShape 9"/>
          <p:cNvCxnSpPr/>
          <p:nvPr/>
        </p:nvCxnSpPr>
        <p:spPr>
          <a:xfrm flipV="1" rot="10800000">
            <a:off x="3961800" y="3198600"/>
            <a:ext cx="884880" cy="427680"/>
          </a:xfrm>
          <a:prstGeom prst="curvedConnector5">
            <a:avLst>
              <a:gd name="adj1" fmla="val 49898"/>
              <a:gd name="adj2" fmla="val 49957"/>
              <a:gd name="adj3" fmla="val 498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7" name="Text Box 10"/>
          <p:cNvSpPr/>
          <p:nvPr/>
        </p:nvSpPr>
        <p:spPr>
          <a:xfrm>
            <a:off x="1232640" y="4446720"/>
            <a:ext cx="73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paquete incluye un conjunto de elementos de cualqui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aturaleza.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ne una naturaleza conceptual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98400" y="19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Elementos de Anotación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9" name="Text Box 3"/>
          <p:cNvSpPr/>
          <p:nvPr/>
        </p:nvSpPr>
        <p:spPr>
          <a:xfrm>
            <a:off x="994320" y="1919160"/>
            <a:ext cx="70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las 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part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explicativ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los modelos UM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0" name="Text Box 4"/>
          <p:cNvSpPr/>
          <p:nvPr/>
        </p:nvSpPr>
        <p:spPr>
          <a:xfrm>
            <a:off x="5506920" y="33195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61" name="AutoShape 5"/>
          <p:cNvCxnSpPr/>
          <p:nvPr/>
        </p:nvCxnSpPr>
        <p:spPr>
          <a:xfrm flipV="1" rot="10800000">
            <a:off x="4502880" y="3574800"/>
            <a:ext cx="885240" cy="427680"/>
          </a:xfrm>
          <a:prstGeom prst="curvedConnector5">
            <a:avLst>
              <a:gd name="adj1" fmla="val 49877"/>
              <a:gd name="adj2" fmla="val 49957"/>
              <a:gd name="adj3" fmla="val 49877"/>
            </a:avLst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62" name="Picture 6" descr=""/>
          <p:cNvPicPr/>
          <p:nvPr/>
        </p:nvPicPr>
        <p:blipFill>
          <a:blip r:embed="rId1"/>
          <a:stretch/>
        </p:blipFill>
        <p:spPr>
          <a:xfrm>
            <a:off x="2293920" y="3330720"/>
            <a:ext cx="220968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19200" y="169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ff"/>
                </a:solidFill>
                <a:latin typeface="Arial"/>
              </a:rPr>
              <a:t>Explosión de métodos OO en los noventa</a:t>
            </a:r>
            <a:endParaRPr b="0" lang="en-US" sz="3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1120" y="1514520"/>
            <a:ext cx="77724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ff"/>
                </a:solidFill>
                <a:latin typeface="Arial"/>
              </a:rPr>
              <a:t>OMT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ad/Yourdo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ff"/>
                </a:solidFill>
                <a:latin typeface="Arial"/>
              </a:rPr>
              <a:t>Booch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hampeau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ff"/>
                </a:solidFill>
                <a:latin typeface="Arial"/>
              </a:rPr>
              <a:t>Jacobso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rtin/Od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hlaer-Mellor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Oram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Wirfs-Brok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usio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talysi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Y muchos má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4"/>
          <p:cNvSpPr/>
          <p:nvPr/>
        </p:nvSpPr>
        <p:spPr>
          <a:xfrm>
            <a:off x="5883120" y="5029200"/>
            <a:ext cx="2508480" cy="1139760"/>
          </a:xfrm>
          <a:prstGeom prst="wedgeEllipseCallout">
            <a:avLst>
              <a:gd name="adj1" fmla="val -59870"/>
              <a:gd name="adj2" fmla="val -57939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</a:rPr>
              <a:t>¡Guerra de métodos!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71928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Relacion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4" name="Line 3"/>
          <p:cNvSpPr/>
          <p:nvPr/>
        </p:nvSpPr>
        <p:spPr>
          <a:xfrm flipV="1">
            <a:off x="1287360" y="2332080"/>
            <a:ext cx="1940040" cy="14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5" name="Text Box 4"/>
          <p:cNvSpPr/>
          <p:nvPr/>
        </p:nvSpPr>
        <p:spPr>
          <a:xfrm>
            <a:off x="4039560" y="199692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ependenci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6" name="Text Box 5"/>
          <p:cNvSpPr/>
          <p:nvPr/>
        </p:nvSpPr>
        <p:spPr>
          <a:xfrm>
            <a:off x="4101840" y="31021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sociació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7" name="Line 6"/>
          <p:cNvSpPr/>
          <p:nvPr/>
        </p:nvSpPr>
        <p:spPr>
          <a:xfrm>
            <a:off x="1333440" y="3368520"/>
            <a:ext cx="189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8" name="Text Box 7"/>
          <p:cNvSpPr/>
          <p:nvPr/>
        </p:nvSpPr>
        <p:spPr>
          <a:xfrm>
            <a:off x="1267200" y="339084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tron        empleado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9" name="Text Box 8"/>
          <p:cNvSpPr/>
          <p:nvPr/>
        </p:nvSpPr>
        <p:spPr>
          <a:xfrm>
            <a:off x="1336680" y="297036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0..1                       *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0" name="Line 9"/>
          <p:cNvSpPr/>
          <p:nvPr/>
        </p:nvSpPr>
        <p:spPr>
          <a:xfrm>
            <a:off x="1380960" y="4548240"/>
            <a:ext cx="1751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1" name="Freeform 10"/>
          <p:cNvSpPr/>
          <p:nvPr/>
        </p:nvSpPr>
        <p:spPr>
          <a:xfrm>
            <a:off x="3132000" y="4392720"/>
            <a:ext cx="238320" cy="285480"/>
          </a:xfrm>
          <a:custGeom>
            <a:avLst/>
            <a:gdLst/>
            <a:ahLst/>
            <a:rect l="l" t="t" r="r" b="b"/>
            <a:pathLst>
              <a:path w="150" h="180">
                <a:moveTo>
                  <a:pt x="0" y="0"/>
                </a:moveTo>
                <a:lnTo>
                  <a:pt x="0" y="180"/>
                </a:lnTo>
                <a:lnTo>
                  <a:pt x="150" y="105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2" name="Text Box 11"/>
          <p:cNvSpPr/>
          <p:nvPr/>
        </p:nvSpPr>
        <p:spPr>
          <a:xfrm>
            <a:off x="4157280" y="428940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Generalizació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3" name="Line 12"/>
          <p:cNvSpPr/>
          <p:nvPr/>
        </p:nvSpPr>
        <p:spPr>
          <a:xfrm>
            <a:off x="1390680" y="5533920"/>
            <a:ext cx="17510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4" name="Freeform 13"/>
          <p:cNvSpPr/>
          <p:nvPr/>
        </p:nvSpPr>
        <p:spPr>
          <a:xfrm>
            <a:off x="3141720" y="5378400"/>
            <a:ext cx="237960" cy="285840"/>
          </a:xfrm>
          <a:custGeom>
            <a:avLst/>
            <a:gdLst/>
            <a:ahLst/>
            <a:rect l="l" t="t" r="r" b="b"/>
            <a:pathLst>
              <a:path w="150" h="180">
                <a:moveTo>
                  <a:pt x="0" y="0"/>
                </a:moveTo>
                <a:lnTo>
                  <a:pt x="0" y="180"/>
                </a:lnTo>
                <a:lnTo>
                  <a:pt x="150" y="105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5" name="Text Box 14"/>
          <p:cNvSpPr/>
          <p:nvPr/>
        </p:nvSpPr>
        <p:spPr>
          <a:xfrm>
            <a:off x="4199400" y="527544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Realizació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50880" y="220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Ejemplo de diagrama de clas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77" name="Picture 3" descr=""/>
          <p:cNvPicPr/>
          <p:nvPr/>
        </p:nvPicPr>
        <p:blipFill>
          <a:blip r:embed="rId1"/>
          <a:stretch/>
        </p:blipFill>
        <p:spPr>
          <a:xfrm>
            <a:off x="1139760" y="1501920"/>
            <a:ext cx="63025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2" descr=""/>
          <p:cNvPicPr/>
          <p:nvPr/>
        </p:nvPicPr>
        <p:blipFill>
          <a:blip r:embed="rId1"/>
          <a:stretch/>
        </p:blipFill>
        <p:spPr>
          <a:xfrm>
            <a:off x="695160" y="504720"/>
            <a:ext cx="61484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2072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Diagramas de UML 2.0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720720" y="1504440"/>
            <a:ext cx="77724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agrama de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Estructura Compu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asos de 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agrama </a:t>
            </a: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S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agrama </a:t>
            </a: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Comunicación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antes de</a:t>
            </a: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 Colabor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stad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esplie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agrama de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Artefa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agrama de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Paqu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agrama de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Tiem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>
            <a:off x="5553000" y="1752480"/>
            <a:ext cx="3438720" cy="1524240"/>
          </a:xfrm>
          <a:prstGeom prst="wedgeEllipseCallout">
            <a:avLst>
              <a:gd name="adj1" fmla="val -63481"/>
              <a:gd name="adj2" fmla="val 43231"/>
            </a:avLst>
          </a:prstGeom>
          <a:noFill/>
          <a:ln w="316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Arial"/>
              </a:rPr>
              <a:t>Diagramas no son modelos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2072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Diagramas de UML 2.0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83" name="Picture 3" descr=""/>
          <p:cNvPicPr/>
          <p:nvPr/>
        </p:nvPicPr>
        <p:blipFill>
          <a:blip r:embed="rId1"/>
          <a:stretch/>
        </p:blipFill>
        <p:spPr>
          <a:xfrm>
            <a:off x="720720" y="1376280"/>
            <a:ext cx="81946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70956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Modelos en UML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440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do de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sos de 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agrama de Casos de U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do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structura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agrama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do de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agramas de Interacción: Secuencia y 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agramas de 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do de flujos de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ctividades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.e.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Modelo del Negoc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agramas de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do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mple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agrama de 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do de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Desplie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agramas de Artefa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agramas de Desplie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6516360" y="1114560"/>
            <a:ext cx="18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Modelo de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Negocio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87" name="Picture 3" descr=""/>
          <p:cNvPicPr/>
          <p:nvPr/>
        </p:nvPicPr>
        <p:blipFill>
          <a:blip r:embed="rId1"/>
          <a:stretch/>
        </p:blipFill>
        <p:spPr>
          <a:xfrm>
            <a:off x="461880" y="0"/>
            <a:ext cx="7253280" cy="672624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4"/>
          <p:cNvSpPr/>
          <p:nvPr/>
        </p:nvSpPr>
        <p:spPr>
          <a:xfrm>
            <a:off x="6489720" y="3790800"/>
            <a:ext cx="2425680" cy="955800"/>
          </a:xfrm>
          <a:prstGeom prst="wedgeEllipseCallout">
            <a:avLst>
              <a:gd name="adj1" fmla="val -41625"/>
              <a:gd name="adj2" fmla="val -91861"/>
            </a:avLst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agrama de actividad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2"/>
          <p:cNvSpPr/>
          <p:nvPr/>
        </p:nvSpPr>
        <p:spPr>
          <a:xfrm>
            <a:off x="74160" y="16344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Modelo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Casos de Usos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90" name="Picture 3" descr=""/>
          <p:cNvPicPr/>
          <p:nvPr/>
        </p:nvPicPr>
        <p:blipFill>
          <a:blip r:embed="rId1"/>
          <a:stretch/>
        </p:blipFill>
        <p:spPr>
          <a:xfrm>
            <a:off x="-214200" y="1100160"/>
            <a:ext cx="8564400" cy="5416560"/>
          </a:xfrm>
          <a:prstGeom prst="rect">
            <a:avLst/>
          </a:prstGeom>
          <a:ln w="0">
            <a:noFill/>
          </a:ln>
        </p:spPr>
      </p:pic>
      <p:sp>
        <p:nvSpPr>
          <p:cNvPr id="791" name="AutoShape 4"/>
          <p:cNvSpPr/>
          <p:nvPr/>
        </p:nvSpPr>
        <p:spPr>
          <a:xfrm>
            <a:off x="4851360" y="4614840"/>
            <a:ext cx="2421000" cy="1085760"/>
          </a:xfrm>
          <a:prstGeom prst="wedgeEllipseCallout">
            <a:avLst>
              <a:gd name="adj1" fmla="val -39115"/>
              <a:gd name="adj2" fmla="val -78652"/>
            </a:avLst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agrama de casos de uso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242200" cy="6353280"/>
          </a:xfrm>
          <a:prstGeom prst="rect">
            <a:avLst/>
          </a:prstGeom>
          <a:ln w="0">
            <a:noFill/>
          </a:ln>
        </p:spPr>
      </p:pic>
      <p:sp>
        <p:nvSpPr>
          <p:cNvPr id="793" name="AutoShape 3"/>
          <p:cNvSpPr/>
          <p:nvPr/>
        </p:nvSpPr>
        <p:spPr>
          <a:xfrm>
            <a:off x="141120" y="882720"/>
            <a:ext cx="2152800" cy="1085760"/>
          </a:xfrm>
          <a:prstGeom prst="wedgeEllipseCallout">
            <a:avLst>
              <a:gd name="adj1" fmla="val 54629"/>
              <a:gd name="adj2" fmla="val 46930"/>
            </a:avLst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iagrama de clas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4" name="Text Box 4"/>
          <p:cNvSpPr/>
          <p:nvPr/>
        </p:nvSpPr>
        <p:spPr>
          <a:xfrm>
            <a:off x="5926320" y="895320"/>
            <a:ext cx="193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Modelo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Estructural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2307240" y="5575320"/>
            <a:ext cx="2608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Times New Roman"/>
              </a:rPr>
              <a:t>Modelo de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Times New Roman"/>
              </a:rPr>
              <a:t>Comportamiento</a:t>
            </a:r>
            <a:endParaRPr b="0" lang="en-US" sz="2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96" name="Picture 3" descr=""/>
          <p:cNvPicPr/>
          <p:nvPr/>
        </p:nvPicPr>
        <p:blipFill>
          <a:blip r:embed="rId1"/>
          <a:stretch/>
        </p:blipFill>
        <p:spPr>
          <a:xfrm>
            <a:off x="-496800" y="208080"/>
            <a:ext cx="8975520" cy="5754600"/>
          </a:xfrm>
          <a:prstGeom prst="rect">
            <a:avLst/>
          </a:prstGeom>
          <a:ln w="0">
            <a:noFill/>
          </a:ln>
        </p:spPr>
      </p:pic>
      <p:sp>
        <p:nvSpPr>
          <p:cNvPr id="797" name="AutoShape 4"/>
          <p:cNvSpPr/>
          <p:nvPr/>
        </p:nvSpPr>
        <p:spPr>
          <a:xfrm>
            <a:off x="6380280" y="463680"/>
            <a:ext cx="2535120" cy="1085760"/>
          </a:xfrm>
          <a:prstGeom prst="wedgeEllipseCallout">
            <a:avLst>
              <a:gd name="adj1" fmla="val -48060"/>
              <a:gd name="adj2" fmla="val 52194"/>
            </a:avLst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agrama de comunicació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4944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Evolución</a:t>
            </a:r>
            <a:r>
              <a:rPr b="1" lang="es-ES_tradnl" sz="3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UML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74280" y="1281240"/>
            <a:ext cx="75344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dy Booch y Jim Rumbaugh comenzaron a unificar sus métodos (Octubre, 1994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orrador de UML (versión 0.8)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Octubre, 19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var Jacobson se une al proyecto (Noviembre, 199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ML 0.9 y se crea un consorci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Junio, 199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MG lanza una petición para un lenguaje unificado (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ML 1.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ofrecido al OM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Enero, 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extiende el consorcio (Enero-Julio, 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ML 1.1 es ofrecido al OMG (Julio, 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MG adopta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UML 1.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(Noviembre, 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crea el UML RTF (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ML 1.3  (Mayo 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UML 2.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(principios de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Máquina de Estado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473040" y="1398600"/>
            <a:ext cx="7935840" cy="4702320"/>
          </a:xfrm>
          <a:prstGeom prst="rect">
            <a:avLst/>
          </a:prstGeom>
          <a:ln w="0">
            <a:noFill/>
          </a:ln>
        </p:spPr>
      </p:pic>
      <p:sp>
        <p:nvSpPr>
          <p:cNvPr id="800" name="AutoShape 4"/>
          <p:cNvSpPr/>
          <p:nvPr/>
        </p:nvSpPr>
        <p:spPr>
          <a:xfrm>
            <a:off x="609480" y="1352520"/>
            <a:ext cx="2314800" cy="1085760"/>
          </a:xfrm>
          <a:prstGeom prst="wedgeEllipseCallout">
            <a:avLst>
              <a:gd name="adj1" fmla="val 51837"/>
              <a:gd name="adj2" fmla="val 49416"/>
            </a:avLst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agrama de estado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96960" y="19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Mecanismos comunes de UML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96960" y="1617480"/>
            <a:ext cx="7772400" cy="100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cotomí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lasificad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ins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4"/>
          <p:cNvGrpSpPr/>
          <p:nvPr/>
        </p:nvGrpSpPr>
        <p:grpSpPr>
          <a:xfrm>
            <a:off x="1857240" y="2919240"/>
            <a:ext cx="1225440" cy="1630080"/>
            <a:chOff x="1857240" y="2919240"/>
            <a:chExt cx="1225440" cy="1630080"/>
          </a:xfrm>
        </p:grpSpPr>
        <p:sp>
          <p:nvSpPr>
            <p:cNvPr id="804" name="Rectangle 5"/>
            <p:cNvSpPr/>
            <p:nvPr/>
          </p:nvSpPr>
          <p:spPr>
            <a:xfrm>
              <a:off x="1857240" y="2919240"/>
              <a:ext cx="1225440" cy="163008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5" name="Rectangle 6"/>
            <p:cNvSpPr/>
            <p:nvPr/>
          </p:nvSpPr>
          <p:spPr>
            <a:xfrm>
              <a:off x="2157480" y="2990880"/>
              <a:ext cx="66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ersona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6" name="Rectangle 7"/>
            <p:cNvSpPr/>
            <p:nvPr/>
          </p:nvSpPr>
          <p:spPr>
            <a:xfrm>
              <a:off x="1857240" y="3295080"/>
              <a:ext cx="1225440" cy="12542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7" name="Rectangle 8"/>
            <p:cNvSpPr/>
            <p:nvPr/>
          </p:nvSpPr>
          <p:spPr>
            <a:xfrm>
              <a:off x="1857240" y="4173480"/>
              <a:ext cx="1225440" cy="375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808" name="Picture 9" descr=""/>
            <p:cNvPicPr/>
            <p:nvPr/>
          </p:nvPicPr>
          <p:blipFill>
            <a:blip r:embed="rId1"/>
            <a:stretch/>
          </p:blipFill>
          <p:spPr>
            <a:xfrm>
              <a:off x="1920600" y="3348720"/>
              <a:ext cx="255240" cy="2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Picture 10" descr=""/>
            <p:cNvPicPr/>
            <p:nvPr/>
          </p:nvPicPr>
          <p:blipFill>
            <a:blip r:embed="rId2"/>
            <a:stretch/>
          </p:blipFill>
          <p:spPr>
            <a:xfrm>
              <a:off x="1920600" y="3348720"/>
              <a:ext cx="255240" cy="2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Picture 11" descr=""/>
            <p:cNvPicPr/>
            <p:nvPr/>
          </p:nvPicPr>
          <p:blipFill>
            <a:blip r:embed="rId3"/>
            <a:stretch/>
          </p:blipFill>
          <p:spPr>
            <a:xfrm>
              <a:off x="1920600" y="3348720"/>
              <a:ext cx="255240" cy="26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Rectangle 12"/>
            <p:cNvSpPr/>
            <p:nvPr/>
          </p:nvSpPr>
          <p:spPr>
            <a:xfrm>
              <a:off x="2174400" y="3348720"/>
              <a:ext cx="60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nombre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812" name="Picture 13" descr=""/>
            <p:cNvPicPr/>
            <p:nvPr/>
          </p:nvPicPr>
          <p:blipFill>
            <a:blip r:embed="rId4"/>
            <a:stretch/>
          </p:blipFill>
          <p:spPr>
            <a:xfrm>
              <a:off x="1920600" y="3600000"/>
              <a:ext cx="2552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Picture 14" descr=""/>
            <p:cNvPicPr/>
            <p:nvPr/>
          </p:nvPicPr>
          <p:blipFill>
            <a:blip r:embed="rId5"/>
            <a:stretch/>
          </p:blipFill>
          <p:spPr>
            <a:xfrm>
              <a:off x="1920600" y="3600000"/>
              <a:ext cx="2552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Picture 15" descr=""/>
            <p:cNvPicPr/>
            <p:nvPr/>
          </p:nvPicPr>
          <p:blipFill>
            <a:blip r:embed="rId6"/>
            <a:stretch/>
          </p:blipFill>
          <p:spPr>
            <a:xfrm>
              <a:off x="1920600" y="3600000"/>
              <a:ext cx="255240" cy="2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Rectangle 16"/>
            <p:cNvSpPr/>
            <p:nvPr/>
          </p:nvSpPr>
          <p:spPr>
            <a:xfrm>
              <a:off x="2172960" y="3600000"/>
              <a:ext cx="715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direccion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816" name="Picture 17" descr=""/>
            <p:cNvPicPr/>
            <p:nvPr/>
          </p:nvPicPr>
          <p:blipFill>
            <a:blip r:embed="rId7"/>
            <a:stretch/>
          </p:blipFill>
          <p:spPr>
            <a:xfrm>
              <a:off x="1920600" y="3850920"/>
              <a:ext cx="2552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Picture 18" descr=""/>
            <p:cNvPicPr/>
            <p:nvPr/>
          </p:nvPicPr>
          <p:blipFill>
            <a:blip r:embed="rId8"/>
            <a:stretch/>
          </p:blipFill>
          <p:spPr>
            <a:xfrm>
              <a:off x="1920600" y="3850920"/>
              <a:ext cx="25524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19" descr=""/>
            <p:cNvPicPr/>
            <p:nvPr/>
          </p:nvPicPr>
          <p:blipFill>
            <a:blip r:embed="rId9"/>
            <a:stretch/>
          </p:blipFill>
          <p:spPr>
            <a:xfrm>
              <a:off x="1920600" y="3850920"/>
              <a:ext cx="255240" cy="2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Rectangle 20"/>
            <p:cNvSpPr/>
            <p:nvPr/>
          </p:nvSpPr>
          <p:spPr>
            <a:xfrm>
              <a:off x="2172960" y="385092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elefono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820" name="Rectangle 21"/>
          <p:cNvSpPr/>
          <p:nvPr/>
        </p:nvSpPr>
        <p:spPr>
          <a:xfrm>
            <a:off x="4194000" y="2919240"/>
            <a:ext cx="1221120" cy="82584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1" name="Rectangle 22"/>
          <p:cNvSpPr/>
          <p:nvPr/>
        </p:nvSpPr>
        <p:spPr>
          <a:xfrm>
            <a:off x="4419720" y="3049560"/>
            <a:ext cx="75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lena :</a:t>
            </a: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2" name="Rectangle 23"/>
          <p:cNvSpPr/>
          <p:nvPr/>
        </p:nvSpPr>
        <p:spPr>
          <a:xfrm>
            <a:off x="4361400" y="3332160"/>
            <a:ext cx="84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Person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3" name="Rectangle 24"/>
          <p:cNvSpPr/>
          <p:nvPr/>
        </p:nvSpPr>
        <p:spPr>
          <a:xfrm>
            <a:off x="6156360" y="3971880"/>
            <a:ext cx="1204920" cy="6606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4" name="Rectangle 25"/>
          <p:cNvSpPr/>
          <p:nvPr/>
        </p:nvSpPr>
        <p:spPr>
          <a:xfrm>
            <a:off x="6249240" y="41162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5" name="Rectangle 28"/>
          <p:cNvSpPr/>
          <p:nvPr/>
        </p:nvSpPr>
        <p:spPr>
          <a:xfrm>
            <a:off x="6156360" y="2919240"/>
            <a:ext cx="1220760" cy="82584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6" name="Rectangle 29"/>
          <p:cNvSpPr/>
          <p:nvPr/>
        </p:nvSpPr>
        <p:spPr>
          <a:xfrm>
            <a:off x="6381720" y="3049560"/>
            <a:ext cx="75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ena :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7" name="Rectangle 30"/>
          <p:cNvSpPr/>
          <p:nvPr/>
        </p:nvSpPr>
        <p:spPr>
          <a:xfrm>
            <a:off x="6323760" y="3332160"/>
            <a:ext cx="84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8" name="Rectangle 31"/>
          <p:cNvSpPr/>
          <p:nvPr/>
        </p:nvSpPr>
        <p:spPr>
          <a:xfrm>
            <a:off x="4210200" y="3995640"/>
            <a:ext cx="1204920" cy="6606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9" name="Rectangle 32"/>
          <p:cNvSpPr/>
          <p:nvPr/>
        </p:nvSpPr>
        <p:spPr>
          <a:xfrm>
            <a:off x="4302720" y="414972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Person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72072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Mecanismos comunes de UML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720720" y="169380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cotomí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interfaz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4"/>
          <p:cNvSpPr/>
          <p:nvPr/>
        </p:nvSpPr>
        <p:spPr>
          <a:xfrm>
            <a:off x="5516640" y="3308400"/>
            <a:ext cx="162252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3" name="Oval 5"/>
          <p:cNvSpPr/>
          <p:nvPr/>
        </p:nvSpPr>
        <p:spPr>
          <a:xfrm>
            <a:off x="7161120" y="3141720"/>
            <a:ext cx="282600" cy="2840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4" name="Rectangle 6"/>
          <p:cNvSpPr/>
          <p:nvPr/>
        </p:nvSpPr>
        <p:spPr>
          <a:xfrm>
            <a:off x="6720120" y="3494160"/>
            <a:ext cx="1203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Ortografi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35" name="Group 7"/>
          <p:cNvGrpSpPr/>
          <p:nvPr/>
        </p:nvGrpSpPr>
        <p:grpSpPr>
          <a:xfrm>
            <a:off x="4457880" y="3206880"/>
            <a:ext cx="949320" cy="309600"/>
            <a:chOff x="4457880" y="3206880"/>
            <a:chExt cx="949320" cy="309600"/>
          </a:xfrm>
        </p:grpSpPr>
        <p:sp>
          <p:nvSpPr>
            <p:cNvPr id="836" name="Rectangle 8"/>
            <p:cNvSpPr/>
            <p:nvPr/>
          </p:nvSpPr>
          <p:spPr>
            <a:xfrm>
              <a:off x="4594320" y="3206880"/>
              <a:ext cx="812880" cy="309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7" name="Rectangle 9"/>
            <p:cNvSpPr/>
            <p:nvPr/>
          </p:nvSpPr>
          <p:spPr>
            <a:xfrm>
              <a:off x="4457880" y="3270960"/>
              <a:ext cx="266760" cy="57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8" name="Rectangle 10"/>
            <p:cNvSpPr/>
            <p:nvPr/>
          </p:nvSpPr>
          <p:spPr>
            <a:xfrm>
              <a:off x="4457880" y="3394080"/>
              <a:ext cx="266760" cy="57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839" name="Rectangle 11"/>
          <p:cNvSpPr/>
          <p:nvPr/>
        </p:nvSpPr>
        <p:spPr>
          <a:xfrm>
            <a:off x="2890800" y="4062240"/>
            <a:ext cx="204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istenteOrtografic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0" name="Rectangle 12"/>
          <p:cNvSpPr/>
          <p:nvPr/>
        </p:nvSpPr>
        <p:spPr>
          <a:xfrm>
            <a:off x="2476440" y="3087720"/>
            <a:ext cx="3025800" cy="1506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1" name="Line 13"/>
          <p:cNvSpPr/>
          <p:nvPr/>
        </p:nvSpPr>
        <p:spPr>
          <a:xfrm>
            <a:off x="5537160" y="4363920"/>
            <a:ext cx="162252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2" name="Oval 14"/>
          <p:cNvSpPr/>
          <p:nvPr/>
        </p:nvSpPr>
        <p:spPr>
          <a:xfrm>
            <a:off x="7191360" y="4221000"/>
            <a:ext cx="284040" cy="2844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3" name="Rectangle 15"/>
          <p:cNvSpPr/>
          <p:nvPr/>
        </p:nvSpPr>
        <p:spPr>
          <a:xfrm>
            <a:off x="6853680" y="4573440"/>
            <a:ext cx="113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Unknow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4" name="Rectangle 16"/>
          <p:cNvSpPr/>
          <p:nvPr/>
        </p:nvSpPr>
        <p:spPr>
          <a:xfrm>
            <a:off x="798120" y="4075200"/>
            <a:ext cx="1332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iccionario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5" name="Line 17"/>
          <p:cNvSpPr/>
          <p:nvPr/>
        </p:nvSpPr>
        <p:spPr>
          <a:xfrm>
            <a:off x="1414440" y="382284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46" name="Group 18"/>
          <p:cNvGrpSpPr/>
          <p:nvPr/>
        </p:nvGrpSpPr>
        <p:grpSpPr>
          <a:xfrm>
            <a:off x="1031760" y="3621240"/>
            <a:ext cx="414000" cy="450720"/>
            <a:chOff x="1031760" y="3621240"/>
            <a:chExt cx="414000" cy="450720"/>
          </a:xfrm>
        </p:grpSpPr>
        <p:sp>
          <p:nvSpPr>
            <p:cNvPr id="847" name="Oval 19"/>
            <p:cNvSpPr/>
            <p:nvPr/>
          </p:nvSpPr>
          <p:spPr>
            <a:xfrm>
              <a:off x="1163520" y="3662280"/>
              <a:ext cx="282240" cy="28368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8" name="Rectangle 20"/>
            <p:cNvSpPr/>
            <p:nvPr/>
          </p:nvSpPr>
          <p:spPr>
            <a:xfrm>
              <a:off x="1031760" y="3621240"/>
              <a:ext cx="27360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72072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Mecanismos comunes de UML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720720" y="169380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cotomí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ro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4"/>
          <p:cNvGrpSpPr/>
          <p:nvPr/>
        </p:nvGrpSpPr>
        <p:grpSpPr>
          <a:xfrm>
            <a:off x="2584440" y="2612880"/>
            <a:ext cx="3575160" cy="1720800"/>
            <a:chOff x="2584440" y="2612880"/>
            <a:chExt cx="3575160" cy="1720800"/>
          </a:xfrm>
        </p:grpSpPr>
        <p:sp>
          <p:nvSpPr>
            <p:cNvPr id="852" name="Rectangle 5"/>
            <p:cNvSpPr/>
            <p:nvPr/>
          </p:nvSpPr>
          <p:spPr>
            <a:xfrm>
              <a:off x="3795120" y="2757240"/>
              <a:ext cx="709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3" name="Rectangle 6"/>
            <p:cNvSpPr/>
            <p:nvPr/>
          </p:nvSpPr>
          <p:spPr>
            <a:xfrm>
              <a:off x="2584440" y="2612880"/>
              <a:ext cx="3575160" cy="172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4" name="Line 7"/>
            <p:cNvSpPr/>
            <p:nvPr/>
          </p:nvSpPr>
          <p:spPr>
            <a:xfrm flipV="1">
              <a:off x="2595960" y="3121920"/>
              <a:ext cx="3563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5" name="Rectangle 8"/>
            <p:cNvSpPr/>
            <p:nvPr/>
          </p:nvSpPr>
          <p:spPr>
            <a:xfrm>
              <a:off x="3100320" y="3336840"/>
              <a:ext cx="2566800" cy="83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6" name="Rectangle 9"/>
            <p:cNvSpPr/>
            <p:nvPr/>
          </p:nvSpPr>
          <p:spPr>
            <a:xfrm>
              <a:off x="3352320" y="3609720"/>
              <a:ext cx="163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liente: Persona</a:t>
              </a: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857" name="Text Box 10"/>
          <p:cNvSpPr/>
          <p:nvPr/>
        </p:nvSpPr>
        <p:spPr>
          <a:xfrm>
            <a:off x="593640" y="4724280"/>
            <a:ext cx="789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tip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clara la clase de una entidad, por ejemplo un objeto o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ámetro, y el 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ro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scribe el significado de la entidad en un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rminado contexto, tal como una clase, componente o colaboración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9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Mecanismo de extensibilidad de UM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28480" y="1190160"/>
            <a:ext cx="81583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Estereoti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tienden el vocabulario de UML, permitiendo definir nuevos tipos de elementos y relaciones a partir de los existentes pero específicos de un problema o domi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son predefinidos en U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Valores etique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tienden las propiedades de un estereotipo, permitiendo crear nueva información en la especificación del estereotip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can condiciones sobre los elementos del mode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2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Perfiles UML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914400" y="1299960"/>
            <a:ext cx="808992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ML es una familia de lengu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enguaje core + Per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erfi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ne una extensión de UML mediante la especialización de U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perfil define una forma específica de usar UML para un dominio concreto: EJB, aplicaciones web, CORBA, modelado del negocio, esquemas relacionales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grupación de un 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conjunto de estereotipos, valores etiquetados y restricciones, con su correspondiente no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62040" y="2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Ejemplos de estereotipos predefinido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63" name="Picture 3" descr=""/>
          <p:cNvPicPr/>
          <p:nvPr/>
        </p:nvPicPr>
        <p:blipFill>
          <a:blip r:embed="rId1"/>
          <a:stretch/>
        </p:blipFill>
        <p:spPr>
          <a:xfrm>
            <a:off x="1427040" y="2421000"/>
            <a:ext cx="1909800" cy="157320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5" descr=""/>
          <p:cNvPicPr/>
          <p:nvPr/>
        </p:nvPicPr>
        <p:blipFill>
          <a:blip r:embed="rId2"/>
          <a:stretch/>
        </p:blipFill>
        <p:spPr>
          <a:xfrm>
            <a:off x="1143000" y="4363920"/>
            <a:ext cx="2075040" cy="15382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6" descr=""/>
          <p:cNvPicPr/>
          <p:nvPr/>
        </p:nvPicPr>
        <p:blipFill>
          <a:blip r:embed="rId3"/>
          <a:stretch/>
        </p:blipFill>
        <p:spPr>
          <a:xfrm>
            <a:off x="4900680" y="2438280"/>
            <a:ext cx="1851120" cy="1779840"/>
          </a:xfrm>
          <a:prstGeom prst="rect">
            <a:avLst/>
          </a:prstGeom>
          <a:ln w="0">
            <a:noFill/>
          </a:ln>
        </p:spPr>
      </p:pic>
      <p:sp>
        <p:nvSpPr>
          <p:cNvPr id="866" name="Oval 7"/>
          <p:cNvSpPr/>
          <p:nvPr/>
        </p:nvSpPr>
        <p:spPr>
          <a:xfrm>
            <a:off x="5743440" y="4605480"/>
            <a:ext cx="343080" cy="353880"/>
          </a:xfrm>
          <a:prstGeom prst="ellipse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7" name="Rectangle 8"/>
          <p:cNvSpPr/>
          <p:nvPr/>
        </p:nvSpPr>
        <p:spPr>
          <a:xfrm>
            <a:off x="5184720" y="5133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8" name="Text Box 10"/>
          <p:cNvSpPr/>
          <p:nvPr/>
        </p:nvSpPr>
        <p:spPr>
          <a:xfrm>
            <a:off x="5183640" y="49831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Comparator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9" name="Text Box 11"/>
          <p:cNvSpPr/>
          <p:nvPr/>
        </p:nvSpPr>
        <p:spPr>
          <a:xfrm>
            <a:off x="2710440" y="1440000"/>
            <a:ext cx="290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ff"/>
                </a:solidFill>
                <a:latin typeface="Tahoma"/>
              </a:rPr>
              <a:t>Clase estereotipadas</a:t>
            </a:r>
            <a:endParaRPr b="0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Estereotipos y Valores Etiquetado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1" name="Rectangle 3"/>
          <p:cNvSpPr/>
          <p:nvPr/>
        </p:nvSpPr>
        <p:spPr>
          <a:xfrm>
            <a:off x="1476360" y="1844640"/>
            <a:ext cx="1800360" cy="86364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2" name="Rectangle 4"/>
          <p:cNvSpPr/>
          <p:nvPr/>
        </p:nvSpPr>
        <p:spPr>
          <a:xfrm>
            <a:off x="1834200" y="2205000"/>
            <a:ext cx="91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3" name="Rectangle 5"/>
          <p:cNvSpPr/>
          <p:nvPr/>
        </p:nvSpPr>
        <p:spPr>
          <a:xfrm>
            <a:off x="1908360" y="1916280"/>
            <a:ext cx="75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&lt;&lt;Table&gt;&gt;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4" name="Text Box 6"/>
          <p:cNvSpPr/>
          <p:nvPr/>
        </p:nvSpPr>
        <p:spPr>
          <a:xfrm>
            <a:off x="828360" y="3860640"/>
            <a:ext cx="28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ereotip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Tabl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alores Etiquetad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5" name="Rectangle 7"/>
          <p:cNvSpPr/>
          <p:nvPr/>
        </p:nvSpPr>
        <p:spPr>
          <a:xfrm>
            <a:off x="1476360" y="2637000"/>
            <a:ext cx="1800360" cy="9363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6" name="Rectangle 8"/>
          <p:cNvSpPr/>
          <p:nvPr/>
        </p:nvSpPr>
        <p:spPr>
          <a:xfrm>
            <a:off x="1617120" y="2779560"/>
            <a:ext cx="13662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&lt;key&gt;&gt; dni : Strin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mbre : Strin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dad : in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77" name="Group 9"/>
          <p:cNvGrpSpPr/>
          <p:nvPr/>
        </p:nvGrpSpPr>
        <p:grpSpPr>
          <a:xfrm>
            <a:off x="4128480" y="1844640"/>
            <a:ext cx="2303640" cy="1620360"/>
            <a:chOff x="4128480" y="1844640"/>
            <a:chExt cx="2303640" cy="1620360"/>
          </a:xfrm>
        </p:grpSpPr>
        <p:sp>
          <p:nvSpPr>
            <p:cNvPr id="878" name="Rectangle 10"/>
            <p:cNvSpPr/>
            <p:nvPr/>
          </p:nvSpPr>
          <p:spPr>
            <a:xfrm>
              <a:off x="4281840" y="1844640"/>
              <a:ext cx="2150280" cy="1620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9" name="Rectangle 11"/>
            <p:cNvSpPr/>
            <p:nvPr/>
          </p:nvSpPr>
          <p:spPr>
            <a:xfrm>
              <a:off x="5135760" y="210384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0" name="Rectangle 12"/>
            <p:cNvSpPr/>
            <p:nvPr/>
          </p:nvSpPr>
          <p:spPr>
            <a:xfrm>
              <a:off x="4702680" y="1895400"/>
              <a:ext cx="1207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&lt;&lt;BusinessEntity&gt;&gt;</a:t>
              </a:r>
              <a:endParaRPr b="0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1" name="Rectangle 13"/>
            <p:cNvSpPr/>
            <p:nvPr/>
          </p:nvSpPr>
          <p:spPr>
            <a:xfrm>
              <a:off x="4281840" y="2324160"/>
              <a:ext cx="2150280" cy="1140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2" name="Rectangle 14"/>
            <p:cNvSpPr/>
            <p:nvPr/>
          </p:nvSpPr>
          <p:spPr>
            <a:xfrm>
              <a:off x="4281840" y="3048480"/>
              <a:ext cx="2150280" cy="416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883" name="Picture 15" descr=""/>
            <p:cNvPicPr/>
            <p:nvPr/>
          </p:nvPicPr>
          <p:blipFill>
            <a:blip r:embed="rId1"/>
            <a:stretch/>
          </p:blipFill>
          <p:spPr>
            <a:xfrm>
              <a:off x="4314600" y="2348640"/>
              <a:ext cx="175680" cy="1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16" descr=""/>
            <p:cNvPicPr/>
            <p:nvPr/>
          </p:nvPicPr>
          <p:blipFill>
            <a:blip r:embed="rId2"/>
            <a:stretch/>
          </p:blipFill>
          <p:spPr>
            <a:xfrm>
              <a:off x="4314600" y="2348640"/>
              <a:ext cx="175680" cy="1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5" name="Picture 17" descr=""/>
            <p:cNvPicPr/>
            <p:nvPr/>
          </p:nvPicPr>
          <p:blipFill>
            <a:blip r:embed="rId3"/>
            <a:stretch/>
          </p:blipFill>
          <p:spPr>
            <a:xfrm>
              <a:off x="4314600" y="2348640"/>
              <a:ext cx="175680" cy="1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Rectangle 18"/>
            <p:cNvSpPr/>
            <p:nvPr/>
          </p:nvSpPr>
          <p:spPr>
            <a:xfrm>
              <a:off x="4493880" y="2348640"/>
              <a:ext cx="1462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&lt;&lt;UniqueId&gt;&gt; id : String</a:t>
              </a:r>
              <a:endParaRPr b="0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887" name="Picture 19" descr=""/>
            <p:cNvPicPr/>
            <p:nvPr/>
          </p:nvPicPr>
          <p:blipFill>
            <a:blip r:embed="rId4"/>
            <a:stretch/>
          </p:blipFill>
          <p:spPr>
            <a:xfrm>
              <a:off x="4314600" y="2556720"/>
              <a:ext cx="175680" cy="1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Picture 20" descr=""/>
            <p:cNvPicPr/>
            <p:nvPr/>
          </p:nvPicPr>
          <p:blipFill>
            <a:blip r:embed="rId5"/>
            <a:stretch/>
          </p:blipFill>
          <p:spPr>
            <a:xfrm>
              <a:off x="4314600" y="2556720"/>
              <a:ext cx="175680" cy="1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Picture 21" descr=""/>
            <p:cNvPicPr/>
            <p:nvPr/>
          </p:nvPicPr>
          <p:blipFill>
            <a:blip r:embed="rId6"/>
            <a:stretch/>
          </p:blipFill>
          <p:spPr>
            <a:xfrm>
              <a:off x="4314600" y="2556720"/>
              <a:ext cx="175680" cy="1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Rectangle 22"/>
            <p:cNvSpPr/>
            <p:nvPr/>
          </p:nvSpPr>
          <p:spPr>
            <a:xfrm>
              <a:off x="4490640" y="2556720"/>
              <a:ext cx="86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ombre : String</a:t>
              </a:r>
              <a:endParaRPr b="0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891" name="Picture 23" descr=""/>
            <p:cNvPicPr/>
            <p:nvPr/>
          </p:nvPicPr>
          <p:blipFill>
            <a:blip r:embed="rId7"/>
            <a:stretch/>
          </p:blipFill>
          <p:spPr>
            <a:xfrm>
              <a:off x="4314600" y="2764800"/>
              <a:ext cx="175680" cy="19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Picture 24" descr=""/>
            <p:cNvPicPr/>
            <p:nvPr/>
          </p:nvPicPr>
          <p:blipFill>
            <a:blip r:embed="rId8"/>
            <a:stretch/>
          </p:blipFill>
          <p:spPr>
            <a:xfrm>
              <a:off x="4314600" y="2764800"/>
              <a:ext cx="175680" cy="19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3" name="Picture 25" descr=""/>
            <p:cNvPicPr/>
            <p:nvPr/>
          </p:nvPicPr>
          <p:blipFill>
            <a:blip r:embed="rId9"/>
            <a:stretch/>
          </p:blipFill>
          <p:spPr>
            <a:xfrm>
              <a:off x="4314600" y="2764800"/>
              <a:ext cx="175680" cy="19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Rectangle 26"/>
            <p:cNvSpPr/>
            <p:nvPr/>
          </p:nvSpPr>
          <p:spPr>
            <a:xfrm>
              <a:off x="4491000" y="2764800"/>
              <a:ext cx="86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pellido : String</a:t>
              </a:r>
              <a:endParaRPr b="0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895" name="Picture 27" descr=""/>
            <p:cNvPicPr/>
            <p:nvPr/>
          </p:nvPicPr>
          <p:blipFill>
            <a:blip r:embed="rId10"/>
            <a:stretch/>
          </p:blipFill>
          <p:spPr>
            <a:xfrm>
              <a:off x="4314600" y="3178440"/>
              <a:ext cx="175680" cy="1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28" descr=""/>
            <p:cNvPicPr/>
            <p:nvPr/>
          </p:nvPicPr>
          <p:blipFill>
            <a:blip r:embed="rId11"/>
            <a:stretch/>
          </p:blipFill>
          <p:spPr>
            <a:xfrm>
              <a:off x="4314600" y="3178440"/>
              <a:ext cx="175680" cy="1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29" descr=""/>
            <p:cNvPicPr/>
            <p:nvPr/>
          </p:nvPicPr>
          <p:blipFill>
            <a:blip r:embed="rId12"/>
            <a:stretch/>
          </p:blipFill>
          <p:spPr>
            <a:xfrm>
              <a:off x="4314600" y="3178440"/>
              <a:ext cx="175680" cy="1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Rectangle 30"/>
            <p:cNvSpPr/>
            <p:nvPr/>
          </p:nvSpPr>
          <p:spPr>
            <a:xfrm>
              <a:off x="4492440" y="3178440"/>
              <a:ext cx="168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&lt;&lt;Query&gt;&gt; findByLastName()</a:t>
              </a:r>
              <a:endParaRPr b="0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9" name="Rectangle 31"/>
            <p:cNvSpPr/>
            <p:nvPr/>
          </p:nvSpPr>
          <p:spPr>
            <a:xfrm>
              <a:off x="4128480" y="2777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0" name="Rectangle 32"/>
            <p:cNvSpPr/>
            <p:nvPr/>
          </p:nvSpPr>
          <p:spPr>
            <a:xfrm>
              <a:off x="4128480" y="2777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901" name="Text Box 33"/>
          <p:cNvSpPr/>
          <p:nvPr/>
        </p:nvSpPr>
        <p:spPr>
          <a:xfrm>
            <a:off x="4142520" y="3860640"/>
            <a:ext cx="43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ereotip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BusinessEntit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alores Etiquetad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UniqueID y Query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Restriccion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expresan en O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miten asociar información que no se puede expresar en U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Dos tablas de un mismo esquema relacional deben tener distinto nombre”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4"/>
          <p:cNvSpPr/>
          <p:nvPr/>
        </p:nvSpPr>
        <p:spPr>
          <a:xfrm>
            <a:off x="2286000" y="35812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ontex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ab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inv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ablasDistintoNombr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blas -&gt; forAll ( t1, t2 |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1.name = t2.name implies t1 = t2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7240" y="2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Restriccion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06" name="Picture 3" descr=""/>
          <p:cNvPicPr/>
          <p:nvPr/>
        </p:nvPicPr>
        <p:blipFill>
          <a:blip r:embed="rId1"/>
          <a:stretch/>
        </p:blipFill>
        <p:spPr>
          <a:xfrm>
            <a:off x="1666800" y="1668600"/>
            <a:ext cx="4219560" cy="3443040"/>
          </a:xfrm>
          <a:prstGeom prst="rect">
            <a:avLst/>
          </a:prstGeom>
          <a:ln w="0">
            <a:noFill/>
          </a:ln>
        </p:spPr>
      </p:pic>
      <p:sp>
        <p:nvSpPr>
          <p:cNvPr id="907" name="Text Box 4"/>
          <p:cNvSpPr/>
          <p:nvPr/>
        </p:nvSpPr>
        <p:spPr>
          <a:xfrm>
            <a:off x="4493520" y="4843440"/>
            <a:ext cx="226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self.esposa.sexo = mujer and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lf.esposo.sexo = hombre}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8" name="Line 5"/>
          <p:cNvSpPr/>
          <p:nvPr/>
        </p:nvSpPr>
        <p:spPr>
          <a:xfrm>
            <a:off x="3284640" y="261288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9" name="Text Box 6"/>
          <p:cNvSpPr/>
          <p:nvPr/>
        </p:nvSpPr>
        <p:spPr>
          <a:xfrm>
            <a:off x="3328920" y="2948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{xor}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0" name="Text Box 7"/>
          <p:cNvSpPr/>
          <p:nvPr/>
        </p:nvSpPr>
        <p:spPr>
          <a:xfrm>
            <a:off x="5899320" y="307800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OMG </a:t>
            </a:r>
            <a:r>
              <a:rPr b="0" lang="es-ES_tradnl" sz="31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i="1" lang="es-ES_tradnl" sz="3100" spc="-1" strike="noStrike">
                <a:solidFill>
                  <a:srgbClr val="0000ff"/>
                </a:solidFill>
                <a:latin typeface="Arial"/>
              </a:rPr>
              <a:t>Object Management Group</a:t>
            </a:r>
            <a:r>
              <a:rPr b="0" lang="es-ES_tradnl" sz="31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12520" y="1603440"/>
            <a:ext cx="80262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pone, elabora y mantiene especificaciones para aplicaciones empresariales distribuidas e interoperab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ándares O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Cor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UML</a:t>
            </a: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 y perfiles U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OF, X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M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09560" y="20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¡Hola, Mundo!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2" name="Text Box 3"/>
          <p:cNvSpPr/>
          <p:nvPr/>
        </p:nvSpPr>
        <p:spPr>
          <a:xfrm>
            <a:off x="1116000" y="2013120"/>
            <a:ext cx="6226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ort java.awt.Graphics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ass  HolaMundo extends java.applet.Applet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blic void paint (Graphics g) {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.drawString (“¡Hola, Mundo!”,10,10)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3" name="Rectangle 4"/>
          <p:cNvSpPr/>
          <p:nvPr/>
        </p:nvSpPr>
        <p:spPr>
          <a:xfrm>
            <a:off x="2104920" y="4127400"/>
            <a:ext cx="1360440" cy="129564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2260800" y="4224240"/>
            <a:ext cx="97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HolaMundo</a:t>
            </a:r>
            <a:endParaRPr b="0" lang="en-US" sz="15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2104920" y="4591080"/>
            <a:ext cx="1360440" cy="8319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2104920" y="4746600"/>
            <a:ext cx="1360440" cy="676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17" name="Picture 8" descr=""/>
          <p:cNvPicPr/>
          <p:nvPr/>
        </p:nvPicPr>
        <p:blipFill>
          <a:blip r:embed="rId1"/>
          <a:stretch/>
        </p:blipFill>
        <p:spPr>
          <a:xfrm>
            <a:off x="2160720" y="4959360"/>
            <a:ext cx="222120" cy="28908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9" descr=""/>
          <p:cNvPicPr/>
          <p:nvPr/>
        </p:nvPicPr>
        <p:blipFill>
          <a:blip r:embed="rId2"/>
          <a:stretch/>
        </p:blipFill>
        <p:spPr>
          <a:xfrm>
            <a:off x="2160720" y="4959360"/>
            <a:ext cx="222120" cy="28908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10" descr=""/>
          <p:cNvPicPr/>
          <p:nvPr/>
        </p:nvPicPr>
        <p:blipFill>
          <a:blip r:embed="rId3"/>
          <a:stretch/>
        </p:blipFill>
        <p:spPr>
          <a:xfrm>
            <a:off x="2160720" y="4959360"/>
            <a:ext cx="222120" cy="28908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11"/>
          <p:cNvSpPr/>
          <p:nvPr/>
        </p:nvSpPr>
        <p:spPr>
          <a:xfrm>
            <a:off x="2360520" y="4959360"/>
            <a:ext cx="544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paint()</a:t>
            </a:r>
            <a:endParaRPr b="0" lang="en-US" sz="15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1" name="Freeform 12"/>
          <p:cNvSpPr/>
          <p:nvPr/>
        </p:nvSpPr>
        <p:spPr>
          <a:xfrm>
            <a:off x="5965920" y="4264200"/>
            <a:ext cx="1625400" cy="965160"/>
          </a:xfrm>
          <a:custGeom>
            <a:avLst/>
            <a:gdLst/>
            <a:ahLst/>
            <a:rect l="l" t="t" r="r" b="b"/>
            <a:pathLst>
              <a:path w="1016" h="398">
                <a:moveTo>
                  <a:pt x="0" y="0"/>
                </a:moveTo>
                <a:lnTo>
                  <a:pt x="894" y="0"/>
                </a:lnTo>
                <a:lnTo>
                  <a:pt x="1016" y="119"/>
                </a:lnTo>
                <a:lnTo>
                  <a:pt x="1016" y="398"/>
                </a:lnTo>
                <a:lnTo>
                  <a:pt x="0" y="398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cap="sq"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2" name="Freeform 13"/>
          <p:cNvSpPr/>
          <p:nvPr/>
        </p:nvSpPr>
        <p:spPr>
          <a:xfrm>
            <a:off x="5965920" y="4264200"/>
            <a:ext cx="1625400" cy="965160"/>
          </a:xfrm>
          <a:custGeom>
            <a:avLst/>
            <a:gdLst/>
            <a:ahLst/>
            <a:rect l="l" t="t" r="r" b="b"/>
            <a:pathLst>
              <a:path w="117" h="50">
                <a:moveTo>
                  <a:pt x="0" y="0"/>
                </a:moveTo>
                <a:lnTo>
                  <a:pt x="103" y="0"/>
                </a:lnTo>
                <a:lnTo>
                  <a:pt x="117" y="15"/>
                </a:lnTo>
                <a:lnTo>
                  <a:pt x="117" y="50"/>
                </a:lnTo>
                <a:lnTo>
                  <a:pt x="0" y="50"/>
                </a:lnTo>
                <a:lnTo>
                  <a:pt x="0" y="0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3" name="Freeform 14"/>
          <p:cNvSpPr/>
          <p:nvPr/>
        </p:nvSpPr>
        <p:spPr>
          <a:xfrm>
            <a:off x="7396200" y="4264200"/>
            <a:ext cx="195120" cy="287280"/>
          </a:xfrm>
          <a:custGeom>
            <a:avLst/>
            <a:gdLst/>
            <a:ahLst/>
            <a:rect l="l" t="t" r="r" b="b"/>
            <a:pathLst>
              <a:path w="14" h="15">
                <a:moveTo>
                  <a:pt x="0" y="0"/>
                </a:moveTo>
                <a:lnTo>
                  <a:pt x="0" y="15"/>
                </a:lnTo>
                <a:lnTo>
                  <a:pt x="14" y="15"/>
                </a:lnTo>
              </a:path>
            </a:pathLst>
          </a:custGeom>
          <a:noFill/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4" name="Rectangle 15"/>
          <p:cNvSpPr/>
          <p:nvPr/>
        </p:nvSpPr>
        <p:spPr>
          <a:xfrm>
            <a:off x="5976720" y="4321080"/>
            <a:ext cx="107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g.drawString</a:t>
            </a:r>
            <a:endParaRPr b="0" lang="en-US" sz="15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5" name="Rectangle 16"/>
          <p:cNvSpPr/>
          <p:nvPr/>
        </p:nvSpPr>
        <p:spPr>
          <a:xfrm>
            <a:off x="5956560" y="4649760"/>
            <a:ext cx="1558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("Hola, mundo”) </a:t>
            </a:r>
            <a:endParaRPr b="0" lang="en-US" sz="15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6" name="Line 17"/>
          <p:cNvSpPr/>
          <p:nvPr/>
        </p:nvSpPr>
        <p:spPr>
          <a:xfrm flipH="1">
            <a:off x="3478320" y="4765680"/>
            <a:ext cx="2473200" cy="144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5088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Diagrama de Clas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28" name="Picture 3" descr=""/>
          <p:cNvPicPr/>
          <p:nvPr/>
        </p:nvPicPr>
        <p:blipFill>
          <a:blip r:embed="rId1"/>
          <a:stretch/>
        </p:blipFill>
        <p:spPr>
          <a:xfrm>
            <a:off x="1495440" y="1803240"/>
            <a:ext cx="561168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Picture 2" descr=""/>
          <p:cNvPicPr/>
          <p:nvPr/>
        </p:nvPicPr>
        <p:blipFill>
          <a:blip r:embed="rId1"/>
          <a:stretch/>
        </p:blipFill>
        <p:spPr>
          <a:xfrm>
            <a:off x="2116080" y="0"/>
            <a:ext cx="499752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9516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Organización en Paquet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1" name="Picture 3" descr=""/>
          <p:cNvPicPr/>
          <p:nvPr/>
        </p:nvPicPr>
        <p:blipFill>
          <a:blip r:embed="rId1"/>
          <a:stretch/>
        </p:blipFill>
        <p:spPr>
          <a:xfrm>
            <a:off x="641520" y="2598840"/>
            <a:ext cx="729900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4628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Organización en Paquete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3" name="Text Box 3"/>
          <p:cNvSpPr/>
          <p:nvPr/>
        </p:nvSpPr>
        <p:spPr>
          <a:xfrm>
            <a:off x="3859200" y="2416320"/>
            <a:ext cx="4494240" cy="34225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4" name="Text Box 4"/>
          <p:cNvSpPr/>
          <p:nvPr/>
        </p:nvSpPr>
        <p:spPr>
          <a:xfrm>
            <a:off x="3859200" y="2000160"/>
            <a:ext cx="1600200" cy="3988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35" name="Group 5"/>
          <p:cNvGrpSpPr/>
          <p:nvPr/>
        </p:nvGrpSpPr>
        <p:grpSpPr>
          <a:xfrm>
            <a:off x="6846840" y="4629240"/>
            <a:ext cx="1209600" cy="602280"/>
            <a:chOff x="6846840" y="4629240"/>
            <a:chExt cx="1209600" cy="602280"/>
          </a:xfrm>
        </p:grpSpPr>
        <p:sp>
          <p:nvSpPr>
            <p:cNvPr id="936" name="Text Box 6"/>
            <p:cNvSpPr/>
            <p:nvPr/>
          </p:nvSpPr>
          <p:spPr>
            <a:xfrm>
              <a:off x="6848280" y="4832640"/>
              <a:ext cx="1208160" cy="39888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lang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37" name="Text Box 7"/>
            <p:cNvSpPr/>
            <p:nvPr/>
          </p:nvSpPr>
          <p:spPr>
            <a:xfrm>
              <a:off x="6846840" y="4629240"/>
              <a:ext cx="515880" cy="2095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38" name="Group 8"/>
          <p:cNvGrpSpPr/>
          <p:nvPr/>
        </p:nvGrpSpPr>
        <p:grpSpPr>
          <a:xfrm>
            <a:off x="5583240" y="3699000"/>
            <a:ext cx="1209600" cy="601920"/>
            <a:chOff x="5583240" y="3699000"/>
            <a:chExt cx="1209600" cy="601920"/>
          </a:xfrm>
        </p:grpSpPr>
        <p:sp>
          <p:nvSpPr>
            <p:cNvPr id="939" name="Text Box 9"/>
            <p:cNvSpPr/>
            <p:nvPr/>
          </p:nvSpPr>
          <p:spPr>
            <a:xfrm>
              <a:off x="5584680" y="3902040"/>
              <a:ext cx="1208160" cy="39888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wt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40" name="Text Box 10"/>
            <p:cNvSpPr/>
            <p:nvPr/>
          </p:nvSpPr>
          <p:spPr>
            <a:xfrm>
              <a:off x="5583240" y="3699000"/>
              <a:ext cx="515880" cy="20916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41" name="Group 11"/>
          <p:cNvGrpSpPr/>
          <p:nvPr/>
        </p:nvGrpSpPr>
        <p:grpSpPr>
          <a:xfrm>
            <a:off x="4451400" y="2852640"/>
            <a:ext cx="1209600" cy="602280"/>
            <a:chOff x="4451400" y="2852640"/>
            <a:chExt cx="1209600" cy="602280"/>
          </a:xfrm>
        </p:grpSpPr>
        <p:sp>
          <p:nvSpPr>
            <p:cNvPr id="942" name="Text Box 12"/>
            <p:cNvSpPr/>
            <p:nvPr/>
          </p:nvSpPr>
          <p:spPr>
            <a:xfrm>
              <a:off x="4452840" y="3056040"/>
              <a:ext cx="1208160" cy="39888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plet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43" name="Text Box 13"/>
            <p:cNvSpPr/>
            <p:nvPr/>
          </p:nvSpPr>
          <p:spPr>
            <a:xfrm>
              <a:off x="4451400" y="2852640"/>
              <a:ext cx="515880" cy="2095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44" name="Group 14"/>
          <p:cNvGrpSpPr/>
          <p:nvPr/>
        </p:nvGrpSpPr>
        <p:grpSpPr>
          <a:xfrm>
            <a:off x="4722840" y="3535200"/>
            <a:ext cx="857160" cy="523800"/>
            <a:chOff x="4722840" y="3535200"/>
            <a:chExt cx="857160" cy="523800"/>
          </a:xfrm>
        </p:grpSpPr>
        <p:sp>
          <p:nvSpPr>
            <p:cNvPr id="945" name="Line 15"/>
            <p:cNvSpPr/>
            <p:nvPr/>
          </p:nvSpPr>
          <p:spPr>
            <a:xfrm>
              <a:off x="4722840" y="3535200"/>
              <a:ext cx="0" cy="523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46" name="Line 16"/>
            <p:cNvSpPr/>
            <p:nvPr/>
          </p:nvSpPr>
          <p:spPr>
            <a:xfrm>
              <a:off x="4722840" y="4059000"/>
              <a:ext cx="85716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947" name="Line 17"/>
          <p:cNvSpPr/>
          <p:nvPr/>
        </p:nvSpPr>
        <p:spPr>
          <a:xfrm>
            <a:off x="5983200" y="4365720"/>
            <a:ext cx="0" cy="6429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8" name="Line 18"/>
          <p:cNvSpPr/>
          <p:nvPr/>
        </p:nvSpPr>
        <p:spPr>
          <a:xfrm>
            <a:off x="5983200" y="5008680"/>
            <a:ext cx="85716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9" name="Text Box 19"/>
          <p:cNvSpPr/>
          <p:nvPr/>
        </p:nvSpPr>
        <p:spPr>
          <a:xfrm>
            <a:off x="746280" y="2748600"/>
            <a:ext cx="1960560" cy="3988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laMundo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0" name="Line 20"/>
          <p:cNvSpPr/>
          <p:nvPr/>
        </p:nvSpPr>
        <p:spPr>
          <a:xfrm flipV="1">
            <a:off x="2706840" y="2998800"/>
            <a:ext cx="1746000" cy="79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74640" y="29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Diagrama de Secuencia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52" name="Picture 3" descr=""/>
          <p:cNvPicPr/>
          <p:nvPr/>
        </p:nvPicPr>
        <p:blipFill>
          <a:blip r:embed="rId1"/>
          <a:stretch/>
        </p:blipFill>
        <p:spPr>
          <a:xfrm>
            <a:off x="1066680" y="1515960"/>
            <a:ext cx="71168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7464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Diagrama de Artefacto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4" name="AutoShape 3"/>
          <p:cNvSpPr/>
          <p:nvPr/>
        </p:nvSpPr>
        <p:spPr>
          <a:xfrm flipV="1">
            <a:off x="7196040" y="345456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5" name="AutoShape 4"/>
          <p:cNvSpPr/>
          <p:nvPr/>
        </p:nvSpPr>
        <p:spPr>
          <a:xfrm flipV="1">
            <a:off x="696960" y="361332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adec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6" name="Text Box 5"/>
          <p:cNvSpPr/>
          <p:nvPr/>
        </p:nvSpPr>
        <p:spPr>
          <a:xfrm>
            <a:off x="7058880" y="29322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la.jav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7" name="Text Box 6"/>
          <p:cNvSpPr/>
          <p:nvPr/>
        </p:nvSpPr>
        <p:spPr>
          <a:xfrm>
            <a:off x="629640" y="467676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la.htm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8" name="Line 7"/>
          <p:cNvSpPr/>
          <p:nvPr/>
        </p:nvSpPr>
        <p:spPr>
          <a:xfrm>
            <a:off x="5715000" y="3780000"/>
            <a:ext cx="144792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9" name="Line 8"/>
          <p:cNvSpPr/>
          <p:nvPr/>
        </p:nvSpPr>
        <p:spPr>
          <a:xfrm flipV="1">
            <a:off x="1644480" y="3767040"/>
            <a:ext cx="1590840" cy="48096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0" name="Line 9"/>
          <p:cNvSpPr/>
          <p:nvPr/>
        </p:nvSpPr>
        <p:spPr>
          <a:xfrm>
            <a:off x="1633680" y="4475160"/>
            <a:ext cx="1523880" cy="9144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1" name="Text Box 10"/>
          <p:cNvSpPr/>
          <p:nvPr/>
        </p:nvSpPr>
        <p:spPr>
          <a:xfrm>
            <a:off x="5322600" y="561672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la.jp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62" name="Picture 11" descr="IMAG0007CASA"/>
          <p:cNvPicPr/>
          <p:nvPr/>
        </p:nvPicPr>
        <p:blipFill>
          <a:blip r:embed="rId1"/>
          <a:stretch/>
        </p:blipFill>
        <p:spPr>
          <a:xfrm>
            <a:off x="3282840" y="5084640"/>
            <a:ext cx="1978200" cy="1608120"/>
          </a:xfrm>
          <a:prstGeom prst="rect">
            <a:avLst/>
          </a:prstGeom>
          <a:ln w="0">
            <a:noFill/>
          </a:ln>
        </p:spPr>
      </p:pic>
      <p:sp>
        <p:nvSpPr>
          <p:cNvPr id="963" name="Line 12"/>
          <p:cNvSpPr/>
          <p:nvPr/>
        </p:nvSpPr>
        <p:spPr>
          <a:xfrm>
            <a:off x="7337520" y="3718080"/>
            <a:ext cx="596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4" name="Line 13"/>
          <p:cNvSpPr/>
          <p:nvPr/>
        </p:nvSpPr>
        <p:spPr>
          <a:xfrm>
            <a:off x="7354800" y="3894120"/>
            <a:ext cx="59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5" name="Line 14"/>
          <p:cNvSpPr/>
          <p:nvPr/>
        </p:nvSpPr>
        <p:spPr>
          <a:xfrm>
            <a:off x="7391520" y="4129200"/>
            <a:ext cx="563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6" name="Line 15"/>
          <p:cNvSpPr/>
          <p:nvPr/>
        </p:nvSpPr>
        <p:spPr>
          <a:xfrm>
            <a:off x="866880" y="4060800"/>
            <a:ext cx="49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7" name="Line 16"/>
          <p:cNvSpPr/>
          <p:nvPr/>
        </p:nvSpPr>
        <p:spPr>
          <a:xfrm>
            <a:off x="885960" y="4202280"/>
            <a:ext cx="49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8" name="Line 17"/>
          <p:cNvSpPr/>
          <p:nvPr/>
        </p:nvSpPr>
        <p:spPr>
          <a:xfrm flipV="1">
            <a:off x="907920" y="4354560"/>
            <a:ext cx="282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69" name="Group 18"/>
          <p:cNvGrpSpPr/>
          <p:nvPr/>
        </p:nvGrpSpPr>
        <p:grpSpPr>
          <a:xfrm>
            <a:off x="3243240" y="3165480"/>
            <a:ext cx="2448000" cy="1197000"/>
            <a:chOff x="3243240" y="3165480"/>
            <a:chExt cx="2448000" cy="1197000"/>
          </a:xfrm>
        </p:grpSpPr>
        <p:sp>
          <p:nvSpPr>
            <p:cNvPr id="970" name="Text Box 19"/>
            <p:cNvSpPr/>
            <p:nvPr/>
          </p:nvSpPr>
          <p:spPr>
            <a:xfrm>
              <a:off x="3243240" y="3165480"/>
              <a:ext cx="2448000" cy="119700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&lt;&lt;artifact&gt;&gt;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HolaMundo.class</a:t>
              </a:r>
              <a:endParaRPr b="0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71" name="Line 20"/>
            <p:cNvSpPr/>
            <p:nvPr/>
          </p:nvSpPr>
          <p:spPr>
            <a:xfrm>
              <a:off x="3365280" y="3177000"/>
              <a:ext cx="0" cy="117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72" name="Line 21"/>
            <p:cNvSpPr/>
            <p:nvPr/>
          </p:nvSpPr>
          <p:spPr>
            <a:xfrm>
              <a:off x="5520600" y="3166560"/>
              <a:ext cx="0" cy="117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973" name="Rectangle 22"/>
          <p:cNvSpPr/>
          <p:nvPr/>
        </p:nvSpPr>
        <p:spPr>
          <a:xfrm>
            <a:off x="3562200" y="1484280"/>
            <a:ext cx="1951200" cy="7128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4" name="Text Box 23"/>
          <p:cNvSpPr/>
          <p:nvPr/>
        </p:nvSpPr>
        <p:spPr>
          <a:xfrm>
            <a:off x="3760920" y="163044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laMundo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5" name="Line 24"/>
          <p:cNvSpPr/>
          <p:nvPr/>
        </p:nvSpPr>
        <p:spPr>
          <a:xfrm flipV="1">
            <a:off x="4375080" y="2198160"/>
            <a:ext cx="11160" cy="963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6" name="Line 25"/>
          <p:cNvSpPr/>
          <p:nvPr/>
        </p:nvSpPr>
        <p:spPr>
          <a:xfrm flipH="1" flipV="1">
            <a:off x="5044680" y="2185920"/>
            <a:ext cx="2181240" cy="144936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7" name="Text Box 26"/>
          <p:cNvSpPr/>
          <p:nvPr/>
        </p:nvSpPr>
        <p:spPr>
          <a:xfrm>
            <a:off x="5819760" y="233208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lt;&lt;manifest&gt;&g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8" name="Text Box 27"/>
          <p:cNvSpPr/>
          <p:nvPr/>
        </p:nvSpPr>
        <p:spPr>
          <a:xfrm>
            <a:off x="2649600" y="245124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lt;&lt;manifest&gt;&gt;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73200" y="172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Ventajas de la unificación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74640" y="1631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unir los puntos fuertes de cada méto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dear nuevas mej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porcionar estabilidad al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yectos basados en un lenguaje mad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arición de potentes herram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iminar confusión en los usu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4944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Objetivos en el diseño de UML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74280" y="1480680"/>
            <a:ext cx="751068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odelar sistem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desde los requisitos hasta los artefactos ejecutables desplegados en nodos, utilizando técnicas 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brir las cuestiones relacionadas con el tamaño propias de los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stemas complej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rític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nguaje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utilizab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or las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erson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las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máqu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contrar equilibrio entre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expresiv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simplic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9516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ff"/>
                </a:solidFill>
                <a:latin typeface="Arial"/>
              </a:rPr>
              <a:t>Modelado del Software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modelado es el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nálisi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iseñ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aplicaciones software antes de escribir el códi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crean un conjunto de modelos (“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lanos de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”) que permiten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specific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spectos del sistema como los requisitos, la estructura y el comport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52c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model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ayudan a razon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obre 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vorecen la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en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document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as deci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552c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en una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eneración automática de cód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60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ff"/>
                </a:solidFill>
                <a:latin typeface="Arial"/>
              </a:rPr>
              <a:t>Modelos en otras áreas</a:t>
            </a: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04" name="Picture 3" descr="adn"/>
          <p:cNvPicPr/>
          <p:nvPr/>
        </p:nvPicPr>
        <p:blipFill>
          <a:blip r:embed="rId1"/>
          <a:stretch/>
        </p:blipFill>
        <p:spPr>
          <a:xfrm>
            <a:off x="426960" y="1523880"/>
            <a:ext cx="1629000" cy="44085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circuito2"/>
          <p:cNvPicPr/>
          <p:nvPr/>
        </p:nvPicPr>
        <p:blipFill>
          <a:blip r:embed="rId2"/>
          <a:stretch/>
        </p:blipFill>
        <p:spPr>
          <a:xfrm>
            <a:off x="2584440" y="1741320"/>
            <a:ext cx="6405480" cy="41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2:00:33Z</dcterms:created>
  <dc:creator>Pablo Turmero</dc:creator>
  <dc:description/>
  <dc:language>en-US</dc:language>
  <cp:lastModifiedBy>Pablo Turmero</cp:lastModifiedBy>
  <dcterms:modified xsi:type="dcterms:W3CDTF">2017-10-05T16:45:30Z</dcterms:modified>
  <cp:revision>313</cp:revision>
  <dc:subject/>
  <dc:title>Introducción al modelado del softw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