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1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45FD-93B8-4E5F-B4FC-6381CAC24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996D-7236-43CA-B09B-3C2B857D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70F2E-33B0-425A-A227-BEEA4663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85F03-7CB5-4104-BDA3-ADAD860A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32BCF-DD83-4ED8-BA7A-88426AB7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4C4702-6683-49B4-8AAE-13376C8F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768D2-21B4-4AE1-A3E6-1C9D81EC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1EBD5-F3A4-453A-B4D6-C55C3F9B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9D58C-F086-4853-BD3D-218ED739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A471F-0801-46D2-A955-5C846B8C5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FBC0C-AB3A-41BC-A75A-5A59A0C0A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EB068B-C7EA-447A-A1AD-96C1DD70A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7682-7CE2-48A4-9C48-9DD4C7D89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7549B-1245-4412-9AF9-1B9AAB84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4DED7-71F6-4B5C-85C4-682309A2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87B94B-63D0-47AE-91B2-2E88018F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5D84D-40ED-4DF6-BAB5-1526ACF0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55EC6-7160-4A02-ABE6-9F866E31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DD5F66-8BF1-4879-B519-D38A4EAC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A4AE29-B76F-42B3-B564-3DF5C6A9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7E1A9A-3CCF-4BA4-B2B7-71EDAFE8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99BBC5-E735-4CA9-B3BE-4FC23E9C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86F619-A17E-4A05-A551-B7983641C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F0B0-7309-464E-9484-11B4B57C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A8552-7AF1-4FCC-A654-AC47377B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61D3F-DCB4-4CD9-8B5C-84F89770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52589-7BCE-4B9A-A6C7-776B4A1B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28873-3764-4ED5-98F6-343D9EDE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62AE6-CCD1-4B1A-9651-26A9C262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2373F-5043-4436-B56D-1B8A8E55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8F4DB-F707-4879-9E0F-720433EE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F5114-FAB9-4712-931F-E1BCC54D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44553-33D5-4852-8D36-E46E7EC0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55870-5980-4904-AB0D-EF8C3E5C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742E-112C-4809-8BB0-96CAB743B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D5EAE-063B-4A55-A1DF-D42C89BB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347FF-C6ED-409E-8AF4-54F1D9347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4EEEF-3907-4EC6-9C40-967D8D0A9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890E68-EA2D-47A6-BF38-B9EB00715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229901-0AB2-4B15-8908-271E86CC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399F29-81DC-42F2-9C07-877A1F49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6588B8-0BB8-47FF-BB44-C90F58A3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A826AA-BBA5-4A75-B180-2756DA0A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F46D99-4430-4110-A481-97EAED39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6442A3-6618-4485-993D-A25F8721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9F37-536A-4106-9DE0-C55A6F84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0D6F00-5C8D-415B-89F4-BAEF9418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252AF6-846F-40D9-9F39-66565D87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9511A6-7318-4DC5-96C9-1EB88A75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65DF5F-9E62-4C4C-9106-63B03F391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D95E6E-6E7C-4122-8AAB-3F8DB80C1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3FED-319D-41E3-916C-864ECFDC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1B36-9D10-41D3-A1E8-F9C77E36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ABFB-5F5D-4F5F-8ACE-AA786381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8D1AA-3C3D-4FFC-AB34-772B6FB2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BB3E-C4BE-40D4-95AD-475C7E54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3BE4-A1D4-4704-AEE3-400458FE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6B18-59D7-4688-AD64-9F7D5D26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6470-CC0D-49B5-B913-81DB92E7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D851-D94D-4310-8522-F155FDE5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609D-A4C8-4490-9DAA-6DAB272FE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D148-4441-4C77-BAB0-F3FF6B50C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D3DE6-9EE2-4104-A715-581FD9596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E6C9F-8AD9-4DE1-B5C8-A7C8E516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12EDF-53E0-4B6B-BDD9-F709A3B4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2B7DC-F3FE-4FAE-8119-497B0AC9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9BA31-2D10-4CF8-BD7C-C551AE4B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84EA-A4CE-4884-8EF0-C3A11826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259F1-2873-47E9-B46A-85D870A5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0D7E9-9B97-4D49-AE8F-0CD90C3E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8411A-10AA-4C5A-A511-7227D64C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D5C7D-FF60-4C30-B6B4-275A2F62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CF0BB-9412-46BA-B931-FEF06ED5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33C6A-2975-49CB-B26B-4E67D4B1A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3CAB4-3F57-4949-A02B-D9FC2E98B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E8D02-BAC0-40E4-A79B-EC2D5F3FD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0C564-6A09-4A61-86C5-05A674BB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FED11-2598-4610-A4A9-D4D4A453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E390-57B4-41D5-ABAD-C64FA976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A3BB1-C47A-4C9B-84E8-BB43D212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8D3B6-5EDB-4099-9D30-6B8A2EA5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587A9-292E-476C-B33C-B8CD47CA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FA753-53BB-4ED1-93C1-7B6C5642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BE895-B01C-4433-9E91-8D5137D8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52FE7-887D-43EE-AF46-DE610B63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84B28-FE37-459E-9D18-68BEF0A4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49EFC-9F77-4F18-A974-A9D7E0C99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6D5B3-5EFA-47A7-8B48-A43908CA3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D7B84-F00D-4423-82A1-D047601A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FEDC-C24C-45F6-BA08-C8167E2B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7352F-F464-414E-93CF-BA659B05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EF203-4313-46CE-A4FD-3709FEE1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82EE9-03E9-424C-AA51-B995C604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7760F-3B23-40E3-A779-292F1CAD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7A265-B918-499A-BDDE-75759E7E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9A00A-DD48-4027-9C93-A2A83EDE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F286D-992D-4741-907B-B89512C2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1EE76-2CC1-4DA7-82D8-ABD40F85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5B357-A36C-4C40-88D4-800A3069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C8C5D-2AF5-4C6C-8F36-4B4047A5B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6132-3C79-463B-8BCA-A0CF0990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A3524-BCBE-4072-B40E-E082C24F4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2975C-A22E-4649-856C-C4EA73AAF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18575-769C-4507-86DE-B6391359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820F3-D924-4B59-B52A-FB906491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FC8DC-B1C1-4E8A-97D2-7D029B7A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F3BE2-D399-4E87-9669-F095DF49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583A9-EE2F-4E1C-AC46-0791F6EB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BC6E6-5DA0-4D9F-9DF5-3A40F688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D70AA-83C2-40D9-90A7-F6EA9E10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275C5-2DCD-4C30-8435-52024567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0B9F-D86D-4A15-A60D-A5E5C2CF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D3B8C-B500-416B-8A53-D4758CAD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73693-C81B-42E3-8202-97229FB98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3DFCE-2779-4902-90F5-438ABF0F7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68ECD-ACFD-4FB5-BA85-6D00F3CAF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44CDE-35EF-48CA-A0BD-7BBDC879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6258A-9EDC-4AD4-9AC2-B55EC63B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133EF-625C-4A49-B01E-E80171FB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F7390-3A3E-40CD-9658-99DDFBDB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6BC80-F06F-4303-846D-CD84CEC5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5CE4D-9020-47AB-821D-94756F15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C649-6AE0-4DEB-990D-98F5C2E8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69B28-CB68-475F-9688-DDEBB75E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1FBFD-E87F-48DE-86B8-DE387F1E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DB8C6-370F-4CE8-8DA9-23E6ADDD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A41A3-D312-44F4-85E6-8C5E8F65E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3E89A-A8DF-4624-93B9-7A5B1E929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ADED3-48A0-40EB-AE87-C57A04A59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40D23-465C-4158-BACD-AB93C68E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BFE79-E893-439D-9814-D38B74F9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24A3C-1933-49D1-B8EB-520D8DEE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8C73F-4CD4-4FBF-B0F2-F874C376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AAFC-D3C5-4F33-984E-3B2C3F73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2AFC8-9B10-4ABD-8D45-BB731C12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1E817-252F-4823-A84D-E912F22D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35A30-8598-4599-ACF6-28FB496B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7FB77-CDDF-4AF7-8347-04E4B96D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9136E-B933-4EFD-9DE5-A8D52662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3B891-4B5E-40D3-AD42-6D1A6693B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C1268-DA37-4553-B368-AB2FBD3BC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F2E1C-A85D-4666-80D9-93013E1C5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3987C5-3534-4C78-81B4-7E81C2D8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2421F-F955-49D8-97C8-C50C5DB2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BE3C-32D2-4C76-8965-D4A45954F17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720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© O. Coltell, M. Arregui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238880" y="64720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utorial UML y PU: </a:t>
            </a:r>
            <a:fld id="{4CA5C47F-8402-4404-8CF1-00811D3D2A02}" type="slidenum">
              <a:rPr b="1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/1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" name="Object 9"/>
          <p:cNvGraphicFramePr/>
          <p:nvPr/>
        </p:nvGraphicFramePr>
        <p:xfrm>
          <a:off x="0" y="0"/>
          <a:ext cx="598320" cy="709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59832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" name="Picture 10" descr="E:\Archivos de Congresos\#_2002\2002-Congres Iberamia 2002\Iberamia-BEIA Programa\logoiris.jpg"/>
          <p:cNvPicPr/>
          <p:nvPr/>
        </p:nvPicPr>
        <p:blipFill>
          <a:blip r:embed="rId5"/>
          <a:stretch/>
        </p:blipFill>
        <p:spPr>
          <a:xfrm>
            <a:off x="8381880" y="0"/>
            <a:ext cx="762120" cy="561960"/>
          </a:xfrm>
          <a:prstGeom prst="rect">
            <a:avLst/>
          </a:prstGeom>
          <a:ln w="0">
            <a:noFill/>
          </a:ln>
        </p:spPr>
      </p:pic>
      <p:sp>
        <p:nvSpPr>
          <p:cNvPr id="10" name="Line 11"/>
          <p:cNvSpPr/>
          <p:nvPr/>
        </p:nvSpPr>
        <p:spPr>
          <a:xfrm>
            <a:off x="0" y="6459480"/>
            <a:ext cx="9144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7422-4A26-48F8-878A-3F8A5BE7D55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7859-98D5-40E2-9D63-ABCB78CB56D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2FEA-57FC-4793-AE8F-C3A832B5BB3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B0D7-FD36-4001-817B-E11EA010C8F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58FD-A04D-4615-A67A-11D71623962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254D-E7B5-4A52-AE4D-6A9BB65BBF9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C02B-DA4C-4A64-A269-C307D58C7E5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E7F3-4C79-498F-8257-42836B9D7D6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73AB-2587-49D5-BB05-1A54A92944E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E2B5-CBB0-4F65-A543-B840FAC522B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7666-0F0A-4B60-AF6E-80CA76AF9F7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26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Introducción al Proceso Unific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390600"/>
            <a:ext cx="828684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l Proceso Unific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60344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El RUP es un proceso itera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n enfoque iterativo propone una comprensión incremental del problema a través de refinamientos sucesivos y un crecimiento incremental de una solución efectiva a través de varias vers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o parte del enfoque iterativo se encuentra la flexibilidad para acomodarse a nuevos requisitos o a cambios tácticos en los objetivos del nego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rmite que el proyecto identifique y resuelva los riesgos más bien pronto que tar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390600"/>
            <a:ext cx="828684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l Proceso Unific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755360"/>
            <a:ext cx="777240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pectos del R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desarrollo bajo el Proceso Unificado está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entrado en la arquitec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proceso se centra en establecer al principio una arquitectura software que guía el desarrollo del siste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 facilita el desarrollo en parale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 minimiza la repetición de trabaj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 incrementa la probabilidad de reutilización de componentes y el mantenimiento posterior del sist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e diseño arquitectónico sirve como una sólida base sobre la cual se puede planificar y manejar el desarrollo de software basado en compon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390600"/>
            <a:ext cx="828684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l Proceso Unific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04960"/>
            <a:ext cx="77724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pectos del R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s actividades de desarrollo bajo el Proceso Unificado están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irigidas por los casos de u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Proceso Unificado pone un gran énfasis en la construcción de sistemas basada en una amplia comprensión de cómo se utilizará el sistema que se entreg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s nociones de los casos de uso y los escenarios se utilizan para guiar el flujo de procesos desde la captura de los requisitos hasta las pruebas, y para proporcionar caminos que se pueden reproducir durante el desarrollo del sist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390600"/>
            <a:ext cx="828684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l Proceso Unific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743120"/>
            <a:ext cx="77724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pectos del R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Proceso Unificado e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un proceso configur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unque un único proceso no es adecuado para todas las organizaciones de desarrollo de software, el Proceso Unificado es adaptable y puede configurarse para cubrir las necesidades de proyectos que van desde pequeños equipos de desarrollo de software hasta grandes empresas de desarrol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ambién se basa en una arquitectura de proceso simple y clara, que proporciona un marco común a toda una familia de procesos y que, además, puede variarse para acomodarse a distintas situ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390600"/>
            <a:ext cx="828684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l Proceso Unific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666800"/>
            <a:ext cx="77724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pectos del RU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Proceso Unificad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porta las técnicas orientadas a obje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s modelos del Proceso Unificado se basan en los conceptos de objeto y clase y las relaciones entre ellos, y utilizan UML como la notación comú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390600"/>
            <a:ext cx="828684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l Proceso Unific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679040"/>
            <a:ext cx="7772400" cy="437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pectos del R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Proceso Unificado e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mpulsa un control de calidad y una gestión del riesgo objetivos y continu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evaluación de la calidad va contenida en el proceso, en todas las actividades, e implicando a todos los participantes, mediante medidas y criterios objetivos. No se trata como algo a posteriori o una actividad separ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gestión del riesgo va contenida en el proceso, de manera que los riesgos para el éxito del proyecto se identifican y se acometen al principio del proceso de desarrollo, cuando todavía hay tiempo de reaccion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6840" y="390600"/>
            <a:ext cx="828684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l Proceso Unific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895040"/>
            <a:ext cx="777240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Proceso Unificado tiene una estructura matricial donde se relacionan esfuerzos y tiemp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tiempos están definidos por las fases y las iter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esfuerzos están definidos por los flujos de trabajo del proceso y de sopor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representación gráfica se denomina en la jerga el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agrama de Montañ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3"/>
          <p:cNvSpPr/>
          <p:nvPr/>
        </p:nvSpPr>
        <p:spPr>
          <a:xfrm>
            <a:off x="243828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800280" y="1523880"/>
            <a:ext cx="7543800" cy="444528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4"/>
          <p:cNvSpPr/>
          <p:nvPr/>
        </p:nvSpPr>
        <p:spPr>
          <a:xfrm>
            <a:off x="1491480" y="457200"/>
            <a:ext cx="61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El ciclo de vida del desarrollo del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390600"/>
            <a:ext cx="828684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l Proceso Unific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 esta estructura matricial se puede deducir qu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s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e los flujos de trabajo de proceso son lo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conjunción de tiempo (fases) y esfuerzos (flujos de trabajo) da lugar a las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er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conjunción de resultados (modelos) y esfuerzos (flujos de trabajo) da lugar a los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ipos de mode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conjunción de tiempo (fases) y resultados (modelos) da lugar a las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ers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390600"/>
            <a:ext cx="828684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l Proceso Unific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 puede representar esta estructura conceptual (metamodelo) mediante una figura tridimensional don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je X: Fases </a:t>
            </a:r>
            <a:r>
              <a:rPr b="1" i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je Y: Flujos de trabajo </a:t>
            </a:r>
            <a:r>
              <a:rPr b="1" i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sfuerz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je Z: Modelos </a:t>
            </a:r>
            <a:r>
              <a:rPr b="1" i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772400" cy="44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5120" indent="-1951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ir los aspectos generales del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o Unificado de Rational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RUP), también denominado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o Unificado de Desarrollo de Softwar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SDUP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sociar las fases de un proyecto de software con las fases del RUP y el ciclo de vida del desarrollo del soft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esentar los artefactos fundamentales del Proceso Unifi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AutoShape 2"/>
          <p:cNvSpPr/>
          <p:nvPr/>
        </p:nvSpPr>
        <p:spPr>
          <a:xfrm flipV="1" rot="5400000">
            <a:off x="2362320" y="1523880"/>
            <a:ext cx="4419360" cy="3810240"/>
          </a:xfrm>
          <a:prstGeom prst="cube">
            <a:avLst>
              <a:gd name="adj" fmla="val 25000"/>
            </a:avLst>
          </a:pr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3"/>
          <p:cNvSpPr/>
          <p:nvPr/>
        </p:nvSpPr>
        <p:spPr>
          <a:xfrm flipV="1">
            <a:off x="3621240" y="67608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5"/>
          <p:cNvSpPr/>
          <p:nvPr/>
        </p:nvSpPr>
        <p:spPr>
          <a:xfrm>
            <a:off x="6199200" y="46879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6"/>
          <p:cNvSpPr/>
          <p:nvPr/>
        </p:nvSpPr>
        <p:spPr>
          <a:xfrm flipH="1">
            <a:off x="2444400" y="5448240"/>
            <a:ext cx="414360" cy="4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7"/>
          <p:cNvSpPr/>
          <p:nvPr/>
        </p:nvSpPr>
        <p:spPr>
          <a:xfrm>
            <a:off x="3828600" y="687240"/>
            <a:ext cx="14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Z: Mod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6518880" y="476712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X: F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9"/>
          <p:cNvSpPr/>
          <p:nvPr/>
        </p:nvSpPr>
        <p:spPr>
          <a:xfrm>
            <a:off x="1016280" y="5248440"/>
            <a:ext cx="140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Y: Flujos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de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0"/>
          <p:cNvSpPr/>
          <p:nvPr/>
        </p:nvSpPr>
        <p:spPr>
          <a:xfrm flipV="1">
            <a:off x="3147840" y="5149440"/>
            <a:ext cx="1597320" cy="46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11"/>
          <p:cNvSpPr/>
          <p:nvPr/>
        </p:nvSpPr>
        <p:spPr>
          <a:xfrm flipV="1">
            <a:off x="4726080" y="4687560"/>
            <a:ext cx="568080" cy="461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12"/>
          <p:cNvSpPr/>
          <p:nvPr/>
        </p:nvSpPr>
        <p:spPr>
          <a:xfrm>
            <a:off x="4695840" y="5072040"/>
            <a:ext cx="138240" cy="147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3"/>
          <p:cNvSpPr/>
          <p:nvPr/>
        </p:nvSpPr>
        <p:spPr>
          <a:xfrm>
            <a:off x="5745960" y="5657760"/>
            <a:ext cx="199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,y): iter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3" name="AutoShape 15"/>
          <p:cNvCxnSpPr>
            <a:stCxn id="552" idx="1"/>
            <a:endCxn id="551" idx="5"/>
          </p:cNvCxnSpPr>
          <p:nvPr/>
        </p:nvCxnSpPr>
        <p:spPr>
          <a:xfrm flipH="1" flipV="1">
            <a:off x="4812840" y="5196960"/>
            <a:ext cx="937440" cy="65952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554" name="Line 16"/>
          <p:cNvSpPr/>
          <p:nvPr/>
        </p:nvSpPr>
        <p:spPr>
          <a:xfrm>
            <a:off x="3610080" y="2676600"/>
            <a:ext cx="16858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17"/>
          <p:cNvSpPr/>
          <p:nvPr/>
        </p:nvSpPr>
        <p:spPr>
          <a:xfrm flipV="1">
            <a:off x="5286240" y="2685600"/>
            <a:ext cx="0" cy="2000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al 18"/>
          <p:cNvSpPr/>
          <p:nvPr/>
        </p:nvSpPr>
        <p:spPr>
          <a:xfrm>
            <a:off x="5219640" y="2633760"/>
            <a:ext cx="138240" cy="147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9"/>
          <p:cNvSpPr/>
          <p:nvPr/>
        </p:nvSpPr>
        <p:spPr>
          <a:xfrm>
            <a:off x="6718320" y="99072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,z): ver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8" name="AutoShape 20"/>
          <p:cNvCxnSpPr>
            <a:stCxn id="557" idx="1"/>
            <a:endCxn id="556" idx="6"/>
          </p:cNvCxnSpPr>
          <p:nvPr/>
        </p:nvCxnSpPr>
        <p:spPr>
          <a:xfrm flipH="1">
            <a:off x="5357520" y="1189080"/>
            <a:ext cx="1364400" cy="151992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559" name="Text Box 21"/>
          <p:cNvSpPr/>
          <p:nvPr/>
        </p:nvSpPr>
        <p:spPr>
          <a:xfrm>
            <a:off x="269640" y="2666880"/>
            <a:ext cx="164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y,z): tipos de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mod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0" name="AutoShape 22"/>
          <p:cNvCxnSpPr>
            <a:stCxn id="559" idx="3"/>
            <a:endCxn id="561" idx="1"/>
          </p:cNvCxnSpPr>
          <p:nvPr/>
        </p:nvCxnSpPr>
        <p:spPr>
          <a:xfrm>
            <a:off x="1914120" y="3017880"/>
            <a:ext cx="1173960" cy="24840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562" name="Line 23"/>
          <p:cNvSpPr/>
          <p:nvPr/>
        </p:nvSpPr>
        <p:spPr>
          <a:xfrm flipV="1">
            <a:off x="3152880" y="3286080"/>
            <a:ext cx="0" cy="18669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24"/>
          <p:cNvSpPr/>
          <p:nvPr/>
        </p:nvSpPr>
        <p:spPr>
          <a:xfrm flipV="1">
            <a:off x="3133800" y="2676600"/>
            <a:ext cx="485640" cy="6285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25"/>
          <p:cNvSpPr/>
          <p:nvPr/>
        </p:nvSpPr>
        <p:spPr>
          <a:xfrm>
            <a:off x="3067200" y="3243240"/>
            <a:ext cx="137880" cy="147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26"/>
          <p:cNvSpPr/>
          <p:nvPr/>
        </p:nvSpPr>
        <p:spPr>
          <a:xfrm>
            <a:off x="6486840" y="435924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27"/>
          <p:cNvSpPr/>
          <p:nvPr/>
        </p:nvSpPr>
        <p:spPr>
          <a:xfrm>
            <a:off x="2471760" y="83196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8"/>
          <p:cNvSpPr/>
          <p:nvPr/>
        </p:nvSpPr>
        <p:spPr>
          <a:xfrm>
            <a:off x="2621520" y="56419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sfuerz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30"/>
          <p:cNvSpPr/>
          <p:nvPr/>
        </p:nvSpPr>
        <p:spPr>
          <a:xfrm>
            <a:off x="3111480" y="3340080"/>
            <a:ext cx="163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31"/>
          <p:cNvSpPr/>
          <p:nvPr/>
        </p:nvSpPr>
        <p:spPr>
          <a:xfrm flipH="1">
            <a:off x="4749480" y="2717640"/>
            <a:ext cx="54612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32"/>
          <p:cNvSpPr/>
          <p:nvPr/>
        </p:nvSpPr>
        <p:spPr>
          <a:xfrm flipV="1">
            <a:off x="4749840" y="3352680"/>
            <a:ext cx="0" cy="180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33"/>
          <p:cNvSpPr/>
          <p:nvPr/>
        </p:nvSpPr>
        <p:spPr>
          <a:xfrm>
            <a:off x="4622760" y="3238560"/>
            <a:ext cx="254160" cy="241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34"/>
          <p:cNvSpPr/>
          <p:nvPr/>
        </p:nvSpPr>
        <p:spPr>
          <a:xfrm flipH="1">
            <a:off x="4838760" y="2603520"/>
            <a:ext cx="199368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35"/>
          <p:cNvSpPr/>
          <p:nvPr/>
        </p:nvSpPr>
        <p:spPr>
          <a:xfrm>
            <a:off x="6913080" y="2252520"/>
            <a:ext cx="201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 Black"/>
              </a:rPr>
              <a:t>X,Y,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 Black"/>
              </a:rPr>
              <a:t>Configuraciones</a:t>
            </a:r>
            <a:br>
              <a:rPr sz="2000"/>
            </a:br>
            <a:r>
              <a:rPr b="0" i="1" lang="es-ES" sz="2000" spc="-1" strike="noStrike">
                <a:solidFill>
                  <a:srgbClr val="000000"/>
                </a:solidFill>
                <a:latin typeface="Arial Black"/>
              </a:rPr>
              <a:t>del sis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39060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Fases del cic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612440"/>
            <a:ext cx="777240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as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es el intervalo de tiempo entre dos hitos importantes del proceso durante el que se cumple un conjunto bien definido de objetivos, se completan artefactos y se toman decisiones sobre si pasar o no a la siguiente f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ntro de cada fase hay varias ite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er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representa un ciclo de desarrollo completo, desde la captura de requisitos en el análisis hasta la implementación y pruebas, que produce como resultado la entrega al cliente o la salida al mercado de un proyecto ejecu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37620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Fases del cic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ici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establece la planificación del proyecto y se delimita su alc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analiza el dominio del problema, se establece una base arquitectónica sólida, se desarrolla el plan del proyecto y se eliminan los elementos de más alto riesgo del proye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uc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desarrolla de forma iterativa e incremental un producto completo que está preparado para la transición hacia la comunidad de usu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nsi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software se despliega en la comunidad de usuarios.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3"/>
          <p:cNvSpPr/>
          <p:nvPr/>
        </p:nvSpPr>
        <p:spPr>
          <a:xfrm>
            <a:off x="245268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2" descr=""/>
          <p:cNvPicPr/>
          <p:nvPr/>
        </p:nvPicPr>
        <p:blipFill>
          <a:blip r:embed="rId1"/>
          <a:stretch/>
        </p:blipFill>
        <p:spPr>
          <a:xfrm>
            <a:off x="1335240" y="1073160"/>
            <a:ext cx="6802200" cy="516564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4"/>
          <p:cNvSpPr/>
          <p:nvPr/>
        </p:nvSpPr>
        <p:spPr>
          <a:xfrm>
            <a:off x="1129680" y="457200"/>
            <a:ext cx="68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Las iteraciones son distintas en el ciclo de vi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39060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Fases del cic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688760"/>
            <a:ext cx="77724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da iteración pasa a través de varios flujos de trabajo del proceso, aunque con un énfasis diferente en cada uno de ellos, dependiendo de la fase en que se encuent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urante la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ici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el interés se orienta hacia el análisis y el dise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ambién durante la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urante la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uc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la actividad central es la implement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ansi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e centra en desplieg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Flujos de trabaj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595520"/>
            <a:ext cx="77724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s esfuerzos aplicados en el ciclo de vida de desarrollo son de dos tip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lujos de trabajo del proces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junto de actividades fundamentalmente técn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lujos de trabajo de soport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junto de actividades fundamentalmente de gest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Flujos de trabaj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76400"/>
            <a:ext cx="77724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delado del negoc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describe la estructura y la dinámica de l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quisit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describe el método basado en casos de uso para extraer los requisi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álisis y diseñ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describe las diferentes vistas arquitectón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mplement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tiene en cuenta el desarrollo de software, la prueba de unidades y la integ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ueb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describe los casos de pruebas, los procedimientos y las métricas para evaluación de defec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spliegu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cubre la configuración del sistema entreg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945000" y="1231920"/>
            <a:ext cx="44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 Black"/>
                <a:ea typeface="Times New Roman"/>
              </a:rPr>
              <a:t>Flujos de trabajo del proces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94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Flujos de trabaj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2557080"/>
            <a:ext cx="7772400" cy="27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stión de configuracion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controla los cambios y mantiene la integridad de los artefactos de un proye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stión del Proyect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describe varias estrategias de trabajo en un proceso itera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torn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cubre la infraestructura necesaria para desarrollar un sist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4"/>
          <p:cNvSpPr/>
          <p:nvPr/>
        </p:nvSpPr>
        <p:spPr>
          <a:xfrm>
            <a:off x="1008720" y="1495440"/>
            <a:ext cx="43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 Black"/>
                <a:ea typeface="Times New Roman"/>
              </a:rPr>
              <a:t>Flujos de trabajo de sopor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243828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3" descr=""/>
          <p:cNvPicPr/>
          <p:nvPr/>
        </p:nvPicPr>
        <p:blipFill>
          <a:blip r:embed="rId1"/>
          <a:stretch/>
        </p:blipFill>
        <p:spPr>
          <a:xfrm>
            <a:off x="800280" y="1328760"/>
            <a:ext cx="7873920" cy="464040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4"/>
          <p:cNvSpPr/>
          <p:nvPr/>
        </p:nvSpPr>
        <p:spPr>
          <a:xfrm>
            <a:off x="1450440" y="457200"/>
            <a:ext cx="62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El ciclo de vida del desarrollo del softw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Flu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6"/>
          <p:cNvSpPr/>
          <p:nvPr/>
        </p:nvSpPr>
        <p:spPr>
          <a:xfrm>
            <a:off x="762120" y="4064040"/>
            <a:ext cx="8089920" cy="14349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7"/>
          <p:cNvSpPr/>
          <p:nvPr/>
        </p:nvSpPr>
        <p:spPr>
          <a:xfrm>
            <a:off x="787320" y="1257480"/>
            <a:ext cx="8001000" cy="2768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294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ipos de resul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474560"/>
            <a:ext cx="77724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n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s una abstracción de la realidad o de un sistema real tomando los elementos más representativos con un propósito determin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 un mismo sistema puede haber más de un modelo, porque, según el propósito del mismo, los elementos representativos pueden ser disti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s elementos a considerar en la construcción de modelos son: supuestos, simplificaciones, limitaciones o restricciones y p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390600"/>
            <a:ext cx="828684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onceptos fundament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539360"/>
            <a:ext cx="7772400" cy="451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 un marco de trabajo común compuesto por actividades de trabajo (conjuntos de tareas, hitos, productos y puntos de garantía de calidad) y actividades de protección (garantía de calidad, gestión de configuración y medición) (Pressman 200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 el resultado previsto y consistente del proce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294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ipos de resul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474560"/>
            <a:ext cx="77724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29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upuest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n elementos para la construcción de modelos que reducen el número de permutaciones y variaciones posibles, permitiendo al modelo reflejar el problema de manera razon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mplificacion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n elementos para la construcción de modelos que permiten crear el modelo a ti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imitacion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striccion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n elementos para la construcción de modelos que ayudan a delimitar el probl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ferenci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n elementos para la construcción de modelos que indican la arquitectura preferida para toda la información, funciones y tecnolog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ueden tener conflictos con otros factores restric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 recomendable tenerlas en cuenta para obtener un resultado aceptado, además de corr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94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ipos de resul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474560"/>
            <a:ext cx="77724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n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objet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orientado a objet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s una abstracción de un sistema informático orientado a objetos real que tiene un propósito determin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gún el propósito final, el mismo sistema puede tener distintos mode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n embargo, cualquiera de los modelos se construye con el mismo conjunto de elementos para representar las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piedades estátic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structura) y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námic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comportamiento) tanto del sistema como de las entidades que lo compo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294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ipos de resul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474560"/>
            <a:ext cx="77724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da actividad del Proceso Unificado lleva algunos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rtefact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soci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unos artefac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95280" indent="-533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utilizan como entradas directas en las actividades sigui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95280" indent="-533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mantienen como recursos de referencia en el proye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95280" indent="-533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generan en algún formato específico, en forma de entregas definidas en el contr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tos artefactos son adicionales a los que proporciona el propio UM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95280" indent="-533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modelos y los conju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294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ipos de resul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474560"/>
            <a:ext cx="77724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s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on el tipo de artefacto más importante en el Proceso Unifi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ituyen el tercer eje del metamodelo 3-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tipos de resultados obtenidos con los distintos esfuerzos a lo largo de las fases del cic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a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uev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modelos que en conjunto cubren todas las decisiones importantes implicadas en la visualización, especificación, construcción y documentación de un sistema con gran cantidad de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294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ipos de resul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614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l negoci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establece una abstracción de la organiza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l domini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establece el contexto del sistem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casos de us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establece los requisitos funcionales del sistem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análisi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opcional): establece un diseño de las id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diseñ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establece el vocabulario del problema y su solu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l proces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opcional): establece los mecanismos de concurrencia y sincronización del sist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despliegu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establece la topología hardware sobre la cual se ejecutará el sist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implement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establece las partes que se utilizarán para ensamblar y hacer disponible el sistema fís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prueb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establece las formas de validar y verificar el sist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936720" y="1111320"/>
            <a:ext cx="39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 Black"/>
                <a:ea typeface="Times New Roman"/>
              </a:rPr>
              <a:t>Modelos del Proceso Unificad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17"/>
          <p:cNvGrpSpPr/>
          <p:nvPr/>
        </p:nvGrpSpPr>
        <p:grpSpPr>
          <a:xfrm>
            <a:off x="166680" y="1266840"/>
            <a:ext cx="522000" cy="649080"/>
            <a:chOff x="166680" y="1266840"/>
            <a:chExt cx="522000" cy="649080"/>
          </a:xfrm>
        </p:grpSpPr>
        <p:sp>
          <p:nvSpPr>
            <p:cNvPr id="609" name="Oval 12"/>
            <p:cNvSpPr/>
            <p:nvPr/>
          </p:nvSpPr>
          <p:spPr>
            <a:xfrm>
              <a:off x="306360" y="1266840"/>
              <a:ext cx="269280" cy="23544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13"/>
            <p:cNvSpPr/>
            <p:nvPr/>
          </p:nvSpPr>
          <p:spPr>
            <a:xfrm>
              <a:off x="433800" y="1487160"/>
              <a:ext cx="2160" cy="19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14"/>
            <p:cNvSpPr/>
            <p:nvPr/>
          </p:nvSpPr>
          <p:spPr>
            <a:xfrm>
              <a:off x="236880" y="1541160"/>
              <a:ext cx="3816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15"/>
            <p:cNvSpPr/>
            <p:nvPr/>
          </p:nvSpPr>
          <p:spPr>
            <a:xfrm>
              <a:off x="166680" y="1683360"/>
              <a:ext cx="522000" cy="23256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0" y="18"/>
                  </a:moveTo>
                  <a:lnTo>
                    <a:pt x="19" y="0"/>
                  </a:lnTo>
                  <a:lnTo>
                    <a:pt x="37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Rectangle 3"/>
          <p:cNvSpPr/>
          <p:nvPr/>
        </p:nvSpPr>
        <p:spPr>
          <a:xfrm>
            <a:off x="1095480" y="1295280"/>
            <a:ext cx="1590480" cy="91440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de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s de U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1657440" y="3191040"/>
            <a:ext cx="1590480" cy="91440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de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áli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3381480" y="3772080"/>
            <a:ext cx="1590480" cy="91440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de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5114880" y="4467240"/>
            <a:ext cx="1590840" cy="91440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de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plie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10"/>
          <p:cNvSpPr/>
          <p:nvPr/>
        </p:nvSpPr>
        <p:spPr>
          <a:xfrm>
            <a:off x="6891480" y="5219640"/>
            <a:ext cx="1904760" cy="91440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de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11"/>
          <p:cNvSpPr/>
          <p:nvPr/>
        </p:nvSpPr>
        <p:spPr>
          <a:xfrm>
            <a:off x="7343640" y="2676600"/>
            <a:ext cx="1590840" cy="91440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de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ue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9" name="AutoShape 19"/>
          <p:cNvCxnSpPr>
            <a:stCxn id="611" idx="0"/>
            <a:endCxn id="613" idx="1"/>
          </p:cNvCxnSpPr>
          <p:nvPr/>
        </p:nvCxnSpPr>
        <p:spPr>
          <a:xfrm>
            <a:off x="618840" y="1542960"/>
            <a:ext cx="47700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0" name="AutoShape 20"/>
          <p:cNvCxnSpPr>
            <a:stCxn id="613" idx="3"/>
            <a:endCxn id="614" idx="0"/>
          </p:cNvCxnSpPr>
          <p:nvPr/>
        </p:nvCxnSpPr>
        <p:spPr>
          <a:xfrm flipH="1">
            <a:off x="2452320" y="1752480"/>
            <a:ext cx="234000" cy="1439280"/>
          </a:xfrm>
          <a:prstGeom prst="curvedConnector5">
            <a:avLst>
              <a:gd name="adj1" fmla="val -97842"/>
              <a:gd name="adj2" fmla="val 32924"/>
              <a:gd name="adj3" fmla="val -978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1" name="AutoShape 21"/>
          <p:cNvCxnSpPr>
            <a:stCxn id="613" idx="3"/>
            <a:endCxn id="615" idx="0"/>
          </p:cNvCxnSpPr>
          <p:nvPr/>
        </p:nvCxnSpPr>
        <p:spPr>
          <a:xfrm>
            <a:off x="2685600" y="1752480"/>
            <a:ext cx="1491480" cy="20203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2" name="AutoShape 22"/>
          <p:cNvCxnSpPr>
            <a:stCxn id="613" idx="3"/>
            <a:endCxn id="616" idx="0"/>
          </p:cNvCxnSpPr>
          <p:nvPr/>
        </p:nvCxnSpPr>
        <p:spPr>
          <a:xfrm>
            <a:off x="2685960" y="1752120"/>
            <a:ext cx="3224880" cy="27154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AutoShape 23"/>
          <p:cNvCxnSpPr>
            <a:stCxn id="613" idx="3"/>
            <a:endCxn id="617" idx="0"/>
          </p:cNvCxnSpPr>
          <p:nvPr/>
        </p:nvCxnSpPr>
        <p:spPr>
          <a:xfrm>
            <a:off x="2685600" y="1752120"/>
            <a:ext cx="5158440" cy="34678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AutoShape 24"/>
          <p:cNvCxnSpPr>
            <a:stCxn id="613" idx="3"/>
            <a:endCxn id="618" idx="0"/>
          </p:cNvCxnSpPr>
          <p:nvPr/>
        </p:nvCxnSpPr>
        <p:spPr>
          <a:xfrm>
            <a:off x="2685960" y="1752120"/>
            <a:ext cx="5454000" cy="924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5" name="Rectangle 25"/>
          <p:cNvSpPr/>
          <p:nvPr/>
        </p:nvSpPr>
        <p:spPr>
          <a:xfrm>
            <a:off x="819000" y="2593800"/>
            <a:ext cx="203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specificado p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26"/>
          <p:cNvSpPr/>
          <p:nvPr/>
        </p:nvSpPr>
        <p:spPr>
          <a:xfrm>
            <a:off x="3086280" y="267984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alizado p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27"/>
          <p:cNvSpPr/>
          <p:nvPr/>
        </p:nvSpPr>
        <p:spPr>
          <a:xfrm>
            <a:off x="4705200" y="3137040"/>
            <a:ext cx="17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istribuido p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28"/>
          <p:cNvSpPr/>
          <p:nvPr/>
        </p:nvSpPr>
        <p:spPr>
          <a:xfrm>
            <a:off x="6686640" y="3994200"/>
            <a:ext cx="20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mplementado p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29"/>
          <p:cNvSpPr/>
          <p:nvPr/>
        </p:nvSpPr>
        <p:spPr>
          <a:xfrm>
            <a:off x="6591240" y="1708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erificado p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31"/>
          <p:cNvSpPr/>
          <p:nvPr/>
        </p:nvSpPr>
        <p:spPr>
          <a:xfrm>
            <a:off x="1373400" y="501480"/>
            <a:ext cx="476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 Black"/>
                <a:ea typeface="Times New Roman"/>
              </a:rPr>
              <a:t>Relaciones lógicas entre los modelo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276"/>
          <p:cNvSpPr/>
          <p:nvPr/>
        </p:nvSpPr>
        <p:spPr>
          <a:xfrm>
            <a:off x="2544480" y="330120"/>
            <a:ext cx="405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Modelos y flujos de trabajo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del Proceso Unific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Object 280"/>
          <p:cNvGraphicFramePr/>
          <p:nvPr/>
        </p:nvGraphicFramePr>
        <p:xfrm>
          <a:off x="399960" y="1397160"/>
          <a:ext cx="8344080" cy="497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3" name="Object 28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1397160"/>
                    <a:ext cx="8344080" cy="49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4" name="Object 1026"/>
          <p:cNvGraphicFramePr/>
          <p:nvPr/>
        </p:nvGraphicFramePr>
        <p:xfrm>
          <a:off x="738360" y="322200"/>
          <a:ext cx="7667280" cy="623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5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360" y="322200"/>
                    <a:ext cx="7667280" cy="62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6" name="Text Box 1027"/>
          <p:cNvSpPr/>
          <p:nvPr/>
        </p:nvSpPr>
        <p:spPr>
          <a:xfrm>
            <a:off x="1697040" y="0"/>
            <a:ext cx="57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MODELOS Y DIAGRAMAS EN EL R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294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ipos de resul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22040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Proceso Unificado recupera el concepto de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ist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e U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a el Proceso Unificado un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ist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a proyección de un mode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a proyección de la organización y la estructura del sistema que se centra en un aspecto particular del sist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arquitectura de un sistema se captura en forma de cinco vistas que interactúan entre s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vista de casos de u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vista de dise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vista de proce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vista de desplieg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vista de implement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3"/>
          <p:cNvSpPr/>
          <p:nvPr/>
        </p:nvSpPr>
        <p:spPr>
          <a:xfrm>
            <a:off x="261468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2" descr=""/>
          <p:cNvPicPr/>
          <p:nvPr/>
        </p:nvPicPr>
        <p:blipFill>
          <a:blip r:embed="rId1"/>
          <a:stretch/>
        </p:blipFill>
        <p:spPr>
          <a:xfrm>
            <a:off x="749160" y="1886040"/>
            <a:ext cx="7643880" cy="3533760"/>
          </a:xfrm>
          <a:prstGeom prst="rect">
            <a:avLst/>
          </a:prstGeom>
          <a:ln w="0">
            <a:noFill/>
          </a:ln>
        </p:spPr>
      </p:pic>
      <p:sp>
        <p:nvSpPr>
          <p:cNvPr id="641" name="Text Box 4"/>
          <p:cNvSpPr/>
          <p:nvPr/>
        </p:nvSpPr>
        <p:spPr>
          <a:xfrm>
            <a:off x="1668960" y="457200"/>
            <a:ext cx="58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Vistas de la arquitectura de un sist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390600"/>
            <a:ext cx="828684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onceptos fundament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539360"/>
            <a:ext cx="7772400" cy="451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as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 el intervalo de tiempo entre dos hitos importantes del proceso durante el que se cumple un conjunto bien definido de objetivos, se completan partes del sistema y se toman decisiones sobre si pasar o no a la siguiente f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ter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presenta un ciclo de desarrollo completo, desde la captura de requisitos en el análisis hasta la implementación y pruebas, que produce como resultado la entrega al cliente o la salida al mercado de un proyecto ejecu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294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ipos de resul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563480"/>
            <a:ext cx="7772400" cy="45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da una de las vistas presen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pectos estátic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mediante los diagramas estructurales de U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pectos dinámic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mediante diagramas dinámicos de U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: se puede trabajar con la vista de casos de uso estática y la vista de casos de uso dinámica, la vista de diseño estática y la vista de diseño dinámica, y así sucesiv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 el RUP se da más importancia a los modelos que a las vistas. Aunque se siguen manteniendo para determinados propósitos de model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294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ipos de resul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5" name="Object 10"/>
          <p:cNvGraphicFramePr/>
          <p:nvPr/>
        </p:nvGraphicFramePr>
        <p:xfrm>
          <a:off x="291960" y="1041480"/>
          <a:ext cx="8560080" cy="551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960" y="1041480"/>
                    <a:ext cx="8560080" cy="55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294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ipos de resul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614600"/>
            <a:ext cx="7772400" cy="44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s artefacto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junt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el RUP son lo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540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junto de requisi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540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junto de dise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540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junto de implement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540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junto de desplieg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54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294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ipos de resul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741320"/>
            <a:ext cx="777240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junto de requisi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53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grupa toda la información que describe lo que debe hacer el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53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uede comprender un modelo de casos de uso, un modelo de requisitos no funcionales, un modelo del dominio, un modelo de análisis y otras formas de expresión de las necesidades del usuario, incluyendo pero no limitándose a maquetas, prototipos de la interfaz, restricciones legal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294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ipos de resul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665000"/>
            <a:ext cx="777240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junto de diseñ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53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grupa información que describe cómo se va a construir el sistema y captura las decisiones acerca de cómo se va realizar, teniendo en cuenta las restricciones de tiempo, presupuesto, aplicaciones existentes, reutilización, objetivos de calidad y demás consider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53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uede implicar un modelo de diseño, un modelo de pruebas y otras formas de expresión de la naturaleza del sistema, incluyendo, pero no limitándose, a prototipos y arquitecturas ejecu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294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ipos de resul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728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junto de implement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53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grupa toda la información acerca de los elementos software que comprende el sistema, incluyendo, pero no limitándose, a código fuente en varios lenguajes de programación, archivos de configuración, archivos de datos, componentes software, etc., junto con la información que describe cómo ensamblar el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294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ipos de resul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165276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junto de desplieg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53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grupa toda la información acerca de la forma en que se empaqueta actualmente el software, se distribuye, se instala y se ejecuta en el entorno desti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1810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aptura y Modelado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 Requisi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703160"/>
            <a:ext cx="777240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Análisis de Requisitos tiene por misión convertir el problema, expresado en términos del dominio del negocio, a soluciones descritas en en lenguaje del dominio de la Tecnología de Inform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problema y su planteamiento pertenecen al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pacio del Problem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444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cripción concreta del nego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444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 de los Objetos de Negocio (D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s soluciones pertenecen al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pacio de la Solu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444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cripción concreta del sistema de inform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444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 de los Objetos de Nego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444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 de los Objetos de Infraestructura (DOI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94328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ubdominio de Objetos de Bases de Datos (SDOB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4328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ubdominio de Objetos de Interfaz (SDOIZ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aptura y Modelado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 Requisi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Group 6"/>
          <p:cNvGrpSpPr/>
          <p:nvPr/>
        </p:nvGrpSpPr>
        <p:grpSpPr>
          <a:xfrm>
            <a:off x="307800" y="1523880"/>
            <a:ext cx="2664000" cy="2133360"/>
            <a:chOff x="307800" y="1523880"/>
            <a:chExt cx="2664000" cy="2133360"/>
          </a:xfrm>
        </p:grpSpPr>
        <p:sp>
          <p:nvSpPr>
            <p:cNvPr id="661" name="AutoShape 7"/>
            <p:cNvSpPr/>
            <p:nvPr/>
          </p:nvSpPr>
          <p:spPr>
            <a:xfrm>
              <a:off x="762120" y="1981080"/>
              <a:ext cx="2209680" cy="167616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WordArt 8"/>
            <p:cNvSpPr txBox="1"/>
            <p:nvPr/>
          </p:nvSpPr>
          <p:spPr>
            <a:xfrm>
              <a:off x="1676520" y="2361960"/>
              <a:ext cx="2761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tile tx="0" ty="0" sx="100000" sy="100000" algn="ctr"/>
                  </a:blipFill>
                  <a:latin typeface="Arial Black"/>
                </a:rPr>
                <a:t>?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  <a:ea typeface="Arial Black"/>
              </a:endParaRPr>
            </a:p>
          </p:txBody>
        </p:sp>
        <p:sp>
          <p:nvSpPr>
            <p:cNvPr id="663" name="Text Box 9"/>
            <p:cNvSpPr/>
            <p:nvPr/>
          </p:nvSpPr>
          <p:spPr>
            <a:xfrm>
              <a:off x="307800" y="1523880"/>
              <a:ext cx="1306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spacio d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ble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Group 10"/>
          <p:cNvGrpSpPr/>
          <p:nvPr/>
        </p:nvGrpSpPr>
        <p:grpSpPr>
          <a:xfrm>
            <a:off x="5943600" y="1219320"/>
            <a:ext cx="2524320" cy="1600200"/>
            <a:chOff x="5943600" y="1219320"/>
            <a:chExt cx="2524320" cy="1600200"/>
          </a:xfrm>
        </p:grpSpPr>
        <p:sp>
          <p:nvSpPr>
            <p:cNvPr id="665" name="AutoShape 11"/>
            <p:cNvSpPr/>
            <p:nvPr/>
          </p:nvSpPr>
          <p:spPr>
            <a:xfrm>
              <a:off x="5943600" y="1828800"/>
              <a:ext cx="1447920" cy="990720"/>
            </a:xfrm>
            <a:prstGeom prst="wedgeEllipseCallout">
              <a:avLst>
                <a:gd name="adj1" fmla="val -30263"/>
                <a:gd name="adj2" fmla="val 62337"/>
              </a:avLst>
            </a:prstGeom>
            <a:solidFill>
              <a:srgbClr val="00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 Box 12"/>
            <p:cNvSpPr/>
            <p:nvPr/>
          </p:nvSpPr>
          <p:spPr>
            <a:xfrm>
              <a:off x="6328800" y="1219320"/>
              <a:ext cx="2139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spacio de l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olución de Usuar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Group 13"/>
          <p:cNvGrpSpPr/>
          <p:nvPr/>
        </p:nvGrpSpPr>
        <p:grpSpPr>
          <a:xfrm>
            <a:off x="2819520" y="1828800"/>
            <a:ext cx="3166920" cy="1219320"/>
            <a:chOff x="2819520" y="1828800"/>
            <a:chExt cx="3166920" cy="1219320"/>
          </a:xfrm>
        </p:grpSpPr>
        <p:sp>
          <p:nvSpPr>
            <p:cNvPr id="668" name="Line 14"/>
            <p:cNvSpPr/>
            <p:nvPr/>
          </p:nvSpPr>
          <p:spPr>
            <a:xfrm flipV="1">
              <a:off x="2819520" y="2424240"/>
              <a:ext cx="3166920" cy="56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AutoShape 15"/>
            <p:cNvSpPr/>
            <p:nvPr/>
          </p:nvSpPr>
          <p:spPr>
            <a:xfrm>
              <a:off x="3733920" y="2400480"/>
              <a:ext cx="838080" cy="647640"/>
            </a:xfrm>
            <a:prstGeom prst="flowChartSummingJunction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 Box 16"/>
            <p:cNvSpPr/>
            <p:nvPr/>
          </p:nvSpPr>
          <p:spPr>
            <a:xfrm>
              <a:off x="3318120" y="1828800"/>
              <a:ext cx="1250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3333cc"/>
                  </a:solidFill>
                  <a:latin typeface="Arial"/>
                  <a:ea typeface="Times New Roman"/>
                </a:rPr>
                <a:t>Análisi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3333cc"/>
                  </a:solidFill>
                  <a:latin typeface="Arial"/>
                  <a:ea typeface="Times New Roman"/>
                </a:rPr>
                <a:t>Requisi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Group 17"/>
          <p:cNvGrpSpPr/>
          <p:nvPr/>
        </p:nvGrpSpPr>
        <p:grpSpPr>
          <a:xfrm>
            <a:off x="461160" y="4876920"/>
            <a:ext cx="2891520" cy="1342440"/>
            <a:chOff x="461160" y="4876920"/>
            <a:chExt cx="2891520" cy="1342440"/>
          </a:xfrm>
        </p:grpSpPr>
        <p:sp>
          <p:nvSpPr>
            <p:cNvPr id="672" name="AutoShape 18"/>
            <p:cNvSpPr/>
            <p:nvPr/>
          </p:nvSpPr>
          <p:spPr>
            <a:xfrm>
              <a:off x="1752480" y="4876920"/>
              <a:ext cx="1600200" cy="761760"/>
            </a:xfrm>
            <a:prstGeom prst="flowChartPunchedCard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19"/>
            <p:cNvSpPr/>
            <p:nvPr/>
          </p:nvSpPr>
          <p:spPr>
            <a:xfrm>
              <a:off x="461160" y="5638680"/>
              <a:ext cx="1846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spacio de 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olución Técn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Group 20"/>
          <p:cNvGrpSpPr/>
          <p:nvPr/>
        </p:nvGrpSpPr>
        <p:grpSpPr>
          <a:xfrm>
            <a:off x="2747880" y="2895480"/>
            <a:ext cx="3500640" cy="1981440"/>
            <a:chOff x="2747880" y="2895480"/>
            <a:chExt cx="3500640" cy="1981440"/>
          </a:xfrm>
        </p:grpSpPr>
        <p:sp>
          <p:nvSpPr>
            <p:cNvPr id="675" name="Line 21"/>
            <p:cNvSpPr/>
            <p:nvPr/>
          </p:nvSpPr>
          <p:spPr>
            <a:xfrm flipH="1">
              <a:off x="2895480" y="2895480"/>
              <a:ext cx="3353040" cy="1981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AutoShape 22"/>
            <p:cNvSpPr/>
            <p:nvPr/>
          </p:nvSpPr>
          <p:spPr>
            <a:xfrm>
              <a:off x="4038480" y="3581280"/>
              <a:ext cx="838440" cy="762120"/>
            </a:xfrm>
            <a:prstGeom prst="flowChartOr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 Box 23"/>
            <p:cNvSpPr/>
            <p:nvPr/>
          </p:nvSpPr>
          <p:spPr>
            <a:xfrm>
              <a:off x="2747880" y="3733920"/>
              <a:ext cx="13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3333cc"/>
                  </a:solidFill>
                  <a:latin typeface="Arial"/>
                  <a:ea typeface="Times New Roman"/>
                </a:rPr>
                <a:t>Análisis O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Group 24"/>
          <p:cNvGrpSpPr/>
          <p:nvPr/>
        </p:nvGrpSpPr>
        <p:grpSpPr>
          <a:xfrm>
            <a:off x="3352680" y="4952880"/>
            <a:ext cx="3810240" cy="914400"/>
            <a:chOff x="3352680" y="4952880"/>
            <a:chExt cx="3810240" cy="914400"/>
          </a:xfrm>
        </p:grpSpPr>
        <p:sp>
          <p:nvSpPr>
            <p:cNvPr id="679" name="Line 25"/>
            <p:cNvSpPr/>
            <p:nvPr/>
          </p:nvSpPr>
          <p:spPr>
            <a:xfrm>
              <a:off x="3352680" y="5181480"/>
              <a:ext cx="3810240" cy="457200"/>
            </a:xfrm>
            <a:prstGeom prst="line">
              <a:avLst/>
            </a:prstGeom>
            <a:ln w="57240">
              <a:solidFill>
                <a:srgbClr val="66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AutoShape 26"/>
            <p:cNvSpPr/>
            <p:nvPr/>
          </p:nvSpPr>
          <p:spPr>
            <a:xfrm>
              <a:off x="4952880" y="5029200"/>
              <a:ext cx="685800" cy="838080"/>
            </a:xfrm>
            <a:prstGeom prst="flowChartCollate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Text Box 27"/>
            <p:cNvSpPr/>
            <p:nvPr/>
          </p:nvSpPr>
          <p:spPr>
            <a:xfrm>
              <a:off x="5567040" y="4952880"/>
              <a:ext cx="122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3333cc"/>
                  </a:solidFill>
                  <a:latin typeface="Arial"/>
                  <a:ea typeface="Times New Roman"/>
                </a:rPr>
                <a:t>Diseño O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Group 28"/>
          <p:cNvGrpSpPr/>
          <p:nvPr/>
        </p:nvGrpSpPr>
        <p:grpSpPr>
          <a:xfrm>
            <a:off x="7162920" y="4191120"/>
            <a:ext cx="1726560" cy="1900080"/>
            <a:chOff x="7162920" y="4191120"/>
            <a:chExt cx="1726560" cy="1900080"/>
          </a:xfrm>
        </p:grpSpPr>
        <p:sp>
          <p:nvSpPr>
            <p:cNvPr id="683" name="AutoShape 29"/>
            <p:cNvSpPr/>
            <p:nvPr/>
          </p:nvSpPr>
          <p:spPr>
            <a:xfrm>
              <a:off x="7162920" y="5181480"/>
              <a:ext cx="1523880" cy="909720"/>
            </a:xfrm>
            <a:prstGeom prst="flowChartMultidocumen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Text Box 30"/>
            <p:cNvSpPr/>
            <p:nvPr/>
          </p:nvSpPr>
          <p:spPr>
            <a:xfrm>
              <a:off x="7167960" y="4191120"/>
              <a:ext cx="1721520" cy="824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spacio de 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olución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plement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Text Box 31"/>
          <p:cNvSpPr/>
          <p:nvPr/>
        </p:nvSpPr>
        <p:spPr>
          <a:xfrm>
            <a:off x="7240320" y="5410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" nodeType="afterEffect" fill="hold" presetClass="entr" presetID="16" presetSubtype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aptura y Modelado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 Requisi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7413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Análisis de Requisitos en el RUP se realiza por medio de los flujos de trabaj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444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delado del negoc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444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quisi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resultado del Análisis de Requisitos es el sigui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444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l Negoc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444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l Domin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444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Casos de U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444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cumento de Especificaciones Técnicas del Sistema (según norma IEEE-830/199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390600"/>
            <a:ext cx="828684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onceptos fundament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539360"/>
            <a:ext cx="7772400" cy="451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iclo de vida del softwar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 el conjunto de fases por las que pasa el software, que abarcan desde su creación u origen, hasta su eliminación o liquidación for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desarrol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mbién denominado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Proces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trategia de desarrollo basada en el ciclo de vida, naturaleza del proyecto y metodología, que determina las características específicas del proceso (Pressman 200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aptura y Modelado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 Requisi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6" descr=""/>
          <p:cNvPicPr/>
          <p:nvPr/>
        </p:nvPicPr>
        <p:blipFill>
          <a:blip r:embed="rId1"/>
          <a:stretch/>
        </p:blipFill>
        <p:spPr>
          <a:xfrm>
            <a:off x="800280" y="1523880"/>
            <a:ext cx="7543800" cy="4445280"/>
          </a:xfrm>
          <a:prstGeom prst="rect">
            <a:avLst/>
          </a:prstGeom>
          <a:ln w="0">
            <a:noFill/>
          </a:ln>
        </p:spPr>
      </p:pic>
      <p:sp>
        <p:nvSpPr>
          <p:cNvPr id="690" name="AutoShape 7"/>
          <p:cNvSpPr/>
          <p:nvPr/>
        </p:nvSpPr>
        <p:spPr>
          <a:xfrm>
            <a:off x="914400" y="1981080"/>
            <a:ext cx="7620120" cy="914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8"/>
          <p:cNvSpPr/>
          <p:nvPr/>
        </p:nvSpPr>
        <p:spPr>
          <a:xfrm>
            <a:off x="7648920" y="2273400"/>
            <a:ext cx="1215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Requis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aptura y Modelado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 Requisi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800" y="1347840"/>
            <a:ext cx="77724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Modelo de Casos de Uso (MCU) establece los requisitos funcionales del sistema de infor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 el MCU se recoge la descripción externa y observable de cómo se utiliza el sistema de inform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444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scripción de CÓMO se utiliza el siste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94328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unciones, Servicios y Proce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444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scripción EXTERNA del uso del siste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94328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 identifican y describen funciones/servicios/procesos del negocio que un usuario puede hacer con el soporte del sistema de inform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444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scripción OBSERVABLE del uso del siste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94328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 como si hubiera un observador externo que va anotando lo que hace el usuario con el sistema y lo que el sistema responde al usu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177840"/>
            <a:ext cx="77724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odelado de Anál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563480"/>
            <a:ext cx="7772400" cy="45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a vez completado el modelo de casos de uso (CU) se ha llegado a obtener diagramas de casos de uso en determinados niveles que ya no se pueden explotar má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 se intentara explotar los CU, se pasaría a describir el comportamiento interno de las funciones con artefactos inadecu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casos de uso contenidos en estos diagramas se denominan casos de uso element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a situación límite indica que se debe pasar a trabajar con otros artefactos, que son los del modelo de anális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444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ases de análi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444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ocia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444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agramas de cl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444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agramas de colaboración asociados a los diagramas de cl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177840"/>
            <a:ext cx="77724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odelado de Anál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Group 6"/>
          <p:cNvGrpSpPr/>
          <p:nvPr/>
        </p:nvGrpSpPr>
        <p:grpSpPr>
          <a:xfrm>
            <a:off x="204840" y="1444680"/>
            <a:ext cx="522000" cy="648720"/>
            <a:chOff x="204840" y="1444680"/>
            <a:chExt cx="522000" cy="648720"/>
          </a:xfrm>
        </p:grpSpPr>
        <p:sp>
          <p:nvSpPr>
            <p:cNvPr id="698" name="Oval 7"/>
            <p:cNvSpPr/>
            <p:nvPr/>
          </p:nvSpPr>
          <p:spPr>
            <a:xfrm>
              <a:off x="344520" y="1444680"/>
              <a:ext cx="269280" cy="23508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8"/>
            <p:cNvSpPr/>
            <p:nvPr/>
          </p:nvSpPr>
          <p:spPr>
            <a:xfrm>
              <a:off x="471960" y="1665000"/>
              <a:ext cx="2160" cy="19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9"/>
            <p:cNvSpPr/>
            <p:nvPr/>
          </p:nvSpPr>
          <p:spPr>
            <a:xfrm>
              <a:off x="275040" y="1718640"/>
              <a:ext cx="3816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0"/>
            <p:cNvSpPr/>
            <p:nvPr/>
          </p:nvSpPr>
          <p:spPr>
            <a:xfrm>
              <a:off x="204840" y="1860840"/>
              <a:ext cx="522000" cy="23256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0" y="18"/>
                  </a:moveTo>
                  <a:lnTo>
                    <a:pt x="19" y="0"/>
                  </a:lnTo>
                  <a:lnTo>
                    <a:pt x="37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Rectangle 11"/>
          <p:cNvSpPr/>
          <p:nvPr/>
        </p:nvSpPr>
        <p:spPr>
          <a:xfrm>
            <a:off x="1133640" y="1473120"/>
            <a:ext cx="1590480" cy="91440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de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s de U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12"/>
          <p:cNvSpPr/>
          <p:nvPr/>
        </p:nvSpPr>
        <p:spPr>
          <a:xfrm>
            <a:off x="1695600" y="3368520"/>
            <a:ext cx="1590480" cy="91440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de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áli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13"/>
          <p:cNvSpPr/>
          <p:nvPr/>
        </p:nvSpPr>
        <p:spPr>
          <a:xfrm>
            <a:off x="3419640" y="3949560"/>
            <a:ext cx="1590480" cy="91440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de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14"/>
          <p:cNvSpPr/>
          <p:nvPr/>
        </p:nvSpPr>
        <p:spPr>
          <a:xfrm>
            <a:off x="5153040" y="4645080"/>
            <a:ext cx="1590840" cy="91440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de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plie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15"/>
          <p:cNvSpPr/>
          <p:nvPr/>
        </p:nvSpPr>
        <p:spPr>
          <a:xfrm>
            <a:off x="6929280" y="5397480"/>
            <a:ext cx="1905120" cy="91440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de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16"/>
          <p:cNvSpPr/>
          <p:nvPr/>
        </p:nvSpPr>
        <p:spPr>
          <a:xfrm>
            <a:off x="7381800" y="2854440"/>
            <a:ext cx="1590840" cy="91440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de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ue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8" name="AutoShape 17"/>
          <p:cNvCxnSpPr>
            <a:stCxn id="700" idx="0"/>
            <a:endCxn id="702" idx="1"/>
          </p:cNvCxnSpPr>
          <p:nvPr/>
        </p:nvCxnSpPr>
        <p:spPr>
          <a:xfrm>
            <a:off x="657000" y="1720800"/>
            <a:ext cx="47700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AutoShape 18"/>
          <p:cNvCxnSpPr>
            <a:stCxn id="702" idx="3"/>
            <a:endCxn id="703" idx="0"/>
          </p:cNvCxnSpPr>
          <p:nvPr/>
        </p:nvCxnSpPr>
        <p:spPr>
          <a:xfrm flipH="1">
            <a:off x="2490480" y="1929960"/>
            <a:ext cx="234000" cy="1438920"/>
          </a:xfrm>
          <a:prstGeom prst="curvedConnector5">
            <a:avLst>
              <a:gd name="adj1" fmla="val -97842"/>
              <a:gd name="adj2" fmla="val 32932"/>
              <a:gd name="adj3" fmla="val -97842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AutoShape 19"/>
          <p:cNvCxnSpPr>
            <a:stCxn id="702" idx="3"/>
            <a:endCxn id="704" idx="0"/>
          </p:cNvCxnSpPr>
          <p:nvPr/>
        </p:nvCxnSpPr>
        <p:spPr>
          <a:xfrm>
            <a:off x="2723760" y="1929960"/>
            <a:ext cx="1491480" cy="20199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AutoShape 20"/>
          <p:cNvCxnSpPr>
            <a:stCxn id="702" idx="3"/>
            <a:endCxn id="705" idx="0"/>
          </p:cNvCxnSpPr>
          <p:nvPr/>
        </p:nvCxnSpPr>
        <p:spPr>
          <a:xfrm>
            <a:off x="2724120" y="1929960"/>
            <a:ext cx="3224880" cy="27154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2" name="AutoShape 21"/>
          <p:cNvCxnSpPr>
            <a:stCxn id="702" idx="3"/>
            <a:endCxn id="706" idx="0"/>
          </p:cNvCxnSpPr>
          <p:nvPr/>
        </p:nvCxnSpPr>
        <p:spPr>
          <a:xfrm>
            <a:off x="2723760" y="1929960"/>
            <a:ext cx="5158440" cy="34678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AutoShape 22"/>
          <p:cNvCxnSpPr>
            <a:stCxn id="702" idx="3"/>
            <a:endCxn id="707" idx="0"/>
          </p:cNvCxnSpPr>
          <p:nvPr/>
        </p:nvCxnSpPr>
        <p:spPr>
          <a:xfrm>
            <a:off x="2723760" y="1929960"/>
            <a:ext cx="5453640" cy="924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4" name="Rectangle 23"/>
          <p:cNvSpPr/>
          <p:nvPr/>
        </p:nvSpPr>
        <p:spPr>
          <a:xfrm>
            <a:off x="857160" y="2771640"/>
            <a:ext cx="20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specificado p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24"/>
          <p:cNvSpPr/>
          <p:nvPr/>
        </p:nvSpPr>
        <p:spPr>
          <a:xfrm>
            <a:off x="3124080" y="2857680"/>
            <a:ext cx="159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alizado p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25"/>
          <p:cNvSpPr/>
          <p:nvPr/>
        </p:nvSpPr>
        <p:spPr>
          <a:xfrm>
            <a:off x="4743360" y="3314880"/>
            <a:ext cx="17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istribuido p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26"/>
          <p:cNvSpPr/>
          <p:nvPr/>
        </p:nvSpPr>
        <p:spPr>
          <a:xfrm>
            <a:off x="6724800" y="4172040"/>
            <a:ext cx="20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mplementado p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27"/>
          <p:cNvSpPr/>
          <p:nvPr/>
        </p:nvSpPr>
        <p:spPr>
          <a:xfrm>
            <a:off x="6629400" y="188604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erificado p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28"/>
          <p:cNvSpPr/>
          <p:nvPr/>
        </p:nvSpPr>
        <p:spPr>
          <a:xfrm>
            <a:off x="785880" y="1146240"/>
            <a:ext cx="3029040" cy="3541680"/>
          </a:xfrm>
          <a:custGeom>
            <a:avLst/>
            <a:gdLst/>
            <a:ahLst/>
            <a:rect l="l" t="t" r="r" b="b"/>
            <a:pathLst>
              <a:path w="1908" h="2231">
                <a:moveTo>
                  <a:pt x="790" y="71"/>
                </a:moveTo>
                <a:cubicBezTo>
                  <a:pt x="677" y="57"/>
                  <a:pt x="556" y="53"/>
                  <a:pt x="445" y="83"/>
                </a:cubicBezTo>
                <a:cubicBezTo>
                  <a:pt x="411" y="92"/>
                  <a:pt x="380" y="107"/>
                  <a:pt x="348" y="119"/>
                </a:cubicBezTo>
                <a:cubicBezTo>
                  <a:pt x="332" y="125"/>
                  <a:pt x="299" y="131"/>
                  <a:pt x="299" y="131"/>
                </a:cubicBezTo>
                <a:cubicBezTo>
                  <a:pt x="259" y="158"/>
                  <a:pt x="223" y="190"/>
                  <a:pt x="184" y="216"/>
                </a:cubicBezTo>
                <a:cubicBezTo>
                  <a:pt x="174" y="232"/>
                  <a:pt x="158" y="243"/>
                  <a:pt x="148" y="259"/>
                </a:cubicBezTo>
                <a:cubicBezTo>
                  <a:pt x="142" y="270"/>
                  <a:pt x="141" y="284"/>
                  <a:pt x="136" y="295"/>
                </a:cubicBezTo>
                <a:cubicBezTo>
                  <a:pt x="133" y="302"/>
                  <a:pt x="127" y="307"/>
                  <a:pt x="123" y="313"/>
                </a:cubicBezTo>
                <a:cubicBezTo>
                  <a:pt x="115" y="337"/>
                  <a:pt x="107" y="359"/>
                  <a:pt x="93" y="380"/>
                </a:cubicBezTo>
                <a:cubicBezTo>
                  <a:pt x="83" y="440"/>
                  <a:pt x="57" y="496"/>
                  <a:pt x="45" y="556"/>
                </a:cubicBezTo>
                <a:cubicBezTo>
                  <a:pt x="36" y="604"/>
                  <a:pt x="20" y="701"/>
                  <a:pt x="20" y="701"/>
                </a:cubicBezTo>
                <a:cubicBezTo>
                  <a:pt x="23" y="940"/>
                  <a:pt x="0" y="1179"/>
                  <a:pt x="57" y="1411"/>
                </a:cubicBezTo>
                <a:cubicBezTo>
                  <a:pt x="62" y="1456"/>
                  <a:pt x="61" y="1505"/>
                  <a:pt x="87" y="1544"/>
                </a:cubicBezTo>
                <a:cubicBezTo>
                  <a:pt x="92" y="1593"/>
                  <a:pt x="120" y="1696"/>
                  <a:pt x="148" y="1738"/>
                </a:cubicBezTo>
                <a:cubicBezTo>
                  <a:pt x="156" y="1786"/>
                  <a:pt x="198" y="1873"/>
                  <a:pt x="227" y="1914"/>
                </a:cubicBezTo>
                <a:cubicBezTo>
                  <a:pt x="235" y="1939"/>
                  <a:pt x="255" y="1952"/>
                  <a:pt x="269" y="1974"/>
                </a:cubicBezTo>
                <a:cubicBezTo>
                  <a:pt x="276" y="1997"/>
                  <a:pt x="295" y="2028"/>
                  <a:pt x="317" y="2035"/>
                </a:cubicBezTo>
                <a:cubicBezTo>
                  <a:pt x="339" y="2076"/>
                  <a:pt x="367" y="2084"/>
                  <a:pt x="408" y="2102"/>
                </a:cubicBezTo>
                <a:cubicBezTo>
                  <a:pt x="477" y="2132"/>
                  <a:pt x="539" y="2160"/>
                  <a:pt x="615" y="2168"/>
                </a:cubicBezTo>
                <a:cubicBezTo>
                  <a:pt x="652" y="2195"/>
                  <a:pt x="682" y="2188"/>
                  <a:pt x="730" y="2193"/>
                </a:cubicBezTo>
                <a:cubicBezTo>
                  <a:pt x="912" y="2213"/>
                  <a:pt x="721" y="2201"/>
                  <a:pt x="960" y="2211"/>
                </a:cubicBezTo>
                <a:cubicBezTo>
                  <a:pt x="1138" y="2231"/>
                  <a:pt x="1314" y="2221"/>
                  <a:pt x="1488" y="2193"/>
                </a:cubicBezTo>
                <a:cubicBezTo>
                  <a:pt x="1513" y="2180"/>
                  <a:pt x="1526" y="2165"/>
                  <a:pt x="1548" y="2150"/>
                </a:cubicBezTo>
                <a:cubicBezTo>
                  <a:pt x="1584" y="2125"/>
                  <a:pt x="1619" y="2109"/>
                  <a:pt x="1651" y="2077"/>
                </a:cubicBezTo>
                <a:cubicBezTo>
                  <a:pt x="1660" y="2068"/>
                  <a:pt x="1667" y="2057"/>
                  <a:pt x="1676" y="2047"/>
                </a:cubicBezTo>
                <a:cubicBezTo>
                  <a:pt x="1689" y="2033"/>
                  <a:pt x="1718" y="2005"/>
                  <a:pt x="1718" y="2005"/>
                </a:cubicBezTo>
                <a:cubicBezTo>
                  <a:pt x="1727" y="1979"/>
                  <a:pt x="1750" y="1966"/>
                  <a:pt x="1767" y="1944"/>
                </a:cubicBezTo>
                <a:cubicBezTo>
                  <a:pt x="1775" y="1920"/>
                  <a:pt x="1784" y="1898"/>
                  <a:pt x="1797" y="1877"/>
                </a:cubicBezTo>
                <a:cubicBezTo>
                  <a:pt x="1803" y="1847"/>
                  <a:pt x="1810" y="1824"/>
                  <a:pt x="1827" y="1799"/>
                </a:cubicBezTo>
                <a:cubicBezTo>
                  <a:pt x="1836" y="1741"/>
                  <a:pt x="1858" y="1687"/>
                  <a:pt x="1870" y="1629"/>
                </a:cubicBezTo>
                <a:cubicBezTo>
                  <a:pt x="1888" y="1340"/>
                  <a:pt x="1908" y="1040"/>
                  <a:pt x="1809" y="762"/>
                </a:cubicBezTo>
                <a:cubicBezTo>
                  <a:pt x="1789" y="706"/>
                  <a:pt x="1781" y="636"/>
                  <a:pt x="1748" y="586"/>
                </a:cubicBezTo>
                <a:cubicBezTo>
                  <a:pt x="1730" y="502"/>
                  <a:pt x="1736" y="512"/>
                  <a:pt x="1700" y="453"/>
                </a:cubicBezTo>
                <a:cubicBezTo>
                  <a:pt x="1687" y="408"/>
                  <a:pt x="1662" y="374"/>
                  <a:pt x="1633" y="337"/>
                </a:cubicBezTo>
                <a:cubicBezTo>
                  <a:pt x="1619" y="295"/>
                  <a:pt x="1638" y="344"/>
                  <a:pt x="1591" y="283"/>
                </a:cubicBezTo>
                <a:cubicBezTo>
                  <a:pt x="1587" y="278"/>
                  <a:pt x="1589" y="269"/>
                  <a:pt x="1585" y="265"/>
                </a:cubicBezTo>
                <a:cubicBezTo>
                  <a:pt x="1545" y="225"/>
                  <a:pt x="1463" y="156"/>
                  <a:pt x="1415" y="137"/>
                </a:cubicBezTo>
                <a:cubicBezTo>
                  <a:pt x="1378" y="100"/>
                  <a:pt x="1320" y="92"/>
                  <a:pt x="1275" y="65"/>
                </a:cubicBezTo>
                <a:cubicBezTo>
                  <a:pt x="1213" y="28"/>
                  <a:pt x="1279" y="46"/>
                  <a:pt x="1209" y="34"/>
                </a:cubicBezTo>
                <a:cubicBezTo>
                  <a:pt x="1188" y="24"/>
                  <a:pt x="1183" y="19"/>
                  <a:pt x="1160" y="16"/>
                </a:cubicBezTo>
                <a:cubicBezTo>
                  <a:pt x="1128" y="11"/>
                  <a:pt x="1063" y="4"/>
                  <a:pt x="1063" y="4"/>
                </a:cubicBezTo>
                <a:cubicBezTo>
                  <a:pt x="997" y="6"/>
                  <a:pt x="933" y="0"/>
                  <a:pt x="869" y="16"/>
                </a:cubicBezTo>
                <a:cubicBezTo>
                  <a:pt x="837" y="24"/>
                  <a:pt x="817" y="49"/>
                  <a:pt x="790" y="65"/>
                </a:cubicBezTo>
                <a:cubicBezTo>
                  <a:pt x="785" y="68"/>
                  <a:pt x="772" y="65"/>
                  <a:pt x="772" y="71"/>
                </a:cubicBezTo>
                <a:cubicBezTo>
                  <a:pt x="772" y="77"/>
                  <a:pt x="784" y="71"/>
                  <a:pt x="790" y="71"/>
                </a:cubicBezTo>
                <a:close/>
              </a:path>
            </a:pathLst>
          </a:custGeom>
          <a:noFill/>
          <a:ln w="284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29"/>
          <p:cNvSpPr/>
          <p:nvPr/>
        </p:nvSpPr>
        <p:spPr>
          <a:xfrm>
            <a:off x="990720" y="535932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ransición del MCU hacia el M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30"/>
          <p:cNvSpPr/>
          <p:nvPr/>
        </p:nvSpPr>
        <p:spPr>
          <a:xfrm flipV="1">
            <a:off x="2209680" y="46731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177840"/>
            <a:ext cx="77724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odelado de Anál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563480"/>
            <a:ext cx="7772400" cy="45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Análisis en el RUP se realiza por medio de los flujos de trabaj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444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álisis y dise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resultado del Análisis es el sigui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444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Análi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Modelo de Análisis contie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444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Vista de Diseño de UM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444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Vista de Procesos de UM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2156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odelado de Diseñ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85800" y="1563480"/>
            <a:ext cx="7772400" cy="45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 el flujo de requisitos se construye un modelo que representa el comportamiento observable o externo del sistema que se quiere obte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 los flujos de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álisi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señ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ement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se representa la estructura y el comportamiento internos del sistema a realiz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racterística común de los tres flujos frente al flujo de requisi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444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 los tres flujos se trabaja a diferentes niveles de abstracción, desde el más elevado en el análisis, hasta el más bajo en la implement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2156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odelado de Diseñ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563480"/>
            <a:ext cx="7772400" cy="45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técnica de modelado consiste en identificar, a través de las especificaciones de las clases de análisis las clases de diseño correspond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a cada clase de análisis se puede derivar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á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lases de diseñ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444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lase de contro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lase activ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&gt;=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444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lase de ent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lase de ent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&gt;=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444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lase de interfaz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lase de interfaz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&gt;=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2156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207800"/>
            <a:ext cx="77724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Proceso Unificado es una metodología creada principalmente para el desarrollo de software orientado a obje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tiliza el soporte de modelado de UML, pero es independiente de U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Proceso Unific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444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 un Proceso itera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444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á centrado en la arquitec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444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á dirigido por los casos de u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444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 un proceso configur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444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porta las técnicas orientadas a obje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444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mpulsa un control de calidad y una gestión del riesgo objetivos y continu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2156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207800"/>
            <a:ext cx="77724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 aplicación formal del Proceso Unificado supo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27000" indent="-444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sventaj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317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randes esfuerzos en la construcción de mode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317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cesidad del soporte de herramientas informát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7000" indent="-444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entaj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317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sminuye el riesgo del error de análisis / diseño acumul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317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igera el esfuerzo en implement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317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porciona la documentación del ciclo de vida en el mismo pro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2156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800" y="1207800"/>
            <a:ext cx="77724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Proceso Unificado es flexible y se puede adaptar al grado de complejidad del modelo de proceso de desarrollo (descarte de algunos modelos o fluj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Proceso Unificado es abierto y permite la incorporación de enfoques y artefactos complementar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444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trones de dise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444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trones de implement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444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rcos de dise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444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mbinación de varios modelos de pro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444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rquitecturas Dirigidas por Modelos (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del Driven Architectur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444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jecutabilidad de modelos: UML 2, validación y verificación form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390600"/>
            <a:ext cx="828684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onceptos fundament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4"/>
          <p:cNvSpPr/>
          <p:nvPr/>
        </p:nvSpPr>
        <p:spPr>
          <a:xfrm>
            <a:off x="23716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615680"/>
            <a:ext cx="777240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iclo de vida del software comple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9" descr=""/>
          <p:cNvPicPr/>
          <p:nvPr/>
        </p:nvPicPr>
        <p:blipFill>
          <a:blip r:embed="rId1"/>
          <a:stretch/>
        </p:blipFill>
        <p:spPr>
          <a:xfrm>
            <a:off x="660240" y="2052720"/>
            <a:ext cx="782172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390600"/>
            <a:ext cx="828684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onceptos fundament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539360"/>
            <a:ext cx="7772400" cy="451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incipios fundament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n asertos de ingeniería que prescriben restricciones sobre soluciones de problemas o sobre el proceso de desarrollo de soluciones, se evalúan rigurosamente en la práctica, y se juzgan sobre la base de la utilidad, la relevancia y la significación (Bourque et al., 200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orm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n el desarrollo de los principios fundamentales para ámbitos particulares de tipo técnico, económico y organiz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6840" y="390600"/>
            <a:ext cx="828684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onceptos fundament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6"/>
          <p:cNvSpPr/>
          <p:nvPr/>
        </p:nvSpPr>
        <p:spPr>
          <a:xfrm>
            <a:off x="23716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5" descr=""/>
          <p:cNvPicPr/>
          <p:nvPr/>
        </p:nvPicPr>
        <p:blipFill>
          <a:blip r:embed="rId1"/>
          <a:srcRect l="0" t="-7236" r="0" b="0"/>
          <a:stretch/>
        </p:blipFill>
        <p:spPr>
          <a:xfrm>
            <a:off x="1828800" y="1739880"/>
            <a:ext cx="5486400" cy="437040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539360"/>
            <a:ext cx="7772400" cy="451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structura formal de la Ingeniería del Softwa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9"/>
          <p:cNvSpPr/>
          <p:nvPr/>
        </p:nvSpPr>
        <p:spPr>
          <a:xfrm>
            <a:off x="7810560" y="3971880"/>
            <a:ext cx="914400" cy="9144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R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15"/>
          <p:cNvSpPr/>
          <p:nvPr/>
        </p:nvSpPr>
        <p:spPr>
          <a:xfrm>
            <a:off x="6934320" y="4317840"/>
            <a:ext cx="761760" cy="378000"/>
          </a:xfrm>
          <a:prstGeom prst="leftArrow">
            <a:avLst>
              <a:gd name="adj1" fmla="val 50000"/>
              <a:gd name="adj2" fmla="val 50381"/>
            </a:avLst>
          </a:prstGeom>
          <a:solidFill>
            <a:srgbClr val="66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6840" y="390600"/>
            <a:ext cx="828684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l Proceso Unific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0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Proceso Unific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 un Proceso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erativ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tá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ntrad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n la arquitec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tá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rigid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or los casos de u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 un proceso configur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porta las técnicas orientadas a obje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ulsa un control de calidad y una gestión del riesgo objetivos y continu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blo Turmero</dc:creator>
  <dc:description/>
  <dc:language>en-US</dc:language>
  <cp:lastModifiedBy>Pablo Turmero</cp:lastModifiedBy>
  <dcterms:modified xsi:type="dcterms:W3CDTF">2017-10-04T18:41:12Z</dcterms:modified>
  <cp:revision>103</cp:revision>
  <dc:subject/>
  <dc:title>Introducción al Proceso Unificado</dc:title>
</cp:coreProperties>
</file>