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8CF0-0722-4A66-B29D-A78601899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A765-6CDF-4CA1-AA64-29A9332C77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34FA-A2FE-49E2-A9DD-B35E3538FF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B696-608D-4B83-9EF1-900306E94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F42A-3C9A-4F73-BF1F-172FAB5A3E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931F-0591-48FC-B5AB-76C0DCDE43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39A3-12E5-4581-98DA-E93C382E2C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E2A8-46CA-4BF8-AB17-0A7EA3D088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0FB-BB98-4D6F-9245-4C799DA786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B4F7-F970-4B51-93C9-1D3711C7B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8638-4ECD-4194-807A-D466A5DFDA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9267-544F-481D-ADFB-6834BC8375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EC56-52AD-4E7B-A8AE-5816446962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116B-ACCF-4B43-88A9-C288FDDBF0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FAD-7CD8-45D6-8144-CC1EF83F5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76A2-1F4D-4C94-A3E9-8C4A89DD72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3DD-4A7D-438B-96C2-5285E775B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DEC2-04A7-4965-A2A4-DED4A1B95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AF7A-9CEC-4997-A81A-32C2B40A5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6237-05DE-4FF6-953C-B81259AE3C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0D7F-E2BF-4D1E-A917-DC6C7D08A2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EA48-3199-4A91-8BD5-E2B1A180BD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AE7-F47D-45E7-A47C-D1F15AC7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5F7-5C64-4C46-899B-4CE886E1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D291E4-8902-4288-A361-E3BB2048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62A8A-A0F5-4B6A-9C8F-2574C97D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4F426C-239F-49EE-B595-EE648628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F579B0-CAB8-46F9-A5C9-7F0F4F5B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FB3DBD-4DBA-43C0-A50A-F088C95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65BBAF-AD21-4B73-BAC0-FE77CA25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B7DB0D-5D81-4A19-A303-49194D2D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F35A8-0977-4D6A-A8B2-E885B735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942ADB-91CE-4744-9D5F-2608E60A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8FB1AD-A7D7-4218-AFE0-AD7772ED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4F4-770D-427E-A096-9AB74972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58BE99-FDA3-4860-9A17-C8432239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370517-54B2-4DD0-813C-A8DF3614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7FDED4-9A59-4920-B57A-F697648C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825CFD-A875-4AC1-8DB5-748256E7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F96F5F-CD84-4DE7-9C97-E638ED4B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F0FE5F-5BA9-40D0-8E6A-B0D799C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C34C7C-C537-4C60-8F89-6E330349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92C191-926A-45CD-80AC-00267B45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7F162D-136F-4E18-B87F-28992C94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8591D2-1F03-4A6E-B2C9-C2C6D119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345-051F-4C2C-8F86-4AE9A707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4C8905-F275-4392-890F-8CC0E4F3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12BDE3-3FE1-4725-BD08-3B880376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BB3EE8-2630-4ACA-A7A0-DC657FA7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FAB4C9-7BFE-4BAD-98BF-A68F8A43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771C19-4F40-4EC1-96B6-628AB0B7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93356F-21A0-4440-B807-E494821F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FFC803-45E4-4989-AB72-A282FD0D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63BCC3-5441-4A0D-AEE0-BCA83A5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5DECBB-D4CE-49A8-9726-18933A2C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B36794-E620-4BF7-99A5-0F6302DA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6910A2-A419-4285-A8C8-A738C5AD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C48D30-A2A7-42CA-A622-AEDE1F07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DAC144-964C-4784-B095-D76C6141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029A65-60B6-4678-920A-EA757828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DCE0D3-760E-4B72-9051-38E0B50E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8AE015-CB77-40BE-B341-4F73D8A8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170987-66AB-406E-BD96-151EECC4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7DC165-833D-4754-9A29-107324C1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55845F-5577-484D-96D4-DE13DE25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35AF6F-7CC0-4F7A-8C9A-B3F90CB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A8F4DA-1500-4635-AB73-E8AD20F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4D5258-2455-4B40-B99B-5E9D9A65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5805B5-C8C2-4CD2-9EA2-112DB51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3D409F-97A6-43C8-AF6E-F6718C00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A542FE-1F35-449C-BCEA-1243243C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A18160-9986-45BB-8B6C-4841D855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22DC93-765E-4761-ADD1-86D3558E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0020B7-3198-4D5C-8FE3-43345685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09ADFB-4A04-4FF6-8E5B-ED73470E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423205-B6D1-4E05-802D-03DA63BB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9F01F0-4559-4B0C-8521-B97989D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B43098-1236-41EB-9DD0-6CA09B1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BE4210-70DD-4AB1-B609-2F83C10D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DD91E7-8E35-4940-A8F7-484FE4F2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990F31-98BE-4BD8-BBDA-4472EA8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318CA0-75E1-450C-B547-717C08B9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ED0895-CC98-413B-9FCB-74DCCFBC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9F8-5CB9-4B04-A70C-E883AF6E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AC5D0-E63E-4E54-B50F-46DBED74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FC686-0D3B-4832-BB4C-DDFD7B74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2C91B-6AF7-4B10-BB6C-CD050F2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1F066-035B-40E9-AA0E-0D917E5F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2773E-249C-45E0-B4EA-32AF7FE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A58-22A8-4166-9957-A00EE26F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F4302-78BD-4259-954A-F6EBA44B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94BE4-ED6F-4DBF-B665-131DDC6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766C9-CAAD-4EBE-A835-A8176ADD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C9913-A178-4560-BF38-ABE5B83A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3A854-FE99-4C4A-AFA2-4539EE8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271A5-62B0-473D-897D-A4F6248A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C08F7-B2E0-49C6-A25A-E3AA67B6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5BA2B-6567-4EDB-9702-32ED65C5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57418-5BF3-4E56-84AB-F2E72F74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51F00-91AD-4049-8F8F-A223EB87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66F-1147-4BD2-86FF-07186C8A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5F904-4242-44EA-8480-6126FBAE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25EDF-3DDF-4DA8-A94F-ED73BA30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25894-4880-42BF-A672-E7E2B0D2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DAD6A-EF82-45BE-9F54-19EB9B7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0D339-31BF-446E-8B57-EEE88F2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F2006-1337-4CB4-AC86-F6C7B21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28BC0-5F32-4116-8F69-734D860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03567-035E-4EDC-89B7-78588295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0BF09-FDA7-4C4F-A837-5EC5D9E9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25359-961B-4EAE-81ED-DA741734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1FB-4FCF-4602-8A10-AE9B9F0A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027D8-0BEE-4655-8832-B3B9F1EE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370A4-8198-4761-B4B2-8A74E736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4C67B-A68A-4CD2-9D7B-F7EB1D9A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E32A4-7A68-4B12-813B-3F7495E7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9ACC3-F3C3-4AD9-A1C1-74D303F9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FE61E-A4AF-4B53-8E2D-4A363D6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39B11-49C4-4590-92C0-97C6187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63580-AA64-4645-A2C8-DCDDE3E3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EF400-3E9D-4E8D-9A11-09F1512F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A643B-1064-4CD2-8FBB-D6530FDF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A34-15E3-4AB8-A82F-CB9C9210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FD0F5-95A1-4021-990B-701329A9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94424-196D-4D4C-B011-845505D6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C3CEF-521A-4645-A426-6427B7FF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BC713-4525-4DD0-A533-249CF187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5D1B8-5253-4593-9F4B-6B46ACCF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D159B-2B57-4328-B581-5D644BBF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D27F0-1E5C-4324-9245-1452200C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0CBE1-7039-4269-87E0-A6FC2BB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140DA-18AF-4623-8076-3540BB6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61742-7F14-48B6-A7C7-70241D6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2F8-F1BD-4E25-97F6-745454E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F5E85-E99C-49C8-A60F-8930B264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0AA2B-2E67-449F-9FB7-E0AA5433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71141-870A-4369-8357-D85D74AB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1249D-7747-49A2-A6FF-6F11FDA1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E5A54-2767-4B6C-AD14-68F338D0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6CF91-A5AE-4AB5-B7E1-B0B93E4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41C45-0319-4621-ADEB-4C0053BF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09D33A-C67C-4519-82B1-6325E606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65C73-75A4-4947-8357-314D7B3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69769-5A13-4A01-A564-1FF22601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174-7169-4818-8848-66FB9BA4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EEA58-57B9-448D-A9D2-F72D1446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FA4DD-8CC4-4F91-A699-5D195D6D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2A9F2-8B17-4186-BAA9-74B5F7B2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7588A-467A-4D73-9D7C-7833E0E7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A22AB-D509-477E-B9A0-F57416CF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2AD932-F868-4F05-A79A-26C2AD51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1E247-1D7B-441F-88E6-60D18FC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C9FE98-6472-42D5-BA10-5077FCA8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F55B22-F024-4F89-ADC4-EAE23B16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951EA2-EF62-40A4-9FA7-58AD1D1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23F-1259-417B-8F43-E3F05CB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874E72-DB0F-4371-820F-51888552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A435DD-D4B2-4837-9D16-C157F3F8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A1C965-C49C-4B40-BBD8-E4C02EA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E896E-5A2B-42FF-A6B9-9F9386D8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4C233-0926-4E81-8C83-264C4B2B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503D78-C0CB-4832-8A27-EAAC53A8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5130E1-4A93-4608-BA88-047488AF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CCEDA6-ABD4-4DFF-99F8-A6B68C46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490B1-0FE0-4BFF-BA0F-A9E9F143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FC036D-6CAD-4983-98D5-EE8AEF79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3BAD-FF22-4D07-A05A-B2A755BFA9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de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4174-2588-448D-9E2B-4137242D677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AB24-42E9-4886-B208-9D3735F1F98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EEA5-7A77-441A-9B34-ADCC9D99F4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8235-8CDE-4812-9BFB-52D19DF73E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234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624816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Jornadas de Producción - Comodoro Rivadavia - 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gosto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23F4-4905-4957-802A-0308642587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3A4F-474A-4DC3-906A-752489FB4F8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03AB-6E24-4AE7-B858-FDE4294B1DF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BDA5-EE27-4367-ACC5-C570C7E5098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DBB4-E00A-47A1-944D-7F8145BA2A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9B82-23A4-430F-9E51-E5EA1B3508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E3E7-2A61-4782-863B-FDDBD6AE57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4320" y="1974600"/>
            <a:ext cx="878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  <a:ea typeface="Arial"/>
              </a:rPr>
              <a:t>Secundarias Avanzadas – Necesidades y Posibilidad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Siguiendo el ejemplo de W. Rose (II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"Scaling Up of Laboratory Relative Permeability Curves. An Advantageous Approach Based on Realistic Average Water Saturations", SPE 69394 – LACPEC – Buenos 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che” exitos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Reemplazo de KR por curvas de producción en función de Sw media…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¡en medios lineales homogéneo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"Upscaling of Relative Permeability Curves for Reservoir Simulation: An Extension to Areal Simulations Based on Realistic Average Water Saturations", SPE 81038 – LACPEC – Trin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racaso en la extensión del “parch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geometrías bidimensionales homogén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Libro 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VIMIENTO DE FLUID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n reservorios de hidrocarburo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nteo del problema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C464-A13E-4756-A55F-C6165CB76C6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Mi “Solución” en 2004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Medir </a:t>
            </a: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untos extremos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bajo todos los mecanismos de desplazamientos previst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onstruir las curvas de modelado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teniendo en cuenta, geometría de celdas, ubicación, equilibrio de fuerzas, heterogeneidad e historia de satu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umentar el grillado vertical a expensas del horizo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Muchas menos celdas pero </a:t>
            </a: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…¡Una curva para cada cara de cada celda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¡DEMASIADO COMPLEJ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4EB3-7E2C-4526-91CB-8646A756958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Alternativas de Modelad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mulación Numérica convencional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, basada en curvas KR que no modelan adecuadamente la física del desplazamiento pero aproximan la realidad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en base a potencia de cálcu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Usar los mismos principios pero disminuyendo el número de celdas y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agregando una descripción física más adecuada (pero más complej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¿Hay otras Alternativ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39DE-45FD-48CD-A940-6B5F875921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Mi Planteo Ho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Modelado físico: Cada parámetro o algoritmo debe tener un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correlato geológico o físico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ratar de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evitar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los “grillados” de detalle, cuando se los emplea sólo como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herramientas matem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nclar el modelado en los puntos que tienen historia de Inyección/Producción (los poz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o tomar la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historia de producción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como una curva descriptiva sino como una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curva inform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ada cambio de tendencia debe tener una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interpretación 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Usar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el reservorio como laboratorio de excel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el laboratorio convencional: PB, heterogeneidad, PE, fuerzas capilares, mojabilidad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el reservorio: Equilibrio de fuerzas (generar y estudiar los transitorios), trazadores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3C71-CB69-4944-9B0F-1B2F1E9482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Desplazamiento de laboratorio en una </a:t>
            </a: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celda bidimensional, heterogénea, a caudales variables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 y con efectos comparables de fuerzas “viscosas” y “capilar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Se trata de un escenario mucho más complejo que el analizado (sin éxito) en 200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93C-E3CA-46F7-B8E8-96930511B8A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IMG_18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4" name="Group 13"/>
          <p:cNvGrpSpPr/>
          <p:nvPr/>
        </p:nvGrpSpPr>
        <p:grpSpPr>
          <a:xfrm>
            <a:off x="2411280" y="1125360"/>
            <a:ext cx="6337440" cy="3598920"/>
            <a:chOff x="2411280" y="1125360"/>
            <a:chExt cx="6337440" cy="3598920"/>
          </a:xfrm>
        </p:grpSpPr>
        <p:sp>
          <p:nvSpPr>
            <p:cNvPr id="645" name="Text Box 4"/>
            <p:cNvSpPr/>
            <p:nvPr/>
          </p:nvSpPr>
          <p:spPr>
            <a:xfrm>
              <a:off x="5724360" y="1125360"/>
              <a:ext cx="302436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Medio Homogéneo K=10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Freeform 10"/>
            <p:cNvSpPr/>
            <p:nvPr/>
          </p:nvSpPr>
          <p:spPr>
            <a:xfrm>
              <a:off x="2411280" y="2133720"/>
              <a:ext cx="4392720" cy="2590560"/>
            </a:xfrm>
            <a:custGeom>
              <a:avLst/>
              <a:gdLst>
                <a:gd name="textAreaLeft" fmla="*/ 0 w 4392720"/>
                <a:gd name="textAreaRight" fmla="*/ 4393080 w 4392720"/>
                <a:gd name="textAreaTop" fmla="*/ 0 h 2590560"/>
                <a:gd name="textAreaBottom" fmla="*/ 2590560 h 2590560"/>
              </a:gdLst>
              <a:ahLst/>
              <a:rect l="textAreaLeft" t="textAreaTop" r="textAreaRight" b="textAreaBottom"/>
              <a:pathLst>
                <a:path w="2767" h="1587">
                  <a:moveTo>
                    <a:pt x="0" y="45"/>
                  </a:moveTo>
                  <a:lnTo>
                    <a:pt x="0" y="1587"/>
                  </a:lnTo>
                  <a:lnTo>
                    <a:pt x="2767" y="1451"/>
                  </a:lnTo>
                  <a:lnTo>
                    <a:pt x="1996" y="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11"/>
            <p:cNvSpPr/>
            <p:nvPr/>
          </p:nvSpPr>
          <p:spPr>
            <a:xfrm flipH="1">
              <a:off x="6084720" y="1916280"/>
              <a:ext cx="865440" cy="10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Group 14"/>
          <p:cNvGrpSpPr/>
          <p:nvPr/>
        </p:nvGrpSpPr>
        <p:grpSpPr>
          <a:xfrm>
            <a:off x="324000" y="333360"/>
            <a:ext cx="2376360" cy="4608360"/>
            <a:chOff x="324000" y="333360"/>
            <a:chExt cx="2376360" cy="4608360"/>
          </a:xfrm>
        </p:grpSpPr>
        <p:sp>
          <p:nvSpPr>
            <p:cNvPr id="649" name="Text Box 3"/>
            <p:cNvSpPr/>
            <p:nvPr/>
          </p:nvSpPr>
          <p:spPr>
            <a:xfrm>
              <a:off x="324000" y="333360"/>
              <a:ext cx="2376360" cy="1008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anal de alta Permeabilidad K=100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2050920" y="2133720"/>
              <a:ext cx="505080" cy="2808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12"/>
            <p:cNvSpPr/>
            <p:nvPr/>
          </p:nvSpPr>
          <p:spPr>
            <a:xfrm>
              <a:off x="1547640" y="1413000"/>
              <a:ext cx="720720" cy="79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2" name="10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857-B2D7-4A5E-A170-D439BC9718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Modelo Emplead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39640" y="1557360"/>
            <a:ext cx="5256360" cy="453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84360" y="1700280"/>
            <a:ext cx="287280" cy="42498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Oval 5"/>
          <p:cNvSpPr/>
          <p:nvPr/>
        </p:nvSpPr>
        <p:spPr>
          <a:xfrm>
            <a:off x="708120" y="5757840"/>
            <a:ext cx="168120" cy="1666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708120" y="1724040"/>
            <a:ext cx="168120" cy="1666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5456160" y="5757840"/>
            <a:ext cx="168480" cy="1666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Oval 8"/>
          <p:cNvSpPr/>
          <p:nvPr/>
        </p:nvSpPr>
        <p:spPr>
          <a:xfrm>
            <a:off x="5456160" y="1724040"/>
            <a:ext cx="168480" cy="1666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6227640" y="170028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da “homogénea” con un canal de alta permeabilid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6243480" y="40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al Vari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" name="Group 17"/>
          <p:cNvGrpSpPr/>
          <p:nvPr/>
        </p:nvGrpSpPr>
        <p:grpSpPr>
          <a:xfrm>
            <a:off x="-12960" y="2924280"/>
            <a:ext cx="8904600" cy="2867760"/>
            <a:chOff x="-12960" y="2924280"/>
            <a:chExt cx="8904600" cy="2867760"/>
          </a:xfrm>
        </p:grpSpPr>
        <p:sp>
          <p:nvSpPr>
            <p:cNvPr id="663" name="Text Box 10"/>
            <p:cNvSpPr/>
            <p:nvPr/>
          </p:nvSpPr>
          <p:spPr>
            <a:xfrm>
              <a:off x="6227640" y="29242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n Inyector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-12960" y="5172840"/>
              <a:ext cx="780120" cy="619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" name="Group 18"/>
          <p:cNvGrpSpPr/>
          <p:nvPr/>
        </p:nvGrpSpPr>
        <p:grpSpPr>
          <a:xfrm>
            <a:off x="813960" y="1140480"/>
            <a:ext cx="8077680" cy="2819520"/>
            <a:chOff x="813960" y="1140480"/>
            <a:chExt cx="8077680" cy="2819520"/>
          </a:xfrm>
        </p:grpSpPr>
        <p:sp>
          <p:nvSpPr>
            <p:cNvPr id="666" name="Text Box 12"/>
            <p:cNvSpPr/>
            <p:nvPr/>
          </p:nvSpPr>
          <p:spPr>
            <a:xfrm>
              <a:off x="6227640" y="35002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n Productor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15"/>
            <p:cNvSpPr/>
            <p:nvPr/>
          </p:nvSpPr>
          <p:spPr>
            <a:xfrm flipV="1">
              <a:off x="813960" y="1140480"/>
              <a:ext cx="780120" cy="619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Text Box 19"/>
          <p:cNvSpPr/>
          <p:nvPr/>
        </p:nvSpPr>
        <p:spPr>
          <a:xfrm>
            <a:off x="6227640" y="4508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erzas “viscosas” y Fuerzas Capila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17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6C0C-6F75-40BE-9D73-BC6DE6451A9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 Experiment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71" name="Picture 13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99480" cy="4788000"/>
          </a:xfrm>
          <a:prstGeom prst="rect">
            <a:avLst/>
          </a:prstGeom>
          <a:ln w="0">
            <a:noFill/>
          </a:ln>
        </p:spPr>
      </p:pic>
      <p:sp>
        <p:nvSpPr>
          <p:cNvPr id="67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A178-79DB-4143-B8E7-C8EA75C9D60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 Experiment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74" name="Picture 7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8680" cy="4788000"/>
          </a:xfrm>
          <a:prstGeom prst="rect">
            <a:avLst/>
          </a:prstGeom>
          <a:ln w="0">
            <a:noFill/>
          </a:ln>
        </p:spPr>
      </p:pic>
      <p:sp>
        <p:nvSpPr>
          <p:cNvPr id="675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7026-2D70-4825-9952-767C5C91D5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 Experiment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77" name="Picture 5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5440" cy="4786560"/>
          </a:xfrm>
          <a:prstGeom prst="rect">
            <a:avLst/>
          </a:prstGeom>
          <a:ln w="0">
            <a:noFill/>
          </a:ln>
        </p:spPr>
      </p:pic>
      <p:sp>
        <p:nvSpPr>
          <p:cNvPr id="67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B7DA-D2A0-4F39-9894-EA141CAF774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Definición Arbitrar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e habla de “Yacimientos Maduros” en general o de “Secundarias Avanzadas” en particular, cuando no se puede seguir haciendo “Más de lo Mism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 partir de ese momento se dejan de hacer “ampliaciones” directas y se comienzan a tomar medidas “correctivas” o “reactiva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hace más difícil imponer “nuestra voluntad” al reservo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3C50-A1E2-4622-88A0-CE3199B3D0A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Metodología de Modelado y Ajust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878040" y="912960"/>
            <a:ext cx="3217680" cy="28810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"/>
          <p:cNvPicPr/>
          <p:nvPr/>
        </p:nvPicPr>
        <p:blipFill>
          <a:blip r:embed="rId2"/>
          <a:stretch/>
        </p:blipFill>
        <p:spPr>
          <a:xfrm>
            <a:off x="868320" y="911160"/>
            <a:ext cx="3235320" cy="2879640"/>
          </a:xfrm>
          <a:prstGeom prst="rect">
            <a:avLst/>
          </a:prstGeom>
          <a:ln w="0">
            <a:noFill/>
          </a:ln>
        </p:spPr>
      </p:pic>
      <p:grpSp>
        <p:nvGrpSpPr>
          <p:cNvPr id="682" name="Group 6"/>
          <p:cNvGrpSpPr/>
          <p:nvPr/>
        </p:nvGrpSpPr>
        <p:grpSpPr>
          <a:xfrm>
            <a:off x="4356000" y="1557360"/>
            <a:ext cx="1224000" cy="1224000"/>
            <a:chOff x="4356000" y="1557360"/>
            <a:chExt cx="1224000" cy="1224000"/>
          </a:xfrm>
        </p:grpSpPr>
        <p:sp>
          <p:nvSpPr>
            <p:cNvPr id="683" name="Rectangle 7"/>
            <p:cNvSpPr/>
            <p:nvPr/>
          </p:nvSpPr>
          <p:spPr>
            <a:xfrm>
              <a:off x="4861080" y="1557360"/>
              <a:ext cx="215640" cy="12240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8"/>
            <p:cNvSpPr/>
            <p:nvPr/>
          </p:nvSpPr>
          <p:spPr>
            <a:xfrm rot="16200000">
              <a:off x="4860000" y="1555920"/>
              <a:ext cx="215640" cy="12240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5" name="Picture 9" descr=""/>
          <p:cNvPicPr/>
          <p:nvPr/>
        </p:nvPicPr>
        <p:blipFill>
          <a:blip r:embed="rId3"/>
          <a:stretch/>
        </p:blipFill>
        <p:spPr>
          <a:xfrm>
            <a:off x="3708360" y="4052880"/>
            <a:ext cx="3456000" cy="268596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10"/>
          <p:cNvGrpSpPr/>
          <p:nvPr/>
        </p:nvGrpSpPr>
        <p:grpSpPr>
          <a:xfrm>
            <a:off x="1763640" y="4724280"/>
            <a:ext cx="1224000" cy="1224000"/>
            <a:chOff x="1763640" y="4724280"/>
            <a:chExt cx="1224000" cy="1224000"/>
          </a:xfrm>
        </p:grpSpPr>
        <p:sp>
          <p:nvSpPr>
            <p:cNvPr id="687" name="Rectangle 11"/>
            <p:cNvSpPr/>
            <p:nvPr/>
          </p:nvSpPr>
          <p:spPr>
            <a:xfrm>
              <a:off x="2268720" y="4724280"/>
              <a:ext cx="215640" cy="12240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12"/>
            <p:cNvSpPr/>
            <p:nvPr/>
          </p:nvSpPr>
          <p:spPr>
            <a:xfrm rot="16200000">
              <a:off x="2267640" y="4722840"/>
              <a:ext cx="215640" cy="12240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9" name="Picture 14" descr=""/>
          <p:cNvPicPr/>
          <p:nvPr/>
        </p:nvPicPr>
        <p:blipFill>
          <a:blip r:embed="rId4"/>
          <a:stretch/>
        </p:blipFill>
        <p:spPr>
          <a:xfrm>
            <a:off x="5775480" y="909720"/>
            <a:ext cx="3260520" cy="2881080"/>
          </a:xfrm>
          <a:prstGeom prst="rect">
            <a:avLst/>
          </a:prstGeom>
          <a:ln w="0">
            <a:noFill/>
          </a:ln>
        </p:spPr>
      </p:pic>
      <p:sp>
        <p:nvSpPr>
          <p:cNvPr id="690" name="1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7853-8909-4D08-BCCD-FBB3CF9231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92" name="Picture 5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8680" cy="4788000"/>
          </a:xfrm>
          <a:prstGeom prst="rect">
            <a:avLst/>
          </a:prstGeom>
          <a:ln w="0">
            <a:noFill/>
          </a:ln>
        </p:spPr>
      </p:pic>
      <p:sp>
        <p:nvSpPr>
          <p:cNvPr id="693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DF57-C058-487C-A98F-80219AF2EF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95" name="Picture 8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8680" cy="4788000"/>
          </a:xfrm>
          <a:prstGeom prst="rect">
            <a:avLst/>
          </a:prstGeom>
          <a:ln w="0">
            <a:noFill/>
          </a:ln>
        </p:spPr>
      </p:pic>
      <p:sp>
        <p:nvSpPr>
          <p:cNvPr id="69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FB5E-FF4F-4492-8A6A-BBC87BD13F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8680" cy="4788000"/>
          </a:xfrm>
          <a:prstGeom prst="rect">
            <a:avLst/>
          </a:prstGeom>
          <a:ln w="0">
            <a:noFill/>
          </a:ln>
        </p:spPr>
      </p:pic>
      <p:sp>
        <p:nvSpPr>
          <p:cNvPr id="69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E7BF-8BB8-4819-98DB-CBE2364BE5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En el ejemplo se tomó toda el área cómo </a:t>
            </a:r>
            <a:r>
              <a:rPr b="1" lang="es-AR" sz="2600" spc="-1" strike="noStrike">
                <a:solidFill>
                  <a:srgbClr val="ffff66"/>
                </a:solidFill>
                <a:latin typeface="Times New Roman"/>
              </a:rPr>
              <a:t>un único bloque con propiedades globales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de;</a:t>
            </a: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Capacidad de flujo (</a:t>
            </a:r>
            <a:r>
              <a:rPr b="1" lang="es-AR" sz="1800" spc="-1" strike="noStrike">
                <a:solidFill>
                  <a:srgbClr val="ffff00"/>
                </a:solidFill>
                <a:latin typeface="Times New Roman"/>
              </a:rPr>
              <a:t>KR</a:t>
            </a: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Heterogeneidades (</a:t>
            </a:r>
            <a:r>
              <a:rPr b="1" lang="es-AR" sz="1800" spc="-1" strike="noStrike">
                <a:solidFill>
                  <a:srgbClr val="ffff00"/>
                </a:solidFill>
                <a:latin typeface="Times New Roman"/>
              </a:rPr>
              <a:t>canales</a:t>
            </a: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Factores geométricos (</a:t>
            </a:r>
            <a:r>
              <a:rPr b="1" lang="es-AR" sz="1800" spc="-1" strike="noStrike">
                <a:solidFill>
                  <a:srgbClr val="ffff00"/>
                </a:solidFill>
                <a:latin typeface="Times New Roman"/>
              </a:rPr>
              <a:t>forma</a:t>
            </a: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 del área de drenaj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Times New Roman"/>
              </a:rPr>
              <a:t>Efectos capilares</a:t>
            </a: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 (dependientes del intervalo de tiempo y del petróleo reman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Cambiando los factores de mezcla </a:t>
            </a:r>
            <a:r>
              <a:rPr b="1" lang="es-AR" sz="2600" spc="-1" strike="noStrike">
                <a:solidFill>
                  <a:srgbClr val="ffff00"/>
                </a:solidFill>
                <a:latin typeface="Times New Roman"/>
              </a:rPr>
              <a:t>se pudo reproducir una compleja historia de produc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AR" sz="2600" spc="-1" strike="noStrike">
                <a:solidFill>
                  <a:srgbClr val="ffff00"/>
                </a:solidFill>
                <a:latin typeface="Times New Roman"/>
              </a:rPr>
              <a:t>análisis inverso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permitiría deducir las propiedades del área de drenaje a partir de los ajustes y realizar </a:t>
            </a:r>
            <a:r>
              <a:rPr b="1" lang="es-AR" sz="2600" spc="-1" strike="noStrike">
                <a:solidFill>
                  <a:srgbClr val="ffff00"/>
                </a:solidFill>
                <a:latin typeface="Times New Roman"/>
              </a:rPr>
              <a:t>pronósticos fiables</a:t>
            </a:r>
            <a:r>
              <a:rPr b="0" lang="es-AR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ante cambios futur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00"/>
                </a:solidFill>
                <a:latin typeface="Times New Roman"/>
              </a:rPr>
              <a:t>Falta incluir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efectos gravitatorios, cambios de Patterns (inversiones, pozos “in fill”), producción multicapa, etc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C924-9D63-4B7C-8987-6C682A87BB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4" descr=""/>
          <p:cNvPicPr/>
          <p:nvPr/>
        </p:nvPicPr>
        <p:blipFill>
          <a:blip r:embed="rId1"/>
          <a:stretch/>
        </p:blipFill>
        <p:spPr>
          <a:xfrm>
            <a:off x="1224000" y="1341360"/>
            <a:ext cx="7920000" cy="525960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Las “Celdas” Re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7000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1187280" y="2924280"/>
            <a:ext cx="8064720" cy="3314520"/>
            <a:chOff x="1187280" y="2924280"/>
            <a:chExt cx="8064720" cy="3314520"/>
          </a:xfrm>
        </p:grpSpPr>
        <p:sp>
          <p:nvSpPr>
            <p:cNvPr id="707" name="Line 6"/>
            <p:cNvSpPr/>
            <p:nvPr/>
          </p:nvSpPr>
          <p:spPr>
            <a:xfrm>
              <a:off x="1763640" y="4292640"/>
              <a:ext cx="0" cy="187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7"/>
            <p:cNvSpPr/>
            <p:nvPr/>
          </p:nvSpPr>
          <p:spPr>
            <a:xfrm>
              <a:off x="2178000" y="414972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8"/>
            <p:cNvSpPr/>
            <p:nvPr/>
          </p:nvSpPr>
          <p:spPr>
            <a:xfrm>
              <a:off x="3008160" y="400536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9"/>
            <p:cNvSpPr/>
            <p:nvPr/>
          </p:nvSpPr>
          <p:spPr>
            <a:xfrm flipH="1">
              <a:off x="2555640" y="4292640"/>
              <a:ext cx="36360" cy="18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10"/>
            <p:cNvSpPr/>
            <p:nvPr/>
          </p:nvSpPr>
          <p:spPr>
            <a:xfrm>
              <a:off x="3419640" y="3789360"/>
              <a:ext cx="2880" cy="244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11"/>
            <p:cNvSpPr/>
            <p:nvPr/>
          </p:nvSpPr>
          <p:spPr>
            <a:xfrm>
              <a:off x="4668840" y="357336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12"/>
            <p:cNvSpPr/>
            <p:nvPr/>
          </p:nvSpPr>
          <p:spPr>
            <a:xfrm flipH="1">
              <a:off x="3838320" y="3716280"/>
              <a:ext cx="12600" cy="230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13"/>
            <p:cNvSpPr/>
            <p:nvPr/>
          </p:nvSpPr>
          <p:spPr>
            <a:xfrm flipH="1">
              <a:off x="4252680" y="3546360"/>
              <a:ext cx="14040" cy="240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14"/>
            <p:cNvSpPr/>
            <p:nvPr/>
          </p:nvSpPr>
          <p:spPr>
            <a:xfrm>
              <a:off x="5083200" y="364500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15"/>
            <p:cNvSpPr/>
            <p:nvPr/>
          </p:nvSpPr>
          <p:spPr>
            <a:xfrm>
              <a:off x="5499000" y="3500280"/>
              <a:ext cx="0" cy="208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16"/>
            <p:cNvSpPr/>
            <p:nvPr/>
          </p:nvSpPr>
          <p:spPr>
            <a:xfrm>
              <a:off x="6329520" y="314172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17"/>
            <p:cNvSpPr/>
            <p:nvPr/>
          </p:nvSpPr>
          <p:spPr>
            <a:xfrm>
              <a:off x="5913360" y="328464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18"/>
            <p:cNvSpPr/>
            <p:nvPr/>
          </p:nvSpPr>
          <p:spPr>
            <a:xfrm>
              <a:off x="7574040" y="3070080"/>
              <a:ext cx="0" cy="208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19"/>
            <p:cNvSpPr/>
            <p:nvPr/>
          </p:nvSpPr>
          <p:spPr>
            <a:xfrm>
              <a:off x="6732720" y="2997360"/>
              <a:ext cx="11160" cy="252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20"/>
            <p:cNvSpPr/>
            <p:nvPr/>
          </p:nvSpPr>
          <p:spPr>
            <a:xfrm flipH="1">
              <a:off x="7159320" y="2924280"/>
              <a:ext cx="4680" cy="252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21"/>
            <p:cNvSpPr/>
            <p:nvPr/>
          </p:nvSpPr>
          <p:spPr>
            <a:xfrm>
              <a:off x="7989840" y="314172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22"/>
            <p:cNvSpPr/>
            <p:nvPr/>
          </p:nvSpPr>
          <p:spPr>
            <a:xfrm>
              <a:off x="8404200" y="299736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23"/>
            <p:cNvSpPr/>
            <p:nvPr/>
          </p:nvSpPr>
          <p:spPr>
            <a:xfrm>
              <a:off x="8820000" y="299736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24"/>
            <p:cNvSpPr/>
            <p:nvPr/>
          </p:nvSpPr>
          <p:spPr>
            <a:xfrm>
              <a:off x="5867280" y="3141720"/>
              <a:ext cx="3384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25"/>
            <p:cNvSpPr/>
            <p:nvPr/>
          </p:nvSpPr>
          <p:spPr>
            <a:xfrm>
              <a:off x="4932360" y="3429000"/>
              <a:ext cx="421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3564000" y="3716280"/>
              <a:ext cx="55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28"/>
            <p:cNvSpPr/>
            <p:nvPr/>
          </p:nvSpPr>
          <p:spPr>
            <a:xfrm>
              <a:off x="2843280" y="4005360"/>
              <a:ext cx="630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0"/>
            <p:cNvSpPr/>
            <p:nvPr/>
          </p:nvSpPr>
          <p:spPr>
            <a:xfrm>
              <a:off x="1547640" y="4365720"/>
              <a:ext cx="6661440" cy="7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1"/>
            <p:cNvSpPr/>
            <p:nvPr/>
          </p:nvSpPr>
          <p:spPr>
            <a:xfrm>
              <a:off x="1258920" y="4652280"/>
              <a:ext cx="7165800" cy="2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"/>
            <p:cNvSpPr/>
            <p:nvPr/>
          </p:nvSpPr>
          <p:spPr>
            <a:xfrm>
              <a:off x="1258920" y="4941000"/>
              <a:ext cx="7381800" cy="47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3"/>
            <p:cNvSpPr/>
            <p:nvPr/>
          </p:nvSpPr>
          <p:spPr>
            <a:xfrm>
              <a:off x="1187280" y="5300640"/>
              <a:ext cx="6337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4"/>
            <p:cNvSpPr/>
            <p:nvPr/>
          </p:nvSpPr>
          <p:spPr>
            <a:xfrm>
              <a:off x="1332000" y="5589720"/>
              <a:ext cx="439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5"/>
            <p:cNvSpPr/>
            <p:nvPr/>
          </p:nvSpPr>
          <p:spPr>
            <a:xfrm>
              <a:off x="1187280" y="5877000"/>
              <a:ext cx="432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Text Box 37"/>
          <p:cNvSpPr/>
          <p:nvPr/>
        </p:nvSpPr>
        <p:spPr>
          <a:xfrm>
            <a:off x="1332000" y="1382760"/>
            <a:ext cx="76341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celda con sus propios coeficientes de mezcla para los diferentes algoritm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34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9B0-1BB8-4A6E-82EF-3049258FDC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20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Flujo de Trabajo Actu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38" name="Group 3"/>
          <p:cNvGrpSpPr/>
          <p:nvPr/>
        </p:nvGrpSpPr>
        <p:grpSpPr>
          <a:xfrm>
            <a:off x="684360" y="1197000"/>
            <a:ext cx="3746520" cy="5484240"/>
            <a:chOff x="684360" y="1197000"/>
            <a:chExt cx="3746520" cy="5484240"/>
          </a:xfrm>
        </p:grpSpPr>
        <p:sp>
          <p:nvSpPr>
            <p:cNvPr id="739" name="Text Box 4"/>
            <p:cNvSpPr/>
            <p:nvPr/>
          </p:nvSpPr>
          <p:spPr>
            <a:xfrm>
              <a:off x="1908360" y="4292640"/>
              <a:ext cx="1368360" cy="916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400" spc="-1" strike="noStrike">
                  <a:solidFill>
                    <a:srgbClr val="ffffff"/>
                  </a:solidFill>
                  <a:latin typeface="Arial"/>
                </a:rPr>
                <a:t>KR</a:t>
              </a:r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Text Box 5"/>
            <p:cNvSpPr/>
            <p:nvPr/>
          </p:nvSpPr>
          <p:spPr>
            <a:xfrm>
              <a:off x="1044720" y="2781360"/>
              <a:ext cx="302400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Mediciones de Laboratori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Text Box 6"/>
            <p:cNvSpPr/>
            <p:nvPr/>
          </p:nvSpPr>
          <p:spPr>
            <a:xfrm>
              <a:off x="757440" y="1197000"/>
              <a:ext cx="360036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Modelo Geológico: Rock Types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Text Box 7"/>
            <p:cNvSpPr/>
            <p:nvPr/>
          </p:nvSpPr>
          <p:spPr>
            <a:xfrm>
              <a:off x="1405080" y="5734080"/>
              <a:ext cx="215892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Historia de Producció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AutoShape 8"/>
            <p:cNvSpPr/>
            <p:nvPr/>
          </p:nvSpPr>
          <p:spPr>
            <a:xfrm>
              <a:off x="684360" y="4797360"/>
              <a:ext cx="576360" cy="1366920"/>
            </a:xfrm>
            <a:custGeom>
              <a:avLst/>
              <a:gdLst>
                <a:gd name="textAreaLeft" fmla="*/ 77040 w 576360"/>
                <a:gd name="textAreaRight" fmla="*/ 499320 w 576360"/>
                <a:gd name="textAreaTop" fmla="*/ 239040 h 1366920"/>
                <a:gd name="textAreaBottom" fmla="*/ 9910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AutoShape 9"/>
            <p:cNvSpPr/>
            <p:nvPr/>
          </p:nvSpPr>
          <p:spPr>
            <a:xfrm flipV="1">
              <a:off x="3781440" y="4653000"/>
              <a:ext cx="649440" cy="1440000"/>
            </a:xfrm>
            <a:custGeom>
              <a:avLst/>
              <a:gdLst>
                <a:gd name="textAreaLeft" fmla="*/ 86760 w 649440"/>
                <a:gd name="textAreaRight" fmla="*/ 562680 w 64944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10"/>
            <p:cNvSpPr/>
            <p:nvPr/>
          </p:nvSpPr>
          <p:spPr>
            <a:xfrm>
              <a:off x="2484360" y="2205000"/>
              <a:ext cx="0" cy="503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11"/>
            <p:cNvSpPr/>
            <p:nvPr/>
          </p:nvSpPr>
          <p:spPr>
            <a:xfrm>
              <a:off x="2484360" y="3789360"/>
              <a:ext cx="0" cy="43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12"/>
            <p:cNvSpPr/>
            <p:nvPr/>
          </p:nvSpPr>
          <p:spPr>
            <a:xfrm>
              <a:off x="2484360" y="52293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8" name="Text Box 13"/>
          <p:cNvSpPr/>
          <p:nvPr/>
        </p:nvSpPr>
        <p:spPr>
          <a:xfrm>
            <a:off x="5292720" y="1341360"/>
            <a:ext cx="3456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s curvas KR son una variable clave para el ajuste de S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o… estas curvas, no se respaldan  con un modelo físico (geológico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1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1F0A-BCFA-47FE-95AD-E37068B784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20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Flujo de Trabajo Propuest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3203640" y="4365720"/>
            <a:ext cx="23032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apacidad de Produc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5148360" y="2460600"/>
            <a:ext cx="302400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ciones de Laboratorio. PE, Pc,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Heterog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, Mojab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468360" y="1197000"/>
            <a:ext cx="2808360" cy="131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odelo Geológico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Estático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468360" y="5589720"/>
            <a:ext cx="3024000" cy="1068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istoria de Producció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6588000" y="4440240"/>
            <a:ext cx="2376720" cy="70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strategi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 Explotació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8"/>
          <p:cNvSpPr/>
          <p:nvPr/>
        </p:nvSpPr>
        <p:spPr>
          <a:xfrm>
            <a:off x="6084720" y="5278320"/>
            <a:ext cx="27003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IS,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PI, Tiempo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5292720" y="5877000"/>
            <a:ext cx="295128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Arial"/>
              </a:rPr>
              <a:t>Trazador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3419640" y="1197000"/>
            <a:ext cx="3313080" cy="1130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odelo Dinámic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Mec. de Desplazamiento / Equil. de Fuerzas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5940360" y="3603600"/>
            <a:ext cx="3024360" cy="70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ción de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Transitor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 Corte de Agua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Group 22"/>
          <p:cNvGrpSpPr/>
          <p:nvPr/>
        </p:nvGrpSpPr>
        <p:grpSpPr>
          <a:xfrm>
            <a:off x="2411280" y="2492280"/>
            <a:ext cx="4105080" cy="3673440"/>
            <a:chOff x="2411280" y="2492280"/>
            <a:chExt cx="4105080" cy="3673440"/>
          </a:xfrm>
        </p:grpSpPr>
        <p:sp>
          <p:nvSpPr>
            <p:cNvPr id="761" name="Line 12"/>
            <p:cNvSpPr/>
            <p:nvPr/>
          </p:nvSpPr>
          <p:spPr>
            <a:xfrm>
              <a:off x="2411280" y="2708280"/>
              <a:ext cx="1152720" cy="136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13"/>
            <p:cNvSpPr/>
            <p:nvPr/>
          </p:nvSpPr>
          <p:spPr>
            <a:xfrm flipH="1">
              <a:off x="4068360" y="2492280"/>
              <a:ext cx="358920" cy="180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14"/>
            <p:cNvSpPr/>
            <p:nvPr/>
          </p:nvSpPr>
          <p:spPr>
            <a:xfrm flipH="1">
              <a:off x="4427640" y="3429000"/>
              <a:ext cx="576000" cy="86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15"/>
            <p:cNvSpPr/>
            <p:nvPr/>
          </p:nvSpPr>
          <p:spPr>
            <a:xfrm flipH="1">
              <a:off x="5148000" y="3860640"/>
              <a:ext cx="71892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16"/>
            <p:cNvSpPr/>
            <p:nvPr/>
          </p:nvSpPr>
          <p:spPr>
            <a:xfrm flipH="1">
              <a:off x="5651280" y="4724280"/>
              <a:ext cx="865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17"/>
            <p:cNvSpPr/>
            <p:nvPr/>
          </p:nvSpPr>
          <p:spPr>
            <a:xfrm flipH="1" flipV="1">
              <a:off x="5580000" y="5229360"/>
              <a:ext cx="287280" cy="7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18"/>
            <p:cNvSpPr/>
            <p:nvPr/>
          </p:nvSpPr>
          <p:spPr>
            <a:xfrm flipH="1" flipV="1">
              <a:off x="4571640" y="5373720"/>
              <a:ext cx="647640" cy="79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8" name="Line 19"/>
          <p:cNvSpPr/>
          <p:nvPr/>
        </p:nvSpPr>
        <p:spPr>
          <a:xfrm flipH="1">
            <a:off x="3564000" y="5445000"/>
            <a:ext cx="50472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AutoShape 20"/>
          <p:cNvSpPr/>
          <p:nvPr/>
        </p:nvSpPr>
        <p:spPr>
          <a:xfrm>
            <a:off x="1619280" y="2708280"/>
            <a:ext cx="288720" cy="2736720"/>
          </a:xfrm>
          <a:prstGeom prst="upArrow">
            <a:avLst>
              <a:gd name="adj1" fmla="val 50000"/>
              <a:gd name="adj2" fmla="val 2369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AutoShape 21"/>
          <p:cNvSpPr/>
          <p:nvPr/>
        </p:nvSpPr>
        <p:spPr>
          <a:xfrm rot="2199000">
            <a:off x="2627280" y="2276640"/>
            <a:ext cx="289080" cy="3438360"/>
          </a:xfrm>
          <a:prstGeom prst="upArrow">
            <a:avLst>
              <a:gd name="adj1" fmla="val 50000"/>
              <a:gd name="adj2" fmla="val 29735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2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0BD1-04CD-48E2-B059-948980683A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1116000" y="620640"/>
            <a:ext cx="784872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D128-24A2-443B-A961-A19C4D897E2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1116000" y="1916280"/>
            <a:ext cx="7848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1619280" y="2349360"/>
            <a:ext cx="7524720" cy="8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FF9F-785F-4489-97AD-4F7E110AEC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Más rápido se inyecta, más rápido se produ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88C5-1AB1-4337-A905-D9B06C0904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Text Box 4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1116000" y="2992320"/>
            <a:ext cx="7848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fuerzas “viscosas” no siempre trabajan en el mismo sentido que las fuerzas espontáneas. El petróleo puede reacomodarse por efectos capilares y gravitatori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1619280" y="328464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fuerzas “viscosas” no siempre trabajan en el mismo sentido que las fuerzas espontáneas. El petróleo puede reacomodarse por efectos capilares y gravitator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1619280" y="2349360"/>
            <a:ext cx="7524720" cy="8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7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DEF-1469-4AB1-8CCB-D8038859402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1619280" y="2349360"/>
            <a:ext cx="7524720" cy="8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1619280" y="328464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fuerzas “viscosas” no siempre trabajan en el mismo sentido que las fuerzas espontáneas. El petróleo puede reacomodarse por efectos capilares y gravitator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1116000" y="4278240"/>
            <a:ext cx="784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cundarias avanzadas existe un caudal óptimo de Inyección/Producció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1619280" y="4365720"/>
            <a:ext cx="7524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ecundarias avanzadas existe un caudal óptimo de Inyección/Producció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8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6AF-28F3-4A98-949D-877932B74B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1619280" y="2349360"/>
            <a:ext cx="7524720" cy="8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1619280" y="328464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fuerzas “viscosas” no siempre trabajan en el mismo sentido que las fuerzas espontáneas. El petróleo puede reacomodarse por efectos capilares y gravitator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1619280" y="4365720"/>
            <a:ext cx="7524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ecundarias avanzadas existe un Caudal óptimo de Inyección/Producció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1116000" y="4581360"/>
            <a:ext cx="7848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anales de alta permeabilidad pueden favorecer la acción de las fuerzas capilares, aumentando la velocidad de recuperación de petróle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1619280" y="5141880"/>
            <a:ext cx="752472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canales de alta permeabilidad pueden favorecer la acción de las fuerzas capilares, aumentando la velocidad de recuperación de petról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9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8289-C2A6-498A-B943-583602757E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300320" y="-36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170000" y="1052640"/>
            <a:ext cx="79740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rían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eemplazarse los millones de celdas de la S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ctual por el modelado directo de los pozos usando algoritmos sim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lución analítica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ermitiría la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interacción directa del “History Matching”con el modelado físico y geológico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 la tram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solución de cada pozo individual y del conjunto debe ser compatible con el modelo estáti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9E69-04C9-495C-B451-F65C7657E6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20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. Dake. “ The Practice ...”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AR" sz="3400" spc="-1" strike="noStrike">
                <a:solidFill>
                  <a:srgbClr val="ffff00"/>
                </a:solidFill>
                <a:latin typeface="Times New Roman"/>
              </a:rPr>
              <a:t>curvas de permeabilidad relativa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 parecen haber sido tratadas siempre con </a:t>
            </a:r>
            <a:r>
              <a:rPr b="1" i="1" lang="es-AR" sz="3400" spc="-1" strike="noStrike">
                <a:solidFill>
                  <a:srgbClr val="ffff00"/>
                </a:solidFill>
                <a:latin typeface="Times New Roman"/>
              </a:rPr>
              <a:t>gran veneración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 a lo largo de la historia de la ingeniería de reservorios”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Se asume que estas curvas son </a:t>
            </a:r>
            <a:r>
              <a:rPr b="1" i="1" lang="es-AR" sz="3400" spc="-1" strike="noStrike">
                <a:solidFill>
                  <a:srgbClr val="ffff00"/>
                </a:solidFill>
                <a:latin typeface="Times New Roman"/>
              </a:rPr>
              <a:t>intrínsecamente correctas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 y toda la teoría y la práctica se ha ensamblado para acomodarse a esta visión generalizada”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647-F502-4234-A5A3-795B061ACC3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. Rose - SPE 57442 - 1999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De una u otra forma, y actualmente por casi una centuria, la voluminosa literatura sobre este tema ha sido notoriamente influenciada por la </a:t>
            </a:r>
            <a:r>
              <a:rPr b="1" i="1" lang="es-AR" sz="3200" spc="-1" strike="noStrike">
                <a:solidFill>
                  <a:srgbClr val="ffff00"/>
                </a:solidFill>
                <a:latin typeface="Times New Roman"/>
              </a:rPr>
              <a:t>cambiante interpretación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 del significado y aplicabilidad del concepto de permeabilidad relativa que </a:t>
            </a:r>
            <a:r>
              <a:rPr b="1" i="1" lang="es-AR" sz="3200" spc="-1" strike="noStrike">
                <a:solidFill>
                  <a:srgbClr val="ffff00"/>
                </a:solidFill>
                <a:latin typeface="Times New Roman"/>
              </a:rPr>
              <a:t>continúa causando perplejidad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 pese a su difundido emple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... el foco de </a:t>
            </a:r>
            <a:r>
              <a:rPr b="1" i="1" lang="es-AR" sz="3200" spc="-1" strike="noStrike">
                <a:solidFill>
                  <a:srgbClr val="ffff00"/>
                </a:solidFill>
                <a:latin typeface="Times New Roman"/>
              </a:rPr>
              <a:t>mayor importancia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 tiene que estar relacionado a </a:t>
            </a:r>
            <a:r>
              <a:rPr b="1" i="1" lang="es-AR" sz="3200" spc="-1" strike="noStrike">
                <a:solidFill>
                  <a:srgbClr val="ffff00"/>
                </a:solidFill>
                <a:latin typeface="Times New Roman"/>
              </a:rPr>
              <a:t>cómo medir y aplicar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 los datos de permeabilidad relativa cuando se emprenden estudios de simulación de los procesos de transporte en reservori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857A-4676-47C6-9BA3-2957E21149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uckley &amp; Leverett. “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echanism of Fluid Displacement ...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” Trans AIME 1942 p. 107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AR" sz="3600" spc="-1" strike="noStrike">
                <a:solidFill>
                  <a:srgbClr val="ffff66"/>
                </a:solidFill>
                <a:latin typeface="Times New Roman"/>
              </a:rPr>
              <a:t>En ausencia de efectos capilares y gravitatorios</a:t>
            </a:r>
            <a:r>
              <a:rPr b="0" i="1" lang="es-AR" sz="3600" spc="-1" strike="noStrike">
                <a:solidFill>
                  <a:srgbClr val="ffffff"/>
                </a:solidFill>
                <a:latin typeface="Times New Roman"/>
              </a:rPr>
              <a:t>,  fw - para una dada arena y juego de fluidos - varía sólo ligeramente con factores diferentes a Sw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En este supuesto se basa el empleo de las curvas de </a:t>
            </a: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Permeabilidad Relativa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 y la curva asociada de Flujo Frac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B05B-6E40-4CD2-8AE4-F82B6528AD8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Necesidades y Posibilidades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cesidad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: Modelar la </a:t>
            </a:r>
            <a:r>
              <a:rPr b="1" lang="es-AR" sz="3200" spc="-1" strike="noStrike">
                <a:solidFill>
                  <a:srgbClr val="ffff66"/>
                </a:solidFill>
                <a:latin typeface="Times New Roman"/>
              </a:rPr>
              <a:t>producción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de fluidos en función de los balances Inyección-Producción y del tiempo,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para sistemas tridimensionales y heterogéneos, bajo el cambiante equilibrio de fuerzas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, en diferentes partes de la 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ibilidad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: Con las curvas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KR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se modela la capacidad de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conducción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de fluidos en función de la Sw en cada punto, para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stemas lineales y homogéneos, en ausencia de fuerzas capilares y gravitatorias</a:t>
            </a:r>
            <a:r>
              <a:rPr b="0" lang="es-A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7A3A-605F-4339-9FD6-43BB7524FB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Resultado Hasta Ho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Medición de más y más curvas KR para mejorar la descripción po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imulación Numérica con más y más cel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Al reservorio se lo trata fundamentalmente como un ente “matemático”. Se “fuerza” a la física a responder a las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herramientas matemáticas dispon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n resumen: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¡Más y más de lo mism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F10A-6124-4A4A-9727-365434754E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Siguiendo el ejemplo de W. Rose (I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1988 - "</a:t>
            </a: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Método de Ajuste Numérico para la Obtención de curvas de Permeabilidad Relativa a partir de experiencias de desplazamiento a presión constante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". Simposio de Producción de Hidrocarburos. IAPG -Bariloch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¡Puras Matemáticas!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1998 - "</a:t>
            </a: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Relative Permeability Curves: The Influence of Flow Direction and Heterogeneities. Dependence of End Point Saturations on Displacement Mechanisms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". SPE 39657 – Tul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rimeras “anomalías” físic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1999 - "</a:t>
            </a: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Pseudo Relative Permeability Functions. Limitations in the Use of thr Frontal Advance Theory for 2-Dimensional Systems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". SPE 54004 - LACPEC –Carac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rimeras “anomalías” teó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0B3F-15E6-4B39-A937-F6F962759F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6:45:04Z</dcterms:created>
  <dc:creator>Pablo Turmero</dc:creator>
  <dc:description/>
  <dc:language>en-US</dc:language>
  <cp:lastModifiedBy>Pablo Turmero</cp:lastModifiedBy>
  <dcterms:modified xsi:type="dcterms:W3CDTF">2017-10-01T15:54:37Z</dcterms:modified>
  <cp:revision>167</cp:revision>
  <dc:subject/>
  <dc:title>Secundarias Avanzadas – Necesidades y Posibilidades</dc:title>
</cp:coreProperties>
</file>