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A5C6-774A-4604-9151-EA428625D3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0885-E3F4-4965-933A-9035425E530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FB5-625C-4379-9BDC-AC16B8C1583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D78-BF40-406B-8EB3-751D5D51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1B4-9814-4EC9-8BBD-1CBBFAC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E17-C651-49D6-8697-84C1A468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C56-8C1A-487C-8C7D-9672A053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FC32-2CDB-45F4-AB0C-0733AD78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EAD5-6F46-403D-A0A8-D933880E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08C-B88E-46CB-A2EF-20C57B7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39F3-150C-49C8-8028-BDB70D64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EE5-BE9B-4DE5-BA58-82AB357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9B5F-7262-4006-BD88-11B3722B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4C59-C47B-43C9-8DE6-7210A49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B33-DD5D-4D7D-9040-0334CCAD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77A-A259-48C4-B58B-7D6A7AE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4E9A-3EB3-4D9C-B5AA-DD4EBBC0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873-6237-4BF4-8395-B75F2FAF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F3F7-C0A4-4AF2-8EED-404543B9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C6F-7DBD-43CE-8C42-BD4C6C29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0C5-CF20-4614-9A2F-C6B8EBC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1F6-D690-4E75-A49E-6F5DF681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379-497F-4E95-9006-001B20D1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0C0-D222-4E4C-9A36-E77ACD3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79A-A765-4130-AC64-576CB81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F75-024A-4C3E-96B6-0673C66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FA2-DADB-43D7-9E6F-A6440C3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C1A-FC33-40A3-9FF4-E4914155A2E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ADEE-E67A-4217-BDBC-C3006AA50883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62e45"/>
                </a:solidFill>
                <a:latin typeface="Arial"/>
                <a:ea typeface="Arial"/>
              </a:rPr>
              <a:t>Desarrollo del oído medi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nry Tomas Vargas Marcacuz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secta666@hotmail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492360" y="2708280"/>
            <a:ext cx="196236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ACIA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154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62e45"/>
                </a:solidFill>
                <a:latin typeface="Arial"/>
                <a:ea typeface="Arial"/>
              </a:rPr>
              <a:t>Fin de la 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3564000" y="5878440"/>
            <a:ext cx="539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mbriología 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CUELA PROFESIONAL DE MEDICINA HUMANA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NIVERSIDAD NACIONAL DE TRUJ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539640" y="511200"/>
            <a:ext cx="47530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DESARROLLLO </a:t>
            </a:r>
            <a:endParaRPr b="1" lang="en-US" sz="96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9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OIDO MEDIO</a:t>
            </a:r>
            <a:endParaRPr b="1" lang="en-US" sz="96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1258920" y="2349360"/>
            <a:ext cx="2808360" cy="720720"/>
          </a:xfrm>
          <a:custGeom>
            <a:avLst/>
            <a:gdLst>
              <a:gd name="textAreaLeft" fmla="*/ 46440 w 2808360"/>
              <a:gd name="textAreaRight" fmla="*/ 2761920 w 2808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84135" h="21600">
                <a:moveTo>
                  <a:pt x="0" y="0"/>
                </a:moveTo>
                <a:lnTo>
                  <a:pt x="84135" y="0"/>
                </a:lnTo>
                <a:lnTo>
                  <a:pt x="84135" y="21600"/>
                </a:lnTo>
                <a:lnTo>
                  <a:pt x="0" y="21600"/>
                </a:lnTo>
                <a:close/>
              </a:path>
              <a:path fill="lightenLess" w="84135" h="21600">
                <a:moveTo>
                  <a:pt x="0" y="0"/>
                </a:moveTo>
                <a:lnTo>
                  <a:pt x="84135" y="0"/>
                </a:lnTo>
                <a:lnTo>
                  <a:pt x="82735" y="1400"/>
                </a:lnTo>
                <a:lnTo>
                  <a:pt x="1400" y="1400"/>
                </a:lnTo>
                <a:close/>
              </a:path>
              <a:path fill="darken" w="84135" h="21600">
                <a:moveTo>
                  <a:pt x="84135" y="0"/>
                </a:moveTo>
                <a:lnTo>
                  <a:pt x="84135" y="21600"/>
                </a:lnTo>
                <a:lnTo>
                  <a:pt x="82735" y="20200"/>
                </a:lnTo>
                <a:lnTo>
                  <a:pt x="82735" y="1400"/>
                </a:lnTo>
                <a:close/>
              </a:path>
              <a:path fill="darkenLess" w="84135" h="21600">
                <a:moveTo>
                  <a:pt x="84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735" y="20200"/>
                </a:lnTo>
                <a:close/>
              </a:path>
              <a:path fill="lighten" w="84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vidad Timpá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5580000" y="3716280"/>
            <a:ext cx="2808360" cy="720720"/>
          </a:xfrm>
          <a:custGeom>
            <a:avLst/>
            <a:gdLst>
              <a:gd name="textAreaLeft" fmla="*/ 46440 w 2808360"/>
              <a:gd name="textAreaRight" fmla="*/ 2761920 w 2808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84135" h="21600">
                <a:moveTo>
                  <a:pt x="0" y="0"/>
                </a:moveTo>
                <a:lnTo>
                  <a:pt x="84135" y="0"/>
                </a:lnTo>
                <a:lnTo>
                  <a:pt x="84135" y="21600"/>
                </a:lnTo>
                <a:lnTo>
                  <a:pt x="0" y="21600"/>
                </a:lnTo>
                <a:close/>
              </a:path>
              <a:path fill="lightenLess" w="84135" h="21600">
                <a:moveTo>
                  <a:pt x="0" y="0"/>
                </a:moveTo>
                <a:lnTo>
                  <a:pt x="84135" y="0"/>
                </a:lnTo>
                <a:lnTo>
                  <a:pt x="82735" y="1400"/>
                </a:lnTo>
                <a:lnTo>
                  <a:pt x="1400" y="1400"/>
                </a:lnTo>
                <a:close/>
              </a:path>
              <a:path fill="darken" w="84135" h="21600">
                <a:moveTo>
                  <a:pt x="84135" y="0"/>
                </a:moveTo>
                <a:lnTo>
                  <a:pt x="84135" y="21600"/>
                </a:lnTo>
                <a:lnTo>
                  <a:pt x="82735" y="20200"/>
                </a:lnTo>
                <a:lnTo>
                  <a:pt x="82735" y="1400"/>
                </a:lnTo>
                <a:close/>
              </a:path>
              <a:path fill="darkenLess" w="84135" h="21600">
                <a:moveTo>
                  <a:pt x="84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735" y="20200"/>
                </a:lnTo>
                <a:close/>
              </a:path>
              <a:path fill="lighten" w="84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uesecil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5"/>
          <p:cNvSpPr/>
          <p:nvPr/>
        </p:nvSpPr>
        <p:spPr>
          <a:xfrm>
            <a:off x="7451640" y="260280"/>
            <a:ext cx="1368360" cy="1008000"/>
          </a:xfrm>
          <a:prstGeom prst="ellipse">
            <a:avLst/>
          </a:prstGeom>
          <a:gradFill rotWithShape="0">
            <a:gsLst>
              <a:gs pos="0">
                <a:srgbClr val="83aec8">
                  <a:alpha val="50196"/>
                </a:srgbClr>
              </a:gs>
              <a:gs pos="100000">
                <a:srgbClr val="00588e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df2ff"/>
                </a:solidFill>
                <a:latin typeface="Arial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"/>
          <p:cNvPicPr/>
          <p:nvPr/>
        </p:nvPicPr>
        <p:blipFill>
          <a:blip r:embed="rId4"/>
          <a:stretch/>
        </p:blipFill>
        <p:spPr>
          <a:xfrm>
            <a:off x="1332000" y="3789360"/>
            <a:ext cx="1604880" cy="109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"/>
          <p:cNvPicPr/>
          <p:nvPr/>
        </p:nvPicPr>
        <p:blipFill>
          <a:blip r:embed="rId5"/>
          <a:stretch/>
        </p:blipFill>
        <p:spPr>
          <a:xfrm>
            <a:off x="2916360" y="3789360"/>
            <a:ext cx="1224000" cy="1104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"/>
          <p:cNvPicPr/>
          <p:nvPr/>
        </p:nvPicPr>
        <p:blipFill>
          <a:blip r:embed="rId6"/>
          <a:stretch/>
        </p:blipFill>
        <p:spPr>
          <a:xfrm>
            <a:off x="1332000" y="4797360"/>
            <a:ext cx="1604880" cy="108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7"/>
          <a:srcRect l="0" t="0" r="23747" b="0"/>
          <a:stretch/>
        </p:blipFill>
        <p:spPr>
          <a:xfrm>
            <a:off x="2916360" y="4797360"/>
            <a:ext cx="12240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Modern No. 20"/>
              </a:rPr>
              <a:t>DESARROLLO DEL OÍ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Modern No. 20"/>
              </a:rPr>
              <a:t>OÍDO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22400" y="573300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99"/>
                </a:solidFill>
                <a:latin typeface="Modern No. 20"/>
              </a:rPr>
              <a:t>Vargas Marcacuzco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Modern No. 20"/>
              </a:rPr>
              <a:t>Cavidad Timpánic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3564000" y="2781360"/>
            <a:ext cx="280836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 Bolsa Faríng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042920" y="4508640"/>
            <a:ext cx="302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eso Tubotimpá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6804000" y="1557360"/>
            <a:ext cx="201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doder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1042920" y="5805360"/>
            <a:ext cx="302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vidad Timpánica primi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5867280" y="4508640"/>
            <a:ext cx="259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ompa de Eustaqu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3203640" y="1557360"/>
            <a:ext cx="2448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vidad Timp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5796000" y="5661000"/>
            <a:ext cx="273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sofa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vidad Timp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33"/>
          <p:cNvCxnSpPr>
            <a:stCxn id="110" idx="3"/>
            <a:endCxn id="107" idx="1"/>
          </p:cNvCxnSpPr>
          <p:nvPr/>
        </p:nvCxnSpPr>
        <p:spPr>
          <a:xfrm>
            <a:off x="5651280" y="17730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Oval 35"/>
          <p:cNvSpPr/>
          <p:nvPr/>
        </p:nvSpPr>
        <p:spPr>
          <a:xfrm>
            <a:off x="179280" y="2276640"/>
            <a:ext cx="20890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ndid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ríng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36"/>
          <p:cNvCxnSpPr>
            <a:stCxn id="113" idx="6"/>
            <a:endCxn id="105" idx="1"/>
          </p:cNvCxnSpPr>
          <p:nvPr/>
        </p:nvCxnSpPr>
        <p:spPr>
          <a:xfrm>
            <a:off x="2268000" y="2815920"/>
            <a:ext cx="1296360" cy="144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AutoShape 39"/>
          <p:cNvCxnSpPr>
            <a:stCxn id="110" idx="2"/>
            <a:endCxn id="105" idx="0"/>
          </p:cNvCxnSpPr>
          <p:nvPr/>
        </p:nvCxnSpPr>
        <p:spPr>
          <a:xfrm flipH="1" rot="16200000">
            <a:off x="4300920" y="2114280"/>
            <a:ext cx="793080" cy="541800"/>
          </a:xfrm>
          <a:prstGeom prst="bentConnector3">
            <a:avLst>
              <a:gd name="adj1" fmla="val 498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40"/>
          <p:cNvCxnSpPr>
            <a:stCxn id="106" idx="0"/>
            <a:endCxn id="105" idx="2"/>
          </p:cNvCxnSpPr>
          <p:nvPr/>
        </p:nvCxnSpPr>
        <p:spPr>
          <a:xfrm flipH="1" flipV="1" rot="5400000">
            <a:off x="3077640" y="2617560"/>
            <a:ext cx="1369440" cy="24134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41"/>
          <p:cNvCxnSpPr>
            <a:stCxn id="109" idx="0"/>
            <a:endCxn id="105" idx="2"/>
          </p:cNvCxnSpPr>
          <p:nvPr/>
        </p:nvCxnSpPr>
        <p:spPr>
          <a:xfrm flipV="1" rot="16200000">
            <a:off x="5381640" y="2725920"/>
            <a:ext cx="1369440" cy="219600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AutoShape 42"/>
          <p:cNvCxnSpPr>
            <a:stCxn id="106" idx="2"/>
            <a:endCxn id="108" idx="0"/>
          </p:cNvCxnSpPr>
          <p:nvPr/>
        </p:nvCxnSpPr>
        <p:spPr>
          <a:xfrm>
            <a:off x="2555640" y="486864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43"/>
          <p:cNvCxnSpPr>
            <a:stCxn id="109" idx="2"/>
            <a:endCxn id="111" idx="0"/>
          </p:cNvCxnSpPr>
          <p:nvPr/>
        </p:nvCxnSpPr>
        <p:spPr>
          <a:xfrm>
            <a:off x="7164000" y="4869000"/>
            <a:ext cx="1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6"/>
          <p:cNvSpPr/>
          <p:nvPr/>
        </p:nvSpPr>
        <p:spPr>
          <a:xfrm>
            <a:off x="2268360" y="2349360"/>
            <a:ext cx="1295640" cy="432000"/>
          </a:xfrm>
          <a:custGeom>
            <a:avLst/>
            <a:gdLst>
              <a:gd name="textAreaLeft" fmla="*/ 0 w 1295640"/>
              <a:gd name="textAreaRight" fmla="*/ 1296000 w 1295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rción 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7"/>
          <p:cNvSpPr/>
          <p:nvPr/>
        </p:nvSpPr>
        <p:spPr>
          <a:xfrm>
            <a:off x="2627280" y="3933720"/>
            <a:ext cx="1224000" cy="503280"/>
          </a:xfrm>
          <a:custGeom>
            <a:avLst/>
            <a:gdLst>
              <a:gd name="textAreaLeft" fmla="*/ 0 w 1224000"/>
              <a:gd name="textAreaRight" fmla="*/ 1224360 w 1224000"/>
              <a:gd name="textAreaTop" fmla="*/ 65160 h 503280"/>
              <a:gd name="textAreaBottom" fmla="*/ 438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rción Di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8"/>
          <p:cNvSpPr/>
          <p:nvPr/>
        </p:nvSpPr>
        <p:spPr>
          <a:xfrm>
            <a:off x="7236000" y="386064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rción Prox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9"/>
          <p:cNvSpPr/>
          <p:nvPr/>
        </p:nvSpPr>
        <p:spPr>
          <a:xfrm>
            <a:off x="2556000" y="5013360"/>
            <a:ext cx="2087280" cy="647640"/>
          </a:xfrm>
          <a:prstGeom prst="cloudCallout">
            <a:avLst>
              <a:gd name="adj1" fmla="val -36921"/>
              <a:gd name="adj2" fmla="val 40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ensancha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2"/>
          <p:cNvSpPr/>
          <p:nvPr/>
        </p:nvSpPr>
        <p:spPr>
          <a:xfrm>
            <a:off x="7199280" y="4941720"/>
            <a:ext cx="1944720" cy="574920"/>
          </a:xfrm>
          <a:prstGeom prst="cloudCallout">
            <a:avLst>
              <a:gd name="adj1" fmla="val -49018"/>
              <a:gd name="adj2" fmla="val 63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un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5"/>
          <p:cNvSpPr/>
          <p:nvPr/>
        </p:nvSpPr>
        <p:spPr>
          <a:xfrm>
            <a:off x="5867280" y="1557360"/>
            <a:ext cx="792360" cy="358920"/>
          </a:xfrm>
          <a:custGeom>
            <a:avLst/>
            <a:gdLst>
              <a:gd name="textAreaLeft" fmla="*/ 0 w 792360"/>
              <a:gd name="textAreaRight" fmla="*/ 792720 w 792360"/>
              <a:gd name="textAreaTop" fmla="*/ 46440 h 358920"/>
              <a:gd name="textAreaBottom" fmla="*/ 3124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84836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4818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4"/>
          <p:cNvSpPr/>
          <p:nvPr/>
        </p:nvSpPr>
        <p:spPr>
          <a:xfrm>
            <a:off x="4067280" y="2924280"/>
            <a:ext cx="1368360" cy="1008000"/>
          </a:xfrm>
          <a:prstGeom prst="ellipse">
            <a:avLst/>
          </a:prstGeom>
          <a:gradFill rotWithShape="0">
            <a:gsLst>
              <a:gs pos="0">
                <a:srgbClr val="83aec8">
                  <a:alpha val="50196"/>
                </a:srgbClr>
              </a:gs>
              <a:gs pos="100000">
                <a:srgbClr val="00588e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df2ff"/>
                </a:solidFill>
                <a:latin typeface="Arial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Modern No. 20"/>
              </a:rPr>
              <a:t>Huesil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0" y="3068640"/>
            <a:ext cx="1800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ues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1763640" y="1700280"/>
            <a:ext cx="1584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till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u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1908000" y="4508640"/>
            <a:ext cx="15130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651640" y="1197000"/>
            <a:ext cx="29527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tílago Primer 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rín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6012000" y="3645000"/>
            <a:ext cx="2881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tílago Segundo 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rín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3276720" y="2421000"/>
            <a:ext cx="2303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sor del Tímp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3492360" y="5084640"/>
            <a:ext cx="22338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úsculo del Estr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7093080" y="2421000"/>
            <a:ext cx="180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igém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7380360" y="5013360"/>
            <a:ext cx="1584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I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9"/>
          <p:cNvCxnSpPr>
            <a:stCxn id="131" idx="0"/>
            <a:endCxn id="132" idx="2"/>
          </p:cNvCxnSpPr>
          <p:nvPr/>
        </p:nvCxnSpPr>
        <p:spPr>
          <a:xfrm flipH="1" flipV="1" rot="5400000">
            <a:off x="845640" y="2150280"/>
            <a:ext cx="97236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2"/>
          <p:cNvCxnSpPr>
            <a:stCxn id="131" idx="4"/>
            <a:endCxn id="133" idx="2"/>
          </p:cNvCxnSpPr>
          <p:nvPr/>
        </p:nvCxnSpPr>
        <p:spPr>
          <a:xfrm flipH="1" rot="16200000">
            <a:off x="864000" y="3824640"/>
            <a:ext cx="1080360" cy="1008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3"/>
          <p:cNvCxnSpPr>
            <a:stCxn id="132" idx="6"/>
            <a:endCxn id="134" idx="2"/>
          </p:cNvCxnSpPr>
          <p:nvPr/>
        </p:nvCxnSpPr>
        <p:spPr>
          <a:xfrm flipV="1">
            <a:off x="3347640" y="1627920"/>
            <a:ext cx="2304360" cy="46908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24"/>
          <p:cNvCxnSpPr>
            <a:stCxn id="133" idx="6"/>
            <a:endCxn id="135" idx="2"/>
          </p:cNvCxnSpPr>
          <p:nvPr/>
        </p:nvCxnSpPr>
        <p:spPr>
          <a:xfrm flipV="1">
            <a:off x="3420720" y="4075920"/>
            <a:ext cx="2591640" cy="7930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25"/>
          <p:cNvCxnSpPr>
            <a:stCxn id="132" idx="4"/>
            <a:endCxn id="136" idx="2"/>
          </p:cNvCxnSpPr>
          <p:nvPr/>
        </p:nvCxnSpPr>
        <p:spPr>
          <a:xfrm flipH="1" rot="16200000">
            <a:off x="2753640" y="2294280"/>
            <a:ext cx="326160" cy="72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6"/>
          <p:cNvCxnSpPr>
            <a:stCxn id="133" idx="4"/>
            <a:endCxn id="137" idx="2"/>
          </p:cNvCxnSpPr>
          <p:nvPr/>
        </p:nvCxnSpPr>
        <p:spPr>
          <a:xfrm flipH="1" rot="16200000">
            <a:off x="2969280" y="4922640"/>
            <a:ext cx="218160" cy="827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27"/>
          <p:cNvCxnSpPr>
            <a:stCxn id="136" idx="6"/>
            <a:endCxn id="138" idx="2"/>
          </p:cNvCxnSpPr>
          <p:nvPr/>
        </p:nvCxnSpPr>
        <p:spPr>
          <a:xfrm>
            <a:off x="5579640" y="2817360"/>
            <a:ext cx="15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Rectangle 33"/>
          <p:cNvSpPr/>
          <p:nvPr/>
        </p:nvSpPr>
        <p:spPr>
          <a:xfrm>
            <a:off x="3550680" y="1699560"/>
            <a:ext cx="8985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Modern No. 20"/>
              </a:rPr>
              <a:t>Deriv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3620160" y="4365000"/>
            <a:ext cx="89388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Modern No. 20"/>
              </a:rPr>
              <a:t>Der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5509440" y="2420280"/>
            <a:ext cx="15019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Modern No. 20"/>
              </a:rPr>
              <a:t>Inerva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5653800" y="5012640"/>
            <a:ext cx="150192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Modern No. 20"/>
              </a:rPr>
              <a:t>Inerva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39"/>
          <p:cNvCxnSpPr>
            <a:stCxn id="137" idx="6"/>
          </p:cNvCxnSpPr>
          <p:nvPr/>
        </p:nvCxnSpPr>
        <p:spPr>
          <a:xfrm>
            <a:off x="5726160" y="5444640"/>
            <a:ext cx="1653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0:52:17Z</dcterms:created>
  <dc:creator>WinuE</dc:creator>
  <dc:description/>
  <dc:language>en-US</dc:language>
  <cp:lastModifiedBy>fernandap</cp:lastModifiedBy>
  <dcterms:modified xsi:type="dcterms:W3CDTF">2008-10-14T20:02:07Z</dcterms:modified>
  <cp:revision>11</cp:revision>
  <dc:subject/>
  <dc:title>DESARROLLO DEL OIDO</dc:title>
</cp:coreProperties>
</file>