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93135-2354-4081-AFCC-7EA6B2A49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F9832-BAA5-4882-95EB-D5DAECC31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3E7DF-3DD3-4C5F-89EE-C1BEB056F6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98925-D46B-4072-9F1D-879D38150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3B2192-E907-4FCE-9866-06EE46EA5B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9BC452-9D3D-4658-BBDF-E51454A5B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A26F3-28C3-4878-B7F9-57F3F87FB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0F90E-0342-4B45-959D-AA7792B69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164AF-E5FD-48D2-873E-29CE3665B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A88C4-A25B-4157-8DB8-45A730203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5755A-1E18-4B2B-A39B-0F3DF94E9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89CE5-8747-4777-9E81-47DED419A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D94DD-F7AD-496C-8C24-E13E73894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0D658-12DF-4318-815B-B3EECBD05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F2A97B-92A4-4161-8E42-6DF14A925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EDBFFF-708E-4C59-9E5E-706F22D763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F5D861-58C2-4688-86B7-D70945AF15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00085-9C1A-4021-92BF-93D5E6E38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6DF94-E642-4B6F-8F7B-484B2C3E0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195CB-B5A4-48B5-A6F2-4F2AC8C6F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FBACB-B1F5-41B8-92CD-FB82B8295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CEED3-8992-4C82-B2E9-54D191D10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E0463-7AD7-4A1A-8CD8-1BBC7CE4D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94421-080B-4B31-ADA7-53EEBB219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Handwriting"/>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Handwriting"/>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Handwriting"/>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Handwriting"/>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Handwriting"/>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Handwriting"/>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Handwriting"/>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Handwriting"/>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Handwriting"/>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5AFF2-43EE-4A6B-8D06-6D05DBF7133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Handwriting"/>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Handwriting"/>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Handwriting"/>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Handwriting"/>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Handwriting"/>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Handwriting"/>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Handwriting"/>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Handwriting"/>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Handwriting"/>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038D6-3BAC-4D5F-9E53-1122EC8253F9}"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456840"/>
            <a:ext cx="7772400" cy="121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333399"/>
                </a:solidFill>
                <a:uFillTx/>
                <a:latin typeface="Elephant"/>
              </a:rPr>
              <a:t>UNIVERSIDAD .....( se anota el nombre)</a:t>
            </a:r>
            <a:br>
              <a:rPr sz="2000"/>
            </a:br>
            <a:endParaRPr b="0" lang="en-US" sz="2000" spc="-1" strike="noStrike">
              <a:solidFill>
                <a:srgbClr val="333399"/>
              </a:solidFill>
              <a:latin typeface="Tahoma"/>
            </a:endParaRPr>
          </a:p>
        </p:txBody>
      </p:sp>
      <p:sp>
        <p:nvSpPr>
          <p:cNvPr id="100" name="PlaceHolder 2"/>
          <p:cNvSpPr>
            <a:spLocks noGrp="1"/>
          </p:cNvSpPr>
          <p:nvPr>
            <p:ph type="subTitle"/>
          </p:nvPr>
        </p:nvSpPr>
        <p:spPr>
          <a:xfrm rot="20571000">
            <a:off x="838080" y="2971800"/>
            <a:ext cx="7772400" cy="1270080"/>
          </a:xfrm>
          <a:prstGeom prst="rect">
            <a:avLst/>
          </a:prstGeom>
          <a:noFill/>
          <a:ln w="0">
            <a:noFill/>
          </a:ln>
        </p:spPr>
        <p:txBody>
          <a:bodyPr anchor="t">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Lucida Calligraphy"/>
              </a:rPr>
              <a:t>GRADUACION</a:t>
            </a:r>
            <a:endParaRPr b="0" lang="en-US" sz="6600" spc="-1" strike="noStrike">
              <a:solidFill>
                <a:srgbClr val="000000"/>
              </a:solidFill>
              <a:latin typeface="Tahom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Lucida Calligraphy"/>
              </a:rPr>
              <a:t>                                                    </a:t>
            </a:r>
            <a:r>
              <a:rPr b="1" lang="es-MX" sz="2000" spc="-1" strike="noStrike">
                <a:solidFill>
                  <a:srgbClr val="000000"/>
                </a:solidFill>
                <a:latin typeface="Lucida Calligraphy"/>
              </a:rPr>
              <a:t>(Se anota el año...)</a:t>
            </a:r>
            <a:endParaRPr b="0" lang="en-US" sz="2000" spc="-1" strike="noStrike">
              <a:solidFill>
                <a:srgbClr val="000000"/>
              </a:solidFill>
              <a:latin typeface="Tahoma"/>
            </a:endParaRPr>
          </a:p>
        </p:txBody>
      </p:sp>
      <p:sp>
        <p:nvSpPr>
          <p:cNvPr id="101" name="Rectangle 6"/>
          <p:cNvSpPr/>
          <p:nvPr/>
        </p:nvSpPr>
        <p:spPr>
          <a:xfrm>
            <a:off x="2571840" y="1752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Handwriting"/>
            </a:endParaRPr>
          </a:p>
        </p:txBody>
      </p:sp>
      <p:sp>
        <p:nvSpPr>
          <p:cNvPr id="102" name="Text Box 12"/>
          <p:cNvSpPr/>
          <p:nvPr/>
        </p:nvSpPr>
        <p:spPr>
          <a:xfrm>
            <a:off x="1143000" y="5181480"/>
            <a:ext cx="38098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33cc"/>
                </a:solidFill>
                <a:latin typeface="French Script MT"/>
              </a:rPr>
              <a:t>     </a:t>
            </a:r>
            <a:r>
              <a:rPr b="1" lang="es-MX" sz="3600" spc="-1" strike="noStrike">
                <a:solidFill>
                  <a:srgbClr val="3333cc"/>
                </a:solidFill>
                <a:latin typeface="French Script MT"/>
              </a:rPr>
              <a:t>Maestría</a:t>
            </a:r>
            <a:endParaRPr b="0" lang="en-US" sz="3600" spc="-1" strike="noStrike">
              <a:solidFill>
                <a:srgbClr val="000000"/>
              </a:solidFill>
              <a:latin typeface="Lucida Handwriting"/>
            </a:endParaRPr>
          </a:p>
          <a:p>
            <a:pPr>
              <a:lnSpc>
                <a:spcPct val="100000"/>
              </a:lnSpc>
              <a:spcBef>
                <a:spcPts val="22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33cc"/>
                </a:solidFill>
                <a:latin typeface="French Script MT"/>
              </a:rPr>
              <a:t>     </a:t>
            </a:r>
            <a:r>
              <a:rPr b="1" lang="es-MX" sz="3600" spc="-1" strike="noStrike">
                <a:solidFill>
                  <a:srgbClr val="3333cc"/>
                </a:solidFill>
                <a:latin typeface="French Script MT"/>
              </a:rPr>
              <a:t>Doctorado</a:t>
            </a:r>
            <a:endParaRPr b="0" lang="en-US" sz="3600" spc="-1" strike="noStrike">
              <a:solidFill>
                <a:srgbClr val="000000"/>
              </a:solidFill>
              <a:latin typeface="Lucida Handwriting"/>
            </a:endParaRPr>
          </a:p>
        </p:txBody>
      </p:sp>
      <p:sp>
        <p:nvSpPr>
          <p:cNvPr id="103" name="Text Box 13"/>
          <p:cNvSpPr/>
          <p:nvPr/>
        </p:nvSpPr>
        <p:spPr>
          <a:xfrm>
            <a:off x="3429000" y="1905120"/>
            <a:ext cx="24382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Lucida Handwriting"/>
              </a:rPr>
              <a:t>ESPACIO PARA EL ESCUDO DE LA UNIVERSIDAD</a:t>
            </a:r>
            <a:endParaRPr b="0" lang="en-US" sz="1600" spc="-1" strike="noStrike">
              <a:solidFill>
                <a:srgbClr val="000000"/>
              </a:solidFill>
              <a:latin typeface="Lucida Handwriting"/>
            </a:endParaRPr>
          </a:p>
        </p:txBody>
      </p:sp>
      <p:sp>
        <p:nvSpPr>
          <p:cNvPr id="104" name="Text Box 14"/>
          <p:cNvSpPr/>
          <p:nvPr/>
        </p:nvSpPr>
        <p:spPr>
          <a:xfrm>
            <a:off x="5334120" y="5562720"/>
            <a:ext cx="3504960" cy="1046160"/>
          </a:xfrm>
          <a:prstGeom prst="rect">
            <a:avLst/>
          </a:prstGeom>
          <a:solidFill>
            <a:srgbClr val="ffcf01"/>
          </a:solidFill>
          <a:ln w="7632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Lucida Handwriting"/>
              </a:rPr>
              <a:t>                       </a:t>
            </a:r>
            <a:r>
              <a:rPr b="1" i="1" lang="es-ES_tradnl" sz="1200" spc="-1" strike="noStrike">
                <a:solidFill>
                  <a:srgbClr val="000000"/>
                </a:solidFill>
                <a:latin typeface="Lucida Handwriting"/>
              </a:rPr>
              <a:t>PROPUESTA:</a:t>
            </a:r>
            <a:endParaRPr b="0" lang="en-US" sz="1200" spc="-1" strike="noStrike">
              <a:solidFill>
                <a:srgbClr val="000000"/>
              </a:solidFill>
              <a:latin typeface="Lucida Handwriting"/>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Lucida Handwriting"/>
              </a:rPr>
              <a:t>        </a:t>
            </a:r>
            <a:r>
              <a:rPr b="1" lang="es-ES_tradnl" sz="1200" spc="-1" strike="noStrike">
                <a:solidFill>
                  <a:srgbClr val="000000"/>
                </a:solidFill>
                <a:latin typeface="Lucida Handwriting"/>
              </a:rPr>
              <a:t>DR. ARMANDO VALDEZ CANTU</a:t>
            </a:r>
            <a:endParaRPr b="0" lang="en-US" sz="1200" spc="-1" strike="noStrike">
              <a:solidFill>
                <a:srgbClr val="000000"/>
              </a:solidFill>
              <a:latin typeface="Lucida Handwriting"/>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Lucida Handwriting"/>
              </a:rPr>
              <a:t>DOCENCIA, DESARROLLO HUMANO Y CIENCIAS DE LA EDUCACION, MEXICO...</a:t>
            </a:r>
            <a:endParaRPr b="0" lang="en-US" sz="800" spc="-1" strike="noStrike">
              <a:solidFill>
                <a:srgbClr val="000000"/>
              </a:solidFill>
              <a:latin typeface="Lucida Handwriting"/>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Lucida Bright"/>
              </a:rPr>
              <a:t>www. valdez_armando@ hotmail. com</a:t>
            </a:r>
            <a:endParaRPr b="0" lang="en-US" sz="8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iterate type="wd">
                                    <p:tmAbs val="300"/>
                                  </p:iterate>
                                  <p:childTnLst>
                                    <p:set>
                                      <p:cBhvr>
                                        <p:cTn id="6" dur="1" fill="hold">
                                          <p:stCondLst>
                                            <p:cond delay="0"/>
                                          </p:stCondLst>
                                        </p:cTn>
                                        <p:tgtEl>
                                          <p:spTgt spid="99"/>
                                        </p:tgtEl>
                                        <p:attrNameLst>
                                          <p:attrName>style.visibility</p:attrName>
                                        </p:attrNameLst>
                                      </p:cBhvr>
                                      <p:to>
                                        <p:strVal val="visible"/>
                                      </p:to>
                                    </p:set>
                                    <p:anim calcmode="lin" valueType="num">
                                      <p:cBhvr additive="base">
                                        <p:cTn id="7" dur="300" fill="hold"/>
                                        <p:tgtEl>
                                          <p:spTgt spid="99"/>
                                        </p:tgtEl>
                                        <p:attrNameLst>
                                          <p:attrName>ppt_x</p:attrName>
                                        </p:attrNameLst>
                                      </p:cBhvr>
                                      <p:tavLst>
                                        <p:tav tm="0">
                                          <p:val>
                                            <p:strVal val="#ppt_x"/>
                                          </p:val>
                                        </p:tav>
                                        <p:tav tm="100000">
                                          <p:val>
                                            <p:strVal val="#ppt_x"/>
                                          </p:val>
                                        </p:tav>
                                      </p:tavLst>
                                    </p:anim>
                                    <p:anim calcmode="lin" valueType="num">
                                      <p:cBhvr additive="base">
                                        <p:cTn id="8" dur="3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iterate type="lt">
                                    <p:tmAbs val="75"/>
                                  </p:iterate>
                                  <p:childTnLst>
                                    <p:set>
                                      <p:cBhvr>
                                        <p:cTn id="12"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13" dur="75"/>
                                        <p:tgtEl>
                                          <p:spTgt spid="100">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iterate type="lt">
                                    <p:tmAbs val="75"/>
                                  </p:iterate>
                                  <p:childTnLst>
                                    <p:set>
                                      <p:cBhvr>
                                        <p:cTn id="17"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18" dur="75"/>
                                        <p:tgtEl>
                                          <p:spTgt spid="100">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iterate type="wd">
                                    <p:tmAbs val="300"/>
                                  </p:iterate>
                                  <p:childTnLst>
                                    <p:set>
                                      <p:cBhvr>
                                        <p:cTn id="22" dur="1" fill="hold">
                                          <p:stCondLst>
                                            <p:cond delay="0"/>
                                          </p:stCondLst>
                                        </p:cTn>
                                        <p:tgtEl>
                                          <p:spTgt spid="102"/>
                                        </p:tgtEl>
                                        <p:attrNameLst>
                                          <p:attrName>style.visibility</p:attrName>
                                        </p:attrNameLst>
                                      </p:cBhvr>
                                      <p:to>
                                        <p:strVal val="visible"/>
                                      </p:to>
                                    </p:set>
                                    <p:animEffect filter="box(in)" transition="in">
                                      <p:cBhvr additive="repl">
                                        <p:cTn id="23" dur="3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4" name=""/>
          <p:cNvGraphicFramePr/>
          <p:nvPr/>
        </p:nvGraphicFramePr>
        <p:xfrm>
          <a:off x="228600" y="1905120"/>
          <a:ext cx="8534520" cy="4771800"/>
        </p:xfrm>
        <a:graphic>
          <a:graphicData uri="http://schemas.openxmlformats.org/drawingml/2006/table">
            <a:tbl>
              <a:tblPr/>
              <a:tblGrid>
                <a:gridCol w="2133720"/>
                <a:gridCol w="2133360"/>
                <a:gridCol w="2347920"/>
                <a:gridCol w="1919520"/>
              </a:tblGrid>
              <a:tr h="3988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Lucida Handwriting"/>
                        </a:rPr>
                        <a:t>ACTIVIDAD</a:t>
                      </a:r>
                      <a:endParaRPr b="0" lang="en-US" sz="1600" spc="-1" strike="noStrike">
                        <a:solidFill>
                          <a:srgbClr val="000000"/>
                        </a:solidFill>
                        <a:latin typeface="Lucida Handwriting"/>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Lucida Handwriting"/>
                        </a:rPr>
                        <a:t>HORARIO</a:t>
                      </a:r>
                      <a:endParaRPr b="0" lang="en-US" sz="1600" spc="-1" strike="noStrike">
                        <a:solidFill>
                          <a:srgbClr val="000000"/>
                        </a:solidFill>
                        <a:latin typeface="Lucida Handwriting"/>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Lucida Handwriting"/>
                        </a:rPr>
                        <a:t>NECESIDADES</a:t>
                      </a:r>
                      <a:endParaRPr b="0" lang="en-US" sz="1600" spc="-1" strike="noStrike">
                        <a:solidFill>
                          <a:srgbClr val="000000"/>
                        </a:solidFill>
                        <a:latin typeface="Lucida Handwriting"/>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Lucida Handwriting"/>
                        </a:rPr>
                        <a:t> </a:t>
                      </a:r>
                      <a:r>
                        <a:rPr b="1" lang="es-MX" sz="1600" spc="-1" strike="noStrike">
                          <a:solidFill>
                            <a:srgbClr val="000000"/>
                          </a:solidFill>
                          <a:latin typeface="Lucida Handwriting"/>
                        </a:rPr>
                        <a:t>OBSERVAC.</a:t>
                      </a:r>
                      <a:endParaRPr b="0" lang="en-US" sz="1600" spc="-1" strike="noStrike">
                        <a:solidFill>
                          <a:srgbClr val="000000"/>
                        </a:solidFill>
                        <a:latin typeface="Lucida Handwriting"/>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72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Handwriting"/>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Handwriting"/>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DIRECTOR DE      CEREMONIAL Y PROTOCOLO</a:t>
                      </a:r>
                      <a:endParaRPr b="0" lang="en-US" sz="1400" spc="-1" strike="noStrike">
                        <a:solidFill>
                          <a:srgbClr val="000000"/>
                        </a:solidFill>
                        <a:latin typeface="Lucida Handwriting"/>
                      </a:endParaRPr>
                    </a:p>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PROGRAMA  CEREMONIAL</a:t>
                      </a:r>
                      <a:endParaRPr b="0" lang="en-US" sz="1400" spc="-1" strike="noStrike">
                        <a:solidFill>
                          <a:srgbClr val="000000"/>
                        </a:solidFill>
                        <a:latin typeface="Lucida Handwriting"/>
                      </a:endParaRPr>
                    </a:p>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MEDALLAS DE ORO</a:t>
                      </a:r>
                      <a:endParaRPr b="0" lang="en-US" sz="1400" spc="-1" strike="noStrike">
                        <a:solidFill>
                          <a:srgbClr val="000000"/>
                        </a:solidFill>
                        <a:latin typeface="Lucida Handwriting"/>
                      </a:endParaRPr>
                    </a:p>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ESCRITOS ALUMNOS, RECTOR-ANEXOS-</a:t>
                      </a:r>
                      <a:endParaRPr b="0" lang="en-US" sz="1400" spc="-1" strike="noStrike">
                        <a:solidFill>
                          <a:srgbClr val="000000"/>
                        </a:solidFill>
                        <a:latin typeface="Lucida Handwriting"/>
                      </a:endParaRPr>
                    </a:p>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DISTINCIONES LAUDICAS</a:t>
                      </a:r>
                      <a:endParaRPr b="0" lang="en-US" sz="1400" spc="-1" strike="noStrike">
                        <a:solidFill>
                          <a:srgbClr val="000000"/>
                        </a:solidFill>
                        <a:latin typeface="Lucida Handwriting"/>
                      </a:endParaRPr>
                    </a:p>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MEDALLAS ALUMNOS</a:t>
                      </a:r>
                      <a:endParaRPr b="0" lang="en-US" sz="1400" spc="-1" strike="noStrike">
                        <a:solidFill>
                          <a:srgbClr val="000000"/>
                        </a:solidFill>
                        <a:latin typeface="Lucida Handwriting"/>
                      </a:endParaRPr>
                    </a:p>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DOCUMENTOS A RECIBIR</a:t>
                      </a:r>
                      <a:endParaRPr b="0" lang="en-US" sz="1400" spc="-1" strike="noStrike">
                        <a:solidFill>
                          <a:srgbClr val="000000"/>
                        </a:solidFill>
                        <a:latin typeface="Lucida Handwriting"/>
                      </a:endParaRPr>
                    </a:p>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ENSAYOS-ACOMODOS Y UBICACIÓN.</a:t>
                      </a:r>
                      <a:endParaRPr b="0" lang="en-US" sz="1400" spc="-1" strike="noStrike">
                        <a:solidFill>
                          <a:srgbClr val="000000"/>
                        </a:solidFill>
                        <a:latin typeface="Lucida Handwriting"/>
                      </a:endParaRPr>
                    </a:p>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PELICULA...</a:t>
                      </a:r>
                      <a:endParaRPr b="0" lang="en-US" sz="1400" spc="-1" strike="noStrike">
                        <a:solidFill>
                          <a:srgbClr val="000000"/>
                        </a:solidFill>
                        <a:latin typeface="Lucida Handwriting"/>
                      </a:endParaRPr>
                    </a:p>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Handwriting"/>
                      </a:endParaRPr>
                    </a:p>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Handwriting"/>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Handwriting"/>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Text Box 26"/>
          <p:cNvSpPr/>
          <p:nvPr/>
        </p:nvSpPr>
        <p:spPr>
          <a:xfrm>
            <a:off x="3200400" y="914400"/>
            <a:ext cx="4876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Lucida Handwriting"/>
              </a:rPr>
              <a:t> </a:t>
            </a:r>
            <a:r>
              <a:rPr b="1" lang="es-MX" sz="2000" spc="-1" strike="noStrike">
                <a:solidFill>
                  <a:srgbClr val="3333cc"/>
                </a:solidFill>
                <a:latin typeface="Lucida Handwriting"/>
              </a:rPr>
              <a:t>Continuación programa general...</a:t>
            </a:r>
            <a:endParaRPr b="0" lang="en-US" sz="20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6" name=""/>
          <p:cNvGraphicFramePr/>
          <p:nvPr/>
        </p:nvGraphicFramePr>
        <p:xfrm>
          <a:off x="304920" y="2097000"/>
          <a:ext cx="8534160" cy="4380120"/>
        </p:xfrm>
        <a:graphic>
          <a:graphicData uri="http://schemas.openxmlformats.org/drawingml/2006/table">
            <a:tbl>
              <a:tblPr/>
              <a:tblGrid>
                <a:gridCol w="2133360"/>
                <a:gridCol w="2133720"/>
                <a:gridCol w="2347920"/>
                <a:gridCol w="1919160"/>
              </a:tblGrid>
              <a:tr h="379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Lucida Handwriting"/>
                        </a:rPr>
                        <a:t>ACTIVIDAD</a:t>
                      </a:r>
                      <a:endParaRPr b="0" lang="en-US" sz="1600" spc="-1" strike="noStrike">
                        <a:solidFill>
                          <a:srgbClr val="000000"/>
                        </a:solidFill>
                        <a:latin typeface="Lucida Handwriting"/>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Lucida Handwriting"/>
                        </a:rPr>
                        <a:t>HORARIO</a:t>
                      </a:r>
                      <a:endParaRPr b="0" lang="en-US" sz="1600" spc="-1" strike="noStrike">
                        <a:solidFill>
                          <a:srgbClr val="000000"/>
                        </a:solidFill>
                        <a:latin typeface="Lucida Handwriting"/>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Lucida Handwriting"/>
                        </a:rPr>
                        <a:t>NECESIDADES</a:t>
                      </a:r>
                      <a:endParaRPr b="0" lang="en-US" sz="1600" spc="-1" strike="noStrike">
                        <a:solidFill>
                          <a:srgbClr val="000000"/>
                        </a:solidFill>
                        <a:latin typeface="Lucida Handwriting"/>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Lucida Handwriting"/>
                        </a:rPr>
                        <a:t> </a:t>
                      </a:r>
                      <a:r>
                        <a:rPr b="1" lang="es-MX" sz="1600" spc="-1" strike="noStrike">
                          <a:solidFill>
                            <a:srgbClr val="000000"/>
                          </a:solidFill>
                          <a:latin typeface="Lucida Handwriting"/>
                        </a:rPr>
                        <a:t>OBSERVAC.</a:t>
                      </a:r>
                      <a:endParaRPr b="0" lang="en-US" sz="1600" spc="-1" strike="noStrike">
                        <a:solidFill>
                          <a:srgbClr val="000000"/>
                        </a:solidFill>
                        <a:latin typeface="Lucida Handwriting"/>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00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CENA BAILE DE GRADUACION</a:t>
                      </a:r>
                      <a:endParaRPr b="0" lang="en-US" sz="1400" spc="-1" strike="noStrike">
                        <a:solidFill>
                          <a:srgbClr val="000000"/>
                        </a:solidFill>
                        <a:latin typeface="Lucida Handwriting"/>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21:30 HORAS</a:t>
                      </a:r>
                      <a:endParaRPr b="0" lang="en-US" sz="1400" spc="-1" strike="noStrike">
                        <a:solidFill>
                          <a:srgbClr val="000000"/>
                        </a:solidFill>
                        <a:latin typeface="Lucida Handwriting"/>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 </a:t>
                      </a:r>
                      <a:r>
                        <a:rPr b="0" lang="es-MX" sz="1400" spc="-1" strike="noStrike">
                          <a:solidFill>
                            <a:srgbClr val="000000"/>
                          </a:solidFill>
                          <a:latin typeface="Baskerville Old Face"/>
                        </a:rPr>
                        <a:t>SALON</a:t>
                      </a:r>
                      <a:endParaRPr b="0" lang="en-US" sz="1400" spc="-1" strike="noStrike">
                        <a:solidFill>
                          <a:srgbClr val="000000"/>
                        </a:solidFill>
                        <a:latin typeface="Lucida Handwriting"/>
                      </a:endParaRPr>
                    </a:p>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ORQUESTA-CONJUNTO</a:t>
                      </a:r>
                      <a:endParaRPr b="0" lang="en-US" sz="1400" spc="-1" strike="noStrike">
                        <a:solidFill>
                          <a:srgbClr val="000000"/>
                        </a:solidFill>
                        <a:latin typeface="Lucida Handwriting"/>
                      </a:endParaRPr>
                    </a:p>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PLATILLOS</a:t>
                      </a:r>
                      <a:endParaRPr b="0" lang="en-US" sz="1400" spc="-1" strike="noStrike">
                        <a:solidFill>
                          <a:srgbClr val="000000"/>
                        </a:solidFill>
                        <a:latin typeface="Lucida Handwriting"/>
                      </a:endParaRPr>
                    </a:p>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INVITADOS</a:t>
                      </a:r>
                      <a:endParaRPr b="0" lang="en-US" sz="1400" spc="-1" strike="noStrike">
                        <a:solidFill>
                          <a:srgbClr val="000000"/>
                        </a:solidFill>
                        <a:latin typeface="Lucida Handwriting"/>
                      </a:endParaRPr>
                    </a:p>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CEREMONIA DE RECONOCIMIENTOS POR GRUPO:</a:t>
                      </a:r>
                      <a:endParaRPr b="0" lang="en-US" sz="1400" spc="-1" strike="noStrike">
                        <a:solidFill>
                          <a:srgbClr val="000000"/>
                        </a:solidFill>
                        <a:latin typeface="Lucida Handwriting"/>
                      </a:endParaRPr>
                    </a:p>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EL MAS ESTUDIOSO</a:t>
                      </a:r>
                      <a:endParaRPr b="0" lang="en-US" sz="1400" spc="-1" strike="noStrike">
                        <a:solidFill>
                          <a:srgbClr val="000000"/>
                        </a:solidFill>
                        <a:latin typeface="Lucida Handwriting"/>
                      </a:endParaRPr>
                    </a:p>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EL MAS INQUIETO</a:t>
                      </a:r>
                      <a:endParaRPr b="0" lang="en-US" sz="1400" spc="-1" strike="noStrike">
                        <a:solidFill>
                          <a:srgbClr val="000000"/>
                        </a:solidFill>
                        <a:latin typeface="Lucida Handwriting"/>
                      </a:endParaRPr>
                    </a:p>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EL MAS QUERIDO</a:t>
                      </a:r>
                      <a:endParaRPr b="0" lang="en-US" sz="1400" spc="-1" strike="noStrike">
                        <a:solidFill>
                          <a:srgbClr val="000000"/>
                        </a:solidFill>
                        <a:latin typeface="Lucida Handwriting"/>
                      </a:endParaRPr>
                    </a:p>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EL MAS FALTISTA</a:t>
                      </a:r>
                      <a:endParaRPr b="0" lang="en-US" sz="1400" spc="-1" strike="noStrike">
                        <a:solidFill>
                          <a:srgbClr val="000000"/>
                        </a:solidFill>
                        <a:latin typeface="Lucida Handwriting"/>
                      </a:endParaRPr>
                    </a:p>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EL MAS .... ETC.</a:t>
                      </a:r>
                      <a:endParaRPr b="0" lang="en-US" sz="1400" spc="-1" strike="noStrike">
                        <a:solidFill>
                          <a:srgbClr val="000000"/>
                        </a:solidFill>
                        <a:latin typeface="Lucida Handwriting"/>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ACTIVIDAD ORGANIZADA EXCLUSIVAMENTE POR LOS ALUMNOS GRADUANDOS.</a:t>
                      </a:r>
                      <a:endParaRPr b="0" lang="en-US" sz="1400" spc="-1" strike="noStrike">
                        <a:solidFill>
                          <a:srgbClr val="000000"/>
                        </a:solidFill>
                        <a:latin typeface="Lucida Handwriting"/>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 name="Rectangle 21"/>
          <p:cNvSpPr/>
          <p:nvPr/>
        </p:nvSpPr>
        <p:spPr>
          <a:xfrm>
            <a:off x="3262680" y="838080"/>
            <a:ext cx="44755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cc"/>
                </a:solidFill>
                <a:latin typeface="Lucida Handwriting"/>
              </a:rPr>
              <a:t>Continuación programa general...</a:t>
            </a:r>
            <a:endParaRPr b="0" lang="en-US" sz="20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3581280" y="685800"/>
            <a:ext cx="4572000" cy="951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Lucida Handwriting"/>
              </a:rPr>
              <a:t> </a:t>
            </a:r>
            <a:r>
              <a:rPr b="1" lang="es-MX" sz="3200" spc="-1" strike="noStrike">
                <a:solidFill>
                  <a:srgbClr val="3333cc"/>
                </a:solidFill>
                <a:latin typeface="Lucida Handwriting"/>
              </a:rPr>
              <a:t>ANEXO  1</a:t>
            </a:r>
            <a:endParaRPr b="0" lang="en-US" sz="3200" spc="-1" strike="noStrike">
              <a:solidFill>
                <a:srgbClr val="000000"/>
              </a:solidFill>
              <a:latin typeface="Lucida Handwriting"/>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cc"/>
                </a:solidFill>
                <a:latin typeface="Lucida Handwriting"/>
              </a:rPr>
              <a:t>ALUMNO SOLICITA EL GRADO...</a:t>
            </a:r>
            <a:endParaRPr b="0" lang="en-US" sz="1600" spc="-1" strike="noStrike">
              <a:solidFill>
                <a:srgbClr val="000000"/>
              </a:solidFill>
              <a:latin typeface="Lucida Handwriting"/>
            </a:endParaRPr>
          </a:p>
        </p:txBody>
      </p:sp>
      <p:sp>
        <p:nvSpPr>
          <p:cNvPr id="129" name="Text Box 3"/>
          <p:cNvSpPr/>
          <p:nvPr/>
        </p:nvSpPr>
        <p:spPr>
          <a:xfrm>
            <a:off x="990720" y="2514600"/>
            <a:ext cx="7010280" cy="30250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Lucida Handwriting"/>
              </a:rPr>
              <a:t>EXCMO. SR. RECTOR DE LA UNIVERSIDAD : ( </a:t>
            </a:r>
            <a:r>
              <a:rPr b="1" lang="es-MX" sz="1400" spc="-1" strike="noStrike">
                <a:solidFill>
                  <a:srgbClr val="000000"/>
                </a:solidFill>
                <a:latin typeface="Lucida Handwriting"/>
              </a:rPr>
              <a:t>SE MENCIONA EL NOMBRE DE LA UNIVERSIDAD Y DEL C. EXCMO.SR. RECTOR </a:t>
            </a:r>
            <a:r>
              <a:rPr b="0" lang="es-MX" sz="1600" spc="-1" strike="noStrike">
                <a:solidFill>
                  <a:srgbClr val="000000"/>
                </a:solidFill>
                <a:latin typeface="Lucida Handwriting"/>
              </a:rPr>
              <a:t>)</a:t>
            </a:r>
            <a:endParaRPr b="0" lang="en-US" sz="1600" spc="-1" strike="noStrike">
              <a:solidFill>
                <a:srgbClr val="000000"/>
              </a:solidFill>
              <a:latin typeface="Lucida Handwriting"/>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Handwriting"/>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Lucida Handwriting"/>
              </a:rPr>
              <a:t>A NOMBRE DE MI GENERACION DE EGRESADOS DE LA MAESTRIA ....Y DEL MIO PROPIO, ME PERMITO SOLICITARLE NOS CONFIERA EL GRADO , EN VIRTUD DE HABER ACREDITADO LOS PRECEPTOS , NORMAS Y LINEAMIENTOS QUE ESTABLECE ESTA UNIVERSIDAD .....Y ASI DESEMPEÑAR EL DIGNO OFICIO DE MAESTROS EN .... Y DE COMPARTIR CON NUESTROS SEMEJANTES LA TAREA DE ENSEÑAR MOSTRANDO SIEMPRE EL HORIZONTE MARAVILLOSO DEL CONOCIMIENTO CIENTIFICO....</a:t>
            </a:r>
            <a:endParaRPr b="0" lang="en-US" sz="16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3200400" y="457200"/>
            <a:ext cx="4800600" cy="1118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Lucida Handwriting"/>
              </a:rPr>
              <a:t>  </a:t>
            </a:r>
            <a:r>
              <a:rPr b="1" lang="es-MX" sz="3200" spc="-1" strike="noStrike">
                <a:solidFill>
                  <a:srgbClr val="3333cc"/>
                </a:solidFill>
                <a:latin typeface="Lucida Handwriting"/>
              </a:rPr>
              <a:t>ANEXO 2</a:t>
            </a:r>
            <a:endParaRPr b="0" lang="en-US" sz="3200" spc="-1" strike="noStrike">
              <a:solidFill>
                <a:srgbClr val="000000"/>
              </a:solidFill>
              <a:latin typeface="Lucida Handwriting"/>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cc"/>
                </a:solidFill>
                <a:latin typeface="Lucida Handwriting"/>
              </a:rPr>
              <a:t>RESPUESTA A LA SOLICITUD DE GRADO POR EL C. RECTOR.</a:t>
            </a:r>
            <a:endParaRPr b="0" lang="en-US" sz="1400" spc="-1" strike="noStrike">
              <a:solidFill>
                <a:srgbClr val="000000"/>
              </a:solidFill>
              <a:latin typeface="Lucida Handwriting"/>
            </a:endParaRPr>
          </a:p>
        </p:txBody>
      </p:sp>
      <p:sp>
        <p:nvSpPr>
          <p:cNvPr id="131" name="Text Box 3"/>
          <p:cNvSpPr/>
          <p:nvPr/>
        </p:nvSpPr>
        <p:spPr>
          <a:xfrm>
            <a:off x="1828800" y="2514600"/>
            <a:ext cx="5715000" cy="277092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Lucida Handwriting"/>
              </a:rPr>
              <a:t>REALIZADAS LAS REVISIONES PERTINENETES EN LOS ARCHIVOS DE LA UNIVERSIDAD ....QUE ME HONRO EN DIRIGIR, ME PERMITO AUTORIZAR, EN MI CALIDAD DE RECTOR DE LA INSTITUCION, SE OTORGUE EL GRADO DE MAESTROS EN .... POR LO QUE LOS INVITO A OCUPAR SUS RESPECTIVOS SITIOS A EFECTO DE INICIAR CON ESTA CEREMONIA PROTOCOLAR DE OBTENCION DE GRADO Y CONCIENTE QUE HAN MOSTRADO PACIENCIA Y ENTREGA CON EL COMPROMISO QUE ADQUIRIERON AL INGRESAR A LA UNIVERSIDAD...</a:t>
            </a:r>
            <a:endParaRPr b="0" lang="en-US" sz="16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3962520" y="304920"/>
            <a:ext cx="4190760" cy="1332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cc"/>
                </a:solidFill>
                <a:latin typeface="Lucida Handwriting"/>
              </a:rPr>
              <a:t>ANEXO 3</a:t>
            </a:r>
            <a:endParaRPr b="0" lang="en-US" sz="3200" spc="-1" strike="noStrike">
              <a:solidFill>
                <a:srgbClr val="000000"/>
              </a:solidFill>
              <a:latin typeface="Lucida Handwriting"/>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cc"/>
                </a:solidFill>
                <a:latin typeface="Lucida Handwriting"/>
              </a:rPr>
              <a:t>PALABRAS DE DESPEDIDA POR EL ALUMNO DEL 1er. LUGAR DE APROVECHAMIENTO DE LA GENERACION</a:t>
            </a:r>
            <a:endParaRPr b="0" lang="en-US" sz="1400" spc="-1" strike="noStrike">
              <a:solidFill>
                <a:srgbClr val="000000"/>
              </a:solidFill>
              <a:latin typeface="Lucida Handwriting"/>
            </a:endParaRPr>
          </a:p>
        </p:txBody>
      </p:sp>
      <p:sp>
        <p:nvSpPr>
          <p:cNvPr id="133" name="Text Box 4"/>
          <p:cNvSpPr/>
          <p:nvPr/>
        </p:nvSpPr>
        <p:spPr>
          <a:xfrm>
            <a:off x="685800" y="1736640"/>
            <a:ext cx="7696080" cy="423000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Lucida Handwriting"/>
              </a:rPr>
              <a:t>HONORABLE PRESIDIUM</a:t>
            </a:r>
            <a:endParaRPr b="0" lang="en-US" sz="1000" spc="-1" strike="noStrike">
              <a:solidFill>
                <a:srgbClr val="000000"/>
              </a:solidFill>
              <a:latin typeface="Lucida Handwriting"/>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Lucida Handwriting"/>
              </a:rPr>
              <a:t>MENTORES DE LA UNIVERSIDAD</a:t>
            </a:r>
            <a:endParaRPr b="0" lang="en-US" sz="1000" spc="-1" strike="noStrike">
              <a:solidFill>
                <a:srgbClr val="000000"/>
              </a:solidFill>
              <a:latin typeface="Lucida Handwriting"/>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Lucida Handwriting"/>
              </a:rPr>
              <a:t>COMPAÑEROS GRADUANDOS</a:t>
            </a:r>
            <a:endParaRPr b="0" lang="en-US" sz="1000" spc="-1" strike="noStrike">
              <a:solidFill>
                <a:srgbClr val="000000"/>
              </a:solidFill>
              <a:latin typeface="Lucida Handwriting"/>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Lucida Handwriting"/>
              </a:rPr>
              <a:t>ESTIMADAS FAMILIAS....</a:t>
            </a:r>
            <a:endParaRPr b="0" lang="en-US" sz="1000" spc="-1" strike="noStrike">
              <a:solidFill>
                <a:srgbClr val="000000"/>
              </a:solidFill>
              <a:latin typeface="Lucida Handwriting"/>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Lucida Handwriting"/>
              </a:rPr>
              <a:t>      </a:t>
            </a:r>
            <a:r>
              <a:rPr b="1" lang="es-MX" sz="1000" spc="-1" strike="noStrike">
                <a:solidFill>
                  <a:srgbClr val="000000"/>
                </a:solidFill>
                <a:latin typeface="Lucida Handwriting"/>
              </a:rPr>
              <a:t>CON LA FE INQUEBRANTABLE Y CON PASO FIRME, NOS ENFRENTAMOS HOY AL MUNDO, LLEVAMOS EN NUESTRO ESPIRITU UN LEGADO DE CONOCIMIENTOS, VALORES Y EXPERIENCIAS, TOMADOS DE NUESTRA AMADA UNIVERSIDAD ... A LA QUE JURAMOS EN USO DE NUESTRAS FACULTADES ESPIRITUALES, DIGNIFICAR CON NUESTRO DESEMPEÑO PROFESIONAL, CON LA PLENA CONVICCION DE QUE LOS VALORES FORMATIVOS TOMADOS DURANTE NUESTRA ESTADIA EN SU SENO, COMO EL HUMANISMO, LA VERDAD, LA HONRADEZ, LA JUSTICIA, LA LEALTAD, LA DIGNIDAD Y OTROS QUE ENALTECEN AL HOMBRE,.AHORA ESTOS VALORES SON PARTE INTEGRAL DE NUESTRA VIDA PERSONAL Y PROFESIONAL. </a:t>
            </a:r>
            <a:endParaRPr b="0" lang="en-US" sz="1000" spc="-1" strike="noStrike">
              <a:solidFill>
                <a:srgbClr val="000000"/>
              </a:solidFill>
              <a:latin typeface="Lucida Handwriting"/>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Lucida Handwriting"/>
              </a:rPr>
              <a:t>HOY TENEMOS UNA VISION DESARROLLADA Y FORTALECIDA CON EL CONOCIMIENTO CIENTIFICO, CONVENCIDOS PLENAMENTE DE SER AGENTES DE CAMBIO EN UN MUNDO CIRCUNDANTE Y PROMOTORES DEL RESPETO A LA DIGNIDAD HUMANA, EN SU DIMENSION PERSONAL, FAMILIAR Y SOCIAL, ADEMAS QUE HEMOS DE CONTRIBUIR A LA FORMACION DE CIUDADANOS CULTOS Y CONSCIENTES DE SU OBLIGACION, ETICA SOCIAL Y CULTURAL,. HASTA DONDE EL DESTINO NOS LLEVE.,SEREMOS PROMOTORES INCANSABLES DE LOS PRINCIPIOS DEMOCRATICOS Y HUMANISTICOS A QUE ASPIRA TODO HOMBRE, HEMOS DE GUARDAR FIDELIDAD A LA PATRIA Y A NUESTRO TERRUÑO, POR IDENTIDAD Y ARRAIGO, EN DONDE TENEMOS TECHO Y FAMILIA, DONDE COMPARTIMOS EL SUSTENTO DULCE, CALIDO Y SUAVE, GANADO CON EL ESFUERZO Y EL TRABAJO HONRADO. </a:t>
            </a:r>
            <a:endParaRPr b="0" lang="en-US" sz="1000" spc="-1" strike="noStrike">
              <a:solidFill>
                <a:srgbClr val="000000"/>
              </a:solidFill>
              <a:latin typeface="Lucida Handwriting"/>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Lucida Handwriting"/>
              </a:rPr>
              <a:t>AGRADECEMOS A NUESTRA QUERIDA ALMA MATER, EL HABERNOS INCULCADO EL AMOR A LA INTELECTUALIDAD, AL ESTUDIO Y A LA SUPERACION Y PROMETEMOS QUE COMO UNA INSIGNIA, LLEVAREMOS SUS PRINCIPIOS Y LOS COMPARTIREMOS EN EL BREGAR POR LA VIDA ...</a:t>
            </a:r>
            <a:endParaRPr b="0" lang="en-US" sz="1000" spc="-1" strike="noStrike">
              <a:solidFill>
                <a:srgbClr val="000000"/>
              </a:solidFill>
              <a:latin typeface="Lucida Handwriting"/>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Handwriting"/>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3505320" y="304920"/>
            <a:ext cx="5029200" cy="1656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cc"/>
                </a:solidFill>
                <a:latin typeface="Lucida Handwriting"/>
              </a:rPr>
              <a:t>ANEXO 3</a:t>
            </a:r>
            <a:endParaRPr b="0" lang="en-US" sz="3200" spc="-1" strike="noStrike">
              <a:solidFill>
                <a:srgbClr val="000000"/>
              </a:solidFill>
              <a:latin typeface="Lucida Handwriting"/>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cc"/>
                </a:solidFill>
                <a:latin typeface="Lucida Handwriting"/>
              </a:rPr>
              <a:t>CONTINUACION ...PALABRAS DE DESPEDIDA POR EL ALUMNO DEL 1er. LUGAR DE APROVECHAMIENTO DE LA GENERACION</a:t>
            </a:r>
            <a:endParaRPr b="0" lang="en-US" sz="1400" spc="-1" strike="noStrike">
              <a:solidFill>
                <a:srgbClr val="000000"/>
              </a:solidFill>
              <a:latin typeface="Lucida Handwriting"/>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Handwriting"/>
            </a:endParaRPr>
          </a:p>
        </p:txBody>
      </p:sp>
      <p:sp>
        <p:nvSpPr>
          <p:cNvPr id="135" name="Text Box 4"/>
          <p:cNvSpPr/>
          <p:nvPr/>
        </p:nvSpPr>
        <p:spPr>
          <a:xfrm>
            <a:off x="1143000" y="2362320"/>
            <a:ext cx="6553080" cy="339552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Lucida Handwriting"/>
              </a:rPr>
              <a:t>CREEREMOS SIEMPRE EN LA ESPECIE HUMANA, REAFIRMAMOS NUESTRA FE , LA LEALTAD Y LA BENIGNIDAD DEL HOMBRE , ASI COMO A LA HIDALGUIA DE SU CORAZON, A LA BUSQUEDA CONSTANTE DE LA CREATIVIDAD, LA EXCELENCIA Y LA LIBERTAD, COMO BIENES MAYORES DEL ESPIRITU ,,AMANDO SIEMPRE LA VERDAD ABSOLUTA, A NUESTRO ENTORNO, POR SER TODO EL HABITAT NATURAL Y PARTE DEL GRAN ESCENARIO DEL MUNDO, REAFIRMANDO SIEMPRE NUESTRA FE INFINITA EN EL DESTINO INESCRUTABLE DEL HOMBRE, POR SER LA MAXIMA CREACION DEL UNIVERSO Y EN SU ESTIRPE BENDITA...</a:t>
            </a:r>
            <a:endParaRPr b="0" lang="en-US" sz="1000" spc="-1" strike="noStrike">
              <a:solidFill>
                <a:srgbClr val="000000"/>
              </a:solidFill>
              <a:latin typeface="Lucida Handwriting"/>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Handwriting"/>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Lucida Handwriting"/>
              </a:rPr>
              <a:t>MUCHAS GRACIAS UNIVERSIDAD ..... EXCMO. SR. RECTOR, VICERRECTORES  Y  SU CLAUSTRO DE MAESTROS !!</a:t>
            </a:r>
            <a:endParaRPr b="0" lang="en-US" sz="1000" spc="-1" strike="noStrike">
              <a:solidFill>
                <a:srgbClr val="000000"/>
              </a:solidFill>
              <a:latin typeface="Lucida Handwriting"/>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Handwriting"/>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Lucida Handwriting"/>
              </a:rPr>
              <a:t>GRACIAS FAMILIARES POR COMPARTIR CON NOSOTROS ESTOS MOMENTOS DE JUBILO Y...</a:t>
            </a:r>
            <a:endParaRPr b="0" lang="en-US" sz="1000" spc="-1" strike="noStrike">
              <a:solidFill>
                <a:srgbClr val="000000"/>
              </a:solidFill>
              <a:latin typeface="Lucida Handwriting"/>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Handwriting"/>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Lucida Handwriting"/>
              </a:rPr>
              <a:t>ADELANTE SIEMPRE  QUERIDOS  COLEGAS!!</a:t>
            </a:r>
            <a:endParaRPr b="0" lang="en-US" sz="1000" spc="-1" strike="noStrike">
              <a:solidFill>
                <a:srgbClr val="000000"/>
              </a:solidFill>
              <a:latin typeface="Lucida Handwriting"/>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Handwriting"/>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Handwriting"/>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2743200" y="609480"/>
            <a:ext cx="5334120" cy="1137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cc"/>
                </a:solidFill>
                <a:latin typeface="Lucida Handwriting"/>
              </a:rPr>
              <a:t>ANEXO 4</a:t>
            </a:r>
            <a:endParaRPr b="0" lang="en-US" sz="3200" spc="-1" strike="noStrike">
              <a:solidFill>
                <a:srgbClr val="000000"/>
              </a:solidFill>
              <a:latin typeface="Lucida Handwriting"/>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cc"/>
                </a:solidFill>
                <a:latin typeface="Lucida Handwriting"/>
              </a:rPr>
              <a:t>JURAMENTO AL PASO DE LA LUZ</a:t>
            </a:r>
            <a:endParaRPr b="0" lang="en-US" sz="1400" spc="-1" strike="noStrike">
              <a:solidFill>
                <a:srgbClr val="000000"/>
              </a:solidFill>
              <a:latin typeface="Lucida Handwriting"/>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3333cc"/>
                </a:solidFill>
                <a:latin typeface="Lucida Handwriting"/>
              </a:rPr>
              <a:t>(LO DICEN LOS GRADUANDOS AL UNISONO...)</a:t>
            </a:r>
            <a:endParaRPr b="0" lang="en-US" sz="1000" spc="-1" strike="noStrike">
              <a:solidFill>
                <a:srgbClr val="000000"/>
              </a:solidFill>
              <a:latin typeface="Lucida Handwriting"/>
            </a:endParaRPr>
          </a:p>
        </p:txBody>
      </p:sp>
      <p:sp>
        <p:nvSpPr>
          <p:cNvPr id="137" name="Text Box 3"/>
          <p:cNvSpPr/>
          <p:nvPr/>
        </p:nvSpPr>
        <p:spPr>
          <a:xfrm>
            <a:off x="1523880" y="2590920"/>
            <a:ext cx="6324840" cy="277092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Lucida Handwriting"/>
              </a:rPr>
              <a:t>VALORO Y AGRADEZCO LA NOBLE VOCACION A QUE HE SIDO LLAMADO (A) A EJERCER, AYUDAR A OTROS A SER Y A ENCONTRAR EL SENTIDO DE SU EXISTENCIA. CONVENCIDO ESTOY QUE LA MAESTRIA EN ... SOLO ES POSIBLE EJERCERLA DESDE LA HUMILDAD, LA ESPERANZA Y EL AMOR, PIDO A DIOS QUE ME ILUMINE ( </a:t>
            </a:r>
            <a:r>
              <a:rPr b="0" lang="es-MX" sz="1400" spc="-1" strike="noStrike">
                <a:solidFill>
                  <a:srgbClr val="000000"/>
                </a:solidFill>
                <a:latin typeface="Lucida Handwriting"/>
              </a:rPr>
              <a:t>SE LEVANTA LA VELA Y SE PONE LA MANO IZQUIERDA EN EL CORAZON</a:t>
            </a:r>
            <a:r>
              <a:rPr b="1" lang="es-MX" sz="1600" spc="-1" strike="noStrike">
                <a:solidFill>
                  <a:srgbClr val="000000"/>
                </a:solidFill>
                <a:latin typeface="Lucida Handwriting"/>
              </a:rPr>
              <a:t> ) Y ME AYUDE A CUMPLIR EL COMPROMISO QUE HOY ASUMO ANTE EL Y DE FRENTE A LA SOCIEDAD, CREO EN MI VOCACION Y EN LA MISION QUE DEBO CUMPLIR CON TODO MI ESFUERZO Y TODO MI EMPEÑO...</a:t>
            </a:r>
            <a:endParaRPr b="0" lang="en-US" sz="16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3048120" y="1066680"/>
            <a:ext cx="5562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Lucida Handwriting"/>
              </a:rPr>
              <a:t>ANEXO 2 A, FERVORIN DEL C. RECTOR  A SUS ALUMNOS GRADUANDOS....</a:t>
            </a:r>
            <a:endParaRPr b="0" lang="en-US" sz="1600" spc="-1" strike="noStrike">
              <a:solidFill>
                <a:srgbClr val="000000"/>
              </a:solidFill>
              <a:latin typeface="Lucida Handwriting"/>
            </a:endParaRPr>
          </a:p>
        </p:txBody>
      </p:sp>
      <p:sp>
        <p:nvSpPr>
          <p:cNvPr id="139" name="Text Box 3"/>
          <p:cNvSpPr/>
          <p:nvPr/>
        </p:nvSpPr>
        <p:spPr>
          <a:xfrm>
            <a:off x="1143000" y="1905120"/>
            <a:ext cx="6858000" cy="40046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Lucida Handwriting"/>
              </a:rPr>
              <a:t>DISTINGUIDOS INVITADOS DE HONOR...</a:t>
            </a:r>
            <a:endParaRPr b="0" lang="en-US" sz="1000" spc="-1" strike="noStrike">
              <a:solidFill>
                <a:srgbClr val="000000"/>
              </a:solidFill>
              <a:latin typeface="Lucida Handwriting"/>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Lucida Handwriting"/>
              </a:rPr>
              <a:t>RESPETABLES VICERRECTORES Y DECANO DE LA UNIVERSIDAD...</a:t>
            </a:r>
            <a:endParaRPr b="0" lang="en-US" sz="1000" spc="-1" strike="noStrike">
              <a:solidFill>
                <a:srgbClr val="000000"/>
              </a:solidFill>
              <a:latin typeface="Lucida Handwriting"/>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Lucida Handwriting"/>
              </a:rPr>
              <a:t>CANDIDATOS A MAESTROS Y/O DOCTORES  EN...</a:t>
            </a:r>
            <a:endParaRPr b="0" lang="en-US" sz="1000" spc="-1" strike="noStrike">
              <a:solidFill>
                <a:srgbClr val="000000"/>
              </a:solidFill>
              <a:latin typeface="Lucida Handwriting"/>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Lucida Handwriting"/>
              </a:rPr>
              <a:t>PUBLICO PRESENTE...</a:t>
            </a:r>
            <a:endParaRPr b="0" lang="en-US" sz="1000" spc="-1" strike="noStrike">
              <a:solidFill>
                <a:srgbClr val="000000"/>
              </a:solidFill>
              <a:latin typeface="Lucida Handwriting"/>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Handwriting"/>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Lucida Handwriting"/>
              </a:rPr>
              <a:t> </a:t>
            </a:r>
            <a:r>
              <a:rPr b="0" lang="es-ES_tradnl" sz="1000" spc="-1" strike="noStrike">
                <a:solidFill>
                  <a:srgbClr val="000000"/>
                </a:solidFill>
                <a:latin typeface="Lucida Handwriting"/>
              </a:rPr>
              <a:t>TODO A SU TIEMPO.... HAY TIEMPO PARA CADA COSA EN LA VIDA, Y UN MOMENTO PARA REALIZARLA, HAY UN TIEMPO PARA NACER, OTRO TIEMPO PARA MORIR, UN TIEMPO PARA LLORAR, OTRO PARA REIR, UN TIEMPO PARA PLANTAR, Y OTRO PARA COSECHAR, OTRO PARA ENSEÑAR AL MUNDO Y OTRO PARA RECOGER LAS SATISFACCIONES, ALEGRIAS, JUBILOS, RISAS, ABRAZOS... </a:t>
            </a:r>
            <a:endParaRPr b="0" lang="en-US" sz="1000" spc="-1" strike="noStrike">
              <a:solidFill>
                <a:srgbClr val="000000"/>
              </a:solidFill>
              <a:latin typeface="Lucida Handwriting"/>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Lucida Handwriting"/>
              </a:rPr>
              <a:t>HOY USTEDES Y YO, HEMOS TENIDO LA OPORTUNIDAD DE DAR GRACIAS POR OTRA HAZAÑA MAS... HOY AQUEL PENSAMIENTO SE HIZO REALIDAD, AQUEL SUELO SE VOLVIO TAMBIEN REALIDAD....</a:t>
            </a:r>
            <a:endParaRPr b="0" lang="en-US" sz="1000" spc="-1" strike="noStrike">
              <a:solidFill>
                <a:srgbClr val="000000"/>
              </a:solidFill>
              <a:latin typeface="Lucida Handwriting"/>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Lucida Handwriting"/>
              </a:rPr>
              <a:t>HAN TRANSCURRIDO...... AÑOS, EN LOS CUALES CONJUNTAMENTE HEMOS COMPARTIDO ENSEÑANZAS, APRENDIZAJES, VIVENCIAS Y HEMOS INCORPORADO NUEVOS MODELOS PARADIGMATICOS A NUESTRA EXISTENCIA... TODO SE HA LOGRADEO, GRACIAS A LA PERSEVERANCIA Y TESON DE MUCHOS... SUS HIJOS, SUS ESPOSAS, SUS ESPOSOS, SUS PADRES, USTEDES Y NOSOTROS ... LA UNIVERSIDAD....</a:t>
            </a:r>
            <a:endParaRPr b="0" lang="en-US" sz="1000" spc="-1" strike="noStrike">
              <a:solidFill>
                <a:srgbClr val="000000"/>
              </a:solidFill>
              <a:latin typeface="Lucida Handwriting"/>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Lucida Handwriting"/>
              </a:rPr>
              <a:t>LA UNIVERSIDAD...... QUE ME HONRO EN DIRIGIR, SATISFACE UNA VEZ MAS UNA DEMANDA DE LA SOCIEDAD, LA FORMACION QUE HOY HAN INCORPORADO A SU VIDA PROFESIONAL, HABRAN DE LLEVARLA A LA PRACTICA, A ESA PRACTICA QUE TIENE UN FIN, NUESTROS CONCIUDADANOS....</a:t>
            </a:r>
            <a:endParaRPr b="0" lang="en-US" sz="1000" spc="-1" strike="noStrike">
              <a:solidFill>
                <a:srgbClr val="000000"/>
              </a:solidFill>
              <a:latin typeface="Lucida Handwriting"/>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Lucida Handwriting"/>
              </a:rPr>
              <a:t>MAESTROS. Y /O DOCTORES... NUESTRO COMPROMISO SERA POR TANTO Y A PARTIR DE HOY, BRINDARLES LAS OPORTUNIDADES DE QUE EMPLEEN SUS ENERGIAS, SUA VOLUNTADES Y SU DIPOSICION ASER MEJORES CADA DIA, PORQUE LO HAN APRENDIDO CON ARTE Y LA ENSEÑANZA SERA POR TANTO UN PLACER....</a:t>
            </a:r>
            <a:endParaRPr b="0" lang="en-US" sz="10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Lucida Handwriting"/>
              </a:rPr>
              <a:t>ANEXO 2 A, FERVORIN DEL C. RECTOR  A SUS ALUMNOS GRADUANDOS....Continuación </a:t>
            </a:r>
            <a:endParaRPr b="0" lang="en-US" sz="1600" spc="-1" strike="noStrike">
              <a:solidFill>
                <a:srgbClr val="333399"/>
              </a:solidFill>
              <a:latin typeface="Tahoma"/>
            </a:endParaRPr>
          </a:p>
        </p:txBody>
      </p:sp>
      <p:sp>
        <p:nvSpPr>
          <p:cNvPr id="141" name="Text Box 3"/>
          <p:cNvSpPr/>
          <p:nvPr/>
        </p:nvSpPr>
        <p:spPr>
          <a:xfrm>
            <a:off x="990720" y="2057400"/>
            <a:ext cx="7619760" cy="354780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Lucida Handwriting"/>
              </a:rPr>
              <a:t>HOY EN DIA, HE QUERIDO PATENTIZAR A USTEDES, EL ORGULLO COMPARTIDO DE SER LOS PROFESIONISTAS DEL FUTURO...Y CON CUATRO PALABRAS QUIERO DECIRLES, QUE TAN IMPORTANTES SON USTEDES PARA LA UNIVERSIDAD, Y ASI COMO LA LUZ QUE HABREMOS DE ENCENDER PARA ALUMBRAR LA SENDA DE LA OSCURIDAD Y MOSTRAR A NUESTROS SEMEJANTES EL CAMINO POR RECORRER...</a:t>
            </a:r>
            <a:endParaRPr b="0" lang="en-US" sz="1000" spc="-1" strike="noStrike">
              <a:solidFill>
                <a:srgbClr val="000000"/>
              </a:solidFill>
              <a:latin typeface="Lucida Handwriting"/>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Lucida Handwriting"/>
              </a:rPr>
              <a:t>UNA LUZ DE PAZ, PARA QUE SIEMPRE LA CONSIGAN....</a:t>
            </a:r>
            <a:endParaRPr b="0" lang="en-US" sz="1000" spc="-1" strike="noStrike">
              <a:solidFill>
                <a:srgbClr val="000000"/>
              </a:solidFill>
              <a:latin typeface="Lucida Handwriting"/>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Lucida Handwriting"/>
              </a:rPr>
              <a:t>UNA LUZ DE FE, PARA QUE NO SEA SUPERFLUA...</a:t>
            </a:r>
            <a:endParaRPr b="0" lang="en-US" sz="1000" spc="-1" strike="noStrike">
              <a:solidFill>
                <a:srgbClr val="000000"/>
              </a:solidFill>
              <a:latin typeface="Lucida Handwriting"/>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Lucida Handwriting"/>
              </a:rPr>
              <a:t>UNA LUZ DE AMOR, PARA QUE TENGAN FUERZAS PARA  MANTENERLA ENCENDIDA...</a:t>
            </a:r>
            <a:endParaRPr b="0" lang="en-US" sz="1000" spc="-1" strike="noStrike">
              <a:solidFill>
                <a:srgbClr val="000000"/>
              </a:solidFill>
              <a:latin typeface="Lucida Handwriting"/>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Lucida Handwriting"/>
              </a:rPr>
              <a:t> </a:t>
            </a:r>
            <a:r>
              <a:rPr b="0" lang="es-ES_tradnl" sz="1000" spc="-1" strike="noStrike">
                <a:solidFill>
                  <a:srgbClr val="000000"/>
                </a:solidFill>
                <a:latin typeface="Lucida Handwriting"/>
              </a:rPr>
              <a:t>Y UNA LUZ DE ESPERANZA.... PARA QUE NUNCA SE APAGUE DENTRO DE CADA UNO DE USTEDES Y  DE NOSOTROS....</a:t>
            </a:r>
            <a:endParaRPr b="0" lang="en-US" sz="1000" spc="-1" strike="noStrike">
              <a:solidFill>
                <a:srgbClr val="000000"/>
              </a:solidFill>
              <a:latin typeface="Lucida Handwriting"/>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Lucida Handwriting"/>
              </a:rPr>
              <a:t>PARA CONCLUIR SOLO QUIERO ENUMERARLES ESTOS SENCILLOS PERO PRACTICOS CONSEJOS ,QUE SE QUE LLEVARAN EN SU MENTE Y EN SU CORAZON A PARTIR DE HOY...</a:t>
            </a:r>
            <a:endParaRPr b="0" lang="en-US" sz="1000" spc="-1" strike="noStrike">
              <a:solidFill>
                <a:srgbClr val="000000"/>
              </a:solidFill>
              <a:latin typeface="Lucida Handwriting"/>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Lucida Handwriting"/>
              </a:rPr>
              <a:t>DEMUESTREN AMOR, CONVENZAN CON EL EJEMPLO, TENGAN PACIENCIA AL ESCUCHAR, ORIENTEN VOCACIONES, CULTIVEN LA AUTOESTIMA, PERMITAN AFLORAR GUSTOS, EXIJAN RESPETO, INCULQUEN LA FIJACION DE METAS, DEN PREMIOS, ESTABLEZCAN LIMITES, VIGILEN ESTUDIOS, CREAN EN DIOS, IMPREGNENSE DE BUEN HUMOR, TENGAN INTERES POR LA COMUNIDAD, CUMPLAN LO QUE PROMETAN Y DEJEN TOMAR DECISIONES....</a:t>
            </a:r>
            <a:endParaRPr b="0" lang="en-US" sz="1000" spc="-1" strike="noStrike">
              <a:solidFill>
                <a:srgbClr val="000000"/>
              </a:solidFill>
              <a:latin typeface="Lucida Handwriting"/>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Lucida Handwriting"/>
              </a:rPr>
              <a:t>CUANDO LOGREN ESTO, HABRAN PERPETRADO OTRA HAZAÑA MAS...PORQUE USTEDES MAESTROS Y DOCTORES EN .... SON TRIUNFADORES, PORQUE SE FIJARON UNA META Y EL TIEMPO LIMITE PARA CONSEGUIRLA HOY LLEGO...</a:t>
            </a:r>
            <a:endParaRPr b="0" lang="en-US" sz="1000" spc="-1" strike="noStrike">
              <a:solidFill>
                <a:srgbClr val="000000"/>
              </a:solidFill>
              <a:latin typeface="Lucida Handwriting"/>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Handwriting"/>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Lucida Handwriting"/>
              </a:rPr>
              <a:t>MUCHAS GRACIAS....</a:t>
            </a:r>
            <a:endParaRPr b="0" lang="en-US" sz="10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4191120" y="914400"/>
            <a:ext cx="46479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Lucida Handwriting"/>
              </a:rPr>
              <a:t>LA  VESTIMENTA....EN LA CEREMONIA....</a:t>
            </a:r>
            <a:endParaRPr b="0" lang="en-US" sz="1800" spc="-1" strike="noStrike">
              <a:solidFill>
                <a:srgbClr val="000000"/>
              </a:solidFill>
              <a:latin typeface="Lucida Handwriting"/>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Lucida Handwriting"/>
              </a:rPr>
              <a:t>1a. Parte...</a:t>
            </a:r>
            <a:endParaRPr b="0" lang="en-US" sz="1800" spc="-1" strike="noStrike">
              <a:solidFill>
                <a:srgbClr val="000000"/>
              </a:solidFill>
              <a:latin typeface="Lucida Handwriting"/>
            </a:endParaRPr>
          </a:p>
        </p:txBody>
      </p:sp>
      <p:sp>
        <p:nvSpPr>
          <p:cNvPr id="143" name="Text Box 3"/>
          <p:cNvSpPr/>
          <p:nvPr/>
        </p:nvSpPr>
        <p:spPr>
          <a:xfrm>
            <a:off x="838080" y="1981080"/>
            <a:ext cx="7315200" cy="44769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Bright"/>
              </a:rPr>
              <a:t>EN ESTA CEREMONIA DE GRADUACION LOS CANDIDATOS AL GRADO DE MAESTROS Y DOCTORADOS PORTAN UNA VESTIMENTA EXPRESA, ES DECIR  EL GRADO A RECIBIR, CORRESPONDE AL CUARTO NIVEL DE ESTUDIOS PROFESIONALES, POR LO TANTO Y PARA DARLE LA SOLEMNIDAD AL PROTOCOLO UNIVERSITARIO, DONDE SE DETERMINAN USOS, COSTUMBRES, ESTILOS A GUARDAR EN DICHO ACTO CEREMONIAL, OBEDECIENDO A LOS PRINCIPIOS INTERNACIONALES Y LA REGLAMENTACION NACIONAL EN MATERIA PROTOCOLAR PARA MAESTRIAS Y DOCTORADOS. </a:t>
            </a:r>
            <a:endParaRPr b="0" lang="en-US" sz="1400" spc="-1" strike="noStrike">
              <a:solidFill>
                <a:srgbClr val="000000"/>
              </a:solidFill>
              <a:latin typeface="Lucida Handwriting"/>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Bright"/>
              </a:rPr>
              <a:t>LO ANTERIOR SE INSTITUYE COMO PRODUCTO DE UNA EVOLUCION HISTORICA,  QUE AUN CONSERVA MATICES DE NUESTRA EPOCA COLONIAL, EN MEXICO Y MAS AUN EN LA EPOCA MEDIEVAL DE EUROPA.</a:t>
            </a:r>
            <a:endParaRPr b="0" lang="en-US" sz="1400" spc="-1" strike="noStrike">
              <a:solidFill>
                <a:srgbClr val="000000"/>
              </a:solidFill>
              <a:latin typeface="Lucida Handwriting"/>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Bright"/>
              </a:rPr>
              <a:t>LA TOGA Y EL BIRRETE EN COLOR NEGRO SE INSTITUYE PARA MAESTRIA Y DOCTORADO, HACIENDO LA DIFERENCIA ENTRE AMBOS SOLAMENTE POR LA MUCETA, CUELLO EN FORMA DE V, QUE SE COLOCA CON EL ESCUDO DE LA UNIVERSIDAD, FACULTAD O ESCUELA, AL FRENTE Y  AL LADO DEL CORAZON.</a:t>
            </a:r>
            <a:endParaRPr b="0" lang="en-US" sz="1400" spc="-1" strike="noStrike">
              <a:solidFill>
                <a:srgbClr val="000000"/>
              </a:solidFill>
              <a:latin typeface="Lucida Handwriting"/>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Bright"/>
              </a:rPr>
              <a:t>LA MUCETA PARTE DEL CUELLO COMO PARTE FINAL DEL CEREBRO DONDE SE GUARDAN LAS IDEAS Y SE VIERTEN HACIA LA PARTE MEDIA ALTA DEL CUERPO, DONDE SE UBICA EL CORAZON, ES DECIR LA RELACION PENSAMIENTO ACCION..... EL BIRRETE CONTIENE</a:t>
            </a:r>
            <a:endParaRPr b="0" lang="en-US" sz="14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1981080" y="762120"/>
            <a:ext cx="6019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1" lang="es-MX" sz="3200" spc="-1" strike="noStrike">
                <a:solidFill>
                  <a:srgbClr val="3333cc"/>
                </a:solidFill>
                <a:latin typeface="Lucida Calligraphy"/>
              </a:rPr>
              <a:t>GRADUACION...</a:t>
            </a:r>
            <a:endParaRPr b="0" lang="en-US" sz="3200" spc="-1" strike="noStrike">
              <a:solidFill>
                <a:srgbClr val="000000"/>
              </a:solidFill>
              <a:latin typeface="Lucida Handwriting"/>
            </a:endParaRPr>
          </a:p>
        </p:txBody>
      </p:sp>
      <p:sp>
        <p:nvSpPr>
          <p:cNvPr id="106" name="Text Box 3"/>
          <p:cNvSpPr/>
          <p:nvPr/>
        </p:nvSpPr>
        <p:spPr>
          <a:xfrm>
            <a:off x="1143000" y="2590920"/>
            <a:ext cx="6934320" cy="222840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Lucida Handwriting"/>
              </a:rPr>
              <a:t>Es la </a:t>
            </a:r>
            <a:r>
              <a:rPr b="1" lang="es-MX" sz="2000" spc="-1" strike="noStrike" u="sng">
                <a:solidFill>
                  <a:srgbClr val="000000"/>
                </a:solidFill>
                <a:uFillTx/>
                <a:latin typeface="Lucida Handwriting"/>
              </a:rPr>
              <a:t>ceremonia</a:t>
            </a:r>
            <a:r>
              <a:rPr b="0" lang="es-MX" sz="2000" spc="-1" strike="noStrike">
                <a:solidFill>
                  <a:srgbClr val="000000"/>
                </a:solidFill>
                <a:latin typeface="Lucida Handwriting"/>
              </a:rPr>
              <a:t> de obtención de grado, encargada de establecer las formas y mecanismos para que la actividad tenga la altura correspondiente y el éxito  esperado; contempla </a:t>
            </a:r>
            <a:r>
              <a:rPr b="1" lang="es-MX" sz="2000" spc="-1" strike="noStrike" u="sng">
                <a:solidFill>
                  <a:srgbClr val="000000"/>
                </a:solidFill>
                <a:uFillTx/>
                <a:latin typeface="Lucida Handwriting"/>
              </a:rPr>
              <a:t>ceremonial </a:t>
            </a:r>
            <a:r>
              <a:rPr b="0" lang="es-MX" sz="2000" spc="-1" strike="noStrike">
                <a:solidFill>
                  <a:srgbClr val="000000"/>
                </a:solidFill>
                <a:latin typeface="Lucida Handwriting"/>
              </a:rPr>
              <a:t>como mecanismo para darle solemnidad al protocolo universitario y </a:t>
            </a:r>
            <a:r>
              <a:rPr b="1" lang="es-MX" sz="2000" spc="-1" strike="noStrike" u="sng">
                <a:solidFill>
                  <a:srgbClr val="000000"/>
                </a:solidFill>
                <a:uFillTx/>
                <a:latin typeface="Lucida Handwriting"/>
              </a:rPr>
              <a:t>etiqueta</a:t>
            </a:r>
            <a:r>
              <a:rPr b="0" lang="es-MX" sz="2000" spc="-1" strike="noStrike">
                <a:solidFill>
                  <a:srgbClr val="000000"/>
                </a:solidFill>
                <a:latin typeface="Lucida Handwriting"/>
              </a:rPr>
              <a:t>  que determina los estilos, usos y costumbres a guardar en dicho acto.</a:t>
            </a:r>
            <a:endParaRPr b="0" lang="en-US" sz="20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809880" y="1294920"/>
            <a:ext cx="5058000" cy="236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Lucida Calligraphy"/>
              </a:rPr>
              <a:t>Vestimenta en la ceremonia, 2da. Parte...</a:t>
            </a:r>
            <a:endParaRPr b="0" lang="en-US" sz="1800" spc="-1" strike="noStrike">
              <a:solidFill>
                <a:srgbClr val="333399"/>
              </a:solidFill>
              <a:latin typeface="Tahoma"/>
            </a:endParaRPr>
          </a:p>
        </p:txBody>
      </p:sp>
      <p:sp>
        <p:nvSpPr>
          <p:cNvPr id="145" name="Text Box 3"/>
          <p:cNvSpPr/>
          <p:nvPr/>
        </p:nvSpPr>
        <p:spPr>
          <a:xfrm>
            <a:off x="685800" y="2209680"/>
            <a:ext cx="7620120" cy="41482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Lucida Bright"/>
              </a:rPr>
              <a:t>LA BORLA, LA CUAL PORTA EL ESTUDIANTE Y ESTA UBICADA ANTES DE PASAR A RECIBIR SUS DOCUMENTOS, HACIA EL LADO IZQUIERDO Y AL RECIBIRLOS PARA LEGITIMAR, EL C. RECTOR HARA EL PASE HACIA EL LADO DERECHO HACIENDO EL ALUMNO UNA LEVE INCLINACION HACIA ESTE, AL MOMENTO DE QUE LE IMPONE LA MUCETA, LA CUAL PORTA EN LA MANO DERECHA AL LLEGAR AL PRESIDIUM....SE LES NOTIFICA A LOS ALUMNOS QUE DEBERAN LLEGAR ANTE EL PRESIDIUM, CON LA BORLA HACIA EL LADO IZQUIERDO...EL BIRRETE CONTEMPLA CUATRO PUNTOS CARDINALES DE DONDE PARTEN LOS CONOCIMIENTOS, SIENDO LA BORLA EL HAZ DE LUZ DONDE SE CONCENTRAN LOS 4 Y ES LA LUZ QUE EL SER HUMANO RECIBE PARA ILUMINAR EL SENDERO POR RECORRER EN SU VIDA...</a:t>
            </a:r>
            <a:endParaRPr b="0" lang="en-US" sz="1200" spc="-1" strike="noStrike">
              <a:solidFill>
                <a:srgbClr val="000000"/>
              </a:solidFill>
              <a:latin typeface="Lucida Handwriting"/>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Lucida Bright"/>
              </a:rPr>
              <a:t>EL C. RECTOR, VICERRECTORES , DECANO DE LA UNIVERSIDAD Y EL DIRECTOR DE CEREMONIAL Y PROTOCOLO EN SU CASO, SI ES DOCTOR, PORTAN DE IGUAL FORMA TOGA Y EN LUGAR DE BIRRETE, LLEVAN  BONETE, QUE SIGNIFICA TENER UNIDOS LOS CUATRO PUNTOS CARDINALES SOBRE SU CABEZA, LO QUE LOS IDENTIFICA COMO POSEEDORES  MAXIMO DE  LOS NIVELES DE CONOCIMIENTO.</a:t>
            </a:r>
            <a:endParaRPr b="0" lang="en-US" sz="1200" spc="-1" strike="noStrike">
              <a:solidFill>
                <a:srgbClr val="000000"/>
              </a:solidFill>
              <a:latin typeface="Lucida Handwriting"/>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Lucida Bright"/>
              </a:rPr>
              <a:t>EN LUGAR DE LA MUCETA LLEVAN UNA CAPILLA, SOBRE SUS HOMBROS, CON FORRO DE COLOR COBRE O AMARILLO, QUE SIGNIFICA QUE LA LUZ DEL SENDERO LA LLEVAN  DENTRO, POR ELLO ENCIENDE EL CIRIO CENTRAL EN LA CEREMONIA, Y LO LLEVA ENCERRADO EN SU CORAZON, PARA EL ACCIONAR DE PENSAMIENTO Y ACCION EN LA VIDA, SOLO DEBERAN DE DESCUBRIRSE DEL LADO DEL CORZON, PARA LO CUAL VA PRENDIDO CON UN PEQUEÑO BROCHE, Y MUESTRA AL LADO DEL CORAZON LA MEDALLA EN ORO, QUE LOS IDENTIFICA COMO DOCTORES Y RANGO EN LA UNIVERSIDAD, DONDE LA INSIGNIA DEBERA DECIR, RECTOR, VICERRECTOR, DECANO, EN SU CASO...POR SU</a:t>
            </a:r>
            <a:r>
              <a:rPr b="0" lang="es-ES_tradnl" sz="1400" spc="-1" strike="noStrike">
                <a:solidFill>
                  <a:srgbClr val="000000"/>
                </a:solidFill>
                <a:latin typeface="Lucida Bright"/>
              </a:rPr>
              <a:t> </a:t>
            </a:r>
            <a:r>
              <a:rPr b="0" lang="es-ES_tradnl" sz="1200" spc="-1" strike="noStrike">
                <a:solidFill>
                  <a:srgbClr val="000000"/>
                </a:solidFill>
                <a:latin typeface="Lucida Bright"/>
              </a:rPr>
              <a:t>NIVEL , MERITO Y CONOCIMIENTOS....</a:t>
            </a:r>
            <a:endParaRPr b="0" lang="en-US" sz="12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3962520" y="114300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Lucida Handwriting"/>
              </a:rPr>
              <a:t>VESTIMENTA, 3era. PARTE.</a:t>
            </a:r>
            <a:endParaRPr b="0" lang="en-US" sz="1800" spc="-1" strike="noStrike">
              <a:solidFill>
                <a:srgbClr val="000000"/>
              </a:solidFill>
              <a:latin typeface="Lucida Handwriting"/>
            </a:endParaRPr>
          </a:p>
        </p:txBody>
      </p:sp>
      <p:sp>
        <p:nvSpPr>
          <p:cNvPr id="147" name="Text Box 3"/>
          <p:cNvSpPr/>
          <p:nvPr/>
        </p:nvSpPr>
        <p:spPr>
          <a:xfrm>
            <a:off x="914400" y="2286000"/>
            <a:ext cx="7391520" cy="43066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Lucida Bright"/>
              </a:rPr>
              <a:t>Color de la muceta:</a:t>
            </a:r>
            <a:endParaRPr b="0" lang="en-US" sz="1600" spc="-1" strike="noStrike">
              <a:solidFill>
                <a:srgbClr val="000000"/>
              </a:solidFill>
              <a:latin typeface="Lucida Handwriting"/>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Handwriting"/>
            </a:endParaRPr>
          </a:p>
          <a:p>
            <a:pPr algn="ctr">
              <a:lnSpc>
                <a:spcPct val="100000"/>
              </a:lnSpc>
              <a:spcBef>
                <a:spcPts val="1001"/>
              </a:spcBef>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Lucida Bright"/>
              </a:rPr>
              <a:t>GRIS.... </a:t>
            </a:r>
            <a:r>
              <a:rPr b="0" lang="es-ES_tradnl" sz="1600" spc="-1" strike="noStrike">
                <a:solidFill>
                  <a:srgbClr val="000000"/>
                </a:solidFill>
                <a:latin typeface="Lucida Bright"/>
              </a:rPr>
              <a:t>EDUCACION , HUMANIDADES, RELACIONES HUMANAS, COMUNICACION</a:t>
            </a:r>
            <a:endParaRPr b="0" lang="en-US" sz="1600" spc="-1" strike="noStrike">
              <a:solidFill>
                <a:srgbClr val="000000"/>
              </a:solidFill>
              <a:latin typeface="Lucida Handwriting"/>
            </a:endParaRPr>
          </a:p>
          <a:p>
            <a:pPr algn="ctr">
              <a:lnSpc>
                <a:spcPct val="100000"/>
              </a:lnSpc>
              <a:spcBef>
                <a:spcPts val="1001"/>
              </a:spcBef>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Lucida Bright"/>
              </a:rPr>
              <a:t>ROJA... </a:t>
            </a:r>
            <a:r>
              <a:rPr b="0" lang="es-ES_tradnl" sz="1600" spc="-1" strike="noStrike">
                <a:solidFill>
                  <a:srgbClr val="000000"/>
                </a:solidFill>
                <a:latin typeface="Lucida Bright"/>
              </a:rPr>
              <a:t>FISICA, INGENIERIA CIVIL, ARQUITECTURA</a:t>
            </a:r>
            <a:r>
              <a:rPr b="1" lang="es-ES_tradnl" sz="1600" spc="-1" strike="noStrike">
                <a:solidFill>
                  <a:srgbClr val="000000"/>
                </a:solidFill>
                <a:latin typeface="Lucida Bright"/>
              </a:rPr>
              <a:t>.</a:t>
            </a:r>
            <a:endParaRPr b="0" lang="en-US" sz="1600" spc="-1" strike="noStrike">
              <a:solidFill>
                <a:srgbClr val="000000"/>
              </a:solidFill>
              <a:latin typeface="Lucida Handwriting"/>
            </a:endParaRPr>
          </a:p>
          <a:p>
            <a:pPr algn="ctr">
              <a:lnSpc>
                <a:spcPct val="100000"/>
              </a:lnSpc>
              <a:spcBef>
                <a:spcPts val="1001"/>
              </a:spcBef>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Lucida Bright"/>
              </a:rPr>
              <a:t>NARANJA... </a:t>
            </a:r>
            <a:r>
              <a:rPr b="0" lang="es-ES_tradnl" sz="1600" spc="-1" strike="noStrike">
                <a:solidFill>
                  <a:srgbClr val="000000"/>
                </a:solidFill>
                <a:latin typeface="Lucida Bright"/>
              </a:rPr>
              <a:t>COMERCIO, ADMINISTRACION, CONTABILIDAD, MERCADOTECNIA.</a:t>
            </a:r>
            <a:endParaRPr b="0" lang="en-US" sz="1600" spc="-1" strike="noStrike">
              <a:solidFill>
                <a:srgbClr val="000000"/>
              </a:solidFill>
              <a:latin typeface="Lucida Handwriting"/>
            </a:endParaRPr>
          </a:p>
          <a:p>
            <a:pPr algn="ctr">
              <a:lnSpc>
                <a:spcPct val="100000"/>
              </a:lnSpc>
              <a:spcBef>
                <a:spcPts val="1001"/>
              </a:spcBef>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Lucida Bright"/>
              </a:rPr>
              <a:t>VERDE.... </a:t>
            </a:r>
            <a:r>
              <a:rPr b="0" lang="es-ES_tradnl" sz="1600" spc="-1" strike="noStrike">
                <a:solidFill>
                  <a:srgbClr val="000000"/>
                </a:solidFill>
                <a:latin typeface="Lucida Bright"/>
              </a:rPr>
              <a:t>CIENCIAS AGRONOMICAS, BIOLOGIA, VETERINARIA,QUIMICOS, LABORATORISTAS</a:t>
            </a:r>
            <a:endParaRPr b="0" lang="en-US" sz="1600" spc="-1" strike="noStrike">
              <a:solidFill>
                <a:srgbClr val="000000"/>
              </a:solidFill>
              <a:latin typeface="Lucida Handwriting"/>
            </a:endParaRPr>
          </a:p>
          <a:p>
            <a:pPr algn="ctr">
              <a:lnSpc>
                <a:spcPct val="100000"/>
              </a:lnSpc>
              <a:spcBef>
                <a:spcPts val="1001"/>
              </a:spcBef>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Lucida Bright"/>
              </a:rPr>
              <a:t>AZUL... </a:t>
            </a:r>
            <a:r>
              <a:rPr b="0" lang="es-ES_tradnl" sz="1600" spc="-1" strike="noStrike">
                <a:solidFill>
                  <a:srgbClr val="000000"/>
                </a:solidFill>
                <a:latin typeface="Lucida Bright"/>
              </a:rPr>
              <a:t>LEYES, DERECHO, MAGISTRADOS, DIPLOMACIA, RELACIONES INTERNACIONALES.</a:t>
            </a:r>
            <a:endParaRPr b="0" lang="en-US" sz="1600" spc="-1" strike="noStrike">
              <a:solidFill>
                <a:srgbClr val="000000"/>
              </a:solidFill>
              <a:latin typeface="Lucida Handwriting"/>
            </a:endParaRPr>
          </a:p>
          <a:p>
            <a:pPr algn="ctr">
              <a:lnSpc>
                <a:spcPct val="100000"/>
              </a:lnSpc>
              <a:spcBef>
                <a:spcPts val="1001"/>
              </a:spcBef>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Lucida Bright"/>
              </a:rPr>
              <a:t>AMARILLA.... </a:t>
            </a:r>
            <a:r>
              <a:rPr b="0" lang="es-ES_tradnl" sz="1600" spc="-1" strike="noStrike">
                <a:solidFill>
                  <a:srgbClr val="000000"/>
                </a:solidFill>
                <a:latin typeface="Lucida Bright"/>
              </a:rPr>
              <a:t>GEOLOGOS, GEOGRAFOS, CIENCIAS DE LA TIERRA</a:t>
            </a:r>
            <a:endParaRPr b="0" lang="en-US" sz="1600" spc="-1" strike="noStrike">
              <a:solidFill>
                <a:srgbClr val="000000"/>
              </a:solidFill>
              <a:latin typeface="Lucida Handwriting"/>
            </a:endParaRPr>
          </a:p>
          <a:p>
            <a:pPr>
              <a:lnSpc>
                <a:spcPct val="100000"/>
              </a:lnSpc>
              <a:spcBef>
                <a:spcPts val="1001"/>
              </a:spcBef>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2895480" y="914400"/>
            <a:ext cx="5257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cc"/>
                </a:solidFill>
                <a:latin typeface="Lucida Handwriting"/>
              </a:rPr>
              <a:t>OBJETIVO...</a:t>
            </a:r>
            <a:endParaRPr b="0" lang="en-US" sz="3200" spc="-1" strike="noStrike">
              <a:solidFill>
                <a:srgbClr val="000000"/>
              </a:solidFill>
              <a:latin typeface="Lucida Handwriting"/>
            </a:endParaRPr>
          </a:p>
        </p:txBody>
      </p:sp>
      <p:sp>
        <p:nvSpPr>
          <p:cNvPr id="108" name="Text Box 3"/>
          <p:cNvSpPr/>
          <p:nvPr/>
        </p:nvSpPr>
        <p:spPr>
          <a:xfrm>
            <a:off x="1219320" y="2819520"/>
            <a:ext cx="6095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Handwriting"/>
            </a:endParaRPr>
          </a:p>
        </p:txBody>
      </p:sp>
      <p:sp>
        <p:nvSpPr>
          <p:cNvPr id="109" name="Text Box 4"/>
          <p:cNvSpPr/>
          <p:nvPr/>
        </p:nvSpPr>
        <p:spPr>
          <a:xfrm>
            <a:off x="1143000" y="2743200"/>
            <a:ext cx="6781680" cy="253332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Lucida Handwriting"/>
              </a:rPr>
              <a:t>Cubrir todos los aspectos protocolares y ceremoniales de las actividades  de graduación de Maestrías y Doctorados que se organicen en la Universidad ( </a:t>
            </a:r>
            <a:r>
              <a:rPr b="1" lang="es-MX" sz="1600" spc="-1" strike="noStrike">
                <a:solidFill>
                  <a:srgbClr val="000000"/>
                </a:solidFill>
                <a:latin typeface="Lucida Handwriting"/>
              </a:rPr>
              <a:t>se menciona el nombre</a:t>
            </a:r>
            <a:r>
              <a:rPr b="0" lang="es-MX" sz="2000" spc="-1" strike="noStrike">
                <a:solidFill>
                  <a:srgbClr val="000000"/>
                </a:solidFill>
                <a:latin typeface="Lucida Handwriting"/>
              </a:rPr>
              <a:t> )basadas en el aspecto normativo y funcional de los protocolos universitarios, obedeciendo de igual modo a los principios internacionales y la reglamentación nacional  en materia protocolar.</a:t>
            </a:r>
            <a:endParaRPr b="0" lang="en-US" sz="20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2590920" y="685800"/>
            <a:ext cx="5638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Lucida Handwriting"/>
              </a:rPr>
              <a:t> </a:t>
            </a:r>
            <a:r>
              <a:rPr b="1" lang="es-MX" sz="3200" spc="-1" strike="noStrike">
                <a:solidFill>
                  <a:srgbClr val="3333cc"/>
                </a:solidFill>
                <a:latin typeface="Lucida Handwriting"/>
              </a:rPr>
              <a:t>ANTECEDENTES...</a:t>
            </a:r>
            <a:endParaRPr b="0" lang="en-US" sz="3200" spc="-1" strike="noStrike">
              <a:solidFill>
                <a:srgbClr val="000000"/>
              </a:solidFill>
              <a:latin typeface="Lucida Handwriting"/>
            </a:endParaRPr>
          </a:p>
        </p:txBody>
      </p:sp>
      <p:sp>
        <p:nvSpPr>
          <p:cNvPr id="111" name="Text Box 3"/>
          <p:cNvSpPr/>
          <p:nvPr/>
        </p:nvSpPr>
        <p:spPr>
          <a:xfrm>
            <a:off x="1143000" y="2514600"/>
            <a:ext cx="6934320" cy="28738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Handwriting"/>
              </a:rPr>
              <a:t>Ante la necesidad imperiosa de organizar y coordinar los eventos y la atención protocolar que requiere una graduación en la obtención del grado de Maestría y Doctorado, se instituye por parte de la Universidad ...( </a:t>
            </a:r>
            <a:r>
              <a:rPr b="1" lang="es-MX" sz="1400" spc="-1" strike="noStrike">
                <a:solidFill>
                  <a:srgbClr val="000000"/>
                </a:solidFill>
                <a:latin typeface="Lucida Handwriting"/>
              </a:rPr>
              <a:t>se menciona el nombre</a:t>
            </a:r>
            <a:r>
              <a:rPr b="0" lang="es-MX" sz="1400" spc="-1" strike="noStrike">
                <a:solidFill>
                  <a:srgbClr val="000000"/>
                </a:solidFill>
                <a:latin typeface="Lucida Handwriting"/>
              </a:rPr>
              <a:t> ) el presente acto de grado, como producto de la evolución histórica, que aún conserva matices de nuestra época colonial y más aún de la época medieval... </a:t>
            </a:r>
            <a:endParaRPr b="0" lang="en-US" sz="1400" spc="-1" strike="noStrike">
              <a:solidFill>
                <a:srgbClr val="000000"/>
              </a:solidFill>
              <a:latin typeface="Lucida Handwriting"/>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Handwriting"/>
              </a:rPr>
              <a:t>“</a:t>
            </a:r>
            <a:r>
              <a:rPr b="0" lang="es-MX" sz="1400" spc="-1" strike="noStrike">
                <a:solidFill>
                  <a:srgbClr val="000000"/>
                </a:solidFill>
                <a:latin typeface="Lucida Handwriting"/>
              </a:rPr>
              <a:t>En antiguos escritos se observó que el acto de grado consistía en el conferimiento de la borla-- que después se sustituyó por el de birrete---se efectuaba en el seminario, el cual era presidido por los Doctores, donde cada candidato era custodiado por el Secretario de la Universidad, hasta la tribuna, y allí  disertaba sobre los estudios cursados- 5 minutos- y a partir de ese momento adquiría el derecho de ocupar un espacio en el Presidium “... </a:t>
            </a:r>
            <a:endParaRPr b="0" lang="en-US" sz="1400" spc="-1" strike="noStrike">
              <a:solidFill>
                <a:srgbClr val="000000"/>
              </a:solidFill>
              <a:latin typeface="Lucida Handwriting"/>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Handwriting"/>
              </a:rPr>
              <a:t>Universidad e los Andes, Mérida Venezuela, Junio 2001.</a:t>
            </a:r>
            <a:endParaRPr b="0" lang="en-US" sz="14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2895480" y="380880"/>
            <a:ext cx="51055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cc"/>
                </a:solidFill>
                <a:latin typeface="Lucida Handwriting"/>
              </a:rPr>
              <a:t>LA ETIQUETA EN LOS GRADOS... </a:t>
            </a:r>
            <a:endParaRPr b="0" lang="en-US" sz="3200" spc="-1" strike="noStrike">
              <a:solidFill>
                <a:srgbClr val="000000"/>
              </a:solidFill>
              <a:latin typeface="Lucida Handwriting"/>
            </a:endParaRPr>
          </a:p>
        </p:txBody>
      </p:sp>
      <p:sp>
        <p:nvSpPr>
          <p:cNvPr id="113" name="Text Box 3"/>
          <p:cNvSpPr/>
          <p:nvPr/>
        </p:nvSpPr>
        <p:spPr>
          <a:xfrm>
            <a:off x="838080" y="2590920"/>
            <a:ext cx="716292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Handwriting"/>
            </a:endParaRPr>
          </a:p>
        </p:txBody>
      </p:sp>
      <p:sp>
        <p:nvSpPr>
          <p:cNvPr id="114" name="Text Box 4"/>
          <p:cNvSpPr/>
          <p:nvPr/>
        </p:nvSpPr>
        <p:spPr>
          <a:xfrm>
            <a:off x="914400" y="1600200"/>
            <a:ext cx="7696080" cy="43394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Lucida Handwriting"/>
              </a:rPr>
              <a:t> </a:t>
            </a:r>
            <a:r>
              <a:rPr b="1" lang="es-MX" sz="1600" spc="-1" strike="noStrike">
                <a:solidFill>
                  <a:srgbClr val="000000"/>
                </a:solidFill>
                <a:latin typeface="Lucida Handwriting"/>
              </a:rPr>
              <a:t>RECTOR:</a:t>
            </a:r>
            <a:r>
              <a:rPr b="0" lang="es-MX" sz="1600" spc="-1" strike="noStrike">
                <a:solidFill>
                  <a:srgbClr val="000000"/>
                </a:solidFill>
                <a:latin typeface="Lucida Handwriting"/>
              </a:rPr>
              <a:t>  Toga color negro, con capa  redondeada, hasta la altura de los codos, la cual lleva en su interior forro de color cobre , sujeta de una orilla , para hacerse notar el color y la medalla que porta de identificacion de C. Rector,  atada a una cintilla tricolor que identifica los colores de la institución  (anotar los colores que la identifican) y borla negra de 4 polos y una mota  grande al centro de color negro.</a:t>
            </a:r>
            <a:endParaRPr b="0" lang="en-US" sz="1600" spc="-1" strike="noStrike">
              <a:solidFill>
                <a:srgbClr val="000000"/>
              </a:solidFill>
              <a:latin typeface="Lucida Handwriting"/>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Lucida Handwriting"/>
              </a:rPr>
              <a:t>SECRETARIO:</a:t>
            </a:r>
            <a:r>
              <a:rPr b="0" lang="es-MX" sz="1600" spc="-1" strike="noStrike">
                <a:solidFill>
                  <a:srgbClr val="000000"/>
                </a:solidFill>
                <a:latin typeface="Lucida Handwriting"/>
              </a:rPr>
              <a:t> Toga, birrete en color negro y medalla en oro de Secretario de la Universidad.</a:t>
            </a:r>
            <a:endParaRPr b="0" lang="en-US" sz="1600" spc="-1" strike="noStrike">
              <a:solidFill>
                <a:srgbClr val="000000"/>
              </a:solidFill>
              <a:latin typeface="Lucida Handwriting"/>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Lucida Handwriting"/>
              </a:rPr>
              <a:t>VICERRECTORES:</a:t>
            </a:r>
            <a:r>
              <a:rPr b="0" lang="es-MX" sz="1600" spc="-1" strike="noStrike">
                <a:solidFill>
                  <a:srgbClr val="000000"/>
                </a:solidFill>
                <a:latin typeface="Lucida Handwriting"/>
              </a:rPr>
              <a:t>  Toga y birrete y medalla  en oro de Vicerrectores y  muceta </a:t>
            </a:r>
            <a:r>
              <a:rPr b="0" lang="es-MX" sz="1000" spc="-1" strike="noStrike">
                <a:solidFill>
                  <a:srgbClr val="000000"/>
                </a:solidFill>
                <a:latin typeface="Lucida Handwriting"/>
              </a:rPr>
              <a:t>( </a:t>
            </a:r>
            <a:r>
              <a:rPr b="1" lang="es-MX" sz="1000" spc="-1" strike="noStrike">
                <a:solidFill>
                  <a:srgbClr val="000000"/>
                </a:solidFill>
                <a:latin typeface="Lucida Handwriting"/>
              </a:rPr>
              <a:t>especie de corbata en forma trinagular, con los picos fionales en el pecho y la espalda, lleva el escudo de la Universidad en el pecho, tiene una dimension de 15 cm. de ancho</a:t>
            </a:r>
            <a:r>
              <a:rPr b="1" lang="es-MX" sz="800" spc="-1" strike="noStrike">
                <a:solidFill>
                  <a:srgbClr val="000000"/>
                </a:solidFill>
                <a:latin typeface="Lucida Handwriting"/>
              </a:rPr>
              <a:t>.) </a:t>
            </a:r>
            <a:r>
              <a:rPr b="0" lang="es-MX" sz="1600" spc="-1" strike="noStrike">
                <a:solidFill>
                  <a:srgbClr val="000000"/>
                </a:solidFill>
                <a:latin typeface="Lucida Handwriting"/>
              </a:rPr>
              <a:t>según el grado, gris  para Maestría  y cobre para  Doctorado</a:t>
            </a:r>
            <a:endParaRPr b="0" lang="en-US" sz="1600" spc="-1" strike="noStrike">
              <a:solidFill>
                <a:srgbClr val="000000"/>
              </a:solidFill>
              <a:latin typeface="Lucida Handwriting"/>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Lucida Handwriting"/>
              </a:rPr>
              <a:t>GRADUANDOS:</a:t>
            </a:r>
            <a:r>
              <a:rPr b="0" lang="es-MX" sz="1600" spc="-1" strike="noStrike">
                <a:solidFill>
                  <a:srgbClr val="000000"/>
                </a:solidFill>
                <a:latin typeface="Lucida Handwriting"/>
              </a:rPr>
              <a:t>  Toga y birrete  en color negro, con la barbilla del birrete hacia el lado izquierdo y al lado derecho después del grado. La muceta en color (</a:t>
            </a:r>
            <a:r>
              <a:rPr b="1" lang="es-MX" sz="1400" spc="-1" strike="noStrike">
                <a:solidFill>
                  <a:srgbClr val="000000"/>
                </a:solidFill>
                <a:latin typeface="Lucida Handwriting"/>
              </a:rPr>
              <a:t>según la especialidad de la maestria</a:t>
            </a:r>
            <a:r>
              <a:rPr b="0" lang="es-MX" sz="1600" spc="-1" strike="noStrike">
                <a:solidFill>
                  <a:srgbClr val="000000"/>
                </a:solidFill>
                <a:latin typeface="Lucida Handwriting"/>
              </a:rPr>
              <a:t> ) se coloca al recibir el grado con barbillas atrás y adelante  con los colores de la Universidad.</a:t>
            </a:r>
            <a:endParaRPr b="0" lang="en-US" sz="16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676520" y="762120"/>
            <a:ext cx="7467480" cy="9057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cc"/>
                </a:solidFill>
                <a:latin typeface="Lucida Handwriting"/>
              </a:rPr>
              <a:t>CEREMONIAL Y PROTOCOLO...</a:t>
            </a:r>
            <a:endParaRPr b="0" lang="en-US" sz="3200" spc="-1" strike="noStrike">
              <a:solidFill>
                <a:srgbClr val="000000"/>
              </a:solidFill>
              <a:latin typeface="Lucida Handwriting"/>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cc"/>
                </a:solidFill>
                <a:latin typeface="Lucida Handwriting"/>
              </a:rPr>
              <a:t>PROGRAMA...</a:t>
            </a:r>
            <a:endParaRPr b="0" lang="en-US" sz="1400" spc="-1" strike="noStrike">
              <a:solidFill>
                <a:srgbClr val="000000"/>
              </a:solidFill>
              <a:latin typeface="Lucida Handwriting"/>
            </a:endParaRPr>
          </a:p>
        </p:txBody>
      </p:sp>
      <p:sp>
        <p:nvSpPr>
          <p:cNvPr id="116" name="Text Box 3"/>
          <p:cNvSpPr/>
          <p:nvPr/>
        </p:nvSpPr>
        <p:spPr>
          <a:xfrm>
            <a:off x="838080" y="2209680"/>
            <a:ext cx="7772400" cy="491220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just">
              <a:spcBef>
                <a:spcPts val="876"/>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Handwriting"/>
              </a:rPr>
              <a:t>Entra el Excmo. Sr. Rector, seguido del Secretario y Vicerrectores, además del Decano de la Universidad y se colocan en el Presidium... El Rector al centro, los Vicerrectores en ambos lados y a la derecha de éstos el Secretario y a la izquierda el Decanode la Universidad.</a:t>
            </a:r>
            <a:endParaRPr b="0" lang="en-US" sz="1400" spc="-1" strike="noStrike">
              <a:solidFill>
                <a:srgbClr val="000000"/>
              </a:solidFill>
              <a:latin typeface="Lucida Handwriting"/>
            </a:endParaRPr>
          </a:p>
          <a:p>
            <a:pPr algn="just">
              <a:spcBef>
                <a:spcPts val="876"/>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Handwriting"/>
              </a:rPr>
              <a:t>Acto seguido el Secretario de la Universidad hace pasar a los Graduandos en orden de mejor promedio, hasta el 4to. Lugar en aprovechamiento y después el resto en el orden de la lista de asistencia, se colocan frente al presidium y permanecen de pie con la barbilla del birrete hacia el lado izquierdo.</a:t>
            </a:r>
            <a:endParaRPr b="0" lang="en-US" sz="1400" spc="-1" strike="noStrike">
              <a:solidFill>
                <a:srgbClr val="000000"/>
              </a:solidFill>
              <a:latin typeface="Lucida Handwriting"/>
            </a:endParaRPr>
          </a:p>
          <a:p>
            <a:pPr algn="just">
              <a:spcBef>
                <a:spcPts val="876"/>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Handwriting"/>
              </a:rPr>
              <a:t>El alumno del “2do. Lugar solicita al C. Rector el título de Candidato a Maestro  a nombre  propio y de sus compañeros</a:t>
            </a:r>
            <a:r>
              <a:rPr b="1" lang="es-MX" sz="1400" spc="-1" strike="noStrike">
                <a:solidFill>
                  <a:srgbClr val="000000"/>
                </a:solidFill>
                <a:latin typeface="Lucida Handwriting"/>
              </a:rPr>
              <a:t>.(Anexo 1)</a:t>
            </a:r>
            <a:endParaRPr b="0" lang="en-US" sz="1400" spc="-1" strike="noStrike">
              <a:solidFill>
                <a:srgbClr val="000000"/>
              </a:solidFill>
              <a:latin typeface="Lucida Handwriting"/>
            </a:endParaRPr>
          </a:p>
          <a:p>
            <a:pPr algn="just">
              <a:spcBef>
                <a:spcPts val="876"/>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Handwriting"/>
              </a:rPr>
              <a:t>El C. Rector contesta afirmativamente y los invita a pasar a tomar asiento , frente al presidium ,en primera fila</a:t>
            </a:r>
            <a:r>
              <a:rPr b="1" lang="es-MX" sz="1400" spc="-1" strike="noStrike">
                <a:solidFill>
                  <a:srgbClr val="000000"/>
                </a:solidFill>
                <a:latin typeface="Lucida Handwriting"/>
              </a:rPr>
              <a:t>.(Anexo 2 )</a:t>
            </a:r>
            <a:endParaRPr b="0" lang="en-US" sz="1400" spc="-1" strike="noStrike">
              <a:solidFill>
                <a:srgbClr val="000000"/>
              </a:solidFill>
              <a:latin typeface="Lucida Handwriting"/>
            </a:endParaRPr>
          </a:p>
          <a:p>
            <a:pPr algn="just">
              <a:spcBef>
                <a:spcPts val="876"/>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Handwriting"/>
              </a:rPr>
              <a:t> </a:t>
            </a:r>
            <a:r>
              <a:rPr b="0" lang="es-MX" sz="1400" spc="-1" strike="noStrike">
                <a:solidFill>
                  <a:srgbClr val="000000"/>
                </a:solidFill>
                <a:latin typeface="Lucida Handwriting"/>
              </a:rPr>
              <a:t>Enseguida el Director de Ceremonial y Protocolo invita a los presentes a rendir honores a la bandera nacional.</a:t>
            </a:r>
            <a:endParaRPr b="0" lang="en-US" sz="1400" spc="-1" strike="noStrike">
              <a:solidFill>
                <a:srgbClr val="000000"/>
              </a:solidFill>
              <a:latin typeface="Lucida Handwriting"/>
            </a:endParaRPr>
          </a:p>
          <a:p>
            <a:pPr algn="just">
              <a:spcBef>
                <a:spcPts val="876"/>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Handwriting"/>
            </a:endParaRPr>
          </a:p>
          <a:p>
            <a:pPr algn="just">
              <a:spcBef>
                <a:spcPts val="876"/>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Handwriting"/>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Handwriting"/>
            </a:endParaRPr>
          </a:p>
          <a:p>
            <a:pPr>
              <a:spcBef>
                <a:spcPts val="10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3"/>
          <p:cNvSpPr/>
          <p:nvPr/>
        </p:nvSpPr>
        <p:spPr>
          <a:xfrm>
            <a:off x="914400" y="2286000"/>
            <a:ext cx="7696080" cy="34113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just">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Handwriting"/>
              </a:rPr>
              <a:t> </a:t>
            </a:r>
            <a:r>
              <a:rPr b="0" lang="es-MX" sz="1400" spc="-1" strike="noStrike">
                <a:solidFill>
                  <a:srgbClr val="000000"/>
                </a:solidFill>
                <a:latin typeface="Lucida Handwriting"/>
              </a:rPr>
              <a:t>El C. Rector toma la palabra y dirige un fervorín a los graduandos permaneciendo éstos de pie, Y TOMA LA PROTESTA A LOS GRADUANDOS. </a:t>
            </a:r>
            <a:r>
              <a:rPr b="1" lang="es-MX" sz="1400" spc="-1" strike="noStrike">
                <a:solidFill>
                  <a:srgbClr val="000000"/>
                </a:solidFill>
                <a:latin typeface="Lucida Handwriting"/>
              </a:rPr>
              <a:t>(Anexo 2-A )</a:t>
            </a:r>
            <a:endParaRPr b="0" lang="en-US" sz="1400" spc="-1" strike="noStrike">
              <a:solidFill>
                <a:srgbClr val="000000"/>
              </a:solidFill>
              <a:latin typeface="Lucida Handwriting"/>
            </a:endParaRPr>
          </a:p>
          <a:p>
            <a:pPr algn="just">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Handwriting"/>
              </a:rPr>
              <a:t>El graduando del 1er. lugar acompañado del 3er. Y 4to. Lugar dirige palabras al presidium y a los asistentes, así como en 5 minutos describe su paso por la Universidad en el aspecto académico considerando  antes, actual y posterior compromiso con el grado a obtener</a:t>
            </a:r>
            <a:r>
              <a:rPr b="1" lang="es-MX" sz="1400" spc="-1" strike="noStrike">
                <a:solidFill>
                  <a:srgbClr val="000000"/>
                </a:solidFill>
                <a:latin typeface="Lucida Handwriting"/>
              </a:rPr>
              <a:t>.(Anexo 3)</a:t>
            </a:r>
            <a:endParaRPr b="0" lang="en-US" sz="1400" spc="-1" strike="noStrike">
              <a:solidFill>
                <a:srgbClr val="000000"/>
              </a:solidFill>
              <a:latin typeface="Lucida Handwriting"/>
            </a:endParaRPr>
          </a:p>
          <a:p>
            <a:pPr algn="just">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Handwriting"/>
              </a:rPr>
              <a:t>Cada alumno es llamado para recibir la legitimación de sus estudios, imponiéndosele  la muceta de color ... y efectuar el cambio de la borla del lado izquierdo hacia el lado derecho.</a:t>
            </a:r>
            <a:endParaRPr b="0" lang="en-US" sz="1400" spc="-1" strike="noStrike">
              <a:solidFill>
                <a:srgbClr val="000000"/>
              </a:solidFill>
              <a:latin typeface="Lucida Handwriting"/>
            </a:endParaRPr>
          </a:p>
          <a:p>
            <a:pPr algn="just">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Handwriting"/>
              </a:rPr>
              <a:t>El C. Rector acompañado por el C. Srio, los Vicerrectores y el Decano de la Universidad realizan el paso de la luz, con los graduandos, colocándose en posición de semi-círculo y con la vista hacia el público , enseguida el C. Rector enciende una vela y hace pasar la luz hacia ambos extremos , al terminar todos con la luz encendida, realizan el juramento de grado en voz alta y al unísono. </a:t>
            </a:r>
            <a:r>
              <a:rPr b="1" lang="es-MX" sz="1400" spc="-1" strike="noStrike">
                <a:solidFill>
                  <a:srgbClr val="000000"/>
                </a:solidFill>
                <a:latin typeface="Lucida Handwriting"/>
              </a:rPr>
              <a:t>(Anexo 4)</a:t>
            </a:r>
            <a:endParaRPr b="0" lang="en-US" sz="1400" spc="-1" strike="noStrike">
              <a:solidFill>
                <a:srgbClr val="000000"/>
              </a:solidFill>
              <a:latin typeface="Lucida Handwriting"/>
            </a:endParaRPr>
          </a:p>
        </p:txBody>
      </p:sp>
      <p:sp>
        <p:nvSpPr>
          <p:cNvPr id="118" name="Text Box 4"/>
          <p:cNvSpPr/>
          <p:nvPr/>
        </p:nvSpPr>
        <p:spPr>
          <a:xfrm>
            <a:off x="3048120" y="838080"/>
            <a:ext cx="45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cc"/>
                </a:solidFill>
                <a:latin typeface="Lucida Handwriting"/>
              </a:rPr>
              <a:t>Continuación   programa...</a:t>
            </a:r>
            <a:endParaRPr b="0" lang="en-US" sz="20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3124080" y="838080"/>
            <a:ext cx="45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cc"/>
                </a:solidFill>
                <a:latin typeface="Lucida Handwriting"/>
              </a:rPr>
              <a:t>Continuación  programa....</a:t>
            </a:r>
            <a:endParaRPr b="0" lang="en-US" sz="2000" spc="-1" strike="noStrike">
              <a:solidFill>
                <a:srgbClr val="000000"/>
              </a:solidFill>
              <a:latin typeface="Lucida Handwriting"/>
            </a:endParaRPr>
          </a:p>
        </p:txBody>
      </p:sp>
      <p:sp>
        <p:nvSpPr>
          <p:cNvPr id="120" name="Text Box 3"/>
          <p:cNvSpPr/>
          <p:nvPr/>
        </p:nvSpPr>
        <p:spPr>
          <a:xfrm>
            <a:off x="1143000" y="2666880"/>
            <a:ext cx="6781680" cy="14932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Handwriting"/>
              </a:rPr>
              <a:t> </a:t>
            </a:r>
            <a:r>
              <a:rPr b="0" lang="es-MX" sz="1400" spc="-1" strike="noStrike">
                <a:solidFill>
                  <a:srgbClr val="000000"/>
                </a:solidFill>
                <a:latin typeface="Lucida Handwriting"/>
              </a:rPr>
              <a:t>Regresan a sus lugares los graduandos y  los integrantes del presidium...</a:t>
            </a:r>
            <a:endParaRPr b="0" lang="en-US" sz="1400" spc="-1" strike="noStrike">
              <a:solidFill>
                <a:srgbClr val="000000"/>
              </a:solidFill>
              <a:latin typeface="Lucida Handwriting"/>
            </a:endParaRPr>
          </a:p>
          <a:p>
            <a:pPr>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Handwriting"/>
              </a:rPr>
              <a:t>Entrega de laudas por grado de aprovechamiento... 3ero, 2do. Y 1er. Lugar...</a:t>
            </a:r>
            <a:endParaRPr b="0" lang="en-US" sz="1400" spc="-1" strike="noStrike">
              <a:solidFill>
                <a:srgbClr val="000000"/>
              </a:solidFill>
              <a:latin typeface="Lucida Handwriting"/>
            </a:endParaRPr>
          </a:p>
          <a:p>
            <a:pPr>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Handwriting"/>
              </a:rPr>
              <a:t>Particpación Musical</a:t>
            </a:r>
            <a:endParaRPr b="0" lang="en-US" sz="1400" spc="-1" strike="noStrike">
              <a:solidFill>
                <a:srgbClr val="000000"/>
              </a:solidFill>
              <a:latin typeface="Lucida Handwriting"/>
            </a:endParaRPr>
          </a:p>
          <a:p>
            <a:pPr>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Handwriting"/>
              </a:rPr>
              <a:t>Despedida del Presidium y público en general por parte del Director de Ceremonial y protocolo.</a:t>
            </a:r>
            <a:endParaRPr b="0" lang="en-US" sz="1400" spc="-1" strike="noStrike">
              <a:solidFill>
                <a:srgbClr val="000000"/>
              </a:solidFill>
              <a:latin typeface="Lucida Handwriting"/>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2286000" y="838080"/>
            <a:ext cx="6095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cc"/>
                </a:solidFill>
                <a:latin typeface="Lucida Handwriting"/>
              </a:rPr>
              <a:t>PROGRAMA GENERAL...</a:t>
            </a:r>
            <a:endParaRPr b="0" lang="en-US" sz="3200" spc="-1" strike="noStrike">
              <a:solidFill>
                <a:srgbClr val="000000"/>
              </a:solidFill>
              <a:latin typeface="Lucida Handwriting"/>
            </a:endParaRPr>
          </a:p>
        </p:txBody>
      </p:sp>
      <p:sp>
        <p:nvSpPr>
          <p:cNvPr id="122" name="Text Box 46"/>
          <p:cNvSpPr/>
          <p:nvPr/>
        </p:nvSpPr>
        <p:spPr>
          <a:xfrm>
            <a:off x="1371600" y="2514600"/>
            <a:ext cx="68580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Handwriting"/>
            </a:endParaRPr>
          </a:p>
        </p:txBody>
      </p:sp>
      <p:graphicFrame>
        <p:nvGraphicFramePr>
          <p:cNvPr id="123" name=""/>
          <p:cNvGraphicFramePr/>
          <p:nvPr/>
        </p:nvGraphicFramePr>
        <p:xfrm>
          <a:off x="304920" y="2057400"/>
          <a:ext cx="8610480" cy="4608360"/>
        </p:xfrm>
        <a:graphic>
          <a:graphicData uri="http://schemas.openxmlformats.org/drawingml/2006/table">
            <a:tbl>
              <a:tblPr/>
              <a:tblGrid>
                <a:gridCol w="2152440"/>
                <a:gridCol w="2152800"/>
                <a:gridCol w="2368440"/>
                <a:gridCol w="1936800"/>
              </a:tblGrid>
              <a:tr h="454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Lucida Handwriting"/>
                        </a:rPr>
                        <a:t>ACTIVIDAD</a:t>
                      </a:r>
                      <a:endParaRPr b="0" lang="en-US" sz="1600" spc="-1" strike="noStrike">
                        <a:solidFill>
                          <a:srgbClr val="000000"/>
                        </a:solidFill>
                        <a:latin typeface="Lucida Handwriting"/>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Lucida Handwriting"/>
                        </a:rPr>
                        <a:t>HORARIO</a:t>
                      </a:r>
                      <a:endParaRPr b="0" lang="en-US" sz="1600" spc="-1" strike="noStrike">
                        <a:solidFill>
                          <a:srgbClr val="000000"/>
                        </a:solidFill>
                        <a:latin typeface="Lucida Handwriting"/>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Lucida Handwriting"/>
                        </a:rPr>
                        <a:t>NECESIDADES</a:t>
                      </a:r>
                      <a:endParaRPr b="0" lang="en-US" sz="1600" spc="-1" strike="noStrike">
                        <a:solidFill>
                          <a:srgbClr val="000000"/>
                        </a:solidFill>
                        <a:latin typeface="Lucida Handwriting"/>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Lucida Handwriting"/>
                        </a:rPr>
                        <a:t> </a:t>
                      </a:r>
                      <a:r>
                        <a:rPr b="1" lang="es-MX" sz="1600" spc="-1" strike="noStrike">
                          <a:solidFill>
                            <a:srgbClr val="000000"/>
                          </a:solidFill>
                          <a:latin typeface="Lucida Handwriting"/>
                        </a:rPr>
                        <a:t>OBSERVAC.</a:t>
                      </a:r>
                      <a:endParaRPr b="0" lang="en-US" sz="1600" spc="-1" strike="noStrike">
                        <a:solidFill>
                          <a:srgbClr val="000000"/>
                        </a:solidFill>
                        <a:latin typeface="Lucida Handwriting"/>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87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MISA DE ACCION DE GRACIAS</a:t>
                      </a:r>
                      <a:endParaRPr b="0" lang="en-US" sz="1400" spc="-1" strike="noStrike">
                        <a:solidFill>
                          <a:srgbClr val="000000"/>
                        </a:solidFill>
                        <a:latin typeface="Lucida Handwriting"/>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18:00 HORAS</a:t>
                      </a:r>
                      <a:endParaRPr b="0" lang="en-US" sz="1400" spc="-1" strike="noStrike">
                        <a:solidFill>
                          <a:srgbClr val="000000"/>
                        </a:solidFill>
                        <a:latin typeface="Lucida Handwriting"/>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COMISION DE ALUMNOS</a:t>
                      </a:r>
                      <a:endParaRPr b="0" lang="en-US" sz="1400" spc="-1" strike="noStrike">
                        <a:solidFill>
                          <a:srgbClr val="000000"/>
                        </a:solidFill>
                        <a:latin typeface="Lucida Handwriting"/>
                      </a:endParaRPr>
                    </a:p>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IGLESIA</a:t>
                      </a:r>
                      <a:endParaRPr b="0" lang="en-US" sz="1400" spc="-1" strike="noStrike">
                        <a:solidFill>
                          <a:srgbClr val="000000"/>
                        </a:solidFill>
                        <a:latin typeface="Lucida Handwriting"/>
                      </a:endParaRPr>
                    </a:p>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SACERDOTE</a:t>
                      </a:r>
                      <a:endParaRPr b="0" lang="en-US" sz="1400" spc="-1" strike="noStrike">
                        <a:solidFill>
                          <a:srgbClr val="000000"/>
                        </a:solidFill>
                        <a:latin typeface="Lucida Handwriting"/>
                      </a:endParaRPr>
                    </a:p>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ANILLOS</a:t>
                      </a:r>
                      <a:endParaRPr b="0" lang="en-US" sz="1400" spc="-1" strike="noStrike">
                        <a:solidFill>
                          <a:srgbClr val="000000"/>
                        </a:solidFill>
                        <a:latin typeface="Lucida Handwriting"/>
                      </a:endParaRPr>
                    </a:p>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FOTOGRAFIA</a:t>
                      </a:r>
                      <a:endParaRPr b="0" lang="en-US" sz="1400" spc="-1" strike="noStrike">
                        <a:solidFill>
                          <a:srgbClr val="000000"/>
                        </a:solidFill>
                        <a:latin typeface="Lucida Handwriting"/>
                      </a:endParaRPr>
                    </a:p>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PADRINOS</a:t>
                      </a:r>
                      <a:endParaRPr b="0" lang="en-US" sz="1400" spc="-1" strike="noStrike">
                        <a:solidFill>
                          <a:srgbClr val="000000"/>
                        </a:solidFill>
                        <a:latin typeface="Lucida Handwriting"/>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ACTIVIDAD ORGANIZADA EXCLUSIVAMENTE POR LOS ALUMNOS GRADUANDOS.</a:t>
                      </a:r>
                      <a:endParaRPr b="0" lang="en-US" sz="1400" spc="-1" strike="noStrike">
                        <a:solidFill>
                          <a:srgbClr val="000000"/>
                        </a:solidFill>
                        <a:latin typeface="Lucida Handwriting"/>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66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CEREMONIAL Y PROTOCOLO</a:t>
                      </a:r>
                      <a:endParaRPr b="0" lang="en-US" sz="1400" spc="-1" strike="noStrike">
                        <a:solidFill>
                          <a:srgbClr val="000000"/>
                        </a:solidFill>
                        <a:latin typeface="Lucida Handwriting"/>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20:00 HORAS</a:t>
                      </a:r>
                      <a:endParaRPr b="0" lang="en-US" sz="1400" spc="-1" strike="noStrike">
                        <a:solidFill>
                          <a:srgbClr val="000000"/>
                        </a:solidFill>
                        <a:latin typeface="Lucida Handwriting"/>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AULA MAGNA</a:t>
                      </a:r>
                      <a:endParaRPr b="0" lang="en-US" sz="1400" spc="-1" strike="noStrike">
                        <a:solidFill>
                          <a:srgbClr val="000000"/>
                        </a:solidFill>
                        <a:latin typeface="Lucida Handwriting"/>
                      </a:endParaRPr>
                    </a:p>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ESCUDOS</a:t>
                      </a:r>
                      <a:endParaRPr b="0" lang="en-US" sz="1400" spc="-1" strike="noStrike">
                        <a:solidFill>
                          <a:srgbClr val="000000"/>
                        </a:solidFill>
                        <a:latin typeface="Lucida Handwriting"/>
                      </a:endParaRPr>
                    </a:p>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BANDERAS</a:t>
                      </a:r>
                      <a:endParaRPr b="0" lang="en-US" sz="1400" spc="-1" strike="noStrike">
                        <a:solidFill>
                          <a:srgbClr val="000000"/>
                        </a:solidFill>
                        <a:latin typeface="Lucida Handwriting"/>
                      </a:endParaRPr>
                    </a:p>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APARATO DE SONIDO</a:t>
                      </a:r>
                      <a:endParaRPr b="0" lang="en-US" sz="1400" spc="-1" strike="noStrike">
                        <a:solidFill>
                          <a:srgbClr val="000000"/>
                        </a:solidFill>
                        <a:latin typeface="Lucida Handwriting"/>
                      </a:endParaRPr>
                    </a:p>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ARREGLOS FLORALES</a:t>
                      </a:r>
                      <a:endParaRPr b="0" lang="en-US" sz="1400" spc="-1" strike="noStrike">
                        <a:solidFill>
                          <a:srgbClr val="000000"/>
                        </a:solidFill>
                        <a:latin typeface="Lucida Handwriting"/>
                      </a:endParaRPr>
                    </a:p>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PRESIDIUM</a:t>
                      </a:r>
                      <a:endParaRPr b="0" lang="en-US" sz="1400" spc="-1" strike="noStrike">
                        <a:solidFill>
                          <a:srgbClr val="000000"/>
                        </a:solidFill>
                        <a:latin typeface="Lucida Handwriting"/>
                      </a:endParaRPr>
                    </a:p>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PODIUM</a:t>
                      </a:r>
                      <a:endParaRPr b="0" lang="en-US" sz="1400" spc="-1" strike="noStrike">
                        <a:solidFill>
                          <a:srgbClr val="000000"/>
                        </a:solidFill>
                        <a:latin typeface="Lucida Handwriting"/>
                      </a:endParaRPr>
                    </a:p>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MICROFONOS</a:t>
                      </a:r>
                      <a:endParaRPr b="0" lang="en-US" sz="1400" spc="-1" strike="noStrike">
                        <a:solidFill>
                          <a:srgbClr val="000000"/>
                        </a:solidFill>
                        <a:latin typeface="Lucida Handwriting"/>
                      </a:endParaRPr>
                    </a:p>
                    <a:p>
                      <a:pPr>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JARRA Y VASOS-AGUA-</a:t>
                      </a:r>
                      <a:endParaRPr b="0" lang="en-US" sz="1400" spc="-1" strike="noStrike">
                        <a:solidFill>
                          <a:srgbClr val="000000"/>
                        </a:solidFill>
                        <a:latin typeface="Lucida Handwriting"/>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Baskerville Old Face"/>
                        </a:rPr>
                        <a:t>ACTIVIDAD ORGANIZADA EXLUSIVAMENTE POR LA UNIVERSIDAD.</a:t>
                      </a:r>
                      <a:endParaRPr b="0" lang="en-US" sz="1400" spc="-1" strike="noStrike">
                        <a:solidFill>
                          <a:srgbClr val="000000"/>
                        </a:solidFill>
                        <a:latin typeface="Lucida Handwriting"/>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6T15:00:58Z</dcterms:created>
  <dc:creator>personal</dc:creator>
  <dc:description/>
  <dc:language>en-US</dc:language>
  <cp:lastModifiedBy>Dr armando</cp:lastModifiedBy>
  <dcterms:modified xsi:type="dcterms:W3CDTF">2009-04-03T19:07:17Z</dcterms:modified>
  <cp:revision>14</cp:revision>
  <dc:subject/>
  <dc:title>UNIVERSIDAD INTERNACIONAL DE AMERICA  </dc:title>
</cp:coreProperties>
</file>