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861A-A176-4FA4-8806-9CBB40DCF5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759F-2184-4774-8468-9C9C37BB5420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1813-C048-4F3A-8FC5-8F3B11454260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B2D-538E-49AA-B679-8FC0D0B7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482-558A-43D9-A47A-D9745433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5C0-9FF5-43A8-BE41-40147748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2EC-82AE-4622-949B-353D6D9E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70D7-0991-4A80-BD41-B101799B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380C-3911-4E94-A79D-B847A83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8B30-DD4B-4D7E-A464-3282726D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2AA5-D2C2-4F8E-B49E-68C09ADD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D8EB-2174-461B-A932-E0063C0C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8E0B-45AE-45E5-990F-F7829D5D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F6AB-7A95-4920-863E-01BAD5D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C14-1706-4441-90E6-1AB6A423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635B-06AC-4ACF-9B8E-B8A2F329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6447-16B6-4ED1-875B-37DE5C8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23F5-E66D-44CD-8D18-A6A657C2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DD63-0A23-4749-837E-EA73C2C3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88B1-7025-4C96-B34D-C199BD03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E7BFF-92F9-4140-BCCA-7BF43756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B46E-A0C1-4C80-AA39-11F8625F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65D5-5129-43A7-A352-834F7368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BAD5-D8B9-4992-8EDE-147EC4B6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F5E1-B505-424E-BA15-09B93BE5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EBB-CFAA-49FB-8585-DBFE89AF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6713-C1D3-4EAB-8EC5-0F31202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1BCF-2462-4E01-89B2-4397D768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4D9C-C975-499F-8248-EFD5EAFF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E367-A84C-47C5-BAB6-5D33E8C7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9613-D978-4612-8AC3-3E249723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A2D2-2AF4-4410-B075-E20AF764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15CA-98F9-4261-94EA-A187E9AC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A90-971B-42EA-AC56-5F7ABC57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CF9-B6CD-46D3-8C76-33FE37C5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657-739E-49BC-850F-90646626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BDF-B28D-4D69-8D34-B77211DB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177-F247-485C-9A7C-BA612AC1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672-48C8-4E24-BEFC-77BA8236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C2C0-9807-4D6E-A28C-1EBD606A63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C506-7A92-4F3D-8535-D39C672B6FE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3A92-1F36-4DB3-9CC8-D32AAB34077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ey de servicio comunitario del estudiante de educación sup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Val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zulprofundo2204@hot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3515760" y="34560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TÍTULO I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 LOS 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63600" y="1261800"/>
            <a:ext cx="8415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2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os Proyec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os proyectos deberán ser elaborados respondiendo a las necesidades de las comunidades, ofrecien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oluciones de manera metodológica, tomando en consideración los planes de desarrollo municipal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tadal y nacion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11840" y="2554560"/>
            <a:ext cx="8163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2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Iniciativa de Proyec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presentación de los proyectos ante las instituciones de educación superior podrá ser iniciativa de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El Ministerio de Educación Superi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Las instituciones de educación superi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Los estudiantes de educación superi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Las asociaciones gremial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5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Las instituciones públic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6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Las instituciones privad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7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Las comunidades organizada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430920" y="4815720"/>
            <a:ext cx="815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2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os Requisitos para la Presentación y Aprobación de los Proyec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os proyectos deberán ser presentados por escrito, y el planteamiento del problema deberá incluir l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ecesidad detectada en la comunidad, la justificación, los objetivos generales y el enfoqu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etodológico, sin menoscabo de los requisitos adicionales que pueda solicitar la institución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ducación superior en su reglamen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Todo proyecto de servicio comunitario requiere ser aprobado por la institución de educación superi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rrespondient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38040" y="715680"/>
            <a:ext cx="84711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isposiciones Transitori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Prime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partir de la entrada en vigencia de esta Ley, las instituciones de educación superior evaluarán l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yectos de acción social o comunitaria que estén desarrollando los estudiantes de educación superior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os cuales por sus características puedan convalidarse al servicio comunitario previsto en esta Le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Segun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os estudiantes de educación superior que para el momento de entrada en vigencia de esta Ley,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cuentren cursando los dos últimos años de la carrera o su equivalente en semestres y que durante s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rrera no hayan realizado servicio social o comunitario alguno, podrán estar exentos de realizar 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Terce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s instituciones de educación superior tendrán un lapso de un año a partir de la publicación de l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esente Ley en la Gaceta Oficial de la República Bolivariana de Venezuela, para elaborar el reglamen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terno e incorporar el servicio comunitario a sus procedimientos académic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57120" y="4362120"/>
            <a:ext cx="843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isposición Fin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Únic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ta Ley entrará en vigencia a partir de su publicación en la Gaceta Oficial de la República Bolivarian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 Venezuela. Dada, firmada y sellada en el Palacio Federal Legislativo, sede de la Asamblea Nacional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 Caracas a los treinta días del mes de agosto de dos mil cinco. Año 195° de la Independencia y 146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 la Federa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6"/>
          <p:cNvSpPr txBox="1"/>
          <p:nvPr/>
        </p:nvSpPr>
        <p:spPr>
          <a:xfrm>
            <a:off x="1403280" y="2708280"/>
            <a:ext cx="720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57000"/>
                  </a:blip>
                  <a:srcRect/>
                  <a:tile tx="0" ty="0" sx="100000" sy="100000" algn="ctr"/>
                </a:blipFill>
                <a:latin typeface="Blackadder ITC"/>
              </a:rPr>
              <a:t>Gracias por su Atenciò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57000"/>
                </a:blip>
                <a:srcRect/>
                <a:tile tx="0" ty="0" sx="100000" sy="100000" algn="ctr"/>
              </a:blipFill>
              <a:latin typeface="Blackadder ITC"/>
              <a:ea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238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n de la present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9152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roduc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ines y Obje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uctura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ítulo I. Disposiciones fundament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ítulo II. De las Instituciones Universitar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ítulo III. De los prestadores de servicio     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comunit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ítulo IV. De los proyec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sposiciones Transitor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entarios Fi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971640" y="45432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Ley de Servicio Comunitario del Estudiante 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Educación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971640" y="2318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Ley de Servicio Comunitario del Estudiante 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Educación Sup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597400" y="1190520"/>
            <a:ext cx="403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TÍTULO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ISPOSICIONES FUNDAMENT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apítulo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isposiciones Gene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8440" y="2955960"/>
            <a:ext cx="792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Artículo 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Obje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presente Ley tiene como objeto normar la prestación del servicio comunitario del estudiante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ducación superior, que a nivel de pre grado aspire al ejercicio de cualquier profes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04840" y="4192560"/>
            <a:ext cx="8180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Artículo 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Princip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sta Ley se regirá por los principios constitucionales de solidaridad, responsabilidad social, igualdad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operación, corresponsabilidad, participación ciudadana, asistencia humanitaria y alterida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96200" y="5441760"/>
            <a:ext cx="841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Artículo 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00"/>
                </a:solidFill>
                <a:latin typeface="Arial"/>
              </a:rPr>
              <a:t>Ámbito de Apl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prestación del servicio comunitario, tendrá su ámbito de aplicación en el área geográfica del territo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cional que determine la Institución de Educación Superior correspondient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3083760" y="32328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APÍTULO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L SERVICIO COMUNIT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73600" y="1381680"/>
            <a:ext cx="827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fini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los efectos de esta Ley, se entiende por Servicio Comunitario, la actividad que deben desarrollar 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s comunidades los estudiantes de educación superior que cursen estudios de formación profesional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plicando los conocimientos científicos, técnicos, culturales, deportivos y humanísticos adquiri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urante su formación académica, en beneficio de la comunidad, para cooperar con su participación 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umplimiento de los fines del bienestar social, de acuerdo con lo establecido en la Constitución de l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pública Bolivariana de Venezuela y en esta Le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282600" y="3563640"/>
            <a:ext cx="844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Comunida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los efectos de esta Ley, la comunidad es el ámbito social de alcance nacional, estadal o municipal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nde se proyecta la actuación de las instituciones de educación superior para la prest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0440" y="5187960"/>
            <a:ext cx="799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Requisito para la Obtención del Títu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servicio comunitario es un requisito para la obtención del título de educación superior, no crear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rechos u obligaciones de carácter laboral y debe prestarse sin remuneración algun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30120" y="330480"/>
            <a:ext cx="8320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Fines del Servicio Comunita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servicio comunitario tiene como fine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Fomentar en el estudiante, la solidaridad y el compromiso con la comunidad como norma ética 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iudadan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Hacer un acto de reciprocidad con la socieda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Enriquecer la actividad de educación superior, a través del aprendizaje servicio, con la aplicación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os conocimientos adquiridos durante la formación académica, artística, cultural y deportiv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Integrar las instituciones de educación superior con la comunidad, para contribuir al desarrollo de l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ociedad venezolan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Arial"/>
              </a:rPr>
              <a:t>5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Formar, a través del aprendizaje servicio, el capital social en el paí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08160" y="2849400"/>
            <a:ext cx="8335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uración del Servicio Comunita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servicio comunitario tendrá una duración mínima de ciento veinte horas académicas, las cuales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ben cumplir en un lapso no menor de tres meses. Las instituciones de educación superior adaptará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duración del servicio comunitario a su régimen académic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11760" y="4259160"/>
            <a:ext cx="846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 se permitirá realizar actividades de proselitismo, político partidistas, durante la prest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61440" y="5443200"/>
            <a:ext cx="8449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os Recur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s instituciones de educación superior, incluirán los recursos necesarios para la realiz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unitario en el plan operativo anual, sin menoscabo de los que puedan obtenerse, a través de l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veni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1737720" y="325080"/>
            <a:ext cx="57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TÍTULO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 LAS INSTITUCIONES DE EDUCACIÓN SUP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63600" y="1195200"/>
            <a:ext cx="819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as Instituciones de Educación Superi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los fines de esta Ley, son instituciones de educación superior aquéllas establecidas por la Le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rgánica de Educa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58560" y="2318760"/>
            <a:ext cx="8427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a Capacit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Ministerio de Educación Superior y las instituciones de educación superior en coordinación, deb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r seminarios, cursos o talleres sobre la realidad comunitaria, a fin de capacitar al person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cadémico y estudiantil para la ejecución del servicio comunitario, a fin de preparar a los coordinadores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sesores y estudiantes en sus responsabilidades, metas y propósitos para la realiz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89160" y="4075200"/>
            <a:ext cx="829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a Fun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s instituciones de educación superior facilitarán las condiciones necesarias para el cumplimiento d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rvicio comunitario, ofertando al estudiante los proyectos para su participa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424800" y="5162040"/>
            <a:ext cx="830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Conve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los efectos de esta Ley, los convenios serán las alianzas realizadas entre el Ministerio de Edu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uperior, las instituciones de educación superior, las instituciones y organizaciones del sector público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ivado, las comunidades organizadas y las asociaciones gremiales entre otros, para la ejecución 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353160" y="611640"/>
            <a:ext cx="84362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tribu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s instituciones de educación superior tendrán como atribucione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. Garantizar que los proyectos aprobados por la institución, estén orientados a satisfacer l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ecesidades de la comunida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. Ofertar a los estudiantes de educación superior los proyectos existentes, según su perfil académic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3. Celebrar convenios para la prestación del servicio comunitario, con el sector público, privado y l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unidad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4. Expedir la constancia de culminación de prestación del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5. Elaborar los proyectos de acuerdo al perfil académico de cada disciplina y a las necesidades de l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unidad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6. Brindar al estudiante la asesoría necesaria para el cumplimiento del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7. Elaborar su reglamento interno para el funcionamiento del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8. Ofrecer al estudiante reconocimientos o incentivos académicos, previa evalu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jecutad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9. Determinar el momento de inicio, la duración, el lugar y las condiciones para la prest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0. Adaptar la duración del servicio comunitario a su régimen académic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1. Establecer convenios con los Consejos Locales de Planificación Pública, Consejos Estadales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ificación y Coordinación de Políticas Públicas, instituciones y organizaciones públicas o privadas 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munidad organizada entre otr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2. Evaluar los proyectos presentados por los sectores con iniciativa, a objeto de ser considerada s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proba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3. Establecer las condiciones necesarias para la ejecución de los proyect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4. Garantizar de manera gratuita, la inscripción de los estudiantes de educación superior en l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yectos ofertad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791000" y="316800"/>
            <a:ext cx="60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TÍTULO I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 LOS PRESTADORES DEL SERVICIO COMUNITARI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62160" y="1307520"/>
            <a:ext cx="8416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os Prestadores del Servicio Comunita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os prestadores del servicio comunitario son los estudiantes de educación superior que hayan cumpli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l menos, con el cincuenta por ciento (50%) del total de la carga académica de la carrer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os estudiantes de educación superior, deberán cursar y aprobar previa ejecución del proyecto, u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urso, taller o seminario que plantee la realidad de las comunidad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85920" y="2955240"/>
            <a:ext cx="83995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os Derechos de los Prestado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on derechos de los prestadores del servicio comunitario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. Obtener información oportuna de los proyectos ofertados por las instituciones de educación superior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a el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. Obtener información sobre los requisitos y procedimientos para inscribirse en los proyectos oferta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or la institución de educación superi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3. Recibir la asesoría adecuada y oportuna para desempeñar el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4. Recibir un trato digno y ético durante el cumplimiento del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5. Realizar actividades comunitarias de acuerdo con el perfil académico de la carrer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6. Recibir de la institución de educación superior la constancia de culminación del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7. Recibir de la institución de educación superior, reconocimientos ó incentivos académicos, los cu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ben ser establecidos en el reglamento interno elaborado por cada institu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8. Inscribirse de manera gratuita, para participar en los proyectos de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9. Participar en la elaboración de los proyectos presentados como iniciativa de la institución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ducación superi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433800" y="329760"/>
            <a:ext cx="8460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as Obligaciones del Prestador del Servicio Comunitar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on obligaciones de los prestadores del servicio comunitario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. Realizar el servicio, comunitario como requisito para la obtención del título de educación superi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icha labor no sustituirá las prácticas profesionales incluidas en los planes de estudio de las carreras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ducación superi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. Acatar las disposiciones que se establezcan en los convenios realizados por las instituciones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ducación superio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3. Actuar con respeto, honestidad y responsabilidad durante el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4. Acatar las directrices y orientaciones impartidas por la coordinación y el asesor del proyecto para 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umplimiento del servicio comunita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5. Cumplir con el servicio comunitario según lo establecido en esta Ley y sus reglament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6. Cursar y aprobar previa ejecución del servicio comunitario, un curso, taller o seminario sobre l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alidad de las comunidad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37400" y="3498480"/>
            <a:ext cx="8276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1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as Infrac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 los efectos de está Ley, serán considerados infractores las instituciones de educación superior, 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ersonal académico y los prestadores del servicio comunitario, que incumplan con las obligaciones 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s cuales se desarrolla el servicio comunitario establecidas en esta Ley y sus reglamento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35960" y="4795200"/>
            <a:ext cx="8398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Artículo 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9900"/>
                </a:solidFill>
                <a:latin typeface="Arial"/>
              </a:rPr>
              <a:t>De las San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personal académico y los estudiantes de educación superior que incumplan esta Ley, estará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ometidos a la observancia de todas las normas vigentes, relativas al cumplimiento de sus obliga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 las cuales se desarrolla el servicio comunitario y a la disciplina del instituto de educación superi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rrespondiente. Las instituciones de educación superior serán sancionadas de acuerdo con las ley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que regulan la mater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4:46:55Z</dcterms:created>
  <dc:creator>ALCALDIA</dc:creator>
  <dc:description/>
  <dc:language>en-US</dc:language>
  <cp:lastModifiedBy>fernandap</cp:lastModifiedBy>
  <dcterms:modified xsi:type="dcterms:W3CDTF">2009-07-17T18:53:46Z</dcterms:modified>
  <cp:revision>19</cp:revision>
  <dc:subject/>
  <dc:title>Diapositiva 1</dc:title>
</cp:coreProperties>
</file>